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32.jpeg" ContentType="image/jpeg"/>
  <Override PartName="/ppt/media/image18.wmf" ContentType="image/x-wmf"/>
  <Override PartName="/ppt/media/image16.png" ContentType="image/png"/>
  <Override PartName="/ppt/media/image49.jpeg" ContentType="image/jpeg"/>
  <Override PartName="/ppt/media/image15.png" ContentType="image/png"/>
  <Override PartName="/ppt/media/image29.png" ContentType="image/png"/>
  <Override PartName="/ppt/media/image14.wmf" ContentType="image/x-wmf"/>
  <Override PartName="/ppt/media/image24.png" ContentType="image/png"/>
  <Override PartName="/ppt/media/image1.png" ContentType="image/png"/>
  <Override PartName="/ppt/media/image26.png" ContentType="image/png"/>
  <Override PartName="/ppt/media/image17.jpeg" ContentType="image/jpeg"/>
  <Override PartName="/ppt/media/image3.png" ContentType="image/png"/>
  <Override PartName="/ppt/media/image33.png" ContentType="image/png"/>
  <Override PartName="/ppt/media/image4.wmf" ContentType="image/x-wmf"/>
  <Override PartName="/ppt/media/image34.png" ContentType="image/png"/>
  <Override PartName="/ppt/media/image35.jpeg" ContentType="image/jpeg"/>
  <Override PartName="/ppt/media/image5.png" ContentType="image/png"/>
  <Override PartName="/ppt/media/image38.jpeg" ContentType="image/jpeg"/>
  <Override PartName="/ppt/media/image28.png" ContentType="image/png"/>
  <Override PartName="/ppt/media/image11.png" ContentType="image/png"/>
  <Override PartName="/ppt/media/image36.png" ContentType="image/png"/>
  <Override PartName="/ppt/media/image6.wmf" ContentType="image/x-wmf"/>
  <Override PartName="/ppt/media/image47.jpeg" ContentType="image/jpeg"/>
  <Override PartName="/ppt/media/image42.wmf" ContentType="image/x-wmf"/>
  <Override PartName="/ppt/media/image43.wmf" ContentType="image/x-wmf"/>
  <Override PartName="/ppt/media/image44.png" ContentType="image/png"/>
  <Override PartName="/ppt/media/image45.png" ContentType="image/png"/>
  <Override PartName="/ppt/media/image46.jpeg" ContentType="image/jpeg"/>
  <Override PartName="/ppt/media/image48.jpeg" ContentType="image/jpeg"/>
  <Override PartName="/ppt/media/image50.jpeg" ContentType="image/jpeg"/>
  <Override PartName="/ppt/media/image13.png" ContentType="image/png"/>
  <Override PartName="/ppt/media/image31.jpeg" ContentType="image/jpeg"/>
  <Override PartName="/ppt/media/image10.wmf" ContentType="image/x-wmf"/>
  <Override PartName="/ppt/media/image2.png" ContentType="image/png"/>
  <Override PartName="/ppt/media/image41.png" ContentType="image/png"/>
  <Override PartName="/ppt/media/image39.wmf" ContentType="image/x-wmf"/>
  <Override PartName="/ppt/media/image9.wmf" ContentType="image/x-wmf"/>
  <Override PartName="/ppt/media/image8.wmf" ContentType="image/x-wmf"/>
  <Override PartName="/ppt/media/image40.png" ContentType="image/png"/>
  <Override PartName="/ppt/media/image37.wmf" ContentType="image/x-wmf"/>
  <Override PartName="/ppt/media/image30.jpeg" ContentType="image/jpeg"/>
  <Override PartName="/ppt/media/image7.wmf" ContentType="image/x-wmf"/>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7" name="PlaceHolder 1"/>
          <p:cNvSpPr>
            <a:spLocks noGrp="1"/>
          </p:cNvSpPr>
          <p:nvPr>
            <p:ph type="hdr"/>
          </p:nvPr>
        </p:nvSpPr>
        <p:spPr>
          <a:xfrm>
            <a:off x="-360" y="-360"/>
            <a:ext cx="2919240" cy="493560"/>
          </a:xfrm>
          <a:prstGeom prst="rect">
            <a:avLst/>
          </a:prstGeom>
          <a:noFill/>
          <a:ln w="0">
            <a:noFill/>
          </a:ln>
        </p:spPr>
        <p:txBody>
          <a:bodyPr lIns="69480" rIns="69480" tIns="34560" bIns="34560" anchor="t">
            <a:noAutofit/>
          </a:bodyPr>
          <a:p>
            <a:pPr marL="216000" indent="0">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18" name="PlaceHolder 2"/>
          <p:cNvSpPr>
            <a:spLocks noGrp="1"/>
          </p:cNvSpPr>
          <p:nvPr>
            <p:ph type="dt" idx="11"/>
          </p:nvPr>
        </p:nvSpPr>
        <p:spPr>
          <a:xfrm>
            <a:off x="3814560" y="-360"/>
            <a:ext cx="2919240" cy="493560"/>
          </a:xfrm>
          <a:prstGeom prst="rect">
            <a:avLst/>
          </a:prstGeom>
          <a:noFill/>
          <a:ln w="0">
            <a:noFill/>
          </a:ln>
        </p:spPr>
        <p:txBody>
          <a:bodyPr lIns="69480" rIns="69480" tIns="34560" bIns="34560" anchor="t">
            <a:noAutofit/>
          </a:bodyPr>
          <a:lstStyle>
            <a:lvl1pPr marL="216000" indent="0" algn="r">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defRPr b="0" lang="ja-JP" sz="900" spc="-1" strike="noStrike">
                <a:solidFill>
                  <a:srgbClr val="000000"/>
                </a:solidFill>
                <a:latin typeface="Times New Roman"/>
              </a:defRPr>
            </a:lvl1pPr>
          </a:lstStyle>
          <a:p>
            <a:pPr marL="216000" indent="0" algn="r">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19" name="PlaceHolder 3"/>
          <p:cNvSpPr>
            <a:spLocks noGrp="1"/>
          </p:cNvSpPr>
          <p:nvPr>
            <p:ph type="sldImg"/>
          </p:nvPr>
        </p:nvSpPr>
        <p:spPr>
          <a:xfrm>
            <a:off x="696600" y="739440"/>
            <a:ext cx="534348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87c8"/>
                </a:solidFill>
                <a:latin typeface="HGP創英角ｺﾞｼｯｸUB"/>
              </a:rPr>
              <a:t>Click to move the slide</a:t>
            </a:r>
            <a:endParaRPr b="0" lang="en-US" sz="4000" spc="-1" strike="noStrike">
              <a:solidFill>
                <a:srgbClr val="4087c8"/>
              </a:solidFill>
              <a:latin typeface="HGP創英角ｺﾞｼｯｸUB"/>
            </a:endParaRPr>
          </a:p>
        </p:txBody>
      </p:sp>
      <p:sp>
        <p:nvSpPr>
          <p:cNvPr id="220" name="PlaceHolder 4"/>
          <p:cNvSpPr>
            <a:spLocks noGrp="1"/>
          </p:cNvSpPr>
          <p:nvPr>
            <p:ph type="body"/>
          </p:nvPr>
        </p:nvSpPr>
        <p:spPr>
          <a:xfrm>
            <a:off x="672840" y="4686120"/>
            <a:ext cx="5389560" cy="4439880"/>
          </a:xfrm>
          <a:prstGeom prst="rect">
            <a:avLst/>
          </a:prstGeom>
          <a:noFill/>
          <a:ln w="0">
            <a:noFill/>
          </a:ln>
        </p:spPr>
        <p:txBody>
          <a:bodyPr lIns="69480" rIns="69480" tIns="34560" bIns="34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1" name="PlaceHolder 5"/>
          <p:cNvSpPr>
            <a:spLocks noGrp="1"/>
          </p:cNvSpPr>
          <p:nvPr>
            <p:ph type="ftr" idx="12"/>
          </p:nvPr>
        </p:nvSpPr>
        <p:spPr>
          <a:xfrm>
            <a:off x="-360" y="9370800"/>
            <a:ext cx="2919240" cy="493560"/>
          </a:xfrm>
          <a:prstGeom prst="rect">
            <a:avLst/>
          </a:prstGeom>
          <a:noFill/>
          <a:ln w="0">
            <a:noFill/>
          </a:ln>
        </p:spPr>
        <p:txBody>
          <a:bodyPr lIns="69480" rIns="69480" tIns="34560" bIns="34560" anchor="b">
            <a:noAutofit/>
          </a:bodyPr>
          <a:lstStyle>
            <a:lvl1pPr marL="216000" indent="0">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defRPr b="0" lang="ja-JP" sz="900" spc="-1" strike="noStrike">
                <a:solidFill>
                  <a:srgbClr val="000000"/>
                </a:solidFill>
                <a:latin typeface="Times New Roman"/>
              </a:defRPr>
            </a:lvl1pPr>
          </a:lstStyle>
          <a:p>
            <a:pPr marL="216000" indent="0">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22" name="PlaceHolder 6"/>
          <p:cNvSpPr>
            <a:spLocks noGrp="1"/>
          </p:cNvSpPr>
          <p:nvPr>
            <p:ph type="sldNum" idx="13"/>
          </p:nvPr>
        </p:nvSpPr>
        <p:spPr>
          <a:xfrm>
            <a:off x="3814560" y="9370800"/>
            <a:ext cx="2919240" cy="493560"/>
          </a:xfrm>
          <a:prstGeom prst="rect">
            <a:avLst/>
          </a:prstGeom>
          <a:noFill/>
          <a:ln w="0">
            <a:noFill/>
          </a:ln>
        </p:spPr>
        <p:txBody>
          <a:bodyPr lIns="69480" rIns="69480" tIns="34560" bIns="34560" anchor="b">
            <a:noAutofit/>
          </a:bodyPr>
          <a:lstStyle>
            <a:lvl1pPr marL="216000" indent="0" algn="r">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defRPr b="0" lang="ja-JP" sz="900" spc="-1" strike="noStrike">
                <a:solidFill>
                  <a:srgbClr val="000000"/>
                </a:solidFill>
                <a:latin typeface="Times New Roman"/>
              </a:defRPr>
            </a:lvl1pPr>
          </a:lstStyle>
          <a:p>
            <a:pPr marL="216000" indent="0" algn="r">
              <a:buNone/>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22C397F2-35E9-4960-822F-1E9669D08982}"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2B97F473-CE7E-4FCA-B079-BF59593D08B7}"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28"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29"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30"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31" name="PlaceHolder 1"/>
          <p:cNvSpPr>
            <a:spLocks noGrp="1"/>
          </p:cNvSpPr>
          <p:nvPr>
            <p:ph type="sldImg"/>
          </p:nvPr>
        </p:nvSpPr>
        <p:spPr>
          <a:xfrm>
            <a:off x="698400" y="741240"/>
            <a:ext cx="5343480" cy="3700440"/>
          </a:xfrm>
          <a:prstGeom prst="rect">
            <a:avLst/>
          </a:prstGeom>
          <a:ln w="0">
            <a:noFill/>
          </a:ln>
        </p:spPr>
      </p:sp>
      <p:sp>
        <p:nvSpPr>
          <p:cNvPr id="1432"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73A4DC59-A723-4FBD-ACBF-CA01225744D7}"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34"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35"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36"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37" name="PlaceHolder 1"/>
          <p:cNvSpPr>
            <a:spLocks noGrp="1"/>
          </p:cNvSpPr>
          <p:nvPr>
            <p:ph type="sldImg"/>
          </p:nvPr>
        </p:nvSpPr>
        <p:spPr>
          <a:xfrm>
            <a:off x="698400" y="741240"/>
            <a:ext cx="5343480" cy="3700440"/>
          </a:xfrm>
          <a:prstGeom prst="rect">
            <a:avLst/>
          </a:prstGeom>
          <a:ln w="0">
            <a:noFill/>
          </a:ln>
        </p:spPr>
      </p:sp>
      <p:sp>
        <p:nvSpPr>
          <p:cNvPr id="1438"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210D187D-1EBE-48A8-90F8-CC36B90068D5}"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40"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41"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42"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43" name="PlaceHolder 1"/>
          <p:cNvSpPr>
            <a:spLocks noGrp="1"/>
          </p:cNvSpPr>
          <p:nvPr>
            <p:ph type="sldImg"/>
          </p:nvPr>
        </p:nvSpPr>
        <p:spPr>
          <a:xfrm>
            <a:off x="698400" y="741240"/>
            <a:ext cx="5343480" cy="3700440"/>
          </a:xfrm>
          <a:prstGeom prst="rect">
            <a:avLst/>
          </a:prstGeom>
          <a:ln w="0">
            <a:noFill/>
          </a:ln>
        </p:spPr>
      </p:sp>
      <p:sp>
        <p:nvSpPr>
          <p:cNvPr id="1444"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4A220BBE-455C-4FE0-8592-6322C77DDD9D}"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46"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47"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48"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49" name="PlaceHolder 1"/>
          <p:cNvSpPr>
            <a:spLocks noGrp="1"/>
          </p:cNvSpPr>
          <p:nvPr>
            <p:ph type="sldImg"/>
          </p:nvPr>
        </p:nvSpPr>
        <p:spPr>
          <a:xfrm>
            <a:off x="698400" y="741240"/>
            <a:ext cx="5343480" cy="3700440"/>
          </a:xfrm>
          <a:prstGeom prst="rect">
            <a:avLst/>
          </a:prstGeom>
          <a:ln w="0">
            <a:noFill/>
          </a:ln>
        </p:spPr>
      </p:sp>
      <p:sp>
        <p:nvSpPr>
          <p:cNvPr id="1450"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66A41521-6964-4FAE-B991-BC1AA48E5859}"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52"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53"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54"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55" name="PlaceHolder 1"/>
          <p:cNvSpPr>
            <a:spLocks noGrp="1"/>
          </p:cNvSpPr>
          <p:nvPr>
            <p:ph type="sldImg"/>
          </p:nvPr>
        </p:nvSpPr>
        <p:spPr>
          <a:xfrm>
            <a:off x="698400" y="741240"/>
            <a:ext cx="5343480" cy="3700440"/>
          </a:xfrm>
          <a:prstGeom prst="rect">
            <a:avLst/>
          </a:prstGeom>
          <a:ln w="0">
            <a:noFill/>
          </a:ln>
        </p:spPr>
      </p:sp>
      <p:sp>
        <p:nvSpPr>
          <p:cNvPr id="1456"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681D8F26-1939-4266-B85A-252B8EB1F50C}"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58"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59"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60"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61" name="PlaceHolder 1"/>
          <p:cNvSpPr>
            <a:spLocks noGrp="1"/>
          </p:cNvSpPr>
          <p:nvPr>
            <p:ph type="sldImg"/>
          </p:nvPr>
        </p:nvSpPr>
        <p:spPr>
          <a:xfrm>
            <a:off x="698400" y="741240"/>
            <a:ext cx="5343480" cy="3700440"/>
          </a:xfrm>
          <a:prstGeom prst="rect">
            <a:avLst/>
          </a:prstGeom>
          <a:ln w="0">
            <a:noFill/>
          </a:ln>
        </p:spPr>
      </p:sp>
      <p:sp>
        <p:nvSpPr>
          <p:cNvPr id="1462"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D6B0608C-CE9C-4251-91F7-B3618C2A1DBD}"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64"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65"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66"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67" name="PlaceHolder 1"/>
          <p:cNvSpPr>
            <a:spLocks noGrp="1"/>
          </p:cNvSpPr>
          <p:nvPr>
            <p:ph type="sldImg"/>
          </p:nvPr>
        </p:nvSpPr>
        <p:spPr>
          <a:xfrm>
            <a:off x="698400" y="741240"/>
            <a:ext cx="5343480" cy="3700440"/>
          </a:xfrm>
          <a:prstGeom prst="rect">
            <a:avLst/>
          </a:prstGeom>
          <a:ln w="0">
            <a:noFill/>
          </a:ln>
        </p:spPr>
      </p:sp>
      <p:sp>
        <p:nvSpPr>
          <p:cNvPr id="1468"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14560" y="9370800"/>
            <a:ext cx="2919240" cy="493560"/>
          </a:xfrm>
          <a:prstGeom prst="rect">
            <a:avLst/>
          </a:prstGeom>
          <a:noFill/>
          <a:ln w="0">
            <a:noFill/>
          </a:ln>
        </p:spPr>
        <p:txBody>
          <a:bodyPr lIns="69480" rIns="69480" tIns="34560" bIns="34560" anchor="b">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fld id="{55FFDFC4-1D4B-4433-835B-3894776E817A}" type="slidenum">
              <a:rPr b="0" lang="ja-JP"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70" name=""/>
          <p:cNvSpPr txBox="1"/>
          <p:nvPr/>
        </p:nvSpPr>
        <p:spPr>
          <a:xfrm>
            <a:off x="-360" y="9370800"/>
            <a:ext cx="2919240" cy="493560"/>
          </a:xfrm>
          <a:prstGeom prst="rect">
            <a:avLst/>
          </a:prstGeom>
          <a:noFill/>
          <a:ln w="0">
            <a:noFill/>
          </a:ln>
        </p:spPr>
        <p:txBody>
          <a:bodyPr lIns="69480" rIns="69480" tIns="34560" bIns="34560" anchor="b">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471" name=""/>
          <p:cNvSpPr txBox="1"/>
          <p:nvPr/>
        </p:nvSpPr>
        <p:spPr>
          <a:xfrm>
            <a:off x="-360" y="-360"/>
            <a:ext cx="2919240" cy="493560"/>
          </a:xfrm>
          <a:prstGeom prst="rect">
            <a:avLst/>
          </a:prstGeom>
          <a:noFill/>
          <a:ln w="0">
            <a:noFill/>
          </a:ln>
        </p:spPr>
        <p:txBody>
          <a:bodyPr lIns="69480" rIns="69480" tIns="34560" bIns="34560" anchor="t">
            <a:noAutofit/>
          </a:bodyPr>
          <a:p>
            <a:pPr marL="216000" indent="-216000">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472" name=""/>
          <p:cNvSpPr txBox="1"/>
          <p:nvPr/>
        </p:nvSpPr>
        <p:spPr>
          <a:xfrm>
            <a:off x="3814560" y="-360"/>
            <a:ext cx="2919240" cy="493560"/>
          </a:xfrm>
          <a:prstGeom prst="rect">
            <a:avLst/>
          </a:prstGeom>
          <a:noFill/>
          <a:ln w="0">
            <a:noFill/>
          </a:ln>
        </p:spPr>
        <p:txBody>
          <a:bodyPr lIns="69480" rIns="69480" tIns="34560" bIns="34560" anchor="t">
            <a:noAutofit/>
          </a:bodyPr>
          <a:p>
            <a:pPr marL="216000" indent="-216000" algn="r">
              <a:buClr>
                <a:srgbClr val="000000"/>
              </a:buClr>
              <a:buSzPct val="45000"/>
              <a:buFont typeface="Wingdings" charset="2"/>
              <a:buChar cha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ja-JP"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473" name="PlaceHolder 1"/>
          <p:cNvSpPr>
            <a:spLocks noGrp="1"/>
          </p:cNvSpPr>
          <p:nvPr>
            <p:ph type="sldImg"/>
          </p:nvPr>
        </p:nvSpPr>
        <p:spPr>
          <a:xfrm>
            <a:off x="698400" y="741240"/>
            <a:ext cx="5343480" cy="3700440"/>
          </a:xfrm>
          <a:prstGeom prst="rect">
            <a:avLst/>
          </a:prstGeom>
          <a:ln w="0">
            <a:noFill/>
          </a:ln>
        </p:spPr>
      </p:sp>
      <p:sp>
        <p:nvSpPr>
          <p:cNvPr id="1474"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698400" y="739800"/>
            <a:ext cx="5345280" cy="3701880"/>
          </a:xfrm>
          <a:prstGeom prst="rect">
            <a:avLst/>
          </a:prstGeom>
          <a:ln w="0">
            <a:noFill/>
          </a:ln>
        </p:spPr>
      </p:sp>
      <p:sp>
        <p:nvSpPr>
          <p:cNvPr id="1476" name="PlaceHolder 2"/>
          <p:cNvSpPr>
            <a:spLocks noGrp="1"/>
          </p:cNvSpPr>
          <p:nvPr>
            <p:ph type="body"/>
          </p:nvPr>
        </p:nvSpPr>
        <p:spPr>
          <a:xfrm>
            <a:off x="671400" y="4684680"/>
            <a:ext cx="5392800" cy="4441680"/>
          </a:xfrm>
          <a:prstGeom prst="rect">
            <a:avLst/>
          </a:prstGeom>
          <a:noFill/>
          <a:ln w="0">
            <a:noFill/>
          </a:ln>
        </p:spPr>
        <p:txBody>
          <a:bodyPr lIns="69480" rIns="69480" tIns="34560" bIns="34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55811-F245-497B-8652-6E2B671E2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9EA6C-7AB5-45D8-B1E0-A4B915638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04EE7-4A78-47CF-981F-810898153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A34BB-FB9F-4554-8533-5DF84E840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5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60" y="-360"/>
            <a:ext cx="760572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64089-E4D1-417C-825B-3C2CED7D0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7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8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029ECFE-8C48-4847-AD0D-2E968A9F150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1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EA4878-5EBA-47FF-AD32-53EE616CF8E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2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573F2DF-CC09-46E8-A158-17DA3F2A30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255A4F-DEE2-4E84-9E8E-88D01A1968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B49438-67C2-497B-87A1-78A98CEC4F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B5198-CD42-4230-96AC-A15EAABD2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360" y="-360"/>
            <a:ext cx="760572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3CC190-3868-42C1-BFF9-A774A09643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2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477C75-787F-4000-BAE1-BCE9AD25E5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DCDC9A-BEB4-4209-A1AC-8541BCA5A2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3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484E77-02D4-4570-895B-EB44668DA9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F4C612-822E-491A-8CA8-5FC5319A125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FD66EA5-9D85-4BE9-831E-77DDC564914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7DBD8E8-4CA4-462E-A7AC-0406EB9EF11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8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8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1612D-5E27-4817-8B1A-AB22F21A2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8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60" y="-360"/>
            <a:ext cx="760572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9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0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0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1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8FDF6-34B6-4461-8632-FD2367D16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60" y="-360"/>
            <a:ext cx="760572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982BE-81DF-4A44-B14F-677B168BC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DA744-C59D-403C-AEAE-94F37A847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01919-0AEA-40EB-89F8-C037F2A34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05656-A787-42C2-BF64-817F01477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9281880" y="6624360"/>
            <a:ext cx="741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9C39-0AC2-418C-8658-277466777F4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905760" cy="546120"/>
            <a:chOff x="0" y="0"/>
            <a:chExt cx="9905760" cy="546120"/>
          </a:xfrm>
        </p:grpSpPr>
        <p:pic>
          <p:nvPicPr>
            <p:cNvPr id="5" name="" descr=""/>
            <p:cNvPicPr/>
            <p:nvPr/>
          </p:nvPicPr>
          <p:blipFill>
            <a:blip r:embed="rId2"/>
            <a:srcRect l="0" t="26804" r="0" b="65292"/>
            <a:stretch/>
          </p:blipFill>
          <p:spPr>
            <a:xfrm>
              <a:off x="0" y="476280"/>
              <a:ext cx="9905760" cy="69840"/>
            </a:xfrm>
            <a:prstGeom prst="rect">
              <a:avLst/>
            </a:prstGeom>
            <a:ln w="0">
              <a:noFill/>
            </a:ln>
          </p:spPr>
        </p:pic>
        <p:grpSp>
          <p:nvGrpSpPr>
            <p:cNvPr id="6" name=""/>
            <p:cNvGrpSpPr/>
            <p:nvPr/>
          </p:nvGrpSpPr>
          <p:grpSpPr>
            <a:xfrm>
              <a:off x="0" y="0"/>
              <a:ext cx="9905400" cy="504720"/>
              <a:chOff x="0" y="0"/>
              <a:chExt cx="9905400" cy="504720"/>
            </a:xfrm>
          </p:grpSpPr>
          <p:pic>
            <p:nvPicPr>
              <p:cNvPr id="7" name="" descr=""/>
              <p:cNvPicPr/>
              <p:nvPr/>
            </p:nvPicPr>
            <p:blipFill>
              <a:blip r:embed="rId3"/>
              <a:srcRect l="0" t="0" r="66947" b="42841"/>
              <a:stretch/>
            </p:blipFill>
            <p:spPr>
              <a:xfrm>
                <a:off x="6631200" y="0"/>
                <a:ext cx="3274200" cy="504720"/>
              </a:xfrm>
              <a:prstGeom prst="rect">
                <a:avLst/>
              </a:prstGeom>
              <a:ln w="0">
                <a:noFill/>
              </a:ln>
            </p:spPr>
          </p:pic>
          <p:pic>
            <p:nvPicPr>
              <p:cNvPr id="8" name="" descr=""/>
              <p:cNvPicPr/>
              <p:nvPr/>
            </p:nvPicPr>
            <p:blipFill>
              <a:blip r:embed="rId4"/>
              <a:srcRect l="50004" t="0" r="0" b="42841"/>
              <a:stretch/>
            </p:blipFill>
            <p:spPr>
              <a:xfrm>
                <a:off x="1793520" y="0"/>
                <a:ext cx="4952520" cy="504720"/>
              </a:xfrm>
              <a:prstGeom prst="rect">
                <a:avLst/>
              </a:prstGeom>
              <a:ln w="0">
                <a:noFill/>
              </a:ln>
            </p:spPr>
          </p:pic>
          <p:pic>
            <p:nvPicPr>
              <p:cNvPr id="9" name="" descr=""/>
              <p:cNvPicPr/>
              <p:nvPr/>
            </p:nvPicPr>
            <p:blipFill>
              <a:blip r:embed="rId5"/>
              <a:srcRect l="68908" t="0" r="0" b="42841"/>
              <a:stretch/>
            </p:blipFill>
            <p:spPr>
              <a:xfrm>
                <a:off x="0" y="0"/>
                <a:ext cx="3079800" cy="504720"/>
              </a:xfrm>
              <a:prstGeom prst="rect">
                <a:avLst/>
              </a:prstGeom>
              <a:ln w="0">
                <a:noFill/>
              </a:ln>
            </p:spPr>
          </p:pic>
        </p:grpSp>
      </p:grpSp>
      <p:sp>
        <p:nvSpPr>
          <p:cNvPr id="10" name="PlaceHolder 5"/>
          <p:cNvSpPr>
            <a:spLocks noGrp="1"/>
          </p:cNvSpPr>
          <p:nvPr>
            <p:ph type="title"/>
          </p:nvPr>
        </p:nvSpPr>
        <p:spPr>
          <a:xfrm>
            <a:off x="-360" y="-360"/>
            <a:ext cx="7605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Click to edit the title text format</a:t>
            </a:r>
            <a:endParaRPr b="0" lang="en-US" sz="2800" spc="-1" strike="noStrike">
              <a:solidFill>
                <a:srgbClr val="4087c8"/>
              </a:solidFill>
              <a:latin typeface="HGP創英角ｺﾞｼｯｸUB"/>
            </a:endParaRPr>
          </a:p>
        </p:txBody>
      </p:sp>
      <p:pic>
        <p:nvPicPr>
          <p:cNvPr id="11" name="" descr=""/>
          <p:cNvPicPr/>
          <p:nvPr/>
        </p:nvPicPr>
        <p:blipFill>
          <a:blip r:embed="rId6"/>
          <a:srcRect l="0" t="3657" r="0" b="0"/>
          <a:stretch/>
        </p:blipFill>
        <p:spPr>
          <a:xfrm>
            <a:off x="8226360" y="0"/>
            <a:ext cx="1679760" cy="33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54280" y="2133360"/>
            <a:ext cx="815184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87c8"/>
                </a:solidFill>
                <a:latin typeface="HGP創英角ｺﾞｼｯｸUB"/>
              </a:rPr>
              <a:t>Click to edit the title text format</a:t>
            </a:r>
            <a:endParaRPr b="0" lang="en-US" sz="4000" spc="-1" strike="noStrike">
              <a:solidFill>
                <a:srgbClr val="4087c8"/>
              </a:solidFill>
              <a:latin typeface="HGP創英角ｺﾞｼｯｸUB"/>
            </a:endParaRPr>
          </a:p>
        </p:txBody>
      </p:sp>
      <p:sp>
        <p:nvSpPr>
          <p:cNvPr id="49" name="PlaceHolder 2"/>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51" name="" descr=""/>
          <p:cNvPicPr/>
          <p:nvPr/>
        </p:nvPicPr>
        <p:blipFill>
          <a:blip r:embed="rId2"/>
          <a:srcRect l="0" t="62237" r="0" b="0"/>
          <a:stretch/>
        </p:blipFill>
        <p:spPr>
          <a:xfrm>
            <a:off x="0" y="6524640"/>
            <a:ext cx="9906120" cy="333360"/>
          </a:xfrm>
          <a:prstGeom prst="rect">
            <a:avLst/>
          </a:prstGeom>
          <a:ln w="0">
            <a:noFill/>
          </a:ln>
        </p:spPr>
      </p:pic>
      <p:sp>
        <p:nvSpPr>
          <p:cNvPr id="52" name=""/>
          <p:cNvSpPr/>
          <p:nvPr/>
        </p:nvSpPr>
        <p:spPr>
          <a:xfrm>
            <a:off x="1833480" y="3284640"/>
            <a:ext cx="8072640" cy="73080"/>
          </a:xfrm>
          <a:prstGeom prst="rect">
            <a:avLst/>
          </a:prstGeom>
          <a:solidFill>
            <a:srgbClr val="0066cc"/>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pic>
        <p:nvPicPr>
          <p:cNvPr id="53" name="" descr=""/>
          <p:cNvPicPr/>
          <p:nvPr/>
        </p:nvPicPr>
        <p:blipFill>
          <a:blip r:embed="rId3"/>
          <a:stretch/>
        </p:blipFill>
        <p:spPr>
          <a:xfrm>
            <a:off x="0" y="6051600"/>
            <a:ext cx="2301840" cy="473040"/>
          </a:xfrm>
          <a:prstGeom prst="rect">
            <a:avLst/>
          </a:prstGeom>
          <a:ln w="0">
            <a:noFill/>
          </a:ln>
        </p:spPr>
      </p:pic>
      <p:sp>
        <p:nvSpPr>
          <p:cNvPr id="54" name=""/>
          <p:cNvSpPr/>
          <p:nvPr/>
        </p:nvSpPr>
        <p:spPr>
          <a:xfrm>
            <a:off x="-720" y="6524640"/>
            <a:ext cx="363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Ministry of Land, Infrastructure, Transport and Tourism</a:t>
            </a:r>
            <a:endParaRPr b="0" lang="en-US" sz="1200" spc="-1" strike="noStrike">
              <a:solidFill>
                <a:srgbClr val="000000"/>
              </a:solidFill>
              <a:latin typeface="Arial"/>
            </a:endParaRPr>
          </a:p>
        </p:txBody>
      </p:sp>
      <p:sp>
        <p:nvSpPr>
          <p:cNvPr id="55"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44520" y="692280"/>
            <a:ext cx="6913440" cy="144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257960" y="851040"/>
            <a:ext cx="2374920" cy="274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257960" y="692280"/>
            <a:ext cx="2376720" cy="144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344160" y="115560"/>
            <a:ext cx="9288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96" name="PlaceHolder 2"/>
          <p:cNvSpPr>
            <a:spLocks noGrp="1"/>
          </p:cNvSpPr>
          <p:nvPr>
            <p:ph type="body"/>
          </p:nvPr>
        </p:nvSpPr>
        <p:spPr>
          <a:xfrm>
            <a:off x="495000" y="1197000"/>
            <a:ext cx="89154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6"/>
          </p:nvPr>
        </p:nvSpPr>
        <p:spPr>
          <a:xfrm>
            <a:off x="2612520" y="4508280"/>
            <a:ext cx="231156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8" name="PlaceHolder 4"/>
          <p:cNvSpPr>
            <a:spLocks noGrp="1"/>
          </p:cNvSpPr>
          <p:nvPr>
            <p:ph type="ftr" idx="7"/>
          </p:nvPr>
        </p:nvSpPr>
        <p:spPr>
          <a:xfrm>
            <a:off x="3782880" y="5084640"/>
            <a:ext cx="3137040" cy="2685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 name="PlaceHolder 5"/>
          <p:cNvSpPr>
            <a:spLocks noGrp="1"/>
          </p:cNvSpPr>
          <p:nvPr>
            <p:ph type="sldNum" idx="8"/>
          </p:nvPr>
        </p:nvSpPr>
        <p:spPr>
          <a:xfrm>
            <a:off x="9477000" y="6668640"/>
            <a:ext cx="468360" cy="268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4D71-D84C-486F-9909-9E79ADEC5AF7}" type="slidenum">
              <a:rPr b="0" lang="ja-JP"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0" name=""/>
          <p:cNvSpPr/>
          <p:nvPr/>
        </p:nvSpPr>
        <p:spPr>
          <a:xfrm>
            <a:off x="779400" y="6632640"/>
            <a:ext cx="377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vantGarde"/>
                <a:ea typeface="ＭＳ ゴシック"/>
              </a:rPr>
              <a:t>National Traffic Safety and Environment Laboratory</a:t>
            </a:r>
            <a:r>
              <a:rPr b="1" i="1" lang="zh-CN" sz="1000" spc="-1" strike="noStrike">
                <a:solidFill>
                  <a:srgbClr val="000000"/>
                </a:solidFill>
                <a:latin typeface="AvantGarde"/>
                <a:ea typeface="ＭＳ ゴシック"/>
              </a:rPr>
              <a:t>、</a:t>
            </a:r>
            <a:r>
              <a:rPr b="1" i="1" lang="en-US" sz="1000" spc="-1" strike="noStrike">
                <a:solidFill>
                  <a:srgbClr val="000000"/>
                </a:solidFill>
                <a:latin typeface="AvantGarde"/>
                <a:ea typeface="ＭＳ ゴシック"/>
              </a:rPr>
              <a:t>JAPAN</a:t>
            </a:r>
            <a:endParaRPr b="0" lang="en-US" sz="1000" spc="-1" strike="noStrike">
              <a:solidFill>
                <a:srgbClr val="000000"/>
              </a:solidFill>
              <a:latin typeface="Arial"/>
            </a:endParaRPr>
          </a:p>
        </p:txBody>
      </p:sp>
      <p:grpSp>
        <p:nvGrpSpPr>
          <p:cNvPr id="101" name=""/>
          <p:cNvGrpSpPr/>
          <p:nvPr/>
        </p:nvGrpSpPr>
        <p:grpSpPr>
          <a:xfrm>
            <a:off x="-61200" y="6459120"/>
            <a:ext cx="779760" cy="424800"/>
            <a:chOff x="-61200" y="6459120"/>
            <a:chExt cx="779760" cy="424800"/>
          </a:xfrm>
        </p:grpSpPr>
        <p:grpSp>
          <p:nvGrpSpPr>
            <p:cNvPr id="102" name=""/>
            <p:cNvGrpSpPr/>
            <p:nvPr/>
          </p:nvGrpSpPr>
          <p:grpSpPr>
            <a:xfrm>
              <a:off x="77040" y="6459120"/>
              <a:ext cx="519120" cy="424800"/>
              <a:chOff x="77040" y="6459120"/>
              <a:chExt cx="519120" cy="424800"/>
            </a:xfrm>
          </p:grpSpPr>
          <p:sp>
            <p:nvSpPr>
              <p:cNvPr id="103" name=""/>
              <p:cNvSpPr/>
              <p:nvPr/>
            </p:nvSpPr>
            <p:spPr>
              <a:xfrm flipH="1" rot="19744200">
                <a:off x="94320" y="6572880"/>
                <a:ext cx="483120" cy="200880"/>
              </a:xfrm>
              <a:prstGeom prst="ellipse">
                <a:avLst/>
              </a:prstGeom>
              <a:gradFill rotWithShape="0">
                <a:gsLst>
                  <a:gs pos="0">
                    <a:srgbClr val="bbe0e3">
                      <a:alpha val="0"/>
                    </a:srgbClr>
                  </a:gs>
                  <a:gs pos="100000">
                    <a:srgbClr val="0000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855800">
                <a:off x="94680" y="6568920"/>
                <a:ext cx="483840" cy="201240"/>
              </a:xfrm>
              <a:prstGeom prst="ellipse">
                <a:avLst/>
              </a:prstGeom>
              <a:gradFill rotWithShape="0">
                <a:gsLst>
                  <a:gs pos="0">
                    <a:srgbClr val="000000">
                      <a:alpha val="0"/>
                    </a:srgbClr>
                  </a:gs>
                  <a:gs pos="100000">
                    <a:srgbClr val="33cc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61200" y="6539040"/>
              <a:ext cx="779760" cy="276480"/>
              <a:chOff x="-61200" y="6539040"/>
              <a:chExt cx="779760" cy="276480"/>
            </a:xfrm>
          </p:grpSpPr>
          <p:grpSp>
            <p:nvGrpSpPr>
              <p:cNvPr id="106" name=""/>
              <p:cNvGrpSpPr/>
              <p:nvPr/>
            </p:nvGrpSpPr>
            <p:grpSpPr>
              <a:xfrm>
                <a:off x="-61200" y="6539040"/>
                <a:ext cx="779760" cy="276480"/>
                <a:chOff x="-61200" y="6539040"/>
                <a:chExt cx="779760" cy="276480"/>
              </a:xfrm>
            </p:grpSpPr>
            <p:sp>
              <p:nvSpPr>
                <p:cNvPr id="107" name=""/>
                <p:cNvSpPr/>
                <p:nvPr/>
              </p:nvSpPr>
              <p:spPr>
                <a:xfrm>
                  <a:off x="-61200" y="6539040"/>
                  <a:ext cx="29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a:t>
                  </a:r>
                  <a:endParaRPr b="0" lang="en-US" sz="1200" spc="-1" strike="noStrike">
                    <a:solidFill>
                      <a:srgbClr val="000000"/>
                    </a:solidFill>
                    <a:latin typeface="Arial"/>
                  </a:endParaRPr>
                </a:p>
              </p:txBody>
            </p:sp>
            <p:sp>
              <p:nvSpPr>
                <p:cNvPr id="108" name=""/>
                <p:cNvSpPr/>
                <p:nvPr/>
              </p:nvSpPr>
              <p:spPr>
                <a:xfrm>
                  <a:off x="87120" y="6539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a:t>
                  </a:r>
                  <a:endParaRPr b="0" lang="en-US" sz="1200" spc="-1" strike="noStrike">
                    <a:solidFill>
                      <a:srgbClr val="000000"/>
                    </a:solidFill>
                    <a:latin typeface="Arial"/>
                  </a:endParaRPr>
                </a:p>
              </p:txBody>
            </p:sp>
            <p:sp>
              <p:nvSpPr>
                <p:cNvPr id="109" name=""/>
                <p:cNvSpPr/>
                <p:nvPr/>
              </p:nvSpPr>
              <p:spPr>
                <a:xfrm>
                  <a:off x="191880" y="6539040"/>
                  <a:ext cx="335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a:t>
                  </a:r>
                  <a:endParaRPr b="0" lang="en-US" sz="1200" spc="-1" strike="noStrike">
                    <a:solidFill>
                      <a:srgbClr val="000000"/>
                    </a:solidFill>
                    <a:latin typeface="Arial"/>
                  </a:endParaRPr>
                </a:p>
              </p:txBody>
            </p:sp>
            <p:sp>
              <p:nvSpPr>
                <p:cNvPr id="110" name=""/>
                <p:cNvSpPr/>
                <p:nvPr/>
              </p:nvSpPr>
              <p:spPr>
                <a:xfrm>
                  <a:off x="339840" y="6539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a:t>
                  </a:r>
                  <a:endParaRPr b="0" lang="en-US" sz="1200" spc="-1" strike="noStrike">
                    <a:solidFill>
                      <a:srgbClr val="000000"/>
                    </a:solidFill>
                    <a:latin typeface="Arial"/>
                  </a:endParaRPr>
                </a:p>
              </p:txBody>
            </p:sp>
            <p:sp>
              <p:nvSpPr>
                <p:cNvPr id="111" name=""/>
                <p:cNvSpPr/>
                <p:nvPr/>
              </p:nvSpPr>
              <p:spPr>
                <a:xfrm>
                  <a:off x="458640" y="6539040"/>
                  <a:ext cx="25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a:t>
                  </a:r>
                  <a:endParaRPr b="0" lang="en-US" sz="1200" spc="-1" strike="noStrike">
                    <a:solidFill>
                      <a:srgbClr val="000000"/>
                    </a:solidFill>
                    <a:latin typeface="Arial"/>
                  </a:endParaRPr>
                </a:p>
              </p:txBody>
            </p:sp>
          </p:grpSp>
          <p:grpSp>
            <p:nvGrpSpPr>
              <p:cNvPr id="112" name=""/>
              <p:cNvGrpSpPr/>
              <p:nvPr/>
            </p:nvGrpSpPr>
            <p:grpSpPr>
              <a:xfrm>
                <a:off x="-61200" y="6539040"/>
                <a:ext cx="779760" cy="276480"/>
                <a:chOff x="-61200" y="6539040"/>
                <a:chExt cx="779760" cy="276480"/>
              </a:xfrm>
            </p:grpSpPr>
            <p:sp>
              <p:nvSpPr>
                <p:cNvPr id="113" name=""/>
                <p:cNvSpPr/>
                <p:nvPr/>
              </p:nvSpPr>
              <p:spPr>
                <a:xfrm>
                  <a:off x="-61200" y="6539040"/>
                  <a:ext cx="29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N</a:t>
                  </a:r>
                  <a:endParaRPr b="0" lang="en-US" sz="1200" spc="-1" strike="noStrike">
                    <a:solidFill>
                      <a:srgbClr val="000000"/>
                    </a:solidFill>
                    <a:latin typeface="Arial"/>
                  </a:endParaRPr>
                </a:p>
              </p:txBody>
            </p:sp>
            <p:sp>
              <p:nvSpPr>
                <p:cNvPr id="114" name=""/>
                <p:cNvSpPr/>
                <p:nvPr/>
              </p:nvSpPr>
              <p:spPr>
                <a:xfrm>
                  <a:off x="87120" y="6539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T</a:t>
                  </a:r>
                  <a:endParaRPr b="0" lang="en-US" sz="1200" spc="-1" strike="noStrike">
                    <a:solidFill>
                      <a:srgbClr val="000000"/>
                    </a:solidFill>
                    <a:latin typeface="Arial"/>
                  </a:endParaRPr>
                </a:p>
              </p:txBody>
            </p:sp>
            <p:sp>
              <p:nvSpPr>
                <p:cNvPr id="115" name=""/>
                <p:cNvSpPr/>
                <p:nvPr/>
              </p:nvSpPr>
              <p:spPr>
                <a:xfrm>
                  <a:off x="191880" y="6539040"/>
                  <a:ext cx="335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S</a:t>
                  </a:r>
                  <a:endParaRPr b="0" lang="en-US" sz="1200" spc="-1" strike="noStrike">
                    <a:solidFill>
                      <a:srgbClr val="000000"/>
                    </a:solidFill>
                    <a:latin typeface="Arial"/>
                  </a:endParaRPr>
                </a:p>
              </p:txBody>
            </p:sp>
            <p:sp>
              <p:nvSpPr>
                <p:cNvPr id="116" name=""/>
                <p:cNvSpPr/>
                <p:nvPr/>
              </p:nvSpPr>
              <p:spPr>
                <a:xfrm>
                  <a:off x="339840" y="6539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E</a:t>
                  </a:r>
                  <a:endParaRPr b="0" lang="en-US" sz="1200" spc="-1" strike="noStrike">
                    <a:solidFill>
                      <a:srgbClr val="000000"/>
                    </a:solidFill>
                    <a:latin typeface="Arial"/>
                  </a:endParaRPr>
                </a:p>
              </p:txBody>
            </p:sp>
            <p:sp>
              <p:nvSpPr>
                <p:cNvPr id="117" name=""/>
                <p:cNvSpPr/>
                <p:nvPr/>
              </p:nvSpPr>
              <p:spPr>
                <a:xfrm>
                  <a:off x="458640" y="6539040"/>
                  <a:ext cx="25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L</a:t>
                  </a:r>
                  <a:endParaRPr b="0" lang="en-US" sz="1200" spc="-1" strike="noStrike">
                    <a:solidFill>
                      <a:srgbClr val="000000"/>
                    </a:solidFill>
                    <a:latin typeface="Arial"/>
                  </a:endParaRPr>
                </a:p>
              </p:txBody>
            </p:sp>
          </p:grpSp>
        </p:gr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257960" y="907920"/>
            <a:ext cx="2374920" cy="5473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PlaceHolder 1"/>
          <p:cNvSpPr>
            <a:spLocks noGrp="1"/>
          </p:cNvSpPr>
          <p:nvPr>
            <p:ph type="title"/>
          </p:nvPr>
        </p:nvSpPr>
        <p:spPr>
          <a:xfrm>
            <a:off x="848880" y="2133720"/>
            <a:ext cx="6264360" cy="107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56" name="PlaceHolder 2"/>
          <p:cNvSpPr>
            <a:spLocks noGrp="1"/>
          </p:cNvSpPr>
          <p:nvPr>
            <p:ph type="dt" idx="9"/>
          </p:nvPr>
        </p:nvSpPr>
        <p:spPr>
          <a:xfrm>
            <a:off x="848880" y="4869000"/>
            <a:ext cx="231156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3"/>
          <p:cNvSpPr>
            <a:spLocks noGrp="1"/>
          </p:cNvSpPr>
          <p:nvPr>
            <p:ph type="ftr" idx="10"/>
          </p:nvPr>
        </p:nvSpPr>
        <p:spPr>
          <a:xfrm>
            <a:off x="849240" y="4508640"/>
            <a:ext cx="3137040" cy="287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
          <p:cNvSpPr/>
          <p:nvPr/>
        </p:nvSpPr>
        <p:spPr>
          <a:xfrm>
            <a:off x="344520" y="415800"/>
            <a:ext cx="6913440" cy="503280"/>
          </a:xfrm>
          <a:prstGeom prst="rect">
            <a:avLst/>
          </a:prstGeom>
          <a:gradFill rotWithShape="0">
            <a:gsLst>
              <a:gs pos="0">
                <a:srgbClr val="6868b3"/>
              </a:gs>
              <a:gs pos="100000">
                <a:srgbClr val="33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257960" y="404640"/>
            <a:ext cx="2376720" cy="503280"/>
          </a:xfrm>
          <a:prstGeom prst="rect">
            <a:avLst/>
          </a:prstGeom>
          <a:gradFill rotWithShape="0">
            <a:gsLst>
              <a:gs pos="0">
                <a:srgbClr val="00002f"/>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44520" y="901800"/>
            <a:ext cx="9288360" cy="144360"/>
          </a:xfrm>
          <a:prstGeom prst="rect">
            <a:avLst/>
          </a:prstGeom>
          <a:gradFill rotWithShape="0">
            <a:gsLst>
              <a:gs pos="0">
                <a:srgbClr val="808080">
                  <a:alpha val="40000"/>
                </a:srgbClr>
              </a:gs>
              <a:gs pos="100000">
                <a:srgbClr val="ffffff">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88880" y="3213000"/>
            <a:ext cx="662616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46120" y="716040"/>
            <a:ext cx="377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vantGarde"/>
                <a:ea typeface="ＭＳ ゴシック"/>
              </a:rPr>
              <a:t>National Traffic Safety and Environment Laboratory</a:t>
            </a:r>
            <a:r>
              <a:rPr b="1" i="1" lang="zh-CN" sz="1000" spc="-1" strike="noStrike">
                <a:solidFill>
                  <a:srgbClr val="000000"/>
                </a:solidFill>
                <a:latin typeface="AvantGarde"/>
                <a:ea typeface="ＭＳ ゴシック"/>
              </a:rPr>
              <a:t>、</a:t>
            </a:r>
            <a:r>
              <a:rPr b="1" i="1" lang="en-US" sz="1000" spc="-1" strike="noStrike">
                <a:solidFill>
                  <a:srgbClr val="000000"/>
                </a:solidFill>
                <a:latin typeface="AvantGarde"/>
                <a:ea typeface="ＭＳ ゴシック"/>
              </a:rPr>
              <a:t>JAPAN</a:t>
            </a:r>
            <a:endParaRPr b="0" lang="en-US" sz="1000" spc="-1" strike="noStrike">
              <a:solidFill>
                <a:srgbClr val="000000"/>
              </a:solidFill>
              <a:latin typeface="Arial"/>
            </a:endParaRPr>
          </a:p>
        </p:txBody>
      </p:sp>
      <p:grpSp>
        <p:nvGrpSpPr>
          <p:cNvPr id="163" name=""/>
          <p:cNvGrpSpPr/>
          <p:nvPr/>
        </p:nvGrpSpPr>
        <p:grpSpPr>
          <a:xfrm>
            <a:off x="403920" y="369360"/>
            <a:ext cx="779760" cy="424800"/>
            <a:chOff x="403920" y="369360"/>
            <a:chExt cx="779760" cy="424800"/>
          </a:xfrm>
        </p:grpSpPr>
        <p:grpSp>
          <p:nvGrpSpPr>
            <p:cNvPr id="164" name=""/>
            <p:cNvGrpSpPr/>
            <p:nvPr/>
          </p:nvGrpSpPr>
          <p:grpSpPr>
            <a:xfrm>
              <a:off x="542160" y="369360"/>
              <a:ext cx="519120" cy="424800"/>
              <a:chOff x="542160" y="369360"/>
              <a:chExt cx="519120" cy="424800"/>
            </a:xfrm>
          </p:grpSpPr>
          <p:sp>
            <p:nvSpPr>
              <p:cNvPr id="165" name=""/>
              <p:cNvSpPr/>
              <p:nvPr/>
            </p:nvSpPr>
            <p:spPr>
              <a:xfrm flipH="1" rot="19744200">
                <a:off x="559440" y="483120"/>
                <a:ext cx="483120" cy="200880"/>
              </a:xfrm>
              <a:prstGeom prst="ellipse">
                <a:avLst/>
              </a:prstGeom>
              <a:gradFill rotWithShape="0">
                <a:gsLst>
                  <a:gs pos="0">
                    <a:srgbClr val="bbe0e3">
                      <a:alpha val="0"/>
                    </a:srgbClr>
                  </a:gs>
                  <a:gs pos="100000">
                    <a:srgbClr val="0000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rot="1855800">
                <a:off x="559800" y="479160"/>
                <a:ext cx="483840" cy="201240"/>
              </a:xfrm>
              <a:prstGeom prst="ellipse">
                <a:avLst/>
              </a:prstGeom>
              <a:gradFill rotWithShape="0">
                <a:gsLst>
                  <a:gs pos="0">
                    <a:srgbClr val="000000">
                      <a:alpha val="0"/>
                    </a:srgbClr>
                  </a:gs>
                  <a:gs pos="100000">
                    <a:srgbClr val="33cc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 name=""/>
            <p:cNvGrpSpPr/>
            <p:nvPr/>
          </p:nvGrpSpPr>
          <p:grpSpPr>
            <a:xfrm>
              <a:off x="403920" y="449280"/>
              <a:ext cx="779760" cy="276480"/>
              <a:chOff x="403920" y="449280"/>
              <a:chExt cx="779760" cy="276480"/>
            </a:xfrm>
          </p:grpSpPr>
          <p:grpSp>
            <p:nvGrpSpPr>
              <p:cNvPr id="168" name=""/>
              <p:cNvGrpSpPr/>
              <p:nvPr/>
            </p:nvGrpSpPr>
            <p:grpSpPr>
              <a:xfrm>
                <a:off x="403920" y="449280"/>
                <a:ext cx="779760" cy="276480"/>
                <a:chOff x="403920" y="449280"/>
                <a:chExt cx="779760" cy="276480"/>
              </a:xfrm>
            </p:grpSpPr>
            <p:sp>
              <p:nvSpPr>
                <p:cNvPr id="169" name=""/>
                <p:cNvSpPr/>
                <p:nvPr/>
              </p:nvSpPr>
              <p:spPr>
                <a:xfrm>
                  <a:off x="403920" y="449280"/>
                  <a:ext cx="29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a:t>
                  </a:r>
                  <a:endParaRPr b="0" lang="en-US" sz="1200" spc="-1" strike="noStrike">
                    <a:solidFill>
                      <a:srgbClr val="000000"/>
                    </a:solidFill>
                    <a:latin typeface="Arial"/>
                  </a:endParaRPr>
                </a:p>
              </p:txBody>
            </p:sp>
            <p:sp>
              <p:nvSpPr>
                <p:cNvPr id="170" name=""/>
                <p:cNvSpPr/>
                <p:nvPr/>
              </p:nvSpPr>
              <p:spPr>
                <a:xfrm>
                  <a:off x="552240" y="449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a:t>
                  </a:r>
                  <a:endParaRPr b="0" lang="en-US" sz="1200" spc="-1" strike="noStrike">
                    <a:solidFill>
                      <a:srgbClr val="000000"/>
                    </a:solidFill>
                    <a:latin typeface="Arial"/>
                  </a:endParaRPr>
                </a:p>
              </p:txBody>
            </p:sp>
            <p:sp>
              <p:nvSpPr>
                <p:cNvPr id="171" name=""/>
                <p:cNvSpPr/>
                <p:nvPr/>
              </p:nvSpPr>
              <p:spPr>
                <a:xfrm>
                  <a:off x="657000" y="449280"/>
                  <a:ext cx="335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a:t>
                  </a:r>
                  <a:endParaRPr b="0" lang="en-US" sz="1200" spc="-1" strike="noStrike">
                    <a:solidFill>
                      <a:srgbClr val="000000"/>
                    </a:solidFill>
                    <a:latin typeface="Arial"/>
                  </a:endParaRPr>
                </a:p>
              </p:txBody>
            </p:sp>
            <p:sp>
              <p:nvSpPr>
                <p:cNvPr id="172" name=""/>
                <p:cNvSpPr/>
                <p:nvPr/>
              </p:nvSpPr>
              <p:spPr>
                <a:xfrm>
                  <a:off x="804960" y="449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a:t>
                  </a:r>
                  <a:endParaRPr b="0" lang="en-US" sz="1200" spc="-1" strike="noStrike">
                    <a:solidFill>
                      <a:srgbClr val="000000"/>
                    </a:solidFill>
                    <a:latin typeface="Arial"/>
                  </a:endParaRPr>
                </a:p>
              </p:txBody>
            </p:sp>
            <p:sp>
              <p:nvSpPr>
                <p:cNvPr id="173" name=""/>
                <p:cNvSpPr/>
                <p:nvPr/>
              </p:nvSpPr>
              <p:spPr>
                <a:xfrm>
                  <a:off x="923760" y="449280"/>
                  <a:ext cx="25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a:t>
                  </a:r>
                  <a:endParaRPr b="0" lang="en-US" sz="1200" spc="-1" strike="noStrike">
                    <a:solidFill>
                      <a:srgbClr val="000000"/>
                    </a:solidFill>
                    <a:latin typeface="Arial"/>
                  </a:endParaRPr>
                </a:p>
              </p:txBody>
            </p:sp>
          </p:grpSp>
          <p:grpSp>
            <p:nvGrpSpPr>
              <p:cNvPr id="174" name=""/>
              <p:cNvGrpSpPr/>
              <p:nvPr/>
            </p:nvGrpSpPr>
            <p:grpSpPr>
              <a:xfrm>
                <a:off x="403920" y="449280"/>
                <a:ext cx="779760" cy="276480"/>
                <a:chOff x="403920" y="449280"/>
                <a:chExt cx="779760" cy="276480"/>
              </a:xfrm>
            </p:grpSpPr>
            <p:sp>
              <p:nvSpPr>
                <p:cNvPr id="175" name=""/>
                <p:cNvSpPr/>
                <p:nvPr/>
              </p:nvSpPr>
              <p:spPr>
                <a:xfrm>
                  <a:off x="403920" y="449280"/>
                  <a:ext cx="29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N</a:t>
                  </a:r>
                  <a:endParaRPr b="0" lang="en-US" sz="1200" spc="-1" strike="noStrike">
                    <a:solidFill>
                      <a:srgbClr val="000000"/>
                    </a:solidFill>
                    <a:latin typeface="Arial"/>
                  </a:endParaRPr>
                </a:p>
              </p:txBody>
            </p:sp>
            <p:sp>
              <p:nvSpPr>
                <p:cNvPr id="176" name=""/>
                <p:cNvSpPr/>
                <p:nvPr/>
              </p:nvSpPr>
              <p:spPr>
                <a:xfrm>
                  <a:off x="552240" y="449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T</a:t>
                  </a:r>
                  <a:endParaRPr b="0" lang="en-US" sz="1200" spc="-1" strike="noStrike">
                    <a:solidFill>
                      <a:srgbClr val="000000"/>
                    </a:solidFill>
                    <a:latin typeface="Arial"/>
                  </a:endParaRPr>
                </a:p>
              </p:txBody>
            </p:sp>
            <p:sp>
              <p:nvSpPr>
                <p:cNvPr id="177" name=""/>
                <p:cNvSpPr/>
                <p:nvPr/>
              </p:nvSpPr>
              <p:spPr>
                <a:xfrm>
                  <a:off x="657000" y="449280"/>
                  <a:ext cx="335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S</a:t>
                  </a:r>
                  <a:endParaRPr b="0" lang="en-US" sz="1200" spc="-1" strike="noStrike">
                    <a:solidFill>
                      <a:srgbClr val="000000"/>
                    </a:solidFill>
                    <a:latin typeface="Arial"/>
                  </a:endParaRPr>
                </a:p>
              </p:txBody>
            </p:sp>
            <p:sp>
              <p:nvSpPr>
                <p:cNvPr id="178" name=""/>
                <p:cNvSpPr/>
                <p:nvPr/>
              </p:nvSpPr>
              <p:spPr>
                <a:xfrm>
                  <a:off x="804960" y="449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E</a:t>
                  </a:r>
                  <a:endParaRPr b="0" lang="en-US" sz="1200" spc="-1" strike="noStrike">
                    <a:solidFill>
                      <a:srgbClr val="000000"/>
                    </a:solidFill>
                    <a:latin typeface="Arial"/>
                  </a:endParaRPr>
                </a:p>
              </p:txBody>
            </p:sp>
            <p:sp>
              <p:nvSpPr>
                <p:cNvPr id="179" name=""/>
                <p:cNvSpPr/>
                <p:nvPr/>
              </p:nvSpPr>
              <p:spPr>
                <a:xfrm>
                  <a:off x="923760" y="449280"/>
                  <a:ext cx="25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Black"/>
                    </a:rPr>
                    <a:t>L</a:t>
                  </a:r>
                  <a:endParaRPr b="0" lang="en-US" sz="1200" spc="-1" strike="noStrike">
                    <a:solidFill>
                      <a:srgbClr val="000000"/>
                    </a:solidFill>
                    <a:latin typeface="Arial"/>
                  </a:endParaRPr>
                </a:p>
              </p:txBody>
            </p:sp>
          </p:grpSp>
        </p:gr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8.wmf"/><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hyperlink" Target="http://blog-imgs-11.fc2.com/o/e/k/oekaki777/puriusR.gif" TargetMode="External"/><Relationship Id="rId4" Type="http://schemas.openxmlformats.org/officeDocument/2006/relationships/image" Target="../media/image28.png"/><Relationship Id="rId5" Type="http://schemas.openxmlformats.org/officeDocument/2006/relationships/hyperlink" Target="http://blog-imgs-11.fc2.com/o/e/k/oekaki777/puriusS.gif" TargetMode="External"/><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1.jpeg"/><Relationship Id="rId10" Type="http://schemas.openxmlformats.org/officeDocument/2006/relationships/image" Target="../media/image32.jpe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jpeg"/><Relationship Id="rId14" Type="http://schemas.openxmlformats.org/officeDocument/2006/relationships/image" Target="../media/image33.png"/><Relationship Id="rId1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2.jpe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wmf"/><Relationship Id="rId3" Type="http://schemas.openxmlformats.org/officeDocument/2006/relationships/image" Target="../media/image40.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1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hoshi-a2rd@mlit.go.j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792520" y="6093000"/>
            <a:ext cx="421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008</a:t>
            </a:r>
            <a:endParaRPr b="0" lang="en-US" sz="1800" spc="-1" strike="noStrike">
              <a:solidFill>
                <a:srgbClr val="000000"/>
              </a:solidFill>
              <a:latin typeface="Arial"/>
            </a:endParaRPr>
          </a:p>
        </p:txBody>
      </p:sp>
      <p:sp>
        <p:nvSpPr>
          <p:cNvPr id="224" name="PlaceHolder 1"/>
          <p:cNvSpPr>
            <a:spLocks noGrp="1"/>
          </p:cNvSpPr>
          <p:nvPr>
            <p:ph type="subTitle"/>
          </p:nvPr>
        </p:nvSpPr>
        <p:spPr>
          <a:xfrm>
            <a:off x="560160" y="1413000"/>
            <a:ext cx="8856360" cy="122400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on of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brid System and Plug-in Hybrid System</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Japanese Fuel Efficiency Regulation</a:t>
            </a:r>
            <a:endParaRPr b="0" lang="en-US" sz="2800" spc="-1" strike="noStrike">
              <a:solidFill>
                <a:srgbClr val="000000"/>
              </a:solidFill>
              <a:latin typeface="Arial"/>
            </a:endParaRPr>
          </a:p>
        </p:txBody>
      </p:sp>
      <p:sp>
        <p:nvSpPr>
          <p:cNvPr id="225" name=""/>
          <p:cNvSpPr/>
          <p:nvPr/>
        </p:nvSpPr>
        <p:spPr>
          <a:xfrm>
            <a:off x="849240" y="3718080"/>
            <a:ext cx="8190000" cy="22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kihiko HOSH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uty Direct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 Div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 Transport Burea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stry of Land, Infrastructure, Transport and Tourism</a:t>
            </a:r>
            <a:endParaRPr b="0" lang="en-US" sz="2400" spc="-1" strike="noStrike">
              <a:solidFill>
                <a:srgbClr val="000000"/>
              </a:solidFill>
              <a:latin typeface="Arial"/>
            </a:endParaRPr>
          </a:p>
        </p:txBody>
      </p:sp>
      <p:sp>
        <p:nvSpPr>
          <p:cNvPr id="226" name=""/>
          <p:cNvSpPr/>
          <p:nvPr/>
        </p:nvSpPr>
        <p:spPr>
          <a:xfrm>
            <a:off x="6105600" y="260280"/>
            <a:ext cx="3456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u="sng">
                <a:solidFill>
                  <a:srgbClr val="000000"/>
                </a:solidFill>
                <a:uFillTx/>
                <a:latin typeface="Arial"/>
              </a:rPr>
              <a:t>Working paper No.:</a:t>
            </a:r>
            <a:r>
              <a:rPr b="0" lang="pt-BR" sz="1600" spc="-1" strike="noStrike">
                <a:solidFill>
                  <a:srgbClr val="000000"/>
                </a:solidFill>
                <a:latin typeface="Arial"/>
              </a:rPr>
              <a:t> </a:t>
            </a:r>
            <a:r>
              <a:rPr b="1" lang="en-US" sz="1600" spc="-1" strike="noStrike">
                <a:solidFill>
                  <a:srgbClr val="000000"/>
                </a:solidFill>
                <a:latin typeface="Arial"/>
              </a:rPr>
              <a:t>EFV-02-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PE Informal Group on EF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nd Meeting, 30/31 October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993600" y="5646600"/>
            <a:ext cx="4945320" cy="911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993600" y="4398840"/>
            <a:ext cx="4945320" cy="911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987480" y="1622520"/>
            <a:ext cx="4944960" cy="911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42880" y="1027080"/>
            <a:ext cx="5418360" cy="4525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P創英角ｺﾞｼｯｸUB"/>
                <a:ea typeface="HGP創英角ｺﾞｼｯｸUB"/>
              </a:rPr>
              <a:t>Urban Driving Mode = JE05 Mode (Emission Test Mode)</a:t>
            </a:r>
            <a:endParaRPr b="0" lang="en-US" sz="1600" spc="-1" strike="noStrike">
              <a:solidFill>
                <a:srgbClr val="000000"/>
              </a:solidFill>
              <a:latin typeface="Arial"/>
            </a:endParaRPr>
          </a:p>
        </p:txBody>
      </p:sp>
      <p:sp>
        <p:nvSpPr>
          <p:cNvPr id="324" name=""/>
          <p:cNvSpPr/>
          <p:nvPr/>
        </p:nvSpPr>
        <p:spPr>
          <a:xfrm>
            <a:off x="538200" y="3637080"/>
            <a:ext cx="7151760" cy="512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P創英角ｺﾞｼｯｸUB"/>
                <a:ea typeface="HGP創英角ｺﾞｼｯｸUB"/>
              </a:rPr>
              <a:t>Interurban Driving Mode: 80km/h Constant Speed Mode with Road Gradient</a:t>
            </a:r>
            <a:endParaRPr b="0" lang="en-US" sz="1600" spc="-1" strike="noStrike">
              <a:solidFill>
                <a:srgbClr val="000000"/>
              </a:solidFill>
              <a:latin typeface="Arial"/>
            </a:endParaRPr>
          </a:p>
        </p:txBody>
      </p:sp>
      <p:sp>
        <p:nvSpPr>
          <p:cNvPr id="325" name=""/>
          <p:cNvSpPr/>
          <p:nvPr/>
        </p:nvSpPr>
        <p:spPr>
          <a:xfrm>
            <a:off x="0" y="549360"/>
            <a:ext cx="8408880" cy="28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P創英角ｺﾞｼｯｸUB"/>
                <a:ea typeface="HGP創英角ｺﾞｼｯｸUB"/>
              </a:rPr>
              <a:t>Combination of Urban Driving Mode(JE05) and Inter-urban Driving Mode</a:t>
            </a:r>
            <a:endParaRPr b="0" lang="en-US" sz="1800" spc="-1" strike="noStrike">
              <a:solidFill>
                <a:srgbClr val="000000"/>
              </a:solidFill>
              <a:latin typeface="Arial"/>
            </a:endParaRPr>
          </a:p>
        </p:txBody>
      </p:sp>
      <p:sp>
        <p:nvSpPr>
          <p:cNvPr id="326" name=""/>
          <p:cNvSpPr/>
          <p:nvPr/>
        </p:nvSpPr>
        <p:spPr>
          <a:xfrm flipH="1">
            <a:off x="198000" y="1036800"/>
            <a:ext cx="12600" cy="281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00160" y="3855960"/>
            <a:ext cx="3315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08080" y="1268280"/>
            <a:ext cx="3315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9" name="" descr=""/>
          <p:cNvPicPr/>
          <p:nvPr/>
        </p:nvPicPr>
        <p:blipFill>
          <a:blip r:embed="rId1"/>
          <a:stretch/>
        </p:blipFill>
        <p:spPr>
          <a:xfrm>
            <a:off x="344520" y="1550880"/>
            <a:ext cx="5754600" cy="1312920"/>
          </a:xfrm>
          <a:prstGeom prst="rect">
            <a:avLst/>
          </a:prstGeom>
          <a:ln w="0">
            <a:noFill/>
          </a:ln>
        </p:spPr>
      </p:pic>
      <p:pic>
        <p:nvPicPr>
          <p:cNvPr id="330" name="" descr=""/>
          <p:cNvPicPr/>
          <p:nvPr/>
        </p:nvPicPr>
        <p:blipFill>
          <a:blip r:embed="rId2"/>
          <a:stretch/>
        </p:blipFill>
        <p:spPr>
          <a:xfrm>
            <a:off x="352440" y="4324320"/>
            <a:ext cx="5753160" cy="1312920"/>
          </a:xfrm>
          <a:prstGeom prst="rect">
            <a:avLst/>
          </a:prstGeom>
          <a:ln w="0">
            <a:noFill/>
          </a:ln>
        </p:spPr>
      </p:pic>
      <p:pic>
        <p:nvPicPr>
          <p:cNvPr id="331" name="" descr=""/>
          <p:cNvPicPr/>
          <p:nvPr/>
        </p:nvPicPr>
        <p:blipFill>
          <a:blip r:embed="rId3"/>
          <a:stretch/>
        </p:blipFill>
        <p:spPr>
          <a:xfrm>
            <a:off x="620640" y="5567400"/>
            <a:ext cx="5484960" cy="1312920"/>
          </a:xfrm>
          <a:prstGeom prst="rect">
            <a:avLst/>
          </a:prstGeom>
          <a:ln w="0">
            <a:noFill/>
          </a:ln>
        </p:spPr>
      </p:pic>
      <p:sp>
        <p:nvSpPr>
          <p:cNvPr id="332" name=""/>
          <p:cNvSpPr/>
          <p:nvPr/>
        </p:nvSpPr>
        <p:spPr>
          <a:xfrm>
            <a:off x="441360" y="-27000"/>
            <a:ext cx="739152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ea typeface="HGP創英角ｺﾞｼｯｸUB"/>
              </a:rPr>
              <a:t>Japanese test mode for HDVs(JE05)</a:t>
            </a:r>
            <a:endParaRPr b="0" lang="en-US" sz="2800" spc="-1" strike="noStrike">
              <a:solidFill>
                <a:srgbClr val="000000"/>
              </a:solidFill>
              <a:latin typeface="Arial"/>
            </a:endParaRPr>
          </a:p>
        </p:txBody>
      </p:sp>
      <p:sp>
        <p:nvSpPr>
          <p:cNvPr id="333" name=""/>
          <p:cNvSpPr/>
          <p:nvPr/>
        </p:nvSpPr>
        <p:spPr>
          <a:xfrm>
            <a:off x="849240" y="2781360"/>
            <a:ext cx="396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S</a:t>
            </a:r>
            <a:r>
              <a:rPr b="1" lang="en-US" sz="1200" spc="-1" strike="noStrike">
                <a:solidFill>
                  <a:srgbClr val="000000"/>
                </a:solidFill>
                <a:latin typeface="Arial"/>
              </a:rPr>
              <a:t>tand-alone Engine Measurement Method</a:t>
            </a:r>
            <a:endParaRPr b="0" lang="en-US" sz="1200" spc="-1" strike="noStrike">
              <a:solidFill>
                <a:srgbClr val="000000"/>
              </a:solidFill>
              <a:latin typeface="Arial"/>
            </a:endParaRPr>
          </a:p>
        </p:txBody>
      </p:sp>
      <p:sp>
        <p:nvSpPr>
          <p:cNvPr id="334" name=""/>
          <p:cNvSpPr/>
          <p:nvPr/>
        </p:nvSpPr>
        <p:spPr>
          <a:xfrm>
            <a:off x="849240" y="3070080"/>
            <a:ext cx="372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Including Transient Operating Points</a:t>
            </a:r>
            <a:endParaRPr b="0" lang="en-US" sz="1200" spc="-1" strike="noStrike">
              <a:solidFill>
                <a:srgbClr val="000000"/>
              </a:solidFill>
              <a:latin typeface="Arial"/>
            </a:endParaRPr>
          </a:p>
        </p:txBody>
      </p:sp>
      <p:pic>
        <p:nvPicPr>
          <p:cNvPr id="335" name="" descr=""/>
          <p:cNvPicPr/>
          <p:nvPr/>
        </p:nvPicPr>
        <p:blipFill>
          <a:blip r:embed="rId4"/>
          <a:stretch/>
        </p:blipFill>
        <p:spPr>
          <a:xfrm>
            <a:off x="6502320" y="2532240"/>
            <a:ext cx="3419640" cy="798480"/>
          </a:xfrm>
          <a:prstGeom prst="rect">
            <a:avLst/>
          </a:prstGeom>
          <a:ln w="0">
            <a:noFill/>
          </a:ln>
        </p:spPr>
      </p:pic>
      <p:pic>
        <p:nvPicPr>
          <p:cNvPr id="336" name="" descr=""/>
          <p:cNvPicPr/>
          <p:nvPr/>
        </p:nvPicPr>
        <p:blipFill>
          <a:blip r:embed="rId5"/>
          <a:stretch/>
        </p:blipFill>
        <p:spPr>
          <a:xfrm>
            <a:off x="6489720" y="1552680"/>
            <a:ext cx="3416400" cy="823680"/>
          </a:xfrm>
          <a:prstGeom prst="rect">
            <a:avLst/>
          </a:prstGeom>
          <a:ln w="0">
            <a:noFill/>
          </a:ln>
        </p:spPr>
      </p:pic>
      <p:sp>
        <p:nvSpPr>
          <p:cNvPr id="337" name=""/>
          <p:cNvSpPr/>
          <p:nvPr/>
        </p:nvSpPr>
        <p:spPr>
          <a:xfrm>
            <a:off x="6056280" y="1577880"/>
            <a:ext cx="250920" cy="80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rot="16200000">
            <a:off x="5971320" y="1710360"/>
            <a:ext cx="790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speed</a:t>
            </a:r>
            <a:endParaRPr b="0" lang="en-US" sz="1200" spc="-1" strike="noStrike">
              <a:solidFill>
                <a:srgbClr val="000000"/>
              </a:solidFill>
              <a:latin typeface="Arial"/>
            </a:endParaRPr>
          </a:p>
        </p:txBody>
      </p:sp>
      <p:sp>
        <p:nvSpPr>
          <p:cNvPr id="339" name=""/>
          <p:cNvSpPr/>
          <p:nvPr/>
        </p:nvSpPr>
        <p:spPr>
          <a:xfrm>
            <a:off x="7316640" y="2295360"/>
            <a:ext cx="1146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a:t>
            </a:r>
            <a:endParaRPr b="0" lang="en-US" sz="1200" spc="-1" strike="noStrike">
              <a:solidFill>
                <a:srgbClr val="000000"/>
              </a:solidFill>
              <a:latin typeface="Arial"/>
            </a:endParaRPr>
          </a:p>
        </p:txBody>
      </p:sp>
      <p:sp>
        <p:nvSpPr>
          <p:cNvPr id="340" name=""/>
          <p:cNvSpPr/>
          <p:nvPr/>
        </p:nvSpPr>
        <p:spPr>
          <a:xfrm rot="16200000">
            <a:off x="6010920" y="2686680"/>
            <a:ext cx="790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torque</a:t>
            </a:r>
            <a:endParaRPr b="0" lang="en-US" sz="1200" spc="-1" strike="noStrike">
              <a:solidFill>
                <a:srgbClr val="000000"/>
              </a:solidFill>
              <a:latin typeface="Arial"/>
            </a:endParaRPr>
          </a:p>
        </p:txBody>
      </p:sp>
      <p:sp>
        <p:nvSpPr>
          <p:cNvPr id="341" name=""/>
          <p:cNvSpPr/>
          <p:nvPr/>
        </p:nvSpPr>
        <p:spPr>
          <a:xfrm>
            <a:off x="7824960" y="3220920"/>
            <a:ext cx="1144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a:t>
            </a:r>
            <a:endParaRPr b="0" lang="en-US" sz="1200" spc="-1" strike="noStrike">
              <a:solidFill>
                <a:srgbClr val="000000"/>
              </a:solidFill>
              <a:latin typeface="Arial"/>
            </a:endParaRPr>
          </a:p>
        </p:txBody>
      </p:sp>
      <p:sp>
        <p:nvSpPr>
          <p:cNvPr id="342" name=""/>
          <p:cNvSpPr/>
          <p:nvPr/>
        </p:nvSpPr>
        <p:spPr>
          <a:xfrm>
            <a:off x="7184880" y="974880"/>
            <a:ext cx="255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rPr>
              <a:t>Conversion to Historie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rPr>
              <a:t>Engine Speed and Engine Torque</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41360" y="-93600"/>
            <a:ext cx="73915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Japanese test mode for HDVs(JE05)</a:t>
            </a:r>
            <a:endParaRPr b="0" lang="en-US" sz="2800" spc="-1" strike="noStrike">
              <a:solidFill>
                <a:srgbClr val="4087c8"/>
              </a:solidFill>
              <a:latin typeface="HGP創英角ｺﾞｼｯｸUB"/>
            </a:endParaRPr>
          </a:p>
        </p:txBody>
      </p:sp>
      <p:sp>
        <p:nvSpPr>
          <p:cNvPr id="344" name=""/>
          <p:cNvSpPr/>
          <p:nvPr/>
        </p:nvSpPr>
        <p:spPr>
          <a:xfrm>
            <a:off x="506520" y="1860480"/>
            <a:ext cx="8580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t>
            </a:r>
            <a:r>
              <a:rPr b="1" lang="en-US" sz="1800" spc="-1" strike="noStrike">
                <a:solidFill>
                  <a:srgbClr val="000000"/>
                </a:solidFill>
                <a:latin typeface="Arial"/>
              </a:rPr>
              <a:t>tand-alone engine test of fuel efficiency by JE05 mode m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 a large number of different engine 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nufacturers spend large resources (time, labor and mon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constructing the testing facility and performing measurements.</a:t>
            </a:r>
            <a:endParaRPr b="0" lang="en-US" sz="1800" spc="-1" strike="noStrike">
              <a:solidFill>
                <a:srgbClr val="000000"/>
              </a:solidFill>
              <a:latin typeface="Arial"/>
            </a:endParaRPr>
          </a:p>
        </p:txBody>
      </p:sp>
      <p:sp>
        <p:nvSpPr>
          <p:cNvPr id="345" name=""/>
          <p:cNvSpPr/>
          <p:nvPr/>
        </p:nvSpPr>
        <p:spPr>
          <a:xfrm>
            <a:off x="149400" y="836640"/>
            <a:ext cx="9405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Actual Engine Test of Fuel Efficiency by JE05 Mode is </a:t>
            </a:r>
            <a:r>
              <a:rPr b="1" lang="en-US" sz="2000" spc="-1" strike="noStrike" u="sng">
                <a:solidFill>
                  <a:srgbClr val="3333ff"/>
                </a:solidFill>
                <a:uFillTx/>
                <a:latin typeface="Arial"/>
              </a:rPr>
              <a:t>NOT feasible and effective</a:t>
            </a:r>
            <a:r>
              <a:rPr b="1" lang="en-US" sz="2000" spc="-1" strike="noStrike">
                <a:solidFill>
                  <a:srgbClr val="3333ff"/>
                </a:solidFill>
                <a:latin typeface="Arial"/>
              </a:rPr>
              <a:t>.</a:t>
            </a:r>
            <a:endParaRPr b="0" lang="en-US" sz="2000" spc="-1" strike="noStrike">
              <a:solidFill>
                <a:srgbClr val="000000"/>
              </a:solidFill>
              <a:latin typeface="Arial"/>
            </a:endParaRPr>
          </a:p>
        </p:txBody>
      </p:sp>
      <p:sp>
        <p:nvSpPr>
          <p:cNvPr id="346" name=""/>
          <p:cNvSpPr/>
          <p:nvPr/>
        </p:nvSpPr>
        <p:spPr>
          <a:xfrm>
            <a:off x="439560" y="1844640"/>
            <a:ext cx="8491680" cy="79236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208160" y="5121360"/>
            <a:ext cx="477720" cy="358560"/>
          </a:xfrm>
          <a:prstGeom prst="rightArrow">
            <a:avLst>
              <a:gd name="adj1" fmla="val 50000"/>
              <a:gd name="adj2" fmla="val 33308"/>
            </a:avLst>
          </a:prstGeom>
          <a:solidFill>
            <a:srgbClr val="ffcc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685880" y="5014800"/>
            <a:ext cx="7489800" cy="57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P創英角ｺﾞｼｯｸUB"/>
                <a:ea typeface="HGP創英角ｺﾞｼｯｸUB"/>
              </a:rPr>
              <a:t>Evaluation of Fuel Efficiency by </a:t>
            </a:r>
            <a:r>
              <a:rPr b="1" i="1" lang="en-US" sz="2400" spc="-1" strike="noStrike">
                <a:solidFill>
                  <a:srgbClr val="000000"/>
                </a:solidFill>
                <a:latin typeface="HGP創英角ｺﾞｼｯｸUB"/>
                <a:ea typeface="HGP創英角ｺﾞｼｯｸUB"/>
              </a:rPr>
              <a:t>Simulation Method</a:t>
            </a:r>
            <a:endParaRPr b="0" lang="en-US" sz="2400" spc="-1" strike="noStrike">
              <a:solidFill>
                <a:srgbClr val="000000"/>
              </a:solidFill>
              <a:latin typeface="Arial"/>
            </a:endParaRPr>
          </a:p>
        </p:txBody>
      </p:sp>
      <p:sp>
        <p:nvSpPr>
          <p:cNvPr id="349" name=""/>
          <p:cNvSpPr/>
          <p:nvPr/>
        </p:nvSpPr>
        <p:spPr>
          <a:xfrm>
            <a:off x="493560" y="3429000"/>
            <a:ext cx="8491680" cy="792000"/>
          </a:xfrm>
          <a:prstGeom prst="roundRect">
            <a:avLst>
              <a:gd name="adj" fmla="val 16667"/>
            </a:avLst>
          </a:prstGeom>
          <a:noFill/>
          <a:ln w="1908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71440" y="-4680"/>
            <a:ext cx="8424720" cy="48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7c8"/>
                </a:solidFill>
                <a:latin typeface="HGP創英角ｺﾞｼｯｸUB"/>
              </a:rPr>
              <a:t>Characteristics of Simulation Method</a:t>
            </a:r>
            <a:endParaRPr b="0" lang="en-US" sz="2400" spc="-1" strike="noStrike">
              <a:solidFill>
                <a:srgbClr val="4087c8"/>
              </a:solidFill>
              <a:latin typeface="HGP創英角ｺﾞｼｯｸUB"/>
            </a:endParaRPr>
          </a:p>
        </p:txBody>
      </p:sp>
      <p:sp>
        <p:nvSpPr>
          <p:cNvPr id="351" name=""/>
          <p:cNvSpPr/>
          <p:nvPr/>
        </p:nvSpPr>
        <p:spPr>
          <a:xfrm>
            <a:off x="236520" y="1052640"/>
            <a:ext cx="946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rPr>
              <a:t>Using real vehicle and engine specifications</a:t>
            </a:r>
            <a:endParaRPr b="0" lang="en-US" sz="2400" spc="-1" strike="noStrike">
              <a:solidFill>
                <a:srgbClr val="000000"/>
              </a:solidFill>
              <a:latin typeface="Arial"/>
            </a:endParaRPr>
          </a:p>
        </p:txBody>
      </p:sp>
      <p:pic>
        <p:nvPicPr>
          <p:cNvPr id="352" name="" descr=""/>
          <p:cNvPicPr/>
          <p:nvPr/>
        </p:nvPicPr>
        <p:blipFill>
          <a:blip r:embed="rId1"/>
          <a:stretch/>
        </p:blipFill>
        <p:spPr>
          <a:xfrm>
            <a:off x="1474920" y="1935000"/>
            <a:ext cx="2757240" cy="2192400"/>
          </a:xfrm>
          <a:prstGeom prst="rect">
            <a:avLst/>
          </a:prstGeom>
          <a:ln w="0">
            <a:noFill/>
          </a:ln>
        </p:spPr>
      </p:pic>
      <p:sp>
        <p:nvSpPr>
          <p:cNvPr id="353" name=""/>
          <p:cNvSpPr/>
          <p:nvPr/>
        </p:nvSpPr>
        <p:spPr>
          <a:xfrm>
            <a:off x="1928880" y="4148280"/>
            <a:ext cx="1923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 speed (rpm)</a:t>
            </a:r>
            <a:endParaRPr b="0" lang="en-US" sz="1200" spc="-1" strike="noStrike">
              <a:solidFill>
                <a:srgbClr val="000000"/>
              </a:solidFill>
              <a:latin typeface="Arial"/>
            </a:endParaRPr>
          </a:p>
        </p:txBody>
      </p:sp>
      <p:sp>
        <p:nvSpPr>
          <p:cNvPr id="354" name=""/>
          <p:cNvSpPr/>
          <p:nvPr/>
        </p:nvSpPr>
        <p:spPr>
          <a:xfrm rot="16200000">
            <a:off x="760320" y="2494800"/>
            <a:ext cx="128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rque (Nm)</a:t>
            </a:r>
            <a:endParaRPr b="0" lang="en-US" sz="1200" spc="-1" strike="noStrike">
              <a:solidFill>
                <a:srgbClr val="000000"/>
              </a:solidFill>
              <a:latin typeface="Arial"/>
            </a:endParaRPr>
          </a:p>
        </p:txBody>
      </p:sp>
      <p:sp>
        <p:nvSpPr>
          <p:cNvPr id="355" name=""/>
          <p:cNvSpPr/>
          <p:nvPr/>
        </p:nvSpPr>
        <p:spPr>
          <a:xfrm>
            <a:off x="920880" y="1555920"/>
            <a:ext cx="42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l Fuel consumption map</a:t>
            </a:r>
            <a:endParaRPr b="0" lang="en-US" sz="2000" spc="-1" strike="noStrike">
              <a:solidFill>
                <a:srgbClr val="000000"/>
              </a:solidFill>
              <a:latin typeface="Arial"/>
            </a:endParaRPr>
          </a:p>
        </p:txBody>
      </p:sp>
      <p:sp>
        <p:nvSpPr>
          <p:cNvPr id="356" name=""/>
          <p:cNvSpPr/>
          <p:nvPr/>
        </p:nvSpPr>
        <p:spPr>
          <a:xfrm>
            <a:off x="4602240" y="2050920"/>
            <a:ext cx="44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gine parameters</a:t>
            </a:r>
            <a:endParaRPr b="0" lang="en-US" sz="2000" spc="-1" strike="noStrike">
              <a:solidFill>
                <a:srgbClr val="000000"/>
              </a:solidFill>
              <a:latin typeface="Arial"/>
            </a:endParaRPr>
          </a:p>
        </p:txBody>
      </p:sp>
      <p:sp>
        <p:nvSpPr>
          <p:cNvPr id="357" name=""/>
          <p:cNvSpPr/>
          <p:nvPr/>
        </p:nvSpPr>
        <p:spPr>
          <a:xfrm>
            <a:off x="4602240" y="2662200"/>
            <a:ext cx="491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e train parameters</a:t>
            </a:r>
            <a:endParaRPr b="0" lang="en-US" sz="2000" spc="-1" strike="noStrike">
              <a:solidFill>
                <a:srgbClr val="000000"/>
              </a:solidFill>
              <a:latin typeface="Arial"/>
            </a:endParaRPr>
          </a:p>
        </p:txBody>
      </p:sp>
      <p:sp>
        <p:nvSpPr>
          <p:cNvPr id="358" name=""/>
          <p:cNvSpPr/>
          <p:nvPr/>
        </p:nvSpPr>
        <p:spPr>
          <a:xfrm>
            <a:off x="230040" y="4917960"/>
            <a:ext cx="897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rPr>
              <a:t>The method is an extension way of the emission test.</a:t>
            </a:r>
            <a:endParaRPr b="0" lang="en-US" sz="2400" spc="-1" strike="noStrike">
              <a:solidFill>
                <a:srgbClr val="000000"/>
              </a:solidFill>
              <a:latin typeface="Arial"/>
            </a:endParaRPr>
          </a:p>
        </p:txBody>
      </p:sp>
      <p:sp>
        <p:nvSpPr>
          <p:cNvPr id="359" name=""/>
          <p:cNvSpPr/>
          <p:nvPr/>
        </p:nvSpPr>
        <p:spPr>
          <a:xfrm>
            <a:off x="846000" y="5494320"/>
            <a:ext cx="6328080" cy="673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cost and Hi test efficien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Arial"/>
              </a:rPr>
              <a:t> </a:t>
            </a:r>
            <a:r>
              <a:rPr b="1" lang="en-US" sz="1800" spc="-1" strike="noStrike">
                <a:solidFill>
                  <a:srgbClr val="000000"/>
                </a:solidFill>
                <a:latin typeface="Arial"/>
              </a:rPr>
              <a:t>Problems of reproducibility of driving resistanc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094280" y="5608800"/>
            <a:ext cx="0" cy="484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406760" y="3645000"/>
            <a:ext cx="3822840" cy="173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240" y="3782880"/>
            <a:ext cx="244476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3941640" y="3419640"/>
            <a:ext cx="5940720" cy="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PlaceHolder 1"/>
          <p:cNvSpPr>
            <a:spLocks noGrp="1"/>
          </p:cNvSpPr>
          <p:nvPr>
            <p:ph type="title"/>
          </p:nvPr>
        </p:nvSpPr>
        <p:spPr>
          <a:xfrm>
            <a:off x="271440" y="0"/>
            <a:ext cx="80359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Simulation Method</a:t>
            </a:r>
            <a:endParaRPr b="0" lang="en-US" sz="2800" spc="-1" strike="noStrike">
              <a:solidFill>
                <a:srgbClr val="4087c8"/>
              </a:solidFill>
              <a:latin typeface="HGP創英角ｺﾞｼｯｸUB"/>
            </a:endParaRPr>
          </a:p>
        </p:txBody>
      </p:sp>
      <p:sp>
        <p:nvSpPr>
          <p:cNvPr id="365" name=""/>
          <p:cNvSpPr/>
          <p:nvPr/>
        </p:nvSpPr>
        <p:spPr>
          <a:xfrm>
            <a:off x="3227400" y="1128600"/>
            <a:ext cx="17254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ving mode</a:t>
            </a:r>
            <a:endParaRPr b="0" lang="en-US" sz="1600" spc="-1" strike="noStrike">
              <a:solidFill>
                <a:srgbClr val="000000"/>
              </a:solidFill>
              <a:latin typeface="Arial"/>
            </a:endParaRPr>
          </a:p>
        </p:txBody>
      </p:sp>
      <p:sp>
        <p:nvSpPr>
          <p:cNvPr id="366" name=""/>
          <p:cNvSpPr/>
          <p:nvPr/>
        </p:nvSpPr>
        <p:spPr>
          <a:xfrm>
            <a:off x="4094280" y="1465200"/>
            <a:ext cx="0" cy="484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344320" y="1979640"/>
            <a:ext cx="3242520" cy="76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version pro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n-US" sz="1400" spc="-1" strike="noStrike">
                <a:solidFill>
                  <a:srgbClr val="000000"/>
                </a:solidFill>
                <a:latin typeface="Arial"/>
                <a:ea typeface="Arial"/>
              </a:rPr>
              <a:t>Determine gear-shift posi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lculate engine speed and torque.</a:t>
            </a:r>
            <a:endParaRPr b="0" lang="en-US" sz="1400" spc="-1" strike="noStrike">
              <a:solidFill>
                <a:srgbClr val="000000"/>
              </a:solidFill>
              <a:latin typeface="Arial"/>
            </a:endParaRPr>
          </a:p>
        </p:txBody>
      </p:sp>
      <p:sp>
        <p:nvSpPr>
          <p:cNvPr id="368" name=""/>
          <p:cNvSpPr/>
          <p:nvPr/>
        </p:nvSpPr>
        <p:spPr>
          <a:xfrm>
            <a:off x="4952880" y="1123920"/>
            <a:ext cx="54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69" name=""/>
          <p:cNvSpPr/>
          <p:nvPr/>
        </p:nvSpPr>
        <p:spPr>
          <a:xfrm>
            <a:off x="5264280" y="981000"/>
            <a:ext cx="156960" cy="647640"/>
          </a:xfrm>
          <a:custGeom>
            <a:avLst/>
            <a:gdLst>
              <a:gd name="textAreaLeft" fmla="*/ 100440 w 156960"/>
              <a:gd name="textAreaRight" fmla="*/ 157320 w 15696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5343480" y="974880"/>
            <a:ext cx="2417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rban driving mode</a:t>
            </a:r>
            <a:endParaRPr b="0" lang="en-US" sz="1600" spc="-1" strike="noStrike">
              <a:solidFill>
                <a:srgbClr val="000000"/>
              </a:solidFill>
              <a:latin typeface="Arial"/>
            </a:endParaRPr>
          </a:p>
        </p:txBody>
      </p:sp>
      <p:sp>
        <p:nvSpPr>
          <p:cNvPr id="371" name=""/>
          <p:cNvSpPr/>
          <p:nvPr/>
        </p:nvSpPr>
        <p:spPr>
          <a:xfrm>
            <a:off x="5343480" y="1292400"/>
            <a:ext cx="3119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urban driving mode</a:t>
            </a:r>
            <a:endParaRPr b="0" lang="en-US" sz="1600" spc="-1" strike="noStrike">
              <a:solidFill>
                <a:srgbClr val="000000"/>
              </a:solidFill>
              <a:latin typeface="Arial"/>
            </a:endParaRPr>
          </a:p>
        </p:txBody>
      </p:sp>
      <p:sp>
        <p:nvSpPr>
          <p:cNvPr id="372" name=""/>
          <p:cNvSpPr/>
          <p:nvPr/>
        </p:nvSpPr>
        <p:spPr>
          <a:xfrm flipH="1">
            <a:off x="5853240" y="2349360"/>
            <a:ext cx="6602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094280" y="2747880"/>
            <a:ext cx="0" cy="484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612880" y="3227400"/>
            <a:ext cx="29638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ine Operating Mode</a:t>
            </a:r>
            <a:endParaRPr b="0" lang="en-US" sz="1600" spc="-1" strike="noStrike">
              <a:solidFill>
                <a:srgbClr val="000000"/>
              </a:solidFill>
              <a:latin typeface="Arial"/>
            </a:endParaRPr>
          </a:p>
        </p:txBody>
      </p:sp>
      <p:sp>
        <p:nvSpPr>
          <p:cNvPr id="375" name=""/>
          <p:cNvSpPr/>
          <p:nvPr/>
        </p:nvSpPr>
        <p:spPr>
          <a:xfrm>
            <a:off x="6202440" y="2060640"/>
            <a:ext cx="179208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hicle specifications</a:t>
            </a:r>
            <a:endParaRPr b="0" lang="en-US" sz="1600" spc="-1" strike="noStrike">
              <a:solidFill>
                <a:srgbClr val="000000"/>
              </a:solidFill>
              <a:latin typeface="Arial"/>
            </a:endParaRPr>
          </a:p>
        </p:txBody>
      </p:sp>
      <p:sp>
        <p:nvSpPr>
          <p:cNvPr id="376" name=""/>
          <p:cNvSpPr/>
          <p:nvPr/>
        </p:nvSpPr>
        <p:spPr>
          <a:xfrm>
            <a:off x="1962000" y="3400560"/>
            <a:ext cx="6606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179280" y="3106800"/>
            <a:ext cx="179388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el efficiency map</a:t>
            </a:r>
            <a:endParaRPr b="0" lang="en-US" sz="1600" spc="-1" strike="noStrike">
              <a:solidFill>
                <a:srgbClr val="000000"/>
              </a:solidFill>
              <a:latin typeface="Arial"/>
            </a:endParaRPr>
          </a:p>
        </p:txBody>
      </p:sp>
      <p:pic>
        <p:nvPicPr>
          <p:cNvPr id="378" name="" descr=""/>
          <p:cNvPicPr/>
          <p:nvPr/>
        </p:nvPicPr>
        <p:blipFill>
          <a:blip r:embed="rId1"/>
          <a:stretch/>
        </p:blipFill>
        <p:spPr>
          <a:xfrm>
            <a:off x="393840" y="3938760"/>
            <a:ext cx="1984320" cy="1577880"/>
          </a:xfrm>
          <a:prstGeom prst="rect">
            <a:avLst/>
          </a:prstGeom>
          <a:ln w="0">
            <a:noFill/>
          </a:ln>
        </p:spPr>
      </p:pic>
      <p:sp>
        <p:nvSpPr>
          <p:cNvPr id="379" name=""/>
          <p:cNvSpPr/>
          <p:nvPr/>
        </p:nvSpPr>
        <p:spPr>
          <a:xfrm>
            <a:off x="662040" y="5435640"/>
            <a:ext cx="1923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speed (rpm)</a:t>
            </a:r>
            <a:endParaRPr b="0" lang="en-US" sz="1200" spc="-1" strike="noStrike">
              <a:solidFill>
                <a:srgbClr val="000000"/>
              </a:solidFill>
              <a:latin typeface="Arial"/>
            </a:endParaRPr>
          </a:p>
        </p:txBody>
      </p:sp>
      <p:sp>
        <p:nvSpPr>
          <p:cNvPr id="380" name=""/>
          <p:cNvSpPr/>
          <p:nvPr/>
        </p:nvSpPr>
        <p:spPr>
          <a:xfrm rot="16200000">
            <a:off x="-364680" y="4325400"/>
            <a:ext cx="128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que (Nm)</a:t>
            </a:r>
            <a:endParaRPr b="0" lang="en-US" sz="1200" spc="-1" strike="noStrike">
              <a:solidFill>
                <a:srgbClr val="000000"/>
              </a:solidFill>
              <a:latin typeface="Arial"/>
            </a:endParaRPr>
          </a:p>
        </p:txBody>
      </p:sp>
      <p:sp>
        <p:nvSpPr>
          <p:cNvPr id="381" name=""/>
          <p:cNvSpPr/>
          <p:nvPr/>
        </p:nvSpPr>
        <p:spPr>
          <a:xfrm>
            <a:off x="117360" y="5722920"/>
            <a:ext cx="3048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fore simulation, perfor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peration tests to create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uel efficiency map</a:t>
            </a:r>
            <a:endParaRPr b="0" lang="en-US" sz="1400" spc="-1" strike="noStrike">
              <a:solidFill>
                <a:srgbClr val="000000"/>
              </a:solidFill>
              <a:latin typeface="Arial"/>
            </a:endParaRPr>
          </a:p>
        </p:txBody>
      </p:sp>
      <p:pic>
        <p:nvPicPr>
          <p:cNvPr id="382" name="" descr=""/>
          <p:cNvPicPr/>
          <p:nvPr/>
        </p:nvPicPr>
        <p:blipFill>
          <a:blip r:embed="rId2"/>
          <a:stretch/>
        </p:blipFill>
        <p:spPr>
          <a:xfrm>
            <a:off x="4654440" y="3730680"/>
            <a:ext cx="3417840" cy="798480"/>
          </a:xfrm>
          <a:prstGeom prst="rect">
            <a:avLst/>
          </a:prstGeom>
          <a:ln w="0">
            <a:noFill/>
          </a:ln>
        </p:spPr>
      </p:pic>
      <p:pic>
        <p:nvPicPr>
          <p:cNvPr id="383" name="" descr=""/>
          <p:cNvPicPr/>
          <p:nvPr/>
        </p:nvPicPr>
        <p:blipFill>
          <a:blip r:embed="rId3"/>
          <a:stretch/>
        </p:blipFill>
        <p:spPr>
          <a:xfrm>
            <a:off x="4657680" y="4519440"/>
            <a:ext cx="3414600" cy="824040"/>
          </a:xfrm>
          <a:prstGeom prst="rect">
            <a:avLst/>
          </a:prstGeom>
          <a:ln w="0">
            <a:noFill/>
          </a:ln>
        </p:spPr>
      </p:pic>
      <p:sp>
        <p:nvSpPr>
          <p:cNvPr id="384" name=""/>
          <p:cNvSpPr/>
          <p:nvPr/>
        </p:nvSpPr>
        <p:spPr>
          <a:xfrm>
            <a:off x="4592520" y="3730680"/>
            <a:ext cx="250920" cy="1566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rot="16200000">
            <a:off x="4191840" y="3886560"/>
            <a:ext cx="790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torque</a:t>
            </a:r>
            <a:endParaRPr b="0" lang="en-US" sz="1200" spc="-1" strike="noStrike">
              <a:solidFill>
                <a:srgbClr val="000000"/>
              </a:solidFill>
              <a:latin typeface="Arial"/>
            </a:endParaRPr>
          </a:p>
        </p:txBody>
      </p:sp>
      <p:sp>
        <p:nvSpPr>
          <p:cNvPr id="386" name=""/>
          <p:cNvSpPr/>
          <p:nvPr/>
        </p:nvSpPr>
        <p:spPr>
          <a:xfrm rot="16200000">
            <a:off x="4203000" y="4658400"/>
            <a:ext cx="790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speed</a:t>
            </a:r>
            <a:endParaRPr b="0" lang="en-US" sz="1200" spc="-1" strike="noStrike">
              <a:solidFill>
                <a:srgbClr val="000000"/>
              </a:solidFill>
              <a:latin typeface="Arial"/>
            </a:endParaRPr>
          </a:p>
        </p:txBody>
      </p:sp>
      <p:sp>
        <p:nvSpPr>
          <p:cNvPr id="387" name=""/>
          <p:cNvSpPr/>
          <p:nvPr/>
        </p:nvSpPr>
        <p:spPr>
          <a:xfrm>
            <a:off x="5857920" y="5245200"/>
            <a:ext cx="1144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a:t>
            </a:r>
            <a:endParaRPr b="0" lang="en-US" sz="1200" spc="-1" strike="noStrike">
              <a:solidFill>
                <a:srgbClr val="000000"/>
              </a:solidFill>
              <a:latin typeface="Arial"/>
            </a:endParaRPr>
          </a:p>
        </p:txBody>
      </p:sp>
      <p:sp>
        <p:nvSpPr>
          <p:cNvPr id="388" name=""/>
          <p:cNvSpPr/>
          <p:nvPr/>
        </p:nvSpPr>
        <p:spPr>
          <a:xfrm>
            <a:off x="4094280" y="3573360"/>
            <a:ext cx="0" cy="18622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924280" y="5445000"/>
            <a:ext cx="234000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el consumption</a:t>
            </a:r>
            <a:endParaRPr b="0" lang="en-US" sz="1600" spc="-1" strike="noStrike">
              <a:solidFill>
                <a:srgbClr val="000000"/>
              </a:solidFill>
              <a:latin typeface="Arial"/>
            </a:endParaRPr>
          </a:p>
        </p:txBody>
      </p:sp>
      <p:sp>
        <p:nvSpPr>
          <p:cNvPr id="390" name=""/>
          <p:cNvSpPr/>
          <p:nvPr/>
        </p:nvSpPr>
        <p:spPr>
          <a:xfrm>
            <a:off x="3157560" y="6107040"/>
            <a:ext cx="18730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el efficiency</a:t>
            </a:r>
            <a:endParaRPr b="0" lang="en-US" sz="1600" spc="-1" strike="noStrike">
              <a:solidFill>
                <a:srgbClr val="000000"/>
              </a:solidFill>
              <a:latin typeface="Arial"/>
            </a:endParaRPr>
          </a:p>
        </p:txBody>
      </p:sp>
      <p:sp>
        <p:nvSpPr>
          <p:cNvPr id="391" name=""/>
          <p:cNvSpPr/>
          <p:nvPr/>
        </p:nvSpPr>
        <p:spPr>
          <a:xfrm>
            <a:off x="2690640" y="4433760"/>
            <a:ext cx="1746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ing</a:t>
            </a:r>
            <a:endParaRPr b="0" lang="en-US" sz="1600" spc="-1" strike="noStrike">
              <a:solidFill>
                <a:srgbClr val="000000"/>
              </a:solidFill>
              <a:latin typeface="Arial"/>
            </a:endParaRPr>
          </a:p>
        </p:txBody>
      </p:sp>
      <p:sp>
        <p:nvSpPr>
          <p:cNvPr id="392" name=""/>
          <p:cNvSpPr/>
          <p:nvPr/>
        </p:nvSpPr>
        <p:spPr>
          <a:xfrm>
            <a:off x="5218200" y="5540400"/>
            <a:ext cx="546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393" name="" descr=""/>
          <p:cNvPicPr/>
          <p:nvPr/>
        </p:nvPicPr>
        <p:blipFill>
          <a:blip r:embed="rId4"/>
          <a:stretch/>
        </p:blipFill>
        <p:spPr>
          <a:xfrm>
            <a:off x="5421240" y="5473800"/>
            <a:ext cx="900360" cy="552240"/>
          </a:xfrm>
          <a:prstGeom prst="rect">
            <a:avLst/>
          </a:prstGeom>
          <a:ln w="0">
            <a:noFill/>
          </a:ln>
        </p:spPr>
      </p:pic>
      <p:sp>
        <p:nvSpPr>
          <p:cNvPr id="394" name=""/>
          <p:cNvSpPr/>
          <p:nvPr/>
        </p:nvSpPr>
        <p:spPr>
          <a:xfrm>
            <a:off x="8289000" y="915840"/>
            <a:ext cx="140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se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version</a:t>
            </a:r>
            <a:endParaRPr b="0" lang="en-US" sz="1800" spc="-1" strike="noStrike">
              <a:solidFill>
                <a:srgbClr val="000000"/>
              </a:solidFill>
              <a:latin typeface="Arial"/>
            </a:endParaRPr>
          </a:p>
        </p:txBody>
      </p:sp>
      <p:sp>
        <p:nvSpPr>
          <p:cNvPr id="395" name=""/>
          <p:cNvSpPr/>
          <p:nvPr/>
        </p:nvSpPr>
        <p:spPr>
          <a:xfrm>
            <a:off x="8229600" y="1652760"/>
            <a:ext cx="163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peed vs. time</a:t>
            </a:r>
            <a:endParaRPr b="0" lang="en-US" sz="1400" spc="-1" strike="noStrike">
              <a:solidFill>
                <a:srgbClr val="000000"/>
              </a:solidFill>
              <a:latin typeface="Arial"/>
            </a:endParaRPr>
          </a:p>
        </p:txBody>
      </p:sp>
      <p:sp>
        <p:nvSpPr>
          <p:cNvPr id="396" name=""/>
          <p:cNvSpPr/>
          <p:nvPr/>
        </p:nvSpPr>
        <p:spPr>
          <a:xfrm>
            <a:off x="8951760" y="1989000"/>
            <a:ext cx="0" cy="360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8218440" y="2349360"/>
            <a:ext cx="1893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ngine speed / torque vs. time</a:t>
            </a:r>
            <a:endParaRPr b="0" lang="en-US" sz="1400" spc="-1" strike="noStrike">
              <a:solidFill>
                <a:srgbClr val="000000"/>
              </a:solidFill>
              <a:latin typeface="Arial"/>
            </a:endParaRPr>
          </a:p>
        </p:txBody>
      </p:sp>
      <p:sp>
        <p:nvSpPr>
          <p:cNvPr id="398" name=""/>
          <p:cNvSpPr/>
          <p:nvPr/>
        </p:nvSpPr>
        <p:spPr>
          <a:xfrm>
            <a:off x="8238960" y="942840"/>
            <a:ext cx="30240" cy="500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269200" y="3573360"/>
            <a:ext cx="163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se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lcu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f fu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fficiency</a:t>
            </a:r>
            <a:endParaRPr b="0" lang="en-US" sz="1800" spc="-1" strike="noStrike">
              <a:solidFill>
                <a:srgbClr val="000000"/>
              </a:solidFill>
              <a:latin typeface="Arial"/>
            </a:endParaRPr>
          </a:p>
        </p:txBody>
      </p:sp>
      <p:sp>
        <p:nvSpPr>
          <p:cNvPr id="400" name=""/>
          <p:cNvSpPr/>
          <p:nvPr/>
        </p:nvSpPr>
        <p:spPr>
          <a:xfrm>
            <a:off x="6826320" y="6308640"/>
            <a:ext cx="3984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apan Automobile Research Institu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rvey Report on Evaluation Metho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or Heavy Vehicles, March 2003</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800760" y="3137040"/>
            <a:ext cx="38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800760" y="1563840"/>
            <a:ext cx="38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084640" y="3137040"/>
            <a:ext cx="5256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084640" y="1582560"/>
            <a:ext cx="5256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081240" y="1582560"/>
            <a:ext cx="8334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357000" y="3156120"/>
            <a:ext cx="564840" cy="9360"/>
          </a:xfrm>
          <a:prstGeom prst="line">
            <a:avLst/>
          </a:prstGeom>
          <a:ln w="19080">
            <a:solidFill>
              <a:srgbClr val="000000"/>
            </a:solidFill>
            <a:miter/>
            <a:tailEnd len="lg" type="triangle" w="lg"/>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PlaceHolder 1"/>
          <p:cNvSpPr>
            <a:spLocks noGrp="1"/>
          </p:cNvSpPr>
          <p:nvPr>
            <p:ph type="title"/>
          </p:nvPr>
        </p:nvSpPr>
        <p:spPr>
          <a:xfrm>
            <a:off x="272880" y="-171720"/>
            <a:ext cx="881568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Simulation Method Flowchart and Equation</a:t>
            </a:r>
            <a:endParaRPr b="0" lang="en-US" sz="2800" spc="-1" strike="noStrike">
              <a:solidFill>
                <a:srgbClr val="4087c8"/>
              </a:solidFill>
              <a:latin typeface="HGP創英角ｺﾞｼｯｸUB"/>
            </a:endParaRPr>
          </a:p>
        </p:txBody>
      </p:sp>
      <p:sp>
        <p:nvSpPr>
          <p:cNvPr id="408" name=""/>
          <p:cNvSpPr/>
          <p:nvPr/>
        </p:nvSpPr>
        <p:spPr>
          <a:xfrm>
            <a:off x="662040" y="1279440"/>
            <a:ext cx="245412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Urban Driving Mo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05 mode</a:t>
            </a:r>
            <a:endParaRPr b="0" lang="en-US" sz="1600" spc="-1" strike="noStrike">
              <a:solidFill>
                <a:srgbClr val="000000"/>
              </a:solidFill>
              <a:latin typeface="Arial"/>
            </a:endParaRPr>
          </a:p>
        </p:txBody>
      </p:sp>
      <p:sp>
        <p:nvSpPr>
          <p:cNvPr id="409" name=""/>
          <p:cNvSpPr/>
          <p:nvPr/>
        </p:nvSpPr>
        <p:spPr>
          <a:xfrm>
            <a:off x="3900600" y="1212840"/>
            <a:ext cx="126036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a:t>
            </a:r>
            <a:endParaRPr b="0" lang="en-US" sz="1400" spc="-1" strike="noStrike">
              <a:solidFill>
                <a:srgbClr val="000000"/>
              </a:solidFill>
              <a:latin typeface="Arial"/>
            </a:endParaRPr>
          </a:p>
        </p:txBody>
      </p:sp>
      <p:sp>
        <p:nvSpPr>
          <p:cNvPr id="410" name=""/>
          <p:cNvSpPr/>
          <p:nvPr/>
        </p:nvSpPr>
        <p:spPr>
          <a:xfrm>
            <a:off x="5610240" y="1260360"/>
            <a:ext cx="1268280" cy="64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Times New Roman"/>
              </a:rPr>
              <a:t>E</a:t>
            </a:r>
            <a:r>
              <a:rPr b="1" i="1" lang="ja-JP" sz="1800" spc="-1" strike="noStrike" baseline="-25000">
                <a:solidFill>
                  <a:srgbClr val="000000"/>
                </a:solidFill>
                <a:latin typeface="Times New Roman"/>
              </a:rPr>
              <a:t>u</a:t>
            </a:r>
            <a:r>
              <a:rPr b="1" lang="ja-JP" sz="1800" spc="-1" strike="noStrike">
                <a:solidFill>
                  <a:srgbClr val="000000"/>
                </a:solidFill>
                <a:latin typeface="Arial"/>
              </a:rPr>
              <a:t>:</a:t>
            </a:r>
            <a:r>
              <a:rPr b="1" lang="ja-JP" sz="1600" spc="-1" strike="noStrike">
                <a:solidFill>
                  <a:srgbClr val="000000"/>
                </a:solidFill>
                <a:latin typeface="Arial"/>
              </a:rPr>
              <a:t> Fu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Efficiency</a:t>
            </a:r>
            <a:endParaRPr b="0" lang="en-US" sz="1600" spc="-1" strike="noStrike">
              <a:solidFill>
                <a:srgbClr val="000000"/>
              </a:solidFill>
              <a:latin typeface="Arial"/>
            </a:endParaRPr>
          </a:p>
        </p:txBody>
      </p:sp>
      <p:sp>
        <p:nvSpPr>
          <p:cNvPr id="411" name=""/>
          <p:cNvSpPr/>
          <p:nvPr/>
        </p:nvSpPr>
        <p:spPr>
          <a:xfrm>
            <a:off x="681120" y="2738520"/>
            <a:ext cx="29638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terurban Driving Mo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km/h constant speed mode with gradient</a:t>
            </a:r>
            <a:endParaRPr b="0" lang="en-US" sz="1600" spc="-1" strike="noStrike">
              <a:solidFill>
                <a:srgbClr val="000000"/>
              </a:solidFill>
              <a:latin typeface="Arial"/>
            </a:endParaRPr>
          </a:p>
        </p:txBody>
      </p:sp>
      <p:sp>
        <p:nvSpPr>
          <p:cNvPr id="412" name=""/>
          <p:cNvSpPr/>
          <p:nvPr/>
        </p:nvSpPr>
        <p:spPr>
          <a:xfrm flipV="1">
            <a:off x="7189920" y="1563840"/>
            <a:ext cx="0" cy="158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189920" y="2359080"/>
            <a:ext cx="5252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08840" y="2185920"/>
            <a:ext cx="1395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ined</a:t>
            </a:r>
            <a:endParaRPr b="0" lang="en-US" sz="1400" spc="-1" strike="noStrike">
              <a:solidFill>
                <a:srgbClr val="000000"/>
              </a:solidFill>
              <a:latin typeface="Arial"/>
            </a:endParaRPr>
          </a:p>
        </p:txBody>
      </p:sp>
      <p:sp>
        <p:nvSpPr>
          <p:cNvPr id="415" name=""/>
          <p:cNvSpPr/>
          <p:nvPr/>
        </p:nvSpPr>
        <p:spPr>
          <a:xfrm>
            <a:off x="3902040" y="2757600"/>
            <a:ext cx="126036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a:t>
            </a:r>
            <a:endParaRPr b="0" lang="en-US" sz="1400" spc="-1" strike="noStrike">
              <a:solidFill>
                <a:srgbClr val="000000"/>
              </a:solidFill>
              <a:latin typeface="Arial"/>
            </a:endParaRPr>
          </a:p>
        </p:txBody>
      </p:sp>
      <p:sp>
        <p:nvSpPr>
          <p:cNvPr id="416" name=""/>
          <p:cNvSpPr/>
          <p:nvPr/>
        </p:nvSpPr>
        <p:spPr>
          <a:xfrm>
            <a:off x="5610240" y="2825640"/>
            <a:ext cx="1268280" cy="64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a:t>
            </a:r>
            <a:r>
              <a:rPr b="1" i="1" lang="en-US" sz="1800" spc="-1" strike="noStrike" baseline="-25000">
                <a:solidFill>
                  <a:srgbClr val="000000"/>
                </a:solidFill>
                <a:latin typeface="Times New Roman"/>
              </a:rPr>
              <a:t>h</a:t>
            </a:r>
            <a:r>
              <a:rPr b="1" lang="en-US" sz="1800" spc="-1" strike="noStrike">
                <a:solidFill>
                  <a:srgbClr val="000000"/>
                </a:solidFill>
                <a:latin typeface="Arial"/>
              </a:rPr>
              <a:t>:</a:t>
            </a:r>
            <a:r>
              <a:rPr b="1" lang="en-US" sz="1600" spc="-1" strike="noStrike">
                <a:solidFill>
                  <a:srgbClr val="000000"/>
                </a:solidFill>
                <a:latin typeface="Arial"/>
              </a:rPr>
              <a:t> Fu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iciency</a:t>
            </a:r>
            <a:endParaRPr b="0" lang="en-US" sz="1600" spc="-1" strike="noStrike">
              <a:solidFill>
                <a:srgbClr val="000000"/>
              </a:solidFill>
              <a:latin typeface="Arial"/>
            </a:endParaRPr>
          </a:p>
        </p:txBody>
      </p:sp>
      <p:sp>
        <p:nvSpPr>
          <p:cNvPr id="417" name=""/>
          <p:cNvSpPr/>
          <p:nvPr/>
        </p:nvSpPr>
        <p:spPr>
          <a:xfrm>
            <a:off x="7726320" y="2050920"/>
            <a:ext cx="1270080" cy="61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a:t>
            </a:r>
            <a:r>
              <a:rPr b="1" lang="en-US" sz="1800" spc="-1" strike="noStrike">
                <a:solidFill>
                  <a:srgbClr val="000000"/>
                </a:solidFill>
                <a:latin typeface="Arial"/>
              </a:rPr>
              <a:t>:</a:t>
            </a:r>
            <a:r>
              <a:rPr b="1" lang="en-US" sz="1600" spc="-1" strike="noStrike">
                <a:solidFill>
                  <a:srgbClr val="000000"/>
                </a:solidFill>
                <a:latin typeface="Arial"/>
              </a:rPr>
              <a:t> Fu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iciency</a:t>
            </a:r>
            <a:endParaRPr b="0" lang="en-US" sz="1600" spc="-1" strike="noStrike">
              <a:solidFill>
                <a:srgbClr val="000000"/>
              </a:solidFill>
              <a:latin typeface="Arial"/>
            </a:endParaRPr>
          </a:p>
        </p:txBody>
      </p:sp>
      <p:sp>
        <p:nvSpPr>
          <p:cNvPr id="418" name=""/>
          <p:cNvSpPr/>
          <p:nvPr/>
        </p:nvSpPr>
        <p:spPr>
          <a:xfrm>
            <a:off x="662040" y="4076640"/>
            <a:ext cx="411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E=1 / (</a:t>
            </a:r>
            <a:r>
              <a:rPr b="1" i="1" lang="ja-JP" sz="2400" spc="-1" strike="noStrike">
                <a:solidFill>
                  <a:srgbClr val="000000"/>
                </a:solidFill>
                <a:latin typeface="Symbol"/>
                <a:ea typeface="Symbol"/>
              </a:rPr>
              <a:t></a:t>
            </a:r>
            <a:r>
              <a:rPr b="1" i="1" lang="ja-JP" sz="2400" spc="-1" strike="noStrike" baseline="-25000">
                <a:solidFill>
                  <a:srgbClr val="000000"/>
                </a:solidFill>
                <a:latin typeface="Times New Roman"/>
              </a:rPr>
              <a:t>u</a:t>
            </a:r>
            <a:r>
              <a:rPr b="1" i="1" lang="ja-JP" sz="2400" spc="-1" strike="noStrike">
                <a:solidFill>
                  <a:srgbClr val="000000"/>
                </a:solidFill>
                <a:latin typeface="Times New Roman"/>
              </a:rPr>
              <a:t> / E</a:t>
            </a:r>
            <a:r>
              <a:rPr b="1" i="1" lang="ja-JP" sz="2400" spc="-1" strike="noStrike" baseline="-25000">
                <a:solidFill>
                  <a:srgbClr val="000000"/>
                </a:solidFill>
                <a:latin typeface="Times New Roman"/>
              </a:rPr>
              <a:t>u</a:t>
            </a:r>
            <a:r>
              <a:rPr b="1" i="1" lang="ja-JP" sz="2400" spc="-1" strike="noStrike">
                <a:solidFill>
                  <a:srgbClr val="000000"/>
                </a:solidFill>
                <a:latin typeface="Times New Roman"/>
              </a:rPr>
              <a:t> + </a:t>
            </a:r>
            <a:r>
              <a:rPr b="1" i="1" lang="ja-JP" sz="2400" spc="-1" strike="noStrike">
                <a:solidFill>
                  <a:srgbClr val="000000"/>
                </a:solidFill>
                <a:latin typeface="Symbol"/>
                <a:ea typeface="Symbol"/>
              </a:rPr>
              <a:t></a:t>
            </a:r>
            <a:r>
              <a:rPr b="1" i="1" lang="ja-JP" sz="2400" spc="-1" strike="noStrike" baseline="-25000">
                <a:solidFill>
                  <a:srgbClr val="000000"/>
                </a:solidFill>
                <a:latin typeface="Times New Roman"/>
              </a:rPr>
              <a:t>h</a:t>
            </a:r>
            <a:r>
              <a:rPr b="1" i="1" lang="ja-JP" sz="2400" spc="-1" strike="noStrike">
                <a:solidFill>
                  <a:srgbClr val="000000"/>
                </a:solidFill>
                <a:latin typeface="Times New Roman"/>
              </a:rPr>
              <a:t> / E</a:t>
            </a:r>
            <a:r>
              <a:rPr b="1" i="1" lang="ja-JP" sz="2400" spc="-1" strike="noStrike" baseline="-25000">
                <a:solidFill>
                  <a:srgbClr val="000000"/>
                </a:solidFill>
                <a:latin typeface="Times New Roman"/>
              </a:rPr>
              <a:t>h</a:t>
            </a:r>
            <a:r>
              <a:rPr b="1" i="1" lang="ja-JP" sz="2400" spc="-1" strike="noStrike">
                <a:solidFill>
                  <a:srgbClr val="000000"/>
                </a:solidFill>
                <a:latin typeface="Times New Roman"/>
              </a:rPr>
              <a:t>)</a:t>
            </a:r>
            <a:endParaRPr b="0" lang="en-US" sz="2400" spc="-1" strike="noStrike">
              <a:solidFill>
                <a:srgbClr val="000000"/>
              </a:solidFill>
              <a:latin typeface="Arial"/>
            </a:endParaRPr>
          </a:p>
        </p:txBody>
      </p:sp>
      <p:sp>
        <p:nvSpPr>
          <p:cNvPr id="419" name=""/>
          <p:cNvSpPr/>
          <p:nvPr/>
        </p:nvSpPr>
        <p:spPr>
          <a:xfrm>
            <a:off x="1108080" y="4579920"/>
            <a:ext cx="639612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Times New Roman"/>
              </a:rPr>
              <a:t>E</a:t>
            </a:r>
            <a:r>
              <a:rPr b="1" lang="ja-JP" sz="1800" spc="-1" strike="noStrike">
                <a:solidFill>
                  <a:srgbClr val="000000"/>
                </a:solidFill>
                <a:latin typeface="Arial"/>
              </a:rPr>
              <a:t>:  Heavy vehicle mode fuel efficiency (k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Times New Roman"/>
              </a:rPr>
              <a:t>E</a:t>
            </a:r>
            <a:r>
              <a:rPr b="1" i="1" lang="ja-JP" sz="1800" spc="-1" strike="noStrike" baseline="-25000">
                <a:solidFill>
                  <a:srgbClr val="000000"/>
                </a:solidFill>
                <a:latin typeface="Times New Roman"/>
              </a:rPr>
              <a:t>u</a:t>
            </a:r>
            <a:r>
              <a:rPr b="1" lang="ja-JP" sz="1800" spc="-1" strike="noStrike">
                <a:solidFill>
                  <a:srgbClr val="000000"/>
                </a:solidFill>
                <a:latin typeface="Arial"/>
              </a:rPr>
              <a:t>: Urban driving mode fuel efficiency (k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Times New Roman"/>
              </a:rPr>
              <a:t>E</a:t>
            </a:r>
            <a:r>
              <a:rPr b="1" i="1" lang="ja-JP" sz="1800" spc="-1" strike="noStrike" baseline="-25000">
                <a:solidFill>
                  <a:srgbClr val="000000"/>
                </a:solidFill>
                <a:latin typeface="Times New Roman"/>
              </a:rPr>
              <a:t>h</a:t>
            </a:r>
            <a:r>
              <a:rPr b="1" lang="ja-JP" sz="1800" spc="-1" strike="noStrike">
                <a:solidFill>
                  <a:srgbClr val="000000"/>
                </a:solidFill>
                <a:latin typeface="Arial"/>
              </a:rPr>
              <a:t>: Interurban driving mode fuel efficiency (k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Symbol"/>
                <a:ea typeface="Symbol"/>
              </a:rPr>
              <a:t></a:t>
            </a:r>
            <a:r>
              <a:rPr b="1" i="1" lang="ja-JP" sz="1800" spc="-1" strike="noStrike" baseline="-25000">
                <a:solidFill>
                  <a:srgbClr val="000000"/>
                </a:solidFill>
                <a:latin typeface="Times New Roman"/>
              </a:rPr>
              <a:t>u</a:t>
            </a:r>
            <a:r>
              <a:rPr b="1" lang="ja-JP" sz="1800" spc="-1" strike="noStrike">
                <a:solidFill>
                  <a:srgbClr val="000000"/>
                </a:solidFill>
                <a:latin typeface="Arial"/>
              </a:rPr>
              <a:t>: Proportion of urban driving m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Symbol"/>
                <a:ea typeface="Symbol"/>
              </a:rPr>
              <a:t></a:t>
            </a:r>
            <a:r>
              <a:rPr b="1" i="1" lang="ja-JP" sz="1800" spc="-1" strike="noStrike" baseline="-25000">
                <a:solidFill>
                  <a:srgbClr val="000000"/>
                </a:solidFill>
                <a:latin typeface="Times New Roman"/>
              </a:rPr>
              <a:t>h</a:t>
            </a:r>
            <a:r>
              <a:rPr b="1" lang="ja-JP" sz="1800" spc="-1" strike="noStrike">
                <a:solidFill>
                  <a:srgbClr val="000000"/>
                </a:solidFill>
                <a:latin typeface="Arial"/>
              </a:rPr>
              <a:t>: Proportion of interurban driving mod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71440" y="907920"/>
            <a:ext cx="43689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ja-JP" sz="2400" spc="-1" strike="noStrike">
                <a:solidFill>
                  <a:srgbClr val="000000"/>
                </a:solidFill>
                <a:latin typeface="Arial"/>
                <a:ea typeface="Arial"/>
              </a:rPr>
              <a:t> </a:t>
            </a:r>
            <a:r>
              <a:rPr b="1" lang="en-US" sz="2400" spc="-1" strike="noStrike">
                <a:solidFill>
                  <a:srgbClr val="000000"/>
                </a:solidFill>
                <a:latin typeface="Arial"/>
              </a:rPr>
              <a:t>F</a:t>
            </a:r>
            <a:r>
              <a:rPr b="1" lang="ja-JP" sz="2400" spc="-1" strike="noStrike">
                <a:solidFill>
                  <a:srgbClr val="000000"/>
                </a:solidFill>
                <a:latin typeface="Arial"/>
              </a:rPr>
              <a:t>uel Efficiency </a:t>
            </a:r>
            <a:r>
              <a:rPr b="1" lang="en-US" sz="2400" spc="-1" strike="noStrike">
                <a:solidFill>
                  <a:srgbClr val="000000"/>
                </a:solidFill>
                <a:latin typeface="Arial"/>
              </a:rPr>
              <a:t>Test</a:t>
            </a:r>
            <a:endParaRPr b="0" lang="en-US" sz="2400" spc="-1" strike="noStrike">
              <a:solidFill>
                <a:srgbClr val="000000"/>
              </a:solidFill>
              <a:latin typeface="Arial"/>
            </a:endParaRPr>
          </a:p>
        </p:txBody>
      </p:sp>
      <p:sp>
        <p:nvSpPr>
          <p:cNvPr id="421" name=""/>
          <p:cNvSpPr/>
          <p:nvPr/>
        </p:nvSpPr>
        <p:spPr>
          <a:xfrm>
            <a:off x="895320" y="1268280"/>
            <a:ext cx="7131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000000"/>
                </a:solidFill>
                <a:latin typeface="Arial"/>
              </a:rPr>
              <a:t>desired s</a:t>
            </a:r>
            <a:r>
              <a:rPr b="1" lang="en-US" sz="2000" spc="-1" strike="noStrike">
                <a:solidFill>
                  <a:srgbClr val="000000"/>
                </a:solidFill>
                <a:latin typeface="Arial"/>
              </a:rPr>
              <a:t>imple method</a:t>
            </a:r>
            <a:r>
              <a:rPr b="1" lang="ja-JP" sz="2000" spc="-1" strike="noStrike">
                <a:solidFill>
                  <a:srgbClr val="000000"/>
                </a:solidFill>
                <a:latin typeface="Arial"/>
              </a:rPr>
              <a:t>: Simulation Method</a:t>
            </a:r>
            <a:endParaRPr b="0" lang="en-US" sz="2000" spc="-1" strike="noStrike">
              <a:solidFill>
                <a:srgbClr val="000000"/>
              </a:solidFill>
              <a:latin typeface="Arial"/>
            </a:endParaRPr>
          </a:p>
        </p:txBody>
      </p:sp>
      <p:sp>
        <p:nvSpPr>
          <p:cNvPr id="422" name=""/>
          <p:cNvSpPr/>
          <p:nvPr/>
        </p:nvSpPr>
        <p:spPr>
          <a:xfrm>
            <a:off x="865080" y="2060640"/>
            <a:ext cx="8690040" cy="2440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1800" spc="-1" strike="noStrike">
                <a:solidFill>
                  <a:srgbClr val="000000"/>
                </a:solidFill>
                <a:latin typeface="Arial"/>
              </a:rPr>
              <a:t>desired</a:t>
            </a:r>
            <a:r>
              <a:rPr b="0" lang="ja-JP" sz="1800" spc="-1" strike="noStrike">
                <a:solidFill>
                  <a:srgbClr val="000000"/>
                </a:solidFill>
                <a:latin typeface="Arial"/>
              </a:rPr>
              <a:t> </a:t>
            </a:r>
            <a:r>
              <a:rPr b="1" lang="en-US" sz="2000" spc="-1" strike="noStrike">
                <a:solidFill>
                  <a:srgbClr val="000000"/>
                </a:solidFill>
                <a:latin typeface="Arial"/>
              </a:rPr>
              <a:t>dynamo test with only engine</a:t>
            </a:r>
            <a:r>
              <a:rPr b="1" lang="ja-JP" sz="2000" spc="-1" strike="noStrike">
                <a:solidFill>
                  <a:srgbClr val="000000"/>
                </a:solidFill>
                <a:latin typeface="Arial"/>
              </a:rPr>
              <a:t>:</a:t>
            </a:r>
            <a:r>
              <a:rPr b="1" lang="en-US" sz="2000" spc="-1" strike="noStrike">
                <a:solidFill>
                  <a:srgbClr val="000000"/>
                </a:solidFill>
                <a:latin typeface="Arial"/>
              </a:rPr>
              <a:t> without electric system</a:t>
            </a:r>
            <a:endParaRPr b="0" lang="en-US" sz="2000" spc="-1" strike="noStrike">
              <a:solidFill>
                <a:srgbClr val="000000"/>
              </a:solidFill>
              <a:latin typeface="Arial"/>
            </a:endParaRPr>
          </a:p>
        </p:txBody>
      </p:sp>
      <p:sp>
        <p:nvSpPr>
          <p:cNvPr id="423" name=""/>
          <p:cNvSpPr/>
          <p:nvPr/>
        </p:nvSpPr>
        <p:spPr>
          <a:xfrm>
            <a:off x="271440" y="1700280"/>
            <a:ext cx="363528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Arial"/>
              </a:rPr>
              <a:t>• </a:t>
            </a:r>
            <a:r>
              <a:rPr b="1" lang="ja-JP" sz="2400" spc="-1" strike="noStrike">
                <a:solidFill>
                  <a:srgbClr val="000000"/>
                </a:solidFill>
                <a:latin typeface="Arial"/>
              </a:rPr>
              <a:t>E</a:t>
            </a:r>
            <a:r>
              <a:rPr b="1" lang="en-US" sz="2400" spc="-1" strike="noStrike">
                <a:solidFill>
                  <a:srgbClr val="000000"/>
                </a:solidFill>
                <a:latin typeface="Arial"/>
              </a:rPr>
              <a:t>mission Test</a:t>
            </a:r>
            <a:endParaRPr b="0" lang="en-US" sz="2400" spc="-1" strike="noStrike">
              <a:solidFill>
                <a:srgbClr val="000000"/>
              </a:solidFill>
              <a:latin typeface="Arial"/>
            </a:endParaRPr>
          </a:p>
        </p:txBody>
      </p:sp>
      <p:sp>
        <p:nvSpPr>
          <p:cNvPr id="424" name=""/>
          <p:cNvSpPr/>
          <p:nvPr/>
        </p:nvSpPr>
        <p:spPr>
          <a:xfrm>
            <a:off x="1130400" y="3213000"/>
            <a:ext cx="5576760" cy="853920"/>
          </a:xfrm>
          <a:prstGeom prst="rect">
            <a:avLst/>
          </a:prstGeom>
          <a:noFill/>
          <a:ln w="0">
            <a:noFill/>
          </a:ln>
        </p:spPr>
        <p:style>
          <a:lnRef idx="0"/>
          <a:fillRef idx="0"/>
          <a:effectRef idx="0"/>
          <a:fontRef idx="minor"/>
        </p:style>
        <p:txBody>
          <a:bodyPr lIns="0" rIns="0" tIns="0" bIns="0" anchor="t">
            <a:spAutoFit/>
          </a:bodyPr>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rial"/>
              </a:rPr>
              <a:t> </a:t>
            </a:r>
            <a:r>
              <a:rPr b="1" lang="ja-JP" sz="1800" spc="-1" strike="noStrike">
                <a:solidFill>
                  <a:srgbClr val="000000"/>
                </a:solidFill>
                <a:latin typeface="Arial"/>
              </a:rPr>
              <a:t>Structurally-complex</a:t>
            </a:r>
            <a:r>
              <a:rPr b="0" lang="ja-JP" sz="1800" spc="-1" strike="noStrike">
                <a:solidFill>
                  <a:srgbClr val="000000"/>
                </a:solidFill>
                <a:latin typeface="Arial"/>
              </a:rPr>
              <a:t> </a:t>
            </a:r>
            <a:r>
              <a:rPr b="1" lang="en-US" sz="2000" spc="-1" strike="noStrike">
                <a:solidFill>
                  <a:srgbClr val="000000"/>
                </a:solidFill>
                <a:latin typeface="Arial"/>
              </a:rPr>
              <a:t>system</a:t>
            </a:r>
            <a:endParaRPr b="0" lang="en-US" sz="2000" spc="-1" strike="noStrike">
              <a:solidFill>
                <a:srgbClr val="000000"/>
              </a:solidFill>
              <a:latin typeface="Arial"/>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1" lang="ja-JP" sz="1800" spc="-1" strike="noStrike">
                <a:solidFill>
                  <a:srgbClr val="000000"/>
                </a:solidFill>
                <a:latin typeface="Arial"/>
              </a:rPr>
              <a:t>N</a:t>
            </a:r>
            <a:r>
              <a:rPr b="1" lang="en-US" sz="1800" spc="-1" strike="noStrike">
                <a:solidFill>
                  <a:srgbClr val="000000"/>
                </a:solidFill>
                <a:latin typeface="Arial"/>
              </a:rPr>
              <a:t>eed multiple E/D</a:t>
            </a:r>
            <a:r>
              <a:rPr b="1" lang="ja-JP" sz="1800" spc="-1" strike="noStrike">
                <a:solidFill>
                  <a:srgbClr val="000000"/>
                </a:solidFill>
                <a:latin typeface="Arial"/>
              </a:rPr>
              <a:t> for 4</a:t>
            </a:r>
            <a:r>
              <a:rPr b="1" lang="en-US" sz="1800" spc="-1" strike="noStrike">
                <a:solidFill>
                  <a:srgbClr val="000000"/>
                </a:solidFill>
                <a:latin typeface="Arial"/>
              </a:rPr>
              <a:t>-wheel drive vehi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351000" y="2844720"/>
            <a:ext cx="585144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r>
              <a:rPr b="1" lang="ja-JP" sz="2400" spc="-1" strike="noStrike">
                <a:solidFill>
                  <a:srgbClr val="000000"/>
                </a:solidFill>
                <a:latin typeface="Arial"/>
                <a:ea typeface="Arial"/>
              </a:rPr>
              <a:t> </a:t>
            </a:r>
            <a:r>
              <a:rPr b="1" lang="en-US" sz="2400" spc="-1" strike="noStrike">
                <a:solidFill>
                  <a:srgbClr val="000000"/>
                </a:solidFill>
                <a:latin typeface="Arial"/>
              </a:rPr>
              <a:t>System Bench Method</a:t>
            </a:r>
            <a:r>
              <a:rPr b="1" lang="ja-JP" sz="2400" spc="-1" strike="noStrike">
                <a:solidFill>
                  <a:srgbClr val="000000"/>
                </a:solidFill>
                <a:latin typeface="Arial"/>
              </a:rPr>
              <a:t> for HEV</a:t>
            </a:r>
            <a:endParaRPr b="0" lang="en-US" sz="2400" spc="-1" strike="noStrike">
              <a:solidFill>
                <a:srgbClr val="000000"/>
              </a:solidFill>
              <a:latin typeface="Arial"/>
            </a:endParaRPr>
          </a:p>
        </p:txBody>
      </p:sp>
      <p:sp>
        <p:nvSpPr>
          <p:cNvPr id="426" name=""/>
          <p:cNvSpPr/>
          <p:nvPr/>
        </p:nvSpPr>
        <p:spPr>
          <a:xfrm>
            <a:off x="351000" y="5086440"/>
            <a:ext cx="8813520" cy="8535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HGP創英角ｺﾞｼｯｸUB"/>
                <a:ea typeface="HGP創英角ｺﾞｼｯｸUB"/>
              </a:rPr>
              <a:t>Hardware-In-the-Loop Simulator (HILS)</a:t>
            </a:r>
            <a:r>
              <a:rPr b="1" lang="en-US" sz="2800" spc="-1" strike="noStrike">
                <a:solidFill>
                  <a:srgbClr val="ff0000"/>
                </a:solidFill>
                <a:latin typeface="HGP創英角ｺﾞｼｯｸUB"/>
                <a:ea typeface="HGP創英角ｺﾞｼｯｸUB"/>
              </a:rPr>
              <a:t> Test Method</a:t>
            </a:r>
            <a:r>
              <a:rPr b="1" lang="ja-JP" sz="2800" spc="-1" strike="noStrike">
                <a:solidFill>
                  <a:srgbClr val="ff0000"/>
                </a:solidFill>
                <a:latin typeface="HGP創英角ｺﾞｼｯｸUB"/>
                <a:ea typeface="HGP創英角ｺﾞｼｯｸUB"/>
              </a:rPr>
              <a:t> was developed</a:t>
            </a:r>
            <a:endParaRPr b="0" lang="en-US" sz="2800" spc="-1" strike="noStrike">
              <a:solidFill>
                <a:srgbClr val="000000"/>
              </a:solidFill>
              <a:latin typeface="Arial"/>
            </a:endParaRPr>
          </a:p>
        </p:txBody>
      </p:sp>
      <p:sp>
        <p:nvSpPr>
          <p:cNvPr id="427" name=""/>
          <p:cNvSpPr/>
          <p:nvPr/>
        </p:nvSpPr>
        <p:spPr>
          <a:xfrm>
            <a:off x="3549600" y="4221000"/>
            <a:ext cx="1013040" cy="630360"/>
          </a:xfrm>
          <a:prstGeom prst="downArrow">
            <a:avLst>
              <a:gd name="adj1" fmla="val 50000"/>
              <a:gd name="adj2" fmla="val 25000"/>
            </a:avLst>
          </a:prstGeom>
          <a:solidFill>
            <a:srgbClr val="ffcc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28" name="PlaceHolder 1"/>
          <p:cNvSpPr>
            <a:spLocks noGrp="1"/>
          </p:cNvSpPr>
          <p:nvPr>
            <p:ph type="title"/>
          </p:nvPr>
        </p:nvSpPr>
        <p:spPr>
          <a:xfrm>
            <a:off x="272520" y="-360"/>
            <a:ext cx="87044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HILS Test Method</a:t>
            </a:r>
            <a:endParaRPr b="0" lang="en-US" sz="2800" spc="-1" strike="noStrike">
              <a:solidFill>
                <a:srgbClr val="4087c8"/>
              </a:solidFill>
              <a:latin typeface="HGP創英角ｺﾞｼｯｸUB"/>
            </a:endParaRPr>
          </a:p>
        </p:txBody>
      </p:sp>
      <p:grpSp>
        <p:nvGrpSpPr>
          <p:cNvPr id="429" name=""/>
          <p:cNvGrpSpPr/>
          <p:nvPr/>
        </p:nvGrpSpPr>
        <p:grpSpPr>
          <a:xfrm>
            <a:off x="6651720" y="2568600"/>
            <a:ext cx="3136320" cy="1708200"/>
            <a:chOff x="6651720" y="2568600"/>
            <a:chExt cx="3136320" cy="1708200"/>
          </a:xfrm>
        </p:grpSpPr>
        <p:sp>
          <p:nvSpPr>
            <p:cNvPr id="430" name=""/>
            <p:cNvSpPr/>
            <p:nvPr/>
          </p:nvSpPr>
          <p:spPr>
            <a:xfrm>
              <a:off x="6651720" y="2568600"/>
              <a:ext cx="3136320" cy="170820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31" name=""/>
            <p:cNvGrpSpPr/>
            <p:nvPr/>
          </p:nvGrpSpPr>
          <p:grpSpPr>
            <a:xfrm>
              <a:off x="6735600" y="2640240"/>
              <a:ext cx="2967120" cy="1483200"/>
              <a:chOff x="6735600" y="2640240"/>
              <a:chExt cx="2967120" cy="1483200"/>
            </a:xfrm>
          </p:grpSpPr>
          <p:sp>
            <p:nvSpPr>
              <p:cNvPr id="432" name=""/>
              <p:cNvSpPr/>
              <p:nvPr/>
            </p:nvSpPr>
            <p:spPr>
              <a:xfrm flipH="1" rot="5400000">
                <a:off x="8744760" y="2929680"/>
                <a:ext cx="88560" cy="109332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3" name=""/>
              <p:cNvSpPr/>
              <p:nvPr/>
            </p:nvSpPr>
            <p:spPr>
              <a:xfrm flipH="1">
                <a:off x="8178840" y="3297240"/>
                <a:ext cx="96120" cy="356760"/>
              </a:xfrm>
              <a:custGeom>
                <a:avLst/>
                <a:gdLst>
                  <a:gd name="textAreaLeft" fmla="*/ 4680 w 96120"/>
                  <a:gd name="textAreaRight" fmla="*/ 91440 w 96120"/>
                  <a:gd name="textAreaTop" fmla="*/ 4680 h 356760"/>
                  <a:gd name="textAreaBottom" fmla="*/ 352080 h 356760"/>
                </a:gdLst>
                <a:ahLst/>
                <a:rect l="textAreaLeft" t="textAreaTop" r="textAreaRight" b="textAreaBottom"/>
                <a:pathLst>
                  <a:path w="21600" h="79952">
                    <a:moveTo>
                      <a:pt x="3600" y="0"/>
                    </a:moveTo>
                    <a:arcTo wR="3600" hR="3600" stAng="16200000" swAng="-5400000"/>
                    <a:lnTo>
                      <a:pt x="0" y="76352"/>
                    </a:lnTo>
                    <a:arcTo wR="3600" hR="3600" stAng="10800000" swAng="-5400000"/>
                    <a:lnTo>
                      <a:pt x="18000" y="79952"/>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4" name=""/>
              <p:cNvSpPr/>
              <p:nvPr/>
            </p:nvSpPr>
            <p:spPr>
              <a:xfrm flipH="1">
                <a:off x="8070480" y="3297240"/>
                <a:ext cx="96120" cy="356760"/>
              </a:xfrm>
              <a:custGeom>
                <a:avLst/>
                <a:gdLst>
                  <a:gd name="textAreaLeft" fmla="*/ 4680 w 96120"/>
                  <a:gd name="textAreaRight" fmla="*/ 91440 w 96120"/>
                  <a:gd name="textAreaTop" fmla="*/ 4680 h 356760"/>
                  <a:gd name="textAreaBottom" fmla="*/ 352080 h 356760"/>
                </a:gdLst>
                <a:ahLst/>
                <a:rect l="textAreaLeft" t="textAreaTop" r="textAreaRight" b="textAreaBottom"/>
                <a:pathLst>
                  <a:path w="21600" h="79952">
                    <a:moveTo>
                      <a:pt x="3600" y="0"/>
                    </a:moveTo>
                    <a:arcTo wR="3600" hR="3600" stAng="16200000" swAng="-5400000"/>
                    <a:lnTo>
                      <a:pt x="0" y="76352"/>
                    </a:lnTo>
                    <a:arcTo wR="3600" hR="3600" stAng="10800000" swAng="-5400000"/>
                    <a:lnTo>
                      <a:pt x="18000" y="79952"/>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5" name=""/>
              <p:cNvSpPr/>
              <p:nvPr/>
            </p:nvSpPr>
            <p:spPr>
              <a:xfrm flipH="1" rot="5400000">
                <a:off x="7628040" y="3334680"/>
                <a:ext cx="88560" cy="28332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36" name=""/>
              <p:cNvGrpSpPr/>
              <p:nvPr/>
            </p:nvGrpSpPr>
            <p:grpSpPr>
              <a:xfrm>
                <a:off x="7793640" y="3077640"/>
                <a:ext cx="142200" cy="262080"/>
                <a:chOff x="7793640" y="3077640"/>
                <a:chExt cx="142200" cy="262080"/>
              </a:xfrm>
            </p:grpSpPr>
            <p:sp>
              <p:nvSpPr>
                <p:cNvPr id="437" name=""/>
                <p:cNvSpPr/>
                <p:nvPr/>
              </p:nvSpPr>
              <p:spPr>
                <a:xfrm flipH="1" rot="10800000">
                  <a:off x="7793280" y="3077640"/>
                  <a:ext cx="142200" cy="26172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8" name=""/>
                <p:cNvSpPr/>
                <p:nvPr/>
              </p:nvSpPr>
              <p:spPr>
                <a:xfrm>
                  <a:off x="7863120" y="3078000"/>
                  <a:ext cx="0" cy="26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
              <p:cNvSpPr/>
              <p:nvPr/>
            </p:nvSpPr>
            <p:spPr>
              <a:xfrm flipH="1">
                <a:off x="8906040" y="3154320"/>
                <a:ext cx="768600" cy="642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0" name=""/>
              <p:cNvSpPr/>
              <p:nvPr/>
            </p:nvSpPr>
            <p:spPr>
              <a:xfrm flipH="1">
                <a:off x="8691120" y="3371760"/>
                <a:ext cx="91080" cy="209160"/>
              </a:xfrm>
              <a:custGeom>
                <a:avLst/>
                <a:gdLst>
                  <a:gd name="textAreaLeft" fmla="*/ 4320 w 91080"/>
                  <a:gd name="textAreaRight" fmla="*/ 86760 w 91080"/>
                  <a:gd name="textAreaTop" fmla="*/ 4320 h 209160"/>
                  <a:gd name="textAreaBottom" fmla="*/ 204840 h 209160"/>
                </a:gdLst>
                <a:ahLst/>
                <a:rect l="textAreaLeft" t="textAreaTop" r="textAreaRight" b="textAreaBottom"/>
                <a:pathLst>
                  <a:path w="21600" h="49493">
                    <a:moveTo>
                      <a:pt x="3600" y="0"/>
                    </a:moveTo>
                    <a:arcTo wR="3600" hR="3600" stAng="16200000" swAng="-5400000"/>
                    <a:lnTo>
                      <a:pt x="0" y="45893"/>
                    </a:lnTo>
                    <a:arcTo wR="3600" hR="3600" stAng="10800000" swAng="-5400000"/>
                    <a:lnTo>
                      <a:pt x="18000" y="49493"/>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1" name=""/>
              <p:cNvSpPr/>
              <p:nvPr/>
            </p:nvSpPr>
            <p:spPr>
              <a:xfrm flipH="1">
                <a:off x="8371440" y="3371760"/>
                <a:ext cx="91080" cy="209160"/>
              </a:xfrm>
              <a:custGeom>
                <a:avLst/>
                <a:gdLst>
                  <a:gd name="textAreaLeft" fmla="*/ 4320 w 91080"/>
                  <a:gd name="textAreaRight" fmla="*/ 86760 w 91080"/>
                  <a:gd name="textAreaTop" fmla="*/ 4320 h 209160"/>
                  <a:gd name="textAreaBottom" fmla="*/ 204840 h 209160"/>
                </a:gdLst>
                <a:ahLst/>
                <a:rect l="textAreaLeft" t="textAreaTop" r="textAreaRight" b="textAreaBottom"/>
                <a:pathLst>
                  <a:path w="21600" h="49493">
                    <a:moveTo>
                      <a:pt x="3600" y="0"/>
                    </a:moveTo>
                    <a:arcTo wR="3600" hR="3600" stAng="16200000" swAng="-5400000"/>
                    <a:lnTo>
                      <a:pt x="0" y="45893"/>
                    </a:lnTo>
                    <a:arcTo wR="3600" hR="3600" stAng="10800000" swAng="-5400000"/>
                    <a:lnTo>
                      <a:pt x="18000" y="49493"/>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2" name=""/>
              <p:cNvSpPr/>
              <p:nvPr/>
            </p:nvSpPr>
            <p:spPr>
              <a:xfrm flipH="1">
                <a:off x="7657200" y="2730600"/>
                <a:ext cx="78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7660080" y="2728800"/>
                <a:ext cx="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8178120" y="2831760"/>
                <a:ext cx="0" cy="28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174520" y="2833560"/>
                <a:ext cx="303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7654320" y="3267000"/>
                <a:ext cx="412200" cy="4186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7" name=""/>
              <p:cNvSpPr/>
              <p:nvPr/>
            </p:nvSpPr>
            <p:spPr>
              <a:xfrm flipH="1">
                <a:off x="7525440" y="2911320"/>
                <a:ext cx="737640" cy="2617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8" name=""/>
              <p:cNvSpPr/>
              <p:nvPr/>
            </p:nvSpPr>
            <p:spPr>
              <a:xfrm flipH="1">
                <a:off x="8319960" y="2640240"/>
                <a:ext cx="1160280" cy="34272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9" name=""/>
              <p:cNvSpPr/>
              <p:nvPr/>
            </p:nvSpPr>
            <p:spPr>
              <a:xfrm flipH="1">
                <a:off x="8638200" y="2705040"/>
                <a:ext cx="5259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S</a:t>
                </a:r>
                <a:endParaRPr b="0" lang="en-US" sz="1400" spc="-1" strike="noStrike">
                  <a:solidFill>
                    <a:srgbClr val="000000"/>
                  </a:solidFill>
                  <a:latin typeface="Arial"/>
                </a:endParaRPr>
              </a:p>
            </p:txBody>
          </p:sp>
          <p:sp>
            <p:nvSpPr>
              <p:cNvPr id="450" name=""/>
              <p:cNvSpPr/>
              <p:nvPr/>
            </p:nvSpPr>
            <p:spPr>
              <a:xfrm flipH="1">
                <a:off x="7571880" y="2936880"/>
                <a:ext cx="64980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rter</a:t>
                </a:r>
                <a:endParaRPr b="0" lang="en-US" sz="1400" spc="-1" strike="noStrike">
                  <a:solidFill>
                    <a:srgbClr val="000000"/>
                  </a:solidFill>
                  <a:latin typeface="Arial"/>
                </a:endParaRPr>
              </a:p>
            </p:txBody>
          </p:sp>
          <p:sp>
            <p:nvSpPr>
              <p:cNvPr id="451" name=""/>
              <p:cNvSpPr/>
              <p:nvPr/>
            </p:nvSpPr>
            <p:spPr>
              <a:xfrm flipH="1">
                <a:off x="7678800" y="3370320"/>
                <a:ext cx="36252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G</a:t>
                </a:r>
                <a:endParaRPr b="0" lang="en-US" sz="1400" spc="-1" strike="noStrike">
                  <a:solidFill>
                    <a:srgbClr val="000000"/>
                  </a:solidFill>
                  <a:latin typeface="Arial"/>
                </a:endParaRPr>
              </a:p>
            </p:txBody>
          </p:sp>
          <p:sp>
            <p:nvSpPr>
              <p:cNvPr id="452" name=""/>
              <p:cNvSpPr/>
              <p:nvPr/>
            </p:nvSpPr>
            <p:spPr>
              <a:xfrm flipH="1">
                <a:off x="9133920" y="3370320"/>
                <a:ext cx="32112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a:t>
                </a:r>
                <a:endParaRPr b="0" lang="en-US" sz="1400" spc="-1" strike="noStrike">
                  <a:solidFill>
                    <a:srgbClr val="000000"/>
                  </a:solidFill>
                  <a:latin typeface="Arial"/>
                </a:endParaRPr>
              </a:p>
            </p:txBody>
          </p:sp>
          <p:sp>
            <p:nvSpPr>
              <p:cNvPr id="453" name=""/>
              <p:cNvSpPr/>
              <p:nvPr/>
            </p:nvSpPr>
            <p:spPr>
              <a:xfrm flipH="1">
                <a:off x="6735600" y="3909960"/>
                <a:ext cx="296712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of Exhaust Emission</a:t>
                </a:r>
                <a:endParaRPr b="0" lang="en-US" sz="1400" spc="-1" strike="noStrike">
                  <a:solidFill>
                    <a:srgbClr val="000000"/>
                  </a:solidFill>
                  <a:latin typeface="Arial"/>
                </a:endParaRPr>
              </a:p>
            </p:txBody>
          </p:sp>
          <p:sp>
            <p:nvSpPr>
              <p:cNvPr id="454" name=""/>
              <p:cNvSpPr/>
              <p:nvPr/>
            </p:nvSpPr>
            <p:spPr>
              <a:xfrm>
                <a:off x="7124040" y="3606840"/>
                <a:ext cx="568800" cy="277200"/>
              </a:xfrm>
              <a:custGeom>
                <a:avLst/>
                <a:gdLst/>
                <a:ahLst/>
                <a:rect l="l" t="t" r="r" b="b"/>
                <a:pathLst>
                  <a:path w="283" h="121">
                    <a:moveTo>
                      <a:pt x="1" y="0"/>
                    </a:moveTo>
                    <a:cubicBezTo>
                      <a:pt x="0" y="20"/>
                      <a:pt x="0" y="41"/>
                      <a:pt x="4" y="57"/>
                    </a:cubicBezTo>
                    <a:cubicBezTo>
                      <a:pt x="8" y="73"/>
                      <a:pt x="15" y="90"/>
                      <a:pt x="25" y="99"/>
                    </a:cubicBezTo>
                    <a:cubicBezTo>
                      <a:pt x="35" y="108"/>
                      <a:pt x="41" y="111"/>
                      <a:pt x="64" y="114"/>
                    </a:cubicBezTo>
                    <a:cubicBezTo>
                      <a:pt x="87" y="117"/>
                      <a:pt x="130" y="119"/>
                      <a:pt x="166" y="120"/>
                    </a:cubicBezTo>
                    <a:cubicBezTo>
                      <a:pt x="202" y="121"/>
                      <a:pt x="242" y="120"/>
                      <a:pt x="283" y="120"/>
                    </a:cubicBezTo>
                  </a:path>
                </a:pathLst>
              </a:custGeom>
              <a:noFill/>
              <a:ln w="63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5" name=""/>
              <p:cNvSpPr/>
              <p:nvPr/>
            </p:nvSpPr>
            <p:spPr>
              <a:xfrm>
                <a:off x="7746480" y="3882960"/>
                <a:ext cx="303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H="1">
                <a:off x="6773400" y="3301920"/>
                <a:ext cx="763200" cy="347400"/>
              </a:xfrm>
              <a:prstGeom prst="flowChartTerminator">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7" name=""/>
              <p:cNvSpPr/>
              <p:nvPr/>
            </p:nvSpPr>
            <p:spPr>
              <a:xfrm flipH="1">
                <a:off x="6860160" y="3370320"/>
                <a:ext cx="5979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ine</a:t>
                </a:r>
                <a:endParaRPr b="0" lang="en-US" sz="1400" spc="-1" strike="noStrike">
                  <a:solidFill>
                    <a:srgbClr val="000000"/>
                  </a:solidFill>
                  <a:latin typeface="Arial"/>
                </a:endParaRPr>
              </a:p>
            </p:txBody>
          </p:sp>
        </p:grpSp>
      </p:grpSp>
      <p:sp>
        <p:nvSpPr>
          <p:cNvPr id="458" name=""/>
          <p:cNvSpPr/>
          <p:nvPr/>
        </p:nvSpPr>
        <p:spPr>
          <a:xfrm>
            <a:off x="6729480" y="4276800"/>
            <a:ext cx="29700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Bench Method</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14200" y="1197000"/>
            <a:ext cx="3568680" cy="525636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0" name="PlaceHolder 1"/>
          <p:cNvSpPr>
            <a:spLocks noGrp="1"/>
          </p:cNvSpPr>
          <p:nvPr>
            <p:ph type="title"/>
          </p:nvPr>
        </p:nvSpPr>
        <p:spPr>
          <a:xfrm>
            <a:off x="272880" y="-360"/>
            <a:ext cx="928872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HILS Test Method</a:t>
            </a:r>
            <a:endParaRPr b="0" lang="en-US" sz="2800" spc="-1" strike="noStrike">
              <a:solidFill>
                <a:srgbClr val="4087c8"/>
              </a:solidFill>
              <a:latin typeface="HGP創英角ｺﾞｼｯｸUB"/>
            </a:endParaRPr>
          </a:p>
        </p:txBody>
      </p:sp>
      <p:sp>
        <p:nvSpPr>
          <p:cNvPr id="461" name=""/>
          <p:cNvSpPr/>
          <p:nvPr/>
        </p:nvSpPr>
        <p:spPr>
          <a:xfrm>
            <a:off x="193680" y="927000"/>
            <a:ext cx="1639800" cy="432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2" name=""/>
          <p:cNvSpPr/>
          <p:nvPr/>
        </p:nvSpPr>
        <p:spPr>
          <a:xfrm>
            <a:off x="168120" y="1006560"/>
            <a:ext cx="174312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ssis Base</a:t>
            </a:r>
            <a:endParaRPr b="0" lang="en-US" sz="1800" spc="-1" strike="noStrike">
              <a:solidFill>
                <a:srgbClr val="000000"/>
              </a:solidFill>
              <a:latin typeface="Arial"/>
            </a:endParaRPr>
          </a:p>
        </p:txBody>
      </p:sp>
      <p:sp>
        <p:nvSpPr>
          <p:cNvPr id="463" name=""/>
          <p:cNvSpPr/>
          <p:nvPr/>
        </p:nvSpPr>
        <p:spPr>
          <a:xfrm>
            <a:off x="4113360" y="1197000"/>
            <a:ext cx="5519520" cy="525636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64" name=""/>
          <p:cNvGrpSpPr/>
          <p:nvPr/>
        </p:nvGrpSpPr>
        <p:grpSpPr>
          <a:xfrm>
            <a:off x="428760" y="3522600"/>
            <a:ext cx="3045960" cy="1562400"/>
            <a:chOff x="428760" y="3522600"/>
            <a:chExt cx="3045960" cy="1562400"/>
          </a:xfrm>
        </p:grpSpPr>
        <p:sp>
          <p:nvSpPr>
            <p:cNvPr id="465" name=""/>
            <p:cNvSpPr/>
            <p:nvPr/>
          </p:nvSpPr>
          <p:spPr>
            <a:xfrm>
              <a:off x="982080" y="3573360"/>
              <a:ext cx="2284200" cy="11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6" name=""/>
            <p:cNvSpPr/>
            <p:nvPr/>
          </p:nvSpPr>
          <p:spPr>
            <a:xfrm>
              <a:off x="963000" y="4778280"/>
              <a:ext cx="6012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67" name=""/>
            <p:cNvSpPr/>
            <p:nvPr/>
          </p:nvSpPr>
          <p:spPr>
            <a:xfrm>
              <a:off x="1420200" y="4778280"/>
              <a:ext cx="2682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68" name=""/>
            <p:cNvSpPr/>
            <p:nvPr/>
          </p:nvSpPr>
          <p:spPr>
            <a:xfrm>
              <a:off x="1973880" y="4778280"/>
              <a:ext cx="3542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p:txBody>
        </p:sp>
        <p:sp>
          <p:nvSpPr>
            <p:cNvPr id="469" name=""/>
            <p:cNvSpPr/>
            <p:nvPr/>
          </p:nvSpPr>
          <p:spPr>
            <a:xfrm>
              <a:off x="2544840" y="4778280"/>
              <a:ext cx="35784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0</a:t>
              </a:r>
              <a:endParaRPr b="0" lang="en-US" sz="800" spc="-1" strike="noStrike">
                <a:solidFill>
                  <a:srgbClr val="000000"/>
                </a:solidFill>
                <a:latin typeface="Arial"/>
              </a:endParaRPr>
            </a:p>
          </p:txBody>
        </p:sp>
        <p:sp>
          <p:nvSpPr>
            <p:cNvPr id="470" name=""/>
            <p:cNvSpPr/>
            <p:nvPr/>
          </p:nvSpPr>
          <p:spPr>
            <a:xfrm>
              <a:off x="3114000" y="4778280"/>
              <a:ext cx="36072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Arial"/>
              </a:endParaRPr>
            </a:p>
          </p:txBody>
        </p:sp>
        <p:sp>
          <p:nvSpPr>
            <p:cNvPr id="471" name=""/>
            <p:cNvSpPr/>
            <p:nvPr/>
          </p:nvSpPr>
          <p:spPr>
            <a:xfrm>
              <a:off x="860040" y="4710240"/>
              <a:ext cx="5652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72" name=""/>
            <p:cNvSpPr/>
            <p:nvPr/>
          </p:nvSpPr>
          <p:spPr>
            <a:xfrm>
              <a:off x="667440" y="4476600"/>
              <a:ext cx="24876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473" name=""/>
            <p:cNvSpPr/>
            <p:nvPr/>
          </p:nvSpPr>
          <p:spPr>
            <a:xfrm>
              <a:off x="569880" y="4237200"/>
              <a:ext cx="34668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474" name=""/>
            <p:cNvSpPr/>
            <p:nvPr/>
          </p:nvSpPr>
          <p:spPr>
            <a:xfrm>
              <a:off x="569880" y="4005360"/>
              <a:ext cx="34668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475" name=""/>
            <p:cNvSpPr/>
            <p:nvPr/>
          </p:nvSpPr>
          <p:spPr>
            <a:xfrm>
              <a:off x="576360" y="3776760"/>
              <a:ext cx="3402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a:t>
              </a:r>
              <a:endParaRPr b="0" lang="en-US" sz="800" spc="-1" strike="noStrike">
                <a:solidFill>
                  <a:srgbClr val="000000"/>
                </a:solidFill>
                <a:latin typeface="Arial"/>
              </a:endParaRPr>
            </a:p>
          </p:txBody>
        </p:sp>
        <p:sp>
          <p:nvSpPr>
            <p:cNvPr id="476" name=""/>
            <p:cNvSpPr/>
            <p:nvPr/>
          </p:nvSpPr>
          <p:spPr>
            <a:xfrm>
              <a:off x="507600" y="3522600"/>
              <a:ext cx="408600" cy="1220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grpSp>
          <p:nvGrpSpPr>
            <p:cNvPr id="477" name=""/>
            <p:cNvGrpSpPr/>
            <p:nvPr/>
          </p:nvGrpSpPr>
          <p:grpSpPr>
            <a:xfrm>
              <a:off x="1269000" y="4711680"/>
              <a:ext cx="1715400" cy="30240"/>
              <a:chOff x="1269000" y="4711680"/>
              <a:chExt cx="1715400" cy="30240"/>
            </a:xfrm>
          </p:grpSpPr>
          <p:sp>
            <p:nvSpPr>
              <p:cNvPr id="478" name=""/>
              <p:cNvSpPr/>
              <p:nvPr/>
            </p:nvSpPr>
            <p:spPr>
              <a:xfrm>
                <a:off x="1269000" y="4721400"/>
                <a:ext cx="1080" cy="20160"/>
              </a:xfrm>
              <a:prstGeom prst="line">
                <a:avLst/>
              </a:prstGeom>
              <a:ln w="1260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79" name=""/>
              <p:cNvSpPr/>
              <p:nvPr/>
            </p:nvSpPr>
            <p:spPr>
              <a:xfrm>
                <a:off x="1553760" y="4711680"/>
                <a:ext cx="144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0" name=""/>
              <p:cNvSpPr/>
              <p:nvPr/>
            </p:nvSpPr>
            <p:spPr>
              <a:xfrm>
                <a:off x="1840320" y="4721400"/>
                <a:ext cx="1080" cy="20160"/>
              </a:xfrm>
              <a:prstGeom prst="line">
                <a:avLst/>
              </a:prstGeom>
              <a:ln w="1260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81" name=""/>
              <p:cNvSpPr/>
              <p:nvPr/>
            </p:nvSpPr>
            <p:spPr>
              <a:xfrm>
                <a:off x="2125080" y="4711680"/>
                <a:ext cx="144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2" name=""/>
              <p:cNvSpPr/>
              <p:nvPr/>
            </p:nvSpPr>
            <p:spPr>
              <a:xfrm>
                <a:off x="2411640" y="4721400"/>
                <a:ext cx="1440" cy="20160"/>
              </a:xfrm>
              <a:prstGeom prst="line">
                <a:avLst/>
              </a:prstGeom>
              <a:ln w="1260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83" name=""/>
              <p:cNvSpPr/>
              <p:nvPr/>
            </p:nvSpPr>
            <p:spPr>
              <a:xfrm>
                <a:off x="2697840" y="4711680"/>
                <a:ext cx="108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4" name=""/>
              <p:cNvSpPr/>
              <p:nvPr/>
            </p:nvSpPr>
            <p:spPr>
              <a:xfrm>
                <a:off x="2982960" y="4721400"/>
                <a:ext cx="1440" cy="20160"/>
              </a:xfrm>
              <a:prstGeom prst="line">
                <a:avLst/>
              </a:prstGeom>
              <a:ln w="1260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85" name=""/>
            <p:cNvGrpSpPr/>
            <p:nvPr/>
          </p:nvGrpSpPr>
          <p:grpSpPr>
            <a:xfrm>
              <a:off x="983520" y="3691080"/>
              <a:ext cx="43560" cy="933120"/>
              <a:chOff x="983520" y="3691080"/>
              <a:chExt cx="43560" cy="933120"/>
            </a:xfrm>
          </p:grpSpPr>
          <p:sp>
            <p:nvSpPr>
              <p:cNvPr id="486" name=""/>
              <p:cNvSpPr/>
              <p:nvPr/>
            </p:nvSpPr>
            <p:spPr>
              <a:xfrm flipH="1">
                <a:off x="983520" y="4623480"/>
                <a:ext cx="291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7" name=""/>
              <p:cNvSpPr/>
              <p:nvPr/>
            </p:nvSpPr>
            <p:spPr>
              <a:xfrm flipH="1">
                <a:off x="983880" y="4506480"/>
                <a:ext cx="432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8" name=""/>
              <p:cNvSpPr/>
              <p:nvPr/>
            </p:nvSpPr>
            <p:spPr>
              <a:xfrm flipH="1">
                <a:off x="983520" y="4389840"/>
                <a:ext cx="291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9" name=""/>
              <p:cNvSpPr/>
              <p:nvPr/>
            </p:nvSpPr>
            <p:spPr>
              <a:xfrm flipH="1">
                <a:off x="983880" y="4273920"/>
                <a:ext cx="432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0" name=""/>
              <p:cNvSpPr/>
              <p:nvPr/>
            </p:nvSpPr>
            <p:spPr>
              <a:xfrm flipH="1">
                <a:off x="983520" y="4157640"/>
                <a:ext cx="291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1" name=""/>
              <p:cNvSpPr/>
              <p:nvPr/>
            </p:nvSpPr>
            <p:spPr>
              <a:xfrm flipH="1">
                <a:off x="983880" y="4040640"/>
                <a:ext cx="432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2" name=""/>
              <p:cNvSpPr/>
              <p:nvPr/>
            </p:nvSpPr>
            <p:spPr>
              <a:xfrm flipH="1">
                <a:off x="983520" y="3924000"/>
                <a:ext cx="291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3" name=""/>
              <p:cNvSpPr/>
              <p:nvPr/>
            </p:nvSpPr>
            <p:spPr>
              <a:xfrm flipH="1">
                <a:off x="983880" y="3807720"/>
                <a:ext cx="432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4" name=""/>
              <p:cNvSpPr/>
              <p:nvPr/>
            </p:nvSpPr>
            <p:spPr>
              <a:xfrm flipH="1">
                <a:off x="983520" y="3691080"/>
                <a:ext cx="291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495" name=""/>
            <p:cNvSpPr/>
            <p:nvPr/>
          </p:nvSpPr>
          <p:spPr>
            <a:xfrm>
              <a:off x="983880" y="3995640"/>
              <a:ext cx="799560" cy="744480"/>
            </a:xfrm>
            <a:custGeom>
              <a:avLst/>
              <a:gdLst/>
              <a:ahLst/>
              <a:rect l="l" t="t" r="r" b="b"/>
              <a:pathLst>
                <a:path w="1250" h="1677">
                  <a:moveTo>
                    <a:pt x="0" y="1677"/>
                  </a:moveTo>
                  <a:lnTo>
                    <a:pt x="1" y="1677"/>
                  </a:lnTo>
                  <a:lnTo>
                    <a:pt x="3" y="1677"/>
                  </a:lnTo>
                  <a:lnTo>
                    <a:pt x="4" y="1677"/>
                  </a:lnTo>
                  <a:lnTo>
                    <a:pt x="7" y="1677"/>
                  </a:lnTo>
                  <a:lnTo>
                    <a:pt x="9" y="1677"/>
                  </a:lnTo>
                  <a:lnTo>
                    <a:pt x="10" y="1677"/>
                  </a:lnTo>
                  <a:lnTo>
                    <a:pt x="12" y="1677"/>
                  </a:lnTo>
                  <a:lnTo>
                    <a:pt x="13" y="1677"/>
                  </a:lnTo>
                  <a:lnTo>
                    <a:pt x="15" y="1677"/>
                  </a:lnTo>
                  <a:lnTo>
                    <a:pt x="18" y="1677"/>
                  </a:lnTo>
                  <a:lnTo>
                    <a:pt x="20" y="1677"/>
                  </a:lnTo>
                  <a:lnTo>
                    <a:pt x="21" y="1677"/>
                  </a:lnTo>
                  <a:lnTo>
                    <a:pt x="23" y="1677"/>
                  </a:lnTo>
                  <a:lnTo>
                    <a:pt x="24" y="1677"/>
                  </a:lnTo>
                  <a:lnTo>
                    <a:pt x="26" y="1677"/>
                  </a:lnTo>
                  <a:lnTo>
                    <a:pt x="29" y="1677"/>
                  </a:lnTo>
                  <a:lnTo>
                    <a:pt x="30" y="1677"/>
                  </a:lnTo>
                  <a:lnTo>
                    <a:pt x="32" y="1677"/>
                  </a:lnTo>
                  <a:lnTo>
                    <a:pt x="33" y="1677"/>
                  </a:lnTo>
                  <a:lnTo>
                    <a:pt x="35" y="1677"/>
                  </a:lnTo>
                  <a:lnTo>
                    <a:pt x="36" y="1677"/>
                  </a:lnTo>
                  <a:lnTo>
                    <a:pt x="40" y="1677"/>
                  </a:lnTo>
                  <a:lnTo>
                    <a:pt x="41" y="1677"/>
                  </a:lnTo>
                  <a:lnTo>
                    <a:pt x="43" y="1677"/>
                  </a:lnTo>
                  <a:lnTo>
                    <a:pt x="44" y="1566"/>
                  </a:lnTo>
                  <a:lnTo>
                    <a:pt x="46" y="1457"/>
                  </a:lnTo>
                  <a:lnTo>
                    <a:pt x="47" y="1353"/>
                  </a:lnTo>
                  <a:lnTo>
                    <a:pt x="50" y="1254"/>
                  </a:lnTo>
                  <a:lnTo>
                    <a:pt x="52" y="1184"/>
                  </a:lnTo>
                  <a:lnTo>
                    <a:pt x="53" y="1144"/>
                  </a:lnTo>
                  <a:lnTo>
                    <a:pt x="55" y="1112"/>
                  </a:lnTo>
                  <a:lnTo>
                    <a:pt x="56" y="1069"/>
                  </a:lnTo>
                  <a:lnTo>
                    <a:pt x="58" y="1015"/>
                  </a:lnTo>
                  <a:lnTo>
                    <a:pt x="61" y="961"/>
                  </a:lnTo>
                  <a:lnTo>
                    <a:pt x="63" y="915"/>
                  </a:lnTo>
                  <a:lnTo>
                    <a:pt x="64" y="877"/>
                  </a:lnTo>
                  <a:lnTo>
                    <a:pt x="66" y="849"/>
                  </a:lnTo>
                  <a:lnTo>
                    <a:pt x="67" y="829"/>
                  </a:lnTo>
                  <a:lnTo>
                    <a:pt x="69" y="804"/>
                  </a:lnTo>
                  <a:lnTo>
                    <a:pt x="72" y="775"/>
                  </a:lnTo>
                  <a:lnTo>
                    <a:pt x="73" y="746"/>
                  </a:lnTo>
                  <a:lnTo>
                    <a:pt x="75" y="715"/>
                  </a:lnTo>
                  <a:lnTo>
                    <a:pt x="76" y="675"/>
                  </a:lnTo>
                  <a:lnTo>
                    <a:pt x="78" y="634"/>
                  </a:lnTo>
                  <a:lnTo>
                    <a:pt x="79" y="609"/>
                  </a:lnTo>
                  <a:lnTo>
                    <a:pt x="83" y="602"/>
                  </a:lnTo>
                  <a:lnTo>
                    <a:pt x="84" y="597"/>
                  </a:lnTo>
                  <a:lnTo>
                    <a:pt x="86" y="593"/>
                  </a:lnTo>
                  <a:lnTo>
                    <a:pt x="87" y="593"/>
                  </a:lnTo>
                  <a:lnTo>
                    <a:pt x="89" y="594"/>
                  </a:lnTo>
                  <a:lnTo>
                    <a:pt x="90" y="596"/>
                  </a:lnTo>
                  <a:lnTo>
                    <a:pt x="93" y="597"/>
                  </a:lnTo>
                  <a:lnTo>
                    <a:pt x="95" y="599"/>
                  </a:lnTo>
                  <a:lnTo>
                    <a:pt x="96" y="591"/>
                  </a:lnTo>
                  <a:lnTo>
                    <a:pt x="98" y="577"/>
                  </a:lnTo>
                  <a:lnTo>
                    <a:pt x="99" y="566"/>
                  </a:lnTo>
                  <a:lnTo>
                    <a:pt x="101" y="557"/>
                  </a:lnTo>
                  <a:lnTo>
                    <a:pt x="104" y="546"/>
                  </a:lnTo>
                  <a:lnTo>
                    <a:pt x="106" y="536"/>
                  </a:lnTo>
                  <a:lnTo>
                    <a:pt x="107" y="523"/>
                  </a:lnTo>
                  <a:lnTo>
                    <a:pt x="109" y="500"/>
                  </a:lnTo>
                  <a:lnTo>
                    <a:pt x="110" y="464"/>
                  </a:lnTo>
                  <a:lnTo>
                    <a:pt x="112" y="425"/>
                  </a:lnTo>
                  <a:lnTo>
                    <a:pt x="113" y="391"/>
                  </a:lnTo>
                  <a:lnTo>
                    <a:pt x="116" y="364"/>
                  </a:lnTo>
                  <a:lnTo>
                    <a:pt x="118" y="347"/>
                  </a:lnTo>
                  <a:lnTo>
                    <a:pt x="119" y="341"/>
                  </a:lnTo>
                  <a:lnTo>
                    <a:pt x="121" y="339"/>
                  </a:lnTo>
                  <a:lnTo>
                    <a:pt x="122" y="339"/>
                  </a:lnTo>
                  <a:lnTo>
                    <a:pt x="124" y="338"/>
                  </a:lnTo>
                  <a:lnTo>
                    <a:pt x="127" y="342"/>
                  </a:lnTo>
                  <a:lnTo>
                    <a:pt x="129" y="353"/>
                  </a:lnTo>
                  <a:lnTo>
                    <a:pt x="130" y="367"/>
                  </a:lnTo>
                  <a:lnTo>
                    <a:pt x="132" y="384"/>
                  </a:lnTo>
                  <a:lnTo>
                    <a:pt x="133" y="411"/>
                  </a:lnTo>
                  <a:lnTo>
                    <a:pt x="135" y="457"/>
                  </a:lnTo>
                  <a:lnTo>
                    <a:pt x="138" y="516"/>
                  </a:lnTo>
                  <a:lnTo>
                    <a:pt x="139" y="586"/>
                  </a:lnTo>
                  <a:lnTo>
                    <a:pt x="141" y="671"/>
                  </a:lnTo>
                  <a:lnTo>
                    <a:pt x="142" y="763"/>
                  </a:lnTo>
                  <a:lnTo>
                    <a:pt x="144" y="848"/>
                  </a:lnTo>
                  <a:lnTo>
                    <a:pt x="146" y="937"/>
                  </a:lnTo>
                  <a:lnTo>
                    <a:pt x="149" y="1050"/>
                  </a:lnTo>
                  <a:lnTo>
                    <a:pt x="150" y="1181"/>
                  </a:lnTo>
                  <a:lnTo>
                    <a:pt x="152" y="1294"/>
                  </a:lnTo>
                  <a:lnTo>
                    <a:pt x="153" y="1383"/>
                  </a:lnTo>
                  <a:lnTo>
                    <a:pt x="155" y="1451"/>
                  </a:lnTo>
                  <a:lnTo>
                    <a:pt x="156" y="1483"/>
                  </a:lnTo>
                  <a:lnTo>
                    <a:pt x="159" y="1466"/>
                  </a:lnTo>
                  <a:lnTo>
                    <a:pt x="161" y="1414"/>
                  </a:lnTo>
                  <a:lnTo>
                    <a:pt x="162" y="1353"/>
                  </a:lnTo>
                  <a:lnTo>
                    <a:pt x="164" y="1296"/>
                  </a:lnTo>
                  <a:lnTo>
                    <a:pt x="166" y="1247"/>
                  </a:lnTo>
                  <a:lnTo>
                    <a:pt x="167" y="1227"/>
                  </a:lnTo>
                  <a:lnTo>
                    <a:pt x="170" y="1262"/>
                  </a:lnTo>
                  <a:lnTo>
                    <a:pt x="172" y="1351"/>
                  </a:lnTo>
                  <a:lnTo>
                    <a:pt x="173" y="1489"/>
                  </a:lnTo>
                  <a:lnTo>
                    <a:pt x="175" y="1629"/>
                  </a:lnTo>
                  <a:lnTo>
                    <a:pt x="176" y="1677"/>
                  </a:lnTo>
                  <a:lnTo>
                    <a:pt x="178" y="1677"/>
                  </a:lnTo>
                  <a:lnTo>
                    <a:pt x="181" y="1677"/>
                  </a:lnTo>
                  <a:lnTo>
                    <a:pt x="182" y="1677"/>
                  </a:lnTo>
                  <a:lnTo>
                    <a:pt x="184" y="1677"/>
                  </a:lnTo>
                  <a:lnTo>
                    <a:pt x="185" y="1677"/>
                  </a:lnTo>
                  <a:lnTo>
                    <a:pt x="187" y="1677"/>
                  </a:lnTo>
                  <a:lnTo>
                    <a:pt x="189" y="1677"/>
                  </a:lnTo>
                  <a:lnTo>
                    <a:pt x="192" y="1677"/>
                  </a:lnTo>
                  <a:lnTo>
                    <a:pt x="193" y="1677"/>
                  </a:lnTo>
                  <a:lnTo>
                    <a:pt x="195" y="1677"/>
                  </a:lnTo>
                  <a:lnTo>
                    <a:pt x="196" y="1677"/>
                  </a:lnTo>
                  <a:lnTo>
                    <a:pt x="198" y="1677"/>
                  </a:lnTo>
                  <a:lnTo>
                    <a:pt x="199" y="1677"/>
                  </a:lnTo>
                  <a:lnTo>
                    <a:pt x="202" y="1677"/>
                  </a:lnTo>
                  <a:lnTo>
                    <a:pt x="204" y="1677"/>
                  </a:lnTo>
                  <a:lnTo>
                    <a:pt x="205" y="1677"/>
                  </a:lnTo>
                  <a:lnTo>
                    <a:pt x="207" y="1677"/>
                  </a:lnTo>
                  <a:lnTo>
                    <a:pt x="209" y="1677"/>
                  </a:lnTo>
                  <a:lnTo>
                    <a:pt x="210" y="1677"/>
                  </a:lnTo>
                  <a:lnTo>
                    <a:pt x="213" y="1677"/>
                  </a:lnTo>
                  <a:lnTo>
                    <a:pt x="215" y="1677"/>
                  </a:lnTo>
                  <a:lnTo>
                    <a:pt x="216" y="1677"/>
                  </a:lnTo>
                  <a:lnTo>
                    <a:pt x="218" y="1677"/>
                  </a:lnTo>
                  <a:lnTo>
                    <a:pt x="219" y="1677"/>
                  </a:lnTo>
                  <a:lnTo>
                    <a:pt x="221" y="1677"/>
                  </a:lnTo>
                  <a:lnTo>
                    <a:pt x="224" y="1677"/>
                  </a:lnTo>
                  <a:lnTo>
                    <a:pt x="225" y="1677"/>
                  </a:lnTo>
                  <a:lnTo>
                    <a:pt x="227" y="1677"/>
                  </a:lnTo>
                  <a:lnTo>
                    <a:pt x="228" y="1677"/>
                  </a:lnTo>
                  <a:lnTo>
                    <a:pt x="230" y="1677"/>
                  </a:lnTo>
                  <a:lnTo>
                    <a:pt x="232" y="1677"/>
                  </a:lnTo>
                  <a:lnTo>
                    <a:pt x="233" y="1677"/>
                  </a:lnTo>
                  <a:lnTo>
                    <a:pt x="236" y="1677"/>
                  </a:lnTo>
                  <a:lnTo>
                    <a:pt x="238" y="1677"/>
                  </a:lnTo>
                  <a:lnTo>
                    <a:pt x="239" y="1677"/>
                  </a:lnTo>
                  <a:lnTo>
                    <a:pt x="241" y="1677"/>
                  </a:lnTo>
                  <a:lnTo>
                    <a:pt x="242" y="1677"/>
                  </a:lnTo>
                  <a:lnTo>
                    <a:pt x="244" y="1677"/>
                  </a:lnTo>
                  <a:lnTo>
                    <a:pt x="247" y="1677"/>
                  </a:lnTo>
                  <a:lnTo>
                    <a:pt x="248" y="1677"/>
                  </a:lnTo>
                  <a:lnTo>
                    <a:pt x="250" y="1677"/>
                  </a:lnTo>
                  <a:lnTo>
                    <a:pt x="252" y="1677"/>
                  </a:lnTo>
                  <a:lnTo>
                    <a:pt x="253" y="1677"/>
                  </a:lnTo>
                  <a:lnTo>
                    <a:pt x="255" y="1677"/>
                  </a:lnTo>
                  <a:lnTo>
                    <a:pt x="258" y="1677"/>
                  </a:lnTo>
                  <a:lnTo>
                    <a:pt x="259" y="1677"/>
                  </a:lnTo>
                  <a:lnTo>
                    <a:pt x="261" y="1677"/>
                  </a:lnTo>
                  <a:lnTo>
                    <a:pt x="262" y="1677"/>
                  </a:lnTo>
                  <a:lnTo>
                    <a:pt x="264" y="1677"/>
                  </a:lnTo>
                  <a:lnTo>
                    <a:pt x="265" y="1677"/>
                  </a:lnTo>
                  <a:lnTo>
                    <a:pt x="268" y="1677"/>
                  </a:lnTo>
                  <a:lnTo>
                    <a:pt x="270" y="1677"/>
                  </a:lnTo>
                  <a:lnTo>
                    <a:pt x="272" y="1677"/>
                  </a:lnTo>
                  <a:lnTo>
                    <a:pt x="273" y="1677"/>
                  </a:lnTo>
                  <a:lnTo>
                    <a:pt x="275" y="1677"/>
                  </a:lnTo>
                  <a:lnTo>
                    <a:pt x="276" y="1677"/>
                  </a:lnTo>
                  <a:lnTo>
                    <a:pt x="279" y="1677"/>
                  </a:lnTo>
                  <a:lnTo>
                    <a:pt x="281" y="1677"/>
                  </a:lnTo>
                  <a:lnTo>
                    <a:pt x="282" y="1677"/>
                  </a:lnTo>
                  <a:lnTo>
                    <a:pt x="284" y="1677"/>
                  </a:lnTo>
                  <a:lnTo>
                    <a:pt x="285" y="1677"/>
                  </a:lnTo>
                  <a:lnTo>
                    <a:pt x="287" y="1677"/>
                  </a:lnTo>
                  <a:lnTo>
                    <a:pt x="290" y="1677"/>
                  </a:lnTo>
                  <a:lnTo>
                    <a:pt x="291" y="1580"/>
                  </a:lnTo>
                  <a:lnTo>
                    <a:pt x="293" y="1440"/>
                  </a:lnTo>
                  <a:lnTo>
                    <a:pt x="295" y="1388"/>
                  </a:lnTo>
                  <a:lnTo>
                    <a:pt x="296" y="1374"/>
                  </a:lnTo>
                  <a:lnTo>
                    <a:pt x="298" y="1279"/>
                  </a:lnTo>
                  <a:lnTo>
                    <a:pt x="301" y="1142"/>
                  </a:lnTo>
                  <a:lnTo>
                    <a:pt x="302" y="1064"/>
                  </a:lnTo>
                  <a:lnTo>
                    <a:pt x="304" y="1016"/>
                  </a:lnTo>
                  <a:lnTo>
                    <a:pt x="305" y="947"/>
                  </a:lnTo>
                  <a:lnTo>
                    <a:pt x="307" y="878"/>
                  </a:lnTo>
                  <a:lnTo>
                    <a:pt x="308" y="811"/>
                  </a:lnTo>
                  <a:lnTo>
                    <a:pt x="311" y="718"/>
                  </a:lnTo>
                  <a:lnTo>
                    <a:pt x="313" y="636"/>
                  </a:lnTo>
                  <a:lnTo>
                    <a:pt x="315" y="605"/>
                  </a:lnTo>
                  <a:lnTo>
                    <a:pt x="316" y="588"/>
                  </a:lnTo>
                  <a:lnTo>
                    <a:pt x="318" y="533"/>
                  </a:lnTo>
                  <a:lnTo>
                    <a:pt x="319" y="508"/>
                  </a:lnTo>
                  <a:lnTo>
                    <a:pt x="322" y="487"/>
                  </a:lnTo>
                  <a:lnTo>
                    <a:pt x="324" y="482"/>
                  </a:lnTo>
                  <a:lnTo>
                    <a:pt x="325" y="488"/>
                  </a:lnTo>
                  <a:lnTo>
                    <a:pt x="327" y="499"/>
                  </a:lnTo>
                  <a:lnTo>
                    <a:pt x="328" y="510"/>
                  </a:lnTo>
                  <a:lnTo>
                    <a:pt x="330" y="519"/>
                  </a:lnTo>
                  <a:lnTo>
                    <a:pt x="333" y="531"/>
                  </a:lnTo>
                  <a:lnTo>
                    <a:pt x="335" y="550"/>
                  </a:lnTo>
                  <a:lnTo>
                    <a:pt x="336" y="563"/>
                  </a:lnTo>
                  <a:lnTo>
                    <a:pt x="338" y="559"/>
                  </a:lnTo>
                  <a:lnTo>
                    <a:pt x="339" y="546"/>
                  </a:lnTo>
                  <a:lnTo>
                    <a:pt x="341" y="540"/>
                  </a:lnTo>
                  <a:lnTo>
                    <a:pt x="342" y="537"/>
                  </a:lnTo>
                  <a:lnTo>
                    <a:pt x="345" y="531"/>
                  </a:lnTo>
                  <a:lnTo>
                    <a:pt x="347" y="520"/>
                  </a:lnTo>
                  <a:lnTo>
                    <a:pt x="348" y="507"/>
                  </a:lnTo>
                  <a:lnTo>
                    <a:pt x="350" y="482"/>
                  </a:lnTo>
                  <a:lnTo>
                    <a:pt x="351" y="453"/>
                  </a:lnTo>
                  <a:lnTo>
                    <a:pt x="353" y="427"/>
                  </a:lnTo>
                  <a:lnTo>
                    <a:pt x="356" y="401"/>
                  </a:lnTo>
                  <a:lnTo>
                    <a:pt x="358" y="365"/>
                  </a:lnTo>
                  <a:lnTo>
                    <a:pt x="359" y="327"/>
                  </a:lnTo>
                  <a:lnTo>
                    <a:pt x="361" y="295"/>
                  </a:lnTo>
                  <a:lnTo>
                    <a:pt x="362" y="264"/>
                  </a:lnTo>
                  <a:lnTo>
                    <a:pt x="364" y="235"/>
                  </a:lnTo>
                  <a:lnTo>
                    <a:pt x="367" y="207"/>
                  </a:lnTo>
                  <a:lnTo>
                    <a:pt x="368" y="181"/>
                  </a:lnTo>
                  <a:lnTo>
                    <a:pt x="370" y="155"/>
                  </a:lnTo>
                  <a:lnTo>
                    <a:pt x="371" y="133"/>
                  </a:lnTo>
                  <a:lnTo>
                    <a:pt x="373" y="116"/>
                  </a:lnTo>
                  <a:lnTo>
                    <a:pt x="374" y="101"/>
                  </a:lnTo>
                  <a:lnTo>
                    <a:pt x="378" y="95"/>
                  </a:lnTo>
                  <a:lnTo>
                    <a:pt x="379" y="101"/>
                  </a:lnTo>
                  <a:lnTo>
                    <a:pt x="381" y="106"/>
                  </a:lnTo>
                  <a:lnTo>
                    <a:pt x="382" y="103"/>
                  </a:lnTo>
                  <a:lnTo>
                    <a:pt x="384" y="103"/>
                  </a:lnTo>
                  <a:lnTo>
                    <a:pt x="385" y="109"/>
                  </a:lnTo>
                  <a:lnTo>
                    <a:pt x="388" y="109"/>
                  </a:lnTo>
                  <a:lnTo>
                    <a:pt x="390" y="103"/>
                  </a:lnTo>
                  <a:lnTo>
                    <a:pt x="391" y="104"/>
                  </a:lnTo>
                  <a:lnTo>
                    <a:pt x="393" y="112"/>
                  </a:lnTo>
                  <a:lnTo>
                    <a:pt x="394" y="118"/>
                  </a:lnTo>
                  <a:lnTo>
                    <a:pt x="396" y="123"/>
                  </a:lnTo>
                  <a:lnTo>
                    <a:pt x="399" y="130"/>
                  </a:lnTo>
                  <a:lnTo>
                    <a:pt x="401" y="136"/>
                  </a:lnTo>
                  <a:lnTo>
                    <a:pt x="402" y="141"/>
                  </a:lnTo>
                  <a:lnTo>
                    <a:pt x="404" y="146"/>
                  </a:lnTo>
                  <a:lnTo>
                    <a:pt x="405" y="149"/>
                  </a:lnTo>
                  <a:lnTo>
                    <a:pt x="407" y="149"/>
                  </a:lnTo>
                  <a:lnTo>
                    <a:pt x="410" y="149"/>
                  </a:lnTo>
                  <a:lnTo>
                    <a:pt x="411" y="150"/>
                  </a:lnTo>
                  <a:lnTo>
                    <a:pt x="413" y="153"/>
                  </a:lnTo>
                  <a:lnTo>
                    <a:pt x="414" y="158"/>
                  </a:lnTo>
                  <a:lnTo>
                    <a:pt x="416" y="161"/>
                  </a:lnTo>
                  <a:lnTo>
                    <a:pt x="417" y="164"/>
                  </a:lnTo>
                  <a:lnTo>
                    <a:pt x="421" y="167"/>
                  </a:lnTo>
                  <a:lnTo>
                    <a:pt x="422" y="173"/>
                  </a:lnTo>
                  <a:lnTo>
                    <a:pt x="424" y="183"/>
                  </a:lnTo>
                  <a:lnTo>
                    <a:pt x="425" y="190"/>
                  </a:lnTo>
                  <a:lnTo>
                    <a:pt x="427" y="186"/>
                  </a:lnTo>
                  <a:lnTo>
                    <a:pt x="428" y="167"/>
                  </a:lnTo>
                  <a:lnTo>
                    <a:pt x="431" y="152"/>
                  </a:lnTo>
                  <a:lnTo>
                    <a:pt x="433" y="152"/>
                  </a:lnTo>
                  <a:lnTo>
                    <a:pt x="434" y="156"/>
                  </a:lnTo>
                  <a:lnTo>
                    <a:pt x="436" y="156"/>
                  </a:lnTo>
                  <a:lnTo>
                    <a:pt x="437" y="150"/>
                  </a:lnTo>
                  <a:lnTo>
                    <a:pt x="439" y="149"/>
                  </a:lnTo>
                  <a:lnTo>
                    <a:pt x="442" y="156"/>
                  </a:lnTo>
                  <a:lnTo>
                    <a:pt x="444" y="178"/>
                  </a:lnTo>
                  <a:lnTo>
                    <a:pt x="445" y="216"/>
                  </a:lnTo>
                  <a:lnTo>
                    <a:pt x="447" y="264"/>
                  </a:lnTo>
                  <a:lnTo>
                    <a:pt x="448" y="310"/>
                  </a:lnTo>
                  <a:lnTo>
                    <a:pt x="450" y="355"/>
                  </a:lnTo>
                  <a:lnTo>
                    <a:pt x="451" y="396"/>
                  </a:lnTo>
                  <a:lnTo>
                    <a:pt x="454" y="424"/>
                  </a:lnTo>
                  <a:lnTo>
                    <a:pt x="456" y="439"/>
                  </a:lnTo>
                  <a:lnTo>
                    <a:pt x="457" y="450"/>
                  </a:lnTo>
                  <a:lnTo>
                    <a:pt x="459" y="459"/>
                  </a:lnTo>
                  <a:lnTo>
                    <a:pt x="460" y="456"/>
                  </a:lnTo>
                  <a:lnTo>
                    <a:pt x="462" y="436"/>
                  </a:lnTo>
                  <a:lnTo>
                    <a:pt x="465" y="399"/>
                  </a:lnTo>
                  <a:lnTo>
                    <a:pt x="467" y="364"/>
                  </a:lnTo>
                  <a:lnTo>
                    <a:pt x="468" y="339"/>
                  </a:lnTo>
                  <a:lnTo>
                    <a:pt x="470" y="318"/>
                  </a:lnTo>
                  <a:lnTo>
                    <a:pt x="471" y="287"/>
                  </a:lnTo>
                  <a:lnTo>
                    <a:pt x="473" y="253"/>
                  </a:lnTo>
                  <a:lnTo>
                    <a:pt x="476" y="227"/>
                  </a:lnTo>
                  <a:lnTo>
                    <a:pt x="477" y="210"/>
                  </a:lnTo>
                  <a:lnTo>
                    <a:pt x="479" y="196"/>
                  </a:lnTo>
                  <a:lnTo>
                    <a:pt x="480" y="199"/>
                  </a:lnTo>
                  <a:lnTo>
                    <a:pt x="482" y="242"/>
                  </a:lnTo>
                  <a:lnTo>
                    <a:pt x="484" y="319"/>
                  </a:lnTo>
                  <a:lnTo>
                    <a:pt x="487" y="407"/>
                  </a:lnTo>
                  <a:lnTo>
                    <a:pt x="488" y="482"/>
                  </a:lnTo>
                  <a:lnTo>
                    <a:pt x="490" y="533"/>
                  </a:lnTo>
                  <a:lnTo>
                    <a:pt x="491" y="554"/>
                  </a:lnTo>
                  <a:lnTo>
                    <a:pt x="493" y="553"/>
                  </a:lnTo>
                  <a:lnTo>
                    <a:pt x="494" y="537"/>
                  </a:lnTo>
                  <a:lnTo>
                    <a:pt x="497" y="516"/>
                  </a:lnTo>
                  <a:lnTo>
                    <a:pt x="499" y="485"/>
                  </a:lnTo>
                  <a:lnTo>
                    <a:pt x="500" y="450"/>
                  </a:lnTo>
                  <a:lnTo>
                    <a:pt x="502" y="413"/>
                  </a:lnTo>
                  <a:lnTo>
                    <a:pt x="504" y="376"/>
                  </a:lnTo>
                  <a:lnTo>
                    <a:pt x="505" y="335"/>
                  </a:lnTo>
                  <a:lnTo>
                    <a:pt x="508" y="284"/>
                  </a:lnTo>
                  <a:lnTo>
                    <a:pt x="510" y="241"/>
                  </a:lnTo>
                  <a:lnTo>
                    <a:pt x="511" y="215"/>
                  </a:lnTo>
                  <a:lnTo>
                    <a:pt x="513" y="190"/>
                  </a:lnTo>
                  <a:lnTo>
                    <a:pt x="514" y="159"/>
                  </a:lnTo>
                  <a:lnTo>
                    <a:pt x="516" y="140"/>
                  </a:lnTo>
                  <a:lnTo>
                    <a:pt x="519" y="130"/>
                  </a:lnTo>
                  <a:lnTo>
                    <a:pt x="520" y="110"/>
                  </a:lnTo>
                  <a:lnTo>
                    <a:pt x="522" y="84"/>
                  </a:lnTo>
                  <a:lnTo>
                    <a:pt x="523" y="75"/>
                  </a:lnTo>
                  <a:lnTo>
                    <a:pt x="525" y="75"/>
                  </a:lnTo>
                  <a:lnTo>
                    <a:pt x="527" y="64"/>
                  </a:lnTo>
                  <a:lnTo>
                    <a:pt x="530" y="49"/>
                  </a:lnTo>
                  <a:lnTo>
                    <a:pt x="531" y="43"/>
                  </a:lnTo>
                  <a:lnTo>
                    <a:pt x="533" y="40"/>
                  </a:lnTo>
                  <a:lnTo>
                    <a:pt x="534" y="35"/>
                  </a:lnTo>
                  <a:lnTo>
                    <a:pt x="536" y="49"/>
                  </a:lnTo>
                  <a:lnTo>
                    <a:pt x="537" y="86"/>
                  </a:lnTo>
                  <a:lnTo>
                    <a:pt x="540" y="123"/>
                  </a:lnTo>
                  <a:lnTo>
                    <a:pt x="542" y="147"/>
                  </a:lnTo>
                  <a:lnTo>
                    <a:pt x="543" y="166"/>
                  </a:lnTo>
                  <a:lnTo>
                    <a:pt x="545" y="183"/>
                  </a:lnTo>
                  <a:lnTo>
                    <a:pt x="547" y="195"/>
                  </a:lnTo>
                  <a:lnTo>
                    <a:pt x="548" y="199"/>
                  </a:lnTo>
                  <a:lnTo>
                    <a:pt x="551" y="201"/>
                  </a:lnTo>
                  <a:lnTo>
                    <a:pt x="553" y="199"/>
                  </a:lnTo>
                  <a:lnTo>
                    <a:pt x="554" y="199"/>
                  </a:lnTo>
                  <a:lnTo>
                    <a:pt x="556" y="204"/>
                  </a:lnTo>
                  <a:lnTo>
                    <a:pt x="557" y="212"/>
                  </a:lnTo>
                  <a:lnTo>
                    <a:pt x="559" y="215"/>
                  </a:lnTo>
                  <a:lnTo>
                    <a:pt x="560" y="210"/>
                  </a:lnTo>
                  <a:lnTo>
                    <a:pt x="563" y="196"/>
                  </a:lnTo>
                  <a:lnTo>
                    <a:pt x="565" y="172"/>
                  </a:lnTo>
                  <a:lnTo>
                    <a:pt x="567" y="141"/>
                  </a:lnTo>
                  <a:lnTo>
                    <a:pt x="568" y="121"/>
                  </a:lnTo>
                  <a:lnTo>
                    <a:pt x="570" y="115"/>
                  </a:lnTo>
                  <a:lnTo>
                    <a:pt x="571" y="110"/>
                  </a:lnTo>
                  <a:lnTo>
                    <a:pt x="574" y="106"/>
                  </a:lnTo>
                  <a:lnTo>
                    <a:pt x="576" y="106"/>
                  </a:lnTo>
                  <a:lnTo>
                    <a:pt x="577" y="109"/>
                  </a:lnTo>
                  <a:lnTo>
                    <a:pt x="579" y="110"/>
                  </a:lnTo>
                  <a:lnTo>
                    <a:pt x="580" y="107"/>
                  </a:lnTo>
                  <a:lnTo>
                    <a:pt x="582" y="103"/>
                  </a:lnTo>
                  <a:lnTo>
                    <a:pt x="585" y="87"/>
                  </a:lnTo>
                  <a:lnTo>
                    <a:pt x="586" y="66"/>
                  </a:lnTo>
                  <a:lnTo>
                    <a:pt x="588" y="46"/>
                  </a:lnTo>
                  <a:lnTo>
                    <a:pt x="590" y="29"/>
                  </a:lnTo>
                  <a:lnTo>
                    <a:pt x="591" y="10"/>
                  </a:lnTo>
                  <a:lnTo>
                    <a:pt x="593" y="0"/>
                  </a:lnTo>
                  <a:lnTo>
                    <a:pt x="596" y="3"/>
                  </a:lnTo>
                  <a:lnTo>
                    <a:pt x="597" y="14"/>
                  </a:lnTo>
                  <a:lnTo>
                    <a:pt x="599" y="23"/>
                  </a:lnTo>
                  <a:lnTo>
                    <a:pt x="600" y="40"/>
                  </a:lnTo>
                  <a:lnTo>
                    <a:pt x="602" y="60"/>
                  </a:lnTo>
                  <a:lnTo>
                    <a:pt x="603" y="70"/>
                  </a:lnTo>
                  <a:lnTo>
                    <a:pt x="606" y="78"/>
                  </a:lnTo>
                  <a:lnTo>
                    <a:pt x="608" y="98"/>
                  </a:lnTo>
                  <a:lnTo>
                    <a:pt x="610" y="126"/>
                  </a:lnTo>
                  <a:lnTo>
                    <a:pt x="611" y="143"/>
                  </a:lnTo>
                  <a:lnTo>
                    <a:pt x="613" y="150"/>
                  </a:lnTo>
                  <a:lnTo>
                    <a:pt x="614" y="159"/>
                  </a:lnTo>
                  <a:lnTo>
                    <a:pt x="617" y="172"/>
                  </a:lnTo>
                  <a:lnTo>
                    <a:pt x="619" y="187"/>
                  </a:lnTo>
                  <a:lnTo>
                    <a:pt x="620" y="206"/>
                  </a:lnTo>
                  <a:lnTo>
                    <a:pt x="622" y="222"/>
                  </a:lnTo>
                  <a:lnTo>
                    <a:pt x="623" y="236"/>
                  </a:lnTo>
                  <a:lnTo>
                    <a:pt x="625" y="252"/>
                  </a:lnTo>
                  <a:lnTo>
                    <a:pt x="628" y="270"/>
                  </a:lnTo>
                  <a:lnTo>
                    <a:pt x="629" y="281"/>
                  </a:lnTo>
                  <a:lnTo>
                    <a:pt x="631" y="290"/>
                  </a:lnTo>
                  <a:lnTo>
                    <a:pt x="633" y="299"/>
                  </a:lnTo>
                  <a:lnTo>
                    <a:pt x="634" y="302"/>
                  </a:lnTo>
                  <a:lnTo>
                    <a:pt x="636" y="301"/>
                  </a:lnTo>
                  <a:lnTo>
                    <a:pt x="639" y="304"/>
                  </a:lnTo>
                  <a:lnTo>
                    <a:pt x="640" y="307"/>
                  </a:lnTo>
                  <a:lnTo>
                    <a:pt x="642" y="301"/>
                  </a:lnTo>
                  <a:lnTo>
                    <a:pt x="643" y="292"/>
                  </a:lnTo>
                  <a:lnTo>
                    <a:pt x="645" y="299"/>
                  </a:lnTo>
                  <a:lnTo>
                    <a:pt x="646" y="319"/>
                  </a:lnTo>
                  <a:lnTo>
                    <a:pt x="649" y="348"/>
                  </a:lnTo>
                  <a:lnTo>
                    <a:pt x="651" y="394"/>
                  </a:lnTo>
                  <a:lnTo>
                    <a:pt x="653" y="448"/>
                  </a:lnTo>
                  <a:lnTo>
                    <a:pt x="654" y="499"/>
                  </a:lnTo>
                  <a:lnTo>
                    <a:pt x="656" y="548"/>
                  </a:lnTo>
                  <a:lnTo>
                    <a:pt x="657" y="609"/>
                  </a:lnTo>
                  <a:lnTo>
                    <a:pt x="660" y="672"/>
                  </a:lnTo>
                  <a:lnTo>
                    <a:pt x="662" y="737"/>
                  </a:lnTo>
                  <a:lnTo>
                    <a:pt x="663" y="815"/>
                  </a:lnTo>
                  <a:lnTo>
                    <a:pt x="665" y="935"/>
                  </a:lnTo>
                  <a:lnTo>
                    <a:pt x="666" y="1050"/>
                  </a:lnTo>
                  <a:lnTo>
                    <a:pt x="668" y="1145"/>
                  </a:lnTo>
                  <a:lnTo>
                    <a:pt x="671" y="1247"/>
                  </a:lnTo>
                  <a:lnTo>
                    <a:pt x="673" y="1390"/>
                  </a:lnTo>
                  <a:lnTo>
                    <a:pt x="674" y="1546"/>
                  </a:lnTo>
                  <a:lnTo>
                    <a:pt x="676" y="1649"/>
                  </a:lnTo>
                  <a:lnTo>
                    <a:pt x="677" y="1677"/>
                  </a:lnTo>
                  <a:lnTo>
                    <a:pt x="679" y="1677"/>
                  </a:lnTo>
                  <a:lnTo>
                    <a:pt x="680" y="1677"/>
                  </a:lnTo>
                  <a:lnTo>
                    <a:pt x="683" y="1631"/>
                  </a:lnTo>
                  <a:lnTo>
                    <a:pt x="685" y="1571"/>
                  </a:lnTo>
                  <a:lnTo>
                    <a:pt x="686" y="1479"/>
                  </a:lnTo>
                  <a:lnTo>
                    <a:pt x="688" y="1357"/>
                  </a:lnTo>
                  <a:lnTo>
                    <a:pt x="689" y="1248"/>
                  </a:lnTo>
                  <a:lnTo>
                    <a:pt x="691" y="1198"/>
                  </a:lnTo>
                  <a:lnTo>
                    <a:pt x="694" y="1172"/>
                  </a:lnTo>
                  <a:lnTo>
                    <a:pt x="696" y="1098"/>
                  </a:lnTo>
                  <a:lnTo>
                    <a:pt x="697" y="1027"/>
                  </a:lnTo>
                  <a:lnTo>
                    <a:pt x="699" y="970"/>
                  </a:lnTo>
                  <a:lnTo>
                    <a:pt x="700" y="941"/>
                  </a:lnTo>
                  <a:lnTo>
                    <a:pt x="702" y="932"/>
                  </a:lnTo>
                  <a:lnTo>
                    <a:pt x="705" y="940"/>
                  </a:lnTo>
                  <a:lnTo>
                    <a:pt x="706" y="955"/>
                  </a:lnTo>
                  <a:lnTo>
                    <a:pt x="708" y="966"/>
                  </a:lnTo>
                  <a:lnTo>
                    <a:pt x="709" y="972"/>
                  </a:lnTo>
                  <a:lnTo>
                    <a:pt x="711" y="980"/>
                  </a:lnTo>
                  <a:lnTo>
                    <a:pt x="712" y="975"/>
                  </a:lnTo>
                  <a:lnTo>
                    <a:pt x="716" y="946"/>
                  </a:lnTo>
                  <a:lnTo>
                    <a:pt x="717" y="909"/>
                  </a:lnTo>
                  <a:lnTo>
                    <a:pt x="719" y="891"/>
                  </a:lnTo>
                  <a:lnTo>
                    <a:pt x="720" y="884"/>
                  </a:lnTo>
                  <a:lnTo>
                    <a:pt x="722" y="871"/>
                  </a:lnTo>
                  <a:lnTo>
                    <a:pt x="723" y="846"/>
                  </a:lnTo>
                  <a:lnTo>
                    <a:pt x="726" y="812"/>
                  </a:lnTo>
                  <a:lnTo>
                    <a:pt x="728" y="778"/>
                  </a:lnTo>
                  <a:lnTo>
                    <a:pt x="729" y="751"/>
                  </a:lnTo>
                  <a:lnTo>
                    <a:pt x="731" y="742"/>
                  </a:lnTo>
                  <a:lnTo>
                    <a:pt x="732" y="738"/>
                  </a:lnTo>
                  <a:lnTo>
                    <a:pt x="734" y="728"/>
                  </a:lnTo>
                  <a:lnTo>
                    <a:pt x="737" y="702"/>
                  </a:lnTo>
                  <a:lnTo>
                    <a:pt x="739" y="668"/>
                  </a:lnTo>
                  <a:lnTo>
                    <a:pt x="740" y="643"/>
                  </a:lnTo>
                  <a:lnTo>
                    <a:pt x="742" y="636"/>
                  </a:lnTo>
                  <a:lnTo>
                    <a:pt x="743" y="625"/>
                  </a:lnTo>
                  <a:lnTo>
                    <a:pt x="745" y="609"/>
                  </a:lnTo>
                  <a:lnTo>
                    <a:pt x="748" y="600"/>
                  </a:lnTo>
                  <a:lnTo>
                    <a:pt x="749" y="605"/>
                  </a:lnTo>
                  <a:lnTo>
                    <a:pt x="751" y="611"/>
                  </a:lnTo>
                  <a:lnTo>
                    <a:pt x="752" y="611"/>
                  </a:lnTo>
                  <a:lnTo>
                    <a:pt x="754" y="614"/>
                  </a:lnTo>
                  <a:lnTo>
                    <a:pt x="755" y="623"/>
                  </a:lnTo>
                  <a:lnTo>
                    <a:pt x="759" y="631"/>
                  </a:lnTo>
                  <a:lnTo>
                    <a:pt x="760" y="639"/>
                  </a:lnTo>
                  <a:lnTo>
                    <a:pt x="762" y="640"/>
                  </a:lnTo>
                  <a:lnTo>
                    <a:pt x="763" y="629"/>
                  </a:lnTo>
                  <a:lnTo>
                    <a:pt x="765" y="628"/>
                  </a:lnTo>
                  <a:lnTo>
                    <a:pt x="766" y="652"/>
                  </a:lnTo>
                  <a:lnTo>
                    <a:pt x="769" y="680"/>
                  </a:lnTo>
                  <a:lnTo>
                    <a:pt x="771" y="679"/>
                  </a:lnTo>
                  <a:lnTo>
                    <a:pt x="772" y="646"/>
                  </a:lnTo>
                  <a:lnTo>
                    <a:pt x="774" y="606"/>
                  </a:lnTo>
                  <a:lnTo>
                    <a:pt x="775" y="573"/>
                  </a:lnTo>
                  <a:lnTo>
                    <a:pt x="777" y="543"/>
                  </a:lnTo>
                  <a:lnTo>
                    <a:pt x="780" y="513"/>
                  </a:lnTo>
                  <a:lnTo>
                    <a:pt x="782" y="476"/>
                  </a:lnTo>
                  <a:lnTo>
                    <a:pt x="783" y="436"/>
                  </a:lnTo>
                  <a:lnTo>
                    <a:pt x="785" y="407"/>
                  </a:lnTo>
                  <a:lnTo>
                    <a:pt x="786" y="398"/>
                  </a:lnTo>
                  <a:lnTo>
                    <a:pt x="788" y="404"/>
                  </a:lnTo>
                  <a:lnTo>
                    <a:pt x="789" y="419"/>
                  </a:lnTo>
                  <a:lnTo>
                    <a:pt x="792" y="433"/>
                  </a:lnTo>
                  <a:lnTo>
                    <a:pt x="794" y="442"/>
                  </a:lnTo>
                  <a:lnTo>
                    <a:pt x="795" y="451"/>
                  </a:lnTo>
                  <a:lnTo>
                    <a:pt x="797" y="464"/>
                  </a:lnTo>
                  <a:lnTo>
                    <a:pt x="799" y="470"/>
                  </a:lnTo>
                  <a:lnTo>
                    <a:pt x="800" y="470"/>
                  </a:lnTo>
                  <a:lnTo>
                    <a:pt x="803" y="473"/>
                  </a:lnTo>
                  <a:lnTo>
                    <a:pt x="805" y="488"/>
                  </a:lnTo>
                  <a:lnTo>
                    <a:pt x="806" y="511"/>
                  </a:lnTo>
                  <a:lnTo>
                    <a:pt x="808" y="539"/>
                  </a:lnTo>
                  <a:lnTo>
                    <a:pt x="809" y="576"/>
                  </a:lnTo>
                  <a:lnTo>
                    <a:pt x="811" y="632"/>
                  </a:lnTo>
                  <a:lnTo>
                    <a:pt x="814" y="708"/>
                  </a:lnTo>
                  <a:lnTo>
                    <a:pt x="815" y="791"/>
                  </a:lnTo>
                  <a:lnTo>
                    <a:pt x="817" y="874"/>
                  </a:lnTo>
                  <a:lnTo>
                    <a:pt x="818" y="960"/>
                  </a:lnTo>
                  <a:lnTo>
                    <a:pt x="820" y="1052"/>
                  </a:lnTo>
                  <a:lnTo>
                    <a:pt x="822" y="1129"/>
                  </a:lnTo>
                  <a:lnTo>
                    <a:pt x="825" y="1187"/>
                  </a:lnTo>
                  <a:lnTo>
                    <a:pt x="826" y="1245"/>
                  </a:lnTo>
                  <a:lnTo>
                    <a:pt x="828" y="1311"/>
                  </a:lnTo>
                  <a:lnTo>
                    <a:pt x="829" y="1367"/>
                  </a:lnTo>
                  <a:lnTo>
                    <a:pt x="831" y="1403"/>
                  </a:lnTo>
                  <a:lnTo>
                    <a:pt x="832" y="1430"/>
                  </a:lnTo>
                  <a:lnTo>
                    <a:pt x="835" y="1451"/>
                  </a:lnTo>
                  <a:lnTo>
                    <a:pt x="837" y="1463"/>
                  </a:lnTo>
                  <a:lnTo>
                    <a:pt x="838" y="1480"/>
                  </a:lnTo>
                  <a:lnTo>
                    <a:pt x="840" y="1508"/>
                  </a:lnTo>
                  <a:lnTo>
                    <a:pt x="842" y="1562"/>
                  </a:lnTo>
                  <a:lnTo>
                    <a:pt x="843" y="1611"/>
                  </a:lnTo>
                  <a:lnTo>
                    <a:pt x="846" y="1643"/>
                  </a:lnTo>
                  <a:lnTo>
                    <a:pt x="848" y="1677"/>
                  </a:lnTo>
                  <a:lnTo>
                    <a:pt x="849" y="1677"/>
                  </a:lnTo>
                  <a:lnTo>
                    <a:pt x="851" y="1677"/>
                  </a:lnTo>
                  <a:lnTo>
                    <a:pt x="852" y="1677"/>
                  </a:lnTo>
                  <a:lnTo>
                    <a:pt x="854" y="1677"/>
                  </a:lnTo>
                  <a:lnTo>
                    <a:pt x="857" y="1677"/>
                  </a:lnTo>
                  <a:lnTo>
                    <a:pt x="858" y="1677"/>
                  </a:lnTo>
                  <a:lnTo>
                    <a:pt x="860" y="1677"/>
                  </a:lnTo>
                  <a:lnTo>
                    <a:pt x="861" y="1677"/>
                  </a:lnTo>
                  <a:lnTo>
                    <a:pt x="863" y="1677"/>
                  </a:lnTo>
                  <a:lnTo>
                    <a:pt x="865" y="1677"/>
                  </a:lnTo>
                  <a:lnTo>
                    <a:pt x="868" y="1677"/>
                  </a:lnTo>
                  <a:lnTo>
                    <a:pt x="869" y="1677"/>
                  </a:lnTo>
                  <a:lnTo>
                    <a:pt x="871" y="1677"/>
                  </a:lnTo>
                  <a:lnTo>
                    <a:pt x="872" y="1677"/>
                  </a:lnTo>
                  <a:lnTo>
                    <a:pt x="874" y="1677"/>
                  </a:lnTo>
                  <a:lnTo>
                    <a:pt x="875" y="1677"/>
                  </a:lnTo>
                  <a:lnTo>
                    <a:pt x="878" y="1677"/>
                  </a:lnTo>
                  <a:lnTo>
                    <a:pt x="880" y="1677"/>
                  </a:lnTo>
                  <a:lnTo>
                    <a:pt x="881" y="1677"/>
                  </a:lnTo>
                  <a:lnTo>
                    <a:pt x="883" y="1677"/>
                  </a:lnTo>
                  <a:lnTo>
                    <a:pt x="885" y="1677"/>
                  </a:lnTo>
                  <a:lnTo>
                    <a:pt x="886" y="1677"/>
                  </a:lnTo>
                  <a:lnTo>
                    <a:pt x="889" y="1677"/>
                  </a:lnTo>
                  <a:lnTo>
                    <a:pt x="891" y="1677"/>
                  </a:lnTo>
                  <a:lnTo>
                    <a:pt x="892" y="1677"/>
                  </a:lnTo>
                  <a:lnTo>
                    <a:pt x="894" y="1677"/>
                  </a:lnTo>
                  <a:lnTo>
                    <a:pt x="895" y="1677"/>
                  </a:lnTo>
                  <a:lnTo>
                    <a:pt x="897" y="1677"/>
                  </a:lnTo>
                  <a:lnTo>
                    <a:pt x="898" y="1677"/>
                  </a:lnTo>
                  <a:lnTo>
                    <a:pt x="901" y="1677"/>
                  </a:lnTo>
                  <a:lnTo>
                    <a:pt x="903" y="1677"/>
                  </a:lnTo>
                  <a:lnTo>
                    <a:pt x="905" y="1677"/>
                  </a:lnTo>
                  <a:lnTo>
                    <a:pt x="906" y="1677"/>
                  </a:lnTo>
                  <a:lnTo>
                    <a:pt x="908" y="1677"/>
                  </a:lnTo>
                  <a:lnTo>
                    <a:pt x="909" y="1677"/>
                  </a:lnTo>
                  <a:lnTo>
                    <a:pt x="912" y="1677"/>
                  </a:lnTo>
                  <a:lnTo>
                    <a:pt x="914" y="1677"/>
                  </a:lnTo>
                  <a:lnTo>
                    <a:pt x="915" y="1677"/>
                  </a:lnTo>
                  <a:lnTo>
                    <a:pt x="917" y="1677"/>
                  </a:lnTo>
                  <a:lnTo>
                    <a:pt x="918" y="1677"/>
                  </a:lnTo>
                  <a:lnTo>
                    <a:pt x="920" y="1677"/>
                  </a:lnTo>
                  <a:lnTo>
                    <a:pt x="923" y="1677"/>
                  </a:lnTo>
                  <a:lnTo>
                    <a:pt x="924" y="1677"/>
                  </a:lnTo>
                  <a:lnTo>
                    <a:pt x="926" y="1677"/>
                  </a:lnTo>
                  <a:lnTo>
                    <a:pt x="928" y="1677"/>
                  </a:lnTo>
                  <a:lnTo>
                    <a:pt x="929" y="1677"/>
                  </a:lnTo>
                  <a:lnTo>
                    <a:pt x="931" y="1588"/>
                  </a:lnTo>
                  <a:lnTo>
                    <a:pt x="934" y="1437"/>
                  </a:lnTo>
                  <a:lnTo>
                    <a:pt x="935" y="1308"/>
                  </a:lnTo>
                  <a:lnTo>
                    <a:pt x="937" y="1224"/>
                  </a:lnTo>
                  <a:lnTo>
                    <a:pt x="938" y="1145"/>
                  </a:lnTo>
                  <a:lnTo>
                    <a:pt x="940" y="1059"/>
                  </a:lnTo>
                  <a:lnTo>
                    <a:pt x="941" y="981"/>
                  </a:lnTo>
                  <a:lnTo>
                    <a:pt x="944" y="917"/>
                  </a:lnTo>
                  <a:lnTo>
                    <a:pt x="946" y="874"/>
                  </a:lnTo>
                  <a:lnTo>
                    <a:pt x="948" y="857"/>
                  </a:lnTo>
                  <a:lnTo>
                    <a:pt x="949" y="851"/>
                  </a:lnTo>
                  <a:lnTo>
                    <a:pt x="951" y="849"/>
                  </a:lnTo>
                  <a:lnTo>
                    <a:pt x="952" y="866"/>
                  </a:lnTo>
                  <a:lnTo>
                    <a:pt x="955" y="891"/>
                  </a:lnTo>
                  <a:lnTo>
                    <a:pt x="957" y="897"/>
                  </a:lnTo>
                  <a:lnTo>
                    <a:pt x="958" y="909"/>
                  </a:lnTo>
                  <a:lnTo>
                    <a:pt x="960" y="929"/>
                  </a:lnTo>
                  <a:lnTo>
                    <a:pt x="961" y="957"/>
                  </a:lnTo>
                  <a:lnTo>
                    <a:pt x="963" y="987"/>
                  </a:lnTo>
                  <a:lnTo>
                    <a:pt x="966" y="1012"/>
                  </a:lnTo>
                  <a:lnTo>
                    <a:pt x="968" y="1024"/>
                  </a:lnTo>
                  <a:lnTo>
                    <a:pt x="969" y="1020"/>
                  </a:lnTo>
                  <a:lnTo>
                    <a:pt x="971" y="992"/>
                  </a:lnTo>
                  <a:lnTo>
                    <a:pt x="972" y="946"/>
                  </a:lnTo>
                  <a:lnTo>
                    <a:pt x="974" y="901"/>
                  </a:lnTo>
                  <a:lnTo>
                    <a:pt x="977" y="875"/>
                  </a:lnTo>
                  <a:lnTo>
                    <a:pt x="978" y="866"/>
                  </a:lnTo>
                  <a:lnTo>
                    <a:pt x="980" y="872"/>
                  </a:lnTo>
                  <a:lnTo>
                    <a:pt x="981" y="892"/>
                  </a:lnTo>
                  <a:lnTo>
                    <a:pt x="983" y="917"/>
                  </a:lnTo>
                  <a:lnTo>
                    <a:pt x="984" y="953"/>
                  </a:lnTo>
                  <a:lnTo>
                    <a:pt x="987" y="1026"/>
                  </a:lnTo>
                  <a:lnTo>
                    <a:pt x="989" y="1113"/>
                  </a:lnTo>
                  <a:lnTo>
                    <a:pt x="991" y="1185"/>
                  </a:lnTo>
                  <a:lnTo>
                    <a:pt x="992" y="1233"/>
                  </a:lnTo>
                  <a:lnTo>
                    <a:pt x="994" y="1262"/>
                  </a:lnTo>
                  <a:lnTo>
                    <a:pt x="995" y="1254"/>
                  </a:lnTo>
                  <a:lnTo>
                    <a:pt x="998" y="1202"/>
                  </a:lnTo>
                  <a:lnTo>
                    <a:pt x="1000" y="1124"/>
                  </a:lnTo>
                  <a:lnTo>
                    <a:pt x="1001" y="1038"/>
                  </a:lnTo>
                  <a:lnTo>
                    <a:pt x="1003" y="947"/>
                  </a:lnTo>
                  <a:lnTo>
                    <a:pt x="1004" y="860"/>
                  </a:lnTo>
                  <a:lnTo>
                    <a:pt x="1006" y="788"/>
                  </a:lnTo>
                  <a:lnTo>
                    <a:pt x="1007" y="732"/>
                  </a:lnTo>
                  <a:lnTo>
                    <a:pt x="1011" y="697"/>
                  </a:lnTo>
                  <a:lnTo>
                    <a:pt x="1012" y="685"/>
                  </a:lnTo>
                  <a:lnTo>
                    <a:pt x="1014" y="691"/>
                  </a:lnTo>
                  <a:lnTo>
                    <a:pt x="1015" y="702"/>
                  </a:lnTo>
                  <a:lnTo>
                    <a:pt x="1017" y="717"/>
                  </a:lnTo>
                  <a:lnTo>
                    <a:pt x="1018" y="742"/>
                  </a:lnTo>
                  <a:lnTo>
                    <a:pt x="1021" y="772"/>
                  </a:lnTo>
                  <a:lnTo>
                    <a:pt x="1023" y="806"/>
                  </a:lnTo>
                  <a:lnTo>
                    <a:pt x="1024" y="838"/>
                  </a:lnTo>
                  <a:lnTo>
                    <a:pt x="1026" y="867"/>
                  </a:lnTo>
                  <a:lnTo>
                    <a:pt x="1027" y="892"/>
                  </a:lnTo>
                  <a:lnTo>
                    <a:pt x="1029" y="915"/>
                  </a:lnTo>
                  <a:lnTo>
                    <a:pt x="1032" y="938"/>
                  </a:lnTo>
                  <a:lnTo>
                    <a:pt x="1034" y="950"/>
                  </a:lnTo>
                  <a:lnTo>
                    <a:pt x="1035" y="940"/>
                  </a:lnTo>
                  <a:lnTo>
                    <a:pt x="1037" y="897"/>
                  </a:lnTo>
                  <a:lnTo>
                    <a:pt x="1038" y="837"/>
                  </a:lnTo>
                  <a:lnTo>
                    <a:pt x="1040" y="785"/>
                  </a:lnTo>
                  <a:lnTo>
                    <a:pt x="1043" y="742"/>
                  </a:lnTo>
                  <a:lnTo>
                    <a:pt x="1044" y="699"/>
                  </a:lnTo>
                  <a:lnTo>
                    <a:pt x="1046" y="663"/>
                  </a:lnTo>
                  <a:lnTo>
                    <a:pt x="1047" y="640"/>
                  </a:lnTo>
                  <a:lnTo>
                    <a:pt x="1049" y="609"/>
                  </a:lnTo>
                  <a:lnTo>
                    <a:pt x="1050" y="566"/>
                  </a:lnTo>
                  <a:lnTo>
                    <a:pt x="1054" y="534"/>
                  </a:lnTo>
                  <a:lnTo>
                    <a:pt x="1055" y="514"/>
                  </a:lnTo>
                  <a:lnTo>
                    <a:pt x="1057" y="494"/>
                  </a:lnTo>
                  <a:lnTo>
                    <a:pt x="1058" y="474"/>
                  </a:lnTo>
                  <a:lnTo>
                    <a:pt x="1060" y="459"/>
                  </a:lnTo>
                  <a:lnTo>
                    <a:pt x="1061" y="444"/>
                  </a:lnTo>
                  <a:lnTo>
                    <a:pt x="1064" y="427"/>
                  </a:lnTo>
                  <a:lnTo>
                    <a:pt x="1066" y="413"/>
                  </a:lnTo>
                  <a:lnTo>
                    <a:pt x="1067" y="393"/>
                  </a:lnTo>
                  <a:lnTo>
                    <a:pt x="1069" y="365"/>
                  </a:lnTo>
                  <a:lnTo>
                    <a:pt x="1070" y="344"/>
                  </a:lnTo>
                  <a:lnTo>
                    <a:pt x="1072" y="328"/>
                  </a:lnTo>
                  <a:lnTo>
                    <a:pt x="1075" y="308"/>
                  </a:lnTo>
                  <a:lnTo>
                    <a:pt x="1077" y="287"/>
                  </a:lnTo>
                  <a:lnTo>
                    <a:pt x="1078" y="276"/>
                  </a:lnTo>
                  <a:lnTo>
                    <a:pt x="1080" y="269"/>
                  </a:lnTo>
                  <a:lnTo>
                    <a:pt x="1081" y="256"/>
                  </a:lnTo>
                  <a:lnTo>
                    <a:pt x="1083" y="249"/>
                  </a:lnTo>
                  <a:lnTo>
                    <a:pt x="1086" y="247"/>
                  </a:lnTo>
                  <a:lnTo>
                    <a:pt x="1087" y="247"/>
                  </a:lnTo>
                  <a:lnTo>
                    <a:pt x="1089" y="249"/>
                  </a:lnTo>
                  <a:lnTo>
                    <a:pt x="1090" y="259"/>
                  </a:lnTo>
                  <a:lnTo>
                    <a:pt x="1092" y="278"/>
                  </a:lnTo>
                  <a:lnTo>
                    <a:pt x="1093" y="313"/>
                  </a:lnTo>
                  <a:lnTo>
                    <a:pt x="1097" y="365"/>
                  </a:lnTo>
                  <a:lnTo>
                    <a:pt x="1098" y="422"/>
                  </a:lnTo>
                  <a:lnTo>
                    <a:pt x="1100" y="482"/>
                  </a:lnTo>
                  <a:lnTo>
                    <a:pt x="1101" y="577"/>
                  </a:lnTo>
                  <a:lnTo>
                    <a:pt x="1103" y="691"/>
                  </a:lnTo>
                  <a:lnTo>
                    <a:pt x="1104" y="803"/>
                  </a:lnTo>
                  <a:lnTo>
                    <a:pt x="1107" y="880"/>
                  </a:lnTo>
                  <a:lnTo>
                    <a:pt x="1109" y="989"/>
                  </a:lnTo>
                  <a:lnTo>
                    <a:pt x="1110" y="1162"/>
                  </a:lnTo>
                  <a:lnTo>
                    <a:pt x="1112" y="1313"/>
                  </a:lnTo>
                  <a:lnTo>
                    <a:pt x="1113" y="1387"/>
                  </a:lnTo>
                  <a:lnTo>
                    <a:pt x="1115" y="1437"/>
                  </a:lnTo>
                  <a:lnTo>
                    <a:pt x="1118" y="1514"/>
                  </a:lnTo>
                  <a:lnTo>
                    <a:pt x="1120" y="1594"/>
                  </a:lnTo>
                  <a:lnTo>
                    <a:pt x="1121" y="1646"/>
                  </a:lnTo>
                  <a:lnTo>
                    <a:pt x="1123" y="1677"/>
                  </a:lnTo>
                  <a:lnTo>
                    <a:pt x="1124" y="1677"/>
                  </a:lnTo>
                  <a:lnTo>
                    <a:pt x="1126" y="1677"/>
                  </a:lnTo>
                  <a:lnTo>
                    <a:pt x="1127" y="1677"/>
                  </a:lnTo>
                  <a:lnTo>
                    <a:pt x="1130" y="1677"/>
                  </a:lnTo>
                  <a:lnTo>
                    <a:pt x="1132" y="1677"/>
                  </a:lnTo>
                  <a:lnTo>
                    <a:pt x="1133" y="1677"/>
                  </a:lnTo>
                  <a:lnTo>
                    <a:pt x="1135" y="1677"/>
                  </a:lnTo>
                  <a:lnTo>
                    <a:pt x="1137" y="1677"/>
                  </a:lnTo>
                  <a:lnTo>
                    <a:pt x="1138" y="1677"/>
                  </a:lnTo>
                  <a:lnTo>
                    <a:pt x="1141" y="1677"/>
                  </a:lnTo>
                  <a:lnTo>
                    <a:pt x="1143" y="1677"/>
                  </a:lnTo>
                  <a:lnTo>
                    <a:pt x="1144" y="1677"/>
                  </a:lnTo>
                  <a:lnTo>
                    <a:pt x="1146" y="1677"/>
                  </a:lnTo>
                  <a:lnTo>
                    <a:pt x="1147" y="1677"/>
                  </a:lnTo>
                  <a:lnTo>
                    <a:pt x="1149" y="1677"/>
                  </a:lnTo>
                  <a:lnTo>
                    <a:pt x="1152" y="1677"/>
                  </a:lnTo>
                  <a:lnTo>
                    <a:pt x="1153" y="1677"/>
                  </a:lnTo>
                  <a:lnTo>
                    <a:pt x="1155" y="1677"/>
                  </a:lnTo>
                  <a:lnTo>
                    <a:pt x="1156" y="1677"/>
                  </a:lnTo>
                  <a:lnTo>
                    <a:pt x="1158" y="1677"/>
                  </a:lnTo>
                  <a:lnTo>
                    <a:pt x="1160" y="1677"/>
                  </a:lnTo>
                  <a:lnTo>
                    <a:pt x="1163" y="1677"/>
                  </a:lnTo>
                  <a:lnTo>
                    <a:pt x="1164" y="1677"/>
                  </a:lnTo>
                  <a:lnTo>
                    <a:pt x="1166" y="1677"/>
                  </a:lnTo>
                  <a:lnTo>
                    <a:pt x="1167" y="1677"/>
                  </a:lnTo>
                  <a:lnTo>
                    <a:pt x="1169" y="1677"/>
                  </a:lnTo>
                  <a:lnTo>
                    <a:pt x="1170" y="1677"/>
                  </a:lnTo>
                  <a:lnTo>
                    <a:pt x="1173" y="1677"/>
                  </a:lnTo>
                  <a:lnTo>
                    <a:pt x="1175" y="1677"/>
                  </a:lnTo>
                  <a:lnTo>
                    <a:pt x="1176" y="1677"/>
                  </a:lnTo>
                  <a:lnTo>
                    <a:pt x="1178" y="1677"/>
                  </a:lnTo>
                  <a:lnTo>
                    <a:pt x="1180" y="1575"/>
                  </a:lnTo>
                  <a:lnTo>
                    <a:pt x="1181" y="1430"/>
                  </a:lnTo>
                  <a:lnTo>
                    <a:pt x="1184" y="1313"/>
                  </a:lnTo>
                  <a:lnTo>
                    <a:pt x="1186" y="1285"/>
                  </a:lnTo>
                  <a:lnTo>
                    <a:pt x="1187" y="1264"/>
                  </a:lnTo>
                  <a:lnTo>
                    <a:pt x="1189" y="1164"/>
                  </a:lnTo>
                  <a:lnTo>
                    <a:pt x="1190" y="1030"/>
                  </a:lnTo>
                  <a:lnTo>
                    <a:pt x="1192" y="961"/>
                  </a:lnTo>
                  <a:lnTo>
                    <a:pt x="1195" y="953"/>
                  </a:lnTo>
                  <a:lnTo>
                    <a:pt x="1196" y="944"/>
                  </a:lnTo>
                  <a:lnTo>
                    <a:pt x="1198" y="910"/>
                  </a:lnTo>
                  <a:lnTo>
                    <a:pt x="1199" y="858"/>
                  </a:lnTo>
                  <a:lnTo>
                    <a:pt x="1201" y="795"/>
                  </a:lnTo>
                  <a:lnTo>
                    <a:pt x="1203" y="732"/>
                  </a:lnTo>
                  <a:lnTo>
                    <a:pt x="1206" y="702"/>
                  </a:lnTo>
                  <a:lnTo>
                    <a:pt x="1207" y="695"/>
                  </a:lnTo>
                  <a:lnTo>
                    <a:pt x="1209" y="700"/>
                  </a:lnTo>
                  <a:lnTo>
                    <a:pt x="1210" y="722"/>
                  </a:lnTo>
                  <a:lnTo>
                    <a:pt x="1212" y="755"/>
                  </a:lnTo>
                  <a:lnTo>
                    <a:pt x="1213" y="777"/>
                  </a:lnTo>
                  <a:lnTo>
                    <a:pt x="1216" y="777"/>
                  </a:lnTo>
                  <a:lnTo>
                    <a:pt x="1218" y="774"/>
                  </a:lnTo>
                  <a:lnTo>
                    <a:pt x="1219" y="783"/>
                  </a:lnTo>
                  <a:lnTo>
                    <a:pt x="1221" y="788"/>
                  </a:lnTo>
                  <a:lnTo>
                    <a:pt x="1223" y="774"/>
                  </a:lnTo>
                  <a:lnTo>
                    <a:pt x="1224" y="743"/>
                  </a:lnTo>
                  <a:lnTo>
                    <a:pt x="1227" y="697"/>
                  </a:lnTo>
                  <a:lnTo>
                    <a:pt x="1229" y="637"/>
                  </a:lnTo>
                  <a:lnTo>
                    <a:pt x="1230" y="573"/>
                  </a:lnTo>
                  <a:lnTo>
                    <a:pt x="1232" y="517"/>
                  </a:lnTo>
                  <a:lnTo>
                    <a:pt x="1233" y="474"/>
                  </a:lnTo>
                  <a:lnTo>
                    <a:pt x="1235" y="447"/>
                  </a:lnTo>
                  <a:lnTo>
                    <a:pt x="1236" y="428"/>
                  </a:lnTo>
                  <a:lnTo>
                    <a:pt x="1239" y="419"/>
                  </a:lnTo>
                  <a:lnTo>
                    <a:pt x="1241" y="419"/>
                  </a:lnTo>
                  <a:lnTo>
                    <a:pt x="1243" y="436"/>
                  </a:lnTo>
                  <a:lnTo>
                    <a:pt x="1244" y="465"/>
                  </a:lnTo>
                  <a:lnTo>
                    <a:pt x="1246" y="490"/>
                  </a:lnTo>
                  <a:lnTo>
                    <a:pt x="1247" y="505"/>
                  </a:lnTo>
                  <a:lnTo>
                    <a:pt x="1250" y="508"/>
                  </a:lnTo>
                </a:path>
              </a:pathLst>
            </a:custGeom>
            <a:noFill/>
            <a:ln w="324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6" name=""/>
            <p:cNvSpPr/>
            <p:nvPr/>
          </p:nvSpPr>
          <p:spPr>
            <a:xfrm>
              <a:off x="1783440" y="4113360"/>
              <a:ext cx="797400" cy="626760"/>
            </a:xfrm>
            <a:custGeom>
              <a:avLst/>
              <a:gdLst/>
              <a:ahLst/>
              <a:rect l="l" t="t" r="r" b="b"/>
              <a:pathLst>
                <a:path w="1249" h="1413">
                  <a:moveTo>
                    <a:pt x="0" y="244"/>
                  </a:moveTo>
                  <a:lnTo>
                    <a:pt x="2" y="233"/>
                  </a:lnTo>
                  <a:lnTo>
                    <a:pt x="3" y="215"/>
                  </a:lnTo>
                  <a:lnTo>
                    <a:pt x="5" y="207"/>
                  </a:lnTo>
                  <a:lnTo>
                    <a:pt x="6" y="221"/>
                  </a:lnTo>
                  <a:lnTo>
                    <a:pt x="8" y="261"/>
                  </a:lnTo>
                  <a:lnTo>
                    <a:pt x="11" y="319"/>
                  </a:lnTo>
                  <a:lnTo>
                    <a:pt x="12" y="387"/>
                  </a:lnTo>
                  <a:lnTo>
                    <a:pt x="14" y="456"/>
                  </a:lnTo>
                  <a:lnTo>
                    <a:pt x="16" y="528"/>
                  </a:lnTo>
                  <a:lnTo>
                    <a:pt x="17" y="597"/>
                  </a:lnTo>
                  <a:lnTo>
                    <a:pt x="19" y="654"/>
                  </a:lnTo>
                  <a:lnTo>
                    <a:pt x="22" y="702"/>
                  </a:lnTo>
                  <a:lnTo>
                    <a:pt x="23" y="757"/>
                  </a:lnTo>
                  <a:lnTo>
                    <a:pt x="25" y="806"/>
                  </a:lnTo>
                  <a:lnTo>
                    <a:pt x="26" y="842"/>
                  </a:lnTo>
                  <a:lnTo>
                    <a:pt x="28" y="872"/>
                  </a:lnTo>
                  <a:lnTo>
                    <a:pt x="29" y="903"/>
                  </a:lnTo>
                  <a:lnTo>
                    <a:pt x="32" y="912"/>
                  </a:lnTo>
                  <a:lnTo>
                    <a:pt x="34" y="895"/>
                  </a:lnTo>
                  <a:lnTo>
                    <a:pt x="36" y="874"/>
                  </a:lnTo>
                  <a:lnTo>
                    <a:pt x="37" y="861"/>
                  </a:lnTo>
                  <a:lnTo>
                    <a:pt x="39" y="855"/>
                  </a:lnTo>
                  <a:lnTo>
                    <a:pt x="40" y="855"/>
                  </a:lnTo>
                  <a:lnTo>
                    <a:pt x="43" y="869"/>
                  </a:lnTo>
                  <a:lnTo>
                    <a:pt x="45" y="906"/>
                  </a:lnTo>
                  <a:lnTo>
                    <a:pt x="46" y="974"/>
                  </a:lnTo>
                  <a:lnTo>
                    <a:pt x="48" y="1061"/>
                  </a:lnTo>
                  <a:lnTo>
                    <a:pt x="49" y="1136"/>
                  </a:lnTo>
                  <a:lnTo>
                    <a:pt x="51" y="1187"/>
                  </a:lnTo>
                  <a:lnTo>
                    <a:pt x="54" y="1230"/>
                  </a:lnTo>
                  <a:lnTo>
                    <a:pt x="56" y="1298"/>
                  </a:lnTo>
                  <a:lnTo>
                    <a:pt x="57" y="1358"/>
                  </a:lnTo>
                  <a:lnTo>
                    <a:pt x="59" y="1413"/>
                  </a:lnTo>
                  <a:lnTo>
                    <a:pt x="60" y="1413"/>
                  </a:lnTo>
                  <a:lnTo>
                    <a:pt x="62" y="1413"/>
                  </a:lnTo>
                  <a:lnTo>
                    <a:pt x="65" y="1413"/>
                  </a:lnTo>
                  <a:lnTo>
                    <a:pt x="66" y="1413"/>
                  </a:lnTo>
                  <a:lnTo>
                    <a:pt x="68" y="1413"/>
                  </a:lnTo>
                  <a:lnTo>
                    <a:pt x="69" y="1413"/>
                  </a:lnTo>
                  <a:lnTo>
                    <a:pt x="71" y="1413"/>
                  </a:lnTo>
                  <a:lnTo>
                    <a:pt x="72" y="1413"/>
                  </a:lnTo>
                  <a:lnTo>
                    <a:pt x="75" y="1413"/>
                  </a:lnTo>
                  <a:lnTo>
                    <a:pt x="77" y="1413"/>
                  </a:lnTo>
                  <a:lnTo>
                    <a:pt x="79" y="1413"/>
                  </a:lnTo>
                  <a:lnTo>
                    <a:pt x="80" y="1413"/>
                  </a:lnTo>
                  <a:lnTo>
                    <a:pt x="82" y="1413"/>
                  </a:lnTo>
                  <a:lnTo>
                    <a:pt x="83" y="1413"/>
                  </a:lnTo>
                  <a:lnTo>
                    <a:pt x="86" y="1413"/>
                  </a:lnTo>
                  <a:lnTo>
                    <a:pt x="88" y="1413"/>
                  </a:lnTo>
                  <a:lnTo>
                    <a:pt x="89" y="1413"/>
                  </a:lnTo>
                  <a:lnTo>
                    <a:pt x="91" y="1385"/>
                  </a:lnTo>
                  <a:lnTo>
                    <a:pt x="92" y="1264"/>
                  </a:lnTo>
                  <a:lnTo>
                    <a:pt x="94" y="1164"/>
                  </a:lnTo>
                  <a:lnTo>
                    <a:pt x="95" y="1064"/>
                  </a:lnTo>
                  <a:lnTo>
                    <a:pt x="99" y="981"/>
                  </a:lnTo>
                  <a:lnTo>
                    <a:pt x="100" y="929"/>
                  </a:lnTo>
                  <a:lnTo>
                    <a:pt x="102" y="889"/>
                  </a:lnTo>
                  <a:lnTo>
                    <a:pt x="103" y="828"/>
                  </a:lnTo>
                  <a:lnTo>
                    <a:pt x="105" y="748"/>
                  </a:lnTo>
                  <a:lnTo>
                    <a:pt x="106" y="668"/>
                  </a:lnTo>
                  <a:lnTo>
                    <a:pt x="109" y="588"/>
                  </a:lnTo>
                  <a:lnTo>
                    <a:pt x="111" y="519"/>
                  </a:lnTo>
                  <a:lnTo>
                    <a:pt x="112" y="467"/>
                  </a:lnTo>
                  <a:lnTo>
                    <a:pt x="114" y="416"/>
                  </a:lnTo>
                  <a:lnTo>
                    <a:pt x="115" y="355"/>
                  </a:lnTo>
                  <a:lnTo>
                    <a:pt x="117" y="304"/>
                  </a:lnTo>
                  <a:lnTo>
                    <a:pt x="120" y="284"/>
                  </a:lnTo>
                  <a:lnTo>
                    <a:pt x="122" y="267"/>
                  </a:lnTo>
                  <a:lnTo>
                    <a:pt x="123" y="235"/>
                  </a:lnTo>
                  <a:lnTo>
                    <a:pt x="125" y="203"/>
                  </a:lnTo>
                  <a:lnTo>
                    <a:pt x="126" y="195"/>
                  </a:lnTo>
                  <a:lnTo>
                    <a:pt x="128" y="198"/>
                  </a:lnTo>
                  <a:lnTo>
                    <a:pt x="131" y="192"/>
                  </a:lnTo>
                  <a:lnTo>
                    <a:pt x="132" y="175"/>
                  </a:lnTo>
                  <a:lnTo>
                    <a:pt x="134" y="161"/>
                  </a:lnTo>
                  <a:lnTo>
                    <a:pt x="135" y="147"/>
                  </a:lnTo>
                  <a:lnTo>
                    <a:pt x="137" y="132"/>
                  </a:lnTo>
                  <a:lnTo>
                    <a:pt x="138" y="120"/>
                  </a:lnTo>
                  <a:lnTo>
                    <a:pt x="142" y="109"/>
                  </a:lnTo>
                  <a:lnTo>
                    <a:pt x="143" y="94"/>
                  </a:lnTo>
                  <a:lnTo>
                    <a:pt x="145" y="72"/>
                  </a:lnTo>
                  <a:lnTo>
                    <a:pt x="146" y="52"/>
                  </a:lnTo>
                  <a:lnTo>
                    <a:pt x="148" y="34"/>
                  </a:lnTo>
                  <a:lnTo>
                    <a:pt x="149" y="18"/>
                  </a:lnTo>
                  <a:lnTo>
                    <a:pt x="152" y="9"/>
                  </a:lnTo>
                  <a:lnTo>
                    <a:pt x="154" y="3"/>
                  </a:lnTo>
                  <a:lnTo>
                    <a:pt x="155" y="0"/>
                  </a:lnTo>
                  <a:lnTo>
                    <a:pt x="157" y="3"/>
                  </a:lnTo>
                  <a:lnTo>
                    <a:pt x="158" y="17"/>
                  </a:lnTo>
                  <a:lnTo>
                    <a:pt x="160" y="37"/>
                  </a:lnTo>
                  <a:lnTo>
                    <a:pt x="163" y="51"/>
                  </a:lnTo>
                  <a:lnTo>
                    <a:pt x="165" y="58"/>
                  </a:lnTo>
                  <a:lnTo>
                    <a:pt x="166" y="74"/>
                  </a:lnTo>
                  <a:lnTo>
                    <a:pt x="168" y="100"/>
                  </a:lnTo>
                  <a:lnTo>
                    <a:pt x="169" y="138"/>
                  </a:lnTo>
                  <a:lnTo>
                    <a:pt x="171" y="192"/>
                  </a:lnTo>
                  <a:lnTo>
                    <a:pt x="174" y="256"/>
                  </a:lnTo>
                  <a:lnTo>
                    <a:pt x="175" y="321"/>
                  </a:lnTo>
                  <a:lnTo>
                    <a:pt x="177" y="376"/>
                  </a:lnTo>
                  <a:lnTo>
                    <a:pt x="178" y="408"/>
                  </a:lnTo>
                  <a:lnTo>
                    <a:pt x="180" y="411"/>
                  </a:lnTo>
                  <a:lnTo>
                    <a:pt x="181" y="395"/>
                  </a:lnTo>
                  <a:lnTo>
                    <a:pt x="185" y="382"/>
                  </a:lnTo>
                  <a:lnTo>
                    <a:pt x="186" y="385"/>
                  </a:lnTo>
                  <a:lnTo>
                    <a:pt x="188" y="405"/>
                  </a:lnTo>
                  <a:lnTo>
                    <a:pt x="189" y="439"/>
                  </a:lnTo>
                  <a:lnTo>
                    <a:pt x="191" y="474"/>
                  </a:lnTo>
                  <a:lnTo>
                    <a:pt x="192" y="502"/>
                  </a:lnTo>
                  <a:lnTo>
                    <a:pt x="195" y="521"/>
                  </a:lnTo>
                  <a:lnTo>
                    <a:pt x="197" y="536"/>
                  </a:lnTo>
                  <a:lnTo>
                    <a:pt x="198" y="554"/>
                  </a:lnTo>
                  <a:lnTo>
                    <a:pt x="200" y="587"/>
                  </a:lnTo>
                  <a:lnTo>
                    <a:pt x="201" y="633"/>
                  </a:lnTo>
                  <a:lnTo>
                    <a:pt x="203" y="680"/>
                  </a:lnTo>
                  <a:lnTo>
                    <a:pt x="205" y="717"/>
                  </a:lnTo>
                  <a:lnTo>
                    <a:pt x="208" y="745"/>
                  </a:lnTo>
                  <a:lnTo>
                    <a:pt x="209" y="759"/>
                  </a:lnTo>
                  <a:lnTo>
                    <a:pt x="211" y="749"/>
                  </a:lnTo>
                  <a:lnTo>
                    <a:pt x="212" y="720"/>
                  </a:lnTo>
                  <a:lnTo>
                    <a:pt x="214" y="700"/>
                  </a:lnTo>
                  <a:lnTo>
                    <a:pt x="215" y="699"/>
                  </a:lnTo>
                  <a:lnTo>
                    <a:pt x="218" y="702"/>
                  </a:lnTo>
                  <a:lnTo>
                    <a:pt x="220" y="697"/>
                  </a:lnTo>
                  <a:lnTo>
                    <a:pt x="221" y="683"/>
                  </a:lnTo>
                  <a:lnTo>
                    <a:pt x="223" y="663"/>
                  </a:lnTo>
                  <a:lnTo>
                    <a:pt x="225" y="636"/>
                  </a:lnTo>
                  <a:lnTo>
                    <a:pt x="226" y="608"/>
                  </a:lnTo>
                  <a:lnTo>
                    <a:pt x="229" y="582"/>
                  </a:lnTo>
                  <a:lnTo>
                    <a:pt x="231" y="550"/>
                  </a:lnTo>
                  <a:lnTo>
                    <a:pt x="232" y="516"/>
                  </a:lnTo>
                  <a:lnTo>
                    <a:pt x="234" y="487"/>
                  </a:lnTo>
                  <a:lnTo>
                    <a:pt x="235" y="464"/>
                  </a:lnTo>
                  <a:lnTo>
                    <a:pt x="237" y="436"/>
                  </a:lnTo>
                  <a:lnTo>
                    <a:pt x="240" y="410"/>
                  </a:lnTo>
                  <a:lnTo>
                    <a:pt x="241" y="396"/>
                  </a:lnTo>
                  <a:lnTo>
                    <a:pt x="243" y="398"/>
                  </a:lnTo>
                  <a:lnTo>
                    <a:pt x="244" y="401"/>
                  </a:lnTo>
                  <a:lnTo>
                    <a:pt x="246" y="407"/>
                  </a:lnTo>
                  <a:lnTo>
                    <a:pt x="248" y="428"/>
                  </a:lnTo>
                  <a:lnTo>
                    <a:pt x="251" y="465"/>
                  </a:lnTo>
                  <a:lnTo>
                    <a:pt x="252" y="507"/>
                  </a:lnTo>
                  <a:lnTo>
                    <a:pt x="254" y="544"/>
                  </a:lnTo>
                  <a:lnTo>
                    <a:pt x="255" y="576"/>
                  </a:lnTo>
                  <a:lnTo>
                    <a:pt x="257" y="608"/>
                  </a:lnTo>
                  <a:lnTo>
                    <a:pt x="258" y="639"/>
                  </a:lnTo>
                  <a:lnTo>
                    <a:pt x="261" y="666"/>
                  </a:lnTo>
                  <a:lnTo>
                    <a:pt x="263" y="686"/>
                  </a:lnTo>
                  <a:lnTo>
                    <a:pt x="264" y="714"/>
                  </a:lnTo>
                  <a:lnTo>
                    <a:pt x="266" y="775"/>
                  </a:lnTo>
                  <a:lnTo>
                    <a:pt x="268" y="869"/>
                  </a:lnTo>
                  <a:lnTo>
                    <a:pt x="269" y="1029"/>
                  </a:lnTo>
                  <a:lnTo>
                    <a:pt x="272" y="1176"/>
                  </a:lnTo>
                  <a:lnTo>
                    <a:pt x="274" y="1287"/>
                  </a:lnTo>
                  <a:lnTo>
                    <a:pt x="275" y="1370"/>
                  </a:lnTo>
                  <a:lnTo>
                    <a:pt x="277" y="1413"/>
                  </a:lnTo>
                  <a:lnTo>
                    <a:pt x="278" y="1413"/>
                  </a:lnTo>
                  <a:lnTo>
                    <a:pt x="280" y="1413"/>
                  </a:lnTo>
                  <a:lnTo>
                    <a:pt x="283" y="1413"/>
                  </a:lnTo>
                  <a:lnTo>
                    <a:pt x="284" y="1413"/>
                  </a:lnTo>
                  <a:lnTo>
                    <a:pt x="286" y="1413"/>
                  </a:lnTo>
                  <a:lnTo>
                    <a:pt x="288" y="1413"/>
                  </a:lnTo>
                  <a:lnTo>
                    <a:pt x="289" y="1413"/>
                  </a:lnTo>
                  <a:lnTo>
                    <a:pt x="291" y="1413"/>
                  </a:lnTo>
                  <a:lnTo>
                    <a:pt x="294" y="1413"/>
                  </a:lnTo>
                  <a:lnTo>
                    <a:pt x="295" y="1413"/>
                  </a:lnTo>
                  <a:lnTo>
                    <a:pt x="297" y="1413"/>
                  </a:lnTo>
                  <a:lnTo>
                    <a:pt x="298" y="1413"/>
                  </a:lnTo>
                  <a:lnTo>
                    <a:pt x="300" y="1413"/>
                  </a:lnTo>
                  <a:lnTo>
                    <a:pt x="301" y="1413"/>
                  </a:lnTo>
                  <a:lnTo>
                    <a:pt x="304" y="1413"/>
                  </a:lnTo>
                  <a:lnTo>
                    <a:pt x="306" y="1413"/>
                  </a:lnTo>
                  <a:lnTo>
                    <a:pt x="307" y="1413"/>
                  </a:lnTo>
                  <a:lnTo>
                    <a:pt x="309" y="1413"/>
                  </a:lnTo>
                  <a:lnTo>
                    <a:pt x="311" y="1413"/>
                  </a:lnTo>
                  <a:lnTo>
                    <a:pt x="312" y="1413"/>
                  </a:lnTo>
                  <a:lnTo>
                    <a:pt x="315" y="1413"/>
                  </a:lnTo>
                  <a:lnTo>
                    <a:pt x="317" y="1413"/>
                  </a:lnTo>
                  <a:lnTo>
                    <a:pt x="318" y="1413"/>
                  </a:lnTo>
                  <a:lnTo>
                    <a:pt x="320" y="1413"/>
                  </a:lnTo>
                  <a:lnTo>
                    <a:pt x="321" y="1413"/>
                  </a:lnTo>
                  <a:lnTo>
                    <a:pt x="323" y="1413"/>
                  </a:lnTo>
                  <a:lnTo>
                    <a:pt x="324" y="1413"/>
                  </a:lnTo>
                  <a:lnTo>
                    <a:pt x="327" y="1413"/>
                  </a:lnTo>
                  <a:lnTo>
                    <a:pt x="329" y="1413"/>
                  </a:lnTo>
                  <a:lnTo>
                    <a:pt x="331" y="1413"/>
                  </a:lnTo>
                  <a:lnTo>
                    <a:pt x="332" y="1413"/>
                  </a:lnTo>
                  <a:lnTo>
                    <a:pt x="334" y="1413"/>
                  </a:lnTo>
                  <a:lnTo>
                    <a:pt x="335" y="1413"/>
                  </a:lnTo>
                  <a:lnTo>
                    <a:pt x="338" y="1413"/>
                  </a:lnTo>
                  <a:lnTo>
                    <a:pt x="340" y="1413"/>
                  </a:lnTo>
                  <a:lnTo>
                    <a:pt x="341" y="1413"/>
                  </a:lnTo>
                  <a:lnTo>
                    <a:pt x="343" y="1319"/>
                  </a:lnTo>
                  <a:lnTo>
                    <a:pt x="344" y="1195"/>
                  </a:lnTo>
                  <a:lnTo>
                    <a:pt x="346" y="1104"/>
                  </a:lnTo>
                  <a:lnTo>
                    <a:pt x="349" y="1069"/>
                  </a:lnTo>
                  <a:lnTo>
                    <a:pt x="350" y="1017"/>
                  </a:lnTo>
                  <a:lnTo>
                    <a:pt x="352" y="923"/>
                  </a:lnTo>
                  <a:lnTo>
                    <a:pt x="354" y="857"/>
                  </a:lnTo>
                  <a:lnTo>
                    <a:pt x="355" y="829"/>
                  </a:lnTo>
                  <a:lnTo>
                    <a:pt x="357" y="811"/>
                  </a:lnTo>
                  <a:lnTo>
                    <a:pt x="360" y="789"/>
                  </a:lnTo>
                  <a:lnTo>
                    <a:pt x="361" y="799"/>
                  </a:lnTo>
                  <a:lnTo>
                    <a:pt x="363" y="811"/>
                  </a:lnTo>
                  <a:lnTo>
                    <a:pt x="364" y="815"/>
                  </a:lnTo>
                  <a:lnTo>
                    <a:pt x="366" y="820"/>
                  </a:lnTo>
                  <a:lnTo>
                    <a:pt x="367" y="834"/>
                  </a:lnTo>
                  <a:lnTo>
                    <a:pt x="370" y="849"/>
                  </a:lnTo>
                  <a:lnTo>
                    <a:pt x="372" y="854"/>
                  </a:lnTo>
                  <a:lnTo>
                    <a:pt x="374" y="834"/>
                  </a:lnTo>
                  <a:lnTo>
                    <a:pt x="375" y="785"/>
                  </a:lnTo>
                  <a:lnTo>
                    <a:pt x="377" y="736"/>
                  </a:lnTo>
                  <a:lnTo>
                    <a:pt x="378" y="708"/>
                  </a:lnTo>
                  <a:lnTo>
                    <a:pt x="381" y="682"/>
                  </a:lnTo>
                  <a:lnTo>
                    <a:pt x="383" y="642"/>
                  </a:lnTo>
                  <a:lnTo>
                    <a:pt x="384" y="591"/>
                  </a:lnTo>
                  <a:lnTo>
                    <a:pt x="386" y="536"/>
                  </a:lnTo>
                  <a:lnTo>
                    <a:pt x="387" y="478"/>
                  </a:lnTo>
                  <a:lnTo>
                    <a:pt x="389" y="424"/>
                  </a:lnTo>
                  <a:lnTo>
                    <a:pt x="392" y="379"/>
                  </a:lnTo>
                  <a:lnTo>
                    <a:pt x="394" y="344"/>
                  </a:lnTo>
                  <a:lnTo>
                    <a:pt x="395" y="316"/>
                  </a:lnTo>
                  <a:lnTo>
                    <a:pt x="397" y="302"/>
                  </a:lnTo>
                  <a:lnTo>
                    <a:pt x="398" y="295"/>
                  </a:lnTo>
                  <a:lnTo>
                    <a:pt x="400" y="289"/>
                  </a:lnTo>
                  <a:lnTo>
                    <a:pt x="403" y="292"/>
                  </a:lnTo>
                  <a:lnTo>
                    <a:pt x="404" y="310"/>
                  </a:lnTo>
                  <a:lnTo>
                    <a:pt x="406" y="338"/>
                  </a:lnTo>
                  <a:lnTo>
                    <a:pt x="407" y="372"/>
                  </a:lnTo>
                  <a:lnTo>
                    <a:pt x="409" y="416"/>
                  </a:lnTo>
                  <a:lnTo>
                    <a:pt x="410" y="465"/>
                  </a:lnTo>
                  <a:lnTo>
                    <a:pt x="413" y="514"/>
                  </a:lnTo>
                  <a:lnTo>
                    <a:pt x="415" y="580"/>
                  </a:lnTo>
                  <a:lnTo>
                    <a:pt x="417" y="682"/>
                  </a:lnTo>
                  <a:lnTo>
                    <a:pt x="418" y="809"/>
                  </a:lnTo>
                  <a:lnTo>
                    <a:pt x="420" y="938"/>
                  </a:lnTo>
                  <a:lnTo>
                    <a:pt x="421" y="1061"/>
                  </a:lnTo>
                  <a:lnTo>
                    <a:pt x="424" y="1169"/>
                  </a:lnTo>
                  <a:lnTo>
                    <a:pt x="426" y="1236"/>
                  </a:lnTo>
                  <a:lnTo>
                    <a:pt x="427" y="1273"/>
                  </a:lnTo>
                  <a:lnTo>
                    <a:pt x="429" y="1308"/>
                  </a:lnTo>
                  <a:lnTo>
                    <a:pt x="430" y="1345"/>
                  </a:lnTo>
                  <a:lnTo>
                    <a:pt x="432" y="1376"/>
                  </a:lnTo>
                  <a:lnTo>
                    <a:pt x="433" y="1413"/>
                  </a:lnTo>
                  <a:lnTo>
                    <a:pt x="437" y="1413"/>
                  </a:lnTo>
                  <a:lnTo>
                    <a:pt x="438" y="1413"/>
                  </a:lnTo>
                  <a:lnTo>
                    <a:pt x="440" y="1413"/>
                  </a:lnTo>
                  <a:lnTo>
                    <a:pt x="441" y="1413"/>
                  </a:lnTo>
                  <a:lnTo>
                    <a:pt x="443" y="1413"/>
                  </a:lnTo>
                  <a:lnTo>
                    <a:pt x="444" y="1413"/>
                  </a:lnTo>
                  <a:lnTo>
                    <a:pt x="447" y="1413"/>
                  </a:lnTo>
                  <a:lnTo>
                    <a:pt x="449" y="1413"/>
                  </a:lnTo>
                  <a:lnTo>
                    <a:pt x="450" y="1413"/>
                  </a:lnTo>
                  <a:lnTo>
                    <a:pt x="452" y="1413"/>
                  </a:lnTo>
                  <a:lnTo>
                    <a:pt x="453" y="1413"/>
                  </a:lnTo>
                  <a:lnTo>
                    <a:pt x="455" y="1413"/>
                  </a:lnTo>
                  <a:lnTo>
                    <a:pt x="458" y="1413"/>
                  </a:lnTo>
                  <a:lnTo>
                    <a:pt x="460" y="1413"/>
                  </a:lnTo>
                  <a:lnTo>
                    <a:pt x="461" y="1413"/>
                  </a:lnTo>
                  <a:lnTo>
                    <a:pt x="463" y="1413"/>
                  </a:lnTo>
                  <a:lnTo>
                    <a:pt x="464" y="1413"/>
                  </a:lnTo>
                  <a:lnTo>
                    <a:pt x="466" y="1413"/>
                  </a:lnTo>
                  <a:lnTo>
                    <a:pt x="469" y="1413"/>
                  </a:lnTo>
                  <a:lnTo>
                    <a:pt x="470" y="1413"/>
                  </a:lnTo>
                  <a:lnTo>
                    <a:pt x="472" y="1413"/>
                  </a:lnTo>
                  <a:lnTo>
                    <a:pt x="473" y="1413"/>
                  </a:lnTo>
                  <a:lnTo>
                    <a:pt x="475" y="1413"/>
                  </a:lnTo>
                  <a:lnTo>
                    <a:pt x="476" y="1413"/>
                  </a:lnTo>
                  <a:lnTo>
                    <a:pt x="480" y="1413"/>
                  </a:lnTo>
                  <a:lnTo>
                    <a:pt x="481" y="1413"/>
                  </a:lnTo>
                  <a:lnTo>
                    <a:pt x="483" y="1413"/>
                  </a:lnTo>
                  <a:lnTo>
                    <a:pt x="484" y="1413"/>
                  </a:lnTo>
                  <a:lnTo>
                    <a:pt x="486" y="1413"/>
                  </a:lnTo>
                  <a:lnTo>
                    <a:pt x="487" y="1413"/>
                  </a:lnTo>
                  <a:lnTo>
                    <a:pt x="490" y="1413"/>
                  </a:lnTo>
                  <a:lnTo>
                    <a:pt x="492" y="1413"/>
                  </a:lnTo>
                  <a:lnTo>
                    <a:pt x="493" y="1413"/>
                  </a:lnTo>
                  <a:lnTo>
                    <a:pt x="495" y="1413"/>
                  </a:lnTo>
                  <a:lnTo>
                    <a:pt x="496" y="1413"/>
                  </a:lnTo>
                  <a:lnTo>
                    <a:pt x="498" y="1413"/>
                  </a:lnTo>
                  <a:lnTo>
                    <a:pt x="501" y="1413"/>
                  </a:lnTo>
                  <a:lnTo>
                    <a:pt x="503" y="1413"/>
                  </a:lnTo>
                  <a:lnTo>
                    <a:pt x="504" y="1413"/>
                  </a:lnTo>
                  <a:lnTo>
                    <a:pt x="506" y="1413"/>
                  </a:lnTo>
                  <a:lnTo>
                    <a:pt x="507" y="1413"/>
                  </a:lnTo>
                  <a:lnTo>
                    <a:pt x="509" y="1413"/>
                  </a:lnTo>
                  <a:lnTo>
                    <a:pt x="512" y="1413"/>
                  </a:lnTo>
                  <a:lnTo>
                    <a:pt x="513" y="1413"/>
                  </a:lnTo>
                  <a:lnTo>
                    <a:pt x="515" y="1413"/>
                  </a:lnTo>
                  <a:lnTo>
                    <a:pt x="516" y="1413"/>
                  </a:lnTo>
                  <a:lnTo>
                    <a:pt x="518" y="1413"/>
                  </a:lnTo>
                  <a:lnTo>
                    <a:pt x="519" y="1413"/>
                  </a:lnTo>
                  <a:lnTo>
                    <a:pt x="523" y="1413"/>
                  </a:lnTo>
                  <a:lnTo>
                    <a:pt x="524" y="1413"/>
                  </a:lnTo>
                  <a:lnTo>
                    <a:pt x="526" y="1413"/>
                  </a:lnTo>
                  <a:lnTo>
                    <a:pt x="527" y="1413"/>
                  </a:lnTo>
                  <a:lnTo>
                    <a:pt x="529" y="1413"/>
                  </a:lnTo>
                  <a:lnTo>
                    <a:pt x="530" y="1344"/>
                  </a:lnTo>
                  <a:lnTo>
                    <a:pt x="533" y="1313"/>
                  </a:lnTo>
                  <a:lnTo>
                    <a:pt x="535" y="1305"/>
                  </a:lnTo>
                  <a:lnTo>
                    <a:pt x="536" y="1252"/>
                  </a:lnTo>
                  <a:lnTo>
                    <a:pt x="538" y="1181"/>
                  </a:lnTo>
                  <a:lnTo>
                    <a:pt x="539" y="1156"/>
                  </a:lnTo>
                  <a:lnTo>
                    <a:pt x="541" y="1161"/>
                  </a:lnTo>
                  <a:lnTo>
                    <a:pt x="543" y="1164"/>
                  </a:lnTo>
                  <a:lnTo>
                    <a:pt x="546" y="1164"/>
                  </a:lnTo>
                  <a:lnTo>
                    <a:pt x="547" y="1167"/>
                  </a:lnTo>
                  <a:lnTo>
                    <a:pt x="549" y="1169"/>
                  </a:lnTo>
                  <a:lnTo>
                    <a:pt x="550" y="1156"/>
                  </a:lnTo>
                  <a:lnTo>
                    <a:pt x="552" y="1132"/>
                  </a:lnTo>
                  <a:lnTo>
                    <a:pt x="553" y="1107"/>
                  </a:lnTo>
                  <a:lnTo>
                    <a:pt x="556" y="1096"/>
                  </a:lnTo>
                  <a:lnTo>
                    <a:pt x="558" y="1096"/>
                  </a:lnTo>
                  <a:lnTo>
                    <a:pt x="559" y="1104"/>
                  </a:lnTo>
                  <a:lnTo>
                    <a:pt x="561" y="1129"/>
                  </a:lnTo>
                  <a:lnTo>
                    <a:pt x="563" y="1167"/>
                  </a:lnTo>
                  <a:lnTo>
                    <a:pt x="564" y="1238"/>
                  </a:lnTo>
                  <a:lnTo>
                    <a:pt x="567" y="1291"/>
                  </a:lnTo>
                  <a:lnTo>
                    <a:pt x="569" y="1327"/>
                  </a:lnTo>
                  <a:lnTo>
                    <a:pt x="570" y="1368"/>
                  </a:lnTo>
                  <a:lnTo>
                    <a:pt x="572" y="1413"/>
                  </a:lnTo>
                  <a:lnTo>
                    <a:pt x="573" y="1413"/>
                  </a:lnTo>
                  <a:lnTo>
                    <a:pt x="575" y="1413"/>
                  </a:lnTo>
                  <a:lnTo>
                    <a:pt x="578" y="1413"/>
                  </a:lnTo>
                  <a:lnTo>
                    <a:pt x="579" y="1413"/>
                  </a:lnTo>
                  <a:lnTo>
                    <a:pt x="581" y="1348"/>
                  </a:lnTo>
                  <a:lnTo>
                    <a:pt x="582" y="1291"/>
                  </a:lnTo>
                  <a:lnTo>
                    <a:pt x="584" y="1204"/>
                  </a:lnTo>
                  <a:lnTo>
                    <a:pt x="586" y="1173"/>
                  </a:lnTo>
                  <a:lnTo>
                    <a:pt x="589" y="1144"/>
                  </a:lnTo>
                  <a:lnTo>
                    <a:pt x="590" y="1116"/>
                  </a:lnTo>
                  <a:lnTo>
                    <a:pt x="592" y="1075"/>
                  </a:lnTo>
                  <a:lnTo>
                    <a:pt x="593" y="1033"/>
                  </a:lnTo>
                  <a:lnTo>
                    <a:pt x="595" y="1010"/>
                  </a:lnTo>
                  <a:lnTo>
                    <a:pt x="596" y="1007"/>
                  </a:lnTo>
                  <a:lnTo>
                    <a:pt x="599" y="1009"/>
                  </a:lnTo>
                  <a:lnTo>
                    <a:pt x="601" y="1010"/>
                  </a:lnTo>
                  <a:lnTo>
                    <a:pt x="602" y="1020"/>
                  </a:lnTo>
                  <a:lnTo>
                    <a:pt x="604" y="1038"/>
                  </a:lnTo>
                  <a:lnTo>
                    <a:pt x="606" y="1052"/>
                  </a:lnTo>
                  <a:lnTo>
                    <a:pt x="607" y="1038"/>
                  </a:lnTo>
                  <a:lnTo>
                    <a:pt x="610" y="998"/>
                  </a:lnTo>
                  <a:lnTo>
                    <a:pt x="612" y="960"/>
                  </a:lnTo>
                  <a:lnTo>
                    <a:pt x="613" y="934"/>
                  </a:lnTo>
                  <a:lnTo>
                    <a:pt x="615" y="918"/>
                  </a:lnTo>
                  <a:lnTo>
                    <a:pt x="616" y="914"/>
                  </a:lnTo>
                  <a:lnTo>
                    <a:pt x="618" y="928"/>
                  </a:lnTo>
                  <a:lnTo>
                    <a:pt x="621" y="958"/>
                  </a:lnTo>
                  <a:lnTo>
                    <a:pt x="622" y="989"/>
                  </a:lnTo>
                  <a:lnTo>
                    <a:pt x="624" y="1018"/>
                  </a:lnTo>
                  <a:lnTo>
                    <a:pt x="626" y="1057"/>
                  </a:lnTo>
                  <a:lnTo>
                    <a:pt x="627" y="1101"/>
                  </a:lnTo>
                  <a:lnTo>
                    <a:pt x="629" y="1130"/>
                  </a:lnTo>
                  <a:lnTo>
                    <a:pt x="632" y="1136"/>
                  </a:lnTo>
                  <a:lnTo>
                    <a:pt x="633" y="1149"/>
                  </a:lnTo>
                  <a:lnTo>
                    <a:pt x="635" y="1178"/>
                  </a:lnTo>
                  <a:lnTo>
                    <a:pt x="636" y="1199"/>
                  </a:lnTo>
                  <a:lnTo>
                    <a:pt x="638" y="1198"/>
                  </a:lnTo>
                  <a:lnTo>
                    <a:pt x="639" y="1196"/>
                  </a:lnTo>
                  <a:lnTo>
                    <a:pt x="642" y="1209"/>
                  </a:lnTo>
                  <a:lnTo>
                    <a:pt x="644" y="1212"/>
                  </a:lnTo>
                  <a:lnTo>
                    <a:pt x="645" y="1186"/>
                  </a:lnTo>
                  <a:lnTo>
                    <a:pt x="647" y="1149"/>
                  </a:lnTo>
                  <a:lnTo>
                    <a:pt x="649" y="1126"/>
                  </a:lnTo>
                  <a:lnTo>
                    <a:pt x="650" y="1116"/>
                  </a:lnTo>
                  <a:lnTo>
                    <a:pt x="652" y="1113"/>
                  </a:lnTo>
                  <a:lnTo>
                    <a:pt x="655" y="1123"/>
                  </a:lnTo>
                  <a:lnTo>
                    <a:pt x="656" y="1150"/>
                  </a:lnTo>
                  <a:lnTo>
                    <a:pt x="658" y="1189"/>
                  </a:lnTo>
                  <a:lnTo>
                    <a:pt x="659" y="1225"/>
                  </a:lnTo>
                  <a:lnTo>
                    <a:pt x="661" y="1244"/>
                  </a:lnTo>
                  <a:lnTo>
                    <a:pt x="662" y="1235"/>
                  </a:lnTo>
                  <a:lnTo>
                    <a:pt x="665" y="1192"/>
                  </a:lnTo>
                  <a:lnTo>
                    <a:pt x="667" y="1130"/>
                  </a:lnTo>
                  <a:lnTo>
                    <a:pt x="669" y="1075"/>
                  </a:lnTo>
                  <a:lnTo>
                    <a:pt x="670" y="1043"/>
                  </a:lnTo>
                  <a:lnTo>
                    <a:pt x="672" y="1020"/>
                  </a:lnTo>
                  <a:lnTo>
                    <a:pt x="673" y="981"/>
                  </a:lnTo>
                  <a:lnTo>
                    <a:pt x="676" y="938"/>
                  </a:lnTo>
                  <a:lnTo>
                    <a:pt x="678" y="900"/>
                  </a:lnTo>
                  <a:lnTo>
                    <a:pt x="679" y="846"/>
                  </a:lnTo>
                  <a:lnTo>
                    <a:pt x="681" y="775"/>
                  </a:lnTo>
                  <a:lnTo>
                    <a:pt x="682" y="717"/>
                  </a:lnTo>
                  <a:lnTo>
                    <a:pt x="684" y="694"/>
                  </a:lnTo>
                  <a:lnTo>
                    <a:pt x="687" y="683"/>
                  </a:lnTo>
                  <a:lnTo>
                    <a:pt x="689" y="666"/>
                  </a:lnTo>
                  <a:lnTo>
                    <a:pt x="690" y="660"/>
                  </a:lnTo>
                  <a:lnTo>
                    <a:pt x="692" y="676"/>
                  </a:lnTo>
                  <a:lnTo>
                    <a:pt x="693" y="705"/>
                  </a:lnTo>
                  <a:lnTo>
                    <a:pt x="695" y="743"/>
                  </a:lnTo>
                  <a:lnTo>
                    <a:pt x="698" y="795"/>
                  </a:lnTo>
                  <a:lnTo>
                    <a:pt x="699" y="875"/>
                  </a:lnTo>
                  <a:lnTo>
                    <a:pt x="701" y="954"/>
                  </a:lnTo>
                  <a:lnTo>
                    <a:pt x="702" y="1023"/>
                  </a:lnTo>
                  <a:lnTo>
                    <a:pt x="704" y="1096"/>
                  </a:lnTo>
                  <a:lnTo>
                    <a:pt x="705" y="1167"/>
                  </a:lnTo>
                  <a:lnTo>
                    <a:pt x="708" y="1221"/>
                  </a:lnTo>
                  <a:lnTo>
                    <a:pt x="710" y="1270"/>
                  </a:lnTo>
                  <a:lnTo>
                    <a:pt x="712" y="1328"/>
                  </a:lnTo>
                  <a:lnTo>
                    <a:pt x="713" y="1381"/>
                  </a:lnTo>
                  <a:lnTo>
                    <a:pt x="715" y="1413"/>
                  </a:lnTo>
                  <a:lnTo>
                    <a:pt x="716" y="1413"/>
                  </a:lnTo>
                  <a:lnTo>
                    <a:pt x="719" y="1413"/>
                  </a:lnTo>
                  <a:lnTo>
                    <a:pt x="721" y="1413"/>
                  </a:lnTo>
                  <a:lnTo>
                    <a:pt x="722" y="1413"/>
                  </a:lnTo>
                  <a:lnTo>
                    <a:pt x="724" y="1413"/>
                  </a:lnTo>
                  <a:lnTo>
                    <a:pt x="725" y="1413"/>
                  </a:lnTo>
                  <a:lnTo>
                    <a:pt x="727" y="1413"/>
                  </a:lnTo>
                  <a:lnTo>
                    <a:pt x="730" y="1413"/>
                  </a:lnTo>
                  <a:lnTo>
                    <a:pt x="732" y="1413"/>
                  </a:lnTo>
                  <a:lnTo>
                    <a:pt x="733" y="1413"/>
                  </a:lnTo>
                  <a:lnTo>
                    <a:pt x="735" y="1413"/>
                  </a:lnTo>
                  <a:lnTo>
                    <a:pt x="736" y="1413"/>
                  </a:lnTo>
                  <a:lnTo>
                    <a:pt x="738" y="1413"/>
                  </a:lnTo>
                  <a:lnTo>
                    <a:pt x="741" y="1413"/>
                  </a:lnTo>
                  <a:lnTo>
                    <a:pt x="742" y="1413"/>
                  </a:lnTo>
                  <a:lnTo>
                    <a:pt x="744" y="1413"/>
                  </a:lnTo>
                  <a:lnTo>
                    <a:pt x="745" y="1413"/>
                  </a:lnTo>
                  <a:lnTo>
                    <a:pt x="747" y="1413"/>
                  </a:lnTo>
                  <a:lnTo>
                    <a:pt x="748" y="1413"/>
                  </a:lnTo>
                  <a:lnTo>
                    <a:pt x="751" y="1413"/>
                  </a:lnTo>
                  <a:lnTo>
                    <a:pt x="753" y="1413"/>
                  </a:lnTo>
                  <a:lnTo>
                    <a:pt x="755" y="1413"/>
                  </a:lnTo>
                  <a:lnTo>
                    <a:pt x="756" y="1413"/>
                  </a:lnTo>
                  <a:lnTo>
                    <a:pt x="758" y="1413"/>
                  </a:lnTo>
                  <a:lnTo>
                    <a:pt x="759" y="1413"/>
                  </a:lnTo>
                  <a:lnTo>
                    <a:pt x="762" y="1413"/>
                  </a:lnTo>
                  <a:lnTo>
                    <a:pt x="764" y="1413"/>
                  </a:lnTo>
                  <a:lnTo>
                    <a:pt x="765" y="1413"/>
                  </a:lnTo>
                  <a:lnTo>
                    <a:pt x="767" y="1413"/>
                  </a:lnTo>
                  <a:lnTo>
                    <a:pt x="768" y="1413"/>
                  </a:lnTo>
                  <a:lnTo>
                    <a:pt x="770" y="1413"/>
                  </a:lnTo>
                  <a:lnTo>
                    <a:pt x="771" y="1413"/>
                  </a:lnTo>
                  <a:lnTo>
                    <a:pt x="775" y="1413"/>
                  </a:lnTo>
                  <a:lnTo>
                    <a:pt x="776" y="1413"/>
                  </a:lnTo>
                  <a:lnTo>
                    <a:pt x="778" y="1413"/>
                  </a:lnTo>
                  <a:lnTo>
                    <a:pt x="779" y="1413"/>
                  </a:lnTo>
                  <a:lnTo>
                    <a:pt x="781" y="1413"/>
                  </a:lnTo>
                  <a:lnTo>
                    <a:pt x="782" y="1413"/>
                  </a:lnTo>
                  <a:lnTo>
                    <a:pt x="785" y="1413"/>
                  </a:lnTo>
                  <a:lnTo>
                    <a:pt x="787" y="1413"/>
                  </a:lnTo>
                  <a:lnTo>
                    <a:pt x="788" y="1413"/>
                  </a:lnTo>
                  <a:lnTo>
                    <a:pt x="790" y="1362"/>
                  </a:lnTo>
                  <a:lnTo>
                    <a:pt x="791" y="1310"/>
                  </a:lnTo>
                  <a:lnTo>
                    <a:pt x="793" y="1235"/>
                  </a:lnTo>
                  <a:lnTo>
                    <a:pt x="796" y="1161"/>
                  </a:lnTo>
                  <a:lnTo>
                    <a:pt x="798" y="1090"/>
                  </a:lnTo>
                  <a:lnTo>
                    <a:pt x="799" y="1047"/>
                  </a:lnTo>
                  <a:lnTo>
                    <a:pt x="801" y="1029"/>
                  </a:lnTo>
                  <a:lnTo>
                    <a:pt x="802" y="1015"/>
                  </a:lnTo>
                  <a:lnTo>
                    <a:pt x="804" y="1004"/>
                  </a:lnTo>
                  <a:lnTo>
                    <a:pt x="807" y="1015"/>
                  </a:lnTo>
                  <a:lnTo>
                    <a:pt x="808" y="1058"/>
                  </a:lnTo>
                  <a:lnTo>
                    <a:pt x="810" y="1123"/>
                  </a:lnTo>
                  <a:lnTo>
                    <a:pt x="811" y="1181"/>
                  </a:lnTo>
                  <a:lnTo>
                    <a:pt x="813" y="1215"/>
                  </a:lnTo>
                  <a:lnTo>
                    <a:pt x="814" y="1222"/>
                  </a:lnTo>
                  <a:lnTo>
                    <a:pt x="818" y="1215"/>
                  </a:lnTo>
                  <a:lnTo>
                    <a:pt x="819" y="1210"/>
                  </a:lnTo>
                  <a:lnTo>
                    <a:pt x="821" y="1225"/>
                  </a:lnTo>
                  <a:lnTo>
                    <a:pt x="822" y="1259"/>
                  </a:lnTo>
                  <a:lnTo>
                    <a:pt x="824" y="1310"/>
                  </a:lnTo>
                  <a:lnTo>
                    <a:pt x="825" y="1354"/>
                  </a:lnTo>
                  <a:lnTo>
                    <a:pt x="828" y="1373"/>
                  </a:lnTo>
                  <a:lnTo>
                    <a:pt x="830" y="1413"/>
                  </a:lnTo>
                  <a:lnTo>
                    <a:pt x="831" y="1413"/>
                  </a:lnTo>
                  <a:lnTo>
                    <a:pt x="833" y="1413"/>
                  </a:lnTo>
                  <a:lnTo>
                    <a:pt x="834" y="1413"/>
                  </a:lnTo>
                  <a:lnTo>
                    <a:pt x="836" y="1413"/>
                  </a:lnTo>
                  <a:lnTo>
                    <a:pt x="839" y="1413"/>
                  </a:lnTo>
                  <a:lnTo>
                    <a:pt x="841" y="1413"/>
                  </a:lnTo>
                  <a:lnTo>
                    <a:pt x="842" y="1413"/>
                  </a:lnTo>
                  <a:lnTo>
                    <a:pt x="844" y="1384"/>
                  </a:lnTo>
                  <a:lnTo>
                    <a:pt x="845" y="1378"/>
                  </a:lnTo>
                  <a:lnTo>
                    <a:pt x="847" y="1333"/>
                  </a:lnTo>
                  <a:lnTo>
                    <a:pt x="850" y="1311"/>
                  </a:lnTo>
                  <a:lnTo>
                    <a:pt x="851" y="1305"/>
                  </a:lnTo>
                  <a:lnTo>
                    <a:pt x="853" y="1278"/>
                  </a:lnTo>
                  <a:lnTo>
                    <a:pt x="854" y="1225"/>
                  </a:lnTo>
                  <a:lnTo>
                    <a:pt x="856" y="1175"/>
                  </a:lnTo>
                  <a:lnTo>
                    <a:pt x="858" y="1143"/>
                  </a:lnTo>
                  <a:lnTo>
                    <a:pt x="861" y="1133"/>
                  </a:lnTo>
                  <a:lnTo>
                    <a:pt x="862" y="1133"/>
                  </a:lnTo>
                  <a:lnTo>
                    <a:pt x="864" y="1129"/>
                  </a:lnTo>
                  <a:lnTo>
                    <a:pt x="865" y="1107"/>
                  </a:lnTo>
                  <a:lnTo>
                    <a:pt x="867" y="1080"/>
                  </a:lnTo>
                  <a:lnTo>
                    <a:pt x="868" y="1066"/>
                  </a:lnTo>
                  <a:lnTo>
                    <a:pt x="871" y="1067"/>
                  </a:lnTo>
                  <a:lnTo>
                    <a:pt x="873" y="1072"/>
                  </a:lnTo>
                  <a:lnTo>
                    <a:pt x="874" y="1076"/>
                  </a:lnTo>
                  <a:lnTo>
                    <a:pt x="876" y="1084"/>
                  </a:lnTo>
                  <a:lnTo>
                    <a:pt x="877" y="1095"/>
                  </a:lnTo>
                  <a:lnTo>
                    <a:pt x="879" y="1106"/>
                  </a:lnTo>
                  <a:lnTo>
                    <a:pt x="881" y="1115"/>
                  </a:lnTo>
                  <a:lnTo>
                    <a:pt x="884" y="1130"/>
                  </a:lnTo>
                  <a:lnTo>
                    <a:pt x="885" y="1161"/>
                  </a:lnTo>
                  <a:lnTo>
                    <a:pt x="887" y="1201"/>
                  </a:lnTo>
                  <a:lnTo>
                    <a:pt x="888" y="1236"/>
                  </a:lnTo>
                  <a:lnTo>
                    <a:pt x="890" y="1262"/>
                  </a:lnTo>
                  <a:lnTo>
                    <a:pt x="891" y="1282"/>
                  </a:lnTo>
                  <a:lnTo>
                    <a:pt x="894" y="1296"/>
                  </a:lnTo>
                  <a:lnTo>
                    <a:pt x="896" y="1301"/>
                  </a:lnTo>
                  <a:lnTo>
                    <a:pt x="897" y="1304"/>
                  </a:lnTo>
                  <a:lnTo>
                    <a:pt x="899" y="1311"/>
                  </a:lnTo>
                  <a:lnTo>
                    <a:pt x="901" y="1325"/>
                  </a:lnTo>
                  <a:lnTo>
                    <a:pt x="902" y="1347"/>
                  </a:lnTo>
                  <a:lnTo>
                    <a:pt x="905" y="1378"/>
                  </a:lnTo>
                  <a:lnTo>
                    <a:pt x="907" y="1413"/>
                  </a:lnTo>
                  <a:lnTo>
                    <a:pt x="908" y="1413"/>
                  </a:lnTo>
                  <a:lnTo>
                    <a:pt x="910" y="1413"/>
                  </a:lnTo>
                  <a:lnTo>
                    <a:pt x="911" y="1413"/>
                  </a:lnTo>
                  <a:lnTo>
                    <a:pt x="913" y="1413"/>
                  </a:lnTo>
                  <a:lnTo>
                    <a:pt x="916" y="1413"/>
                  </a:lnTo>
                  <a:lnTo>
                    <a:pt x="917" y="1413"/>
                  </a:lnTo>
                  <a:lnTo>
                    <a:pt x="919" y="1413"/>
                  </a:lnTo>
                  <a:lnTo>
                    <a:pt x="920" y="1413"/>
                  </a:lnTo>
                  <a:lnTo>
                    <a:pt x="922" y="1413"/>
                  </a:lnTo>
                  <a:lnTo>
                    <a:pt x="924" y="1413"/>
                  </a:lnTo>
                  <a:lnTo>
                    <a:pt x="927" y="1413"/>
                  </a:lnTo>
                  <a:lnTo>
                    <a:pt x="928" y="1413"/>
                  </a:lnTo>
                  <a:lnTo>
                    <a:pt x="930" y="1413"/>
                  </a:lnTo>
                  <a:lnTo>
                    <a:pt x="931" y="1413"/>
                  </a:lnTo>
                  <a:lnTo>
                    <a:pt x="933" y="1413"/>
                  </a:lnTo>
                  <a:lnTo>
                    <a:pt x="934" y="1413"/>
                  </a:lnTo>
                  <a:lnTo>
                    <a:pt x="937" y="1413"/>
                  </a:lnTo>
                  <a:lnTo>
                    <a:pt x="939" y="1413"/>
                  </a:lnTo>
                  <a:lnTo>
                    <a:pt x="940" y="1413"/>
                  </a:lnTo>
                  <a:lnTo>
                    <a:pt x="942" y="1413"/>
                  </a:lnTo>
                  <a:lnTo>
                    <a:pt x="944" y="1413"/>
                  </a:lnTo>
                  <a:lnTo>
                    <a:pt x="945" y="1413"/>
                  </a:lnTo>
                  <a:lnTo>
                    <a:pt x="948" y="1413"/>
                  </a:lnTo>
                  <a:lnTo>
                    <a:pt x="950" y="1413"/>
                  </a:lnTo>
                  <a:lnTo>
                    <a:pt x="951" y="1413"/>
                  </a:lnTo>
                  <a:lnTo>
                    <a:pt x="953" y="1413"/>
                  </a:lnTo>
                  <a:lnTo>
                    <a:pt x="954" y="1413"/>
                  </a:lnTo>
                  <a:lnTo>
                    <a:pt x="956" y="1413"/>
                  </a:lnTo>
                  <a:lnTo>
                    <a:pt x="959" y="1413"/>
                  </a:lnTo>
                  <a:lnTo>
                    <a:pt x="960" y="1413"/>
                  </a:lnTo>
                  <a:lnTo>
                    <a:pt x="962" y="1413"/>
                  </a:lnTo>
                  <a:lnTo>
                    <a:pt x="964" y="1413"/>
                  </a:lnTo>
                  <a:lnTo>
                    <a:pt x="965" y="1413"/>
                  </a:lnTo>
                  <a:lnTo>
                    <a:pt x="967" y="1413"/>
                  </a:lnTo>
                  <a:lnTo>
                    <a:pt x="970" y="1413"/>
                  </a:lnTo>
                  <a:lnTo>
                    <a:pt x="971" y="1413"/>
                  </a:lnTo>
                  <a:lnTo>
                    <a:pt x="973" y="1413"/>
                  </a:lnTo>
                  <a:lnTo>
                    <a:pt x="974" y="1413"/>
                  </a:lnTo>
                  <a:lnTo>
                    <a:pt x="976" y="1413"/>
                  </a:lnTo>
                  <a:lnTo>
                    <a:pt x="977" y="1413"/>
                  </a:lnTo>
                  <a:lnTo>
                    <a:pt x="980" y="1413"/>
                  </a:lnTo>
                  <a:lnTo>
                    <a:pt x="982" y="1413"/>
                  </a:lnTo>
                  <a:lnTo>
                    <a:pt x="983" y="1413"/>
                  </a:lnTo>
                  <a:lnTo>
                    <a:pt x="985" y="1413"/>
                  </a:lnTo>
                  <a:lnTo>
                    <a:pt x="987" y="1413"/>
                  </a:lnTo>
                  <a:lnTo>
                    <a:pt x="988" y="1413"/>
                  </a:lnTo>
                  <a:lnTo>
                    <a:pt x="990" y="1413"/>
                  </a:lnTo>
                  <a:lnTo>
                    <a:pt x="993" y="1413"/>
                  </a:lnTo>
                  <a:lnTo>
                    <a:pt x="994" y="1413"/>
                  </a:lnTo>
                  <a:lnTo>
                    <a:pt x="996" y="1413"/>
                  </a:lnTo>
                  <a:lnTo>
                    <a:pt x="997" y="1413"/>
                  </a:lnTo>
                  <a:lnTo>
                    <a:pt x="999" y="1413"/>
                  </a:lnTo>
                  <a:lnTo>
                    <a:pt x="1000" y="1413"/>
                  </a:lnTo>
                  <a:lnTo>
                    <a:pt x="1003" y="1413"/>
                  </a:lnTo>
                  <a:lnTo>
                    <a:pt x="1005" y="1413"/>
                  </a:lnTo>
                  <a:lnTo>
                    <a:pt x="1007" y="1413"/>
                  </a:lnTo>
                  <a:lnTo>
                    <a:pt x="1008" y="1413"/>
                  </a:lnTo>
                  <a:lnTo>
                    <a:pt x="1010" y="1413"/>
                  </a:lnTo>
                  <a:lnTo>
                    <a:pt x="1011" y="1413"/>
                  </a:lnTo>
                  <a:lnTo>
                    <a:pt x="1014" y="1413"/>
                  </a:lnTo>
                  <a:lnTo>
                    <a:pt x="1016" y="1413"/>
                  </a:lnTo>
                  <a:lnTo>
                    <a:pt x="1017" y="1413"/>
                  </a:lnTo>
                  <a:lnTo>
                    <a:pt x="1019" y="1413"/>
                  </a:lnTo>
                  <a:lnTo>
                    <a:pt x="1020" y="1413"/>
                  </a:lnTo>
                  <a:lnTo>
                    <a:pt x="1022" y="1413"/>
                  </a:lnTo>
                  <a:lnTo>
                    <a:pt x="1025" y="1413"/>
                  </a:lnTo>
                  <a:lnTo>
                    <a:pt x="1027" y="1413"/>
                  </a:lnTo>
                  <a:lnTo>
                    <a:pt x="1028" y="1413"/>
                  </a:lnTo>
                  <a:lnTo>
                    <a:pt x="1030" y="1413"/>
                  </a:lnTo>
                  <a:lnTo>
                    <a:pt x="1031" y="1413"/>
                  </a:lnTo>
                  <a:lnTo>
                    <a:pt x="1033" y="1413"/>
                  </a:lnTo>
                  <a:lnTo>
                    <a:pt x="1036" y="1413"/>
                  </a:lnTo>
                  <a:lnTo>
                    <a:pt x="1037" y="1413"/>
                  </a:lnTo>
                  <a:lnTo>
                    <a:pt x="1039" y="1413"/>
                  </a:lnTo>
                  <a:lnTo>
                    <a:pt x="1040" y="1413"/>
                  </a:lnTo>
                  <a:lnTo>
                    <a:pt x="1042" y="1413"/>
                  </a:lnTo>
                  <a:lnTo>
                    <a:pt x="1043" y="1413"/>
                  </a:lnTo>
                  <a:lnTo>
                    <a:pt x="1046" y="1413"/>
                  </a:lnTo>
                  <a:lnTo>
                    <a:pt x="1048" y="1413"/>
                  </a:lnTo>
                  <a:lnTo>
                    <a:pt x="1050" y="1413"/>
                  </a:lnTo>
                  <a:lnTo>
                    <a:pt x="1051" y="1413"/>
                  </a:lnTo>
                  <a:lnTo>
                    <a:pt x="1053" y="1413"/>
                  </a:lnTo>
                  <a:lnTo>
                    <a:pt x="1054" y="1413"/>
                  </a:lnTo>
                  <a:lnTo>
                    <a:pt x="1057" y="1379"/>
                  </a:lnTo>
                  <a:lnTo>
                    <a:pt x="1059" y="1371"/>
                  </a:lnTo>
                  <a:lnTo>
                    <a:pt x="1060" y="1344"/>
                  </a:lnTo>
                  <a:lnTo>
                    <a:pt x="1062" y="1281"/>
                  </a:lnTo>
                  <a:lnTo>
                    <a:pt x="1063" y="1184"/>
                  </a:lnTo>
                  <a:lnTo>
                    <a:pt x="1065" y="1083"/>
                  </a:lnTo>
                  <a:lnTo>
                    <a:pt x="1068" y="1017"/>
                  </a:lnTo>
                  <a:lnTo>
                    <a:pt x="1070" y="986"/>
                  </a:lnTo>
                  <a:lnTo>
                    <a:pt x="1071" y="954"/>
                  </a:lnTo>
                  <a:lnTo>
                    <a:pt x="1073" y="895"/>
                  </a:lnTo>
                  <a:lnTo>
                    <a:pt x="1074" y="865"/>
                  </a:lnTo>
                  <a:lnTo>
                    <a:pt x="1076" y="848"/>
                  </a:lnTo>
                  <a:lnTo>
                    <a:pt x="1079" y="832"/>
                  </a:lnTo>
                  <a:lnTo>
                    <a:pt x="1080" y="832"/>
                  </a:lnTo>
                  <a:lnTo>
                    <a:pt x="1082" y="861"/>
                  </a:lnTo>
                  <a:lnTo>
                    <a:pt x="1083" y="914"/>
                  </a:lnTo>
                  <a:lnTo>
                    <a:pt x="1085" y="977"/>
                  </a:lnTo>
                  <a:lnTo>
                    <a:pt x="1086" y="1043"/>
                  </a:lnTo>
                  <a:lnTo>
                    <a:pt x="1089" y="1087"/>
                  </a:lnTo>
                  <a:lnTo>
                    <a:pt x="1091" y="1101"/>
                  </a:lnTo>
                  <a:lnTo>
                    <a:pt x="1093" y="1101"/>
                  </a:lnTo>
                  <a:lnTo>
                    <a:pt x="1094" y="1095"/>
                  </a:lnTo>
                  <a:lnTo>
                    <a:pt x="1096" y="1070"/>
                  </a:lnTo>
                  <a:lnTo>
                    <a:pt x="1097" y="1027"/>
                  </a:lnTo>
                  <a:lnTo>
                    <a:pt x="1099" y="977"/>
                  </a:lnTo>
                  <a:lnTo>
                    <a:pt x="1102" y="932"/>
                  </a:lnTo>
                  <a:lnTo>
                    <a:pt x="1103" y="885"/>
                  </a:lnTo>
                  <a:lnTo>
                    <a:pt x="1105" y="822"/>
                  </a:lnTo>
                  <a:lnTo>
                    <a:pt x="1106" y="745"/>
                  </a:lnTo>
                  <a:lnTo>
                    <a:pt x="1108" y="680"/>
                  </a:lnTo>
                  <a:lnTo>
                    <a:pt x="1109" y="640"/>
                  </a:lnTo>
                  <a:lnTo>
                    <a:pt x="1113" y="603"/>
                  </a:lnTo>
                  <a:lnTo>
                    <a:pt x="1114" y="557"/>
                  </a:lnTo>
                  <a:lnTo>
                    <a:pt x="1116" y="528"/>
                  </a:lnTo>
                  <a:lnTo>
                    <a:pt x="1117" y="527"/>
                  </a:lnTo>
                  <a:lnTo>
                    <a:pt x="1119" y="530"/>
                  </a:lnTo>
                  <a:lnTo>
                    <a:pt x="1120" y="537"/>
                  </a:lnTo>
                  <a:lnTo>
                    <a:pt x="1123" y="570"/>
                  </a:lnTo>
                  <a:lnTo>
                    <a:pt x="1125" y="622"/>
                  </a:lnTo>
                  <a:lnTo>
                    <a:pt x="1126" y="670"/>
                  </a:lnTo>
                  <a:lnTo>
                    <a:pt x="1128" y="725"/>
                  </a:lnTo>
                  <a:lnTo>
                    <a:pt x="1129" y="788"/>
                  </a:lnTo>
                  <a:lnTo>
                    <a:pt x="1131" y="832"/>
                  </a:lnTo>
                  <a:lnTo>
                    <a:pt x="1134" y="848"/>
                  </a:lnTo>
                  <a:lnTo>
                    <a:pt x="1136" y="854"/>
                  </a:lnTo>
                  <a:lnTo>
                    <a:pt x="1137" y="858"/>
                  </a:lnTo>
                  <a:lnTo>
                    <a:pt x="1139" y="858"/>
                  </a:lnTo>
                  <a:lnTo>
                    <a:pt x="1140" y="874"/>
                  </a:lnTo>
                  <a:lnTo>
                    <a:pt x="1142" y="918"/>
                  </a:lnTo>
                  <a:lnTo>
                    <a:pt x="1145" y="969"/>
                  </a:lnTo>
                  <a:lnTo>
                    <a:pt x="1146" y="1023"/>
                  </a:lnTo>
                  <a:lnTo>
                    <a:pt x="1148" y="1104"/>
                  </a:lnTo>
                  <a:lnTo>
                    <a:pt x="1149" y="1190"/>
                  </a:lnTo>
                  <a:lnTo>
                    <a:pt x="1151" y="1273"/>
                  </a:lnTo>
                  <a:lnTo>
                    <a:pt x="1152" y="1313"/>
                  </a:lnTo>
                  <a:lnTo>
                    <a:pt x="1156" y="1348"/>
                  </a:lnTo>
                  <a:lnTo>
                    <a:pt x="1157" y="1413"/>
                  </a:lnTo>
                  <a:lnTo>
                    <a:pt x="1159" y="1413"/>
                  </a:lnTo>
                  <a:lnTo>
                    <a:pt x="1160" y="1413"/>
                  </a:lnTo>
                  <a:lnTo>
                    <a:pt x="1162" y="1413"/>
                  </a:lnTo>
                  <a:lnTo>
                    <a:pt x="1163" y="1413"/>
                  </a:lnTo>
                  <a:lnTo>
                    <a:pt x="1166" y="1413"/>
                  </a:lnTo>
                  <a:lnTo>
                    <a:pt x="1168" y="1413"/>
                  </a:lnTo>
                  <a:lnTo>
                    <a:pt x="1169" y="1413"/>
                  </a:lnTo>
                  <a:lnTo>
                    <a:pt x="1171" y="1413"/>
                  </a:lnTo>
                  <a:lnTo>
                    <a:pt x="1172" y="1413"/>
                  </a:lnTo>
                  <a:lnTo>
                    <a:pt x="1174" y="1413"/>
                  </a:lnTo>
                  <a:lnTo>
                    <a:pt x="1177" y="1413"/>
                  </a:lnTo>
                  <a:lnTo>
                    <a:pt x="1179" y="1413"/>
                  </a:lnTo>
                  <a:lnTo>
                    <a:pt x="1180" y="1364"/>
                  </a:lnTo>
                  <a:lnTo>
                    <a:pt x="1182" y="1247"/>
                  </a:lnTo>
                  <a:lnTo>
                    <a:pt x="1183" y="1152"/>
                  </a:lnTo>
                  <a:lnTo>
                    <a:pt x="1185" y="1096"/>
                  </a:lnTo>
                  <a:lnTo>
                    <a:pt x="1188" y="1057"/>
                  </a:lnTo>
                  <a:lnTo>
                    <a:pt x="1189" y="1017"/>
                  </a:lnTo>
                  <a:lnTo>
                    <a:pt x="1191" y="1023"/>
                  </a:lnTo>
                  <a:lnTo>
                    <a:pt x="1192" y="1060"/>
                  </a:lnTo>
                  <a:lnTo>
                    <a:pt x="1194" y="1090"/>
                  </a:lnTo>
                  <a:lnTo>
                    <a:pt x="1196" y="1076"/>
                  </a:lnTo>
                  <a:lnTo>
                    <a:pt x="1199" y="1024"/>
                  </a:lnTo>
                  <a:lnTo>
                    <a:pt x="1200" y="971"/>
                  </a:lnTo>
                  <a:lnTo>
                    <a:pt x="1202" y="923"/>
                  </a:lnTo>
                  <a:lnTo>
                    <a:pt x="1203" y="863"/>
                  </a:lnTo>
                  <a:lnTo>
                    <a:pt x="1205" y="808"/>
                  </a:lnTo>
                  <a:lnTo>
                    <a:pt x="1206" y="779"/>
                  </a:lnTo>
                  <a:lnTo>
                    <a:pt x="1209" y="766"/>
                  </a:lnTo>
                  <a:lnTo>
                    <a:pt x="1211" y="757"/>
                  </a:lnTo>
                  <a:lnTo>
                    <a:pt x="1212" y="763"/>
                  </a:lnTo>
                  <a:lnTo>
                    <a:pt x="1214" y="785"/>
                  </a:lnTo>
                  <a:lnTo>
                    <a:pt x="1215" y="809"/>
                  </a:lnTo>
                  <a:lnTo>
                    <a:pt x="1217" y="848"/>
                  </a:lnTo>
                  <a:lnTo>
                    <a:pt x="1219" y="911"/>
                  </a:lnTo>
                  <a:lnTo>
                    <a:pt x="1222" y="974"/>
                  </a:lnTo>
                  <a:lnTo>
                    <a:pt x="1223" y="1017"/>
                  </a:lnTo>
                  <a:lnTo>
                    <a:pt x="1225" y="1047"/>
                  </a:lnTo>
                  <a:lnTo>
                    <a:pt x="1226" y="1061"/>
                  </a:lnTo>
                  <a:lnTo>
                    <a:pt x="1228" y="1060"/>
                  </a:lnTo>
                  <a:lnTo>
                    <a:pt x="1229" y="1061"/>
                  </a:lnTo>
                  <a:lnTo>
                    <a:pt x="1232" y="1076"/>
                  </a:lnTo>
                  <a:lnTo>
                    <a:pt x="1234" y="1103"/>
                  </a:lnTo>
                  <a:lnTo>
                    <a:pt x="1235" y="1150"/>
                  </a:lnTo>
                  <a:lnTo>
                    <a:pt x="1237" y="1224"/>
                  </a:lnTo>
                  <a:lnTo>
                    <a:pt x="1239" y="1279"/>
                  </a:lnTo>
                  <a:lnTo>
                    <a:pt x="1240" y="1285"/>
                  </a:lnTo>
                  <a:lnTo>
                    <a:pt x="1243" y="1273"/>
                  </a:lnTo>
                  <a:lnTo>
                    <a:pt x="1245" y="1285"/>
                  </a:lnTo>
                  <a:lnTo>
                    <a:pt x="1246" y="1316"/>
                  </a:lnTo>
                  <a:lnTo>
                    <a:pt x="1248" y="1364"/>
                  </a:lnTo>
                  <a:lnTo>
                    <a:pt x="1249" y="1413"/>
                  </a:lnTo>
                </a:path>
              </a:pathLst>
            </a:custGeom>
            <a:noFill/>
            <a:ln w="324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7" name=""/>
            <p:cNvSpPr/>
            <p:nvPr/>
          </p:nvSpPr>
          <p:spPr>
            <a:xfrm>
              <a:off x="2580840" y="3718080"/>
              <a:ext cx="493200" cy="1022040"/>
            </a:xfrm>
            <a:custGeom>
              <a:avLst/>
              <a:gdLst/>
              <a:ahLst/>
              <a:rect l="l" t="t" r="r" b="b"/>
              <a:pathLst>
                <a:path w="772" h="2305">
                  <a:moveTo>
                    <a:pt x="0" y="2305"/>
                  </a:moveTo>
                  <a:lnTo>
                    <a:pt x="2" y="2305"/>
                  </a:lnTo>
                  <a:lnTo>
                    <a:pt x="5" y="2305"/>
                  </a:lnTo>
                  <a:lnTo>
                    <a:pt x="6" y="2305"/>
                  </a:lnTo>
                  <a:lnTo>
                    <a:pt x="8" y="2305"/>
                  </a:lnTo>
                  <a:lnTo>
                    <a:pt x="10" y="2305"/>
                  </a:lnTo>
                  <a:lnTo>
                    <a:pt x="11" y="2305"/>
                  </a:lnTo>
                  <a:lnTo>
                    <a:pt x="13" y="2305"/>
                  </a:lnTo>
                  <a:lnTo>
                    <a:pt x="16" y="2305"/>
                  </a:lnTo>
                  <a:lnTo>
                    <a:pt x="17" y="2305"/>
                  </a:lnTo>
                  <a:lnTo>
                    <a:pt x="19" y="2305"/>
                  </a:lnTo>
                  <a:lnTo>
                    <a:pt x="20" y="2305"/>
                  </a:lnTo>
                  <a:lnTo>
                    <a:pt x="22" y="2305"/>
                  </a:lnTo>
                  <a:lnTo>
                    <a:pt x="23" y="2305"/>
                  </a:lnTo>
                  <a:lnTo>
                    <a:pt x="26" y="2305"/>
                  </a:lnTo>
                  <a:lnTo>
                    <a:pt x="28" y="2305"/>
                  </a:lnTo>
                  <a:lnTo>
                    <a:pt x="29" y="2305"/>
                  </a:lnTo>
                  <a:lnTo>
                    <a:pt x="31" y="2305"/>
                  </a:lnTo>
                  <a:lnTo>
                    <a:pt x="33" y="2305"/>
                  </a:lnTo>
                  <a:lnTo>
                    <a:pt x="34" y="2305"/>
                  </a:lnTo>
                  <a:lnTo>
                    <a:pt x="37" y="2305"/>
                  </a:lnTo>
                  <a:lnTo>
                    <a:pt x="39" y="2305"/>
                  </a:lnTo>
                  <a:lnTo>
                    <a:pt x="40" y="2305"/>
                  </a:lnTo>
                  <a:lnTo>
                    <a:pt x="42" y="2305"/>
                  </a:lnTo>
                  <a:lnTo>
                    <a:pt x="43" y="2305"/>
                  </a:lnTo>
                  <a:lnTo>
                    <a:pt x="45" y="2305"/>
                  </a:lnTo>
                  <a:lnTo>
                    <a:pt x="48" y="2305"/>
                  </a:lnTo>
                  <a:lnTo>
                    <a:pt x="49" y="2213"/>
                  </a:lnTo>
                  <a:lnTo>
                    <a:pt x="51" y="2171"/>
                  </a:lnTo>
                  <a:lnTo>
                    <a:pt x="53" y="2148"/>
                  </a:lnTo>
                  <a:lnTo>
                    <a:pt x="54" y="2056"/>
                  </a:lnTo>
                  <a:lnTo>
                    <a:pt x="56" y="1938"/>
                  </a:lnTo>
                  <a:lnTo>
                    <a:pt x="59" y="1887"/>
                  </a:lnTo>
                  <a:lnTo>
                    <a:pt x="60" y="1863"/>
                  </a:lnTo>
                  <a:lnTo>
                    <a:pt x="62" y="1804"/>
                  </a:lnTo>
                  <a:lnTo>
                    <a:pt x="63" y="1738"/>
                  </a:lnTo>
                  <a:lnTo>
                    <a:pt x="65" y="1683"/>
                  </a:lnTo>
                  <a:lnTo>
                    <a:pt x="66" y="1624"/>
                  </a:lnTo>
                  <a:lnTo>
                    <a:pt x="69" y="1562"/>
                  </a:lnTo>
                  <a:lnTo>
                    <a:pt x="71" y="1502"/>
                  </a:lnTo>
                  <a:lnTo>
                    <a:pt x="72" y="1442"/>
                  </a:lnTo>
                  <a:lnTo>
                    <a:pt x="74" y="1389"/>
                  </a:lnTo>
                  <a:lnTo>
                    <a:pt x="76" y="1353"/>
                  </a:lnTo>
                  <a:lnTo>
                    <a:pt x="77" y="1327"/>
                  </a:lnTo>
                  <a:lnTo>
                    <a:pt x="79" y="1305"/>
                  </a:lnTo>
                  <a:lnTo>
                    <a:pt x="82" y="1287"/>
                  </a:lnTo>
                  <a:lnTo>
                    <a:pt x="83" y="1271"/>
                  </a:lnTo>
                  <a:lnTo>
                    <a:pt x="85" y="1248"/>
                  </a:lnTo>
                  <a:lnTo>
                    <a:pt x="86" y="1221"/>
                  </a:lnTo>
                  <a:lnTo>
                    <a:pt x="88" y="1191"/>
                  </a:lnTo>
                  <a:lnTo>
                    <a:pt x="89" y="1164"/>
                  </a:lnTo>
                  <a:lnTo>
                    <a:pt x="92" y="1133"/>
                  </a:lnTo>
                  <a:lnTo>
                    <a:pt x="94" y="1099"/>
                  </a:lnTo>
                  <a:lnTo>
                    <a:pt x="96" y="1069"/>
                  </a:lnTo>
                  <a:lnTo>
                    <a:pt x="97" y="1044"/>
                  </a:lnTo>
                  <a:lnTo>
                    <a:pt x="99" y="1021"/>
                  </a:lnTo>
                  <a:lnTo>
                    <a:pt x="100" y="996"/>
                  </a:lnTo>
                  <a:lnTo>
                    <a:pt x="103" y="975"/>
                  </a:lnTo>
                  <a:lnTo>
                    <a:pt x="105" y="955"/>
                  </a:lnTo>
                  <a:lnTo>
                    <a:pt x="106" y="932"/>
                  </a:lnTo>
                  <a:lnTo>
                    <a:pt x="108" y="906"/>
                  </a:lnTo>
                  <a:lnTo>
                    <a:pt x="109" y="884"/>
                  </a:lnTo>
                  <a:lnTo>
                    <a:pt x="111" y="866"/>
                  </a:lnTo>
                  <a:lnTo>
                    <a:pt x="114" y="843"/>
                  </a:lnTo>
                  <a:lnTo>
                    <a:pt x="116" y="820"/>
                  </a:lnTo>
                  <a:lnTo>
                    <a:pt x="117" y="792"/>
                  </a:lnTo>
                  <a:lnTo>
                    <a:pt x="119" y="761"/>
                  </a:lnTo>
                  <a:lnTo>
                    <a:pt x="120" y="726"/>
                  </a:lnTo>
                  <a:lnTo>
                    <a:pt x="122" y="695"/>
                  </a:lnTo>
                  <a:lnTo>
                    <a:pt x="125" y="663"/>
                  </a:lnTo>
                  <a:lnTo>
                    <a:pt x="126" y="628"/>
                  </a:lnTo>
                  <a:lnTo>
                    <a:pt x="128" y="594"/>
                  </a:lnTo>
                  <a:lnTo>
                    <a:pt x="129" y="565"/>
                  </a:lnTo>
                  <a:lnTo>
                    <a:pt x="131" y="539"/>
                  </a:lnTo>
                  <a:lnTo>
                    <a:pt x="132" y="519"/>
                  </a:lnTo>
                  <a:lnTo>
                    <a:pt x="135" y="502"/>
                  </a:lnTo>
                  <a:lnTo>
                    <a:pt x="137" y="483"/>
                  </a:lnTo>
                  <a:lnTo>
                    <a:pt x="139" y="463"/>
                  </a:lnTo>
                  <a:lnTo>
                    <a:pt x="140" y="445"/>
                  </a:lnTo>
                  <a:lnTo>
                    <a:pt x="142" y="425"/>
                  </a:lnTo>
                  <a:lnTo>
                    <a:pt x="143" y="400"/>
                  </a:lnTo>
                  <a:lnTo>
                    <a:pt x="146" y="376"/>
                  </a:lnTo>
                  <a:lnTo>
                    <a:pt x="148" y="347"/>
                  </a:lnTo>
                  <a:lnTo>
                    <a:pt x="149" y="318"/>
                  </a:lnTo>
                  <a:lnTo>
                    <a:pt x="151" y="291"/>
                  </a:lnTo>
                  <a:lnTo>
                    <a:pt x="152" y="268"/>
                  </a:lnTo>
                  <a:lnTo>
                    <a:pt x="154" y="245"/>
                  </a:lnTo>
                  <a:lnTo>
                    <a:pt x="157" y="221"/>
                  </a:lnTo>
                  <a:lnTo>
                    <a:pt x="159" y="201"/>
                  </a:lnTo>
                  <a:lnTo>
                    <a:pt x="160" y="189"/>
                  </a:lnTo>
                  <a:lnTo>
                    <a:pt x="162" y="178"/>
                  </a:lnTo>
                  <a:lnTo>
                    <a:pt x="163" y="167"/>
                  </a:lnTo>
                  <a:lnTo>
                    <a:pt x="165" y="159"/>
                  </a:lnTo>
                  <a:lnTo>
                    <a:pt x="168" y="153"/>
                  </a:lnTo>
                  <a:lnTo>
                    <a:pt x="169" y="152"/>
                  </a:lnTo>
                  <a:lnTo>
                    <a:pt x="171" y="156"/>
                  </a:lnTo>
                  <a:lnTo>
                    <a:pt x="172" y="169"/>
                  </a:lnTo>
                  <a:lnTo>
                    <a:pt x="174" y="182"/>
                  </a:lnTo>
                  <a:lnTo>
                    <a:pt x="175" y="189"/>
                  </a:lnTo>
                  <a:lnTo>
                    <a:pt x="179" y="190"/>
                  </a:lnTo>
                  <a:lnTo>
                    <a:pt x="180" y="193"/>
                  </a:lnTo>
                  <a:lnTo>
                    <a:pt x="182" y="195"/>
                  </a:lnTo>
                  <a:lnTo>
                    <a:pt x="183" y="195"/>
                  </a:lnTo>
                  <a:lnTo>
                    <a:pt x="185" y="199"/>
                  </a:lnTo>
                  <a:lnTo>
                    <a:pt x="186" y="210"/>
                  </a:lnTo>
                  <a:lnTo>
                    <a:pt x="188" y="219"/>
                  </a:lnTo>
                  <a:lnTo>
                    <a:pt x="191" y="224"/>
                  </a:lnTo>
                  <a:lnTo>
                    <a:pt x="192" y="224"/>
                  </a:lnTo>
                  <a:lnTo>
                    <a:pt x="194" y="227"/>
                  </a:lnTo>
                  <a:lnTo>
                    <a:pt x="195" y="230"/>
                  </a:lnTo>
                  <a:lnTo>
                    <a:pt x="197" y="236"/>
                  </a:lnTo>
                  <a:lnTo>
                    <a:pt x="198" y="241"/>
                  </a:lnTo>
                  <a:lnTo>
                    <a:pt x="202" y="244"/>
                  </a:lnTo>
                  <a:lnTo>
                    <a:pt x="203" y="247"/>
                  </a:lnTo>
                  <a:lnTo>
                    <a:pt x="205" y="248"/>
                  </a:lnTo>
                  <a:lnTo>
                    <a:pt x="206" y="248"/>
                  </a:lnTo>
                  <a:lnTo>
                    <a:pt x="208" y="245"/>
                  </a:lnTo>
                  <a:lnTo>
                    <a:pt x="209" y="244"/>
                  </a:lnTo>
                  <a:lnTo>
                    <a:pt x="212" y="241"/>
                  </a:lnTo>
                  <a:lnTo>
                    <a:pt x="214" y="235"/>
                  </a:lnTo>
                  <a:lnTo>
                    <a:pt x="215" y="225"/>
                  </a:lnTo>
                  <a:lnTo>
                    <a:pt x="217" y="219"/>
                  </a:lnTo>
                  <a:lnTo>
                    <a:pt x="218" y="210"/>
                  </a:lnTo>
                  <a:lnTo>
                    <a:pt x="220" y="201"/>
                  </a:lnTo>
                  <a:lnTo>
                    <a:pt x="223" y="190"/>
                  </a:lnTo>
                  <a:lnTo>
                    <a:pt x="225" y="181"/>
                  </a:lnTo>
                  <a:lnTo>
                    <a:pt x="226" y="172"/>
                  </a:lnTo>
                  <a:lnTo>
                    <a:pt x="228" y="164"/>
                  </a:lnTo>
                  <a:lnTo>
                    <a:pt x="229" y="155"/>
                  </a:lnTo>
                  <a:lnTo>
                    <a:pt x="231" y="146"/>
                  </a:lnTo>
                  <a:lnTo>
                    <a:pt x="234" y="138"/>
                  </a:lnTo>
                  <a:lnTo>
                    <a:pt x="235" y="129"/>
                  </a:lnTo>
                  <a:lnTo>
                    <a:pt x="237" y="118"/>
                  </a:lnTo>
                  <a:lnTo>
                    <a:pt x="238" y="112"/>
                  </a:lnTo>
                  <a:lnTo>
                    <a:pt x="240" y="109"/>
                  </a:lnTo>
                  <a:lnTo>
                    <a:pt x="241" y="107"/>
                  </a:lnTo>
                  <a:lnTo>
                    <a:pt x="245" y="110"/>
                  </a:lnTo>
                  <a:lnTo>
                    <a:pt x="246" y="115"/>
                  </a:lnTo>
                  <a:lnTo>
                    <a:pt x="248" y="119"/>
                  </a:lnTo>
                  <a:lnTo>
                    <a:pt x="249" y="122"/>
                  </a:lnTo>
                  <a:lnTo>
                    <a:pt x="251" y="129"/>
                  </a:lnTo>
                  <a:lnTo>
                    <a:pt x="252" y="136"/>
                  </a:lnTo>
                  <a:lnTo>
                    <a:pt x="255" y="142"/>
                  </a:lnTo>
                  <a:lnTo>
                    <a:pt x="257" y="152"/>
                  </a:lnTo>
                  <a:lnTo>
                    <a:pt x="258" y="165"/>
                  </a:lnTo>
                  <a:lnTo>
                    <a:pt x="260" y="176"/>
                  </a:lnTo>
                  <a:lnTo>
                    <a:pt x="261" y="184"/>
                  </a:lnTo>
                  <a:lnTo>
                    <a:pt x="263" y="189"/>
                  </a:lnTo>
                  <a:lnTo>
                    <a:pt x="266" y="196"/>
                  </a:lnTo>
                  <a:lnTo>
                    <a:pt x="268" y="202"/>
                  </a:lnTo>
                  <a:lnTo>
                    <a:pt x="269" y="208"/>
                  </a:lnTo>
                  <a:lnTo>
                    <a:pt x="271" y="215"/>
                  </a:lnTo>
                  <a:lnTo>
                    <a:pt x="272" y="216"/>
                  </a:lnTo>
                  <a:lnTo>
                    <a:pt x="274" y="213"/>
                  </a:lnTo>
                  <a:lnTo>
                    <a:pt x="277" y="213"/>
                  </a:lnTo>
                  <a:lnTo>
                    <a:pt x="278" y="213"/>
                  </a:lnTo>
                  <a:lnTo>
                    <a:pt x="280" y="207"/>
                  </a:lnTo>
                  <a:lnTo>
                    <a:pt x="281" y="204"/>
                  </a:lnTo>
                  <a:lnTo>
                    <a:pt x="283" y="205"/>
                  </a:lnTo>
                  <a:lnTo>
                    <a:pt x="285" y="208"/>
                  </a:lnTo>
                  <a:lnTo>
                    <a:pt x="288" y="207"/>
                  </a:lnTo>
                  <a:lnTo>
                    <a:pt x="289" y="201"/>
                  </a:lnTo>
                  <a:lnTo>
                    <a:pt x="291" y="193"/>
                  </a:lnTo>
                  <a:lnTo>
                    <a:pt x="292" y="182"/>
                  </a:lnTo>
                  <a:lnTo>
                    <a:pt x="294" y="167"/>
                  </a:lnTo>
                  <a:lnTo>
                    <a:pt x="295" y="152"/>
                  </a:lnTo>
                  <a:lnTo>
                    <a:pt x="297" y="138"/>
                  </a:lnTo>
                  <a:lnTo>
                    <a:pt x="300" y="124"/>
                  </a:lnTo>
                  <a:lnTo>
                    <a:pt x="301" y="110"/>
                  </a:lnTo>
                  <a:lnTo>
                    <a:pt x="303" y="96"/>
                  </a:lnTo>
                  <a:lnTo>
                    <a:pt x="304" y="86"/>
                  </a:lnTo>
                  <a:lnTo>
                    <a:pt x="306" y="78"/>
                  </a:lnTo>
                  <a:lnTo>
                    <a:pt x="308" y="70"/>
                  </a:lnTo>
                  <a:lnTo>
                    <a:pt x="311" y="66"/>
                  </a:lnTo>
                  <a:lnTo>
                    <a:pt x="312" y="66"/>
                  </a:lnTo>
                  <a:lnTo>
                    <a:pt x="314" y="72"/>
                  </a:lnTo>
                  <a:lnTo>
                    <a:pt x="315" y="81"/>
                  </a:lnTo>
                  <a:lnTo>
                    <a:pt x="317" y="93"/>
                  </a:lnTo>
                  <a:lnTo>
                    <a:pt x="318" y="104"/>
                  </a:lnTo>
                  <a:lnTo>
                    <a:pt x="321" y="113"/>
                  </a:lnTo>
                  <a:lnTo>
                    <a:pt x="323" y="122"/>
                  </a:lnTo>
                  <a:lnTo>
                    <a:pt x="324" y="133"/>
                  </a:lnTo>
                  <a:lnTo>
                    <a:pt x="326" y="142"/>
                  </a:lnTo>
                  <a:lnTo>
                    <a:pt x="328" y="149"/>
                  </a:lnTo>
                  <a:lnTo>
                    <a:pt x="329" y="152"/>
                  </a:lnTo>
                  <a:lnTo>
                    <a:pt x="332" y="152"/>
                  </a:lnTo>
                  <a:lnTo>
                    <a:pt x="334" y="152"/>
                  </a:lnTo>
                  <a:lnTo>
                    <a:pt x="335" y="158"/>
                  </a:lnTo>
                  <a:lnTo>
                    <a:pt x="337" y="164"/>
                  </a:lnTo>
                  <a:lnTo>
                    <a:pt x="338" y="170"/>
                  </a:lnTo>
                  <a:lnTo>
                    <a:pt x="340" y="176"/>
                  </a:lnTo>
                  <a:lnTo>
                    <a:pt x="343" y="187"/>
                  </a:lnTo>
                  <a:lnTo>
                    <a:pt x="344" y="193"/>
                  </a:lnTo>
                  <a:lnTo>
                    <a:pt x="346" y="190"/>
                  </a:lnTo>
                  <a:lnTo>
                    <a:pt x="348" y="178"/>
                  </a:lnTo>
                  <a:lnTo>
                    <a:pt x="349" y="162"/>
                  </a:lnTo>
                  <a:lnTo>
                    <a:pt x="351" y="139"/>
                  </a:lnTo>
                  <a:lnTo>
                    <a:pt x="354" y="112"/>
                  </a:lnTo>
                  <a:lnTo>
                    <a:pt x="355" y="84"/>
                  </a:lnTo>
                  <a:lnTo>
                    <a:pt x="357" y="63"/>
                  </a:lnTo>
                  <a:lnTo>
                    <a:pt x="358" y="43"/>
                  </a:lnTo>
                  <a:lnTo>
                    <a:pt x="360" y="24"/>
                  </a:lnTo>
                  <a:lnTo>
                    <a:pt x="361" y="10"/>
                  </a:lnTo>
                  <a:lnTo>
                    <a:pt x="364" y="1"/>
                  </a:lnTo>
                  <a:lnTo>
                    <a:pt x="366" y="0"/>
                  </a:lnTo>
                  <a:lnTo>
                    <a:pt x="367" y="6"/>
                  </a:lnTo>
                  <a:lnTo>
                    <a:pt x="369" y="13"/>
                  </a:lnTo>
                  <a:lnTo>
                    <a:pt x="371" y="20"/>
                  </a:lnTo>
                  <a:lnTo>
                    <a:pt x="372" y="26"/>
                  </a:lnTo>
                  <a:lnTo>
                    <a:pt x="375" y="33"/>
                  </a:lnTo>
                  <a:lnTo>
                    <a:pt x="377" y="38"/>
                  </a:lnTo>
                  <a:lnTo>
                    <a:pt x="378" y="43"/>
                  </a:lnTo>
                  <a:lnTo>
                    <a:pt x="380" y="49"/>
                  </a:lnTo>
                  <a:lnTo>
                    <a:pt x="381" y="53"/>
                  </a:lnTo>
                  <a:lnTo>
                    <a:pt x="383" y="55"/>
                  </a:lnTo>
                  <a:lnTo>
                    <a:pt x="386" y="56"/>
                  </a:lnTo>
                  <a:lnTo>
                    <a:pt x="387" y="58"/>
                  </a:lnTo>
                  <a:lnTo>
                    <a:pt x="389" y="53"/>
                  </a:lnTo>
                  <a:lnTo>
                    <a:pt x="391" y="43"/>
                  </a:lnTo>
                  <a:lnTo>
                    <a:pt x="392" y="35"/>
                  </a:lnTo>
                  <a:lnTo>
                    <a:pt x="394" y="30"/>
                  </a:lnTo>
                  <a:lnTo>
                    <a:pt x="397" y="29"/>
                  </a:lnTo>
                  <a:lnTo>
                    <a:pt x="398" y="27"/>
                  </a:lnTo>
                  <a:lnTo>
                    <a:pt x="400" y="26"/>
                  </a:lnTo>
                  <a:lnTo>
                    <a:pt x="401" y="21"/>
                  </a:lnTo>
                  <a:lnTo>
                    <a:pt x="403" y="17"/>
                  </a:lnTo>
                  <a:lnTo>
                    <a:pt x="404" y="13"/>
                  </a:lnTo>
                  <a:lnTo>
                    <a:pt x="407" y="20"/>
                  </a:lnTo>
                  <a:lnTo>
                    <a:pt x="409" y="38"/>
                  </a:lnTo>
                  <a:lnTo>
                    <a:pt x="411" y="61"/>
                  </a:lnTo>
                  <a:lnTo>
                    <a:pt x="412" y="81"/>
                  </a:lnTo>
                  <a:lnTo>
                    <a:pt x="414" y="95"/>
                  </a:lnTo>
                  <a:lnTo>
                    <a:pt x="415" y="107"/>
                  </a:lnTo>
                  <a:lnTo>
                    <a:pt x="417" y="118"/>
                  </a:lnTo>
                  <a:lnTo>
                    <a:pt x="420" y="127"/>
                  </a:lnTo>
                  <a:lnTo>
                    <a:pt x="421" y="132"/>
                  </a:lnTo>
                  <a:lnTo>
                    <a:pt x="423" y="150"/>
                  </a:lnTo>
                  <a:lnTo>
                    <a:pt x="424" y="175"/>
                  </a:lnTo>
                  <a:lnTo>
                    <a:pt x="426" y="205"/>
                  </a:lnTo>
                  <a:lnTo>
                    <a:pt x="427" y="239"/>
                  </a:lnTo>
                  <a:lnTo>
                    <a:pt x="430" y="279"/>
                  </a:lnTo>
                  <a:lnTo>
                    <a:pt x="432" y="316"/>
                  </a:lnTo>
                  <a:lnTo>
                    <a:pt x="434" y="350"/>
                  </a:lnTo>
                  <a:lnTo>
                    <a:pt x="435" y="380"/>
                  </a:lnTo>
                  <a:lnTo>
                    <a:pt x="437" y="414"/>
                  </a:lnTo>
                  <a:lnTo>
                    <a:pt x="438" y="443"/>
                  </a:lnTo>
                  <a:lnTo>
                    <a:pt x="441" y="474"/>
                  </a:lnTo>
                  <a:lnTo>
                    <a:pt x="443" y="520"/>
                  </a:lnTo>
                  <a:lnTo>
                    <a:pt x="444" y="597"/>
                  </a:lnTo>
                  <a:lnTo>
                    <a:pt x="446" y="701"/>
                  </a:lnTo>
                  <a:lnTo>
                    <a:pt x="447" y="829"/>
                  </a:lnTo>
                  <a:lnTo>
                    <a:pt x="449" y="967"/>
                  </a:lnTo>
                  <a:lnTo>
                    <a:pt x="452" y="1102"/>
                  </a:lnTo>
                  <a:lnTo>
                    <a:pt x="454" y="1231"/>
                  </a:lnTo>
                  <a:lnTo>
                    <a:pt x="455" y="1362"/>
                  </a:lnTo>
                  <a:lnTo>
                    <a:pt x="457" y="1494"/>
                  </a:lnTo>
                  <a:lnTo>
                    <a:pt x="458" y="1608"/>
                  </a:lnTo>
                  <a:lnTo>
                    <a:pt x="460" y="1697"/>
                  </a:lnTo>
                  <a:lnTo>
                    <a:pt x="463" y="1763"/>
                  </a:lnTo>
                  <a:lnTo>
                    <a:pt x="464" y="1820"/>
                  </a:lnTo>
                  <a:lnTo>
                    <a:pt x="466" y="1866"/>
                  </a:lnTo>
                  <a:lnTo>
                    <a:pt x="467" y="1889"/>
                  </a:lnTo>
                  <a:lnTo>
                    <a:pt x="469" y="1895"/>
                  </a:lnTo>
                  <a:lnTo>
                    <a:pt x="470" y="1884"/>
                  </a:lnTo>
                  <a:lnTo>
                    <a:pt x="473" y="1853"/>
                  </a:lnTo>
                  <a:lnTo>
                    <a:pt x="475" y="1813"/>
                  </a:lnTo>
                  <a:lnTo>
                    <a:pt x="477" y="1777"/>
                  </a:lnTo>
                  <a:lnTo>
                    <a:pt x="478" y="1744"/>
                  </a:lnTo>
                  <a:lnTo>
                    <a:pt x="480" y="1720"/>
                  </a:lnTo>
                  <a:lnTo>
                    <a:pt x="481" y="1714"/>
                  </a:lnTo>
                  <a:lnTo>
                    <a:pt x="484" y="1723"/>
                  </a:lnTo>
                  <a:lnTo>
                    <a:pt x="486" y="1730"/>
                  </a:lnTo>
                  <a:lnTo>
                    <a:pt x="487" y="1726"/>
                  </a:lnTo>
                  <a:lnTo>
                    <a:pt x="489" y="1721"/>
                  </a:lnTo>
                  <a:lnTo>
                    <a:pt x="490" y="1730"/>
                  </a:lnTo>
                  <a:lnTo>
                    <a:pt x="492" y="1750"/>
                  </a:lnTo>
                  <a:lnTo>
                    <a:pt x="495" y="1792"/>
                  </a:lnTo>
                  <a:lnTo>
                    <a:pt x="497" y="1864"/>
                  </a:lnTo>
                  <a:lnTo>
                    <a:pt x="498" y="1949"/>
                  </a:lnTo>
                  <a:lnTo>
                    <a:pt x="500" y="2015"/>
                  </a:lnTo>
                  <a:lnTo>
                    <a:pt x="501" y="2048"/>
                  </a:lnTo>
                  <a:lnTo>
                    <a:pt x="503" y="2058"/>
                  </a:lnTo>
                  <a:lnTo>
                    <a:pt x="506" y="2053"/>
                  </a:lnTo>
                  <a:lnTo>
                    <a:pt x="507" y="2050"/>
                  </a:lnTo>
                  <a:lnTo>
                    <a:pt x="509" y="2051"/>
                  </a:lnTo>
                  <a:lnTo>
                    <a:pt x="510" y="2047"/>
                  </a:lnTo>
                  <a:lnTo>
                    <a:pt x="512" y="2019"/>
                  </a:lnTo>
                  <a:lnTo>
                    <a:pt x="513" y="1968"/>
                  </a:lnTo>
                  <a:lnTo>
                    <a:pt x="517" y="1907"/>
                  </a:lnTo>
                  <a:lnTo>
                    <a:pt x="518" y="1839"/>
                  </a:lnTo>
                  <a:lnTo>
                    <a:pt x="520" y="1763"/>
                  </a:lnTo>
                  <a:lnTo>
                    <a:pt x="521" y="1680"/>
                  </a:lnTo>
                  <a:lnTo>
                    <a:pt x="523" y="1617"/>
                  </a:lnTo>
                  <a:lnTo>
                    <a:pt x="524" y="1581"/>
                  </a:lnTo>
                  <a:lnTo>
                    <a:pt x="526" y="1566"/>
                  </a:lnTo>
                  <a:lnTo>
                    <a:pt x="529" y="1558"/>
                  </a:lnTo>
                  <a:lnTo>
                    <a:pt x="530" y="1565"/>
                  </a:lnTo>
                  <a:lnTo>
                    <a:pt x="532" y="1586"/>
                  </a:lnTo>
                  <a:lnTo>
                    <a:pt x="533" y="1618"/>
                  </a:lnTo>
                  <a:lnTo>
                    <a:pt x="535" y="1655"/>
                  </a:lnTo>
                  <a:lnTo>
                    <a:pt x="536" y="1692"/>
                  </a:lnTo>
                  <a:lnTo>
                    <a:pt x="540" y="1726"/>
                  </a:lnTo>
                  <a:lnTo>
                    <a:pt x="541" y="1753"/>
                  </a:lnTo>
                  <a:lnTo>
                    <a:pt x="543" y="1781"/>
                  </a:lnTo>
                  <a:lnTo>
                    <a:pt x="544" y="1816"/>
                  </a:lnTo>
                  <a:lnTo>
                    <a:pt x="546" y="1850"/>
                  </a:lnTo>
                  <a:lnTo>
                    <a:pt x="547" y="1866"/>
                  </a:lnTo>
                  <a:lnTo>
                    <a:pt x="550" y="1866"/>
                  </a:lnTo>
                  <a:lnTo>
                    <a:pt x="552" y="1855"/>
                  </a:lnTo>
                  <a:lnTo>
                    <a:pt x="553" y="1833"/>
                  </a:lnTo>
                  <a:lnTo>
                    <a:pt x="555" y="1801"/>
                  </a:lnTo>
                  <a:lnTo>
                    <a:pt x="556" y="1770"/>
                  </a:lnTo>
                  <a:lnTo>
                    <a:pt x="558" y="1750"/>
                  </a:lnTo>
                  <a:lnTo>
                    <a:pt x="561" y="1744"/>
                  </a:lnTo>
                  <a:lnTo>
                    <a:pt x="563" y="1750"/>
                  </a:lnTo>
                  <a:lnTo>
                    <a:pt x="564" y="1763"/>
                  </a:lnTo>
                  <a:lnTo>
                    <a:pt x="566" y="1770"/>
                  </a:lnTo>
                  <a:lnTo>
                    <a:pt x="567" y="1767"/>
                  </a:lnTo>
                  <a:lnTo>
                    <a:pt x="569" y="1753"/>
                  </a:lnTo>
                  <a:lnTo>
                    <a:pt x="572" y="1737"/>
                  </a:lnTo>
                  <a:lnTo>
                    <a:pt x="573" y="1732"/>
                  </a:lnTo>
                  <a:lnTo>
                    <a:pt x="575" y="1743"/>
                  </a:lnTo>
                  <a:lnTo>
                    <a:pt x="576" y="1746"/>
                  </a:lnTo>
                  <a:lnTo>
                    <a:pt x="578" y="1735"/>
                  </a:lnTo>
                  <a:lnTo>
                    <a:pt x="580" y="1729"/>
                  </a:lnTo>
                  <a:lnTo>
                    <a:pt x="583" y="1741"/>
                  </a:lnTo>
                  <a:lnTo>
                    <a:pt x="584" y="1760"/>
                  </a:lnTo>
                  <a:lnTo>
                    <a:pt x="586" y="1772"/>
                  </a:lnTo>
                  <a:lnTo>
                    <a:pt x="587" y="1786"/>
                  </a:lnTo>
                  <a:lnTo>
                    <a:pt x="589" y="1803"/>
                  </a:lnTo>
                  <a:lnTo>
                    <a:pt x="590" y="1810"/>
                  </a:lnTo>
                  <a:lnTo>
                    <a:pt x="593" y="1806"/>
                  </a:lnTo>
                  <a:lnTo>
                    <a:pt x="595" y="1796"/>
                  </a:lnTo>
                  <a:lnTo>
                    <a:pt x="596" y="1781"/>
                  </a:lnTo>
                  <a:lnTo>
                    <a:pt x="598" y="1750"/>
                  </a:lnTo>
                  <a:lnTo>
                    <a:pt x="599" y="1712"/>
                  </a:lnTo>
                  <a:lnTo>
                    <a:pt x="601" y="1678"/>
                  </a:lnTo>
                  <a:lnTo>
                    <a:pt x="604" y="1652"/>
                  </a:lnTo>
                  <a:lnTo>
                    <a:pt x="606" y="1632"/>
                  </a:lnTo>
                  <a:lnTo>
                    <a:pt x="607" y="1620"/>
                  </a:lnTo>
                  <a:lnTo>
                    <a:pt x="609" y="1626"/>
                  </a:lnTo>
                  <a:lnTo>
                    <a:pt x="610" y="1640"/>
                  </a:lnTo>
                  <a:lnTo>
                    <a:pt x="612" y="1654"/>
                  </a:lnTo>
                  <a:lnTo>
                    <a:pt x="615" y="1663"/>
                  </a:lnTo>
                  <a:lnTo>
                    <a:pt x="616" y="1675"/>
                  </a:lnTo>
                  <a:lnTo>
                    <a:pt x="618" y="1692"/>
                  </a:lnTo>
                  <a:lnTo>
                    <a:pt x="619" y="1697"/>
                  </a:lnTo>
                  <a:lnTo>
                    <a:pt x="621" y="1681"/>
                  </a:lnTo>
                  <a:lnTo>
                    <a:pt x="623" y="1660"/>
                  </a:lnTo>
                  <a:lnTo>
                    <a:pt x="626" y="1654"/>
                  </a:lnTo>
                  <a:lnTo>
                    <a:pt x="627" y="1648"/>
                  </a:lnTo>
                  <a:lnTo>
                    <a:pt x="629" y="1632"/>
                  </a:lnTo>
                  <a:lnTo>
                    <a:pt x="630" y="1623"/>
                  </a:lnTo>
                  <a:lnTo>
                    <a:pt x="632" y="1624"/>
                  </a:lnTo>
                  <a:lnTo>
                    <a:pt x="633" y="1618"/>
                  </a:lnTo>
                  <a:lnTo>
                    <a:pt x="635" y="1609"/>
                  </a:lnTo>
                  <a:lnTo>
                    <a:pt x="638" y="1617"/>
                  </a:lnTo>
                  <a:lnTo>
                    <a:pt x="639" y="1637"/>
                  </a:lnTo>
                  <a:lnTo>
                    <a:pt x="641" y="1651"/>
                  </a:lnTo>
                  <a:lnTo>
                    <a:pt x="642" y="1657"/>
                  </a:lnTo>
                  <a:lnTo>
                    <a:pt x="644" y="1667"/>
                  </a:lnTo>
                  <a:lnTo>
                    <a:pt x="646" y="1675"/>
                  </a:lnTo>
                  <a:lnTo>
                    <a:pt x="649" y="1674"/>
                  </a:lnTo>
                  <a:lnTo>
                    <a:pt x="650" y="1674"/>
                  </a:lnTo>
                  <a:lnTo>
                    <a:pt x="652" y="1692"/>
                  </a:lnTo>
                  <a:lnTo>
                    <a:pt x="653" y="1726"/>
                  </a:lnTo>
                  <a:lnTo>
                    <a:pt x="655" y="1746"/>
                  </a:lnTo>
                  <a:lnTo>
                    <a:pt x="656" y="1740"/>
                  </a:lnTo>
                  <a:lnTo>
                    <a:pt x="659" y="1712"/>
                  </a:lnTo>
                  <a:lnTo>
                    <a:pt x="661" y="1684"/>
                  </a:lnTo>
                  <a:lnTo>
                    <a:pt x="662" y="1657"/>
                  </a:lnTo>
                  <a:lnTo>
                    <a:pt x="664" y="1629"/>
                  </a:lnTo>
                  <a:lnTo>
                    <a:pt x="666" y="1617"/>
                  </a:lnTo>
                  <a:lnTo>
                    <a:pt x="667" y="1628"/>
                  </a:lnTo>
                  <a:lnTo>
                    <a:pt x="670" y="1644"/>
                  </a:lnTo>
                  <a:lnTo>
                    <a:pt x="672" y="1664"/>
                  </a:lnTo>
                  <a:lnTo>
                    <a:pt x="673" y="1700"/>
                  </a:lnTo>
                  <a:lnTo>
                    <a:pt x="675" y="1749"/>
                  </a:lnTo>
                  <a:lnTo>
                    <a:pt x="676" y="1784"/>
                  </a:lnTo>
                  <a:lnTo>
                    <a:pt x="678" y="1801"/>
                  </a:lnTo>
                  <a:lnTo>
                    <a:pt x="681" y="1818"/>
                  </a:lnTo>
                  <a:lnTo>
                    <a:pt x="682" y="1843"/>
                  </a:lnTo>
                  <a:lnTo>
                    <a:pt x="684" y="1863"/>
                  </a:lnTo>
                  <a:lnTo>
                    <a:pt x="686" y="1875"/>
                  </a:lnTo>
                  <a:lnTo>
                    <a:pt x="687" y="1879"/>
                  </a:lnTo>
                  <a:lnTo>
                    <a:pt x="689" y="1878"/>
                  </a:lnTo>
                  <a:lnTo>
                    <a:pt x="692" y="1875"/>
                  </a:lnTo>
                  <a:lnTo>
                    <a:pt x="693" y="1876"/>
                  </a:lnTo>
                  <a:lnTo>
                    <a:pt x="695" y="1887"/>
                  </a:lnTo>
                  <a:lnTo>
                    <a:pt x="696" y="1907"/>
                  </a:lnTo>
                  <a:lnTo>
                    <a:pt x="698" y="1929"/>
                  </a:lnTo>
                  <a:lnTo>
                    <a:pt x="699" y="1938"/>
                  </a:lnTo>
                  <a:lnTo>
                    <a:pt x="702" y="1938"/>
                  </a:lnTo>
                  <a:lnTo>
                    <a:pt x="704" y="1942"/>
                  </a:lnTo>
                  <a:lnTo>
                    <a:pt x="705" y="1952"/>
                  </a:lnTo>
                  <a:lnTo>
                    <a:pt x="707" y="1947"/>
                  </a:lnTo>
                  <a:lnTo>
                    <a:pt x="709" y="1929"/>
                  </a:lnTo>
                  <a:lnTo>
                    <a:pt x="710" y="1904"/>
                  </a:lnTo>
                  <a:lnTo>
                    <a:pt x="713" y="1879"/>
                  </a:lnTo>
                  <a:lnTo>
                    <a:pt x="715" y="1859"/>
                  </a:lnTo>
                  <a:lnTo>
                    <a:pt x="716" y="1861"/>
                  </a:lnTo>
                  <a:lnTo>
                    <a:pt x="718" y="1878"/>
                  </a:lnTo>
                  <a:lnTo>
                    <a:pt x="719" y="1890"/>
                  </a:lnTo>
                  <a:lnTo>
                    <a:pt x="721" y="1889"/>
                  </a:lnTo>
                  <a:lnTo>
                    <a:pt x="724" y="1879"/>
                  </a:lnTo>
                  <a:lnTo>
                    <a:pt x="725" y="1859"/>
                  </a:lnTo>
                  <a:lnTo>
                    <a:pt x="727" y="1832"/>
                  </a:lnTo>
                  <a:lnTo>
                    <a:pt x="729" y="1818"/>
                  </a:lnTo>
                  <a:lnTo>
                    <a:pt x="730" y="1830"/>
                  </a:lnTo>
                  <a:lnTo>
                    <a:pt x="732" y="1858"/>
                  </a:lnTo>
                  <a:lnTo>
                    <a:pt x="735" y="1879"/>
                  </a:lnTo>
                  <a:lnTo>
                    <a:pt x="736" y="1873"/>
                  </a:lnTo>
                  <a:lnTo>
                    <a:pt x="738" y="1833"/>
                  </a:lnTo>
                  <a:lnTo>
                    <a:pt x="739" y="1787"/>
                  </a:lnTo>
                  <a:lnTo>
                    <a:pt x="741" y="1764"/>
                  </a:lnTo>
                  <a:lnTo>
                    <a:pt x="742" y="1769"/>
                  </a:lnTo>
                  <a:lnTo>
                    <a:pt x="744" y="1773"/>
                  </a:lnTo>
                  <a:lnTo>
                    <a:pt x="747" y="1764"/>
                  </a:lnTo>
                  <a:lnTo>
                    <a:pt x="749" y="1749"/>
                  </a:lnTo>
                  <a:lnTo>
                    <a:pt x="750" y="1738"/>
                  </a:lnTo>
                  <a:lnTo>
                    <a:pt x="752" y="1744"/>
                  </a:lnTo>
                  <a:lnTo>
                    <a:pt x="753" y="1770"/>
                  </a:lnTo>
                  <a:lnTo>
                    <a:pt x="755" y="1806"/>
                  </a:lnTo>
                  <a:lnTo>
                    <a:pt x="758" y="1836"/>
                  </a:lnTo>
                  <a:lnTo>
                    <a:pt x="759" y="1861"/>
                  </a:lnTo>
                  <a:lnTo>
                    <a:pt x="761" y="1884"/>
                  </a:lnTo>
                  <a:lnTo>
                    <a:pt x="762" y="1906"/>
                  </a:lnTo>
                  <a:lnTo>
                    <a:pt x="764" y="1956"/>
                  </a:lnTo>
                  <a:lnTo>
                    <a:pt x="765" y="2035"/>
                  </a:lnTo>
                  <a:lnTo>
                    <a:pt x="768" y="2171"/>
                  </a:lnTo>
                  <a:lnTo>
                    <a:pt x="770" y="2305"/>
                  </a:lnTo>
                  <a:lnTo>
                    <a:pt x="772" y="2305"/>
                  </a:lnTo>
                </a:path>
              </a:pathLst>
            </a:custGeom>
            <a:noFill/>
            <a:ln w="324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8" name=""/>
            <p:cNvSpPr/>
            <p:nvPr/>
          </p:nvSpPr>
          <p:spPr>
            <a:xfrm rot="16200000">
              <a:off x="228600" y="3989160"/>
              <a:ext cx="70488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ed (km/h)</a:t>
              </a:r>
              <a:endParaRPr b="0" lang="en-US" sz="1000" spc="-1" strike="noStrike">
                <a:solidFill>
                  <a:srgbClr val="000000"/>
                </a:solidFill>
                <a:latin typeface="Arial"/>
              </a:endParaRPr>
            </a:p>
          </p:txBody>
        </p:sp>
        <p:sp>
          <p:nvSpPr>
            <p:cNvPr id="499" name=""/>
            <p:cNvSpPr/>
            <p:nvPr/>
          </p:nvSpPr>
          <p:spPr>
            <a:xfrm>
              <a:off x="1673280" y="4932360"/>
              <a:ext cx="93816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sec)</a:t>
              </a:r>
              <a:endParaRPr b="0" lang="en-US" sz="1000" spc="-1" strike="noStrike">
                <a:solidFill>
                  <a:srgbClr val="000000"/>
                </a:solidFill>
                <a:latin typeface="Arial"/>
              </a:endParaRPr>
            </a:p>
          </p:txBody>
        </p:sp>
      </p:grpSp>
      <p:sp>
        <p:nvSpPr>
          <p:cNvPr id="500" name=""/>
          <p:cNvSpPr/>
          <p:nvPr/>
        </p:nvSpPr>
        <p:spPr>
          <a:xfrm>
            <a:off x="1209600" y="1700280"/>
            <a:ext cx="2651040" cy="31464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V </a:t>
            </a:r>
            <a:endParaRPr b="0" lang="en-US" sz="1200" spc="-1" strike="noStrike">
              <a:solidFill>
                <a:srgbClr val="000000"/>
              </a:solidFill>
              <a:latin typeface="Arial"/>
            </a:endParaRPr>
          </a:p>
          <a:p>
            <a:pPr algn="ctr">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brid Electric Vehicle)</a:t>
            </a:r>
            <a:endParaRPr b="0" lang="en-US" sz="1200" spc="-1" strike="noStrike">
              <a:solidFill>
                <a:srgbClr val="000000"/>
              </a:solidFill>
              <a:latin typeface="Arial"/>
            </a:endParaRPr>
          </a:p>
        </p:txBody>
      </p:sp>
      <p:sp>
        <p:nvSpPr>
          <p:cNvPr id="501" name=""/>
          <p:cNvSpPr/>
          <p:nvPr/>
        </p:nvSpPr>
        <p:spPr>
          <a:xfrm rot="16200000">
            <a:off x="2472840" y="2561040"/>
            <a:ext cx="471600" cy="541080"/>
          </a:xfrm>
          <a:custGeom>
            <a:avLst/>
            <a:gdLst/>
            <a:ahLst/>
            <a:rect l="l" t="t" r="r" b="b"/>
            <a:pathLst>
              <a:path stroke="0" w="21600" h="21600">
                <a:moveTo>
                  <a:pt x="10800" y="0"/>
                </a:moveTo>
                <a:arcTo wR="10800" hR="10800" stAng="-5400000" swAng="10874473"/>
                <a:lnTo>
                  <a:pt x="10800" y="10800"/>
                </a:lnTo>
                <a:close/>
              </a:path>
              <a:path fill="none" w="21600" h="21600">
                <a:moveTo>
                  <a:pt x="10800" y="0"/>
                </a:moveTo>
                <a:arcTo wR="10800" hR="10800" stAng="-5400000" swAng="10874473"/>
              </a:path>
            </a:pathLst>
          </a:custGeom>
          <a:gradFill rotWithShape="0">
            <a:gsLst>
              <a:gs pos="0">
                <a:srgbClr val="000000"/>
              </a:gs>
              <a:gs pos="100000">
                <a:srgbClr val="4d4d4d"/>
              </a:gs>
            </a:gsLst>
            <a:lin ang="16200000"/>
          </a:gradFill>
          <a:ln w="1260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2860560" y="2324160"/>
            <a:ext cx="689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406600" y="2347920"/>
            <a:ext cx="98640" cy="34920"/>
          </a:xfrm>
          <a:prstGeom prst="rect">
            <a:avLst/>
          </a:prstGeom>
          <a:solidFill>
            <a:srgbClr val="ffffff"/>
          </a:solidFill>
          <a:ln w="12600">
            <a:solidFill>
              <a:srgbClr val="000000"/>
            </a:solidFill>
            <a:miter/>
          </a:ln>
        </p:spPr>
        <p:style>
          <a:lnRef idx="0"/>
          <a:fillRef idx="0"/>
          <a:effectRef idx="0"/>
          <a:fontRef idx="minor"/>
        </p:style>
        <p:txBody>
          <a:bodyPr lIns="90000" rIns="90000" tIns="-11880" bIns="-11880" anchor="ctr">
            <a:spAutoFit/>
          </a:bodyPr>
          <a:p>
            <a:endParaRPr b="0" lang="en-US" sz="1800" spc="-1" strike="noStrike">
              <a:solidFill>
                <a:srgbClr val="000000"/>
              </a:solidFill>
              <a:latin typeface="Arial"/>
            </a:endParaRPr>
          </a:p>
        </p:txBody>
      </p:sp>
      <p:grpSp>
        <p:nvGrpSpPr>
          <p:cNvPr id="504" name=""/>
          <p:cNvGrpSpPr/>
          <p:nvPr/>
        </p:nvGrpSpPr>
        <p:grpSpPr>
          <a:xfrm>
            <a:off x="2517840" y="2257560"/>
            <a:ext cx="384840" cy="110880"/>
            <a:chOff x="2517840" y="2257560"/>
            <a:chExt cx="384840" cy="110880"/>
          </a:xfrm>
        </p:grpSpPr>
        <p:sp>
          <p:nvSpPr>
            <p:cNvPr id="505" name=""/>
            <p:cNvSpPr/>
            <p:nvPr/>
          </p:nvSpPr>
          <p:spPr>
            <a:xfrm>
              <a:off x="2616840" y="226044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635920" y="2283840"/>
              <a:ext cx="14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V="1">
              <a:off x="2550960" y="2283480"/>
              <a:ext cx="87840" cy="7956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8" name=""/>
            <p:cNvSpPr/>
            <p:nvPr/>
          </p:nvSpPr>
          <p:spPr>
            <a:xfrm flipV="1">
              <a:off x="2521080" y="2257560"/>
              <a:ext cx="99000" cy="11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517840" y="2365200"/>
              <a:ext cx="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flipV="1">
              <a:off x="2781000" y="2283840"/>
              <a:ext cx="91080" cy="82800"/>
            </a:xfrm>
            <a:prstGeom prst="line">
              <a:avLst/>
            </a:prstGeom>
            <a:ln w="1260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1" name=""/>
            <p:cNvSpPr/>
            <p:nvPr/>
          </p:nvSpPr>
          <p:spPr>
            <a:xfrm flipH="1" flipV="1">
              <a:off x="2800440" y="2257560"/>
              <a:ext cx="99360" cy="11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a:off x="2870640" y="2365200"/>
              <a:ext cx="3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3" name=""/>
          <p:cNvSpPr/>
          <p:nvPr/>
        </p:nvSpPr>
        <p:spPr>
          <a:xfrm>
            <a:off x="1822320" y="2324160"/>
            <a:ext cx="736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809720" y="2382840"/>
            <a:ext cx="163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549600" y="2319480"/>
            <a:ext cx="0" cy="666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6" name=""/>
          <p:cNvSpPr/>
          <p:nvPr/>
        </p:nvSpPr>
        <p:spPr>
          <a:xfrm>
            <a:off x="892080" y="2328840"/>
            <a:ext cx="289080" cy="266760"/>
          </a:xfrm>
          <a:prstGeom prst="donut">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7" name=""/>
          <p:cNvSpPr/>
          <p:nvPr/>
        </p:nvSpPr>
        <p:spPr>
          <a:xfrm>
            <a:off x="2565360" y="2328840"/>
            <a:ext cx="289080" cy="266760"/>
          </a:xfrm>
          <a:prstGeom prst="donut">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8" name=""/>
          <p:cNvSpPr/>
          <p:nvPr/>
        </p:nvSpPr>
        <p:spPr>
          <a:xfrm>
            <a:off x="606600" y="1751040"/>
            <a:ext cx="680760" cy="701640"/>
          </a:xfrm>
          <a:custGeom>
            <a:avLst/>
            <a:gdLst/>
            <a:ahLst/>
            <a:rect l="l" t="t" r="r" b="b"/>
            <a:pathLst>
              <a:path w="426" h="477">
                <a:moveTo>
                  <a:pt x="163" y="476"/>
                </a:moveTo>
                <a:cubicBezTo>
                  <a:pt x="106" y="476"/>
                  <a:pt x="50" y="477"/>
                  <a:pt x="25" y="476"/>
                </a:cubicBezTo>
                <a:cubicBezTo>
                  <a:pt x="0" y="475"/>
                  <a:pt x="13" y="473"/>
                  <a:pt x="11" y="470"/>
                </a:cubicBezTo>
                <a:cubicBezTo>
                  <a:pt x="9" y="467"/>
                  <a:pt x="13" y="462"/>
                  <a:pt x="13" y="456"/>
                </a:cubicBezTo>
                <a:cubicBezTo>
                  <a:pt x="13" y="450"/>
                  <a:pt x="10" y="443"/>
                  <a:pt x="9" y="436"/>
                </a:cubicBezTo>
                <a:cubicBezTo>
                  <a:pt x="8" y="429"/>
                  <a:pt x="6" y="423"/>
                  <a:pt x="7" y="416"/>
                </a:cubicBezTo>
                <a:cubicBezTo>
                  <a:pt x="8" y="409"/>
                  <a:pt x="8" y="396"/>
                  <a:pt x="13" y="392"/>
                </a:cubicBezTo>
                <a:cubicBezTo>
                  <a:pt x="18" y="388"/>
                  <a:pt x="32" y="394"/>
                  <a:pt x="35" y="390"/>
                </a:cubicBezTo>
                <a:cubicBezTo>
                  <a:pt x="38" y="386"/>
                  <a:pt x="31" y="385"/>
                  <a:pt x="29" y="366"/>
                </a:cubicBezTo>
                <a:cubicBezTo>
                  <a:pt x="27" y="347"/>
                  <a:pt x="24" y="299"/>
                  <a:pt x="25" y="278"/>
                </a:cubicBezTo>
                <a:cubicBezTo>
                  <a:pt x="26" y="257"/>
                  <a:pt x="19" y="275"/>
                  <a:pt x="33" y="238"/>
                </a:cubicBezTo>
                <a:cubicBezTo>
                  <a:pt x="47" y="201"/>
                  <a:pt x="88" y="91"/>
                  <a:pt x="107" y="54"/>
                </a:cubicBezTo>
                <a:cubicBezTo>
                  <a:pt x="126" y="17"/>
                  <a:pt x="134" y="24"/>
                  <a:pt x="149" y="16"/>
                </a:cubicBezTo>
                <a:cubicBezTo>
                  <a:pt x="164" y="8"/>
                  <a:pt x="179" y="9"/>
                  <a:pt x="199" y="6"/>
                </a:cubicBezTo>
                <a:cubicBezTo>
                  <a:pt x="219" y="3"/>
                  <a:pt x="241" y="0"/>
                  <a:pt x="267" y="0"/>
                </a:cubicBezTo>
                <a:cubicBezTo>
                  <a:pt x="293" y="0"/>
                  <a:pt x="335" y="0"/>
                  <a:pt x="353" y="4"/>
                </a:cubicBezTo>
                <a:cubicBezTo>
                  <a:pt x="371" y="8"/>
                  <a:pt x="368" y="19"/>
                  <a:pt x="373" y="26"/>
                </a:cubicBezTo>
                <a:cubicBezTo>
                  <a:pt x="378" y="33"/>
                  <a:pt x="378" y="40"/>
                  <a:pt x="383" y="46"/>
                </a:cubicBezTo>
                <a:cubicBezTo>
                  <a:pt x="388" y="52"/>
                  <a:pt x="397" y="57"/>
                  <a:pt x="403" y="62"/>
                </a:cubicBezTo>
                <a:cubicBezTo>
                  <a:pt x="409" y="67"/>
                  <a:pt x="417" y="67"/>
                  <a:pt x="421" y="74"/>
                </a:cubicBezTo>
                <a:cubicBezTo>
                  <a:pt x="425" y="81"/>
                  <a:pt x="424" y="84"/>
                  <a:pt x="425" y="104"/>
                </a:cubicBezTo>
                <a:cubicBezTo>
                  <a:pt x="426" y="124"/>
                  <a:pt x="426" y="167"/>
                  <a:pt x="425" y="194"/>
                </a:cubicBezTo>
                <a:cubicBezTo>
                  <a:pt x="424" y="221"/>
                  <a:pt x="422" y="249"/>
                  <a:pt x="421" y="268"/>
                </a:cubicBezTo>
                <a:cubicBezTo>
                  <a:pt x="420" y="287"/>
                  <a:pt x="418" y="297"/>
                  <a:pt x="417" y="308"/>
                </a:cubicBezTo>
                <a:cubicBezTo>
                  <a:pt x="416" y="319"/>
                  <a:pt x="416" y="326"/>
                  <a:pt x="417" y="334"/>
                </a:cubicBezTo>
                <a:cubicBezTo>
                  <a:pt x="418" y="342"/>
                  <a:pt x="420" y="349"/>
                  <a:pt x="421" y="358"/>
                </a:cubicBezTo>
                <a:cubicBezTo>
                  <a:pt x="422" y="367"/>
                  <a:pt x="425" y="381"/>
                  <a:pt x="421" y="386"/>
                </a:cubicBezTo>
                <a:cubicBezTo>
                  <a:pt x="417" y="391"/>
                  <a:pt x="403" y="388"/>
                  <a:pt x="395" y="388"/>
                </a:cubicBezTo>
                <a:cubicBezTo>
                  <a:pt x="387" y="388"/>
                  <a:pt x="379" y="392"/>
                  <a:pt x="375" y="388"/>
                </a:cubicBezTo>
                <a:cubicBezTo>
                  <a:pt x="371" y="384"/>
                  <a:pt x="373" y="371"/>
                  <a:pt x="373" y="366"/>
                </a:cubicBezTo>
              </a:path>
            </a:pathLst>
          </a:custGeom>
          <a:noFill/>
          <a:ln w="1260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19" name=""/>
          <p:cNvSpPr/>
          <p:nvPr/>
        </p:nvSpPr>
        <p:spPr>
          <a:xfrm>
            <a:off x="865080" y="2282760"/>
            <a:ext cx="336600" cy="165240"/>
          </a:xfrm>
          <a:custGeom>
            <a:avLst/>
            <a:gdLst/>
            <a:ahLst/>
            <a:rect l="l" t="t" r="r" b="b"/>
            <a:pathLst>
              <a:path w="212" h="112">
                <a:moveTo>
                  <a:pt x="0" y="112"/>
                </a:moveTo>
                <a:cubicBezTo>
                  <a:pt x="1" y="101"/>
                  <a:pt x="2" y="90"/>
                  <a:pt x="6" y="78"/>
                </a:cubicBezTo>
                <a:cubicBezTo>
                  <a:pt x="10" y="66"/>
                  <a:pt x="18" y="50"/>
                  <a:pt x="24" y="40"/>
                </a:cubicBezTo>
                <a:cubicBezTo>
                  <a:pt x="30" y="30"/>
                  <a:pt x="32" y="22"/>
                  <a:pt x="40" y="16"/>
                </a:cubicBezTo>
                <a:cubicBezTo>
                  <a:pt x="48" y="10"/>
                  <a:pt x="62" y="4"/>
                  <a:pt x="74" y="2"/>
                </a:cubicBezTo>
                <a:cubicBezTo>
                  <a:pt x="86" y="0"/>
                  <a:pt x="96" y="2"/>
                  <a:pt x="114" y="2"/>
                </a:cubicBezTo>
                <a:cubicBezTo>
                  <a:pt x="132" y="2"/>
                  <a:pt x="166" y="2"/>
                  <a:pt x="182" y="2"/>
                </a:cubicBezTo>
                <a:cubicBezTo>
                  <a:pt x="198" y="2"/>
                  <a:pt x="205" y="2"/>
                  <a:pt x="212" y="2"/>
                </a:cubicBezTo>
              </a:path>
            </a:pathLst>
          </a:custGeom>
          <a:noFill/>
          <a:ln w="1260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20" name=""/>
          <p:cNvSpPr/>
          <p:nvPr/>
        </p:nvSpPr>
        <p:spPr>
          <a:xfrm>
            <a:off x="1886040" y="2306520"/>
            <a:ext cx="123840" cy="115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1308240" y="22716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811600" y="2271600"/>
            <a:ext cx="76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3581280" y="1479240"/>
            <a:ext cx="0" cy="78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V="1">
            <a:off x="1305000" y="1482480"/>
            <a:ext cx="0" cy="78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595600" y="2324160"/>
            <a:ext cx="22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141640" y="2340000"/>
            <a:ext cx="287280" cy="100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3920" bIns="43920" anchor="ctr">
            <a:spAutoFit/>
          </a:bodyPr>
          <a:p>
            <a:endParaRPr b="0" lang="en-US" sz="1800" spc="-1" strike="noStrike">
              <a:solidFill>
                <a:srgbClr val="000000"/>
              </a:solidFill>
              <a:latin typeface="Arial"/>
            </a:endParaRPr>
          </a:p>
        </p:txBody>
      </p:sp>
      <p:sp>
        <p:nvSpPr>
          <p:cNvPr id="527" name=""/>
          <p:cNvSpPr/>
          <p:nvPr/>
        </p:nvSpPr>
        <p:spPr>
          <a:xfrm>
            <a:off x="2185920" y="2340000"/>
            <a:ext cx="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201760" y="23400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374920" y="2271600"/>
            <a:ext cx="0" cy="1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87440" y="2295360"/>
            <a:ext cx="36720" cy="82800"/>
          </a:xfrm>
          <a:prstGeom prst="flowChartMagneticDisk">
            <a:avLst/>
          </a:prstGeom>
          <a:solidFill>
            <a:srgbClr val="ffffff"/>
          </a:solidFill>
          <a:ln w="12600">
            <a:solidFill>
              <a:srgbClr val="000000"/>
            </a:solidFill>
            <a:miter/>
          </a:ln>
        </p:spPr>
        <p:style>
          <a:lnRef idx="0"/>
          <a:fillRef idx="0"/>
          <a:effectRef idx="0"/>
          <a:fontRef idx="minor"/>
        </p:style>
        <p:txBody>
          <a:bodyPr lIns="90000" rIns="90000" tIns="-2880" bIns="-2880" anchor="ctr">
            <a:spAutoFit/>
          </a:bodyPr>
          <a:p>
            <a:endParaRPr b="0" lang="en-US" sz="1800" spc="-1" strike="noStrike">
              <a:solidFill>
                <a:srgbClr val="000000"/>
              </a:solidFill>
              <a:latin typeface="Arial"/>
            </a:endParaRPr>
          </a:p>
        </p:txBody>
      </p:sp>
      <p:sp>
        <p:nvSpPr>
          <p:cNvPr id="531" name=""/>
          <p:cNvSpPr/>
          <p:nvPr/>
        </p:nvSpPr>
        <p:spPr>
          <a:xfrm>
            <a:off x="2282760" y="2286000"/>
            <a:ext cx="46080" cy="4284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ctr">
            <a:spAutoFit/>
          </a:bodyPr>
          <a:p>
            <a:endParaRPr b="0" lang="en-US" sz="1800" spc="-1" strike="noStrike">
              <a:solidFill>
                <a:srgbClr val="000000"/>
              </a:solidFill>
              <a:latin typeface="Arial"/>
            </a:endParaRPr>
          </a:p>
        </p:txBody>
      </p:sp>
      <p:sp>
        <p:nvSpPr>
          <p:cNvPr id="532" name=""/>
          <p:cNvSpPr/>
          <p:nvPr/>
        </p:nvSpPr>
        <p:spPr>
          <a:xfrm>
            <a:off x="3505320" y="2347920"/>
            <a:ext cx="48960" cy="88920"/>
          </a:xfrm>
          <a:custGeom>
            <a:avLst/>
            <a:gdLst/>
            <a:ahLst/>
            <a:rect l="l" t="t" r="r" b="b"/>
            <a:pathLst>
              <a:path w="32" h="60">
                <a:moveTo>
                  <a:pt x="0" y="0"/>
                </a:moveTo>
                <a:cubicBezTo>
                  <a:pt x="0" y="5"/>
                  <a:pt x="0" y="21"/>
                  <a:pt x="2" y="30"/>
                </a:cubicBezTo>
                <a:cubicBezTo>
                  <a:pt x="4" y="39"/>
                  <a:pt x="8" y="47"/>
                  <a:pt x="13" y="52"/>
                </a:cubicBezTo>
                <a:cubicBezTo>
                  <a:pt x="18" y="57"/>
                  <a:pt x="28" y="58"/>
                  <a:pt x="32" y="60"/>
                </a:cubicBezTo>
              </a:path>
            </a:pathLst>
          </a:custGeom>
          <a:noFill/>
          <a:ln w="12600">
            <a:solidFill>
              <a:srgbClr val="000000"/>
            </a:solidFill>
            <a:round/>
          </a:ln>
        </p:spPr>
        <p:style>
          <a:lnRef idx="0"/>
          <a:fillRef idx="0"/>
          <a:effectRef idx="0"/>
          <a:fontRef idx="minor"/>
        </p:style>
        <p:txBody>
          <a:bodyPr tIns="43200" bIns="43200" anchor="t">
            <a:spAutoFit/>
          </a:bodyPr>
          <a:p>
            <a:endParaRPr b="0" lang="en-US" sz="1800" spc="-1" strike="noStrike">
              <a:solidFill>
                <a:srgbClr val="000000"/>
              </a:solidFill>
              <a:latin typeface="Arial"/>
            </a:endParaRPr>
          </a:p>
        </p:txBody>
      </p:sp>
      <p:sp>
        <p:nvSpPr>
          <p:cNvPr id="533" name=""/>
          <p:cNvSpPr/>
          <p:nvPr/>
        </p:nvSpPr>
        <p:spPr>
          <a:xfrm>
            <a:off x="3449520" y="2351160"/>
            <a:ext cx="103320" cy="136440"/>
          </a:xfrm>
          <a:custGeom>
            <a:avLst/>
            <a:gdLst/>
            <a:ahLst/>
            <a:rect l="l" t="t" r="r" b="b"/>
            <a:pathLst>
              <a:path w="65" h="92">
                <a:moveTo>
                  <a:pt x="0" y="0"/>
                </a:moveTo>
                <a:cubicBezTo>
                  <a:pt x="1" y="7"/>
                  <a:pt x="0" y="29"/>
                  <a:pt x="4" y="42"/>
                </a:cubicBezTo>
                <a:cubicBezTo>
                  <a:pt x="8" y="55"/>
                  <a:pt x="15" y="68"/>
                  <a:pt x="23" y="76"/>
                </a:cubicBezTo>
                <a:cubicBezTo>
                  <a:pt x="31" y="84"/>
                  <a:pt x="43" y="86"/>
                  <a:pt x="50" y="89"/>
                </a:cubicBezTo>
                <a:cubicBezTo>
                  <a:pt x="57" y="92"/>
                  <a:pt x="62" y="91"/>
                  <a:pt x="65" y="91"/>
                </a:cubicBezTo>
              </a:path>
            </a:pathLst>
          </a:custGeom>
          <a:noFill/>
          <a:ln w="1260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4" name=""/>
          <p:cNvSpPr/>
          <p:nvPr/>
        </p:nvSpPr>
        <p:spPr>
          <a:xfrm>
            <a:off x="3554280" y="2422440"/>
            <a:ext cx="19080" cy="76320"/>
          </a:xfrm>
          <a:prstGeom prst="rect">
            <a:avLst/>
          </a:prstGeom>
          <a:noFill/>
          <a:ln w="1260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5" name=""/>
          <p:cNvSpPr/>
          <p:nvPr/>
        </p:nvSpPr>
        <p:spPr>
          <a:xfrm>
            <a:off x="3465360" y="2347920"/>
            <a:ext cx="25560" cy="23760"/>
          </a:xfrm>
          <a:prstGeom prst="ellipse">
            <a:avLst/>
          </a:prstGeom>
          <a:noFill/>
          <a:ln w="1260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6" name=""/>
          <p:cNvSpPr/>
          <p:nvPr/>
        </p:nvSpPr>
        <p:spPr>
          <a:xfrm>
            <a:off x="3479760" y="2416320"/>
            <a:ext cx="12600" cy="12600"/>
          </a:xfrm>
          <a:prstGeom prst="ellipse">
            <a:avLst/>
          </a:prstGeom>
          <a:noFill/>
          <a:ln w="12600">
            <a:solidFill>
              <a:srgbClr val="000000"/>
            </a:solidFill>
            <a:miter/>
          </a:ln>
        </p:spPr>
        <p:style>
          <a:lnRef idx="0"/>
          <a:fillRef idx="0"/>
          <a:effectRef idx="0"/>
          <a:fontRef idx="minor"/>
        </p:style>
        <p:txBody>
          <a:bodyPr lIns="90000" rIns="90000" tIns="-37800" bIns="-37800" anchor="ctr">
            <a:spAutoFit/>
          </a:bodyPr>
          <a:p>
            <a:endParaRPr b="0" lang="en-US" sz="1800" spc="-1" strike="noStrike">
              <a:solidFill>
                <a:srgbClr val="000000"/>
              </a:solidFill>
              <a:latin typeface="Arial"/>
            </a:endParaRPr>
          </a:p>
        </p:txBody>
      </p:sp>
      <p:sp>
        <p:nvSpPr>
          <p:cNvPr id="537" name=""/>
          <p:cNvSpPr/>
          <p:nvPr/>
        </p:nvSpPr>
        <p:spPr>
          <a:xfrm>
            <a:off x="3521160" y="2446200"/>
            <a:ext cx="12600" cy="12960"/>
          </a:xfrm>
          <a:prstGeom prst="ellipse">
            <a:avLst/>
          </a:prstGeom>
          <a:noFill/>
          <a:ln w="12600">
            <a:solidFill>
              <a:srgbClr val="000000"/>
            </a:solidFill>
            <a:miter/>
          </a:ln>
        </p:spPr>
        <p:style>
          <a:lnRef idx="0"/>
          <a:fillRef idx="0"/>
          <a:effectRef idx="0"/>
          <a:fontRef idx="minor"/>
        </p:style>
        <p:txBody>
          <a:bodyPr lIns="90000" rIns="90000" tIns="-37440" bIns="-37440" anchor="ctr">
            <a:spAutoFit/>
          </a:bodyPr>
          <a:p>
            <a:endParaRPr b="0" lang="en-US" sz="1800" spc="-1" strike="noStrike">
              <a:solidFill>
                <a:srgbClr val="000000"/>
              </a:solidFill>
              <a:latin typeface="Arial"/>
            </a:endParaRPr>
          </a:p>
        </p:txBody>
      </p:sp>
      <p:sp>
        <p:nvSpPr>
          <p:cNvPr id="538" name=""/>
          <p:cNvSpPr/>
          <p:nvPr/>
        </p:nvSpPr>
        <p:spPr>
          <a:xfrm>
            <a:off x="3510000" y="238284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79440" y="2598840"/>
            <a:ext cx="2144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890800" y="2598840"/>
            <a:ext cx="835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H="1">
            <a:off x="39528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2" name=""/>
          <p:cNvSpPr/>
          <p:nvPr/>
        </p:nvSpPr>
        <p:spPr>
          <a:xfrm flipH="1">
            <a:off x="48744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3" name=""/>
          <p:cNvSpPr/>
          <p:nvPr/>
        </p:nvSpPr>
        <p:spPr>
          <a:xfrm flipH="1">
            <a:off x="76212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4" name=""/>
          <p:cNvSpPr/>
          <p:nvPr/>
        </p:nvSpPr>
        <p:spPr>
          <a:xfrm flipH="1">
            <a:off x="94788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5" name=""/>
          <p:cNvSpPr/>
          <p:nvPr/>
        </p:nvSpPr>
        <p:spPr>
          <a:xfrm flipH="1">
            <a:off x="113184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6" name=""/>
          <p:cNvSpPr/>
          <p:nvPr/>
        </p:nvSpPr>
        <p:spPr>
          <a:xfrm flipH="1">
            <a:off x="131616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7" name=""/>
          <p:cNvSpPr/>
          <p:nvPr/>
        </p:nvSpPr>
        <p:spPr>
          <a:xfrm flipH="1">
            <a:off x="168588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8" name=""/>
          <p:cNvSpPr/>
          <p:nvPr/>
        </p:nvSpPr>
        <p:spPr>
          <a:xfrm flipH="1">
            <a:off x="196056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9" name=""/>
          <p:cNvSpPr/>
          <p:nvPr/>
        </p:nvSpPr>
        <p:spPr>
          <a:xfrm flipH="1">
            <a:off x="223632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0" name=""/>
          <p:cNvSpPr/>
          <p:nvPr/>
        </p:nvSpPr>
        <p:spPr>
          <a:xfrm flipH="1">
            <a:off x="306504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1" name=""/>
          <p:cNvSpPr/>
          <p:nvPr/>
        </p:nvSpPr>
        <p:spPr>
          <a:xfrm flipH="1">
            <a:off x="140652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2" name=""/>
          <p:cNvSpPr/>
          <p:nvPr/>
        </p:nvSpPr>
        <p:spPr>
          <a:xfrm flipH="1">
            <a:off x="150012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3" name=""/>
          <p:cNvSpPr/>
          <p:nvPr/>
        </p:nvSpPr>
        <p:spPr>
          <a:xfrm flipH="1">
            <a:off x="1775880" y="2602080"/>
            <a:ext cx="860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4" name=""/>
          <p:cNvSpPr/>
          <p:nvPr/>
        </p:nvSpPr>
        <p:spPr>
          <a:xfrm flipH="1">
            <a:off x="205056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5" name=""/>
          <p:cNvSpPr/>
          <p:nvPr/>
        </p:nvSpPr>
        <p:spPr>
          <a:xfrm flipH="1">
            <a:off x="2329920" y="2602080"/>
            <a:ext cx="860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6" name=""/>
          <p:cNvSpPr/>
          <p:nvPr/>
        </p:nvSpPr>
        <p:spPr>
          <a:xfrm flipH="1">
            <a:off x="315756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7" name=""/>
          <p:cNvSpPr/>
          <p:nvPr/>
        </p:nvSpPr>
        <p:spPr>
          <a:xfrm flipH="1">
            <a:off x="3341160" y="2602080"/>
            <a:ext cx="860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8" name=""/>
          <p:cNvSpPr/>
          <p:nvPr/>
        </p:nvSpPr>
        <p:spPr>
          <a:xfrm flipH="1">
            <a:off x="343332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9" name=""/>
          <p:cNvSpPr/>
          <p:nvPr/>
        </p:nvSpPr>
        <p:spPr>
          <a:xfrm flipH="1">
            <a:off x="3526920" y="2602080"/>
            <a:ext cx="8604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0" name=""/>
          <p:cNvSpPr/>
          <p:nvPr/>
        </p:nvSpPr>
        <p:spPr>
          <a:xfrm flipH="1">
            <a:off x="3617640" y="2602080"/>
            <a:ext cx="889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1" name=""/>
          <p:cNvSpPr/>
          <p:nvPr/>
        </p:nvSpPr>
        <p:spPr>
          <a:xfrm flipH="1">
            <a:off x="57960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2" name=""/>
          <p:cNvSpPr/>
          <p:nvPr/>
        </p:nvSpPr>
        <p:spPr>
          <a:xfrm flipH="1">
            <a:off x="67104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3" name=""/>
          <p:cNvSpPr/>
          <p:nvPr/>
        </p:nvSpPr>
        <p:spPr>
          <a:xfrm flipH="1">
            <a:off x="85356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4" name=""/>
          <p:cNvSpPr/>
          <p:nvPr/>
        </p:nvSpPr>
        <p:spPr>
          <a:xfrm flipH="1">
            <a:off x="103932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5" name=""/>
          <p:cNvSpPr/>
          <p:nvPr/>
        </p:nvSpPr>
        <p:spPr>
          <a:xfrm flipH="1">
            <a:off x="1224000" y="2602080"/>
            <a:ext cx="871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6" name=""/>
          <p:cNvSpPr/>
          <p:nvPr/>
        </p:nvSpPr>
        <p:spPr>
          <a:xfrm flipH="1">
            <a:off x="159228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7" name=""/>
          <p:cNvSpPr/>
          <p:nvPr/>
        </p:nvSpPr>
        <p:spPr>
          <a:xfrm flipH="1">
            <a:off x="1868040" y="2602080"/>
            <a:ext cx="874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8" name=""/>
          <p:cNvSpPr/>
          <p:nvPr/>
        </p:nvSpPr>
        <p:spPr>
          <a:xfrm flipH="1">
            <a:off x="214488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9" name=""/>
          <p:cNvSpPr/>
          <p:nvPr/>
        </p:nvSpPr>
        <p:spPr>
          <a:xfrm flipH="1">
            <a:off x="2421000" y="2602080"/>
            <a:ext cx="871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0" name=""/>
          <p:cNvSpPr/>
          <p:nvPr/>
        </p:nvSpPr>
        <p:spPr>
          <a:xfrm flipH="1">
            <a:off x="297504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flipH="1">
            <a:off x="3251160" y="2602080"/>
            <a:ext cx="8568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2" name=""/>
          <p:cNvSpPr/>
          <p:nvPr/>
        </p:nvSpPr>
        <p:spPr>
          <a:xfrm flipV="1">
            <a:off x="1754280" y="5373720"/>
            <a:ext cx="803160" cy="388800"/>
          </a:xfrm>
          <a:prstGeom prst="upArrow">
            <a:avLst>
              <a:gd name="adj1" fmla="val 50000"/>
              <a:gd name="adj2" fmla="val 25000"/>
            </a:avLst>
          </a:prstGeom>
          <a:gradFill rotWithShape="0">
            <a:gsLst>
              <a:gs pos="0">
                <a:srgbClr val="000000"/>
              </a:gs>
              <a:gs pos="100000">
                <a:srgbClr val="fefefe"/>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3" name=""/>
          <p:cNvSpPr/>
          <p:nvPr/>
        </p:nvSpPr>
        <p:spPr>
          <a:xfrm>
            <a:off x="1209600" y="5948280"/>
            <a:ext cx="1951200" cy="4870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Consumption Ratio</a:t>
            </a:r>
            <a:endParaRPr b="0" lang="en-US" sz="1600" spc="-1" strike="noStrike">
              <a:solidFill>
                <a:srgbClr val="000000"/>
              </a:solidFill>
              <a:latin typeface="Arial"/>
            </a:endParaRPr>
          </a:p>
        </p:txBody>
      </p:sp>
      <p:sp>
        <p:nvSpPr>
          <p:cNvPr id="574" name=""/>
          <p:cNvSpPr/>
          <p:nvPr/>
        </p:nvSpPr>
        <p:spPr>
          <a:xfrm flipV="1">
            <a:off x="1650960" y="2724120"/>
            <a:ext cx="803160" cy="417600"/>
          </a:xfrm>
          <a:prstGeom prst="upArrow">
            <a:avLst>
              <a:gd name="adj1" fmla="val 50000"/>
              <a:gd name="adj2" fmla="val 25000"/>
            </a:avLst>
          </a:prstGeom>
          <a:gradFill rotWithShape="0">
            <a:gsLst>
              <a:gs pos="0">
                <a:srgbClr val="000000"/>
              </a:gs>
              <a:gs pos="100000">
                <a:srgbClr val="fefefe"/>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5" name=""/>
          <p:cNvSpPr/>
          <p:nvPr/>
        </p:nvSpPr>
        <p:spPr>
          <a:xfrm>
            <a:off x="1363680" y="3246480"/>
            <a:ext cx="148428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 JE05</a:t>
            </a:r>
            <a:endParaRPr b="0" lang="en-US" sz="1200" spc="-1" strike="noStrike">
              <a:solidFill>
                <a:srgbClr val="000000"/>
              </a:solidFill>
              <a:latin typeface="Arial"/>
            </a:endParaRPr>
          </a:p>
        </p:txBody>
      </p:sp>
      <p:grpSp>
        <p:nvGrpSpPr>
          <p:cNvPr id="576" name=""/>
          <p:cNvGrpSpPr/>
          <p:nvPr/>
        </p:nvGrpSpPr>
        <p:grpSpPr>
          <a:xfrm>
            <a:off x="1353960" y="2292480"/>
            <a:ext cx="506160" cy="198360"/>
            <a:chOff x="1353960" y="2292480"/>
            <a:chExt cx="506160" cy="198360"/>
          </a:xfrm>
        </p:grpSpPr>
        <p:sp>
          <p:nvSpPr>
            <p:cNvPr id="577" name=""/>
            <p:cNvSpPr/>
            <p:nvPr/>
          </p:nvSpPr>
          <p:spPr>
            <a:xfrm>
              <a:off x="1353960" y="2292480"/>
              <a:ext cx="506160" cy="19836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8" name=""/>
            <p:cNvSpPr/>
            <p:nvPr/>
          </p:nvSpPr>
          <p:spPr>
            <a:xfrm>
              <a:off x="1400040" y="2333880"/>
              <a:ext cx="41256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S</a:t>
              </a:r>
              <a:endParaRPr b="0" lang="en-US" sz="1000" spc="-1" strike="noStrike">
                <a:solidFill>
                  <a:srgbClr val="000000"/>
                </a:solidFill>
                <a:latin typeface="Arial"/>
              </a:endParaRPr>
            </a:p>
          </p:txBody>
        </p:sp>
      </p:grpSp>
      <p:sp>
        <p:nvSpPr>
          <p:cNvPr id="579" name=""/>
          <p:cNvSpPr/>
          <p:nvPr/>
        </p:nvSpPr>
        <p:spPr>
          <a:xfrm>
            <a:off x="3576600" y="1514520"/>
            <a:ext cx="793800" cy="380880"/>
          </a:xfrm>
          <a:custGeom>
            <a:avLst/>
            <a:gdLst>
              <a:gd name="textAreaLeft" fmla="*/ 123840 w 793800"/>
              <a:gd name="textAreaRight" fmla="*/ 694800 w 793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80"/>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0" name=""/>
          <p:cNvSpPr/>
          <p:nvPr/>
        </p:nvSpPr>
        <p:spPr>
          <a:xfrm>
            <a:off x="4025880" y="1569960"/>
            <a:ext cx="248760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ehicle  Model</a:t>
            </a:r>
            <a:endParaRPr b="0" lang="en-US" sz="1800" spc="-1" strike="noStrike">
              <a:solidFill>
                <a:srgbClr val="000000"/>
              </a:solidFill>
              <a:latin typeface="Arial"/>
            </a:endParaRPr>
          </a:p>
        </p:txBody>
      </p:sp>
      <p:grpSp>
        <p:nvGrpSpPr>
          <p:cNvPr id="581" name=""/>
          <p:cNvGrpSpPr/>
          <p:nvPr/>
        </p:nvGrpSpPr>
        <p:grpSpPr>
          <a:xfrm>
            <a:off x="4094280" y="5157720"/>
            <a:ext cx="2152080" cy="1224000"/>
            <a:chOff x="4094280" y="5157720"/>
            <a:chExt cx="2152080" cy="1224000"/>
          </a:xfrm>
        </p:grpSpPr>
        <p:sp>
          <p:nvSpPr>
            <p:cNvPr id="582" name=""/>
            <p:cNvSpPr/>
            <p:nvPr/>
          </p:nvSpPr>
          <p:spPr>
            <a:xfrm rot="16200000">
              <a:off x="3898440" y="5496480"/>
              <a:ext cx="574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que</a:t>
              </a:r>
              <a:endParaRPr b="0" lang="en-US" sz="1200" spc="-1" strike="noStrike">
                <a:solidFill>
                  <a:srgbClr val="000000"/>
                </a:solidFill>
                <a:latin typeface="Arial"/>
              </a:endParaRPr>
            </a:p>
          </p:txBody>
        </p:sp>
        <p:sp>
          <p:nvSpPr>
            <p:cNvPr id="583" name=""/>
            <p:cNvSpPr/>
            <p:nvPr/>
          </p:nvSpPr>
          <p:spPr>
            <a:xfrm>
              <a:off x="4560480" y="6198840"/>
              <a:ext cx="14918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speed</a:t>
              </a:r>
              <a:endParaRPr b="0" lang="en-US" sz="1200" spc="-1" strike="noStrike">
                <a:solidFill>
                  <a:srgbClr val="000000"/>
                </a:solidFill>
                <a:latin typeface="Arial"/>
              </a:endParaRPr>
            </a:p>
          </p:txBody>
        </p:sp>
        <p:sp>
          <p:nvSpPr>
            <p:cNvPr id="584" name=""/>
            <p:cNvSpPr/>
            <p:nvPr/>
          </p:nvSpPr>
          <p:spPr>
            <a:xfrm>
              <a:off x="4321080" y="5275080"/>
              <a:ext cx="1920240" cy="268200"/>
            </a:xfrm>
            <a:custGeom>
              <a:avLst/>
              <a:gdLst/>
              <a:ahLst/>
              <a:rect l="l" t="t" r="r" b="b"/>
              <a:pathLst>
                <a:path w="3470" h="475">
                  <a:moveTo>
                    <a:pt x="0" y="475"/>
                  </a:moveTo>
                  <a:cubicBezTo>
                    <a:pt x="90" y="458"/>
                    <a:pt x="181" y="442"/>
                    <a:pt x="364" y="406"/>
                  </a:cubicBezTo>
                  <a:cubicBezTo>
                    <a:pt x="547" y="370"/>
                    <a:pt x="886" y="298"/>
                    <a:pt x="1098" y="256"/>
                  </a:cubicBezTo>
                  <a:cubicBezTo>
                    <a:pt x="1310" y="214"/>
                    <a:pt x="1464" y="192"/>
                    <a:pt x="1639" y="153"/>
                  </a:cubicBezTo>
                  <a:cubicBezTo>
                    <a:pt x="1814" y="114"/>
                    <a:pt x="2030" y="44"/>
                    <a:pt x="2147" y="22"/>
                  </a:cubicBezTo>
                  <a:cubicBezTo>
                    <a:pt x="2264" y="0"/>
                    <a:pt x="2273" y="17"/>
                    <a:pt x="2339" y="22"/>
                  </a:cubicBezTo>
                  <a:cubicBezTo>
                    <a:pt x="2405" y="27"/>
                    <a:pt x="2456" y="25"/>
                    <a:pt x="2544" y="50"/>
                  </a:cubicBezTo>
                  <a:cubicBezTo>
                    <a:pt x="2632" y="75"/>
                    <a:pt x="2753" y="132"/>
                    <a:pt x="2867" y="173"/>
                  </a:cubicBezTo>
                  <a:cubicBezTo>
                    <a:pt x="2981" y="214"/>
                    <a:pt x="3130" y="267"/>
                    <a:pt x="3230" y="297"/>
                  </a:cubicBezTo>
                  <a:cubicBezTo>
                    <a:pt x="3330" y="327"/>
                    <a:pt x="3400" y="339"/>
                    <a:pt x="3470" y="352"/>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85" name=""/>
            <p:cNvSpPr/>
            <p:nvPr/>
          </p:nvSpPr>
          <p:spPr>
            <a:xfrm>
              <a:off x="4326480" y="5830560"/>
              <a:ext cx="1919880" cy="376200"/>
            </a:xfrm>
            <a:custGeom>
              <a:avLst/>
              <a:gdLst/>
              <a:ahLst/>
              <a:rect l="l" t="t" r="r" b="b"/>
              <a:pathLst>
                <a:path w="3483" h="662">
                  <a:moveTo>
                    <a:pt x="58" y="246"/>
                  </a:moveTo>
                  <a:cubicBezTo>
                    <a:pt x="21" y="255"/>
                    <a:pt x="18" y="291"/>
                    <a:pt x="10" y="315"/>
                  </a:cubicBezTo>
                  <a:cubicBezTo>
                    <a:pt x="2" y="339"/>
                    <a:pt x="8" y="366"/>
                    <a:pt x="7" y="390"/>
                  </a:cubicBezTo>
                  <a:cubicBezTo>
                    <a:pt x="6" y="414"/>
                    <a:pt x="8" y="442"/>
                    <a:pt x="7" y="459"/>
                  </a:cubicBezTo>
                  <a:cubicBezTo>
                    <a:pt x="6" y="476"/>
                    <a:pt x="0" y="479"/>
                    <a:pt x="4" y="492"/>
                  </a:cubicBezTo>
                  <a:cubicBezTo>
                    <a:pt x="8" y="505"/>
                    <a:pt x="10" y="521"/>
                    <a:pt x="30" y="535"/>
                  </a:cubicBezTo>
                  <a:cubicBezTo>
                    <a:pt x="50" y="549"/>
                    <a:pt x="76" y="575"/>
                    <a:pt x="122" y="579"/>
                  </a:cubicBezTo>
                  <a:cubicBezTo>
                    <a:pt x="168" y="583"/>
                    <a:pt x="233" y="562"/>
                    <a:pt x="304" y="561"/>
                  </a:cubicBezTo>
                  <a:cubicBezTo>
                    <a:pt x="375" y="560"/>
                    <a:pt x="463" y="571"/>
                    <a:pt x="550" y="575"/>
                  </a:cubicBezTo>
                  <a:cubicBezTo>
                    <a:pt x="637" y="579"/>
                    <a:pt x="745" y="583"/>
                    <a:pt x="826" y="588"/>
                  </a:cubicBezTo>
                  <a:cubicBezTo>
                    <a:pt x="907" y="593"/>
                    <a:pt x="972" y="594"/>
                    <a:pt x="1038" y="603"/>
                  </a:cubicBezTo>
                  <a:cubicBezTo>
                    <a:pt x="1104" y="612"/>
                    <a:pt x="1137" y="635"/>
                    <a:pt x="1222" y="643"/>
                  </a:cubicBezTo>
                  <a:cubicBezTo>
                    <a:pt x="1307" y="651"/>
                    <a:pt x="1417" y="652"/>
                    <a:pt x="1546" y="654"/>
                  </a:cubicBezTo>
                  <a:cubicBezTo>
                    <a:pt x="1675" y="656"/>
                    <a:pt x="1778" y="657"/>
                    <a:pt x="1996" y="657"/>
                  </a:cubicBezTo>
                  <a:cubicBezTo>
                    <a:pt x="2214" y="657"/>
                    <a:pt x="2635" y="662"/>
                    <a:pt x="2854" y="651"/>
                  </a:cubicBezTo>
                  <a:cubicBezTo>
                    <a:pt x="3073" y="640"/>
                    <a:pt x="3211" y="609"/>
                    <a:pt x="3310" y="591"/>
                  </a:cubicBezTo>
                  <a:cubicBezTo>
                    <a:pt x="3409" y="573"/>
                    <a:pt x="3418" y="573"/>
                    <a:pt x="3446" y="543"/>
                  </a:cubicBezTo>
                  <a:cubicBezTo>
                    <a:pt x="3474" y="513"/>
                    <a:pt x="3473" y="481"/>
                    <a:pt x="3478" y="411"/>
                  </a:cubicBezTo>
                  <a:cubicBezTo>
                    <a:pt x="3483" y="341"/>
                    <a:pt x="3479" y="187"/>
                    <a:pt x="3474" y="123"/>
                  </a:cubicBezTo>
                  <a:cubicBezTo>
                    <a:pt x="3469" y="59"/>
                    <a:pt x="3469" y="47"/>
                    <a:pt x="3446" y="27"/>
                  </a:cubicBezTo>
                  <a:cubicBezTo>
                    <a:pt x="3423" y="7"/>
                    <a:pt x="3423" y="0"/>
                    <a:pt x="3334" y="3"/>
                  </a:cubicBezTo>
                  <a:cubicBezTo>
                    <a:pt x="3245" y="6"/>
                    <a:pt x="3245" y="9"/>
                    <a:pt x="2910" y="43"/>
                  </a:cubicBezTo>
                  <a:cubicBezTo>
                    <a:pt x="2575" y="77"/>
                    <a:pt x="1739" y="176"/>
                    <a:pt x="1326" y="207"/>
                  </a:cubicBezTo>
                  <a:cubicBezTo>
                    <a:pt x="913" y="238"/>
                    <a:pt x="641" y="221"/>
                    <a:pt x="430" y="228"/>
                  </a:cubicBezTo>
                  <a:cubicBezTo>
                    <a:pt x="219" y="235"/>
                    <a:pt x="135" y="242"/>
                    <a:pt x="58" y="246"/>
                  </a:cubicBezTo>
                  <a:close/>
                </a:path>
              </a:pathLst>
            </a:custGeom>
            <a:solidFill>
              <a:srgbClr val="ffc8c8"/>
            </a:soli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86" name=""/>
            <p:cNvSpPr/>
            <p:nvPr/>
          </p:nvSpPr>
          <p:spPr>
            <a:xfrm>
              <a:off x="4309200" y="5700600"/>
              <a:ext cx="1933920" cy="452520"/>
            </a:xfrm>
            <a:custGeom>
              <a:avLst/>
              <a:gdLst/>
              <a:ahLst/>
              <a:rect l="l" t="t" r="r" b="b"/>
              <a:pathLst>
                <a:path w="3499" h="795">
                  <a:moveTo>
                    <a:pt x="3497" y="422"/>
                  </a:moveTo>
                  <a:cubicBezTo>
                    <a:pt x="3497" y="397"/>
                    <a:pt x="3498" y="311"/>
                    <a:pt x="3498" y="269"/>
                  </a:cubicBezTo>
                  <a:cubicBezTo>
                    <a:pt x="3498" y="227"/>
                    <a:pt x="3498" y="206"/>
                    <a:pt x="3497" y="171"/>
                  </a:cubicBezTo>
                  <a:cubicBezTo>
                    <a:pt x="3496" y="136"/>
                    <a:pt x="3499" y="82"/>
                    <a:pt x="3494" y="60"/>
                  </a:cubicBezTo>
                  <a:cubicBezTo>
                    <a:pt x="3489" y="38"/>
                    <a:pt x="3485" y="45"/>
                    <a:pt x="3467" y="36"/>
                  </a:cubicBezTo>
                  <a:cubicBezTo>
                    <a:pt x="3449" y="27"/>
                    <a:pt x="3415" y="6"/>
                    <a:pt x="3383" y="3"/>
                  </a:cubicBezTo>
                  <a:cubicBezTo>
                    <a:pt x="3351" y="0"/>
                    <a:pt x="3347" y="8"/>
                    <a:pt x="3273" y="15"/>
                  </a:cubicBezTo>
                  <a:cubicBezTo>
                    <a:pt x="3199" y="22"/>
                    <a:pt x="3350" y="16"/>
                    <a:pt x="2939" y="45"/>
                  </a:cubicBezTo>
                  <a:cubicBezTo>
                    <a:pt x="2528" y="74"/>
                    <a:pt x="1272" y="179"/>
                    <a:pt x="804" y="192"/>
                  </a:cubicBezTo>
                  <a:cubicBezTo>
                    <a:pt x="336" y="205"/>
                    <a:pt x="256" y="119"/>
                    <a:pt x="128" y="126"/>
                  </a:cubicBezTo>
                  <a:cubicBezTo>
                    <a:pt x="0" y="133"/>
                    <a:pt x="52" y="168"/>
                    <a:pt x="36" y="233"/>
                  </a:cubicBezTo>
                  <a:cubicBezTo>
                    <a:pt x="20" y="298"/>
                    <a:pt x="30" y="459"/>
                    <a:pt x="29" y="518"/>
                  </a:cubicBezTo>
                  <a:cubicBezTo>
                    <a:pt x="28" y="577"/>
                    <a:pt x="20" y="572"/>
                    <a:pt x="27" y="588"/>
                  </a:cubicBezTo>
                  <a:cubicBezTo>
                    <a:pt x="34" y="604"/>
                    <a:pt x="9" y="608"/>
                    <a:pt x="74" y="612"/>
                  </a:cubicBezTo>
                  <a:cubicBezTo>
                    <a:pt x="139" y="616"/>
                    <a:pt x="323" y="610"/>
                    <a:pt x="419" y="615"/>
                  </a:cubicBezTo>
                  <a:cubicBezTo>
                    <a:pt x="515" y="620"/>
                    <a:pt x="566" y="636"/>
                    <a:pt x="652" y="643"/>
                  </a:cubicBezTo>
                  <a:cubicBezTo>
                    <a:pt x="739" y="650"/>
                    <a:pt x="848" y="643"/>
                    <a:pt x="934" y="657"/>
                  </a:cubicBezTo>
                  <a:cubicBezTo>
                    <a:pt x="1020" y="671"/>
                    <a:pt x="1093" y="714"/>
                    <a:pt x="1168" y="725"/>
                  </a:cubicBezTo>
                  <a:cubicBezTo>
                    <a:pt x="1242" y="736"/>
                    <a:pt x="1310" y="724"/>
                    <a:pt x="1381" y="725"/>
                  </a:cubicBezTo>
                  <a:cubicBezTo>
                    <a:pt x="1452" y="726"/>
                    <a:pt x="1512" y="727"/>
                    <a:pt x="1595" y="732"/>
                  </a:cubicBezTo>
                  <a:cubicBezTo>
                    <a:pt x="1677" y="737"/>
                    <a:pt x="1787" y="743"/>
                    <a:pt x="1876" y="753"/>
                  </a:cubicBezTo>
                  <a:cubicBezTo>
                    <a:pt x="1965" y="763"/>
                    <a:pt x="2035" y="793"/>
                    <a:pt x="2130" y="794"/>
                  </a:cubicBezTo>
                  <a:cubicBezTo>
                    <a:pt x="2225" y="795"/>
                    <a:pt x="2321" y="783"/>
                    <a:pt x="2446" y="759"/>
                  </a:cubicBezTo>
                  <a:cubicBezTo>
                    <a:pt x="2572" y="735"/>
                    <a:pt x="2704" y="706"/>
                    <a:pt x="2879" y="650"/>
                  </a:cubicBezTo>
                  <a:cubicBezTo>
                    <a:pt x="3054" y="594"/>
                    <a:pt x="3367" y="470"/>
                    <a:pt x="3495" y="423"/>
                  </a:cubicBezTo>
                </a:path>
              </a:pathLst>
            </a:custGeom>
            <a:solidFill>
              <a:srgbClr val="ffa0a0"/>
            </a:soli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87" name=""/>
            <p:cNvSpPr/>
            <p:nvPr/>
          </p:nvSpPr>
          <p:spPr>
            <a:xfrm>
              <a:off x="4314600" y="5419440"/>
              <a:ext cx="1929960" cy="639720"/>
            </a:xfrm>
            <a:custGeom>
              <a:avLst/>
              <a:gdLst/>
              <a:ahLst/>
              <a:rect l="l" t="t" r="r" b="b"/>
              <a:pathLst>
                <a:path w="3494" h="1123">
                  <a:moveTo>
                    <a:pt x="3490" y="581"/>
                  </a:moveTo>
                  <a:cubicBezTo>
                    <a:pt x="3490" y="512"/>
                    <a:pt x="3494" y="247"/>
                    <a:pt x="3493" y="167"/>
                  </a:cubicBezTo>
                  <a:cubicBezTo>
                    <a:pt x="3492" y="87"/>
                    <a:pt x="3488" y="112"/>
                    <a:pt x="3484" y="100"/>
                  </a:cubicBezTo>
                  <a:cubicBezTo>
                    <a:pt x="3480" y="88"/>
                    <a:pt x="3479" y="96"/>
                    <a:pt x="3470" y="94"/>
                  </a:cubicBezTo>
                  <a:cubicBezTo>
                    <a:pt x="3461" y="92"/>
                    <a:pt x="3457" y="91"/>
                    <a:pt x="3430" y="85"/>
                  </a:cubicBezTo>
                  <a:cubicBezTo>
                    <a:pt x="3403" y="79"/>
                    <a:pt x="3347" y="66"/>
                    <a:pt x="3308" y="56"/>
                  </a:cubicBezTo>
                  <a:cubicBezTo>
                    <a:pt x="3269" y="46"/>
                    <a:pt x="3236" y="30"/>
                    <a:pt x="3194" y="23"/>
                  </a:cubicBezTo>
                  <a:cubicBezTo>
                    <a:pt x="3152" y="16"/>
                    <a:pt x="3110" y="16"/>
                    <a:pt x="3055" y="14"/>
                  </a:cubicBezTo>
                  <a:cubicBezTo>
                    <a:pt x="3000" y="12"/>
                    <a:pt x="2937" y="8"/>
                    <a:pt x="2861" y="11"/>
                  </a:cubicBezTo>
                  <a:cubicBezTo>
                    <a:pt x="2785" y="14"/>
                    <a:pt x="2970" y="0"/>
                    <a:pt x="2596" y="34"/>
                  </a:cubicBezTo>
                  <a:cubicBezTo>
                    <a:pt x="2222" y="68"/>
                    <a:pt x="1020" y="174"/>
                    <a:pt x="617" y="214"/>
                  </a:cubicBezTo>
                  <a:cubicBezTo>
                    <a:pt x="214" y="254"/>
                    <a:pt x="269" y="256"/>
                    <a:pt x="175" y="272"/>
                  </a:cubicBezTo>
                  <a:cubicBezTo>
                    <a:pt x="81" y="288"/>
                    <a:pt x="76" y="300"/>
                    <a:pt x="50" y="310"/>
                  </a:cubicBezTo>
                  <a:cubicBezTo>
                    <a:pt x="24" y="320"/>
                    <a:pt x="24" y="324"/>
                    <a:pt x="19" y="334"/>
                  </a:cubicBezTo>
                  <a:cubicBezTo>
                    <a:pt x="14" y="344"/>
                    <a:pt x="17" y="355"/>
                    <a:pt x="17" y="373"/>
                  </a:cubicBezTo>
                  <a:cubicBezTo>
                    <a:pt x="17" y="391"/>
                    <a:pt x="17" y="399"/>
                    <a:pt x="17" y="445"/>
                  </a:cubicBezTo>
                  <a:cubicBezTo>
                    <a:pt x="17" y="491"/>
                    <a:pt x="19" y="600"/>
                    <a:pt x="20" y="647"/>
                  </a:cubicBezTo>
                  <a:cubicBezTo>
                    <a:pt x="21" y="694"/>
                    <a:pt x="20" y="709"/>
                    <a:pt x="20" y="727"/>
                  </a:cubicBezTo>
                  <a:cubicBezTo>
                    <a:pt x="20" y="745"/>
                    <a:pt x="19" y="749"/>
                    <a:pt x="19" y="755"/>
                  </a:cubicBezTo>
                  <a:cubicBezTo>
                    <a:pt x="19" y="761"/>
                    <a:pt x="15" y="758"/>
                    <a:pt x="20" y="761"/>
                  </a:cubicBezTo>
                  <a:cubicBezTo>
                    <a:pt x="25" y="764"/>
                    <a:pt x="0" y="760"/>
                    <a:pt x="50" y="775"/>
                  </a:cubicBezTo>
                  <a:cubicBezTo>
                    <a:pt x="100" y="790"/>
                    <a:pt x="241" y="829"/>
                    <a:pt x="319" y="849"/>
                  </a:cubicBezTo>
                  <a:cubicBezTo>
                    <a:pt x="397" y="869"/>
                    <a:pt x="451" y="885"/>
                    <a:pt x="519" y="897"/>
                  </a:cubicBezTo>
                  <a:cubicBezTo>
                    <a:pt x="587" y="909"/>
                    <a:pt x="651" y="913"/>
                    <a:pt x="731" y="924"/>
                  </a:cubicBezTo>
                  <a:cubicBezTo>
                    <a:pt x="812" y="935"/>
                    <a:pt x="914" y="947"/>
                    <a:pt x="1000" y="965"/>
                  </a:cubicBezTo>
                  <a:cubicBezTo>
                    <a:pt x="1087" y="983"/>
                    <a:pt x="1167" y="1017"/>
                    <a:pt x="1248" y="1034"/>
                  </a:cubicBezTo>
                  <a:cubicBezTo>
                    <a:pt x="1330" y="1051"/>
                    <a:pt x="1397" y="1054"/>
                    <a:pt x="1489" y="1068"/>
                  </a:cubicBezTo>
                  <a:cubicBezTo>
                    <a:pt x="1581" y="1082"/>
                    <a:pt x="1709" y="1109"/>
                    <a:pt x="1805" y="1116"/>
                  </a:cubicBezTo>
                  <a:cubicBezTo>
                    <a:pt x="1902" y="1123"/>
                    <a:pt x="1971" y="1115"/>
                    <a:pt x="2067" y="1109"/>
                  </a:cubicBezTo>
                  <a:cubicBezTo>
                    <a:pt x="2163" y="1103"/>
                    <a:pt x="2276" y="1100"/>
                    <a:pt x="2383" y="1082"/>
                  </a:cubicBezTo>
                  <a:cubicBezTo>
                    <a:pt x="2491" y="1064"/>
                    <a:pt x="2565" y="1057"/>
                    <a:pt x="2713" y="1000"/>
                  </a:cubicBezTo>
                  <a:cubicBezTo>
                    <a:pt x="2862" y="943"/>
                    <a:pt x="3142" y="809"/>
                    <a:pt x="3271" y="739"/>
                  </a:cubicBezTo>
                  <a:cubicBezTo>
                    <a:pt x="3401" y="669"/>
                    <a:pt x="3446" y="625"/>
                    <a:pt x="3491" y="581"/>
                  </a:cubicBezTo>
                </a:path>
              </a:pathLst>
            </a:custGeom>
            <a:solidFill>
              <a:srgbClr val="ff7878"/>
            </a:soli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88" name=""/>
            <p:cNvSpPr/>
            <p:nvPr/>
          </p:nvSpPr>
          <p:spPr>
            <a:xfrm>
              <a:off x="4316040" y="5279760"/>
              <a:ext cx="1871640" cy="631800"/>
            </a:xfrm>
            <a:custGeom>
              <a:avLst/>
              <a:gdLst/>
              <a:ahLst/>
              <a:rect l="l" t="t" r="r" b="b"/>
              <a:pathLst>
                <a:path w="3393" h="1111">
                  <a:moveTo>
                    <a:pt x="3391" y="321"/>
                  </a:moveTo>
                  <a:cubicBezTo>
                    <a:pt x="3340" y="307"/>
                    <a:pt x="3202" y="275"/>
                    <a:pt x="3085" y="237"/>
                  </a:cubicBezTo>
                  <a:cubicBezTo>
                    <a:pt x="2968" y="199"/>
                    <a:pt x="2816" y="131"/>
                    <a:pt x="2689" y="93"/>
                  </a:cubicBezTo>
                  <a:cubicBezTo>
                    <a:pt x="2562" y="55"/>
                    <a:pt x="2405" y="18"/>
                    <a:pt x="2323" y="9"/>
                  </a:cubicBezTo>
                  <a:cubicBezTo>
                    <a:pt x="2241" y="0"/>
                    <a:pt x="2304" y="15"/>
                    <a:pt x="2197" y="39"/>
                  </a:cubicBezTo>
                  <a:cubicBezTo>
                    <a:pt x="2090" y="63"/>
                    <a:pt x="1964" y="99"/>
                    <a:pt x="1681" y="153"/>
                  </a:cubicBezTo>
                  <a:cubicBezTo>
                    <a:pt x="1398" y="207"/>
                    <a:pt x="758" y="314"/>
                    <a:pt x="499" y="363"/>
                  </a:cubicBezTo>
                  <a:cubicBezTo>
                    <a:pt x="240" y="412"/>
                    <a:pt x="204" y="430"/>
                    <a:pt x="127" y="447"/>
                  </a:cubicBezTo>
                  <a:cubicBezTo>
                    <a:pt x="50" y="464"/>
                    <a:pt x="55" y="454"/>
                    <a:pt x="37" y="462"/>
                  </a:cubicBezTo>
                  <a:cubicBezTo>
                    <a:pt x="19" y="470"/>
                    <a:pt x="22" y="482"/>
                    <a:pt x="19" y="494"/>
                  </a:cubicBezTo>
                  <a:cubicBezTo>
                    <a:pt x="16" y="506"/>
                    <a:pt x="21" y="522"/>
                    <a:pt x="21" y="536"/>
                  </a:cubicBezTo>
                  <a:cubicBezTo>
                    <a:pt x="21" y="550"/>
                    <a:pt x="16" y="564"/>
                    <a:pt x="22" y="576"/>
                  </a:cubicBezTo>
                  <a:cubicBezTo>
                    <a:pt x="28" y="588"/>
                    <a:pt x="0" y="592"/>
                    <a:pt x="58" y="608"/>
                  </a:cubicBezTo>
                  <a:cubicBezTo>
                    <a:pt x="116" y="624"/>
                    <a:pt x="237" y="631"/>
                    <a:pt x="373" y="671"/>
                  </a:cubicBezTo>
                  <a:cubicBezTo>
                    <a:pt x="509" y="711"/>
                    <a:pt x="737" y="798"/>
                    <a:pt x="874" y="849"/>
                  </a:cubicBezTo>
                  <a:cubicBezTo>
                    <a:pt x="1011" y="900"/>
                    <a:pt x="1093" y="948"/>
                    <a:pt x="1198" y="979"/>
                  </a:cubicBezTo>
                  <a:cubicBezTo>
                    <a:pt x="1303" y="1010"/>
                    <a:pt x="1419" y="1013"/>
                    <a:pt x="1507" y="1034"/>
                  </a:cubicBezTo>
                  <a:cubicBezTo>
                    <a:pt x="1594" y="1055"/>
                    <a:pt x="1643" y="1095"/>
                    <a:pt x="1720" y="1103"/>
                  </a:cubicBezTo>
                  <a:cubicBezTo>
                    <a:pt x="1797" y="1111"/>
                    <a:pt x="1873" y="1083"/>
                    <a:pt x="1968" y="1082"/>
                  </a:cubicBezTo>
                  <a:cubicBezTo>
                    <a:pt x="2062" y="1081"/>
                    <a:pt x="2191" y="1102"/>
                    <a:pt x="2283" y="1096"/>
                  </a:cubicBezTo>
                  <a:cubicBezTo>
                    <a:pt x="2376" y="1090"/>
                    <a:pt x="2437" y="1080"/>
                    <a:pt x="2524" y="1048"/>
                  </a:cubicBezTo>
                  <a:cubicBezTo>
                    <a:pt x="2611" y="1016"/>
                    <a:pt x="2700" y="975"/>
                    <a:pt x="2806" y="904"/>
                  </a:cubicBezTo>
                  <a:cubicBezTo>
                    <a:pt x="2911" y="833"/>
                    <a:pt x="3058" y="720"/>
                    <a:pt x="3156" y="623"/>
                  </a:cubicBezTo>
                  <a:cubicBezTo>
                    <a:pt x="3254" y="526"/>
                    <a:pt x="3344" y="384"/>
                    <a:pt x="3393" y="321"/>
                  </a:cubicBezTo>
                </a:path>
              </a:pathLst>
            </a:custGeom>
            <a:solidFill>
              <a:srgbClr val="ff5050"/>
            </a:soli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89" name=""/>
            <p:cNvSpPr/>
            <p:nvPr/>
          </p:nvSpPr>
          <p:spPr>
            <a:xfrm>
              <a:off x="4920120" y="5268600"/>
              <a:ext cx="939240" cy="463680"/>
            </a:xfrm>
            <a:custGeom>
              <a:avLst/>
              <a:gdLst/>
              <a:ahLst/>
              <a:rect l="l" t="t" r="r" b="b"/>
              <a:pathLst>
                <a:path w="1704" h="814">
                  <a:moveTo>
                    <a:pt x="1700" y="140"/>
                  </a:moveTo>
                  <a:cubicBezTo>
                    <a:pt x="1660" y="124"/>
                    <a:pt x="1524" y="63"/>
                    <a:pt x="1454" y="44"/>
                  </a:cubicBezTo>
                  <a:cubicBezTo>
                    <a:pt x="1384" y="25"/>
                    <a:pt x="1334" y="31"/>
                    <a:pt x="1280" y="26"/>
                  </a:cubicBezTo>
                  <a:cubicBezTo>
                    <a:pt x="1226" y="21"/>
                    <a:pt x="1217" y="0"/>
                    <a:pt x="1130" y="14"/>
                  </a:cubicBezTo>
                  <a:cubicBezTo>
                    <a:pt x="1043" y="28"/>
                    <a:pt x="857" y="86"/>
                    <a:pt x="758" y="110"/>
                  </a:cubicBezTo>
                  <a:cubicBezTo>
                    <a:pt x="659" y="134"/>
                    <a:pt x="617" y="141"/>
                    <a:pt x="536" y="158"/>
                  </a:cubicBezTo>
                  <a:cubicBezTo>
                    <a:pt x="455" y="175"/>
                    <a:pt x="349" y="197"/>
                    <a:pt x="272" y="212"/>
                  </a:cubicBezTo>
                  <a:cubicBezTo>
                    <a:pt x="195" y="227"/>
                    <a:pt x="117" y="242"/>
                    <a:pt x="74" y="251"/>
                  </a:cubicBezTo>
                  <a:cubicBezTo>
                    <a:pt x="31" y="260"/>
                    <a:pt x="24" y="261"/>
                    <a:pt x="13" y="265"/>
                  </a:cubicBezTo>
                  <a:cubicBezTo>
                    <a:pt x="2" y="269"/>
                    <a:pt x="0" y="269"/>
                    <a:pt x="7" y="275"/>
                  </a:cubicBezTo>
                  <a:cubicBezTo>
                    <a:pt x="14" y="281"/>
                    <a:pt x="23" y="279"/>
                    <a:pt x="58" y="302"/>
                  </a:cubicBezTo>
                  <a:cubicBezTo>
                    <a:pt x="93" y="325"/>
                    <a:pt x="135" y="366"/>
                    <a:pt x="215" y="413"/>
                  </a:cubicBezTo>
                  <a:cubicBezTo>
                    <a:pt x="295" y="460"/>
                    <a:pt x="429" y="532"/>
                    <a:pt x="538" y="585"/>
                  </a:cubicBezTo>
                  <a:cubicBezTo>
                    <a:pt x="647" y="638"/>
                    <a:pt x="777" y="693"/>
                    <a:pt x="867" y="729"/>
                  </a:cubicBezTo>
                  <a:cubicBezTo>
                    <a:pt x="957" y="765"/>
                    <a:pt x="1013" y="794"/>
                    <a:pt x="1079" y="804"/>
                  </a:cubicBezTo>
                  <a:cubicBezTo>
                    <a:pt x="1145" y="814"/>
                    <a:pt x="1209" y="805"/>
                    <a:pt x="1265" y="791"/>
                  </a:cubicBezTo>
                  <a:cubicBezTo>
                    <a:pt x="1321" y="777"/>
                    <a:pt x="1384" y="749"/>
                    <a:pt x="1415" y="722"/>
                  </a:cubicBezTo>
                  <a:cubicBezTo>
                    <a:pt x="1446" y="695"/>
                    <a:pt x="1433" y="660"/>
                    <a:pt x="1450" y="626"/>
                  </a:cubicBezTo>
                  <a:cubicBezTo>
                    <a:pt x="1467" y="592"/>
                    <a:pt x="1490" y="550"/>
                    <a:pt x="1518" y="516"/>
                  </a:cubicBezTo>
                  <a:cubicBezTo>
                    <a:pt x="1546" y="482"/>
                    <a:pt x="1599" y="451"/>
                    <a:pt x="1621" y="420"/>
                  </a:cubicBezTo>
                  <a:cubicBezTo>
                    <a:pt x="1643" y="389"/>
                    <a:pt x="1640" y="362"/>
                    <a:pt x="1649" y="331"/>
                  </a:cubicBezTo>
                  <a:cubicBezTo>
                    <a:pt x="1658" y="300"/>
                    <a:pt x="1667" y="265"/>
                    <a:pt x="1676" y="235"/>
                  </a:cubicBezTo>
                  <a:cubicBezTo>
                    <a:pt x="1685" y="205"/>
                    <a:pt x="1698" y="168"/>
                    <a:pt x="1704" y="150"/>
                  </a:cubicBezTo>
                </a:path>
              </a:pathLst>
            </a:custGeom>
            <a:solidFill>
              <a:srgbClr val="ff2828"/>
            </a:soli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90" name=""/>
            <p:cNvSpPr/>
            <p:nvPr/>
          </p:nvSpPr>
          <p:spPr>
            <a:xfrm>
              <a:off x="4316040" y="6126120"/>
              <a:ext cx="796320" cy="79200"/>
            </a:xfrm>
            <a:custGeom>
              <a:avLst/>
              <a:gdLst/>
              <a:ahLst/>
              <a:rect l="l" t="t" r="r" b="b"/>
              <a:pathLst>
                <a:path w="1441" h="143">
                  <a:moveTo>
                    <a:pt x="17" y="3"/>
                  </a:moveTo>
                  <a:cubicBezTo>
                    <a:pt x="52" y="13"/>
                    <a:pt x="87" y="23"/>
                    <a:pt x="141" y="29"/>
                  </a:cubicBezTo>
                  <a:cubicBezTo>
                    <a:pt x="195" y="35"/>
                    <a:pt x="245" y="31"/>
                    <a:pt x="340" y="36"/>
                  </a:cubicBezTo>
                  <a:cubicBezTo>
                    <a:pt x="435" y="40"/>
                    <a:pt x="572" y="49"/>
                    <a:pt x="710" y="56"/>
                  </a:cubicBezTo>
                  <a:cubicBezTo>
                    <a:pt x="848" y="62"/>
                    <a:pt x="1066" y="67"/>
                    <a:pt x="1169" y="75"/>
                  </a:cubicBezTo>
                  <a:cubicBezTo>
                    <a:pt x="1272" y="83"/>
                    <a:pt x="1286" y="92"/>
                    <a:pt x="1327" y="102"/>
                  </a:cubicBezTo>
                  <a:cubicBezTo>
                    <a:pt x="1368" y="112"/>
                    <a:pt x="1441" y="129"/>
                    <a:pt x="1414" y="136"/>
                  </a:cubicBezTo>
                  <a:cubicBezTo>
                    <a:pt x="1387" y="143"/>
                    <a:pt x="1362" y="141"/>
                    <a:pt x="1162" y="142"/>
                  </a:cubicBezTo>
                  <a:cubicBezTo>
                    <a:pt x="962" y="143"/>
                    <a:pt x="401" y="142"/>
                    <a:pt x="213" y="142"/>
                  </a:cubicBezTo>
                  <a:cubicBezTo>
                    <a:pt x="25" y="142"/>
                    <a:pt x="66" y="142"/>
                    <a:pt x="33" y="139"/>
                  </a:cubicBezTo>
                  <a:cubicBezTo>
                    <a:pt x="0" y="136"/>
                    <a:pt x="19" y="132"/>
                    <a:pt x="16" y="126"/>
                  </a:cubicBezTo>
                  <a:cubicBezTo>
                    <a:pt x="13" y="120"/>
                    <a:pt x="15" y="117"/>
                    <a:pt x="15" y="105"/>
                  </a:cubicBezTo>
                  <a:cubicBezTo>
                    <a:pt x="15" y="93"/>
                    <a:pt x="13" y="71"/>
                    <a:pt x="13" y="54"/>
                  </a:cubicBezTo>
                  <a:cubicBezTo>
                    <a:pt x="13" y="37"/>
                    <a:pt x="15" y="11"/>
                    <a:pt x="16" y="0"/>
                  </a:cubicBezTo>
                </a:path>
              </a:pathLst>
            </a:custGeom>
            <a:solidFill>
              <a:srgbClr val="eaeaea"/>
            </a:solidFill>
            <a:ln w="19080">
              <a:solidFill>
                <a:srgbClr val="000000"/>
              </a:solidFill>
              <a:round/>
            </a:ln>
          </p:spPr>
          <p:style>
            <a:lnRef idx="0"/>
            <a:fillRef idx="0"/>
            <a:effectRef idx="0"/>
            <a:fontRef idx="minor"/>
          </p:style>
          <p:txBody>
            <a:bodyPr lIns="90000" rIns="90000" tIns="32400" bIns="32400" anchor="t">
              <a:spAutoFit/>
            </a:bodyPr>
            <a:p>
              <a:endParaRPr b="0" lang="en-US" sz="1800" spc="-1" strike="noStrike">
                <a:solidFill>
                  <a:srgbClr val="000000"/>
                </a:solidFill>
                <a:latin typeface="Arial"/>
              </a:endParaRPr>
            </a:p>
          </p:txBody>
        </p:sp>
        <p:sp>
          <p:nvSpPr>
            <p:cNvPr id="591" name=""/>
            <p:cNvSpPr/>
            <p:nvPr/>
          </p:nvSpPr>
          <p:spPr>
            <a:xfrm>
              <a:off x="5833440" y="6060960"/>
              <a:ext cx="409320" cy="145800"/>
            </a:xfrm>
            <a:custGeom>
              <a:avLst/>
              <a:gdLst/>
              <a:ahLst/>
              <a:rect l="l" t="t" r="r" b="b"/>
              <a:pathLst>
                <a:path w="745" h="256">
                  <a:moveTo>
                    <a:pt x="744" y="0"/>
                  </a:moveTo>
                  <a:cubicBezTo>
                    <a:pt x="744" y="16"/>
                    <a:pt x="743" y="68"/>
                    <a:pt x="743" y="102"/>
                  </a:cubicBezTo>
                  <a:cubicBezTo>
                    <a:pt x="743" y="136"/>
                    <a:pt x="745" y="183"/>
                    <a:pt x="744" y="206"/>
                  </a:cubicBezTo>
                  <a:cubicBezTo>
                    <a:pt x="743" y="229"/>
                    <a:pt x="743" y="234"/>
                    <a:pt x="738" y="240"/>
                  </a:cubicBezTo>
                  <a:cubicBezTo>
                    <a:pt x="733" y="246"/>
                    <a:pt x="728" y="243"/>
                    <a:pt x="713" y="243"/>
                  </a:cubicBezTo>
                  <a:cubicBezTo>
                    <a:pt x="698" y="243"/>
                    <a:pt x="726" y="243"/>
                    <a:pt x="645" y="243"/>
                  </a:cubicBezTo>
                  <a:cubicBezTo>
                    <a:pt x="564" y="243"/>
                    <a:pt x="318" y="245"/>
                    <a:pt x="224" y="245"/>
                  </a:cubicBezTo>
                  <a:cubicBezTo>
                    <a:pt x="130" y="245"/>
                    <a:pt x="110" y="244"/>
                    <a:pt x="78" y="243"/>
                  </a:cubicBezTo>
                  <a:cubicBezTo>
                    <a:pt x="46" y="242"/>
                    <a:pt x="0" y="256"/>
                    <a:pt x="30" y="240"/>
                  </a:cubicBezTo>
                  <a:cubicBezTo>
                    <a:pt x="60" y="224"/>
                    <a:pt x="170" y="175"/>
                    <a:pt x="257" y="145"/>
                  </a:cubicBezTo>
                  <a:cubicBezTo>
                    <a:pt x="344" y="115"/>
                    <a:pt x="471" y="84"/>
                    <a:pt x="552" y="60"/>
                  </a:cubicBezTo>
                  <a:cubicBezTo>
                    <a:pt x="633" y="36"/>
                    <a:pt x="704" y="12"/>
                    <a:pt x="744" y="0"/>
                  </a:cubicBezTo>
                </a:path>
              </a:pathLst>
            </a:custGeom>
            <a:solidFill>
              <a:srgbClr val="eaeaea"/>
            </a:soli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592" name=""/>
            <p:cNvGrpSpPr/>
            <p:nvPr/>
          </p:nvGrpSpPr>
          <p:grpSpPr>
            <a:xfrm>
              <a:off x="4326480" y="5418000"/>
              <a:ext cx="35640" cy="528480"/>
              <a:chOff x="4326480" y="5418000"/>
              <a:chExt cx="35640" cy="528480"/>
            </a:xfrm>
          </p:grpSpPr>
          <p:sp>
            <p:nvSpPr>
              <p:cNvPr id="593" name=""/>
              <p:cNvSpPr/>
              <p:nvPr/>
            </p:nvSpPr>
            <p:spPr>
              <a:xfrm>
                <a:off x="4326480" y="5418000"/>
                <a:ext cx="3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326480" y="5681880"/>
                <a:ext cx="3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326480" y="5946480"/>
                <a:ext cx="3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6" name=""/>
            <p:cNvGrpSpPr/>
            <p:nvPr/>
          </p:nvGrpSpPr>
          <p:grpSpPr>
            <a:xfrm>
              <a:off x="4647960" y="6165720"/>
              <a:ext cx="1274760" cy="36360"/>
              <a:chOff x="4647960" y="6165720"/>
              <a:chExt cx="1274760" cy="36360"/>
            </a:xfrm>
          </p:grpSpPr>
          <p:sp>
            <p:nvSpPr>
              <p:cNvPr id="597" name=""/>
              <p:cNvSpPr/>
              <p:nvPr/>
            </p:nvSpPr>
            <p:spPr>
              <a:xfrm>
                <a:off x="4647960" y="6165720"/>
                <a:ext cx="0" cy="3636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8" name=""/>
              <p:cNvSpPr/>
              <p:nvPr/>
            </p:nvSpPr>
            <p:spPr>
              <a:xfrm>
                <a:off x="5284800" y="6165720"/>
                <a:ext cx="0" cy="3636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5922720" y="6165720"/>
                <a:ext cx="0" cy="3636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600" name=""/>
            <p:cNvSpPr/>
            <p:nvPr/>
          </p:nvSpPr>
          <p:spPr>
            <a:xfrm>
              <a:off x="4324680" y="5157720"/>
              <a:ext cx="1918080" cy="10476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1" name=""/>
            <p:cNvSpPr/>
            <p:nvPr/>
          </p:nvSpPr>
          <p:spPr>
            <a:xfrm>
              <a:off x="5472000" y="5271840"/>
              <a:ext cx="199440" cy="50760"/>
            </a:xfrm>
            <a:custGeom>
              <a:avLst/>
              <a:gdLst/>
              <a:ahLst/>
              <a:rect l="l" t="t" r="r" b="b"/>
              <a:pathLst>
                <a:path w="420" h="107">
                  <a:moveTo>
                    <a:pt x="0" y="50"/>
                  </a:moveTo>
                  <a:cubicBezTo>
                    <a:pt x="16" y="58"/>
                    <a:pt x="65" y="82"/>
                    <a:pt x="120" y="90"/>
                  </a:cubicBezTo>
                  <a:cubicBezTo>
                    <a:pt x="175" y="98"/>
                    <a:pt x="279" y="107"/>
                    <a:pt x="328" y="98"/>
                  </a:cubicBezTo>
                  <a:cubicBezTo>
                    <a:pt x="377" y="89"/>
                    <a:pt x="414" y="45"/>
                    <a:pt x="417" y="33"/>
                  </a:cubicBezTo>
                  <a:cubicBezTo>
                    <a:pt x="420" y="21"/>
                    <a:pt x="368" y="25"/>
                    <a:pt x="348" y="23"/>
                  </a:cubicBezTo>
                  <a:cubicBezTo>
                    <a:pt x="328" y="21"/>
                    <a:pt x="311" y="20"/>
                    <a:pt x="297" y="18"/>
                  </a:cubicBezTo>
                  <a:cubicBezTo>
                    <a:pt x="283" y="16"/>
                    <a:pt x="276" y="12"/>
                    <a:pt x="261" y="9"/>
                  </a:cubicBezTo>
                  <a:cubicBezTo>
                    <a:pt x="246" y="6"/>
                    <a:pt x="232" y="0"/>
                    <a:pt x="205" y="2"/>
                  </a:cubicBezTo>
                  <a:cubicBezTo>
                    <a:pt x="178" y="4"/>
                    <a:pt x="127" y="14"/>
                    <a:pt x="96" y="20"/>
                  </a:cubicBezTo>
                  <a:cubicBezTo>
                    <a:pt x="65" y="26"/>
                    <a:pt x="34" y="36"/>
                    <a:pt x="18" y="41"/>
                  </a:cubicBezTo>
                  <a:cubicBezTo>
                    <a:pt x="2" y="46"/>
                    <a:pt x="4" y="48"/>
                    <a:pt x="0" y="50"/>
                  </a:cubicBezTo>
                  <a:close/>
                </a:path>
              </a:pathLst>
            </a:custGeom>
            <a:solidFill>
              <a:srgbClr val="cc0000"/>
            </a:solidFill>
            <a:ln w="19080">
              <a:solidFill>
                <a:srgbClr val="000000"/>
              </a:solidFill>
              <a:round/>
            </a:ln>
          </p:spPr>
          <p:style>
            <a:lnRef idx="0"/>
            <a:fillRef idx="0"/>
            <a:effectRef idx="0"/>
            <a:fontRef idx="minor"/>
          </p:style>
          <p:txBody>
            <a:bodyPr tIns="5040" bIns="5040" anchor="t">
              <a:spAutoFit/>
            </a:bodyPr>
            <a:p>
              <a:endParaRPr b="0" lang="en-US" sz="1800" spc="-1" strike="noStrike">
                <a:solidFill>
                  <a:srgbClr val="000000"/>
                </a:solidFill>
                <a:latin typeface="Arial"/>
              </a:endParaRPr>
            </a:p>
          </p:txBody>
        </p:sp>
      </p:grpSp>
      <p:sp>
        <p:nvSpPr>
          <p:cNvPr id="602" name=""/>
          <p:cNvSpPr/>
          <p:nvPr/>
        </p:nvSpPr>
        <p:spPr>
          <a:xfrm flipV="1">
            <a:off x="4875120" y="4508640"/>
            <a:ext cx="801720" cy="320400"/>
          </a:xfrm>
          <a:prstGeom prst="upArrow">
            <a:avLst>
              <a:gd name="adj1" fmla="val 50000"/>
              <a:gd name="adj2" fmla="val 25000"/>
            </a:avLst>
          </a:prstGeom>
          <a:gradFill rotWithShape="0">
            <a:gsLst>
              <a:gs pos="0">
                <a:srgbClr val="000000"/>
              </a:gs>
              <a:gs pos="100000">
                <a:srgbClr val="fefefe"/>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3" name=""/>
          <p:cNvSpPr/>
          <p:nvPr/>
        </p:nvSpPr>
        <p:spPr>
          <a:xfrm>
            <a:off x="3938760" y="4944960"/>
            <a:ext cx="2106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el Consumption </a:t>
            </a:r>
            <a:endParaRPr b="0" lang="en-US" sz="1400" spc="-1" strike="noStrike">
              <a:solidFill>
                <a:srgbClr val="000000"/>
              </a:solidFill>
              <a:latin typeface="Arial"/>
            </a:endParaRPr>
          </a:p>
        </p:txBody>
      </p:sp>
      <p:sp>
        <p:nvSpPr>
          <p:cNvPr id="604" name=""/>
          <p:cNvSpPr/>
          <p:nvPr/>
        </p:nvSpPr>
        <p:spPr>
          <a:xfrm>
            <a:off x="4251240" y="2133720"/>
            <a:ext cx="3297240" cy="1423800"/>
          </a:xfrm>
          <a:prstGeom prst="rect">
            <a:avLst/>
          </a:prstGeom>
          <a:solidFill>
            <a:srgbClr val="ffffb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5" name=""/>
          <p:cNvSpPr/>
          <p:nvPr/>
        </p:nvSpPr>
        <p:spPr>
          <a:xfrm>
            <a:off x="4567320" y="2298600"/>
            <a:ext cx="90360" cy="110988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6" name=""/>
          <p:cNvSpPr/>
          <p:nvPr/>
        </p:nvSpPr>
        <p:spPr>
          <a:xfrm rot="16200000">
            <a:off x="5101200" y="2348640"/>
            <a:ext cx="82800" cy="101448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7" name=""/>
          <p:cNvSpPr/>
          <p:nvPr/>
        </p:nvSpPr>
        <p:spPr>
          <a:xfrm>
            <a:off x="5611680" y="2690640"/>
            <a:ext cx="88920" cy="330480"/>
          </a:xfrm>
          <a:custGeom>
            <a:avLst/>
            <a:gdLst>
              <a:gd name="textAreaLeft" fmla="*/ 4320 w 88920"/>
              <a:gd name="textAreaRight" fmla="*/ 84600 w 88920"/>
              <a:gd name="textAreaTop" fmla="*/ 4320 h 330480"/>
              <a:gd name="textAreaBottom" fmla="*/ 326160 h 330480"/>
            </a:gdLst>
            <a:ahLst/>
            <a:rect l="textAreaLeft" t="textAreaTop" r="textAreaRight" b="textAreaBottom"/>
            <a:pathLst>
              <a:path w="21600" h="80042">
                <a:moveTo>
                  <a:pt x="3600" y="0"/>
                </a:moveTo>
                <a:arcTo wR="3600" hR="3600" stAng="16200000" swAng="-5400000"/>
                <a:lnTo>
                  <a:pt x="0" y="76442"/>
                </a:lnTo>
                <a:arcTo wR="3600" hR="3600" stAng="10800000" swAng="-5400000"/>
                <a:lnTo>
                  <a:pt x="18000" y="80042"/>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8" name=""/>
          <p:cNvSpPr/>
          <p:nvPr/>
        </p:nvSpPr>
        <p:spPr>
          <a:xfrm>
            <a:off x="5727600" y="2689200"/>
            <a:ext cx="88920" cy="331920"/>
          </a:xfrm>
          <a:custGeom>
            <a:avLst/>
            <a:gdLst>
              <a:gd name="textAreaLeft" fmla="*/ 4320 w 88920"/>
              <a:gd name="textAreaRight" fmla="*/ 84600 w 88920"/>
              <a:gd name="textAreaTop" fmla="*/ 4320 h 331920"/>
              <a:gd name="textAreaBottom" fmla="*/ 327600 h 331920"/>
            </a:gdLst>
            <a:ahLst/>
            <a:rect l="textAreaLeft" t="textAreaTop" r="textAreaRight" b="textAreaBottom"/>
            <a:pathLst>
              <a:path w="21600" h="80390">
                <a:moveTo>
                  <a:pt x="3600" y="0"/>
                </a:moveTo>
                <a:arcTo wR="3600" hR="3600" stAng="16200000" swAng="-5400000"/>
                <a:lnTo>
                  <a:pt x="0" y="76790"/>
                </a:lnTo>
                <a:arcTo wR="3600" hR="3600" stAng="10800000" swAng="-5400000"/>
                <a:lnTo>
                  <a:pt x="18000" y="80390"/>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9" name=""/>
          <p:cNvSpPr/>
          <p:nvPr/>
        </p:nvSpPr>
        <p:spPr>
          <a:xfrm rot="16200000">
            <a:off x="6518880" y="2724840"/>
            <a:ext cx="82800" cy="26208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0" name=""/>
          <p:cNvSpPr/>
          <p:nvPr/>
        </p:nvSpPr>
        <p:spPr>
          <a:xfrm>
            <a:off x="4295880" y="2165400"/>
            <a:ext cx="631800" cy="158760"/>
          </a:xfrm>
          <a:prstGeom prst="flowChartTerminator">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1" name=""/>
          <p:cNvSpPr/>
          <p:nvPr/>
        </p:nvSpPr>
        <p:spPr>
          <a:xfrm>
            <a:off x="4295880" y="3368520"/>
            <a:ext cx="631800" cy="158760"/>
          </a:xfrm>
          <a:prstGeom prst="flowChartTerminator">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2" name=""/>
          <p:cNvSpPr/>
          <p:nvPr/>
        </p:nvSpPr>
        <p:spPr>
          <a:xfrm>
            <a:off x="4481640" y="2735280"/>
            <a:ext cx="261720" cy="2412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3" name=""/>
          <p:cNvSpPr/>
          <p:nvPr/>
        </p:nvSpPr>
        <p:spPr>
          <a:xfrm>
            <a:off x="5013360" y="2682720"/>
            <a:ext cx="555480" cy="344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4" name=""/>
          <p:cNvSpPr/>
          <p:nvPr/>
        </p:nvSpPr>
        <p:spPr>
          <a:xfrm>
            <a:off x="7062840" y="1519200"/>
            <a:ext cx="1322280" cy="82224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5" name=""/>
          <p:cNvSpPr/>
          <p:nvPr/>
        </p:nvSpPr>
        <p:spPr>
          <a:xfrm>
            <a:off x="7601040" y="1735200"/>
            <a:ext cx="142920" cy="2649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16" name=""/>
          <p:cNvGrpSpPr/>
          <p:nvPr/>
        </p:nvGrpSpPr>
        <p:grpSpPr>
          <a:xfrm>
            <a:off x="7132680" y="1593720"/>
            <a:ext cx="1174320" cy="309600"/>
            <a:chOff x="7132680" y="1593720"/>
            <a:chExt cx="1174320" cy="309600"/>
          </a:xfrm>
        </p:grpSpPr>
        <p:sp>
          <p:nvSpPr>
            <p:cNvPr id="617" name=""/>
            <p:cNvSpPr/>
            <p:nvPr/>
          </p:nvSpPr>
          <p:spPr>
            <a:xfrm>
              <a:off x="7132680" y="1593720"/>
              <a:ext cx="1174320" cy="30960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8" name=""/>
            <p:cNvSpPr/>
            <p:nvPr/>
          </p:nvSpPr>
          <p:spPr>
            <a:xfrm>
              <a:off x="7182720" y="1649520"/>
              <a:ext cx="107388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r model</a:t>
              </a:r>
              <a:endParaRPr b="0" lang="en-US" sz="1200" spc="-1" strike="noStrike">
                <a:solidFill>
                  <a:srgbClr val="000000"/>
                </a:solidFill>
                <a:latin typeface="Arial"/>
              </a:endParaRPr>
            </a:p>
          </p:txBody>
        </p:sp>
      </p:grpSp>
      <p:sp>
        <p:nvSpPr>
          <p:cNvPr id="619" name=""/>
          <p:cNvSpPr/>
          <p:nvPr/>
        </p:nvSpPr>
        <p:spPr>
          <a:xfrm flipH="1">
            <a:off x="6673680" y="2084400"/>
            <a:ext cx="479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7283520" y="2243160"/>
            <a:ext cx="0" cy="61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1" name=""/>
          <p:cNvGrpSpPr/>
          <p:nvPr/>
        </p:nvGrpSpPr>
        <p:grpSpPr>
          <a:xfrm>
            <a:off x="6045120" y="2491920"/>
            <a:ext cx="131760" cy="243360"/>
            <a:chOff x="6045120" y="2491920"/>
            <a:chExt cx="131760" cy="243360"/>
          </a:xfrm>
        </p:grpSpPr>
        <p:sp>
          <p:nvSpPr>
            <p:cNvPr id="622" name=""/>
            <p:cNvSpPr/>
            <p:nvPr/>
          </p:nvSpPr>
          <p:spPr>
            <a:xfrm flipV="1" rot="10800000">
              <a:off x="6045120" y="2491920"/>
              <a:ext cx="131760" cy="24300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3" name=""/>
            <p:cNvSpPr/>
            <p:nvPr/>
          </p:nvSpPr>
          <p:spPr>
            <a:xfrm flipV="1">
              <a:off x="6111720" y="2491920"/>
              <a:ext cx="0" cy="2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4" name=""/>
          <p:cNvSpPr/>
          <p:nvPr/>
        </p:nvSpPr>
        <p:spPr>
          <a:xfrm rot="16200000">
            <a:off x="6008040" y="2111760"/>
            <a:ext cx="183960" cy="51300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25" name=""/>
          <p:cNvGrpSpPr/>
          <p:nvPr/>
        </p:nvGrpSpPr>
        <p:grpSpPr>
          <a:xfrm>
            <a:off x="5500800" y="1922400"/>
            <a:ext cx="1242720" cy="380880"/>
            <a:chOff x="5500800" y="1922400"/>
            <a:chExt cx="1242720" cy="380880"/>
          </a:xfrm>
        </p:grpSpPr>
        <p:sp>
          <p:nvSpPr>
            <p:cNvPr id="626" name=""/>
            <p:cNvSpPr/>
            <p:nvPr/>
          </p:nvSpPr>
          <p:spPr>
            <a:xfrm>
              <a:off x="5500800" y="1922400"/>
              <a:ext cx="1242720" cy="380880"/>
            </a:xfrm>
            <a:prstGeom prst="roundRect">
              <a:avLst>
                <a:gd name="adj" fmla="val 16667"/>
              </a:avLst>
            </a:prstGeom>
            <a:solidFill>
              <a:srgbClr val="00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7" name=""/>
            <p:cNvSpPr/>
            <p:nvPr/>
          </p:nvSpPr>
          <p:spPr>
            <a:xfrm>
              <a:off x="5584320" y="1938240"/>
              <a:ext cx="107676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model</a:t>
              </a:r>
              <a:endParaRPr b="0" lang="en-US" sz="1200" spc="-1" strike="noStrike">
                <a:solidFill>
                  <a:srgbClr val="000000"/>
                </a:solidFill>
                <a:latin typeface="Arial"/>
              </a:endParaRPr>
            </a:p>
          </p:txBody>
        </p:sp>
      </p:grpSp>
      <p:grpSp>
        <p:nvGrpSpPr>
          <p:cNvPr id="628" name=""/>
          <p:cNvGrpSpPr/>
          <p:nvPr/>
        </p:nvGrpSpPr>
        <p:grpSpPr>
          <a:xfrm>
            <a:off x="5734080" y="2349360"/>
            <a:ext cx="685440" cy="287280"/>
            <a:chOff x="5734080" y="2349360"/>
            <a:chExt cx="685440" cy="287280"/>
          </a:xfrm>
        </p:grpSpPr>
        <p:sp>
          <p:nvSpPr>
            <p:cNvPr id="629" name=""/>
            <p:cNvSpPr/>
            <p:nvPr/>
          </p:nvSpPr>
          <p:spPr>
            <a:xfrm>
              <a:off x="5734080" y="2349360"/>
              <a:ext cx="685440" cy="28728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0" name=""/>
            <p:cNvSpPr/>
            <p:nvPr/>
          </p:nvSpPr>
          <p:spPr>
            <a:xfrm>
              <a:off x="5776200" y="2382480"/>
              <a:ext cx="60372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rter</a:t>
              </a:r>
              <a:endParaRPr b="0" lang="en-US" sz="1200" spc="-1" strike="noStrike">
                <a:solidFill>
                  <a:srgbClr val="000000"/>
                </a:solidFill>
                <a:latin typeface="Arial"/>
              </a:endParaRPr>
            </a:p>
          </p:txBody>
        </p:sp>
      </p:grpSp>
      <p:grpSp>
        <p:nvGrpSpPr>
          <p:cNvPr id="631" name=""/>
          <p:cNvGrpSpPr/>
          <p:nvPr/>
        </p:nvGrpSpPr>
        <p:grpSpPr>
          <a:xfrm>
            <a:off x="5787000" y="2678040"/>
            <a:ext cx="671400" cy="390600"/>
            <a:chOff x="5787000" y="2678040"/>
            <a:chExt cx="671400" cy="390600"/>
          </a:xfrm>
        </p:grpSpPr>
        <p:sp>
          <p:nvSpPr>
            <p:cNvPr id="632" name=""/>
            <p:cNvSpPr/>
            <p:nvPr/>
          </p:nvSpPr>
          <p:spPr>
            <a:xfrm>
              <a:off x="5787000" y="2678040"/>
              <a:ext cx="671400" cy="39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3" name=""/>
            <p:cNvSpPr/>
            <p:nvPr/>
          </p:nvSpPr>
          <p:spPr>
            <a:xfrm>
              <a:off x="5866560" y="2694240"/>
              <a:ext cx="51228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or model</a:t>
              </a:r>
              <a:endParaRPr b="0" lang="en-US" sz="1200" spc="-1" strike="noStrike">
                <a:solidFill>
                  <a:srgbClr val="000000"/>
                </a:solidFill>
                <a:latin typeface="Arial"/>
              </a:endParaRPr>
            </a:p>
          </p:txBody>
        </p:sp>
      </p:grpSp>
      <p:sp>
        <p:nvSpPr>
          <p:cNvPr id="634" name=""/>
          <p:cNvSpPr/>
          <p:nvPr/>
        </p:nvSpPr>
        <p:spPr>
          <a:xfrm>
            <a:off x="6580080" y="2701800"/>
            <a:ext cx="912960" cy="324000"/>
          </a:xfrm>
          <a:prstGeom prst="flowChartTerminator">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5" name=""/>
          <p:cNvSpPr/>
          <p:nvPr/>
        </p:nvSpPr>
        <p:spPr>
          <a:xfrm>
            <a:off x="6624720" y="2708280"/>
            <a:ext cx="82368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 model</a:t>
            </a:r>
            <a:endParaRPr b="0" lang="en-US" sz="1000" spc="-1" strike="noStrike">
              <a:solidFill>
                <a:srgbClr val="000000"/>
              </a:solidFill>
              <a:latin typeface="Arial"/>
            </a:endParaRPr>
          </a:p>
        </p:txBody>
      </p:sp>
      <p:sp>
        <p:nvSpPr>
          <p:cNvPr id="636" name=""/>
          <p:cNvSpPr/>
          <p:nvPr/>
        </p:nvSpPr>
        <p:spPr>
          <a:xfrm>
            <a:off x="4484520" y="4192560"/>
            <a:ext cx="343224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Get E/G rpm, E/G Torque</a:t>
            </a:r>
            <a:endParaRPr b="0" lang="en-US" sz="1600" spc="-1" strike="noStrike">
              <a:solidFill>
                <a:srgbClr val="000000"/>
              </a:solidFill>
              <a:latin typeface="Arial"/>
            </a:endParaRPr>
          </a:p>
        </p:txBody>
      </p:sp>
      <p:sp>
        <p:nvSpPr>
          <p:cNvPr id="637" name=""/>
          <p:cNvSpPr/>
          <p:nvPr/>
        </p:nvSpPr>
        <p:spPr>
          <a:xfrm flipV="1">
            <a:off x="5794200" y="3407760"/>
            <a:ext cx="803520" cy="812520"/>
          </a:xfrm>
          <a:prstGeom prst="upArrow">
            <a:avLst>
              <a:gd name="adj1" fmla="val 50000"/>
              <a:gd name="adj2" fmla="val 25280"/>
            </a:avLst>
          </a:prstGeom>
          <a:gradFill rotWithShape="0">
            <a:gsLst>
              <a:gs pos="0">
                <a:srgbClr val="000000"/>
              </a:gs>
              <a:gs pos="100000">
                <a:srgbClr val="fefefe"/>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8" name=""/>
          <p:cNvSpPr/>
          <p:nvPr/>
        </p:nvSpPr>
        <p:spPr>
          <a:xfrm flipV="1">
            <a:off x="6926400" y="4508640"/>
            <a:ext cx="803160" cy="320400"/>
          </a:xfrm>
          <a:prstGeom prst="upArrow">
            <a:avLst>
              <a:gd name="adj1" fmla="val 50000"/>
              <a:gd name="adj2" fmla="val 25000"/>
            </a:avLst>
          </a:prstGeom>
          <a:gradFill rotWithShape="0">
            <a:gsLst>
              <a:gs pos="0">
                <a:srgbClr val="000000"/>
              </a:gs>
              <a:gs pos="100000">
                <a:srgbClr val="fefefe"/>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9" name=""/>
          <p:cNvSpPr/>
          <p:nvPr/>
        </p:nvSpPr>
        <p:spPr>
          <a:xfrm>
            <a:off x="6356520" y="4941720"/>
            <a:ext cx="243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haust Emission</a:t>
            </a:r>
            <a:endParaRPr b="0" lang="en-US" sz="1400" spc="-1" strike="noStrike">
              <a:solidFill>
                <a:srgbClr val="000000"/>
              </a:solidFill>
              <a:latin typeface="Arial"/>
            </a:endParaRPr>
          </a:p>
        </p:txBody>
      </p:sp>
      <p:sp>
        <p:nvSpPr>
          <p:cNvPr id="640" name=""/>
          <p:cNvSpPr/>
          <p:nvPr/>
        </p:nvSpPr>
        <p:spPr>
          <a:xfrm>
            <a:off x="1305000" y="1482840"/>
            <a:ext cx="2276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rot="5400000">
            <a:off x="8045280" y="4798440"/>
            <a:ext cx="82440" cy="160344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2" name=""/>
          <p:cNvSpPr/>
          <p:nvPr/>
        </p:nvSpPr>
        <p:spPr>
          <a:xfrm flipH="1">
            <a:off x="7813080" y="5433840"/>
            <a:ext cx="88920" cy="331920"/>
          </a:xfrm>
          <a:custGeom>
            <a:avLst/>
            <a:gdLst>
              <a:gd name="textAreaLeft" fmla="*/ 4320 w 88920"/>
              <a:gd name="textAreaRight" fmla="*/ 84600 w 88920"/>
              <a:gd name="textAreaTop" fmla="*/ 4320 h 331920"/>
              <a:gd name="textAreaBottom" fmla="*/ 327600 h 331920"/>
            </a:gdLst>
            <a:ahLst/>
            <a:rect l="textAreaLeft" t="textAreaTop" r="textAreaRight" b="textAreaBottom"/>
            <a:pathLst>
              <a:path w="21600" h="80390">
                <a:moveTo>
                  <a:pt x="3600" y="0"/>
                </a:moveTo>
                <a:arcTo wR="3600" hR="3600" stAng="16200000" swAng="-5400000"/>
                <a:lnTo>
                  <a:pt x="0" y="76790"/>
                </a:lnTo>
                <a:arcTo wR="3600" hR="3600" stAng="10800000" swAng="-5400000"/>
                <a:lnTo>
                  <a:pt x="18000" y="80390"/>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3" name=""/>
          <p:cNvSpPr/>
          <p:nvPr/>
        </p:nvSpPr>
        <p:spPr>
          <a:xfrm flipH="1">
            <a:off x="7713000" y="5433840"/>
            <a:ext cx="88920" cy="331920"/>
          </a:xfrm>
          <a:custGeom>
            <a:avLst/>
            <a:gdLst>
              <a:gd name="textAreaLeft" fmla="*/ 4320 w 88920"/>
              <a:gd name="textAreaRight" fmla="*/ 84600 w 88920"/>
              <a:gd name="textAreaTop" fmla="*/ 4320 h 331920"/>
              <a:gd name="textAreaBottom" fmla="*/ 327600 h 331920"/>
            </a:gdLst>
            <a:ahLst/>
            <a:rect l="textAreaLeft" t="textAreaTop" r="textAreaRight" b="textAreaBottom"/>
            <a:pathLst>
              <a:path w="21600" h="80390">
                <a:moveTo>
                  <a:pt x="3600" y="0"/>
                </a:moveTo>
                <a:arcTo wR="3600" hR="3600" stAng="16200000" swAng="-5400000"/>
                <a:lnTo>
                  <a:pt x="0" y="76790"/>
                </a:lnTo>
                <a:arcTo wR="3600" hR="3600" stAng="10800000" swAng="-5400000"/>
                <a:lnTo>
                  <a:pt x="18000" y="80390"/>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4" name=""/>
          <p:cNvSpPr/>
          <p:nvPr/>
        </p:nvSpPr>
        <p:spPr>
          <a:xfrm flipH="1">
            <a:off x="8488440" y="5300640"/>
            <a:ext cx="712800" cy="596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5" name=""/>
          <p:cNvSpPr/>
          <p:nvPr/>
        </p:nvSpPr>
        <p:spPr>
          <a:xfrm flipH="1">
            <a:off x="8289360" y="5504040"/>
            <a:ext cx="83880" cy="193320"/>
          </a:xfrm>
          <a:custGeom>
            <a:avLst/>
            <a:gdLst>
              <a:gd name="textAreaLeft" fmla="*/ 3960 w 83880"/>
              <a:gd name="textAreaRight" fmla="*/ 79920 w 83880"/>
              <a:gd name="textAreaTop" fmla="*/ 3960 h 193320"/>
              <a:gd name="textAreaBottom" fmla="*/ 189360 h 193320"/>
            </a:gdLst>
            <a:ahLst/>
            <a:rect l="textAreaLeft" t="textAreaTop" r="textAreaRight" b="textAreaBottom"/>
            <a:pathLst>
              <a:path w="21600" h="49662">
                <a:moveTo>
                  <a:pt x="3600" y="0"/>
                </a:moveTo>
                <a:arcTo wR="3600" hR="3600" stAng="16200000" swAng="-5400000"/>
                <a:lnTo>
                  <a:pt x="0" y="46062"/>
                </a:lnTo>
                <a:arcTo wR="3600" hR="3600" stAng="10800000" swAng="-5400000"/>
                <a:lnTo>
                  <a:pt x="18000" y="49662"/>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6" name=""/>
          <p:cNvSpPr/>
          <p:nvPr/>
        </p:nvSpPr>
        <p:spPr>
          <a:xfrm flipH="1">
            <a:off x="7990920" y="5504040"/>
            <a:ext cx="83880" cy="193320"/>
          </a:xfrm>
          <a:custGeom>
            <a:avLst/>
            <a:gdLst>
              <a:gd name="textAreaLeft" fmla="*/ 3960 w 83880"/>
              <a:gd name="textAreaRight" fmla="*/ 79920 w 83880"/>
              <a:gd name="textAreaTop" fmla="*/ 3960 h 193320"/>
              <a:gd name="textAreaBottom" fmla="*/ 189360 h 193320"/>
            </a:gdLst>
            <a:ahLst/>
            <a:rect l="textAreaLeft" t="textAreaTop" r="textAreaRight" b="textAreaBottom"/>
            <a:pathLst>
              <a:path w="21600" h="49662">
                <a:moveTo>
                  <a:pt x="3600" y="0"/>
                </a:moveTo>
                <a:arcTo wR="3600" hR="3600" stAng="16200000" swAng="-5400000"/>
                <a:lnTo>
                  <a:pt x="0" y="46062"/>
                </a:lnTo>
                <a:arcTo wR="3600" hR="3600" stAng="10800000" swAng="-5400000"/>
                <a:lnTo>
                  <a:pt x="18000" y="49662"/>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7" name=""/>
          <p:cNvSpPr/>
          <p:nvPr/>
        </p:nvSpPr>
        <p:spPr>
          <a:xfrm flipH="1">
            <a:off x="8620920" y="5479920"/>
            <a:ext cx="46188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a:t>
            </a:r>
            <a:endParaRPr b="0" lang="en-US" sz="1200" spc="-1" strike="noStrike">
              <a:solidFill>
                <a:srgbClr val="000000"/>
              </a:solidFill>
              <a:latin typeface="Arial"/>
            </a:endParaRPr>
          </a:p>
        </p:txBody>
      </p:sp>
      <p:sp>
        <p:nvSpPr>
          <p:cNvPr id="648" name=""/>
          <p:cNvSpPr/>
          <p:nvPr/>
        </p:nvSpPr>
        <p:spPr>
          <a:xfrm flipH="1">
            <a:off x="7825680" y="5997600"/>
            <a:ext cx="154764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of Exhaust Emission</a:t>
            </a:r>
            <a:endParaRPr b="0" lang="en-US" sz="1400" spc="-1" strike="noStrike">
              <a:solidFill>
                <a:srgbClr val="000000"/>
              </a:solidFill>
              <a:latin typeface="Arial"/>
            </a:endParaRPr>
          </a:p>
        </p:txBody>
      </p:sp>
      <p:sp>
        <p:nvSpPr>
          <p:cNvPr id="649" name=""/>
          <p:cNvSpPr/>
          <p:nvPr/>
        </p:nvSpPr>
        <p:spPr>
          <a:xfrm>
            <a:off x="7024680" y="5721480"/>
            <a:ext cx="528480" cy="422280"/>
          </a:xfrm>
          <a:custGeom>
            <a:avLst/>
            <a:gdLst/>
            <a:ahLst/>
            <a:rect l="l" t="t" r="r" b="b"/>
            <a:pathLst>
              <a:path w="283" h="121">
                <a:moveTo>
                  <a:pt x="1" y="0"/>
                </a:moveTo>
                <a:cubicBezTo>
                  <a:pt x="0" y="20"/>
                  <a:pt x="0" y="41"/>
                  <a:pt x="4" y="57"/>
                </a:cubicBezTo>
                <a:cubicBezTo>
                  <a:pt x="8" y="73"/>
                  <a:pt x="15" y="90"/>
                  <a:pt x="25" y="99"/>
                </a:cubicBezTo>
                <a:cubicBezTo>
                  <a:pt x="35" y="108"/>
                  <a:pt x="41" y="111"/>
                  <a:pt x="64" y="114"/>
                </a:cubicBezTo>
                <a:cubicBezTo>
                  <a:pt x="87" y="117"/>
                  <a:pt x="130" y="119"/>
                  <a:pt x="166" y="120"/>
                </a:cubicBezTo>
                <a:cubicBezTo>
                  <a:pt x="202" y="121"/>
                  <a:pt x="242" y="120"/>
                  <a:pt x="283" y="120"/>
                </a:cubicBezTo>
              </a:path>
            </a:pathLst>
          </a:custGeom>
          <a:noFill/>
          <a:ln w="63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50" name=""/>
          <p:cNvSpPr/>
          <p:nvPr/>
        </p:nvSpPr>
        <p:spPr>
          <a:xfrm>
            <a:off x="7577280" y="6141960"/>
            <a:ext cx="2826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6850800" y="5438880"/>
            <a:ext cx="708120" cy="322200"/>
          </a:xfrm>
          <a:prstGeom prst="flowChartTerminator">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2" name=""/>
          <p:cNvSpPr/>
          <p:nvPr/>
        </p:nvSpPr>
        <p:spPr>
          <a:xfrm flipH="1">
            <a:off x="6952680" y="5499000"/>
            <a:ext cx="55548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a:t>
            </a:r>
            <a:endParaRPr b="0" lang="en-US" sz="1200" spc="-1" strike="noStrike">
              <a:solidFill>
                <a:srgbClr val="000000"/>
              </a:solidFill>
              <a:latin typeface="Arial"/>
            </a:endParaRPr>
          </a:p>
        </p:txBody>
      </p:sp>
      <p:grpSp>
        <p:nvGrpSpPr>
          <p:cNvPr id="653" name=""/>
          <p:cNvGrpSpPr/>
          <p:nvPr/>
        </p:nvGrpSpPr>
        <p:grpSpPr>
          <a:xfrm>
            <a:off x="7132680" y="1955880"/>
            <a:ext cx="1174320" cy="309600"/>
            <a:chOff x="7132680" y="1955880"/>
            <a:chExt cx="1174320" cy="309600"/>
          </a:xfrm>
        </p:grpSpPr>
        <p:sp>
          <p:nvSpPr>
            <p:cNvPr id="654" name=""/>
            <p:cNvSpPr/>
            <p:nvPr/>
          </p:nvSpPr>
          <p:spPr>
            <a:xfrm>
              <a:off x="7132680" y="1955880"/>
              <a:ext cx="1174320" cy="3096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5" name=""/>
            <p:cNvSpPr/>
            <p:nvPr/>
          </p:nvSpPr>
          <p:spPr>
            <a:xfrm>
              <a:off x="7212240" y="2012040"/>
              <a:ext cx="102348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brid ECU</a:t>
              </a:r>
              <a:endParaRPr b="0" lang="en-US" sz="1200" spc="-1" strike="noStrike">
                <a:solidFill>
                  <a:srgbClr val="000000"/>
                </a:solidFill>
                <a:latin typeface="Arial"/>
              </a:endParaRPr>
            </a:p>
          </p:txBody>
        </p:sp>
      </p:grpSp>
      <p:sp>
        <p:nvSpPr>
          <p:cNvPr id="656" name=""/>
          <p:cNvSpPr/>
          <p:nvPr/>
        </p:nvSpPr>
        <p:spPr>
          <a:xfrm flipV="1" rot="5400000">
            <a:off x="7586640" y="2670840"/>
            <a:ext cx="374760" cy="447480"/>
          </a:xfrm>
          <a:prstGeom prst="upArrow">
            <a:avLst>
              <a:gd name="adj1" fmla="val 50000"/>
              <a:gd name="adj2" fmla="val 29851"/>
            </a:avLst>
          </a:prstGeom>
          <a:gradFill rotWithShape="0">
            <a:gsLst>
              <a:gs pos="0">
                <a:srgbClr val="000000"/>
              </a:gs>
              <a:gs pos="100000">
                <a:srgbClr val="fefefe"/>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7" name=""/>
          <p:cNvSpPr/>
          <p:nvPr/>
        </p:nvSpPr>
        <p:spPr>
          <a:xfrm>
            <a:off x="7994520" y="2565360"/>
            <a:ext cx="1559160" cy="105840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a:rPr>
              <a:t>imput Vehicle Parameters</a:t>
            </a:r>
            <a:endParaRPr b="0" lang="en-US" sz="1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Gear Ratio, ef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Eng. spe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Vehicle spec etc.</a:t>
            </a:r>
            <a:endParaRPr b="0" lang="en-US" sz="1200" spc="-1" strike="noStrike">
              <a:solidFill>
                <a:srgbClr val="000000"/>
              </a:solidFill>
              <a:latin typeface="Arial"/>
            </a:endParaRPr>
          </a:p>
        </p:txBody>
      </p:sp>
      <p:sp>
        <p:nvSpPr>
          <p:cNvPr id="658" name=""/>
          <p:cNvSpPr/>
          <p:nvPr/>
        </p:nvSpPr>
        <p:spPr>
          <a:xfrm>
            <a:off x="4172040" y="927000"/>
            <a:ext cx="4911480" cy="432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9" name=""/>
          <p:cNvSpPr/>
          <p:nvPr/>
        </p:nvSpPr>
        <p:spPr>
          <a:xfrm>
            <a:off x="4356000" y="1004760"/>
            <a:ext cx="454032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LS (</a:t>
            </a:r>
            <a:r>
              <a:rPr b="1" lang="en-US" sz="1800" spc="-1" strike="noStrike" u="sng">
                <a:solidFill>
                  <a:srgbClr val="000000"/>
                </a:solidFill>
                <a:uFillTx/>
                <a:latin typeface="Arial"/>
              </a:rPr>
              <a:t>H</a:t>
            </a:r>
            <a:r>
              <a:rPr b="1" lang="en-US" sz="1800" spc="-1" strike="noStrike">
                <a:solidFill>
                  <a:srgbClr val="000000"/>
                </a:solidFill>
                <a:latin typeface="Arial"/>
              </a:rPr>
              <a:t>ardware </a:t>
            </a:r>
            <a:r>
              <a:rPr b="1" lang="en-US" sz="1800" spc="-1" strike="noStrike" u="sng">
                <a:solidFill>
                  <a:srgbClr val="000000"/>
                </a:solidFill>
                <a:uFillTx/>
                <a:latin typeface="Arial"/>
              </a:rPr>
              <a:t>I</a:t>
            </a:r>
            <a:r>
              <a:rPr b="1" lang="en-US" sz="1800" spc="-1" strike="noStrike">
                <a:solidFill>
                  <a:srgbClr val="000000"/>
                </a:solidFill>
                <a:latin typeface="Arial"/>
              </a:rPr>
              <a:t>n the </a:t>
            </a:r>
            <a:r>
              <a:rPr b="1" lang="en-US" sz="1800" spc="-1" strike="noStrike" u="sng">
                <a:solidFill>
                  <a:srgbClr val="000000"/>
                </a:solidFill>
                <a:uFillTx/>
                <a:latin typeface="Arial"/>
              </a:rPr>
              <a:t>L</a:t>
            </a:r>
            <a:r>
              <a:rPr b="1" lang="en-US" sz="1800" spc="-1" strike="noStrike">
                <a:solidFill>
                  <a:srgbClr val="000000"/>
                </a:solidFill>
                <a:latin typeface="Arial"/>
              </a:rPr>
              <a:t>oop </a:t>
            </a:r>
            <a:r>
              <a:rPr b="1" lang="en-US" sz="1800" spc="-1" strike="noStrike" u="sng">
                <a:solidFill>
                  <a:srgbClr val="000000"/>
                </a:solidFill>
                <a:uFillTx/>
                <a:latin typeface="Arial"/>
              </a:rPr>
              <a:t>S</a:t>
            </a:r>
            <a:r>
              <a:rPr b="1" lang="en-US" sz="1800" spc="-1" strike="noStrike">
                <a:solidFill>
                  <a:srgbClr val="000000"/>
                </a:solidFill>
                <a:latin typeface="Arial"/>
              </a:rPr>
              <a:t>imulator)</a:t>
            </a:r>
            <a:endParaRPr b="0" lang="en-US" sz="1800" spc="-1" strike="noStrike">
              <a:solidFill>
                <a:srgbClr val="000000"/>
              </a:solidFill>
              <a:latin typeface="Arial"/>
            </a:endParaRPr>
          </a:p>
        </p:txBody>
      </p:sp>
      <p:sp>
        <p:nvSpPr>
          <p:cNvPr id="660" name=""/>
          <p:cNvSpPr/>
          <p:nvPr/>
        </p:nvSpPr>
        <p:spPr>
          <a:xfrm>
            <a:off x="4640400" y="3645000"/>
            <a:ext cx="3198600" cy="2437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JE05 Running on CP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193680" y="907920"/>
            <a:ext cx="9575640" cy="2808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214200" y="3789360"/>
            <a:ext cx="9555120" cy="27352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63" name=""/>
          <p:cNvGraphicFramePr/>
          <p:nvPr/>
        </p:nvGraphicFramePr>
        <p:xfrm>
          <a:off x="330120" y="4365720"/>
          <a:ext cx="1803600" cy="1544400"/>
        </p:xfrm>
        <a:graphic>
          <a:graphicData uri="http://schemas.openxmlformats.org/presentationml/2006/ole">
            <p:oleObj r:id="rId1" spid="">
              <p:embed/>
              <p:pic>
                <p:nvPicPr>
                  <p:cNvPr id="664" name="" descr=""/>
                  <p:cNvPicPr/>
                  <p:nvPr/>
                </p:nvPicPr>
                <p:blipFill>
                  <a:blip r:embed="rId2"/>
                  <a:stretch/>
                </p:blipFill>
                <p:spPr>
                  <a:xfrm>
                    <a:off x="330120" y="4365720"/>
                    <a:ext cx="1803600" cy="1544400"/>
                  </a:xfrm>
                  <a:prstGeom prst="rect">
                    <a:avLst/>
                  </a:prstGeom>
                  <a:ln w="0">
                    <a:noFill/>
                  </a:ln>
                </p:spPr>
              </p:pic>
            </p:oleObj>
          </a:graphicData>
        </a:graphic>
      </p:graphicFrame>
      <p:sp>
        <p:nvSpPr>
          <p:cNvPr id="665" name=""/>
          <p:cNvSpPr/>
          <p:nvPr/>
        </p:nvSpPr>
        <p:spPr>
          <a:xfrm>
            <a:off x="3548160" y="429264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548160" y="537228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V="1">
            <a:off x="2133720" y="4636800"/>
            <a:ext cx="1349280" cy="46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337440" y="6022440"/>
            <a:ext cx="3043080" cy="711720"/>
          </a:xfrm>
          <a:prstGeom prst="roundRect">
            <a:avLst>
              <a:gd name="adj" fmla="val 16667"/>
            </a:avLst>
          </a:prstGeom>
          <a:solidFill>
            <a:srgbClr val="dddddd"/>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nd step is same as Simulation Method</a:t>
            </a:r>
            <a:endParaRPr b="0" lang="en-US" sz="1800" spc="-1" strike="noStrike">
              <a:solidFill>
                <a:srgbClr val="000000"/>
              </a:solidFill>
              <a:latin typeface="Arial"/>
            </a:endParaRPr>
          </a:p>
        </p:txBody>
      </p:sp>
      <p:sp>
        <p:nvSpPr>
          <p:cNvPr id="669" name=""/>
          <p:cNvSpPr/>
          <p:nvPr/>
        </p:nvSpPr>
        <p:spPr>
          <a:xfrm>
            <a:off x="3540240" y="136044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540240" y="3106800"/>
            <a:ext cx="0" cy="825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6067440" y="2066760"/>
            <a:ext cx="2998800" cy="1037160"/>
          </a:xfrm>
          <a:prstGeom prst="rect">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hicle Specifi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 weight, Driving Resistance, Full load engine torque, Motor characteristics, Battery characteristics, etc.</a:t>
            </a:r>
            <a:endParaRPr b="0" lang="en-US" sz="1200" spc="-1" strike="noStrike">
              <a:solidFill>
                <a:srgbClr val="000000"/>
              </a:solidFill>
              <a:latin typeface="Arial"/>
            </a:endParaRPr>
          </a:p>
        </p:txBody>
      </p:sp>
      <p:sp>
        <p:nvSpPr>
          <p:cNvPr id="672" name=""/>
          <p:cNvSpPr/>
          <p:nvPr/>
        </p:nvSpPr>
        <p:spPr>
          <a:xfrm flipH="1">
            <a:off x="5089320" y="24210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flipV="1">
            <a:off x="5162400" y="2781360"/>
            <a:ext cx="905040" cy="47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1822320" y="981000"/>
            <a:ext cx="3414960" cy="6426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rban Driving Mo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urban Driving Mode</a:t>
            </a:r>
            <a:endParaRPr b="0" lang="en-US" sz="1800" spc="-1" strike="noStrike">
              <a:solidFill>
                <a:srgbClr val="000000"/>
              </a:solidFill>
              <a:latin typeface="Arial"/>
            </a:endParaRPr>
          </a:p>
        </p:txBody>
      </p:sp>
      <p:sp>
        <p:nvSpPr>
          <p:cNvPr id="675" name=""/>
          <p:cNvSpPr/>
          <p:nvPr/>
        </p:nvSpPr>
        <p:spPr>
          <a:xfrm>
            <a:off x="1879560" y="3932280"/>
            <a:ext cx="3282840" cy="368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ine Operating Mode</a:t>
            </a:r>
            <a:endParaRPr b="0" lang="en-US" sz="1800" spc="-1" strike="noStrike">
              <a:solidFill>
                <a:srgbClr val="000000"/>
              </a:solidFill>
              <a:latin typeface="Arial"/>
            </a:endParaRPr>
          </a:p>
        </p:txBody>
      </p:sp>
      <p:sp>
        <p:nvSpPr>
          <p:cNvPr id="676" name=""/>
          <p:cNvSpPr/>
          <p:nvPr/>
        </p:nvSpPr>
        <p:spPr>
          <a:xfrm>
            <a:off x="407880" y="907920"/>
            <a:ext cx="14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st Step</a:t>
            </a:r>
            <a:endParaRPr b="0" lang="en-US" sz="2000" spc="-1" strike="noStrike">
              <a:solidFill>
                <a:srgbClr val="000000"/>
              </a:solidFill>
              <a:latin typeface="Arial"/>
            </a:endParaRPr>
          </a:p>
        </p:txBody>
      </p:sp>
      <p:sp>
        <p:nvSpPr>
          <p:cNvPr id="677" name=""/>
          <p:cNvSpPr/>
          <p:nvPr/>
        </p:nvSpPr>
        <p:spPr>
          <a:xfrm>
            <a:off x="6072120" y="3198960"/>
            <a:ext cx="2216160" cy="307080"/>
          </a:xfrm>
          <a:prstGeom prst="rect">
            <a:avLst/>
          </a:prstGeom>
          <a:solidFill>
            <a:srgbClr val="99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CU</a:t>
            </a:r>
            <a:r>
              <a:rPr b="1" lang="zh-CN" sz="1400" spc="-1" strike="noStrike">
                <a:solidFill>
                  <a:srgbClr val="000000"/>
                </a:solidFill>
                <a:latin typeface="Arial"/>
              </a:rPr>
              <a:t>　</a:t>
            </a:r>
            <a:r>
              <a:rPr b="1" lang="en-US" sz="1400" spc="-1" strike="noStrike">
                <a:solidFill>
                  <a:srgbClr val="000000"/>
                </a:solidFill>
                <a:latin typeface="Arial"/>
              </a:rPr>
              <a:t>(Real)</a:t>
            </a:r>
            <a:endParaRPr b="0" lang="en-US" sz="1400" spc="-1" strike="noStrike">
              <a:solidFill>
                <a:srgbClr val="000000"/>
              </a:solidFill>
              <a:latin typeface="Arial"/>
            </a:endParaRPr>
          </a:p>
        </p:txBody>
      </p:sp>
      <p:sp>
        <p:nvSpPr>
          <p:cNvPr id="678" name=""/>
          <p:cNvSpPr/>
          <p:nvPr/>
        </p:nvSpPr>
        <p:spPr>
          <a:xfrm>
            <a:off x="1930320" y="1759680"/>
            <a:ext cx="3205080" cy="1899000"/>
          </a:xfrm>
          <a:prstGeom prst="ellipse">
            <a:avLst/>
          </a:prstGeom>
          <a:solidFill>
            <a:srgbClr val="ff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ulated driv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HILS 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eterm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ine Torque &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ine Speed</a:t>
            </a:r>
            <a:endParaRPr b="0" lang="en-US" sz="1800" spc="-1" strike="noStrike">
              <a:solidFill>
                <a:srgbClr val="000000"/>
              </a:solidFill>
              <a:latin typeface="Arial"/>
            </a:endParaRPr>
          </a:p>
        </p:txBody>
      </p:sp>
      <p:sp>
        <p:nvSpPr>
          <p:cNvPr id="679" name=""/>
          <p:cNvSpPr/>
          <p:nvPr/>
        </p:nvSpPr>
        <p:spPr>
          <a:xfrm>
            <a:off x="5208480" y="2146320"/>
            <a:ext cx="7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a:t>
            </a:r>
            <a:endParaRPr b="0" lang="en-US" sz="1200" spc="-1" strike="noStrike">
              <a:solidFill>
                <a:srgbClr val="000000"/>
              </a:solidFill>
              <a:latin typeface="Arial"/>
            </a:endParaRPr>
          </a:p>
        </p:txBody>
      </p:sp>
      <p:sp>
        <p:nvSpPr>
          <p:cNvPr id="680" name=""/>
          <p:cNvSpPr/>
          <p:nvPr/>
        </p:nvSpPr>
        <p:spPr>
          <a:xfrm>
            <a:off x="5011560" y="3083040"/>
            <a:ext cx="1092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a:t>
            </a:r>
            <a:endParaRPr b="0" lang="en-US" sz="1200" spc="-1" strike="noStrike">
              <a:solidFill>
                <a:srgbClr val="000000"/>
              </a:solidFill>
              <a:latin typeface="Arial"/>
            </a:endParaRPr>
          </a:p>
        </p:txBody>
      </p:sp>
      <p:sp>
        <p:nvSpPr>
          <p:cNvPr id="681" name=""/>
          <p:cNvSpPr/>
          <p:nvPr/>
        </p:nvSpPr>
        <p:spPr>
          <a:xfrm>
            <a:off x="330120" y="3860640"/>
            <a:ext cx="14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2nd Step</a:t>
            </a:r>
            <a:endParaRPr b="0" lang="en-US" sz="2000" spc="-1" strike="noStrike">
              <a:solidFill>
                <a:srgbClr val="000000"/>
              </a:solidFill>
              <a:latin typeface="Arial"/>
            </a:endParaRPr>
          </a:p>
        </p:txBody>
      </p:sp>
      <p:pic>
        <p:nvPicPr>
          <p:cNvPr id="682" name="" descr=""/>
          <p:cNvPicPr/>
          <p:nvPr/>
        </p:nvPicPr>
        <p:blipFill>
          <a:blip r:embed="rId3"/>
          <a:stretch/>
        </p:blipFill>
        <p:spPr>
          <a:xfrm>
            <a:off x="5322960" y="981000"/>
            <a:ext cx="4290840" cy="984240"/>
          </a:xfrm>
          <a:prstGeom prst="rect">
            <a:avLst/>
          </a:prstGeom>
          <a:ln w="0">
            <a:noFill/>
          </a:ln>
        </p:spPr>
      </p:pic>
      <p:grpSp>
        <p:nvGrpSpPr>
          <p:cNvPr id="683" name=""/>
          <p:cNvGrpSpPr/>
          <p:nvPr/>
        </p:nvGrpSpPr>
        <p:grpSpPr>
          <a:xfrm>
            <a:off x="5322960" y="3859200"/>
            <a:ext cx="3871440" cy="1876680"/>
            <a:chOff x="5322960" y="3859200"/>
            <a:chExt cx="3871440" cy="1876680"/>
          </a:xfrm>
        </p:grpSpPr>
        <p:sp>
          <p:nvSpPr>
            <p:cNvPr id="684" name=""/>
            <p:cNvSpPr/>
            <p:nvPr/>
          </p:nvSpPr>
          <p:spPr>
            <a:xfrm>
              <a:off x="7513200" y="4938480"/>
              <a:ext cx="1003680" cy="2764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エンジン燃費マップ</a:t>
              </a:r>
              <a:endParaRPr b="0" lang="en-US" sz="1200" spc="-1" strike="noStrike">
                <a:solidFill>
                  <a:srgbClr val="000000"/>
                </a:solidFill>
                <a:latin typeface="Arial"/>
              </a:endParaRPr>
            </a:p>
          </p:txBody>
        </p:sp>
        <p:sp>
          <p:nvSpPr>
            <p:cNvPr id="685" name=""/>
            <p:cNvSpPr/>
            <p:nvPr/>
          </p:nvSpPr>
          <p:spPr>
            <a:xfrm>
              <a:off x="5371200" y="3859200"/>
              <a:ext cx="3823200" cy="1733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6" name="" descr=""/>
            <p:cNvPicPr/>
            <p:nvPr/>
          </p:nvPicPr>
          <p:blipFill>
            <a:blip r:embed="rId4"/>
            <a:stretch/>
          </p:blipFill>
          <p:spPr>
            <a:xfrm>
              <a:off x="5618880" y="3944880"/>
              <a:ext cx="3418920" cy="798480"/>
            </a:xfrm>
            <a:prstGeom prst="rect">
              <a:avLst/>
            </a:prstGeom>
            <a:ln w="0">
              <a:noFill/>
            </a:ln>
          </p:spPr>
        </p:pic>
        <p:pic>
          <p:nvPicPr>
            <p:cNvPr id="687" name="" descr=""/>
            <p:cNvPicPr/>
            <p:nvPr/>
          </p:nvPicPr>
          <p:blipFill>
            <a:blip r:embed="rId5"/>
            <a:stretch/>
          </p:blipFill>
          <p:spPr>
            <a:xfrm>
              <a:off x="5622480" y="4733640"/>
              <a:ext cx="3415320" cy="824040"/>
            </a:xfrm>
            <a:prstGeom prst="rect">
              <a:avLst/>
            </a:prstGeom>
            <a:ln w="0">
              <a:noFill/>
            </a:ln>
          </p:spPr>
        </p:pic>
        <p:sp>
          <p:nvSpPr>
            <p:cNvPr id="688" name=""/>
            <p:cNvSpPr/>
            <p:nvPr/>
          </p:nvSpPr>
          <p:spPr>
            <a:xfrm>
              <a:off x="5556960" y="3944880"/>
              <a:ext cx="250920" cy="1566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rot="16200000">
              <a:off x="5157000" y="4100760"/>
              <a:ext cx="790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torque</a:t>
              </a:r>
              <a:endParaRPr b="0" lang="en-US" sz="1200" spc="-1" strike="noStrike">
                <a:solidFill>
                  <a:srgbClr val="000000"/>
                </a:solidFill>
                <a:latin typeface="Arial"/>
              </a:endParaRPr>
            </a:p>
          </p:txBody>
        </p:sp>
        <p:sp>
          <p:nvSpPr>
            <p:cNvPr id="690" name=""/>
            <p:cNvSpPr/>
            <p:nvPr/>
          </p:nvSpPr>
          <p:spPr>
            <a:xfrm rot="16200000">
              <a:off x="5167440" y="4872600"/>
              <a:ext cx="790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speed</a:t>
              </a:r>
              <a:endParaRPr b="0" lang="en-US" sz="1200" spc="-1" strike="noStrike">
                <a:solidFill>
                  <a:srgbClr val="000000"/>
                </a:solidFill>
                <a:latin typeface="Arial"/>
              </a:endParaRPr>
            </a:p>
          </p:txBody>
        </p:sp>
        <p:sp>
          <p:nvSpPr>
            <p:cNvPr id="691" name=""/>
            <p:cNvSpPr/>
            <p:nvPr/>
          </p:nvSpPr>
          <p:spPr>
            <a:xfrm>
              <a:off x="6822720" y="5459400"/>
              <a:ext cx="1144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a:t>
              </a:r>
              <a:endParaRPr b="0" lang="en-US" sz="1200" spc="-1" strike="noStrike">
                <a:solidFill>
                  <a:srgbClr val="000000"/>
                </a:solidFill>
                <a:latin typeface="Arial"/>
              </a:endParaRPr>
            </a:p>
          </p:txBody>
        </p:sp>
      </p:grpSp>
      <p:sp>
        <p:nvSpPr>
          <p:cNvPr id="692" name=""/>
          <p:cNvSpPr/>
          <p:nvPr/>
        </p:nvSpPr>
        <p:spPr>
          <a:xfrm>
            <a:off x="2306520" y="4624560"/>
            <a:ext cx="7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a:t>
            </a:r>
            <a:endParaRPr b="0" lang="en-US" sz="1200" spc="-1" strike="noStrike">
              <a:solidFill>
                <a:srgbClr val="000000"/>
              </a:solidFill>
              <a:latin typeface="Arial"/>
            </a:endParaRPr>
          </a:p>
        </p:txBody>
      </p:sp>
      <p:sp>
        <p:nvSpPr>
          <p:cNvPr id="693" name=""/>
          <p:cNvSpPr/>
          <p:nvPr/>
        </p:nvSpPr>
        <p:spPr>
          <a:xfrm>
            <a:off x="399960" y="5884920"/>
            <a:ext cx="304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simulation, perfor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peration tests to create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uel efficiency map</a:t>
            </a:r>
            <a:endParaRPr b="0" lang="en-US" sz="1200" spc="-1" strike="noStrike">
              <a:solidFill>
                <a:srgbClr val="000000"/>
              </a:solidFill>
              <a:latin typeface="Arial"/>
            </a:endParaRPr>
          </a:p>
        </p:txBody>
      </p:sp>
      <p:pic>
        <p:nvPicPr>
          <p:cNvPr id="694" name="" descr=""/>
          <p:cNvPicPr/>
          <p:nvPr/>
        </p:nvPicPr>
        <p:blipFill>
          <a:blip r:embed="rId6"/>
          <a:stretch/>
        </p:blipFill>
        <p:spPr>
          <a:xfrm>
            <a:off x="3855960" y="5448240"/>
            <a:ext cx="901800" cy="552600"/>
          </a:xfrm>
          <a:prstGeom prst="rect">
            <a:avLst/>
          </a:prstGeom>
          <a:ln w="0">
            <a:noFill/>
          </a:ln>
        </p:spPr>
      </p:pic>
      <p:sp>
        <p:nvSpPr>
          <p:cNvPr id="695" name=""/>
          <p:cNvSpPr/>
          <p:nvPr/>
        </p:nvSpPr>
        <p:spPr>
          <a:xfrm>
            <a:off x="3551400" y="5554800"/>
            <a:ext cx="547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696" name=""/>
          <p:cNvSpPr/>
          <p:nvPr/>
        </p:nvSpPr>
        <p:spPr>
          <a:xfrm>
            <a:off x="2622600" y="4965840"/>
            <a:ext cx="23414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el consumption</a:t>
            </a:r>
            <a:endParaRPr b="0" lang="en-US" sz="1600" spc="-1" strike="noStrike">
              <a:solidFill>
                <a:srgbClr val="000000"/>
              </a:solidFill>
              <a:latin typeface="Arial"/>
            </a:endParaRPr>
          </a:p>
        </p:txBody>
      </p:sp>
      <p:sp>
        <p:nvSpPr>
          <p:cNvPr id="697" name=""/>
          <p:cNvSpPr/>
          <p:nvPr/>
        </p:nvSpPr>
        <p:spPr>
          <a:xfrm>
            <a:off x="2979720" y="6035760"/>
            <a:ext cx="18734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el efficiency</a:t>
            </a:r>
            <a:endParaRPr b="0" lang="en-US" sz="1600" spc="-1" strike="noStrike">
              <a:solidFill>
                <a:srgbClr val="000000"/>
              </a:solidFill>
              <a:latin typeface="Arial"/>
            </a:endParaRPr>
          </a:p>
        </p:txBody>
      </p:sp>
      <p:sp>
        <p:nvSpPr>
          <p:cNvPr id="698" name="PlaceHolder 1"/>
          <p:cNvSpPr>
            <a:spLocks noGrp="1"/>
          </p:cNvSpPr>
          <p:nvPr>
            <p:ph type="title"/>
          </p:nvPr>
        </p:nvSpPr>
        <p:spPr>
          <a:xfrm>
            <a:off x="272520" y="-360"/>
            <a:ext cx="81918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4087c8"/>
                </a:solidFill>
                <a:latin typeface="HGP創英角ｺﾞｼｯｸUB"/>
              </a:rPr>
              <a:t>Test Procedure for Hybrid HDVs</a:t>
            </a:r>
            <a:endParaRPr b="0" lang="en-US" sz="2800" spc="-1" strike="noStrike">
              <a:solidFill>
                <a:srgbClr val="4087c8"/>
              </a:solidFill>
              <a:latin typeface="HGP創英角ｺﾞｼｯｸUB"/>
            </a:endParaRPr>
          </a:p>
        </p:txBody>
      </p:sp>
      <p:sp>
        <p:nvSpPr>
          <p:cNvPr id="699" name=""/>
          <p:cNvSpPr/>
          <p:nvPr/>
        </p:nvSpPr>
        <p:spPr>
          <a:xfrm>
            <a:off x="487440" y="1342800"/>
            <a:ext cx="1036440" cy="407880"/>
          </a:xfrm>
          <a:prstGeom prst="roundRect">
            <a:avLst>
              <a:gd name="adj" fmla="val 16667"/>
            </a:avLst>
          </a:prstGeom>
          <a:solidFill>
            <a:srgbClr val="dddddd"/>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L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0" name=""/>
          <p:cNvGrpSpPr/>
          <p:nvPr/>
        </p:nvGrpSpPr>
        <p:grpSpPr>
          <a:xfrm>
            <a:off x="1182600" y="1303200"/>
            <a:ext cx="2781360" cy="1771560"/>
            <a:chOff x="1182600" y="1303200"/>
            <a:chExt cx="2781360" cy="1771560"/>
          </a:xfrm>
        </p:grpSpPr>
        <p:sp>
          <p:nvSpPr>
            <p:cNvPr id="701" name=""/>
            <p:cNvSpPr/>
            <p:nvPr/>
          </p:nvSpPr>
          <p:spPr>
            <a:xfrm>
              <a:off x="1182600" y="1303200"/>
              <a:ext cx="2781360" cy="1771560"/>
            </a:xfrm>
            <a:prstGeom prst="wedgeRectCallout">
              <a:avLst>
                <a:gd name="adj1" fmla="val 36643"/>
                <a:gd name="adj2" fmla="val 63888"/>
              </a:avLst>
            </a:pr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 name=""/>
            <p:cNvGrpSpPr/>
            <p:nvPr/>
          </p:nvGrpSpPr>
          <p:grpSpPr>
            <a:xfrm>
              <a:off x="1328760" y="1427040"/>
              <a:ext cx="2502000" cy="1520640"/>
              <a:chOff x="1328760" y="1427040"/>
              <a:chExt cx="2502000" cy="1520640"/>
            </a:xfrm>
          </p:grpSpPr>
          <p:sp>
            <p:nvSpPr>
              <p:cNvPr id="703" name=""/>
              <p:cNvSpPr/>
              <p:nvPr/>
            </p:nvSpPr>
            <p:spPr>
              <a:xfrm rot="16200000">
                <a:off x="2210400" y="1481760"/>
                <a:ext cx="84240" cy="135252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04" name=""/>
              <p:cNvSpPr/>
              <p:nvPr/>
            </p:nvSpPr>
            <p:spPr>
              <a:xfrm>
                <a:off x="2879640" y="1981080"/>
                <a:ext cx="90360" cy="357120"/>
              </a:xfrm>
              <a:custGeom>
                <a:avLst/>
                <a:gdLst>
                  <a:gd name="textAreaLeft" fmla="*/ 4320 w 90360"/>
                  <a:gd name="textAreaRight" fmla="*/ 86040 w 90360"/>
                  <a:gd name="textAreaTop" fmla="*/ 4320 h 357120"/>
                  <a:gd name="textAreaBottom" fmla="*/ 352800 h 357120"/>
                </a:gdLst>
                <a:ahLst/>
                <a:rect l="textAreaLeft" t="textAreaTop" r="textAreaRight" b="textAreaBottom"/>
                <a:pathLst>
                  <a:path w="21600" h="85114">
                    <a:moveTo>
                      <a:pt x="3600" y="0"/>
                    </a:moveTo>
                    <a:arcTo wR="3600" hR="3600" stAng="16200000" swAng="-5400000"/>
                    <a:lnTo>
                      <a:pt x="0" y="81514"/>
                    </a:lnTo>
                    <a:arcTo wR="3600" hR="3600" stAng="10800000" swAng="-5400000"/>
                    <a:lnTo>
                      <a:pt x="18000" y="85114"/>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05" name=""/>
              <p:cNvSpPr/>
              <p:nvPr/>
            </p:nvSpPr>
            <p:spPr>
              <a:xfrm rot="16200000">
                <a:off x="3166920" y="2030040"/>
                <a:ext cx="88920" cy="26028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06" name=""/>
              <p:cNvGrpSpPr/>
              <p:nvPr/>
            </p:nvGrpSpPr>
            <p:grpSpPr>
              <a:xfrm>
                <a:off x="1328760" y="1427040"/>
                <a:ext cx="627120" cy="1467000"/>
                <a:chOff x="1328760" y="1427040"/>
                <a:chExt cx="627120" cy="1467000"/>
              </a:xfrm>
            </p:grpSpPr>
            <p:sp>
              <p:nvSpPr>
                <p:cNvPr id="707" name=""/>
                <p:cNvSpPr/>
                <p:nvPr/>
              </p:nvSpPr>
              <p:spPr>
                <a:xfrm>
                  <a:off x="1596960" y="1569960"/>
                  <a:ext cx="88920" cy="119556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08" name=""/>
                <p:cNvSpPr/>
                <p:nvPr/>
              </p:nvSpPr>
              <p:spPr>
                <a:xfrm>
                  <a:off x="1328760" y="1427040"/>
                  <a:ext cx="627120" cy="171360"/>
                </a:xfrm>
                <a:prstGeom prst="flowChartTerminator">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09" name=""/>
                <p:cNvSpPr/>
                <p:nvPr/>
              </p:nvSpPr>
              <p:spPr>
                <a:xfrm>
                  <a:off x="1328760" y="2722680"/>
                  <a:ext cx="627120" cy="171360"/>
                </a:xfrm>
                <a:prstGeom prst="flowChartTerminator">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710" name=""/>
              <p:cNvSpPr/>
              <p:nvPr/>
            </p:nvSpPr>
            <p:spPr>
              <a:xfrm>
                <a:off x="1514520" y="2030400"/>
                <a:ext cx="255600" cy="258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1" name=""/>
              <p:cNvSpPr/>
              <p:nvPr/>
            </p:nvSpPr>
            <p:spPr>
              <a:xfrm>
                <a:off x="2117520" y="1974600"/>
                <a:ext cx="552600" cy="37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2" name=""/>
              <p:cNvSpPr/>
              <p:nvPr/>
            </p:nvSpPr>
            <p:spPr>
              <a:xfrm>
                <a:off x="3160800" y="1985760"/>
                <a:ext cx="669960" cy="347760"/>
              </a:xfrm>
              <a:prstGeom prst="flowChartTerminator">
                <a:avLst/>
              </a:prstGeom>
              <a:solidFill>
                <a:srgbClr val="ffcc99"/>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3" name=""/>
              <p:cNvSpPr/>
              <p:nvPr/>
            </p:nvSpPr>
            <p:spPr>
              <a:xfrm>
                <a:off x="3213720" y="2054160"/>
                <a:ext cx="59364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Arial"/>
                </a:endParaRPr>
              </a:p>
            </p:txBody>
          </p:sp>
          <p:sp>
            <p:nvSpPr>
              <p:cNvPr id="714" name=""/>
              <p:cNvSpPr/>
              <p:nvPr/>
            </p:nvSpPr>
            <p:spPr>
              <a:xfrm>
                <a:off x="3009960" y="1981080"/>
                <a:ext cx="85680" cy="357120"/>
              </a:xfrm>
              <a:custGeom>
                <a:avLst/>
                <a:gdLst>
                  <a:gd name="textAreaLeft" fmla="*/ 3960 w 85680"/>
                  <a:gd name="textAreaRight" fmla="*/ 81720 w 85680"/>
                  <a:gd name="textAreaTop" fmla="*/ 3960 h 357120"/>
                  <a:gd name="textAreaBottom" fmla="*/ 353160 h 357120"/>
                </a:gdLst>
                <a:ahLst/>
                <a:rect l="textAreaLeft" t="textAreaTop" r="textAreaRight" b="textAreaBottom"/>
                <a:pathLst>
                  <a:path w="21600" h="89744">
                    <a:moveTo>
                      <a:pt x="3600" y="0"/>
                    </a:moveTo>
                    <a:arcTo wR="3600" hR="3600" stAng="16200000" swAng="-5400000"/>
                    <a:lnTo>
                      <a:pt x="0" y="86144"/>
                    </a:lnTo>
                    <a:arcTo wR="3600" hR="3600" stAng="10800000" swAng="-5400000"/>
                    <a:lnTo>
                      <a:pt x="18000" y="89744"/>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15" name=""/>
              <p:cNvGrpSpPr/>
              <p:nvPr/>
            </p:nvGrpSpPr>
            <p:grpSpPr>
              <a:xfrm>
                <a:off x="2558880" y="2423880"/>
                <a:ext cx="139680" cy="176040"/>
                <a:chOff x="2558880" y="2423880"/>
                <a:chExt cx="139680" cy="176040"/>
              </a:xfrm>
            </p:grpSpPr>
            <p:sp>
              <p:nvSpPr>
                <p:cNvPr id="716" name=""/>
                <p:cNvSpPr/>
                <p:nvPr/>
              </p:nvSpPr>
              <p:spPr>
                <a:xfrm rot="16200000">
                  <a:off x="2616840" y="2451240"/>
                  <a:ext cx="42840" cy="12060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7" name=""/>
                <p:cNvSpPr/>
                <p:nvPr/>
              </p:nvSpPr>
              <p:spPr>
                <a:xfrm>
                  <a:off x="2558880" y="2423880"/>
                  <a:ext cx="42840" cy="176040"/>
                </a:xfrm>
                <a:custGeom>
                  <a:avLst/>
                  <a:gdLst>
                    <a:gd name="textAreaLeft" fmla="*/ 1800 w 42840"/>
                    <a:gd name="textAreaRight" fmla="*/ 41040 w 42840"/>
                    <a:gd name="textAreaTop" fmla="*/ 1800 h 176040"/>
                    <a:gd name="textAreaBottom" fmla="*/ 174240 h 176040"/>
                  </a:gdLst>
                  <a:ahLst/>
                  <a:rect l="textAreaLeft" t="textAreaTop" r="textAreaRight" b="textAreaBottom"/>
                  <a:pathLst>
                    <a:path w="21600" h="88200">
                      <a:moveTo>
                        <a:pt x="3600" y="0"/>
                      </a:moveTo>
                      <a:arcTo wR="3600" hR="3600" stAng="16200000" swAng="-5400000"/>
                      <a:lnTo>
                        <a:pt x="0" y="84600"/>
                      </a:lnTo>
                      <a:arcTo wR="3600" hR="3600" stAng="10800000" swAng="-5400000"/>
                      <a:lnTo>
                        <a:pt x="18000" y="8820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718" name=""/>
              <p:cNvSpPr/>
              <p:nvPr/>
            </p:nvSpPr>
            <p:spPr>
              <a:xfrm>
                <a:off x="2663640" y="1896840"/>
                <a:ext cx="158760" cy="735120"/>
              </a:xfrm>
              <a:custGeom>
                <a:avLst/>
                <a:gdLst>
                  <a:gd name="textAreaLeft" fmla="*/ 7560 w 158760"/>
                  <a:gd name="textAreaRight" fmla="*/ 151200 w 158760"/>
                  <a:gd name="textAreaTop" fmla="*/ 7560 h 735120"/>
                  <a:gd name="textAreaBottom" fmla="*/ 727560 h 735120"/>
                </a:gdLst>
                <a:ahLst/>
                <a:rect l="textAreaLeft" t="textAreaTop" r="textAreaRight" b="textAreaBottom"/>
                <a:pathLst>
                  <a:path w="21600" h="99839">
                    <a:moveTo>
                      <a:pt x="3600" y="0"/>
                    </a:moveTo>
                    <a:arcTo wR="3600" hR="3600" stAng="16200000" swAng="-5400000"/>
                    <a:lnTo>
                      <a:pt x="0" y="96239"/>
                    </a:lnTo>
                    <a:arcTo wR="3600" hR="3600" stAng="10800000" swAng="-5400000"/>
                    <a:lnTo>
                      <a:pt x="18000" y="99839"/>
                    </a:lnTo>
                    <a:arcTo wR="3600" hR="3600" stAng="5400000" swAng="-5400000"/>
                    <a:lnTo>
                      <a:pt x="21600" y="3600"/>
                    </a:lnTo>
                    <a:arcTo wR="3600" hR="3600" stAng="0" swAng="-5400000"/>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19" name=""/>
              <p:cNvGrpSpPr/>
              <p:nvPr/>
            </p:nvGrpSpPr>
            <p:grpSpPr>
              <a:xfrm>
                <a:off x="2378160" y="2423880"/>
                <a:ext cx="139680" cy="176040"/>
                <a:chOff x="2378160" y="2423880"/>
                <a:chExt cx="139680" cy="176040"/>
              </a:xfrm>
            </p:grpSpPr>
            <p:sp>
              <p:nvSpPr>
                <p:cNvPr id="720" name=""/>
                <p:cNvSpPr/>
                <p:nvPr/>
              </p:nvSpPr>
              <p:spPr>
                <a:xfrm flipH="1" rot="5400000">
                  <a:off x="2416680" y="2451240"/>
                  <a:ext cx="42840" cy="12060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1" name=""/>
                <p:cNvSpPr/>
                <p:nvPr/>
              </p:nvSpPr>
              <p:spPr>
                <a:xfrm flipH="1">
                  <a:off x="2474640" y="2423880"/>
                  <a:ext cx="42840" cy="176040"/>
                </a:xfrm>
                <a:custGeom>
                  <a:avLst/>
                  <a:gdLst>
                    <a:gd name="textAreaLeft" fmla="*/ 1800 w 42840"/>
                    <a:gd name="textAreaRight" fmla="*/ 41040 w 42840"/>
                    <a:gd name="textAreaTop" fmla="*/ 1800 h 176040"/>
                    <a:gd name="textAreaBottom" fmla="*/ 174240 h 176040"/>
                  </a:gdLst>
                  <a:ahLst/>
                  <a:rect l="textAreaLeft" t="textAreaTop" r="textAreaRight" b="textAreaBottom"/>
                  <a:pathLst>
                    <a:path w="21600" h="88200">
                      <a:moveTo>
                        <a:pt x="3600" y="0"/>
                      </a:moveTo>
                      <a:arcTo wR="3600" hR="3600" stAng="16200000" swAng="-5400000"/>
                      <a:lnTo>
                        <a:pt x="0" y="84600"/>
                      </a:lnTo>
                      <a:arcTo wR="3600" hR="3600" stAng="10800000" swAng="-5400000"/>
                      <a:lnTo>
                        <a:pt x="18000" y="88200"/>
                      </a:lnTo>
                      <a:arcTo wR="3600" hR="3600" stAng="5400000" swAng="-5400000"/>
                      <a:lnTo>
                        <a:pt x="21600" y="3600"/>
                      </a:lnTo>
                      <a:arcTo wR="3600" hR="3600" stAng="0" swAng="-5400000"/>
                      <a:close/>
                    </a:path>
                  </a:pathLst>
                </a:cu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722" name=""/>
              <p:cNvGrpSpPr/>
              <p:nvPr/>
            </p:nvGrpSpPr>
            <p:grpSpPr>
              <a:xfrm>
                <a:off x="2074680" y="2555640"/>
                <a:ext cx="319320" cy="318960"/>
                <a:chOff x="2074680" y="2555640"/>
                <a:chExt cx="319320" cy="318960"/>
              </a:xfrm>
            </p:grpSpPr>
            <p:sp>
              <p:nvSpPr>
                <p:cNvPr id="723" name=""/>
                <p:cNvSpPr/>
                <p:nvPr/>
              </p:nvSpPr>
              <p:spPr>
                <a:xfrm>
                  <a:off x="2165400" y="255564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2119320" y="259848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2074680" y="2617200"/>
                  <a:ext cx="0" cy="257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2165400" y="278424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2122560" y="282708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2074680" y="287460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
              <p:cNvSpPr/>
              <p:nvPr/>
            </p:nvSpPr>
            <p:spPr>
              <a:xfrm>
                <a:off x="1989000" y="2414520"/>
                <a:ext cx="266760" cy="2142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flipV="1" rot="10800000">
                <a:off x="2254320" y="2392200"/>
                <a:ext cx="133200" cy="262080"/>
              </a:xfrm>
              <a:prstGeom prst="flowChartProcess">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31" name=""/>
              <p:cNvGrpSpPr/>
              <p:nvPr/>
            </p:nvGrpSpPr>
            <p:grpSpPr>
              <a:xfrm>
                <a:off x="2622600" y="2789280"/>
                <a:ext cx="228600" cy="80640"/>
                <a:chOff x="2622600" y="2789280"/>
                <a:chExt cx="228600" cy="80640"/>
              </a:xfrm>
            </p:grpSpPr>
            <p:sp>
              <p:nvSpPr>
                <p:cNvPr id="732" name=""/>
                <p:cNvSpPr/>
                <p:nvPr/>
              </p:nvSpPr>
              <p:spPr>
                <a:xfrm>
                  <a:off x="2622600" y="278928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622600" y="28699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4" name=""/>
              <p:cNvSpPr/>
              <p:nvPr/>
            </p:nvSpPr>
            <p:spPr>
              <a:xfrm>
                <a:off x="2222640" y="2744640"/>
                <a:ext cx="485640" cy="1666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774880" y="2709720"/>
                <a:ext cx="576360" cy="23796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6" name=""/>
              <p:cNvSpPr/>
              <p:nvPr/>
            </p:nvSpPr>
            <p:spPr>
              <a:xfrm>
                <a:off x="2281320" y="2063520"/>
                <a:ext cx="25668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M</a:t>
                </a:r>
                <a:endParaRPr b="0" lang="en-US" sz="1400" spc="-1" strike="noStrike">
                  <a:solidFill>
                    <a:srgbClr val="000000"/>
                  </a:solidFill>
                  <a:latin typeface="Arial"/>
                </a:endParaRPr>
              </a:p>
            </p:txBody>
          </p:sp>
          <p:sp>
            <p:nvSpPr>
              <p:cNvPr id="737" name=""/>
              <p:cNvSpPr/>
              <p:nvPr/>
            </p:nvSpPr>
            <p:spPr>
              <a:xfrm>
                <a:off x="1994400" y="2420640"/>
                <a:ext cx="24624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G</a:t>
                </a:r>
                <a:endParaRPr b="0" lang="en-US" sz="1200" spc="-1" strike="noStrike">
                  <a:solidFill>
                    <a:srgbClr val="000000"/>
                  </a:solidFill>
                  <a:latin typeface="Arial"/>
                </a:endParaRPr>
              </a:p>
            </p:txBody>
          </p:sp>
          <p:sp>
            <p:nvSpPr>
              <p:cNvPr id="738" name=""/>
              <p:cNvSpPr/>
              <p:nvPr/>
            </p:nvSpPr>
            <p:spPr>
              <a:xfrm>
                <a:off x="2226960" y="2754360"/>
                <a:ext cx="4640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verter</a:t>
                </a:r>
                <a:endParaRPr b="0" lang="en-US" sz="1000" spc="-1" strike="noStrike">
                  <a:solidFill>
                    <a:srgbClr val="000000"/>
                  </a:solidFill>
                  <a:latin typeface="Arial"/>
                </a:endParaRPr>
              </a:p>
            </p:txBody>
          </p:sp>
          <p:sp>
            <p:nvSpPr>
              <p:cNvPr id="739" name=""/>
              <p:cNvSpPr/>
              <p:nvPr/>
            </p:nvSpPr>
            <p:spPr>
              <a:xfrm>
                <a:off x="2764440" y="2749320"/>
                <a:ext cx="5842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pacitor</a:t>
                </a:r>
                <a:endParaRPr b="0" lang="en-US" sz="1000" spc="-1" strike="noStrike">
                  <a:solidFill>
                    <a:srgbClr val="000000"/>
                  </a:solidFill>
                  <a:latin typeface="Arial"/>
                </a:endParaRPr>
              </a:p>
            </p:txBody>
          </p:sp>
          <p:sp>
            <p:nvSpPr>
              <p:cNvPr id="740" name=""/>
              <p:cNvSpPr/>
              <p:nvPr/>
            </p:nvSpPr>
            <p:spPr>
              <a:xfrm>
                <a:off x="2282040" y="1454040"/>
                <a:ext cx="94104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HEV model</a:t>
                </a:r>
                <a:endParaRPr b="0" lang="en-US" sz="1400" spc="-1" strike="noStrike">
                  <a:solidFill>
                    <a:srgbClr val="000000"/>
                  </a:solidFill>
                  <a:latin typeface="Arial"/>
                </a:endParaRPr>
              </a:p>
            </p:txBody>
          </p:sp>
        </p:grpSp>
      </p:grpSp>
      <p:sp>
        <p:nvSpPr>
          <p:cNvPr id="741" name=""/>
          <p:cNvSpPr/>
          <p:nvPr/>
        </p:nvSpPr>
        <p:spPr>
          <a:xfrm>
            <a:off x="4861080" y="1370160"/>
            <a:ext cx="4537080" cy="17334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42" name=""/>
          <p:cNvGrpSpPr/>
          <p:nvPr/>
        </p:nvGrpSpPr>
        <p:grpSpPr>
          <a:xfrm>
            <a:off x="5011200" y="1389240"/>
            <a:ext cx="3988080" cy="1697400"/>
            <a:chOff x="5011200" y="1389240"/>
            <a:chExt cx="3988080" cy="1697400"/>
          </a:xfrm>
        </p:grpSpPr>
        <p:sp>
          <p:nvSpPr>
            <p:cNvPr id="743" name=""/>
            <p:cNvSpPr/>
            <p:nvPr/>
          </p:nvSpPr>
          <p:spPr>
            <a:xfrm>
              <a:off x="5024880" y="1389240"/>
              <a:ext cx="1418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ain parameters</a:t>
              </a:r>
              <a:endParaRPr b="0" lang="en-US" sz="1400" spc="-1" strike="noStrike">
                <a:solidFill>
                  <a:srgbClr val="000000"/>
                </a:solidFill>
                <a:latin typeface="Arial"/>
              </a:endParaRPr>
            </a:p>
          </p:txBody>
        </p:sp>
        <p:sp>
          <p:nvSpPr>
            <p:cNvPr id="744" name=""/>
            <p:cNvSpPr/>
            <p:nvPr/>
          </p:nvSpPr>
          <p:spPr>
            <a:xfrm>
              <a:off x="5056920" y="1656000"/>
              <a:ext cx="161928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Engine (Torque map)</a:t>
              </a:r>
              <a:endParaRPr b="0" lang="en-US" sz="1200" spc="-1" strike="noStrike">
                <a:solidFill>
                  <a:srgbClr val="000000"/>
                </a:solidFill>
                <a:latin typeface="Arial"/>
              </a:endParaRPr>
            </a:p>
          </p:txBody>
        </p:sp>
        <p:sp>
          <p:nvSpPr>
            <p:cNvPr id="745" name=""/>
            <p:cNvSpPr/>
            <p:nvPr/>
          </p:nvSpPr>
          <p:spPr>
            <a:xfrm>
              <a:off x="5149080" y="1863720"/>
              <a:ext cx="385020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MG (Torque map, Electric-power consumption map)</a:t>
              </a:r>
              <a:endParaRPr b="0" lang="en-US" sz="1200" spc="-1" strike="noStrike">
                <a:solidFill>
                  <a:srgbClr val="000000"/>
                </a:solidFill>
                <a:latin typeface="Arial"/>
              </a:endParaRPr>
            </a:p>
          </p:txBody>
        </p:sp>
        <p:sp>
          <p:nvSpPr>
            <p:cNvPr id="746" name=""/>
            <p:cNvSpPr/>
            <p:nvPr/>
          </p:nvSpPr>
          <p:spPr>
            <a:xfrm>
              <a:off x="5132880" y="2071800"/>
              <a:ext cx="356688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RESS (Internal resistance, Open-circuit voltage)</a:t>
              </a:r>
              <a:endParaRPr b="0" lang="en-US" sz="1200" spc="-1" strike="noStrike">
                <a:solidFill>
                  <a:srgbClr val="000000"/>
                </a:solidFill>
                <a:latin typeface="Arial"/>
              </a:endParaRPr>
            </a:p>
          </p:txBody>
        </p:sp>
        <p:sp>
          <p:nvSpPr>
            <p:cNvPr id="747" name=""/>
            <p:cNvSpPr/>
            <p:nvPr/>
          </p:nvSpPr>
          <p:spPr>
            <a:xfrm>
              <a:off x="5029560" y="2279880"/>
              <a:ext cx="106452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Vehicle mass</a:t>
              </a:r>
              <a:endParaRPr b="0" lang="en-US" sz="1200" spc="-1" strike="noStrike">
                <a:solidFill>
                  <a:srgbClr val="000000"/>
                </a:solidFill>
                <a:latin typeface="Arial"/>
              </a:endParaRPr>
            </a:p>
          </p:txBody>
        </p:sp>
        <p:sp>
          <p:nvSpPr>
            <p:cNvPr id="748" name=""/>
            <p:cNvSpPr/>
            <p:nvPr/>
          </p:nvSpPr>
          <p:spPr>
            <a:xfrm>
              <a:off x="5011200" y="2487600"/>
              <a:ext cx="5522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Inertia</a:t>
              </a:r>
              <a:endParaRPr b="0" lang="en-US" sz="1200" spc="-1" strike="noStrike">
                <a:solidFill>
                  <a:srgbClr val="000000"/>
                </a:solidFill>
                <a:latin typeface="Arial"/>
              </a:endParaRPr>
            </a:p>
          </p:txBody>
        </p:sp>
        <p:sp>
          <p:nvSpPr>
            <p:cNvPr id="749" name=""/>
            <p:cNvSpPr/>
            <p:nvPr/>
          </p:nvSpPr>
          <p:spPr>
            <a:xfrm>
              <a:off x="5021280" y="2903760"/>
              <a:ext cx="81612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Gear ratio</a:t>
              </a:r>
              <a:endParaRPr b="0" lang="en-US" sz="1200" spc="-1" strike="noStrike">
                <a:solidFill>
                  <a:srgbClr val="000000"/>
                </a:solidFill>
                <a:latin typeface="Arial"/>
              </a:endParaRPr>
            </a:p>
          </p:txBody>
        </p:sp>
        <p:sp>
          <p:nvSpPr>
            <p:cNvPr id="750" name=""/>
            <p:cNvSpPr/>
            <p:nvPr/>
          </p:nvSpPr>
          <p:spPr>
            <a:xfrm>
              <a:off x="5061600" y="2695680"/>
              <a:ext cx="18356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ransmission efficiency</a:t>
              </a:r>
              <a:endParaRPr b="0" lang="en-US" sz="1200" spc="-1" strike="noStrike">
                <a:solidFill>
                  <a:srgbClr val="000000"/>
                </a:solidFill>
                <a:latin typeface="Arial"/>
              </a:endParaRPr>
            </a:p>
          </p:txBody>
        </p:sp>
      </p:grpSp>
      <p:grpSp>
        <p:nvGrpSpPr>
          <p:cNvPr id="751" name=""/>
          <p:cNvGrpSpPr/>
          <p:nvPr/>
        </p:nvGrpSpPr>
        <p:grpSpPr>
          <a:xfrm>
            <a:off x="1258920" y="3530520"/>
            <a:ext cx="640440" cy="542520"/>
            <a:chOff x="1258920" y="3530520"/>
            <a:chExt cx="640440" cy="542520"/>
          </a:xfrm>
        </p:grpSpPr>
        <p:sp>
          <p:nvSpPr>
            <p:cNvPr id="752" name=""/>
            <p:cNvSpPr/>
            <p:nvPr/>
          </p:nvSpPr>
          <p:spPr>
            <a:xfrm>
              <a:off x="1268640" y="3530520"/>
              <a:ext cx="106920" cy="1069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53" name=""/>
            <p:cNvSpPr/>
            <p:nvPr/>
          </p:nvSpPr>
          <p:spPr>
            <a:xfrm flipH="1">
              <a:off x="1721520" y="3949560"/>
              <a:ext cx="97200" cy="95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1823400" y="3992040"/>
              <a:ext cx="75960" cy="81000"/>
            </a:xfrm>
            <a:prstGeom prst="line">
              <a:avLst/>
            </a:prstGeom>
            <a:ln w="9360">
              <a:solidFill>
                <a:srgbClr val="000000"/>
              </a:solidFill>
              <a:miter/>
              <a:tailEnd len="sm" type="triangle" w="sm"/>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5" name=""/>
            <p:cNvSpPr/>
            <p:nvPr/>
          </p:nvSpPr>
          <p:spPr>
            <a:xfrm rot="18958800">
              <a:off x="1677960" y="3944160"/>
              <a:ext cx="107280" cy="550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6" name=""/>
            <p:cNvSpPr/>
            <p:nvPr/>
          </p:nvSpPr>
          <p:spPr>
            <a:xfrm rot="3852000">
              <a:off x="1261440" y="3692160"/>
              <a:ext cx="237960" cy="109440"/>
            </a:xfrm>
            <a:prstGeom prst="ellipse">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57" name=""/>
            <p:cNvSpPr/>
            <p:nvPr/>
          </p:nvSpPr>
          <p:spPr>
            <a:xfrm rot="2764800">
              <a:off x="1317600" y="3699720"/>
              <a:ext cx="183600" cy="550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8" name=""/>
            <p:cNvSpPr/>
            <p:nvPr/>
          </p:nvSpPr>
          <p:spPr>
            <a:xfrm>
              <a:off x="1442520" y="3751920"/>
              <a:ext cx="128520" cy="550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9" name=""/>
            <p:cNvSpPr/>
            <p:nvPr/>
          </p:nvSpPr>
          <p:spPr>
            <a:xfrm rot="416400">
              <a:off x="1549440" y="3756240"/>
              <a:ext cx="43200" cy="424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60" name=""/>
            <p:cNvSpPr/>
            <p:nvPr/>
          </p:nvSpPr>
          <p:spPr>
            <a:xfrm>
              <a:off x="1328040" y="3556440"/>
              <a:ext cx="21600" cy="2160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61" name=""/>
            <p:cNvSpPr/>
            <p:nvPr/>
          </p:nvSpPr>
          <p:spPr>
            <a:xfrm>
              <a:off x="1342440" y="3599640"/>
              <a:ext cx="2088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62" name=""/>
            <p:cNvSpPr/>
            <p:nvPr/>
          </p:nvSpPr>
          <p:spPr>
            <a:xfrm>
              <a:off x="1258920" y="3630240"/>
              <a:ext cx="314280" cy="283320"/>
            </a:xfrm>
            <a:custGeom>
              <a:avLst/>
              <a:gdLst/>
              <a:ahLst/>
              <a:rect l="l" t="t" r="r" b="b"/>
              <a:pathLst>
                <a:path w="132" h="119">
                  <a:moveTo>
                    <a:pt x="0" y="0"/>
                  </a:moveTo>
                  <a:cubicBezTo>
                    <a:pt x="6" y="16"/>
                    <a:pt x="13" y="33"/>
                    <a:pt x="17" y="44"/>
                  </a:cubicBezTo>
                  <a:cubicBezTo>
                    <a:pt x="21" y="55"/>
                    <a:pt x="22" y="59"/>
                    <a:pt x="27" y="69"/>
                  </a:cubicBezTo>
                  <a:cubicBezTo>
                    <a:pt x="32" y="79"/>
                    <a:pt x="40" y="93"/>
                    <a:pt x="48" y="101"/>
                  </a:cubicBezTo>
                  <a:cubicBezTo>
                    <a:pt x="56" y="109"/>
                    <a:pt x="65" y="113"/>
                    <a:pt x="75" y="116"/>
                  </a:cubicBezTo>
                  <a:cubicBezTo>
                    <a:pt x="85" y="119"/>
                    <a:pt x="102" y="117"/>
                    <a:pt x="111" y="117"/>
                  </a:cubicBezTo>
                  <a:cubicBezTo>
                    <a:pt x="120" y="117"/>
                    <a:pt x="126" y="116"/>
                    <a:pt x="132" y="116"/>
                  </a:cubicBezTo>
                </a:path>
              </a:pathLst>
            </a:custGeom>
            <a:noFill/>
            <a:ln w="255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rot="2923800">
              <a:off x="1546920" y="3873240"/>
              <a:ext cx="178560" cy="73440"/>
            </a:xfrm>
            <a:prstGeom prst="ellipse">
              <a:avLst/>
            </a:prstGeom>
            <a:solidFill>
              <a:srgbClr val="33cccc"/>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64" name=""/>
            <p:cNvSpPr/>
            <p:nvPr/>
          </p:nvSpPr>
          <p:spPr>
            <a:xfrm rot="21246600">
              <a:off x="1401480" y="3808800"/>
              <a:ext cx="209520" cy="856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sp>
        <p:nvSpPr>
          <p:cNvPr id="765" name=""/>
          <p:cNvSpPr/>
          <p:nvPr/>
        </p:nvSpPr>
        <p:spPr>
          <a:xfrm>
            <a:off x="1182600" y="3233880"/>
            <a:ext cx="1590840" cy="952200"/>
          </a:xfrm>
          <a:prstGeom prst="wedgeRectCallout">
            <a:avLst>
              <a:gd name="adj1" fmla="val 96708"/>
              <a:gd name="adj2" fmla="val 6333"/>
            </a:avLst>
          </a:pr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1451880" y="3317760"/>
            <a:ext cx="109188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river model</a:t>
            </a:r>
            <a:endParaRPr b="0" lang="en-US" sz="1400" spc="-1" strike="noStrike">
              <a:solidFill>
                <a:srgbClr val="000000"/>
              </a:solidFill>
              <a:latin typeface="Arial"/>
            </a:endParaRPr>
          </a:p>
        </p:txBody>
      </p:sp>
      <p:sp>
        <p:nvSpPr>
          <p:cNvPr id="767" name=""/>
          <p:cNvSpPr/>
          <p:nvPr/>
        </p:nvSpPr>
        <p:spPr>
          <a:xfrm>
            <a:off x="1806480" y="3603600"/>
            <a:ext cx="11145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leration</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 Braking</a:t>
            </a:r>
            <a:endParaRPr b="0" lang="en-US" sz="1200" spc="-1" strike="noStrike">
              <a:solidFill>
                <a:srgbClr val="000000"/>
              </a:solidFill>
              <a:latin typeface="Arial"/>
            </a:endParaRPr>
          </a:p>
        </p:txBody>
      </p:sp>
      <p:sp>
        <p:nvSpPr>
          <p:cNvPr id="768" name=""/>
          <p:cNvSpPr/>
          <p:nvPr/>
        </p:nvSpPr>
        <p:spPr>
          <a:xfrm>
            <a:off x="4394160" y="3852720"/>
            <a:ext cx="351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8253360" y="4078440"/>
            <a:ext cx="0" cy="50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32320" y="3146400"/>
            <a:ext cx="1166760" cy="1413000"/>
          </a:xfrm>
          <a:prstGeom prst="rect">
            <a:avLst/>
          </a:prstGeom>
          <a:solidFill>
            <a:srgbClr val="c0c0c0"/>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1" name=""/>
          <p:cNvSpPr/>
          <p:nvPr/>
        </p:nvSpPr>
        <p:spPr>
          <a:xfrm>
            <a:off x="6618240" y="3146400"/>
            <a:ext cx="1166760" cy="1413000"/>
          </a:xfrm>
          <a:prstGeom prst="rect">
            <a:avLst/>
          </a:prstGeom>
          <a:solidFill>
            <a:srgbClr val="c0c0c0"/>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2" name=""/>
          <p:cNvSpPr/>
          <p:nvPr/>
        </p:nvSpPr>
        <p:spPr>
          <a:xfrm>
            <a:off x="7900920" y="3594240"/>
            <a:ext cx="708120" cy="519120"/>
          </a:xfrm>
          <a:prstGeom prst="flowChartTerminator">
            <a:avLst/>
          </a:prstGeom>
          <a:solidFill>
            <a:srgbClr val="c0c0c0"/>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3" name=""/>
          <p:cNvSpPr/>
          <p:nvPr/>
        </p:nvSpPr>
        <p:spPr>
          <a:xfrm>
            <a:off x="7859880" y="4284720"/>
            <a:ext cx="831600" cy="352440"/>
          </a:xfrm>
          <a:prstGeom prst="rect">
            <a:avLst/>
          </a:prstGeom>
          <a:solidFill>
            <a:srgbClr val="00ff00"/>
          </a:soli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4" name=""/>
          <p:cNvSpPr/>
          <p:nvPr/>
        </p:nvSpPr>
        <p:spPr>
          <a:xfrm>
            <a:off x="5384880" y="3639960"/>
            <a:ext cx="1071360" cy="63972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igital signal processor</a:t>
            </a:r>
            <a:endParaRPr b="0" lang="en-US" sz="1400" spc="-1" strike="noStrike">
              <a:solidFill>
                <a:srgbClr val="000000"/>
              </a:solidFill>
              <a:latin typeface="Arial"/>
            </a:endParaRPr>
          </a:p>
        </p:txBody>
      </p:sp>
      <p:sp>
        <p:nvSpPr>
          <p:cNvPr id="775" name=""/>
          <p:cNvSpPr/>
          <p:nvPr/>
        </p:nvSpPr>
        <p:spPr>
          <a:xfrm>
            <a:off x="6680160" y="3746520"/>
            <a:ext cx="107172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terface</a:t>
            </a:r>
            <a:endParaRPr b="0" lang="en-US" sz="1400" spc="-1" strike="noStrike">
              <a:solidFill>
                <a:srgbClr val="000000"/>
              </a:solidFill>
              <a:latin typeface="Arial"/>
            </a:endParaRPr>
          </a:p>
        </p:txBody>
      </p:sp>
      <p:sp>
        <p:nvSpPr>
          <p:cNvPr id="776" name=""/>
          <p:cNvSpPr/>
          <p:nvPr/>
        </p:nvSpPr>
        <p:spPr>
          <a:xfrm>
            <a:off x="7961400" y="3639960"/>
            <a:ext cx="58572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a:rPr>
              <a:t>Actual ECUs</a:t>
            </a:r>
            <a:endParaRPr b="0" lang="en-US" sz="1400" spc="-1" strike="noStrike">
              <a:solidFill>
                <a:srgbClr val="000000"/>
              </a:solidFill>
              <a:latin typeface="Arial"/>
            </a:endParaRPr>
          </a:p>
        </p:txBody>
      </p:sp>
      <p:sp>
        <p:nvSpPr>
          <p:cNvPr id="777" name=""/>
          <p:cNvSpPr/>
          <p:nvPr/>
        </p:nvSpPr>
        <p:spPr>
          <a:xfrm>
            <a:off x="7818480" y="4308480"/>
            <a:ext cx="90468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V Power Supply</a:t>
            </a:r>
            <a:endParaRPr b="0" lang="en-US" sz="1000" spc="-1" strike="noStrike">
              <a:solidFill>
                <a:srgbClr val="000000"/>
              </a:solidFill>
              <a:latin typeface="Arial"/>
            </a:endParaRPr>
          </a:p>
        </p:txBody>
      </p:sp>
      <p:grpSp>
        <p:nvGrpSpPr>
          <p:cNvPr id="778" name=""/>
          <p:cNvGrpSpPr/>
          <p:nvPr/>
        </p:nvGrpSpPr>
        <p:grpSpPr>
          <a:xfrm>
            <a:off x="3276000" y="3156120"/>
            <a:ext cx="1622160" cy="1547640"/>
            <a:chOff x="3276000" y="3156120"/>
            <a:chExt cx="1622160" cy="1547640"/>
          </a:xfrm>
        </p:grpSpPr>
        <p:grpSp>
          <p:nvGrpSpPr>
            <p:cNvPr id="779" name=""/>
            <p:cNvGrpSpPr/>
            <p:nvPr/>
          </p:nvGrpSpPr>
          <p:grpSpPr>
            <a:xfrm>
              <a:off x="3648240" y="3156120"/>
              <a:ext cx="955080" cy="1015200"/>
              <a:chOff x="3648240" y="3156120"/>
              <a:chExt cx="955080" cy="1015200"/>
            </a:xfrm>
          </p:grpSpPr>
          <p:sp>
            <p:nvSpPr>
              <p:cNvPr id="780" name=""/>
              <p:cNvSpPr/>
              <p:nvPr/>
            </p:nvSpPr>
            <p:spPr>
              <a:xfrm>
                <a:off x="3742920" y="3770280"/>
                <a:ext cx="724320" cy="401040"/>
              </a:xfrm>
              <a:prstGeom prst="ellipse">
                <a:avLst/>
              </a:prstGeom>
              <a:gradFill rotWithShape="0">
                <a:gsLst>
                  <a:gs pos="0">
                    <a:srgbClr val="ffffff"/>
                  </a:gs>
                  <a:gs pos="100000">
                    <a:srgbClr val="dfdfd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1" name=""/>
              <p:cNvSpPr/>
              <p:nvPr/>
            </p:nvSpPr>
            <p:spPr>
              <a:xfrm>
                <a:off x="3807720" y="3754080"/>
                <a:ext cx="576360" cy="316800"/>
              </a:xfrm>
              <a:prstGeom prst="ellipse">
                <a:avLst/>
              </a:prstGeom>
              <a:gradFill rotWithShape="0">
                <a:gsLst>
                  <a:gs pos="0">
                    <a:srgbClr val="ffffff"/>
                  </a:gs>
                  <a:gs pos="100000">
                    <a:srgbClr val="dfdfdf"/>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2" name=""/>
              <p:cNvSpPr/>
              <p:nvPr/>
            </p:nvSpPr>
            <p:spPr>
              <a:xfrm>
                <a:off x="3648240" y="3156120"/>
                <a:ext cx="955080" cy="811080"/>
              </a:xfrm>
              <a:prstGeom prst="rect">
                <a:avLst/>
              </a:prstGeom>
              <a:gradFill rotWithShape="0">
                <a:gsLst>
                  <a:gs pos="0">
                    <a:srgbClr val="ffffff"/>
                  </a:gs>
                  <a:gs pos="100000">
                    <a:srgbClr val="dddddd"/>
                  </a:gs>
                </a:gsLst>
                <a:path path="rect">
                  <a:fillToRect l="50000" t="50000" r="50000" b="50000"/>
                </a:path>
              </a:grad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3" name=""/>
              <p:cNvSpPr/>
              <p:nvPr/>
            </p:nvSpPr>
            <p:spPr>
              <a:xfrm>
                <a:off x="3742920" y="3256560"/>
                <a:ext cx="759600" cy="601560"/>
              </a:xfrm>
              <a:prstGeom prst="rect">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784" name=""/>
            <p:cNvSpPr/>
            <p:nvPr/>
          </p:nvSpPr>
          <p:spPr>
            <a:xfrm rot="21583200">
              <a:off x="3276720" y="4051080"/>
              <a:ext cx="1558800" cy="309240"/>
            </a:xfrm>
            <a:prstGeom prst="parallelogram">
              <a:avLst>
                <a:gd name="adj" fmla="val 89006"/>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85" name=""/>
            <p:cNvGrpSpPr/>
            <p:nvPr/>
          </p:nvGrpSpPr>
          <p:grpSpPr>
            <a:xfrm>
              <a:off x="3282840" y="4036680"/>
              <a:ext cx="1615320" cy="667080"/>
              <a:chOff x="3282840" y="4036680"/>
              <a:chExt cx="1615320" cy="667080"/>
            </a:xfrm>
          </p:grpSpPr>
          <p:sp>
            <p:nvSpPr>
              <p:cNvPr id="786" name=""/>
              <p:cNvSpPr/>
              <p:nvPr/>
            </p:nvSpPr>
            <p:spPr>
              <a:xfrm rot="1200">
                <a:off x="4674960" y="4134960"/>
                <a:ext cx="190440" cy="71280"/>
              </a:xfrm>
              <a:prstGeom prst="parallelogram">
                <a:avLst>
                  <a:gd name="adj" fmla="val 13408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16560" bIns="-16560" anchor="ctr">
                <a:spAutoFit/>
              </a:bodyPr>
              <a:p>
                <a:endParaRPr b="0" lang="en-US" sz="1800" spc="-1" strike="noStrike">
                  <a:solidFill>
                    <a:srgbClr val="000000"/>
                  </a:solidFill>
                  <a:latin typeface="Arial"/>
                </a:endParaRPr>
              </a:p>
            </p:txBody>
          </p:sp>
          <p:sp>
            <p:nvSpPr>
              <p:cNvPr id="787" name=""/>
              <p:cNvSpPr/>
              <p:nvPr/>
            </p:nvSpPr>
            <p:spPr>
              <a:xfrm flipH="1" rot="4569000">
                <a:off x="4562280" y="4042440"/>
                <a:ext cx="276120" cy="337680"/>
              </a:xfrm>
              <a:prstGeom prst="parallelogram">
                <a:avLst>
                  <a:gd name="adj" fmla="val 85736"/>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5040" bIns="-5040" anchor="ctr">
                <a:spAutoFit/>
              </a:bodyPr>
              <a:p>
                <a:endParaRPr b="0" lang="en-US" sz="1800" spc="-1" strike="noStrike">
                  <a:solidFill>
                    <a:srgbClr val="000000"/>
                  </a:solidFill>
                  <a:latin typeface="Arial"/>
                </a:endParaRPr>
              </a:p>
            </p:txBody>
          </p:sp>
          <p:sp>
            <p:nvSpPr>
              <p:cNvPr id="788" name=""/>
              <p:cNvSpPr/>
              <p:nvPr/>
            </p:nvSpPr>
            <p:spPr>
              <a:xfrm rot="21583200">
                <a:off x="3597480" y="4078080"/>
                <a:ext cx="83880" cy="40680"/>
              </a:xfrm>
              <a:prstGeom prst="parallelogram">
                <a:avLst>
                  <a:gd name="adj" fmla="val 8081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89" name=""/>
              <p:cNvSpPr/>
              <p:nvPr/>
            </p:nvSpPr>
            <p:spPr>
              <a:xfrm rot="21583200">
                <a:off x="3646440" y="4078080"/>
                <a:ext cx="82800" cy="45360"/>
              </a:xfrm>
              <a:prstGeom prst="parallelogram">
                <a:avLst>
                  <a:gd name="adj" fmla="val 7154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3760" bIns="-23760" anchor="ctr">
                <a:spAutoFit/>
              </a:bodyPr>
              <a:p>
                <a:endParaRPr b="0" lang="en-US" sz="1800" spc="-1" strike="noStrike">
                  <a:solidFill>
                    <a:srgbClr val="000000"/>
                  </a:solidFill>
                  <a:latin typeface="Arial"/>
                </a:endParaRPr>
              </a:p>
            </p:txBody>
          </p:sp>
          <p:sp>
            <p:nvSpPr>
              <p:cNvPr id="790" name=""/>
              <p:cNvSpPr/>
              <p:nvPr/>
            </p:nvSpPr>
            <p:spPr>
              <a:xfrm rot="21583200">
                <a:off x="3711600" y="4078080"/>
                <a:ext cx="84240" cy="45360"/>
              </a:xfrm>
              <a:prstGeom prst="parallelogram">
                <a:avLst>
                  <a:gd name="adj" fmla="val 7279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3760" bIns="-23760" anchor="ctr">
                <a:spAutoFit/>
              </a:bodyPr>
              <a:p>
                <a:endParaRPr b="0" lang="en-US" sz="1800" spc="-1" strike="noStrike">
                  <a:solidFill>
                    <a:srgbClr val="000000"/>
                  </a:solidFill>
                  <a:latin typeface="Arial"/>
                </a:endParaRPr>
              </a:p>
            </p:txBody>
          </p:sp>
          <p:sp>
            <p:nvSpPr>
              <p:cNvPr id="791" name=""/>
              <p:cNvSpPr/>
              <p:nvPr/>
            </p:nvSpPr>
            <p:spPr>
              <a:xfrm rot="21583200">
                <a:off x="3759120" y="4084200"/>
                <a:ext cx="82800" cy="39240"/>
              </a:xfrm>
              <a:prstGeom prst="parallelogram">
                <a:avLst>
                  <a:gd name="adj" fmla="val 8270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792" name=""/>
              <p:cNvSpPr/>
              <p:nvPr/>
            </p:nvSpPr>
            <p:spPr>
              <a:xfrm rot="21583200">
                <a:off x="383724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3" name=""/>
              <p:cNvSpPr/>
              <p:nvPr/>
            </p:nvSpPr>
            <p:spPr>
              <a:xfrm rot="21583200">
                <a:off x="387828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4" name=""/>
              <p:cNvSpPr/>
              <p:nvPr/>
            </p:nvSpPr>
            <p:spPr>
              <a:xfrm rot="21583200">
                <a:off x="394344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5" name=""/>
              <p:cNvSpPr/>
              <p:nvPr/>
            </p:nvSpPr>
            <p:spPr>
              <a:xfrm rot="21583200">
                <a:off x="399744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6" name=""/>
              <p:cNvSpPr/>
              <p:nvPr/>
            </p:nvSpPr>
            <p:spPr>
              <a:xfrm rot="21583200">
                <a:off x="406260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7" name=""/>
              <p:cNvSpPr/>
              <p:nvPr/>
            </p:nvSpPr>
            <p:spPr>
              <a:xfrm rot="21583200">
                <a:off x="411012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8" name=""/>
              <p:cNvSpPr/>
              <p:nvPr/>
            </p:nvSpPr>
            <p:spPr>
              <a:xfrm rot="21583200">
                <a:off x="4168800" y="4078080"/>
                <a:ext cx="82440" cy="40680"/>
              </a:xfrm>
              <a:prstGeom prst="parallelogram">
                <a:avLst>
                  <a:gd name="adj" fmla="val 7942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799" name=""/>
              <p:cNvSpPr/>
              <p:nvPr/>
            </p:nvSpPr>
            <p:spPr>
              <a:xfrm rot="21583200">
                <a:off x="4216320" y="4078080"/>
                <a:ext cx="82800" cy="40680"/>
              </a:xfrm>
              <a:prstGeom prst="parallelogram">
                <a:avLst>
                  <a:gd name="adj" fmla="val 79776"/>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800" name=""/>
              <p:cNvSpPr/>
              <p:nvPr/>
            </p:nvSpPr>
            <p:spPr>
              <a:xfrm rot="21583200">
                <a:off x="3532320" y="4088880"/>
                <a:ext cx="90360" cy="34560"/>
              </a:xfrm>
              <a:prstGeom prst="parallelogram">
                <a:avLst>
                  <a:gd name="adj" fmla="val 10247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8800" bIns="-28800" anchor="ctr">
                <a:spAutoFit/>
              </a:bodyPr>
              <a:p>
                <a:endParaRPr b="0" lang="en-US" sz="1800" spc="-1" strike="noStrike">
                  <a:solidFill>
                    <a:srgbClr val="000000"/>
                  </a:solidFill>
                  <a:latin typeface="Arial"/>
                </a:endParaRPr>
              </a:p>
            </p:txBody>
          </p:sp>
          <p:sp>
            <p:nvSpPr>
              <p:cNvPr id="801" name=""/>
              <p:cNvSpPr/>
              <p:nvPr/>
            </p:nvSpPr>
            <p:spPr>
              <a:xfrm rot="21583200">
                <a:off x="4335480" y="4084200"/>
                <a:ext cx="88920" cy="39240"/>
              </a:xfrm>
              <a:prstGeom prst="parallelogram">
                <a:avLst>
                  <a:gd name="adj" fmla="val 8881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02" name=""/>
              <p:cNvSpPr/>
              <p:nvPr/>
            </p:nvSpPr>
            <p:spPr>
              <a:xfrm rot="21583200">
                <a:off x="4400640" y="4078080"/>
                <a:ext cx="88920" cy="40680"/>
              </a:xfrm>
              <a:prstGeom prst="parallelogram">
                <a:avLst>
                  <a:gd name="adj" fmla="val 85673"/>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560" bIns="-25560" anchor="ctr">
                <a:spAutoFit/>
              </a:bodyPr>
              <a:p>
                <a:endParaRPr b="0" lang="en-US" sz="1800" spc="-1" strike="noStrike">
                  <a:solidFill>
                    <a:srgbClr val="000000"/>
                  </a:solidFill>
                  <a:latin typeface="Arial"/>
                </a:endParaRPr>
              </a:p>
            </p:txBody>
          </p:sp>
          <p:sp>
            <p:nvSpPr>
              <p:cNvPr id="803" name=""/>
              <p:cNvSpPr/>
              <p:nvPr/>
            </p:nvSpPr>
            <p:spPr>
              <a:xfrm rot="21583200">
                <a:off x="4452840" y="4084200"/>
                <a:ext cx="86040" cy="39240"/>
              </a:xfrm>
              <a:prstGeom prst="parallelogram">
                <a:avLst>
                  <a:gd name="adj" fmla="val 8594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04" name=""/>
              <p:cNvSpPr/>
              <p:nvPr/>
            </p:nvSpPr>
            <p:spPr>
              <a:xfrm rot="21583200">
                <a:off x="3471840" y="4140000"/>
                <a:ext cx="84240" cy="39240"/>
              </a:xfrm>
              <a:prstGeom prst="parallelogram">
                <a:avLst>
                  <a:gd name="adj" fmla="val 8414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05" name=""/>
              <p:cNvSpPr/>
              <p:nvPr/>
            </p:nvSpPr>
            <p:spPr>
              <a:xfrm rot="21583200">
                <a:off x="3519720" y="4140000"/>
                <a:ext cx="83880" cy="43920"/>
              </a:xfrm>
              <a:prstGeom prst="parallelogram">
                <a:avLst>
                  <a:gd name="adj" fmla="val 7485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806" name=""/>
              <p:cNvSpPr/>
              <p:nvPr/>
            </p:nvSpPr>
            <p:spPr>
              <a:xfrm rot="21583200">
                <a:off x="3584520" y="4140000"/>
                <a:ext cx="85680" cy="43920"/>
              </a:xfrm>
              <a:prstGeom prst="parallelogram">
                <a:avLst>
                  <a:gd name="adj" fmla="val 7646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807" name=""/>
              <p:cNvSpPr/>
              <p:nvPr/>
            </p:nvSpPr>
            <p:spPr>
              <a:xfrm rot="21583200">
                <a:off x="3635280" y="4146120"/>
                <a:ext cx="82800" cy="37800"/>
              </a:xfrm>
              <a:prstGeom prst="parallelogram">
                <a:avLst>
                  <a:gd name="adj" fmla="val 8585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08" name=""/>
              <p:cNvSpPr/>
              <p:nvPr/>
            </p:nvSpPr>
            <p:spPr>
              <a:xfrm rot="21583200">
                <a:off x="3687840" y="4140000"/>
                <a:ext cx="84240" cy="39240"/>
              </a:xfrm>
              <a:prstGeom prst="parallelogram">
                <a:avLst>
                  <a:gd name="adj" fmla="val 8414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09" name=""/>
              <p:cNvSpPr/>
              <p:nvPr/>
            </p:nvSpPr>
            <p:spPr>
              <a:xfrm rot="21583200">
                <a:off x="3735360" y="4140000"/>
                <a:ext cx="82800" cy="43920"/>
              </a:xfrm>
              <a:prstGeom prst="parallelogram">
                <a:avLst>
                  <a:gd name="adj" fmla="val 7389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810" name=""/>
              <p:cNvSpPr/>
              <p:nvPr/>
            </p:nvSpPr>
            <p:spPr>
              <a:xfrm rot="21583200">
                <a:off x="3795840" y="4140000"/>
                <a:ext cx="82440" cy="43920"/>
              </a:xfrm>
              <a:prstGeom prst="parallelogram">
                <a:avLst>
                  <a:gd name="adj" fmla="val 7357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811" name=""/>
              <p:cNvSpPr/>
              <p:nvPr/>
            </p:nvSpPr>
            <p:spPr>
              <a:xfrm rot="21583200">
                <a:off x="3841920" y="4146120"/>
                <a:ext cx="83880" cy="37800"/>
              </a:xfrm>
              <a:prstGeom prst="parallelogram">
                <a:avLst>
                  <a:gd name="adj" fmla="val 8697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12" name=""/>
              <p:cNvSpPr/>
              <p:nvPr/>
            </p:nvSpPr>
            <p:spPr>
              <a:xfrm rot="21583200">
                <a:off x="3895920" y="414000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13" name=""/>
              <p:cNvSpPr/>
              <p:nvPr/>
            </p:nvSpPr>
            <p:spPr>
              <a:xfrm rot="21583200">
                <a:off x="3943440" y="414000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14" name=""/>
              <p:cNvSpPr/>
              <p:nvPr/>
            </p:nvSpPr>
            <p:spPr>
              <a:xfrm rot="21583200">
                <a:off x="4002120" y="4140000"/>
                <a:ext cx="84240" cy="39240"/>
              </a:xfrm>
              <a:prstGeom prst="parallelogram">
                <a:avLst>
                  <a:gd name="adj" fmla="val 8414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15" name=""/>
              <p:cNvSpPr/>
              <p:nvPr/>
            </p:nvSpPr>
            <p:spPr>
              <a:xfrm rot="21583200">
                <a:off x="4056120" y="414000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16" name=""/>
              <p:cNvSpPr/>
              <p:nvPr/>
            </p:nvSpPr>
            <p:spPr>
              <a:xfrm rot="21583200">
                <a:off x="4110120" y="414000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17" name=""/>
              <p:cNvSpPr/>
              <p:nvPr/>
            </p:nvSpPr>
            <p:spPr>
              <a:xfrm rot="21583200">
                <a:off x="4157640" y="4146120"/>
                <a:ext cx="76320" cy="33120"/>
              </a:xfrm>
              <a:prstGeom prst="parallelogram">
                <a:avLst>
                  <a:gd name="adj" fmla="val 9031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18" name=""/>
              <p:cNvSpPr/>
              <p:nvPr/>
            </p:nvSpPr>
            <p:spPr>
              <a:xfrm rot="21583200">
                <a:off x="4210200" y="4146120"/>
                <a:ext cx="84240" cy="33120"/>
              </a:xfrm>
              <a:prstGeom prst="parallelogram">
                <a:avLst>
                  <a:gd name="adj" fmla="val 9969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19" name=""/>
              <p:cNvSpPr/>
              <p:nvPr/>
            </p:nvSpPr>
            <p:spPr>
              <a:xfrm rot="21583200">
                <a:off x="3508560" y="417960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0" name=""/>
              <p:cNvSpPr/>
              <p:nvPr/>
            </p:nvSpPr>
            <p:spPr>
              <a:xfrm rot="21583200">
                <a:off x="3556080" y="4179600"/>
                <a:ext cx="84240" cy="37800"/>
              </a:xfrm>
              <a:prstGeom prst="parallelogram">
                <a:avLst>
                  <a:gd name="adj" fmla="val 8734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1" name=""/>
              <p:cNvSpPr/>
              <p:nvPr/>
            </p:nvSpPr>
            <p:spPr>
              <a:xfrm rot="21583200">
                <a:off x="3622680" y="4179600"/>
                <a:ext cx="82800" cy="37800"/>
              </a:xfrm>
              <a:prstGeom prst="parallelogram">
                <a:avLst>
                  <a:gd name="adj" fmla="val 8585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2" name=""/>
              <p:cNvSpPr/>
              <p:nvPr/>
            </p:nvSpPr>
            <p:spPr>
              <a:xfrm rot="21583200">
                <a:off x="3670200" y="4179600"/>
                <a:ext cx="82800" cy="37800"/>
              </a:xfrm>
              <a:prstGeom prst="parallelogram">
                <a:avLst>
                  <a:gd name="adj" fmla="val 8585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3" name=""/>
              <p:cNvSpPr/>
              <p:nvPr/>
            </p:nvSpPr>
            <p:spPr>
              <a:xfrm rot="21583200">
                <a:off x="3724200" y="4184280"/>
                <a:ext cx="82800" cy="37800"/>
              </a:xfrm>
              <a:prstGeom prst="parallelogram">
                <a:avLst>
                  <a:gd name="adj" fmla="val 8585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4" name=""/>
              <p:cNvSpPr/>
              <p:nvPr/>
            </p:nvSpPr>
            <p:spPr>
              <a:xfrm rot="21583200">
                <a:off x="3772080" y="418428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5" name=""/>
              <p:cNvSpPr/>
              <p:nvPr/>
            </p:nvSpPr>
            <p:spPr>
              <a:xfrm rot="21583200">
                <a:off x="3837240" y="4184280"/>
                <a:ext cx="75960" cy="37800"/>
              </a:xfrm>
              <a:prstGeom prst="parallelogram">
                <a:avLst>
                  <a:gd name="adj" fmla="val 7876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6" name=""/>
              <p:cNvSpPr/>
              <p:nvPr/>
            </p:nvSpPr>
            <p:spPr>
              <a:xfrm rot="21583200">
                <a:off x="3878280" y="418428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7" name=""/>
              <p:cNvSpPr/>
              <p:nvPr/>
            </p:nvSpPr>
            <p:spPr>
              <a:xfrm rot="21583200">
                <a:off x="3936960" y="4179600"/>
                <a:ext cx="84240" cy="37800"/>
              </a:xfrm>
              <a:prstGeom prst="parallelogram">
                <a:avLst>
                  <a:gd name="adj" fmla="val 8734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8" name=""/>
              <p:cNvSpPr/>
              <p:nvPr/>
            </p:nvSpPr>
            <p:spPr>
              <a:xfrm rot="21583200">
                <a:off x="3984840" y="417960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29" name=""/>
              <p:cNvSpPr/>
              <p:nvPr/>
            </p:nvSpPr>
            <p:spPr>
              <a:xfrm rot="21583200">
                <a:off x="4044960" y="417960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30" name=""/>
              <p:cNvSpPr/>
              <p:nvPr/>
            </p:nvSpPr>
            <p:spPr>
              <a:xfrm rot="21583200">
                <a:off x="4097520" y="4179600"/>
                <a:ext cx="83880" cy="37800"/>
              </a:xfrm>
              <a:prstGeom prst="parallelogram">
                <a:avLst>
                  <a:gd name="adj" fmla="val 8697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31" name=""/>
              <p:cNvSpPr/>
              <p:nvPr/>
            </p:nvSpPr>
            <p:spPr>
              <a:xfrm rot="21583200">
                <a:off x="3508560" y="4222440"/>
                <a:ext cx="88920" cy="32760"/>
              </a:xfrm>
              <a:prstGeom prst="parallelogram">
                <a:avLst>
                  <a:gd name="adj" fmla="val 10638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880" bIns="-29880" anchor="ctr">
                <a:spAutoFit/>
              </a:bodyPr>
              <a:p>
                <a:endParaRPr b="0" lang="en-US" sz="1800" spc="-1" strike="noStrike">
                  <a:solidFill>
                    <a:srgbClr val="000000"/>
                  </a:solidFill>
                  <a:latin typeface="Arial"/>
                </a:endParaRPr>
              </a:p>
            </p:txBody>
          </p:sp>
          <p:sp>
            <p:nvSpPr>
              <p:cNvPr id="832" name=""/>
              <p:cNvSpPr/>
              <p:nvPr/>
            </p:nvSpPr>
            <p:spPr>
              <a:xfrm rot="21583200">
                <a:off x="3556080" y="4222440"/>
                <a:ext cx="90360" cy="32760"/>
              </a:xfrm>
              <a:prstGeom prst="parallelogram">
                <a:avLst>
                  <a:gd name="adj" fmla="val 10810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880" bIns="-29880" anchor="ctr">
                <a:spAutoFit/>
              </a:bodyPr>
              <a:p>
                <a:endParaRPr b="0" lang="en-US" sz="1800" spc="-1" strike="noStrike">
                  <a:solidFill>
                    <a:srgbClr val="000000"/>
                  </a:solidFill>
                  <a:latin typeface="Arial"/>
                </a:endParaRPr>
              </a:p>
            </p:txBody>
          </p:sp>
          <p:sp>
            <p:nvSpPr>
              <p:cNvPr id="833" name=""/>
              <p:cNvSpPr/>
              <p:nvPr/>
            </p:nvSpPr>
            <p:spPr>
              <a:xfrm rot="21583200">
                <a:off x="3622680" y="4217760"/>
                <a:ext cx="88920" cy="37440"/>
              </a:xfrm>
              <a:prstGeom prst="parallelogram">
                <a:avLst>
                  <a:gd name="adj" fmla="val 9308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360" bIns="-27360" anchor="ctr">
                <a:spAutoFit/>
              </a:bodyPr>
              <a:p>
                <a:endParaRPr b="0" lang="en-US" sz="1800" spc="-1" strike="noStrike">
                  <a:solidFill>
                    <a:srgbClr val="000000"/>
                  </a:solidFill>
                  <a:latin typeface="Arial"/>
                </a:endParaRPr>
              </a:p>
            </p:txBody>
          </p:sp>
          <p:sp>
            <p:nvSpPr>
              <p:cNvPr id="834" name=""/>
              <p:cNvSpPr/>
              <p:nvPr/>
            </p:nvSpPr>
            <p:spPr>
              <a:xfrm rot="21583200">
                <a:off x="3670200" y="4222440"/>
                <a:ext cx="88920" cy="32760"/>
              </a:xfrm>
              <a:prstGeom prst="parallelogram">
                <a:avLst>
                  <a:gd name="adj" fmla="val 10638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880" bIns="-29880" anchor="ctr">
                <a:spAutoFit/>
              </a:bodyPr>
              <a:p>
                <a:endParaRPr b="0" lang="en-US" sz="1800" spc="-1" strike="noStrike">
                  <a:solidFill>
                    <a:srgbClr val="000000"/>
                  </a:solidFill>
                  <a:latin typeface="Arial"/>
                </a:endParaRPr>
              </a:p>
            </p:txBody>
          </p:sp>
          <p:sp>
            <p:nvSpPr>
              <p:cNvPr id="835" name=""/>
              <p:cNvSpPr/>
              <p:nvPr/>
            </p:nvSpPr>
            <p:spPr>
              <a:xfrm rot="21583200">
                <a:off x="3724200" y="4222440"/>
                <a:ext cx="82800" cy="37800"/>
              </a:xfrm>
              <a:prstGeom prst="parallelogram">
                <a:avLst>
                  <a:gd name="adj" fmla="val 8585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36" name=""/>
              <p:cNvSpPr/>
              <p:nvPr/>
            </p:nvSpPr>
            <p:spPr>
              <a:xfrm rot="21583200">
                <a:off x="3772080" y="422244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37" name=""/>
              <p:cNvSpPr/>
              <p:nvPr/>
            </p:nvSpPr>
            <p:spPr>
              <a:xfrm rot="21583200">
                <a:off x="3837240" y="422244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38" name=""/>
              <p:cNvSpPr/>
              <p:nvPr/>
            </p:nvSpPr>
            <p:spPr>
              <a:xfrm rot="21583200">
                <a:off x="3884760" y="422244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39" name=""/>
              <p:cNvSpPr/>
              <p:nvPr/>
            </p:nvSpPr>
            <p:spPr>
              <a:xfrm rot="21583200">
                <a:off x="3943440" y="422244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40" name=""/>
              <p:cNvSpPr/>
              <p:nvPr/>
            </p:nvSpPr>
            <p:spPr>
              <a:xfrm rot="21583200">
                <a:off x="3990960" y="4222440"/>
                <a:ext cx="82800" cy="37800"/>
              </a:xfrm>
              <a:prstGeom prst="parallelogram">
                <a:avLst>
                  <a:gd name="adj" fmla="val 8585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41" name=""/>
              <p:cNvSpPr/>
              <p:nvPr/>
            </p:nvSpPr>
            <p:spPr>
              <a:xfrm rot="21583200">
                <a:off x="4049640" y="4222440"/>
                <a:ext cx="77760" cy="37800"/>
              </a:xfrm>
              <a:prstGeom prst="parallelogram">
                <a:avLst>
                  <a:gd name="adj" fmla="val 8062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42" name=""/>
              <p:cNvSpPr/>
              <p:nvPr/>
            </p:nvSpPr>
            <p:spPr>
              <a:xfrm rot="21583200">
                <a:off x="4097520" y="4222440"/>
                <a:ext cx="83880" cy="37800"/>
              </a:xfrm>
              <a:prstGeom prst="parallelogram">
                <a:avLst>
                  <a:gd name="adj" fmla="val 8697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43" name=""/>
              <p:cNvSpPr/>
              <p:nvPr/>
            </p:nvSpPr>
            <p:spPr>
              <a:xfrm rot="21583200">
                <a:off x="3502080" y="426060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44" name=""/>
              <p:cNvSpPr/>
              <p:nvPr/>
            </p:nvSpPr>
            <p:spPr>
              <a:xfrm rot="21583200">
                <a:off x="3549600" y="4260600"/>
                <a:ext cx="85680" cy="39240"/>
              </a:xfrm>
              <a:prstGeom prst="parallelogram">
                <a:avLst>
                  <a:gd name="adj" fmla="val 8558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45" name=""/>
              <p:cNvSpPr/>
              <p:nvPr/>
            </p:nvSpPr>
            <p:spPr>
              <a:xfrm rot="21583200">
                <a:off x="3614760" y="4260600"/>
                <a:ext cx="85680" cy="39240"/>
              </a:xfrm>
              <a:prstGeom prst="parallelogram">
                <a:avLst>
                  <a:gd name="adj" fmla="val 8558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46" name=""/>
              <p:cNvSpPr/>
              <p:nvPr/>
            </p:nvSpPr>
            <p:spPr>
              <a:xfrm rot="21583200">
                <a:off x="3670200" y="4260600"/>
                <a:ext cx="82800" cy="39240"/>
              </a:xfrm>
              <a:prstGeom prst="parallelogram">
                <a:avLst>
                  <a:gd name="adj" fmla="val 8270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47" name=""/>
              <p:cNvSpPr/>
              <p:nvPr/>
            </p:nvSpPr>
            <p:spPr>
              <a:xfrm rot="21583200">
                <a:off x="3718080" y="425556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48" name=""/>
              <p:cNvSpPr/>
              <p:nvPr/>
            </p:nvSpPr>
            <p:spPr>
              <a:xfrm rot="21583200">
                <a:off x="3765600" y="4255560"/>
                <a:ext cx="82440" cy="44280"/>
              </a:xfrm>
              <a:prstGeom prst="parallelogram">
                <a:avLst>
                  <a:gd name="adj" fmla="val 7297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120" bIns="-24120" anchor="ctr">
                <a:spAutoFit/>
              </a:bodyPr>
              <a:p>
                <a:endParaRPr b="0" lang="en-US" sz="1800" spc="-1" strike="noStrike">
                  <a:solidFill>
                    <a:srgbClr val="000000"/>
                  </a:solidFill>
                  <a:latin typeface="Arial"/>
                </a:endParaRPr>
              </a:p>
            </p:txBody>
          </p:sp>
          <p:sp>
            <p:nvSpPr>
              <p:cNvPr id="849" name=""/>
              <p:cNvSpPr/>
              <p:nvPr/>
            </p:nvSpPr>
            <p:spPr>
              <a:xfrm rot="21583200">
                <a:off x="3830760" y="4255560"/>
                <a:ext cx="82440" cy="44280"/>
              </a:xfrm>
              <a:prstGeom prst="parallelogram">
                <a:avLst>
                  <a:gd name="adj" fmla="val 7297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120" bIns="-24120" anchor="ctr">
                <a:spAutoFit/>
              </a:bodyPr>
              <a:p>
                <a:endParaRPr b="0" lang="en-US" sz="1800" spc="-1" strike="noStrike">
                  <a:solidFill>
                    <a:srgbClr val="000000"/>
                  </a:solidFill>
                  <a:latin typeface="Arial"/>
                </a:endParaRPr>
              </a:p>
            </p:txBody>
          </p:sp>
          <p:sp>
            <p:nvSpPr>
              <p:cNvPr id="850" name=""/>
              <p:cNvSpPr/>
              <p:nvPr/>
            </p:nvSpPr>
            <p:spPr>
              <a:xfrm rot="21583200">
                <a:off x="3878280" y="426060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51" name=""/>
              <p:cNvSpPr/>
              <p:nvPr/>
            </p:nvSpPr>
            <p:spPr>
              <a:xfrm rot="21583200">
                <a:off x="3930840" y="4266720"/>
                <a:ext cx="83880" cy="37800"/>
              </a:xfrm>
              <a:prstGeom prst="parallelogram">
                <a:avLst>
                  <a:gd name="adj" fmla="val 8697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52" name=""/>
              <p:cNvSpPr/>
              <p:nvPr/>
            </p:nvSpPr>
            <p:spPr>
              <a:xfrm rot="21583200">
                <a:off x="3997440" y="4266720"/>
                <a:ext cx="82440" cy="33120"/>
              </a:xfrm>
              <a:prstGeom prst="parallelogram">
                <a:avLst>
                  <a:gd name="adj" fmla="val 9756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53" name=""/>
              <p:cNvSpPr/>
              <p:nvPr/>
            </p:nvSpPr>
            <p:spPr>
              <a:xfrm rot="21583200">
                <a:off x="4032360" y="4266720"/>
                <a:ext cx="88920" cy="33120"/>
              </a:xfrm>
              <a:prstGeom prst="parallelogram">
                <a:avLst>
                  <a:gd name="adj" fmla="val 10522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54" name=""/>
              <p:cNvSpPr/>
              <p:nvPr/>
            </p:nvSpPr>
            <p:spPr>
              <a:xfrm rot="21583200">
                <a:off x="4294440" y="4150800"/>
                <a:ext cx="88560" cy="37800"/>
              </a:xfrm>
              <a:prstGeom prst="parallelogram">
                <a:avLst>
                  <a:gd name="adj" fmla="val 9182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55" name=""/>
              <p:cNvSpPr/>
              <p:nvPr/>
            </p:nvSpPr>
            <p:spPr>
              <a:xfrm rot="21583200">
                <a:off x="4359240" y="4150800"/>
                <a:ext cx="76320" cy="37800"/>
              </a:xfrm>
              <a:prstGeom prst="parallelogram">
                <a:avLst>
                  <a:gd name="adj" fmla="val 7913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56" name=""/>
              <p:cNvSpPr/>
              <p:nvPr/>
            </p:nvSpPr>
            <p:spPr>
              <a:xfrm rot="21583200">
                <a:off x="4407120" y="4150800"/>
                <a:ext cx="88920" cy="33120"/>
              </a:xfrm>
              <a:prstGeom prst="parallelogram">
                <a:avLst>
                  <a:gd name="adj" fmla="val 10522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57" name=""/>
              <p:cNvSpPr/>
              <p:nvPr/>
            </p:nvSpPr>
            <p:spPr>
              <a:xfrm rot="21583200">
                <a:off x="4257720" y="4184280"/>
                <a:ext cx="88920" cy="43920"/>
              </a:xfrm>
              <a:prstGeom prst="parallelogram">
                <a:avLst>
                  <a:gd name="adj" fmla="val 79353"/>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480" bIns="-24480" anchor="ctr">
                <a:spAutoFit/>
              </a:bodyPr>
              <a:p>
                <a:endParaRPr b="0" lang="en-US" sz="1800" spc="-1" strike="noStrike">
                  <a:solidFill>
                    <a:srgbClr val="000000"/>
                  </a:solidFill>
                  <a:latin typeface="Arial"/>
                </a:endParaRPr>
              </a:p>
            </p:txBody>
          </p:sp>
          <p:sp>
            <p:nvSpPr>
              <p:cNvPr id="858" name=""/>
              <p:cNvSpPr/>
              <p:nvPr/>
            </p:nvSpPr>
            <p:spPr>
              <a:xfrm rot="21583200">
                <a:off x="4329360" y="418896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59" name=""/>
              <p:cNvSpPr/>
              <p:nvPr/>
            </p:nvSpPr>
            <p:spPr>
              <a:xfrm rot="21583200">
                <a:off x="4376880" y="4188960"/>
                <a:ext cx="82440" cy="39240"/>
              </a:xfrm>
              <a:prstGeom prst="parallelogram">
                <a:avLst>
                  <a:gd name="adj" fmla="val 8234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60" name=""/>
              <p:cNvSpPr/>
              <p:nvPr/>
            </p:nvSpPr>
            <p:spPr>
              <a:xfrm rot="21583200">
                <a:off x="4168800" y="430020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61" name=""/>
              <p:cNvSpPr/>
              <p:nvPr/>
            </p:nvSpPr>
            <p:spPr>
              <a:xfrm rot="21583200">
                <a:off x="4227480" y="4304880"/>
                <a:ext cx="90720" cy="37800"/>
              </a:xfrm>
              <a:prstGeom prst="parallelogram">
                <a:avLst>
                  <a:gd name="adj" fmla="val 9406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62" name=""/>
              <p:cNvSpPr/>
              <p:nvPr/>
            </p:nvSpPr>
            <p:spPr>
              <a:xfrm rot="21583200">
                <a:off x="4287960" y="4304880"/>
                <a:ext cx="76320" cy="33120"/>
              </a:xfrm>
              <a:prstGeom prst="parallelogram">
                <a:avLst>
                  <a:gd name="adj" fmla="val 9031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63" name=""/>
              <p:cNvSpPr/>
              <p:nvPr/>
            </p:nvSpPr>
            <p:spPr>
              <a:xfrm rot="21583200">
                <a:off x="4251240" y="4260600"/>
                <a:ext cx="84240" cy="32760"/>
              </a:xfrm>
              <a:prstGeom prst="parallelogram">
                <a:avLst>
                  <a:gd name="adj" fmla="val 10078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880" bIns="-29880" anchor="ctr">
                <a:spAutoFit/>
              </a:bodyPr>
              <a:p>
                <a:endParaRPr b="0" lang="en-US" sz="1800" spc="-1" strike="noStrike">
                  <a:solidFill>
                    <a:srgbClr val="000000"/>
                  </a:solidFill>
                  <a:latin typeface="Arial"/>
                </a:endParaRPr>
              </a:p>
            </p:txBody>
          </p:sp>
          <p:sp>
            <p:nvSpPr>
              <p:cNvPr id="864" name=""/>
              <p:cNvSpPr/>
              <p:nvPr/>
            </p:nvSpPr>
            <p:spPr>
              <a:xfrm rot="21583200">
                <a:off x="4452840" y="4188960"/>
                <a:ext cx="92160" cy="39240"/>
              </a:xfrm>
              <a:prstGeom prst="parallelogram">
                <a:avLst>
                  <a:gd name="adj" fmla="val 92053"/>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65" name=""/>
              <p:cNvSpPr/>
              <p:nvPr/>
            </p:nvSpPr>
            <p:spPr>
              <a:xfrm rot="21583200">
                <a:off x="4506840" y="4188960"/>
                <a:ext cx="86040" cy="39240"/>
              </a:xfrm>
              <a:prstGeom prst="parallelogram">
                <a:avLst>
                  <a:gd name="adj" fmla="val 8594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66" name=""/>
              <p:cNvSpPr/>
              <p:nvPr/>
            </p:nvSpPr>
            <p:spPr>
              <a:xfrm rot="21583200">
                <a:off x="4586400" y="4179600"/>
                <a:ext cx="82440" cy="31320"/>
              </a:xfrm>
              <a:prstGeom prst="parallelogram">
                <a:avLst>
                  <a:gd name="adj" fmla="val 10316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30600" bIns="-30600" anchor="ctr">
                <a:spAutoFit/>
              </a:bodyPr>
              <a:p>
                <a:endParaRPr b="0" lang="en-US" sz="1800" spc="-1" strike="noStrike">
                  <a:solidFill>
                    <a:srgbClr val="000000"/>
                  </a:solidFill>
                  <a:latin typeface="Arial"/>
                </a:endParaRPr>
              </a:p>
            </p:txBody>
          </p:sp>
          <p:sp>
            <p:nvSpPr>
              <p:cNvPr id="867" name=""/>
              <p:cNvSpPr/>
              <p:nvPr/>
            </p:nvSpPr>
            <p:spPr>
              <a:xfrm rot="21583200">
                <a:off x="4483080" y="4146120"/>
                <a:ext cx="85680" cy="37800"/>
              </a:xfrm>
              <a:prstGeom prst="parallelogram">
                <a:avLst>
                  <a:gd name="adj" fmla="val 8884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68" name=""/>
              <p:cNvSpPr/>
              <p:nvPr/>
            </p:nvSpPr>
            <p:spPr>
              <a:xfrm rot="21583200">
                <a:off x="4532400" y="4146120"/>
                <a:ext cx="84240" cy="37800"/>
              </a:xfrm>
              <a:prstGeom prst="parallelogram">
                <a:avLst>
                  <a:gd name="adj" fmla="val 8734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69" name=""/>
              <p:cNvSpPr/>
              <p:nvPr/>
            </p:nvSpPr>
            <p:spPr>
              <a:xfrm rot="21583200">
                <a:off x="4592880" y="4146120"/>
                <a:ext cx="82440" cy="37800"/>
              </a:xfrm>
              <a:prstGeom prst="parallelogram">
                <a:avLst>
                  <a:gd name="adj" fmla="val 8548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70" name=""/>
              <p:cNvSpPr/>
              <p:nvPr/>
            </p:nvSpPr>
            <p:spPr>
              <a:xfrm rot="21583200">
                <a:off x="4645080" y="4146120"/>
                <a:ext cx="84240" cy="37800"/>
              </a:xfrm>
              <a:prstGeom prst="parallelogram">
                <a:avLst>
                  <a:gd name="adj" fmla="val 8734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71" name=""/>
              <p:cNvSpPr/>
              <p:nvPr/>
            </p:nvSpPr>
            <p:spPr>
              <a:xfrm rot="21583200">
                <a:off x="4424400" y="4233600"/>
                <a:ext cx="88920" cy="32760"/>
              </a:xfrm>
              <a:prstGeom prst="parallelogram">
                <a:avLst>
                  <a:gd name="adj" fmla="val 10638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880" bIns="-29880" anchor="ctr">
                <a:spAutoFit/>
              </a:bodyPr>
              <a:p>
                <a:endParaRPr b="0" lang="en-US" sz="1800" spc="-1" strike="noStrike">
                  <a:solidFill>
                    <a:srgbClr val="000000"/>
                  </a:solidFill>
                  <a:latin typeface="Arial"/>
                </a:endParaRPr>
              </a:p>
            </p:txBody>
          </p:sp>
          <p:sp>
            <p:nvSpPr>
              <p:cNvPr id="872" name=""/>
              <p:cNvSpPr/>
              <p:nvPr/>
            </p:nvSpPr>
            <p:spPr>
              <a:xfrm rot="21583200">
                <a:off x="4483080" y="4233600"/>
                <a:ext cx="85680" cy="32760"/>
              </a:xfrm>
              <a:prstGeom prst="parallelogram">
                <a:avLst>
                  <a:gd name="adj" fmla="val 10250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9880" bIns="-29880" anchor="ctr">
                <a:spAutoFit/>
              </a:bodyPr>
              <a:p>
                <a:endParaRPr b="0" lang="en-US" sz="1800" spc="-1" strike="noStrike">
                  <a:solidFill>
                    <a:srgbClr val="000000"/>
                  </a:solidFill>
                  <a:latin typeface="Arial"/>
                </a:endParaRPr>
              </a:p>
            </p:txBody>
          </p:sp>
          <p:sp>
            <p:nvSpPr>
              <p:cNvPr id="873" name=""/>
              <p:cNvSpPr/>
              <p:nvPr/>
            </p:nvSpPr>
            <p:spPr>
              <a:xfrm rot="21583200">
                <a:off x="4551480" y="4217760"/>
                <a:ext cx="88920" cy="42480"/>
              </a:xfrm>
              <a:prstGeom prst="parallelogram">
                <a:avLst>
                  <a:gd name="adj" fmla="val 82043"/>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5200" bIns="-25200" anchor="ctr">
                <a:spAutoFit/>
              </a:bodyPr>
              <a:p>
                <a:endParaRPr b="0" lang="en-US" sz="1800" spc="-1" strike="noStrike">
                  <a:solidFill>
                    <a:srgbClr val="000000"/>
                  </a:solidFill>
                  <a:latin typeface="Arial"/>
                </a:endParaRPr>
              </a:p>
            </p:txBody>
          </p:sp>
          <p:sp>
            <p:nvSpPr>
              <p:cNvPr id="874" name=""/>
              <p:cNvSpPr/>
              <p:nvPr/>
            </p:nvSpPr>
            <p:spPr>
              <a:xfrm rot="21583200">
                <a:off x="4383000" y="4271760"/>
                <a:ext cx="88920" cy="37440"/>
              </a:xfrm>
              <a:prstGeom prst="parallelogram">
                <a:avLst>
                  <a:gd name="adj" fmla="val 9308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360" bIns="-27360" anchor="ctr">
                <a:spAutoFit/>
              </a:bodyPr>
              <a:p>
                <a:endParaRPr b="0" lang="en-US" sz="1800" spc="-1" strike="noStrike">
                  <a:solidFill>
                    <a:srgbClr val="000000"/>
                  </a:solidFill>
                  <a:latin typeface="Arial"/>
                </a:endParaRPr>
              </a:p>
            </p:txBody>
          </p:sp>
          <p:sp>
            <p:nvSpPr>
              <p:cNvPr id="875" name=""/>
              <p:cNvSpPr/>
              <p:nvPr/>
            </p:nvSpPr>
            <p:spPr>
              <a:xfrm rot="21583200">
                <a:off x="4448160" y="4271760"/>
                <a:ext cx="90720" cy="37440"/>
              </a:xfrm>
              <a:prstGeom prst="parallelogram">
                <a:avLst>
                  <a:gd name="adj" fmla="val 94971"/>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360" bIns="-27360" anchor="ctr">
                <a:spAutoFit/>
              </a:bodyPr>
              <a:p>
                <a:endParaRPr b="0" lang="en-US" sz="1800" spc="-1" strike="noStrike">
                  <a:solidFill>
                    <a:srgbClr val="000000"/>
                  </a:solidFill>
                  <a:latin typeface="Arial"/>
                </a:endParaRPr>
              </a:p>
            </p:txBody>
          </p:sp>
          <p:sp>
            <p:nvSpPr>
              <p:cNvPr id="876" name=""/>
              <p:cNvSpPr/>
              <p:nvPr/>
            </p:nvSpPr>
            <p:spPr>
              <a:xfrm rot="21583200">
                <a:off x="4500720" y="4271760"/>
                <a:ext cx="85680" cy="37440"/>
              </a:xfrm>
              <a:prstGeom prst="parallelogram">
                <a:avLst>
                  <a:gd name="adj" fmla="val 8969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360" bIns="-27360" anchor="ctr">
                <a:spAutoFit/>
              </a:bodyPr>
              <a:p>
                <a:endParaRPr b="0" lang="en-US" sz="1800" spc="-1" strike="noStrike">
                  <a:solidFill>
                    <a:srgbClr val="000000"/>
                  </a:solidFill>
                  <a:latin typeface="Arial"/>
                </a:endParaRPr>
              </a:p>
            </p:txBody>
          </p:sp>
          <p:sp>
            <p:nvSpPr>
              <p:cNvPr id="877" name=""/>
              <p:cNvSpPr/>
              <p:nvPr/>
            </p:nvSpPr>
            <p:spPr>
              <a:xfrm rot="21583200">
                <a:off x="4471920" y="4309560"/>
                <a:ext cx="84240" cy="39600"/>
              </a:xfrm>
              <a:prstGeom prst="parallelogram">
                <a:avLst>
                  <a:gd name="adj" fmla="val 83377"/>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640" bIns="-26640" anchor="ctr">
                <a:spAutoFit/>
              </a:bodyPr>
              <a:p>
                <a:endParaRPr b="0" lang="en-US" sz="1800" spc="-1" strike="noStrike">
                  <a:solidFill>
                    <a:srgbClr val="000000"/>
                  </a:solidFill>
                  <a:latin typeface="Arial"/>
                </a:endParaRPr>
              </a:p>
            </p:txBody>
          </p:sp>
          <p:sp>
            <p:nvSpPr>
              <p:cNvPr id="878" name=""/>
              <p:cNvSpPr/>
              <p:nvPr/>
            </p:nvSpPr>
            <p:spPr>
              <a:xfrm rot="21583200">
                <a:off x="3608640" y="4299840"/>
                <a:ext cx="215640" cy="37800"/>
              </a:xfrm>
              <a:prstGeom prst="parallelogram">
                <a:avLst>
                  <a:gd name="adj" fmla="val 11763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1240" bIns="-21240" anchor="ctr">
                <a:spAutoFit/>
              </a:bodyPr>
              <a:p>
                <a:endParaRPr b="0" lang="en-US" sz="1800" spc="-1" strike="noStrike">
                  <a:solidFill>
                    <a:srgbClr val="000000"/>
                  </a:solidFill>
                  <a:latin typeface="Arial"/>
                </a:endParaRPr>
              </a:p>
            </p:txBody>
          </p:sp>
          <p:sp>
            <p:nvSpPr>
              <p:cNvPr id="879" name=""/>
              <p:cNvSpPr/>
              <p:nvPr/>
            </p:nvSpPr>
            <p:spPr>
              <a:xfrm rot="21583200">
                <a:off x="3776760" y="4300200"/>
                <a:ext cx="108000" cy="37800"/>
              </a:xfrm>
              <a:prstGeom prst="parallelogram">
                <a:avLst>
                  <a:gd name="adj" fmla="val 10391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80" name=""/>
              <p:cNvSpPr/>
              <p:nvPr/>
            </p:nvSpPr>
            <p:spPr>
              <a:xfrm rot="21583200">
                <a:off x="3841920" y="4304880"/>
                <a:ext cx="108000" cy="33120"/>
              </a:xfrm>
              <a:prstGeom prst="parallelogram">
                <a:avLst>
                  <a:gd name="adj" fmla="val 11859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8800" bIns="-28800" anchor="ctr">
                <a:spAutoFit/>
              </a:bodyPr>
              <a:p>
                <a:endParaRPr b="0" lang="en-US" sz="1800" spc="-1" strike="noStrike">
                  <a:solidFill>
                    <a:srgbClr val="000000"/>
                  </a:solidFill>
                  <a:latin typeface="Arial"/>
                </a:endParaRPr>
              </a:p>
            </p:txBody>
          </p:sp>
          <p:sp>
            <p:nvSpPr>
              <p:cNvPr id="881" name=""/>
              <p:cNvSpPr/>
              <p:nvPr/>
            </p:nvSpPr>
            <p:spPr>
              <a:xfrm rot="21583200">
                <a:off x="3902040" y="4300200"/>
                <a:ext cx="88920" cy="37800"/>
              </a:xfrm>
              <a:prstGeom prst="parallelogram">
                <a:avLst>
                  <a:gd name="adj" fmla="val 9220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82" name=""/>
              <p:cNvSpPr/>
              <p:nvPr/>
            </p:nvSpPr>
            <p:spPr>
              <a:xfrm rot="21583200">
                <a:off x="3949920" y="4304880"/>
                <a:ext cx="88920" cy="37800"/>
              </a:xfrm>
              <a:prstGeom prst="parallelogram">
                <a:avLst>
                  <a:gd name="adj" fmla="val 9220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83" name=""/>
              <p:cNvSpPr/>
              <p:nvPr/>
            </p:nvSpPr>
            <p:spPr>
              <a:xfrm rot="21583200">
                <a:off x="4002120" y="4300200"/>
                <a:ext cx="84240" cy="37800"/>
              </a:xfrm>
              <a:prstGeom prst="parallelogram">
                <a:avLst>
                  <a:gd name="adj" fmla="val 87348"/>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000" bIns="-27000" anchor="ctr">
                <a:spAutoFit/>
              </a:bodyPr>
              <a:p>
                <a:endParaRPr b="0" lang="en-US" sz="1800" spc="-1" strike="noStrike">
                  <a:solidFill>
                    <a:srgbClr val="000000"/>
                  </a:solidFill>
                  <a:latin typeface="Arial"/>
                </a:endParaRPr>
              </a:p>
            </p:txBody>
          </p:sp>
          <p:sp>
            <p:nvSpPr>
              <p:cNvPr id="884" name=""/>
              <p:cNvSpPr/>
              <p:nvPr/>
            </p:nvSpPr>
            <p:spPr>
              <a:xfrm rot="21583200">
                <a:off x="3448080" y="4184280"/>
                <a:ext cx="88920" cy="43920"/>
              </a:xfrm>
              <a:prstGeom prst="parallelogram">
                <a:avLst>
                  <a:gd name="adj" fmla="val 6157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0880" bIns="-20880" anchor="ctr">
                <a:spAutoFit/>
              </a:bodyPr>
              <a:p>
                <a:endParaRPr b="0" lang="en-US" sz="1800" spc="-1" strike="noStrike">
                  <a:solidFill>
                    <a:srgbClr val="000000"/>
                  </a:solidFill>
                  <a:latin typeface="Arial"/>
                </a:endParaRPr>
              </a:p>
            </p:txBody>
          </p:sp>
          <p:sp>
            <p:nvSpPr>
              <p:cNvPr id="885" name=""/>
              <p:cNvSpPr/>
              <p:nvPr/>
            </p:nvSpPr>
            <p:spPr>
              <a:xfrm rot="21583200">
                <a:off x="4056120" y="4309560"/>
                <a:ext cx="95400" cy="39600"/>
              </a:xfrm>
              <a:prstGeom prst="parallelogram">
                <a:avLst>
                  <a:gd name="adj" fmla="val 7326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3760" bIns="-23760" anchor="ctr">
                <a:spAutoFit/>
              </a:bodyPr>
              <a:p>
                <a:endParaRPr b="0" lang="en-US" sz="1800" spc="-1" strike="noStrike">
                  <a:solidFill>
                    <a:srgbClr val="000000"/>
                  </a:solidFill>
                  <a:latin typeface="Arial"/>
                </a:endParaRPr>
              </a:p>
            </p:txBody>
          </p:sp>
          <p:sp>
            <p:nvSpPr>
              <p:cNvPr id="886" name=""/>
              <p:cNvSpPr/>
              <p:nvPr/>
            </p:nvSpPr>
            <p:spPr>
              <a:xfrm rot="21583200">
                <a:off x="3543480" y="4300200"/>
                <a:ext cx="102960" cy="42480"/>
              </a:xfrm>
              <a:prstGeom prst="parallelogram">
                <a:avLst>
                  <a:gd name="adj" fmla="val 8815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3760" bIns="-23760" anchor="ctr">
                <a:spAutoFit/>
              </a:bodyPr>
              <a:p>
                <a:endParaRPr b="0" lang="en-US" sz="1800" spc="-1" strike="noStrike">
                  <a:solidFill>
                    <a:srgbClr val="000000"/>
                  </a:solidFill>
                  <a:latin typeface="Arial"/>
                </a:endParaRPr>
              </a:p>
            </p:txBody>
          </p:sp>
          <p:sp>
            <p:nvSpPr>
              <p:cNvPr id="887" name=""/>
              <p:cNvSpPr/>
              <p:nvPr/>
            </p:nvSpPr>
            <p:spPr>
              <a:xfrm rot="21583200">
                <a:off x="3424320" y="4293720"/>
                <a:ext cx="112680" cy="44280"/>
              </a:xfrm>
              <a:prstGeom prst="parallelogram">
                <a:avLst>
                  <a:gd name="adj" fmla="val 9255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2680" bIns="-22680" anchor="ctr">
                <a:spAutoFit/>
              </a:bodyPr>
              <a:p>
                <a:endParaRPr b="0" lang="en-US" sz="1800" spc="-1" strike="noStrike">
                  <a:solidFill>
                    <a:srgbClr val="000000"/>
                  </a:solidFill>
                  <a:latin typeface="Arial"/>
                </a:endParaRPr>
              </a:p>
            </p:txBody>
          </p:sp>
          <p:sp>
            <p:nvSpPr>
              <p:cNvPr id="888" name=""/>
              <p:cNvSpPr/>
              <p:nvPr/>
            </p:nvSpPr>
            <p:spPr>
              <a:xfrm rot="21583200">
                <a:off x="3478320" y="4300200"/>
                <a:ext cx="101520" cy="42480"/>
              </a:xfrm>
              <a:prstGeom prst="parallelogram">
                <a:avLst>
                  <a:gd name="adj" fmla="val 8691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3760" bIns="-23760" anchor="ctr">
                <a:spAutoFit/>
              </a:bodyPr>
              <a:p>
                <a:endParaRPr b="0" lang="en-US" sz="1800" spc="-1" strike="noStrike">
                  <a:solidFill>
                    <a:srgbClr val="000000"/>
                  </a:solidFill>
                  <a:latin typeface="Arial"/>
                </a:endParaRPr>
              </a:p>
            </p:txBody>
          </p:sp>
          <p:sp>
            <p:nvSpPr>
              <p:cNvPr id="889" name=""/>
              <p:cNvSpPr/>
              <p:nvPr/>
            </p:nvSpPr>
            <p:spPr>
              <a:xfrm rot="21583200">
                <a:off x="3389400" y="4260240"/>
                <a:ext cx="147600" cy="39240"/>
              </a:xfrm>
              <a:prstGeom prst="parallelogram">
                <a:avLst>
                  <a:gd name="adj" fmla="val 88830"/>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1240" bIns="-21240" anchor="ctr">
                <a:spAutoFit/>
              </a:bodyPr>
              <a:p>
                <a:endParaRPr b="0" lang="en-US" sz="1800" spc="-1" strike="noStrike">
                  <a:solidFill>
                    <a:srgbClr val="000000"/>
                  </a:solidFill>
                  <a:latin typeface="Arial"/>
                </a:endParaRPr>
              </a:p>
            </p:txBody>
          </p:sp>
          <p:sp>
            <p:nvSpPr>
              <p:cNvPr id="890" name=""/>
              <p:cNvSpPr/>
              <p:nvPr/>
            </p:nvSpPr>
            <p:spPr>
              <a:xfrm rot="21583200">
                <a:off x="3348000" y="4300200"/>
                <a:ext cx="119160" cy="37800"/>
              </a:xfrm>
              <a:prstGeom prst="parallelogram">
                <a:avLst>
                  <a:gd name="adj" fmla="val 9248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4120" bIns="-24120" anchor="ctr">
                <a:spAutoFit/>
              </a:bodyPr>
              <a:p>
                <a:endParaRPr b="0" lang="en-US" sz="1800" spc="-1" strike="noStrike">
                  <a:solidFill>
                    <a:srgbClr val="000000"/>
                  </a:solidFill>
                  <a:latin typeface="Arial"/>
                </a:endParaRPr>
              </a:p>
            </p:txBody>
          </p:sp>
          <p:sp>
            <p:nvSpPr>
              <p:cNvPr id="891" name=""/>
              <p:cNvSpPr/>
              <p:nvPr/>
            </p:nvSpPr>
            <p:spPr>
              <a:xfrm rot="21583200">
                <a:off x="3419640" y="4228560"/>
                <a:ext cx="123840" cy="37800"/>
              </a:xfrm>
              <a:prstGeom prst="parallelogram">
                <a:avLst>
                  <a:gd name="adj" fmla="val 74245"/>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1960" bIns="-21960" anchor="ctr">
                <a:spAutoFit/>
              </a:bodyPr>
              <a:p>
                <a:endParaRPr b="0" lang="en-US" sz="1800" spc="-1" strike="noStrike">
                  <a:solidFill>
                    <a:srgbClr val="000000"/>
                  </a:solidFill>
                  <a:latin typeface="Arial"/>
                </a:endParaRPr>
              </a:p>
            </p:txBody>
          </p:sp>
          <p:sp>
            <p:nvSpPr>
              <p:cNvPr id="892" name=""/>
              <p:cNvSpPr/>
              <p:nvPr/>
            </p:nvSpPr>
            <p:spPr>
              <a:xfrm rot="21583200">
                <a:off x="4086360" y="4266720"/>
                <a:ext cx="95040" cy="33120"/>
              </a:xfrm>
              <a:prstGeom prst="parallelogram">
                <a:avLst>
                  <a:gd name="adj" fmla="val 87269"/>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27360" bIns="-27360" anchor="ctr">
                <a:spAutoFit/>
              </a:bodyPr>
              <a:p>
                <a:endParaRPr b="0" lang="en-US" sz="1800" spc="-1" strike="noStrike">
                  <a:solidFill>
                    <a:srgbClr val="000000"/>
                  </a:solidFill>
                  <a:latin typeface="Arial"/>
                </a:endParaRPr>
              </a:p>
            </p:txBody>
          </p:sp>
          <p:sp>
            <p:nvSpPr>
              <p:cNvPr id="893" name=""/>
              <p:cNvSpPr/>
              <p:nvPr/>
            </p:nvSpPr>
            <p:spPr>
              <a:xfrm flipH="1">
                <a:off x="4177440" y="4178880"/>
                <a:ext cx="77400" cy="86760"/>
              </a:xfrm>
              <a:prstGeom prst="line">
                <a:avLst/>
              </a:prstGeom>
              <a:ln w="648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94" name=""/>
              <p:cNvSpPr/>
              <p:nvPr/>
            </p:nvSpPr>
            <p:spPr>
              <a:xfrm rot="21583200">
                <a:off x="4359240" y="4309560"/>
                <a:ext cx="136800" cy="44280"/>
              </a:xfrm>
              <a:prstGeom prst="parallelogram">
                <a:avLst>
                  <a:gd name="adj" fmla="val 70013"/>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17640" bIns="-17640" anchor="ctr">
                <a:spAutoFit/>
              </a:bodyPr>
              <a:p>
                <a:endParaRPr b="0" lang="en-US" sz="1800" spc="-1" strike="noStrike">
                  <a:solidFill>
                    <a:srgbClr val="000000"/>
                  </a:solidFill>
                  <a:latin typeface="Arial"/>
                </a:endParaRPr>
              </a:p>
            </p:txBody>
          </p:sp>
          <p:sp>
            <p:nvSpPr>
              <p:cNvPr id="895" name=""/>
              <p:cNvSpPr/>
              <p:nvPr/>
            </p:nvSpPr>
            <p:spPr>
              <a:xfrm rot="21583200">
                <a:off x="4579560" y="4188960"/>
                <a:ext cx="119160" cy="77400"/>
              </a:xfrm>
              <a:prstGeom prst="parallelogram">
                <a:avLst>
                  <a:gd name="adj" fmla="val 90982"/>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19800" bIns="-19800" anchor="ctr">
                <a:spAutoFit/>
              </a:bodyPr>
              <a:p>
                <a:endParaRPr b="0" lang="en-US" sz="1800" spc="-1" strike="noStrike">
                  <a:solidFill>
                    <a:srgbClr val="000000"/>
                  </a:solidFill>
                  <a:latin typeface="Arial"/>
                </a:endParaRPr>
              </a:p>
            </p:txBody>
          </p:sp>
          <p:sp>
            <p:nvSpPr>
              <p:cNvPr id="896" name=""/>
              <p:cNvSpPr/>
              <p:nvPr/>
            </p:nvSpPr>
            <p:spPr>
              <a:xfrm rot="21583200">
                <a:off x="4512960" y="4266720"/>
                <a:ext cx="114480" cy="87120"/>
              </a:xfrm>
              <a:prstGeom prst="parallelogram">
                <a:avLst>
                  <a:gd name="adj" fmla="val 77656"/>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16560" bIns="-16560" anchor="ctr">
                <a:spAutoFit/>
              </a:bodyPr>
              <a:p>
                <a:endParaRPr b="0" lang="en-US" sz="1800" spc="-1" strike="noStrike">
                  <a:solidFill>
                    <a:srgbClr val="000000"/>
                  </a:solidFill>
                  <a:latin typeface="Arial"/>
                </a:endParaRPr>
              </a:p>
            </p:txBody>
          </p:sp>
          <p:sp>
            <p:nvSpPr>
              <p:cNvPr id="897" name=""/>
              <p:cNvSpPr/>
              <p:nvPr/>
            </p:nvSpPr>
            <p:spPr>
              <a:xfrm rot="4482600">
                <a:off x="3755880" y="3750480"/>
                <a:ext cx="345600" cy="1244520"/>
              </a:xfrm>
              <a:prstGeom prst="parallelogram">
                <a:avLst>
                  <a:gd name="adj" fmla="val 90514"/>
                </a:avLst>
              </a:prstGeom>
              <a:gradFill rotWithShape="0">
                <a:gsLst>
                  <a:gs pos="0">
                    <a:srgbClr val="ffffff"/>
                  </a:gs>
                  <a:gs pos="100000">
                    <a:srgbClr val="dfdfdf"/>
                  </a:gs>
                </a:gsLst>
                <a:lin ang="5400000"/>
              </a:gradFill>
              <a:ln w="64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pic>
          <p:nvPicPr>
            <p:cNvPr id="898" name="" descr=""/>
            <p:cNvPicPr/>
            <p:nvPr/>
          </p:nvPicPr>
          <p:blipFill>
            <a:blip r:embed="rId3"/>
            <a:stretch/>
          </p:blipFill>
          <p:spPr>
            <a:xfrm>
              <a:off x="3753000" y="3268440"/>
              <a:ext cx="744480" cy="580680"/>
            </a:xfrm>
            <a:prstGeom prst="rect">
              <a:avLst/>
            </a:prstGeom>
            <a:ln w="0">
              <a:noFill/>
            </a:ln>
          </p:spPr>
        </p:pic>
      </p:grpSp>
      <p:grpSp>
        <p:nvGrpSpPr>
          <p:cNvPr id="899" name=""/>
          <p:cNvGrpSpPr/>
          <p:nvPr/>
        </p:nvGrpSpPr>
        <p:grpSpPr>
          <a:xfrm>
            <a:off x="1219320" y="4449600"/>
            <a:ext cx="1683000" cy="1087920"/>
            <a:chOff x="1219320" y="4449600"/>
            <a:chExt cx="1683000" cy="1087920"/>
          </a:xfrm>
        </p:grpSpPr>
        <p:sp>
          <p:nvSpPr>
            <p:cNvPr id="900" name=""/>
            <p:cNvSpPr/>
            <p:nvPr/>
          </p:nvSpPr>
          <p:spPr>
            <a:xfrm>
              <a:off x="1431360" y="5271840"/>
              <a:ext cx="435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a:t>
              </a:r>
              <a:endParaRPr b="0" lang="en-US" sz="600" spc="-1" strike="noStrike">
                <a:solidFill>
                  <a:srgbClr val="000000"/>
                </a:solidFill>
                <a:latin typeface="Arial"/>
              </a:endParaRPr>
            </a:p>
          </p:txBody>
        </p:sp>
        <p:sp>
          <p:nvSpPr>
            <p:cNvPr id="901" name=""/>
            <p:cNvSpPr/>
            <p:nvPr/>
          </p:nvSpPr>
          <p:spPr>
            <a:xfrm>
              <a:off x="1731240" y="5271840"/>
              <a:ext cx="1288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500</a:t>
              </a:r>
              <a:endParaRPr b="0" lang="en-US" sz="600" spc="-1" strike="noStrike">
                <a:solidFill>
                  <a:srgbClr val="000000"/>
                </a:solidFill>
                <a:latin typeface="Arial"/>
              </a:endParaRPr>
            </a:p>
          </p:txBody>
        </p:sp>
        <p:sp>
          <p:nvSpPr>
            <p:cNvPr id="902" name=""/>
            <p:cNvSpPr/>
            <p:nvPr/>
          </p:nvSpPr>
          <p:spPr>
            <a:xfrm>
              <a:off x="2055960" y="5271840"/>
              <a:ext cx="1713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0</a:t>
              </a:r>
              <a:endParaRPr b="0" lang="en-US" sz="600" spc="-1" strike="noStrike">
                <a:solidFill>
                  <a:srgbClr val="000000"/>
                </a:solidFill>
                <a:latin typeface="Arial"/>
              </a:endParaRPr>
            </a:p>
          </p:txBody>
        </p:sp>
        <p:sp>
          <p:nvSpPr>
            <p:cNvPr id="903" name=""/>
            <p:cNvSpPr/>
            <p:nvPr/>
          </p:nvSpPr>
          <p:spPr>
            <a:xfrm>
              <a:off x="2397600" y="5271840"/>
              <a:ext cx="1713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500</a:t>
              </a:r>
              <a:endParaRPr b="0" lang="en-US" sz="600" spc="-1" strike="noStrike">
                <a:solidFill>
                  <a:srgbClr val="000000"/>
                </a:solidFill>
                <a:latin typeface="Arial"/>
              </a:endParaRPr>
            </a:p>
          </p:txBody>
        </p:sp>
        <p:sp>
          <p:nvSpPr>
            <p:cNvPr id="904" name=""/>
            <p:cNvSpPr/>
            <p:nvPr/>
          </p:nvSpPr>
          <p:spPr>
            <a:xfrm>
              <a:off x="2730960" y="5268600"/>
              <a:ext cx="1713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0</a:t>
              </a:r>
              <a:endParaRPr b="0" lang="en-US" sz="600" spc="-1" strike="noStrike">
                <a:solidFill>
                  <a:srgbClr val="000000"/>
                </a:solidFill>
                <a:latin typeface="Arial"/>
              </a:endParaRPr>
            </a:p>
          </p:txBody>
        </p:sp>
        <p:sp>
          <p:nvSpPr>
            <p:cNvPr id="905" name=""/>
            <p:cNvSpPr/>
            <p:nvPr/>
          </p:nvSpPr>
          <p:spPr>
            <a:xfrm>
              <a:off x="1392120" y="5200560"/>
              <a:ext cx="43560" cy="918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a:t>
              </a:r>
              <a:endParaRPr b="0" lang="en-US" sz="600" spc="-1" strike="noStrike">
                <a:solidFill>
                  <a:srgbClr val="000000"/>
                </a:solidFill>
                <a:latin typeface="Arial"/>
              </a:endParaRPr>
            </a:p>
          </p:txBody>
        </p:sp>
        <p:sp>
          <p:nvSpPr>
            <p:cNvPr id="906" name=""/>
            <p:cNvSpPr/>
            <p:nvPr/>
          </p:nvSpPr>
          <p:spPr>
            <a:xfrm>
              <a:off x="1348200" y="5051160"/>
              <a:ext cx="86040" cy="918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a:t>
              </a:r>
              <a:endParaRPr b="0" lang="en-US" sz="600" spc="-1" strike="noStrike">
                <a:solidFill>
                  <a:srgbClr val="000000"/>
                </a:solidFill>
                <a:latin typeface="Arial"/>
              </a:endParaRPr>
            </a:p>
          </p:txBody>
        </p:sp>
        <p:sp>
          <p:nvSpPr>
            <p:cNvPr id="907" name=""/>
            <p:cNvSpPr/>
            <p:nvPr/>
          </p:nvSpPr>
          <p:spPr>
            <a:xfrm>
              <a:off x="1348200" y="4900320"/>
              <a:ext cx="86040" cy="918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0</a:t>
              </a:r>
              <a:endParaRPr b="0" lang="en-US" sz="600" spc="-1" strike="noStrike">
                <a:solidFill>
                  <a:srgbClr val="000000"/>
                </a:solidFill>
                <a:latin typeface="Arial"/>
              </a:endParaRPr>
            </a:p>
          </p:txBody>
        </p:sp>
        <p:sp>
          <p:nvSpPr>
            <p:cNvPr id="908" name=""/>
            <p:cNvSpPr/>
            <p:nvPr/>
          </p:nvSpPr>
          <p:spPr>
            <a:xfrm>
              <a:off x="1348200" y="4751280"/>
              <a:ext cx="86040" cy="918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60</a:t>
              </a:r>
              <a:endParaRPr b="0" lang="en-US" sz="600" spc="-1" strike="noStrike">
                <a:solidFill>
                  <a:srgbClr val="000000"/>
                </a:solidFill>
                <a:latin typeface="Arial"/>
              </a:endParaRPr>
            </a:p>
          </p:txBody>
        </p:sp>
        <p:sp>
          <p:nvSpPr>
            <p:cNvPr id="909" name=""/>
            <p:cNvSpPr/>
            <p:nvPr/>
          </p:nvSpPr>
          <p:spPr>
            <a:xfrm>
              <a:off x="1348200" y="4598640"/>
              <a:ext cx="86040" cy="918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0</a:t>
              </a:r>
              <a:endParaRPr b="0" lang="en-US" sz="600" spc="-1" strike="noStrike">
                <a:solidFill>
                  <a:srgbClr val="000000"/>
                </a:solidFill>
                <a:latin typeface="Arial"/>
              </a:endParaRPr>
            </a:p>
          </p:txBody>
        </p:sp>
        <p:sp>
          <p:nvSpPr>
            <p:cNvPr id="910" name=""/>
            <p:cNvSpPr/>
            <p:nvPr/>
          </p:nvSpPr>
          <p:spPr>
            <a:xfrm>
              <a:off x="1303560" y="4449600"/>
              <a:ext cx="128880" cy="918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0</a:t>
              </a:r>
              <a:endParaRPr b="0" lang="en-US" sz="600" spc="-1" strike="noStrike">
                <a:solidFill>
                  <a:srgbClr val="000000"/>
                </a:solidFill>
                <a:latin typeface="Arial"/>
              </a:endParaRPr>
            </a:p>
          </p:txBody>
        </p:sp>
        <p:grpSp>
          <p:nvGrpSpPr>
            <p:cNvPr id="911" name=""/>
            <p:cNvGrpSpPr/>
            <p:nvPr/>
          </p:nvGrpSpPr>
          <p:grpSpPr>
            <a:xfrm>
              <a:off x="1630080" y="5222520"/>
              <a:ext cx="1022040" cy="25560"/>
              <a:chOff x="1630080" y="5222520"/>
              <a:chExt cx="1022040" cy="25560"/>
            </a:xfrm>
          </p:grpSpPr>
          <p:sp>
            <p:nvSpPr>
              <p:cNvPr id="912" name=""/>
              <p:cNvSpPr/>
              <p:nvPr/>
            </p:nvSpPr>
            <p:spPr>
              <a:xfrm>
                <a:off x="1630080" y="5230800"/>
                <a:ext cx="360" cy="1728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3" name=""/>
              <p:cNvSpPr/>
              <p:nvPr/>
            </p:nvSpPr>
            <p:spPr>
              <a:xfrm>
                <a:off x="1799640" y="5222520"/>
                <a:ext cx="72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14" name=""/>
              <p:cNvSpPr/>
              <p:nvPr/>
            </p:nvSpPr>
            <p:spPr>
              <a:xfrm>
                <a:off x="1970280" y="5230800"/>
                <a:ext cx="360" cy="1728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5" name=""/>
              <p:cNvSpPr/>
              <p:nvPr/>
            </p:nvSpPr>
            <p:spPr>
              <a:xfrm>
                <a:off x="2140200" y="5222520"/>
                <a:ext cx="72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16" name=""/>
              <p:cNvSpPr/>
              <p:nvPr/>
            </p:nvSpPr>
            <p:spPr>
              <a:xfrm>
                <a:off x="2310840" y="5230800"/>
                <a:ext cx="720" cy="1728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7" name=""/>
              <p:cNvSpPr/>
              <p:nvPr/>
            </p:nvSpPr>
            <p:spPr>
              <a:xfrm>
                <a:off x="2481480" y="5222520"/>
                <a:ext cx="3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18" name=""/>
              <p:cNvSpPr/>
              <p:nvPr/>
            </p:nvSpPr>
            <p:spPr>
              <a:xfrm>
                <a:off x="2651400" y="5230800"/>
                <a:ext cx="720" cy="1728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19" name=""/>
            <p:cNvGrpSpPr/>
            <p:nvPr/>
          </p:nvGrpSpPr>
          <p:grpSpPr>
            <a:xfrm>
              <a:off x="1458720" y="4571640"/>
              <a:ext cx="26640" cy="603000"/>
              <a:chOff x="1458720" y="4571640"/>
              <a:chExt cx="26640" cy="603000"/>
            </a:xfrm>
          </p:grpSpPr>
          <p:sp>
            <p:nvSpPr>
              <p:cNvPr id="920" name=""/>
              <p:cNvSpPr/>
              <p:nvPr/>
            </p:nvSpPr>
            <p:spPr>
              <a:xfrm flipH="1">
                <a:off x="1458720" y="5174280"/>
                <a:ext cx="180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1" name=""/>
              <p:cNvSpPr/>
              <p:nvPr/>
            </p:nvSpPr>
            <p:spPr>
              <a:xfrm flipH="1">
                <a:off x="1458720" y="5098680"/>
                <a:ext cx="26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2" name=""/>
              <p:cNvSpPr/>
              <p:nvPr/>
            </p:nvSpPr>
            <p:spPr>
              <a:xfrm flipH="1">
                <a:off x="1458720" y="5023080"/>
                <a:ext cx="180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3" name=""/>
              <p:cNvSpPr/>
              <p:nvPr/>
            </p:nvSpPr>
            <p:spPr>
              <a:xfrm flipH="1">
                <a:off x="1458720" y="4948200"/>
                <a:ext cx="26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4" name=""/>
              <p:cNvSpPr/>
              <p:nvPr/>
            </p:nvSpPr>
            <p:spPr>
              <a:xfrm flipH="1">
                <a:off x="1458720" y="4873320"/>
                <a:ext cx="180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5" name=""/>
              <p:cNvSpPr/>
              <p:nvPr/>
            </p:nvSpPr>
            <p:spPr>
              <a:xfrm flipH="1">
                <a:off x="1458720" y="4797720"/>
                <a:ext cx="26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6" name=""/>
              <p:cNvSpPr/>
              <p:nvPr/>
            </p:nvSpPr>
            <p:spPr>
              <a:xfrm flipH="1">
                <a:off x="1458720" y="4722120"/>
                <a:ext cx="180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7" name=""/>
              <p:cNvSpPr/>
              <p:nvPr/>
            </p:nvSpPr>
            <p:spPr>
              <a:xfrm flipH="1">
                <a:off x="1458720" y="4646880"/>
                <a:ext cx="26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8" name=""/>
              <p:cNvSpPr/>
              <p:nvPr/>
            </p:nvSpPr>
            <p:spPr>
              <a:xfrm flipH="1">
                <a:off x="1458720" y="4571640"/>
                <a:ext cx="180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929" name=""/>
            <p:cNvSpPr/>
            <p:nvPr/>
          </p:nvSpPr>
          <p:spPr>
            <a:xfrm>
              <a:off x="1458720" y="4770360"/>
              <a:ext cx="477360" cy="479160"/>
            </a:xfrm>
            <a:custGeom>
              <a:avLst/>
              <a:gdLst/>
              <a:ahLst/>
              <a:rect l="l" t="t" r="r" b="b"/>
              <a:pathLst>
                <a:path w="1250" h="1677">
                  <a:moveTo>
                    <a:pt x="0" y="1677"/>
                  </a:moveTo>
                  <a:lnTo>
                    <a:pt x="1" y="1677"/>
                  </a:lnTo>
                  <a:lnTo>
                    <a:pt x="3" y="1677"/>
                  </a:lnTo>
                  <a:lnTo>
                    <a:pt x="4" y="1677"/>
                  </a:lnTo>
                  <a:lnTo>
                    <a:pt x="7" y="1677"/>
                  </a:lnTo>
                  <a:lnTo>
                    <a:pt x="9" y="1677"/>
                  </a:lnTo>
                  <a:lnTo>
                    <a:pt x="10" y="1677"/>
                  </a:lnTo>
                  <a:lnTo>
                    <a:pt x="12" y="1677"/>
                  </a:lnTo>
                  <a:lnTo>
                    <a:pt x="13" y="1677"/>
                  </a:lnTo>
                  <a:lnTo>
                    <a:pt x="15" y="1677"/>
                  </a:lnTo>
                  <a:lnTo>
                    <a:pt x="18" y="1677"/>
                  </a:lnTo>
                  <a:lnTo>
                    <a:pt x="20" y="1677"/>
                  </a:lnTo>
                  <a:lnTo>
                    <a:pt x="21" y="1677"/>
                  </a:lnTo>
                  <a:lnTo>
                    <a:pt x="23" y="1677"/>
                  </a:lnTo>
                  <a:lnTo>
                    <a:pt x="24" y="1677"/>
                  </a:lnTo>
                  <a:lnTo>
                    <a:pt x="26" y="1677"/>
                  </a:lnTo>
                  <a:lnTo>
                    <a:pt x="29" y="1677"/>
                  </a:lnTo>
                  <a:lnTo>
                    <a:pt x="30" y="1677"/>
                  </a:lnTo>
                  <a:lnTo>
                    <a:pt x="32" y="1677"/>
                  </a:lnTo>
                  <a:lnTo>
                    <a:pt x="33" y="1677"/>
                  </a:lnTo>
                  <a:lnTo>
                    <a:pt x="35" y="1677"/>
                  </a:lnTo>
                  <a:lnTo>
                    <a:pt x="36" y="1677"/>
                  </a:lnTo>
                  <a:lnTo>
                    <a:pt x="40" y="1677"/>
                  </a:lnTo>
                  <a:lnTo>
                    <a:pt x="41" y="1677"/>
                  </a:lnTo>
                  <a:lnTo>
                    <a:pt x="43" y="1677"/>
                  </a:lnTo>
                  <a:lnTo>
                    <a:pt x="44" y="1566"/>
                  </a:lnTo>
                  <a:lnTo>
                    <a:pt x="46" y="1457"/>
                  </a:lnTo>
                  <a:lnTo>
                    <a:pt x="47" y="1353"/>
                  </a:lnTo>
                  <a:lnTo>
                    <a:pt x="50" y="1254"/>
                  </a:lnTo>
                  <a:lnTo>
                    <a:pt x="52" y="1184"/>
                  </a:lnTo>
                  <a:lnTo>
                    <a:pt x="53" y="1144"/>
                  </a:lnTo>
                  <a:lnTo>
                    <a:pt x="55" y="1112"/>
                  </a:lnTo>
                  <a:lnTo>
                    <a:pt x="56" y="1069"/>
                  </a:lnTo>
                  <a:lnTo>
                    <a:pt x="58" y="1015"/>
                  </a:lnTo>
                  <a:lnTo>
                    <a:pt x="61" y="961"/>
                  </a:lnTo>
                  <a:lnTo>
                    <a:pt x="63" y="915"/>
                  </a:lnTo>
                  <a:lnTo>
                    <a:pt x="64" y="877"/>
                  </a:lnTo>
                  <a:lnTo>
                    <a:pt x="66" y="849"/>
                  </a:lnTo>
                  <a:lnTo>
                    <a:pt x="67" y="829"/>
                  </a:lnTo>
                  <a:lnTo>
                    <a:pt x="69" y="804"/>
                  </a:lnTo>
                  <a:lnTo>
                    <a:pt x="72" y="775"/>
                  </a:lnTo>
                  <a:lnTo>
                    <a:pt x="73" y="746"/>
                  </a:lnTo>
                  <a:lnTo>
                    <a:pt x="75" y="715"/>
                  </a:lnTo>
                  <a:lnTo>
                    <a:pt x="76" y="675"/>
                  </a:lnTo>
                  <a:lnTo>
                    <a:pt x="78" y="634"/>
                  </a:lnTo>
                  <a:lnTo>
                    <a:pt x="79" y="609"/>
                  </a:lnTo>
                  <a:lnTo>
                    <a:pt x="83" y="602"/>
                  </a:lnTo>
                  <a:lnTo>
                    <a:pt x="84" y="597"/>
                  </a:lnTo>
                  <a:lnTo>
                    <a:pt x="86" y="593"/>
                  </a:lnTo>
                  <a:lnTo>
                    <a:pt x="87" y="593"/>
                  </a:lnTo>
                  <a:lnTo>
                    <a:pt x="89" y="594"/>
                  </a:lnTo>
                  <a:lnTo>
                    <a:pt x="90" y="596"/>
                  </a:lnTo>
                  <a:lnTo>
                    <a:pt x="93" y="597"/>
                  </a:lnTo>
                  <a:lnTo>
                    <a:pt x="95" y="599"/>
                  </a:lnTo>
                  <a:lnTo>
                    <a:pt x="96" y="591"/>
                  </a:lnTo>
                  <a:lnTo>
                    <a:pt x="98" y="577"/>
                  </a:lnTo>
                  <a:lnTo>
                    <a:pt x="99" y="566"/>
                  </a:lnTo>
                  <a:lnTo>
                    <a:pt x="101" y="557"/>
                  </a:lnTo>
                  <a:lnTo>
                    <a:pt x="104" y="546"/>
                  </a:lnTo>
                  <a:lnTo>
                    <a:pt x="106" y="536"/>
                  </a:lnTo>
                  <a:lnTo>
                    <a:pt x="107" y="523"/>
                  </a:lnTo>
                  <a:lnTo>
                    <a:pt x="109" y="500"/>
                  </a:lnTo>
                  <a:lnTo>
                    <a:pt x="110" y="464"/>
                  </a:lnTo>
                  <a:lnTo>
                    <a:pt x="112" y="425"/>
                  </a:lnTo>
                  <a:lnTo>
                    <a:pt x="113" y="391"/>
                  </a:lnTo>
                  <a:lnTo>
                    <a:pt x="116" y="364"/>
                  </a:lnTo>
                  <a:lnTo>
                    <a:pt x="118" y="347"/>
                  </a:lnTo>
                  <a:lnTo>
                    <a:pt x="119" y="341"/>
                  </a:lnTo>
                  <a:lnTo>
                    <a:pt x="121" y="339"/>
                  </a:lnTo>
                  <a:lnTo>
                    <a:pt x="122" y="339"/>
                  </a:lnTo>
                  <a:lnTo>
                    <a:pt x="124" y="338"/>
                  </a:lnTo>
                  <a:lnTo>
                    <a:pt x="127" y="342"/>
                  </a:lnTo>
                  <a:lnTo>
                    <a:pt x="129" y="353"/>
                  </a:lnTo>
                  <a:lnTo>
                    <a:pt x="130" y="367"/>
                  </a:lnTo>
                  <a:lnTo>
                    <a:pt x="132" y="384"/>
                  </a:lnTo>
                  <a:lnTo>
                    <a:pt x="133" y="411"/>
                  </a:lnTo>
                  <a:lnTo>
                    <a:pt x="135" y="457"/>
                  </a:lnTo>
                  <a:lnTo>
                    <a:pt x="138" y="516"/>
                  </a:lnTo>
                  <a:lnTo>
                    <a:pt x="139" y="586"/>
                  </a:lnTo>
                  <a:lnTo>
                    <a:pt x="141" y="671"/>
                  </a:lnTo>
                  <a:lnTo>
                    <a:pt x="142" y="763"/>
                  </a:lnTo>
                  <a:lnTo>
                    <a:pt x="144" y="848"/>
                  </a:lnTo>
                  <a:lnTo>
                    <a:pt x="146" y="937"/>
                  </a:lnTo>
                  <a:lnTo>
                    <a:pt x="149" y="1050"/>
                  </a:lnTo>
                  <a:lnTo>
                    <a:pt x="150" y="1181"/>
                  </a:lnTo>
                  <a:lnTo>
                    <a:pt x="152" y="1294"/>
                  </a:lnTo>
                  <a:lnTo>
                    <a:pt x="153" y="1383"/>
                  </a:lnTo>
                  <a:lnTo>
                    <a:pt x="155" y="1451"/>
                  </a:lnTo>
                  <a:lnTo>
                    <a:pt x="156" y="1483"/>
                  </a:lnTo>
                  <a:lnTo>
                    <a:pt x="159" y="1466"/>
                  </a:lnTo>
                  <a:lnTo>
                    <a:pt x="161" y="1414"/>
                  </a:lnTo>
                  <a:lnTo>
                    <a:pt x="162" y="1353"/>
                  </a:lnTo>
                  <a:lnTo>
                    <a:pt x="164" y="1296"/>
                  </a:lnTo>
                  <a:lnTo>
                    <a:pt x="166" y="1247"/>
                  </a:lnTo>
                  <a:lnTo>
                    <a:pt x="167" y="1227"/>
                  </a:lnTo>
                  <a:lnTo>
                    <a:pt x="170" y="1262"/>
                  </a:lnTo>
                  <a:lnTo>
                    <a:pt x="172" y="1351"/>
                  </a:lnTo>
                  <a:lnTo>
                    <a:pt x="173" y="1489"/>
                  </a:lnTo>
                  <a:lnTo>
                    <a:pt x="175" y="1629"/>
                  </a:lnTo>
                  <a:lnTo>
                    <a:pt x="176" y="1677"/>
                  </a:lnTo>
                  <a:lnTo>
                    <a:pt x="178" y="1677"/>
                  </a:lnTo>
                  <a:lnTo>
                    <a:pt x="181" y="1677"/>
                  </a:lnTo>
                  <a:lnTo>
                    <a:pt x="182" y="1677"/>
                  </a:lnTo>
                  <a:lnTo>
                    <a:pt x="184" y="1677"/>
                  </a:lnTo>
                  <a:lnTo>
                    <a:pt x="185" y="1677"/>
                  </a:lnTo>
                  <a:lnTo>
                    <a:pt x="187" y="1677"/>
                  </a:lnTo>
                  <a:lnTo>
                    <a:pt x="189" y="1677"/>
                  </a:lnTo>
                  <a:lnTo>
                    <a:pt x="192" y="1677"/>
                  </a:lnTo>
                  <a:lnTo>
                    <a:pt x="193" y="1677"/>
                  </a:lnTo>
                  <a:lnTo>
                    <a:pt x="195" y="1677"/>
                  </a:lnTo>
                  <a:lnTo>
                    <a:pt x="196" y="1677"/>
                  </a:lnTo>
                  <a:lnTo>
                    <a:pt x="198" y="1677"/>
                  </a:lnTo>
                  <a:lnTo>
                    <a:pt x="199" y="1677"/>
                  </a:lnTo>
                  <a:lnTo>
                    <a:pt x="202" y="1677"/>
                  </a:lnTo>
                  <a:lnTo>
                    <a:pt x="204" y="1677"/>
                  </a:lnTo>
                  <a:lnTo>
                    <a:pt x="205" y="1677"/>
                  </a:lnTo>
                  <a:lnTo>
                    <a:pt x="207" y="1677"/>
                  </a:lnTo>
                  <a:lnTo>
                    <a:pt x="209" y="1677"/>
                  </a:lnTo>
                  <a:lnTo>
                    <a:pt x="210" y="1677"/>
                  </a:lnTo>
                  <a:lnTo>
                    <a:pt x="213" y="1677"/>
                  </a:lnTo>
                  <a:lnTo>
                    <a:pt x="215" y="1677"/>
                  </a:lnTo>
                  <a:lnTo>
                    <a:pt x="216" y="1677"/>
                  </a:lnTo>
                  <a:lnTo>
                    <a:pt x="218" y="1677"/>
                  </a:lnTo>
                  <a:lnTo>
                    <a:pt x="219" y="1677"/>
                  </a:lnTo>
                  <a:lnTo>
                    <a:pt x="221" y="1677"/>
                  </a:lnTo>
                  <a:lnTo>
                    <a:pt x="224" y="1677"/>
                  </a:lnTo>
                  <a:lnTo>
                    <a:pt x="225" y="1677"/>
                  </a:lnTo>
                  <a:lnTo>
                    <a:pt x="227" y="1677"/>
                  </a:lnTo>
                  <a:lnTo>
                    <a:pt x="228" y="1677"/>
                  </a:lnTo>
                  <a:lnTo>
                    <a:pt x="230" y="1677"/>
                  </a:lnTo>
                  <a:lnTo>
                    <a:pt x="232" y="1677"/>
                  </a:lnTo>
                  <a:lnTo>
                    <a:pt x="233" y="1677"/>
                  </a:lnTo>
                  <a:lnTo>
                    <a:pt x="236" y="1677"/>
                  </a:lnTo>
                  <a:lnTo>
                    <a:pt x="238" y="1677"/>
                  </a:lnTo>
                  <a:lnTo>
                    <a:pt x="239" y="1677"/>
                  </a:lnTo>
                  <a:lnTo>
                    <a:pt x="241" y="1677"/>
                  </a:lnTo>
                  <a:lnTo>
                    <a:pt x="242" y="1677"/>
                  </a:lnTo>
                  <a:lnTo>
                    <a:pt x="244" y="1677"/>
                  </a:lnTo>
                  <a:lnTo>
                    <a:pt x="247" y="1677"/>
                  </a:lnTo>
                  <a:lnTo>
                    <a:pt x="248" y="1677"/>
                  </a:lnTo>
                  <a:lnTo>
                    <a:pt x="250" y="1677"/>
                  </a:lnTo>
                  <a:lnTo>
                    <a:pt x="252" y="1677"/>
                  </a:lnTo>
                  <a:lnTo>
                    <a:pt x="253" y="1677"/>
                  </a:lnTo>
                  <a:lnTo>
                    <a:pt x="255" y="1677"/>
                  </a:lnTo>
                  <a:lnTo>
                    <a:pt x="258" y="1677"/>
                  </a:lnTo>
                  <a:lnTo>
                    <a:pt x="259" y="1677"/>
                  </a:lnTo>
                  <a:lnTo>
                    <a:pt x="261" y="1677"/>
                  </a:lnTo>
                  <a:lnTo>
                    <a:pt x="262" y="1677"/>
                  </a:lnTo>
                  <a:lnTo>
                    <a:pt x="264" y="1677"/>
                  </a:lnTo>
                  <a:lnTo>
                    <a:pt x="265" y="1677"/>
                  </a:lnTo>
                  <a:lnTo>
                    <a:pt x="268" y="1677"/>
                  </a:lnTo>
                  <a:lnTo>
                    <a:pt x="270" y="1677"/>
                  </a:lnTo>
                  <a:lnTo>
                    <a:pt x="272" y="1677"/>
                  </a:lnTo>
                  <a:lnTo>
                    <a:pt x="273" y="1677"/>
                  </a:lnTo>
                  <a:lnTo>
                    <a:pt x="275" y="1677"/>
                  </a:lnTo>
                  <a:lnTo>
                    <a:pt x="276" y="1677"/>
                  </a:lnTo>
                  <a:lnTo>
                    <a:pt x="279" y="1677"/>
                  </a:lnTo>
                  <a:lnTo>
                    <a:pt x="281" y="1677"/>
                  </a:lnTo>
                  <a:lnTo>
                    <a:pt x="282" y="1677"/>
                  </a:lnTo>
                  <a:lnTo>
                    <a:pt x="284" y="1677"/>
                  </a:lnTo>
                  <a:lnTo>
                    <a:pt x="285" y="1677"/>
                  </a:lnTo>
                  <a:lnTo>
                    <a:pt x="287" y="1677"/>
                  </a:lnTo>
                  <a:lnTo>
                    <a:pt x="290" y="1677"/>
                  </a:lnTo>
                  <a:lnTo>
                    <a:pt x="291" y="1580"/>
                  </a:lnTo>
                  <a:lnTo>
                    <a:pt x="293" y="1440"/>
                  </a:lnTo>
                  <a:lnTo>
                    <a:pt x="295" y="1388"/>
                  </a:lnTo>
                  <a:lnTo>
                    <a:pt x="296" y="1374"/>
                  </a:lnTo>
                  <a:lnTo>
                    <a:pt x="298" y="1279"/>
                  </a:lnTo>
                  <a:lnTo>
                    <a:pt x="301" y="1142"/>
                  </a:lnTo>
                  <a:lnTo>
                    <a:pt x="302" y="1064"/>
                  </a:lnTo>
                  <a:lnTo>
                    <a:pt x="304" y="1016"/>
                  </a:lnTo>
                  <a:lnTo>
                    <a:pt x="305" y="947"/>
                  </a:lnTo>
                  <a:lnTo>
                    <a:pt x="307" y="878"/>
                  </a:lnTo>
                  <a:lnTo>
                    <a:pt x="308" y="811"/>
                  </a:lnTo>
                  <a:lnTo>
                    <a:pt x="311" y="718"/>
                  </a:lnTo>
                  <a:lnTo>
                    <a:pt x="313" y="636"/>
                  </a:lnTo>
                  <a:lnTo>
                    <a:pt x="315" y="605"/>
                  </a:lnTo>
                  <a:lnTo>
                    <a:pt x="316" y="588"/>
                  </a:lnTo>
                  <a:lnTo>
                    <a:pt x="318" y="533"/>
                  </a:lnTo>
                  <a:lnTo>
                    <a:pt x="319" y="508"/>
                  </a:lnTo>
                  <a:lnTo>
                    <a:pt x="322" y="487"/>
                  </a:lnTo>
                  <a:lnTo>
                    <a:pt x="324" y="482"/>
                  </a:lnTo>
                  <a:lnTo>
                    <a:pt x="325" y="488"/>
                  </a:lnTo>
                  <a:lnTo>
                    <a:pt x="327" y="499"/>
                  </a:lnTo>
                  <a:lnTo>
                    <a:pt x="328" y="510"/>
                  </a:lnTo>
                  <a:lnTo>
                    <a:pt x="330" y="519"/>
                  </a:lnTo>
                  <a:lnTo>
                    <a:pt x="333" y="531"/>
                  </a:lnTo>
                  <a:lnTo>
                    <a:pt x="335" y="550"/>
                  </a:lnTo>
                  <a:lnTo>
                    <a:pt x="336" y="563"/>
                  </a:lnTo>
                  <a:lnTo>
                    <a:pt x="338" y="559"/>
                  </a:lnTo>
                  <a:lnTo>
                    <a:pt x="339" y="546"/>
                  </a:lnTo>
                  <a:lnTo>
                    <a:pt x="341" y="540"/>
                  </a:lnTo>
                  <a:lnTo>
                    <a:pt x="342" y="537"/>
                  </a:lnTo>
                  <a:lnTo>
                    <a:pt x="345" y="531"/>
                  </a:lnTo>
                  <a:lnTo>
                    <a:pt x="347" y="520"/>
                  </a:lnTo>
                  <a:lnTo>
                    <a:pt x="348" y="507"/>
                  </a:lnTo>
                  <a:lnTo>
                    <a:pt x="350" y="482"/>
                  </a:lnTo>
                  <a:lnTo>
                    <a:pt x="351" y="453"/>
                  </a:lnTo>
                  <a:lnTo>
                    <a:pt x="353" y="427"/>
                  </a:lnTo>
                  <a:lnTo>
                    <a:pt x="356" y="401"/>
                  </a:lnTo>
                  <a:lnTo>
                    <a:pt x="358" y="365"/>
                  </a:lnTo>
                  <a:lnTo>
                    <a:pt x="359" y="327"/>
                  </a:lnTo>
                  <a:lnTo>
                    <a:pt x="361" y="295"/>
                  </a:lnTo>
                  <a:lnTo>
                    <a:pt x="362" y="264"/>
                  </a:lnTo>
                  <a:lnTo>
                    <a:pt x="364" y="235"/>
                  </a:lnTo>
                  <a:lnTo>
                    <a:pt x="367" y="207"/>
                  </a:lnTo>
                  <a:lnTo>
                    <a:pt x="368" y="181"/>
                  </a:lnTo>
                  <a:lnTo>
                    <a:pt x="370" y="155"/>
                  </a:lnTo>
                  <a:lnTo>
                    <a:pt x="371" y="133"/>
                  </a:lnTo>
                  <a:lnTo>
                    <a:pt x="373" y="116"/>
                  </a:lnTo>
                  <a:lnTo>
                    <a:pt x="374" y="101"/>
                  </a:lnTo>
                  <a:lnTo>
                    <a:pt x="378" y="95"/>
                  </a:lnTo>
                  <a:lnTo>
                    <a:pt x="379" y="101"/>
                  </a:lnTo>
                  <a:lnTo>
                    <a:pt x="381" y="106"/>
                  </a:lnTo>
                  <a:lnTo>
                    <a:pt x="382" y="103"/>
                  </a:lnTo>
                  <a:lnTo>
                    <a:pt x="384" y="103"/>
                  </a:lnTo>
                  <a:lnTo>
                    <a:pt x="385" y="109"/>
                  </a:lnTo>
                  <a:lnTo>
                    <a:pt x="388" y="109"/>
                  </a:lnTo>
                  <a:lnTo>
                    <a:pt x="390" y="103"/>
                  </a:lnTo>
                  <a:lnTo>
                    <a:pt x="391" y="104"/>
                  </a:lnTo>
                  <a:lnTo>
                    <a:pt x="393" y="112"/>
                  </a:lnTo>
                  <a:lnTo>
                    <a:pt x="394" y="118"/>
                  </a:lnTo>
                  <a:lnTo>
                    <a:pt x="396" y="123"/>
                  </a:lnTo>
                  <a:lnTo>
                    <a:pt x="399" y="130"/>
                  </a:lnTo>
                  <a:lnTo>
                    <a:pt x="401" y="136"/>
                  </a:lnTo>
                  <a:lnTo>
                    <a:pt x="402" y="141"/>
                  </a:lnTo>
                  <a:lnTo>
                    <a:pt x="404" y="146"/>
                  </a:lnTo>
                  <a:lnTo>
                    <a:pt x="405" y="149"/>
                  </a:lnTo>
                  <a:lnTo>
                    <a:pt x="407" y="149"/>
                  </a:lnTo>
                  <a:lnTo>
                    <a:pt x="410" y="149"/>
                  </a:lnTo>
                  <a:lnTo>
                    <a:pt x="411" y="150"/>
                  </a:lnTo>
                  <a:lnTo>
                    <a:pt x="413" y="153"/>
                  </a:lnTo>
                  <a:lnTo>
                    <a:pt x="414" y="158"/>
                  </a:lnTo>
                  <a:lnTo>
                    <a:pt x="416" y="161"/>
                  </a:lnTo>
                  <a:lnTo>
                    <a:pt x="417" y="164"/>
                  </a:lnTo>
                  <a:lnTo>
                    <a:pt x="421" y="167"/>
                  </a:lnTo>
                  <a:lnTo>
                    <a:pt x="422" y="173"/>
                  </a:lnTo>
                  <a:lnTo>
                    <a:pt x="424" y="183"/>
                  </a:lnTo>
                  <a:lnTo>
                    <a:pt x="425" y="190"/>
                  </a:lnTo>
                  <a:lnTo>
                    <a:pt x="427" y="186"/>
                  </a:lnTo>
                  <a:lnTo>
                    <a:pt x="428" y="167"/>
                  </a:lnTo>
                  <a:lnTo>
                    <a:pt x="431" y="152"/>
                  </a:lnTo>
                  <a:lnTo>
                    <a:pt x="433" y="152"/>
                  </a:lnTo>
                  <a:lnTo>
                    <a:pt x="434" y="156"/>
                  </a:lnTo>
                  <a:lnTo>
                    <a:pt x="436" y="156"/>
                  </a:lnTo>
                  <a:lnTo>
                    <a:pt x="437" y="150"/>
                  </a:lnTo>
                  <a:lnTo>
                    <a:pt x="439" y="149"/>
                  </a:lnTo>
                  <a:lnTo>
                    <a:pt x="442" y="156"/>
                  </a:lnTo>
                  <a:lnTo>
                    <a:pt x="444" y="178"/>
                  </a:lnTo>
                  <a:lnTo>
                    <a:pt x="445" y="216"/>
                  </a:lnTo>
                  <a:lnTo>
                    <a:pt x="447" y="264"/>
                  </a:lnTo>
                  <a:lnTo>
                    <a:pt x="448" y="310"/>
                  </a:lnTo>
                  <a:lnTo>
                    <a:pt x="450" y="355"/>
                  </a:lnTo>
                  <a:lnTo>
                    <a:pt x="451" y="396"/>
                  </a:lnTo>
                  <a:lnTo>
                    <a:pt x="454" y="424"/>
                  </a:lnTo>
                  <a:lnTo>
                    <a:pt x="456" y="439"/>
                  </a:lnTo>
                  <a:lnTo>
                    <a:pt x="457" y="450"/>
                  </a:lnTo>
                  <a:lnTo>
                    <a:pt x="459" y="459"/>
                  </a:lnTo>
                  <a:lnTo>
                    <a:pt x="460" y="456"/>
                  </a:lnTo>
                  <a:lnTo>
                    <a:pt x="462" y="436"/>
                  </a:lnTo>
                  <a:lnTo>
                    <a:pt x="465" y="399"/>
                  </a:lnTo>
                  <a:lnTo>
                    <a:pt x="467" y="364"/>
                  </a:lnTo>
                  <a:lnTo>
                    <a:pt x="468" y="339"/>
                  </a:lnTo>
                  <a:lnTo>
                    <a:pt x="470" y="318"/>
                  </a:lnTo>
                  <a:lnTo>
                    <a:pt x="471" y="287"/>
                  </a:lnTo>
                  <a:lnTo>
                    <a:pt x="473" y="253"/>
                  </a:lnTo>
                  <a:lnTo>
                    <a:pt x="476" y="227"/>
                  </a:lnTo>
                  <a:lnTo>
                    <a:pt x="477" y="210"/>
                  </a:lnTo>
                  <a:lnTo>
                    <a:pt x="479" y="196"/>
                  </a:lnTo>
                  <a:lnTo>
                    <a:pt x="480" y="199"/>
                  </a:lnTo>
                  <a:lnTo>
                    <a:pt x="482" y="242"/>
                  </a:lnTo>
                  <a:lnTo>
                    <a:pt x="484" y="319"/>
                  </a:lnTo>
                  <a:lnTo>
                    <a:pt x="487" y="407"/>
                  </a:lnTo>
                  <a:lnTo>
                    <a:pt x="488" y="482"/>
                  </a:lnTo>
                  <a:lnTo>
                    <a:pt x="490" y="533"/>
                  </a:lnTo>
                  <a:lnTo>
                    <a:pt x="491" y="554"/>
                  </a:lnTo>
                  <a:lnTo>
                    <a:pt x="493" y="553"/>
                  </a:lnTo>
                  <a:lnTo>
                    <a:pt x="494" y="537"/>
                  </a:lnTo>
                  <a:lnTo>
                    <a:pt x="497" y="516"/>
                  </a:lnTo>
                  <a:lnTo>
                    <a:pt x="499" y="485"/>
                  </a:lnTo>
                  <a:lnTo>
                    <a:pt x="500" y="450"/>
                  </a:lnTo>
                  <a:lnTo>
                    <a:pt x="502" y="413"/>
                  </a:lnTo>
                  <a:lnTo>
                    <a:pt x="504" y="376"/>
                  </a:lnTo>
                  <a:lnTo>
                    <a:pt x="505" y="335"/>
                  </a:lnTo>
                  <a:lnTo>
                    <a:pt x="508" y="284"/>
                  </a:lnTo>
                  <a:lnTo>
                    <a:pt x="510" y="241"/>
                  </a:lnTo>
                  <a:lnTo>
                    <a:pt x="511" y="215"/>
                  </a:lnTo>
                  <a:lnTo>
                    <a:pt x="513" y="190"/>
                  </a:lnTo>
                  <a:lnTo>
                    <a:pt x="514" y="159"/>
                  </a:lnTo>
                  <a:lnTo>
                    <a:pt x="516" y="140"/>
                  </a:lnTo>
                  <a:lnTo>
                    <a:pt x="519" y="130"/>
                  </a:lnTo>
                  <a:lnTo>
                    <a:pt x="520" y="110"/>
                  </a:lnTo>
                  <a:lnTo>
                    <a:pt x="522" y="84"/>
                  </a:lnTo>
                  <a:lnTo>
                    <a:pt x="523" y="75"/>
                  </a:lnTo>
                  <a:lnTo>
                    <a:pt x="525" y="75"/>
                  </a:lnTo>
                  <a:lnTo>
                    <a:pt x="527" y="64"/>
                  </a:lnTo>
                  <a:lnTo>
                    <a:pt x="530" y="49"/>
                  </a:lnTo>
                  <a:lnTo>
                    <a:pt x="531" y="43"/>
                  </a:lnTo>
                  <a:lnTo>
                    <a:pt x="533" y="40"/>
                  </a:lnTo>
                  <a:lnTo>
                    <a:pt x="534" y="35"/>
                  </a:lnTo>
                  <a:lnTo>
                    <a:pt x="536" y="49"/>
                  </a:lnTo>
                  <a:lnTo>
                    <a:pt x="537" y="86"/>
                  </a:lnTo>
                  <a:lnTo>
                    <a:pt x="540" y="123"/>
                  </a:lnTo>
                  <a:lnTo>
                    <a:pt x="542" y="147"/>
                  </a:lnTo>
                  <a:lnTo>
                    <a:pt x="543" y="166"/>
                  </a:lnTo>
                  <a:lnTo>
                    <a:pt x="545" y="183"/>
                  </a:lnTo>
                  <a:lnTo>
                    <a:pt x="547" y="195"/>
                  </a:lnTo>
                  <a:lnTo>
                    <a:pt x="548" y="199"/>
                  </a:lnTo>
                  <a:lnTo>
                    <a:pt x="551" y="201"/>
                  </a:lnTo>
                  <a:lnTo>
                    <a:pt x="553" y="199"/>
                  </a:lnTo>
                  <a:lnTo>
                    <a:pt x="554" y="199"/>
                  </a:lnTo>
                  <a:lnTo>
                    <a:pt x="556" y="204"/>
                  </a:lnTo>
                  <a:lnTo>
                    <a:pt x="557" y="212"/>
                  </a:lnTo>
                  <a:lnTo>
                    <a:pt x="559" y="215"/>
                  </a:lnTo>
                  <a:lnTo>
                    <a:pt x="560" y="210"/>
                  </a:lnTo>
                  <a:lnTo>
                    <a:pt x="563" y="196"/>
                  </a:lnTo>
                  <a:lnTo>
                    <a:pt x="565" y="172"/>
                  </a:lnTo>
                  <a:lnTo>
                    <a:pt x="567" y="141"/>
                  </a:lnTo>
                  <a:lnTo>
                    <a:pt x="568" y="121"/>
                  </a:lnTo>
                  <a:lnTo>
                    <a:pt x="570" y="115"/>
                  </a:lnTo>
                  <a:lnTo>
                    <a:pt x="571" y="110"/>
                  </a:lnTo>
                  <a:lnTo>
                    <a:pt x="574" y="106"/>
                  </a:lnTo>
                  <a:lnTo>
                    <a:pt x="576" y="106"/>
                  </a:lnTo>
                  <a:lnTo>
                    <a:pt x="577" y="109"/>
                  </a:lnTo>
                  <a:lnTo>
                    <a:pt x="579" y="110"/>
                  </a:lnTo>
                  <a:lnTo>
                    <a:pt x="580" y="107"/>
                  </a:lnTo>
                  <a:lnTo>
                    <a:pt x="582" y="103"/>
                  </a:lnTo>
                  <a:lnTo>
                    <a:pt x="585" y="87"/>
                  </a:lnTo>
                  <a:lnTo>
                    <a:pt x="586" y="66"/>
                  </a:lnTo>
                  <a:lnTo>
                    <a:pt x="588" y="46"/>
                  </a:lnTo>
                  <a:lnTo>
                    <a:pt x="590" y="29"/>
                  </a:lnTo>
                  <a:lnTo>
                    <a:pt x="591" y="10"/>
                  </a:lnTo>
                  <a:lnTo>
                    <a:pt x="593" y="0"/>
                  </a:lnTo>
                  <a:lnTo>
                    <a:pt x="596" y="3"/>
                  </a:lnTo>
                  <a:lnTo>
                    <a:pt x="597" y="14"/>
                  </a:lnTo>
                  <a:lnTo>
                    <a:pt x="599" y="23"/>
                  </a:lnTo>
                  <a:lnTo>
                    <a:pt x="600" y="40"/>
                  </a:lnTo>
                  <a:lnTo>
                    <a:pt x="602" y="60"/>
                  </a:lnTo>
                  <a:lnTo>
                    <a:pt x="603" y="70"/>
                  </a:lnTo>
                  <a:lnTo>
                    <a:pt x="606" y="78"/>
                  </a:lnTo>
                  <a:lnTo>
                    <a:pt x="608" y="98"/>
                  </a:lnTo>
                  <a:lnTo>
                    <a:pt x="610" y="126"/>
                  </a:lnTo>
                  <a:lnTo>
                    <a:pt x="611" y="143"/>
                  </a:lnTo>
                  <a:lnTo>
                    <a:pt x="613" y="150"/>
                  </a:lnTo>
                  <a:lnTo>
                    <a:pt x="614" y="159"/>
                  </a:lnTo>
                  <a:lnTo>
                    <a:pt x="617" y="172"/>
                  </a:lnTo>
                  <a:lnTo>
                    <a:pt x="619" y="187"/>
                  </a:lnTo>
                  <a:lnTo>
                    <a:pt x="620" y="206"/>
                  </a:lnTo>
                  <a:lnTo>
                    <a:pt x="622" y="222"/>
                  </a:lnTo>
                  <a:lnTo>
                    <a:pt x="623" y="236"/>
                  </a:lnTo>
                  <a:lnTo>
                    <a:pt x="625" y="252"/>
                  </a:lnTo>
                  <a:lnTo>
                    <a:pt x="628" y="270"/>
                  </a:lnTo>
                  <a:lnTo>
                    <a:pt x="629" y="281"/>
                  </a:lnTo>
                  <a:lnTo>
                    <a:pt x="631" y="290"/>
                  </a:lnTo>
                  <a:lnTo>
                    <a:pt x="633" y="299"/>
                  </a:lnTo>
                  <a:lnTo>
                    <a:pt x="634" y="302"/>
                  </a:lnTo>
                  <a:lnTo>
                    <a:pt x="636" y="301"/>
                  </a:lnTo>
                  <a:lnTo>
                    <a:pt x="639" y="304"/>
                  </a:lnTo>
                  <a:lnTo>
                    <a:pt x="640" y="307"/>
                  </a:lnTo>
                  <a:lnTo>
                    <a:pt x="642" y="301"/>
                  </a:lnTo>
                  <a:lnTo>
                    <a:pt x="643" y="292"/>
                  </a:lnTo>
                  <a:lnTo>
                    <a:pt x="645" y="299"/>
                  </a:lnTo>
                  <a:lnTo>
                    <a:pt x="646" y="319"/>
                  </a:lnTo>
                  <a:lnTo>
                    <a:pt x="649" y="348"/>
                  </a:lnTo>
                  <a:lnTo>
                    <a:pt x="651" y="394"/>
                  </a:lnTo>
                  <a:lnTo>
                    <a:pt x="653" y="448"/>
                  </a:lnTo>
                  <a:lnTo>
                    <a:pt x="654" y="499"/>
                  </a:lnTo>
                  <a:lnTo>
                    <a:pt x="656" y="548"/>
                  </a:lnTo>
                  <a:lnTo>
                    <a:pt x="657" y="609"/>
                  </a:lnTo>
                  <a:lnTo>
                    <a:pt x="660" y="672"/>
                  </a:lnTo>
                  <a:lnTo>
                    <a:pt x="662" y="737"/>
                  </a:lnTo>
                  <a:lnTo>
                    <a:pt x="663" y="815"/>
                  </a:lnTo>
                  <a:lnTo>
                    <a:pt x="665" y="935"/>
                  </a:lnTo>
                  <a:lnTo>
                    <a:pt x="666" y="1050"/>
                  </a:lnTo>
                  <a:lnTo>
                    <a:pt x="668" y="1145"/>
                  </a:lnTo>
                  <a:lnTo>
                    <a:pt x="671" y="1247"/>
                  </a:lnTo>
                  <a:lnTo>
                    <a:pt x="673" y="1390"/>
                  </a:lnTo>
                  <a:lnTo>
                    <a:pt x="674" y="1546"/>
                  </a:lnTo>
                  <a:lnTo>
                    <a:pt x="676" y="1649"/>
                  </a:lnTo>
                  <a:lnTo>
                    <a:pt x="677" y="1677"/>
                  </a:lnTo>
                  <a:lnTo>
                    <a:pt x="679" y="1677"/>
                  </a:lnTo>
                  <a:lnTo>
                    <a:pt x="680" y="1677"/>
                  </a:lnTo>
                  <a:lnTo>
                    <a:pt x="683" y="1631"/>
                  </a:lnTo>
                  <a:lnTo>
                    <a:pt x="685" y="1571"/>
                  </a:lnTo>
                  <a:lnTo>
                    <a:pt x="686" y="1479"/>
                  </a:lnTo>
                  <a:lnTo>
                    <a:pt x="688" y="1357"/>
                  </a:lnTo>
                  <a:lnTo>
                    <a:pt x="689" y="1248"/>
                  </a:lnTo>
                  <a:lnTo>
                    <a:pt x="691" y="1198"/>
                  </a:lnTo>
                  <a:lnTo>
                    <a:pt x="694" y="1172"/>
                  </a:lnTo>
                  <a:lnTo>
                    <a:pt x="696" y="1098"/>
                  </a:lnTo>
                  <a:lnTo>
                    <a:pt x="697" y="1027"/>
                  </a:lnTo>
                  <a:lnTo>
                    <a:pt x="699" y="970"/>
                  </a:lnTo>
                  <a:lnTo>
                    <a:pt x="700" y="941"/>
                  </a:lnTo>
                  <a:lnTo>
                    <a:pt x="702" y="932"/>
                  </a:lnTo>
                  <a:lnTo>
                    <a:pt x="705" y="940"/>
                  </a:lnTo>
                  <a:lnTo>
                    <a:pt x="706" y="955"/>
                  </a:lnTo>
                  <a:lnTo>
                    <a:pt x="708" y="966"/>
                  </a:lnTo>
                  <a:lnTo>
                    <a:pt x="709" y="972"/>
                  </a:lnTo>
                  <a:lnTo>
                    <a:pt x="711" y="980"/>
                  </a:lnTo>
                  <a:lnTo>
                    <a:pt x="712" y="975"/>
                  </a:lnTo>
                  <a:lnTo>
                    <a:pt x="716" y="946"/>
                  </a:lnTo>
                  <a:lnTo>
                    <a:pt x="717" y="909"/>
                  </a:lnTo>
                  <a:lnTo>
                    <a:pt x="719" y="891"/>
                  </a:lnTo>
                  <a:lnTo>
                    <a:pt x="720" y="884"/>
                  </a:lnTo>
                  <a:lnTo>
                    <a:pt x="722" y="871"/>
                  </a:lnTo>
                  <a:lnTo>
                    <a:pt x="723" y="846"/>
                  </a:lnTo>
                  <a:lnTo>
                    <a:pt x="726" y="812"/>
                  </a:lnTo>
                  <a:lnTo>
                    <a:pt x="728" y="778"/>
                  </a:lnTo>
                  <a:lnTo>
                    <a:pt x="729" y="751"/>
                  </a:lnTo>
                  <a:lnTo>
                    <a:pt x="731" y="742"/>
                  </a:lnTo>
                  <a:lnTo>
                    <a:pt x="732" y="738"/>
                  </a:lnTo>
                  <a:lnTo>
                    <a:pt x="734" y="728"/>
                  </a:lnTo>
                  <a:lnTo>
                    <a:pt x="737" y="702"/>
                  </a:lnTo>
                  <a:lnTo>
                    <a:pt x="739" y="668"/>
                  </a:lnTo>
                  <a:lnTo>
                    <a:pt x="740" y="643"/>
                  </a:lnTo>
                  <a:lnTo>
                    <a:pt x="742" y="636"/>
                  </a:lnTo>
                  <a:lnTo>
                    <a:pt x="743" y="625"/>
                  </a:lnTo>
                  <a:lnTo>
                    <a:pt x="745" y="609"/>
                  </a:lnTo>
                  <a:lnTo>
                    <a:pt x="748" y="600"/>
                  </a:lnTo>
                  <a:lnTo>
                    <a:pt x="749" y="605"/>
                  </a:lnTo>
                  <a:lnTo>
                    <a:pt x="751" y="611"/>
                  </a:lnTo>
                  <a:lnTo>
                    <a:pt x="752" y="611"/>
                  </a:lnTo>
                  <a:lnTo>
                    <a:pt x="754" y="614"/>
                  </a:lnTo>
                  <a:lnTo>
                    <a:pt x="755" y="623"/>
                  </a:lnTo>
                  <a:lnTo>
                    <a:pt x="759" y="631"/>
                  </a:lnTo>
                  <a:lnTo>
                    <a:pt x="760" y="639"/>
                  </a:lnTo>
                  <a:lnTo>
                    <a:pt x="762" y="640"/>
                  </a:lnTo>
                  <a:lnTo>
                    <a:pt x="763" y="629"/>
                  </a:lnTo>
                  <a:lnTo>
                    <a:pt x="765" y="628"/>
                  </a:lnTo>
                  <a:lnTo>
                    <a:pt x="766" y="652"/>
                  </a:lnTo>
                  <a:lnTo>
                    <a:pt x="769" y="680"/>
                  </a:lnTo>
                  <a:lnTo>
                    <a:pt x="771" y="679"/>
                  </a:lnTo>
                  <a:lnTo>
                    <a:pt x="772" y="646"/>
                  </a:lnTo>
                  <a:lnTo>
                    <a:pt x="774" y="606"/>
                  </a:lnTo>
                  <a:lnTo>
                    <a:pt x="775" y="573"/>
                  </a:lnTo>
                  <a:lnTo>
                    <a:pt x="777" y="543"/>
                  </a:lnTo>
                  <a:lnTo>
                    <a:pt x="780" y="513"/>
                  </a:lnTo>
                  <a:lnTo>
                    <a:pt x="782" y="476"/>
                  </a:lnTo>
                  <a:lnTo>
                    <a:pt x="783" y="436"/>
                  </a:lnTo>
                  <a:lnTo>
                    <a:pt x="785" y="407"/>
                  </a:lnTo>
                  <a:lnTo>
                    <a:pt x="786" y="398"/>
                  </a:lnTo>
                  <a:lnTo>
                    <a:pt x="788" y="404"/>
                  </a:lnTo>
                  <a:lnTo>
                    <a:pt x="789" y="419"/>
                  </a:lnTo>
                  <a:lnTo>
                    <a:pt x="792" y="433"/>
                  </a:lnTo>
                  <a:lnTo>
                    <a:pt x="794" y="442"/>
                  </a:lnTo>
                  <a:lnTo>
                    <a:pt x="795" y="451"/>
                  </a:lnTo>
                  <a:lnTo>
                    <a:pt x="797" y="464"/>
                  </a:lnTo>
                  <a:lnTo>
                    <a:pt x="799" y="470"/>
                  </a:lnTo>
                  <a:lnTo>
                    <a:pt x="800" y="470"/>
                  </a:lnTo>
                  <a:lnTo>
                    <a:pt x="803" y="473"/>
                  </a:lnTo>
                  <a:lnTo>
                    <a:pt x="805" y="488"/>
                  </a:lnTo>
                  <a:lnTo>
                    <a:pt x="806" y="511"/>
                  </a:lnTo>
                  <a:lnTo>
                    <a:pt x="808" y="539"/>
                  </a:lnTo>
                  <a:lnTo>
                    <a:pt x="809" y="576"/>
                  </a:lnTo>
                  <a:lnTo>
                    <a:pt x="811" y="632"/>
                  </a:lnTo>
                  <a:lnTo>
                    <a:pt x="814" y="708"/>
                  </a:lnTo>
                  <a:lnTo>
                    <a:pt x="815" y="791"/>
                  </a:lnTo>
                  <a:lnTo>
                    <a:pt x="817" y="874"/>
                  </a:lnTo>
                  <a:lnTo>
                    <a:pt x="818" y="960"/>
                  </a:lnTo>
                  <a:lnTo>
                    <a:pt x="820" y="1052"/>
                  </a:lnTo>
                  <a:lnTo>
                    <a:pt x="822" y="1129"/>
                  </a:lnTo>
                  <a:lnTo>
                    <a:pt x="825" y="1187"/>
                  </a:lnTo>
                  <a:lnTo>
                    <a:pt x="826" y="1245"/>
                  </a:lnTo>
                  <a:lnTo>
                    <a:pt x="828" y="1311"/>
                  </a:lnTo>
                  <a:lnTo>
                    <a:pt x="829" y="1367"/>
                  </a:lnTo>
                  <a:lnTo>
                    <a:pt x="831" y="1403"/>
                  </a:lnTo>
                  <a:lnTo>
                    <a:pt x="832" y="1430"/>
                  </a:lnTo>
                  <a:lnTo>
                    <a:pt x="835" y="1451"/>
                  </a:lnTo>
                  <a:lnTo>
                    <a:pt x="837" y="1463"/>
                  </a:lnTo>
                  <a:lnTo>
                    <a:pt x="838" y="1480"/>
                  </a:lnTo>
                  <a:lnTo>
                    <a:pt x="840" y="1508"/>
                  </a:lnTo>
                  <a:lnTo>
                    <a:pt x="842" y="1562"/>
                  </a:lnTo>
                  <a:lnTo>
                    <a:pt x="843" y="1611"/>
                  </a:lnTo>
                  <a:lnTo>
                    <a:pt x="846" y="1643"/>
                  </a:lnTo>
                  <a:lnTo>
                    <a:pt x="848" y="1677"/>
                  </a:lnTo>
                  <a:lnTo>
                    <a:pt x="849" y="1677"/>
                  </a:lnTo>
                  <a:lnTo>
                    <a:pt x="851" y="1677"/>
                  </a:lnTo>
                  <a:lnTo>
                    <a:pt x="852" y="1677"/>
                  </a:lnTo>
                  <a:lnTo>
                    <a:pt x="854" y="1677"/>
                  </a:lnTo>
                  <a:lnTo>
                    <a:pt x="857" y="1677"/>
                  </a:lnTo>
                  <a:lnTo>
                    <a:pt x="858" y="1677"/>
                  </a:lnTo>
                  <a:lnTo>
                    <a:pt x="860" y="1677"/>
                  </a:lnTo>
                  <a:lnTo>
                    <a:pt x="861" y="1677"/>
                  </a:lnTo>
                  <a:lnTo>
                    <a:pt x="863" y="1677"/>
                  </a:lnTo>
                  <a:lnTo>
                    <a:pt x="865" y="1677"/>
                  </a:lnTo>
                  <a:lnTo>
                    <a:pt x="868" y="1677"/>
                  </a:lnTo>
                  <a:lnTo>
                    <a:pt x="869" y="1677"/>
                  </a:lnTo>
                  <a:lnTo>
                    <a:pt x="871" y="1677"/>
                  </a:lnTo>
                  <a:lnTo>
                    <a:pt x="872" y="1677"/>
                  </a:lnTo>
                  <a:lnTo>
                    <a:pt x="874" y="1677"/>
                  </a:lnTo>
                  <a:lnTo>
                    <a:pt x="875" y="1677"/>
                  </a:lnTo>
                  <a:lnTo>
                    <a:pt x="878" y="1677"/>
                  </a:lnTo>
                  <a:lnTo>
                    <a:pt x="880" y="1677"/>
                  </a:lnTo>
                  <a:lnTo>
                    <a:pt x="881" y="1677"/>
                  </a:lnTo>
                  <a:lnTo>
                    <a:pt x="883" y="1677"/>
                  </a:lnTo>
                  <a:lnTo>
                    <a:pt x="885" y="1677"/>
                  </a:lnTo>
                  <a:lnTo>
                    <a:pt x="886" y="1677"/>
                  </a:lnTo>
                  <a:lnTo>
                    <a:pt x="889" y="1677"/>
                  </a:lnTo>
                  <a:lnTo>
                    <a:pt x="891" y="1677"/>
                  </a:lnTo>
                  <a:lnTo>
                    <a:pt x="892" y="1677"/>
                  </a:lnTo>
                  <a:lnTo>
                    <a:pt x="894" y="1677"/>
                  </a:lnTo>
                  <a:lnTo>
                    <a:pt x="895" y="1677"/>
                  </a:lnTo>
                  <a:lnTo>
                    <a:pt x="897" y="1677"/>
                  </a:lnTo>
                  <a:lnTo>
                    <a:pt x="898" y="1677"/>
                  </a:lnTo>
                  <a:lnTo>
                    <a:pt x="901" y="1677"/>
                  </a:lnTo>
                  <a:lnTo>
                    <a:pt x="903" y="1677"/>
                  </a:lnTo>
                  <a:lnTo>
                    <a:pt x="905" y="1677"/>
                  </a:lnTo>
                  <a:lnTo>
                    <a:pt x="906" y="1677"/>
                  </a:lnTo>
                  <a:lnTo>
                    <a:pt x="908" y="1677"/>
                  </a:lnTo>
                  <a:lnTo>
                    <a:pt x="909" y="1677"/>
                  </a:lnTo>
                  <a:lnTo>
                    <a:pt x="912" y="1677"/>
                  </a:lnTo>
                  <a:lnTo>
                    <a:pt x="914" y="1677"/>
                  </a:lnTo>
                  <a:lnTo>
                    <a:pt x="915" y="1677"/>
                  </a:lnTo>
                  <a:lnTo>
                    <a:pt x="917" y="1677"/>
                  </a:lnTo>
                  <a:lnTo>
                    <a:pt x="918" y="1677"/>
                  </a:lnTo>
                  <a:lnTo>
                    <a:pt x="920" y="1677"/>
                  </a:lnTo>
                  <a:lnTo>
                    <a:pt x="923" y="1677"/>
                  </a:lnTo>
                  <a:lnTo>
                    <a:pt x="924" y="1677"/>
                  </a:lnTo>
                  <a:lnTo>
                    <a:pt x="926" y="1677"/>
                  </a:lnTo>
                  <a:lnTo>
                    <a:pt x="928" y="1677"/>
                  </a:lnTo>
                  <a:lnTo>
                    <a:pt x="929" y="1677"/>
                  </a:lnTo>
                  <a:lnTo>
                    <a:pt x="931" y="1588"/>
                  </a:lnTo>
                  <a:lnTo>
                    <a:pt x="934" y="1437"/>
                  </a:lnTo>
                  <a:lnTo>
                    <a:pt x="935" y="1308"/>
                  </a:lnTo>
                  <a:lnTo>
                    <a:pt x="937" y="1224"/>
                  </a:lnTo>
                  <a:lnTo>
                    <a:pt x="938" y="1145"/>
                  </a:lnTo>
                  <a:lnTo>
                    <a:pt x="940" y="1059"/>
                  </a:lnTo>
                  <a:lnTo>
                    <a:pt x="941" y="981"/>
                  </a:lnTo>
                  <a:lnTo>
                    <a:pt x="944" y="917"/>
                  </a:lnTo>
                  <a:lnTo>
                    <a:pt x="946" y="874"/>
                  </a:lnTo>
                  <a:lnTo>
                    <a:pt x="948" y="857"/>
                  </a:lnTo>
                  <a:lnTo>
                    <a:pt x="949" y="851"/>
                  </a:lnTo>
                  <a:lnTo>
                    <a:pt x="951" y="849"/>
                  </a:lnTo>
                  <a:lnTo>
                    <a:pt x="952" y="866"/>
                  </a:lnTo>
                  <a:lnTo>
                    <a:pt x="955" y="891"/>
                  </a:lnTo>
                  <a:lnTo>
                    <a:pt x="957" y="897"/>
                  </a:lnTo>
                  <a:lnTo>
                    <a:pt x="958" y="909"/>
                  </a:lnTo>
                  <a:lnTo>
                    <a:pt x="960" y="929"/>
                  </a:lnTo>
                  <a:lnTo>
                    <a:pt x="961" y="957"/>
                  </a:lnTo>
                  <a:lnTo>
                    <a:pt x="963" y="987"/>
                  </a:lnTo>
                  <a:lnTo>
                    <a:pt x="966" y="1012"/>
                  </a:lnTo>
                  <a:lnTo>
                    <a:pt x="968" y="1024"/>
                  </a:lnTo>
                  <a:lnTo>
                    <a:pt x="969" y="1020"/>
                  </a:lnTo>
                  <a:lnTo>
                    <a:pt x="971" y="992"/>
                  </a:lnTo>
                  <a:lnTo>
                    <a:pt x="972" y="946"/>
                  </a:lnTo>
                  <a:lnTo>
                    <a:pt x="974" y="901"/>
                  </a:lnTo>
                  <a:lnTo>
                    <a:pt x="977" y="875"/>
                  </a:lnTo>
                  <a:lnTo>
                    <a:pt x="978" y="866"/>
                  </a:lnTo>
                  <a:lnTo>
                    <a:pt x="980" y="872"/>
                  </a:lnTo>
                  <a:lnTo>
                    <a:pt x="981" y="892"/>
                  </a:lnTo>
                  <a:lnTo>
                    <a:pt x="983" y="917"/>
                  </a:lnTo>
                  <a:lnTo>
                    <a:pt x="984" y="953"/>
                  </a:lnTo>
                  <a:lnTo>
                    <a:pt x="987" y="1026"/>
                  </a:lnTo>
                  <a:lnTo>
                    <a:pt x="989" y="1113"/>
                  </a:lnTo>
                  <a:lnTo>
                    <a:pt x="991" y="1185"/>
                  </a:lnTo>
                  <a:lnTo>
                    <a:pt x="992" y="1233"/>
                  </a:lnTo>
                  <a:lnTo>
                    <a:pt x="994" y="1262"/>
                  </a:lnTo>
                  <a:lnTo>
                    <a:pt x="995" y="1254"/>
                  </a:lnTo>
                  <a:lnTo>
                    <a:pt x="998" y="1202"/>
                  </a:lnTo>
                  <a:lnTo>
                    <a:pt x="1000" y="1124"/>
                  </a:lnTo>
                  <a:lnTo>
                    <a:pt x="1001" y="1038"/>
                  </a:lnTo>
                  <a:lnTo>
                    <a:pt x="1003" y="947"/>
                  </a:lnTo>
                  <a:lnTo>
                    <a:pt x="1004" y="860"/>
                  </a:lnTo>
                  <a:lnTo>
                    <a:pt x="1006" y="788"/>
                  </a:lnTo>
                  <a:lnTo>
                    <a:pt x="1007" y="732"/>
                  </a:lnTo>
                  <a:lnTo>
                    <a:pt x="1011" y="697"/>
                  </a:lnTo>
                  <a:lnTo>
                    <a:pt x="1012" y="685"/>
                  </a:lnTo>
                  <a:lnTo>
                    <a:pt x="1014" y="691"/>
                  </a:lnTo>
                  <a:lnTo>
                    <a:pt x="1015" y="702"/>
                  </a:lnTo>
                  <a:lnTo>
                    <a:pt x="1017" y="717"/>
                  </a:lnTo>
                  <a:lnTo>
                    <a:pt x="1018" y="742"/>
                  </a:lnTo>
                  <a:lnTo>
                    <a:pt x="1021" y="772"/>
                  </a:lnTo>
                  <a:lnTo>
                    <a:pt x="1023" y="806"/>
                  </a:lnTo>
                  <a:lnTo>
                    <a:pt x="1024" y="838"/>
                  </a:lnTo>
                  <a:lnTo>
                    <a:pt x="1026" y="867"/>
                  </a:lnTo>
                  <a:lnTo>
                    <a:pt x="1027" y="892"/>
                  </a:lnTo>
                  <a:lnTo>
                    <a:pt x="1029" y="915"/>
                  </a:lnTo>
                  <a:lnTo>
                    <a:pt x="1032" y="938"/>
                  </a:lnTo>
                  <a:lnTo>
                    <a:pt x="1034" y="950"/>
                  </a:lnTo>
                  <a:lnTo>
                    <a:pt x="1035" y="940"/>
                  </a:lnTo>
                  <a:lnTo>
                    <a:pt x="1037" y="897"/>
                  </a:lnTo>
                  <a:lnTo>
                    <a:pt x="1038" y="837"/>
                  </a:lnTo>
                  <a:lnTo>
                    <a:pt x="1040" y="785"/>
                  </a:lnTo>
                  <a:lnTo>
                    <a:pt x="1043" y="742"/>
                  </a:lnTo>
                  <a:lnTo>
                    <a:pt x="1044" y="699"/>
                  </a:lnTo>
                  <a:lnTo>
                    <a:pt x="1046" y="663"/>
                  </a:lnTo>
                  <a:lnTo>
                    <a:pt x="1047" y="640"/>
                  </a:lnTo>
                  <a:lnTo>
                    <a:pt x="1049" y="609"/>
                  </a:lnTo>
                  <a:lnTo>
                    <a:pt x="1050" y="566"/>
                  </a:lnTo>
                  <a:lnTo>
                    <a:pt x="1054" y="534"/>
                  </a:lnTo>
                  <a:lnTo>
                    <a:pt x="1055" y="514"/>
                  </a:lnTo>
                  <a:lnTo>
                    <a:pt x="1057" y="494"/>
                  </a:lnTo>
                  <a:lnTo>
                    <a:pt x="1058" y="474"/>
                  </a:lnTo>
                  <a:lnTo>
                    <a:pt x="1060" y="459"/>
                  </a:lnTo>
                  <a:lnTo>
                    <a:pt x="1061" y="444"/>
                  </a:lnTo>
                  <a:lnTo>
                    <a:pt x="1064" y="427"/>
                  </a:lnTo>
                  <a:lnTo>
                    <a:pt x="1066" y="413"/>
                  </a:lnTo>
                  <a:lnTo>
                    <a:pt x="1067" y="393"/>
                  </a:lnTo>
                  <a:lnTo>
                    <a:pt x="1069" y="365"/>
                  </a:lnTo>
                  <a:lnTo>
                    <a:pt x="1070" y="344"/>
                  </a:lnTo>
                  <a:lnTo>
                    <a:pt x="1072" y="328"/>
                  </a:lnTo>
                  <a:lnTo>
                    <a:pt x="1075" y="308"/>
                  </a:lnTo>
                  <a:lnTo>
                    <a:pt x="1077" y="287"/>
                  </a:lnTo>
                  <a:lnTo>
                    <a:pt x="1078" y="276"/>
                  </a:lnTo>
                  <a:lnTo>
                    <a:pt x="1080" y="269"/>
                  </a:lnTo>
                  <a:lnTo>
                    <a:pt x="1081" y="256"/>
                  </a:lnTo>
                  <a:lnTo>
                    <a:pt x="1083" y="249"/>
                  </a:lnTo>
                  <a:lnTo>
                    <a:pt x="1086" y="247"/>
                  </a:lnTo>
                  <a:lnTo>
                    <a:pt x="1087" y="247"/>
                  </a:lnTo>
                  <a:lnTo>
                    <a:pt x="1089" y="249"/>
                  </a:lnTo>
                  <a:lnTo>
                    <a:pt x="1090" y="259"/>
                  </a:lnTo>
                  <a:lnTo>
                    <a:pt x="1092" y="278"/>
                  </a:lnTo>
                  <a:lnTo>
                    <a:pt x="1093" y="313"/>
                  </a:lnTo>
                  <a:lnTo>
                    <a:pt x="1097" y="365"/>
                  </a:lnTo>
                  <a:lnTo>
                    <a:pt x="1098" y="422"/>
                  </a:lnTo>
                  <a:lnTo>
                    <a:pt x="1100" y="482"/>
                  </a:lnTo>
                  <a:lnTo>
                    <a:pt x="1101" y="577"/>
                  </a:lnTo>
                  <a:lnTo>
                    <a:pt x="1103" y="691"/>
                  </a:lnTo>
                  <a:lnTo>
                    <a:pt x="1104" y="803"/>
                  </a:lnTo>
                  <a:lnTo>
                    <a:pt x="1107" y="880"/>
                  </a:lnTo>
                  <a:lnTo>
                    <a:pt x="1109" y="989"/>
                  </a:lnTo>
                  <a:lnTo>
                    <a:pt x="1110" y="1162"/>
                  </a:lnTo>
                  <a:lnTo>
                    <a:pt x="1112" y="1313"/>
                  </a:lnTo>
                  <a:lnTo>
                    <a:pt x="1113" y="1387"/>
                  </a:lnTo>
                  <a:lnTo>
                    <a:pt x="1115" y="1437"/>
                  </a:lnTo>
                  <a:lnTo>
                    <a:pt x="1118" y="1514"/>
                  </a:lnTo>
                  <a:lnTo>
                    <a:pt x="1120" y="1594"/>
                  </a:lnTo>
                  <a:lnTo>
                    <a:pt x="1121" y="1646"/>
                  </a:lnTo>
                  <a:lnTo>
                    <a:pt x="1123" y="1677"/>
                  </a:lnTo>
                  <a:lnTo>
                    <a:pt x="1124" y="1677"/>
                  </a:lnTo>
                  <a:lnTo>
                    <a:pt x="1126" y="1677"/>
                  </a:lnTo>
                  <a:lnTo>
                    <a:pt x="1127" y="1677"/>
                  </a:lnTo>
                  <a:lnTo>
                    <a:pt x="1130" y="1677"/>
                  </a:lnTo>
                  <a:lnTo>
                    <a:pt x="1132" y="1677"/>
                  </a:lnTo>
                  <a:lnTo>
                    <a:pt x="1133" y="1677"/>
                  </a:lnTo>
                  <a:lnTo>
                    <a:pt x="1135" y="1677"/>
                  </a:lnTo>
                  <a:lnTo>
                    <a:pt x="1137" y="1677"/>
                  </a:lnTo>
                  <a:lnTo>
                    <a:pt x="1138" y="1677"/>
                  </a:lnTo>
                  <a:lnTo>
                    <a:pt x="1141" y="1677"/>
                  </a:lnTo>
                  <a:lnTo>
                    <a:pt x="1143" y="1677"/>
                  </a:lnTo>
                  <a:lnTo>
                    <a:pt x="1144" y="1677"/>
                  </a:lnTo>
                  <a:lnTo>
                    <a:pt x="1146" y="1677"/>
                  </a:lnTo>
                  <a:lnTo>
                    <a:pt x="1147" y="1677"/>
                  </a:lnTo>
                  <a:lnTo>
                    <a:pt x="1149" y="1677"/>
                  </a:lnTo>
                  <a:lnTo>
                    <a:pt x="1152" y="1677"/>
                  </a:lnTo>
                  <a:lnTo>
                    <a:pt x="1153" y="1677"/>
                  </a:lnTo>
                  <a:lnTo>
                    <a:pt x="1155" y="1677"/>
                  </a:lnTo>
                  <a:lnTo>
                    <a:pt x="1156" y="1677"/>
                  </a:lnTo>
                  <a:lnTo>
                    <a:pt x="1158" y="1677"/>
                  </a:lnTo>
                  <a:lnTo>
                    <a:pt x="1160" y="1677"/>
                  </a:lnTo>
                  <a:lnTo>
                    <a:pt x="1163" y="1677"/>
                  </a:lnTo>
                  <a:lnTo>
                    <a:pt x="1164" y="1677"/>
                  </a:lnTo>
                  <a:lnTo>
                    <a:pt x="1166" y="1677"/>
                  </a:lnTo>
                  <a:lnTo>
                    <a:pt x="1167" y="1677"/>
                  </a:lnTo>
                  <a:lnTo>
                    <a:pt x="1169" y="1677"/>
                  </a:lnTo>
                  <a:lnTo>
                    <a:pt x="1170" y="1677"/>
                  </a:lnTo>
                  <a:lnTo>
                    <a:pt x="1173" y="1677"/>
                  </a:lnTo>
                  <a:lnTo>
                    <a:pt x="1175" y="1677"/>
                  </a:lnTo>
                  <a:lnTo>
                    <a:pt x="1176" y="1677"/>
                  </a:lnTo>
                  <a:lnTo>
                    <a:pt x="1178" y="1677"/>
                  </a:lnTo>
                  <a:lnTo>
                    <a:pt x="1180" y="1575"/>
                  </a:lnTo>
                  <a:lnTo>
                    <a:pt x="1181" y="1430"/>
                  </a:lnTo>
                  <a:lnTo>
                    <a:pt x="1184" y="1313"/>
                  </a:lnTo>
                  <a:lnTo>
                    <a:pt x="1186" y="1285"/>
                  </a:lnTo>
                  <a:lnTo>
                    <a:pt x="1187" y="1264"/>
                  </a:lnTo>
                  <a:lnTo>
                    <a:pt x="1189" y="1164"/>
                  </a:lnTo>
                  <a:lnTo>
                    <a:pt x="1190" y="1030"/>
                  </a:lnTo>
                  <a:lnTo>
                    <a:pt x="1192" y="961"/>
                  </a:lnTo>
                  <a:lnTo>
                    <a:pt x="1195" y="953"/>
                  </a:lnTo>
                  <a:lnTo>
                    <a:pt x="1196" y="944"/>
                  </a:lnTo>
                  <a:lnTo>
                    <a:pt x="1198" y="910"/>
                  </a:lnTo>
                  <a:lnTo>
                    <a:pt x="1199" y="858"/>
                  </a:lnTo>
                  <a:lnTo>
                    <a:pt x="1201" y="795"/>
                  </a:lnTo>
                  <a:lnTo>
                    <a:pt x="1203" y="732"/>
                  </a:lnTo>
                  <a:lnTo>
                    <a:pt x="1206" y="702"/>
                  </a:lnTo>
                  <a:lnTo>
                    <a:pt x="1207" y="695"/>
                  </a:lnTo>
                  <a:lnTo>
                    <a:pt x="1209" y="700"/>
                  </a:lnTo>
                  <a:lnTo>
                    <a:pt x="1210" y="722"/>
                  </a:lnTo>
                  <a:lnTo>
                    <a:pt x="1212" y="755"/>
                  </a:lnTo>
                  <a:lnTo>
                    <a:pt x="1213" y="777"/>
                  </a:lnTo>
                  <a:lnTo>
                    <a:pt x="1216" y="777"/>
                  </a:lnTo>
                  <a:lnTo>
                    <a:pt x="1218" y="774"/>
                  </a:lnTo>
                  <a:lnTo>
                    <a:pt x="1219" y="783"/>
                  </a:lnTo>
                  <a:lnTo>
                    <a:pt x="1221" y="788"/>
                  </a:lnTo>
                  <a:lnTo>
                    <a:pt x="1223" y="774"/>
                  </a:lnTo>
                  <a:lnTo>
                    <a:pt x="1224" y="743"/>
                  </a:lnTo>
                  <a:lnTo>
                    <a:pt x="1227" y="697"/>
                  </a:lnTo>
                  <a:lnTo>
                    <a:pt x="1229" y="637"/>
                  </a:lnTo>
                  <a:lnTo>
                    <a:pt x="1230" y="573"/>
                  </a:lnTo>
                  <a:lnTo>
                    <a:pt x="1232" y="517"/>
                  </a:lnTo>
                  <a:lnTo>
                    <a:pt x="1233" y="474"/>
                  </a:lnTo>
                  <a:lnTo>
                    <a:pt x="1235" y="447"/>
                  </a:lnTo>
                  <a:lnTo>
                    <a:pt x="1236" y="428"/>
                  </a:lnTo>
                  <a:lnTo>
                    <a:pt x="1239" y="419"/>
                  </a:lnTo>
                  <a:lnTo>
                    <a:pt x="1241" y="419"/>
                  </a:lnTo>
                  <a:lnTo>
                    <a:pt x="1243" y="436"/>
                  </a:lnTo>
                  <a:lnTo>
                    <a:pt x="1244" y="465"/>
                  </a:lnTo>
                  <a:lnTo>
                    <a:pt x="1246" y="490"/>
                  </a:lnTo>
                  <a:lnTo>
                    <a:pt x="1247" y="505"/>
                  </a:lnTo>
                  <a:lnTo>
                    <a:pt x="1250" y="508"/>
                  </a:lnTo>
                </a:path>
              </a:pathLst>
            </a:custGeom>
            <a:noFill/>
            <a:ln w="3240">
              <a:solidFill>
                <a:srgbClr val="0000ff"/>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30" name=""/>
            <p:cNvSpPr/>
            <p:nvPr/>
          </p:nvSpPr>
          <p:spPr>
            <a:xfrm>
              <a:off x="1936440" y="4844880"/>
              <a:ext cx="475920" cy="404640"/>
            </a:xfrm>
            <a:custGeom>
              <a:avLst/>
              <a:gdLst/>
              <a:ahLst/>
              <a:rect l="l" t="t" r="r" b="b"/>
              <a:pathLst>
                <a:path w="1249" h="1413">
                  <a:moveTo>
                    <a:pt x="0" y="244"/>
                  </a:moveTo>
                  <a:lnTo>
                    <a:pt x="2" y="233"/>
                  </a:lnTo>
                  <a:lnTo>
                    <a:pt x="3" y="215"/>
                  </a:lnTo>
                  <a:lnTo>
                    <a:pt x="5" y="207"/>
                  </a:lnTo>
                  <a:lnTo>
                    <a:pt x="6" y="221"/>
                  </a:lnTo>
                  <a:lnTo>
                    <a:pt x="8" y="261"/>
                  </a:lnTo>
                  <a:lnTo>
                    <a:pt x="11" y="319"/>
                  </a:lnTo>
                  <a:lnTo>
                    <a:pt x="12" y="387"/>
                  </a:lnTo>
                  <a:lnTo>
                    <a:pt x="14" y="456"/>
                  </a:lnTo>
                  <a:lnTo>
                    <a:pt x="16" y="528"/>
                  </a:lnTo>
                  <a:lnTo>
                    <a:pt x="17" y="597"/>
                  </a:lnTo>
                  <a:lnTo>
                    <a:pt x="19" y="654"/>
                  </a:lnTo>
                  <a:lnTo>
                    <a:pt x="22" y="702"/>
                  </a:lnTo>
                  <a:lnTo>
                    <a:pt x="23" y="757"/>
                  </a:lnTo>
                  <a:lnTo>
                    <a:pt x="25" y="806"/>
                  </a:lnTo>
                  <a:lnTo>
                    <a:pt x="26" y="842"/>
                  </a:lnTo>
                  <a:lnTo>
                    <a:pt x="28" y="872"/>
                  </a:lnTo>
                  <a:lnTo>
                    <a:pt x="29" y="903"/>
                  </a:lnTo>
                  <a:lnTo>
                    <a:pt x="32" y="912"/>
                  </a:lnTo>
                  <a:lnTo>
                    <a:pt x="34" y="895"/>
                  </a:lnTo>
                  <a:lnTo>
                    <a:pt x="36" y="874"/>
                  </a:lnTo>
                  <a:lnTo>
                    <a:pt x="37" y="861"/>
                  </a:lnTo>
                  <a:lnTo>
                    <a:pt x="39" y="855"/>
                  </a:lnTo>
                  <a:lnTo>
                    <a:pt x="40" y="855"/>
                  </a:lnTo>
                  <a:lnTo>
                    <a:pt x="43" y="869"/>
                  </a:lnTo>
                  <a:lnTo>
                    <a:pt x="45" y="906"/>
                  </a:lnTo>
                  <a:lnTo>
                    <a:pt x="46" y="974"/>
                  </a:lnTo>
                  <a:lnTo>
                    <a:pt x="48" y="1061"/>
                  </a:lnTo>
                  <a:lnTo>
                    <a:pt x="49" y="1136"/>
                  </a:lnTo>
                  <a:lnTo>
                    <a:pt x="51" y="1187"/>
                  </a:lnTo>
                  <a:lnTo>
                    <a:pt x="54" y="1230"/>
                  </a:lnTo>
                  <a:lnTo>
                    <a:pt x="56" y="1298"/>
                  </a:lnTo>
                  <a:lnTo>
                    <a:pt x="57" y="1358"/>
                  </a:lnTo>
                  <a:lnTo>
                    <a:pt x="59" y="1413"/>
                  </a:lnTo>
                  <a:lnTo>
                    <a:pt x="60" y="1413"/>
                  </a:lnTo>
                  <a:lnTo>
                    <a:pt x="62" y="1413"/>
                  </a:lnTo>
                  <a:lnTo>
                    <a:pt x="65" y="1413"/>
                  </a:lnTo>
                  <a:lnTo>
                    <a:pt x="66" y="1413"/>
                  </a:lnTo>
                  <a:lnTo>
                    <a:pt x="68" y="1413"/>
                  </a:lnTo>
                  <a:lnTo>
                    <a:pt x="69" y="1413"/>
                  </a:lnTo>
                  <a:lnTo>
                    <a:pt x="71" y="1413"/>
                  </a:lnTo>
                  <a:lnTo>
                    <a:pt x="72" y="1413"/>
                  </a:lnTo>
                  <a:lnTo>
                    <a:pt x="75" y="1413"/>
                  </a:lnTo>
                  <a:lnTo>
                    <a:pt x="77" y="1413"/>
                  </a:lnTo>
                  <a:lnTo>
                    <a:pt x="79" y="1413"/>
                  </a:lnTo>
                  <a:lnTo>
                    <a:pt x="80" y="1413"/>
                  </a:lnTo>
                  <a:lnTo>
                    <a:pt x="82" y="1413"/>
                  </a:lnTo>
                  <a:lnTo>
                    <a:pt x="83" y="1413"/>
                  </a:lnTo>
                  <a:lnTo>
                    <a:pt x="86" y="1413"/>
                  </a:lnTo>
                  <a:lnTo>
                    <a:pt x="88" y="1413"/>
                  </a:lnTo>
                  <a:lnTo>
                    <a:pt x="89" y="1413"/>
                  </a:lnTo>
                  <a:lnTo>
                    <a:pt x="91" y="1385"/>
                  </a:lnTo>
                  <a:lnTo>
                    <a:pt x="92" y="1264"/>
                  </a:lnTo>
                  <a:lnTo>
                    <a:pt x="94" y="1164"/>
                  </a:lnTo>
                  <a:lnTo>
                    <a:pt x="95" y="1064"/>
                  </a:lnTo>
                  <a:lnTo>
                    <a:pt x="99" y="981"/>
                  </a:lnTo>
                  <a:lnTo>
                    <a:pt x="100" y="929"/>
                  </a:lnTo>
                  <a:lnTo>
                    <a:pt x="102" y="889"/>
                  </a:lnTo>
                  <a:lnTo>
                    <a:pt x="103" y="828"/>
                  </a:lnTo>
                  <a:lnTo>
                    <a:pt x="105" y="748"/>
                  </a:lnTo>
                  <a:lnTo>
                    <a:pt x="106" y="668"/>
                  </a:lnTo>
                  <a:lnTo>
                    <a:pt x="109" y="588"/>
                  </a:lnTo>
                  <a:lnTo>
                    <a:pt x="111" y="519"/>
                  </a:lnTo>
                  <a:lnTo>
                    <a:pt x="112" y="467"/>
                  </a:lnTo>
                  <a:lnTo>
                    <a:pt x="114" y="416"/>
                  </a:lnTo>
                  <a:lnTo>
                    <a:pt x="115" y="355"/>
                  </a:lnTo>
                  <a:lnTo>
                    <a:pt x="117" y="304"/>
                  </a:lnTo>
                  <a:lnTo>
                    <a:pt x="120" y="284"/>
                  </a:lnTo>
                  <a:lnTo>
                    <a:pt x="122" y="267"/>
                  </a:lnTo>
                  <a:lnTo>
                    <a:pt x="123" y="235"/>
                  </a:lnTo>
                  <a:lnTo>
                    <a:pt x="125" y="203"/>
                  </a:lnTo>
                  <a:lnTo>
                    <a:pt x="126" y="195"/>
                  </a:lnTo>
                  <a:lnTo>
                    <a:pt x="128" y="198"/>
                  </a:lnTo>
                  <a:lnTo>
                    <a:pt x="131" y="192"/>
                  </a:lnTo>
                  <a:lnTo>
                    <a:pt x="132" y="175"/>
                  </a:lnTo>
                  <a:lnTo>
                    <a:pt x="134" y="161"/>
                  </a:lnTo>
                  <a:lnTo>
                    <a:pt x="135" y="147"/>
                  </a:lnTo>
                  <a:lnTo>
                    <a:pt x="137" y="132"/>
                  </a:lnTo>
                  <a:lnTo>
                    <a:pt x="138" y="120"/>
                  </a:lnTo>
                  <a:lnTo>
                    <a:pt x="142" y="109"/>
                  </a:lnTo>
                  <a:lnTo>
                    <a:pt x="143" y="94"/>
                  </a:lnTo>
                  <a:lnTo>
                    <a:pt x="145" y="72"/>
                  </a:lnTo>
                  <a:lnTo>
                    <a:pt x="146" y="52"/>
                  </a:lnTo>
                  <a:lnTo>
                    <a:pt x="148" y="34"/>
                  </a:lnTo>
                  <a:lnTo>
                    <a:pt x="149" y="18"/>
                  </a:lnTo>
                  <a:lnTo>
                    <a:pt x="152" y="9"/>
                  </a:lnTo>
                  <a:lnTo>
                    <a:pt x="154" y="3"/>
                  </a:lnTo>
                  <a:lnTo>
                    <a:pt x="155" y="0"/>
                  </a:lnTo>
                  <a:lnTo>
                    <a:pt x="157" y="3"/>
                  </a:lnTo>
                  <a:lnTo>
                    <a:pt x="158" y="17"/>
                  </a:lnTo>
                  <a:lnTo>
                    <a:pt x="160" y="37"/>
                  </a:lnTo>
                  <a:lnTo>
                    <a:pt x="163" y="51"/>
                  </a:lnTo>
                  <a:lnTo>
                    <a:pt x="165" y="58"/>
                  </a:lnTo>
                  <a:lnTo>
                    <a:pt x="166" y="74"/>
                  </a:lnTo>
                  <a:lnTo>
                    <a:pt x="168" y="100"/>
                  </a:lnTo>
                  <a:lnTo>
                    <a:pt x="169" y="138"/>
                  </a:lnTo>
                  <a:lnTo>
                    <a:pt x="171" y="192"/>
                  </a:lnTo>
                  <a:lnTo>
                    <a:pt x="174" y="256"/>
                  </a:lnTo>
                  <a:lnTo>
                    <a:pt x="175" y="321"/>
                  </a:lnTo>
                  <a:lnTo>
                    <a:pt x="177" y="376"/>
                  </a:lnTo>
                  <a:lnTo>
                    <a:pt x="178" y="408"/>
                  </a:lnTo>
                  <a:lnTo>
                    <a:pt x="180" y="411"/>
                  </a:lnTo>
                  <a:lnTo>
                    <a:pt x="181" y="395"/>
                  </a:lnTo>
                  <a:lnTo>
                    <a:pt x="185" y="382"/>
                  </a:lnTo>
                  <a:lnTo>
                    <a:pt x="186" y="385"/>
                  </a:lnTo>
                  <a:lnTo>
                    <a:pt x="188" y="405"/>
                  </a:lnTo>
                  <a:lnTo>
                    <a:pt x="189" y="439"/>
                  </a:lnTo>
                  <a:lnTo>
                    <a:pt x="191" y="474"/>
                  </a:lnTo>
                  <a:lnTo>
                    <a:pt x="192" y="502"/>
                  </a:lnTo>
                  <a:lnTo>
                    <a:pt x="195" y="521"/>
                  </a:lnTo>
                  <a:lnTo>
                    <a:pt x="197" y="536"/>
                  </a:lnTo>
                  <a:lnTo>
                    <a:pt x="198" y="554"/>
                  </a:lnTo>
                  <a:lnTo>
                    <a:pt x="200" y="587"/>
                  </a:lnTo>
                  <a:lnTo>
                    <a:pt x="201" y="633"/>
                  </a:lnTo>
                  <a:lnTo>
                    <a:pt x="203" y="680"/>
                  </a:lnTo>
                  <a:lnTo>
                    <a:pt x="205" y="717"/>
                  </a:lnTo>
                  <a:lnTo>
                    <a:pt x="208" y="745"/>
                  </a:lnTo>
                  <a:lnTo>
                    <a:pt x="209" y="759"/>
                  </a:lnTo>
                  <a:lnTo>
                    <a:pt x="211" y="749"/>
                  </a:lnTo>
                  <a:lnTo>
                    <a:pt x="212" y="720"/>
                  </a:lnTo>
                  <a:lnTo>
                    <a:pt x="214" y="700"/>
                  </a:lnTo>
                  <a:lnTo>
                    <a:pt x="215" y="699"/>
                  </a:lnTo>
                  <a:lnTo>
                    <a:pt x="218" y="702"/>
                  </a:lnTo>
                  <a:lnTo>
                    <a:pt x="220" y="697"/>
                  </a:lnTo>
                  <a:lnTo>
                    <a:pt x="221" y="683"/>
                  </a:lnTo>
                  <a:lnTo>
                    <a:pt x="223" y="663"/>
                  </a:lnTo>
                  <a:lnTo>
                    <a:pt x="225" y="636"/>
                  </a:lnTo>
                  <a:lnTo>
                    <a:pt x="226" y="608"/>
                  </a:lnTo>
                  <a:lnTo>
                    <a:pt x="229" y="582"/>
                  </a:lnTo>
                  <a:lnTo>
                    <a:pt x="231" y="550"/>
                  </a:lnTo>
                  <a:lnTo>
                    <a:pt x="232" y="516"/>
                  </a:lnTo>
                  <a:lnTo>
                    <a:pt x="234" y="487"/>
                  </a:lnTo>
                  <a:lnTo>
                    <a:pt x="235" y="464"/>
                  </a:lnTo>
                  <a:lnTo>
                    <a:pt x="237" y="436"/>
                  </a:lnTo>
                  <a:lnTo>
                    <a:pt x="240" y="410"/>
                  </a:lnTo>
                  <a:lnTo>
                    <a:pt x="241" y="396"/>
                  </a:lnTo>
                  <a:lnTo>
                    <a:pt x="243" y="398"/>
                  </a:lnTo>
                  <a:lnTo>
                    <a:pt x="244" y="401"/>
                  </a:lnTo>
                  <a:lnTo>
                    <a:pt x="246" y="407"/>
                  </a:lnTo>
                  <a:lnTo>
                    <a:pt x="248" y="428"/>
                  </a:lnTo>
                  <a:lnTo>
                    <a:pt x="251" y="465"/>
                  </a:lnTo>
                  <a:lnTo>
                    <a:pt x="252" y="507"/>
                  </a:lnTo>
                  <a:lnTo>
                    <a:pt x="254" y="544"/>
                  </a:lnTo>
                  <a:lnTo>
                    <a:pt x="255" y="576"/>
                  </a:lnTo>
                  <a:lnTo>
                    <a:pt x="257" y="608"/>
                  </a:lnTo>
                  <a:lnTo>
                    <a:pt x="258" y="639"/>
                  </a:lnTo>
                  <a:lnTo>
                    <a:pt x="261" y="666"/>
                  </a:lnTo>
                  <a:lnTo>
                    <a:pt x="263" y="686"/>
                  </a:lnTo>
                  <a:lnTo>
                    <a:pt x="264" y="714"/>
                  </a:lnTo>
                  <a:lnTo>
                    <a:pt x="266" y="775"/>
                  </a:lnTo>
                  <a:lnTo>
                    <a:pt x="268" y="869"/>
                  </a:lnTo>
                  <a:lnTo>
                    <a:pt x="269" y="1029"/>
                  </a:lnTo>
                  <a:lnTo>
                    <a:pt x="272" y="1176"/>
                  </a:lnTo>
                  <a:lnTo>
                    <a:pt x="274" y="1287"/>
                  </a:lnTo>
                  <a:lnTo>
                    <a:pt x="275" y="1370"/>
                  </a:lnTo>
                  <a:lnTo>
                    <a:pt x="277" y="1413"/>
                  </a:lnTo>
                  <a:lnTo>
                    <a:pt x="278" y="1413"/>
                  </a:lnTo>
                  <a:lnTo>
                    <a:pt x="280" y="1413"/>
                  </a:lnTo>
                  <a:lnTo>
                    <a:pt x="283" y="1413"/>
                  </a:lnTo>
                  <a:lnTo>
                    <a:pt x="284" y="1413"/>
                  </a:lnTo>
                  <a:lnTo>
                    <a:pt x="286" y="1413"/>
                  </a:lnTo>
                  <a:lnTo>
                    <a:pt x="288" y="1413"/>
                  </a:lnTo>
                  <a:lnTo>
                    <a:pt x="289" y="1413"/>
                  </a:lnTo>
                  <a:lnTo>
                    <a:pt x="291" y="1413"/>
                  </a:lnTo>
                  <a:lnTo>
                    <a:pt x="294" y="1413"/>
                  </a:lnTo>
                  <a:lnTo>
                    <a:pt x="295" y="1413"/>
                  </a:lnTo>
                  <a:lnTo>
                    <a:pt x="297" y="1413"/>
                  </a:lnTo>
                  <a:lnTo>
                    <a:pt x="298" y="1413"/>
                  </a:lnTo>
                  <a:lnTo>
                    <a:pt x="300" y="1413"/>
                  </a:lnTo>
                  <a:lnTo>
                    <a:pt x="301" y="1413"/>
                  </a:lnTo>
                  <a:lnTo>
                    <a:pt x="304" y="1413"/>
                  </a:lnTo>
                  <a:lnTo>
                    <a:pt x="306" y="1413"/>
                  </a:lnTo>
                  <a:lnTo>
                    <a:pt x="307" y="1413"/>
                  </a:lnTo>
                  <a:lnTo>
                    <a:pt x="309" y="1413"/>
                  </a:lnTo>
                  <a:lnTo>
                    <a:pt x="311" y="1413"/>
                  </a:lnTo>
                  <a:lnTo>
                    <a:pt x="312" y="1413"/>
                  </a:lnTo>
                  <a:lnTo>
                    <a:pt x="315" y="1413"/>
                  </a:lnTo>
                  <a:lnTo>
                    <a:pt x="317" y="1413"/>
                  </a:lnTo>
                  <a:lnTo>
                    <a:pt x="318" y="1413"/>
                  </a:lnTo>
                  <a:lnTo>
                    <a:pt x="320" y="1413"/>
                  </a:lnTo>
                  <a:lnTo>
                    <a:pt x="321" y="1413"/>
                  </a:lnTo>
                  <a:lnTo>
                    <a:pt x="323" y="1413"/>
                  </a:lnTo>
                  <a:lnTo>
                    <a:pt x="324" y="1413"/>
                  </a:lnTo>
                  <a:lnTo>
                    <a:pt x="327" y="1413"/>
                  </a:lnTo>
                  <a:lnTo>
                    <a:pt x="329" y="1413"/>
                  </a:lnTo>
                  <a:lnTo>
                    <a:pt x="331" y="1413"/>
                  </a:lnTo>
                  <a:lnTo>
                    <a:pt x="332" y="1413"/>
                  </a:lnTo>
                  <a:lnTo>
                    <a:pt x="334" y="1413"/>
                  </a:lnTo>
                  <a:lnTo>
                    <a:pt x="335" y="1413"/>
                  </a:lnTo>
                  <a:lnTo>
                    <a:pt x="338" y="1413"/>
                  </a:lnTo>
                  <a:lnTo>
                    <a:pt x="340" y="1413"/>
                  </a:lnTo>
                  <a:lnTo>
                    <a:pt x="341" y="1413"/>
                  </a:lnTo>
                  <a:lnTo>
                    <a:pt x="343" y="1319"/>
                  </a:lnTo>
                  <a:lnTo>
                    <a:pt x="344" y="1195"/>
                  </a:lnTo>
                  <a:lnTo>
                    <a:pt x="346" y="1104"/>
                  </a:lnTo>
                  <a:lnTo>
                    <a:pt x="349" y="1069"/>
                  </a:lnTo>
                  <a:lnTo>
                    <a:pt x="350" y="1017"/>
                  </a:lnTo>
                  <a:lnTo>
                    <a:pt x="352" y="923"/>
                  </a:lnTo>
                  <a:lnTo>
                    <a:pt x="354" y="857"/>
                  </a:lnTo>
                  <a:lnTo>
                    <a:pt x="355" y="829"/>
                  </a:lnTo>
                  <a:lnTo>
                    <a:pt x="357" y="811"/>
                  </a:lnTo>
                  <a:lnTo>
                    <a:pt x="360" y="789"/>
                  </a:lnTo>
                  <a:lnTo>
                    <a:pt x="361" y="799"/>
                  </a:lnTo>
                  <a:lnTo>
                    <a:pt x="363" y="811"/>
                  </a:lnTo>
                  <a:lnTo>
                    <a:pt x="364" y="815"/>
                  </a:lnTo>
                  <a:lnTo>
                    <a:pt x="366" y="820"/>
                  </a:lnTo>
                  <a:lnTo>
                    <a:pt x="367" y="834"/>
                  </a:lnTo>
                  <a:lnTo>
                    <a:pt x="370" y="849"/>
                  </a:lnTo>
                  <a:lnTo>
                    <a:pt x="372" y="854"/>
                  </a:lnTo>
                  <a:lnTo>
                    <a:pt x="374" y="834"/>
                  </a:lnTo>
                  <a:lnTo>
                    <a:pt x="375" y="785"/>
                  </a:lnTo>
                  <a:lnTo>
                    <a:pt x="377" y="736"/>
                  </a:lnTo>
                  <a:lnTo>
                    <a:pt x="378" y="708"/>
                  </a:lnTo>
                  <a:lnTo>
                    <a:pt x="381" y="682"/>
                  </a:lnTo>
                  <a:lnTo>
                    <a:pt x="383" y="642"/>
                  </a:lnTo>
                  <a:lnTo>
                    <a:pt x="384" y="591"/>
                  </a:lnTo>
                  <a:lnTo>
                    <a:pt x="386" y="536"/>
                  </a:lnTo>
                  <a:lnTo>
                    <a:pt x="387" y="478"/>
                  </a:lnTo>
                  <a:lnTo>
                    <a:pt x="389" y="424"/>
                  </a:lnTo>
                  <a:lnTo>
                    <a:pt x="392" y="379"/>
                  </a:lnTo>
                  <a:lnTo>
                    <a:pt x="394" y="344"/>
                  </a:lnTo>
                  <a:lnTo>
                    <a:pt x="395" y="316"/>
                  </a:lnTo>
                  <a:lnTo>
                    <a:pt x="397" y="302"/>
                  </a:lnTo>
                  <a:lnTo>
                    <a:pt x="398" y="295"/>
                  </a:lnTo>
                  <a:lnTo>
                    <a:pt x="400" y="289"/>
                  </a:lnTo>
                  <a:lnTo>
                    <a:pt x="403" y="292"/>
                  </a:lnTo>
                  <a:lnTo>
                    <a:pt x="404" y="310"/>
                  </a:lnTo>
                  <a:lnTo>
                    <a:pt x="406" y="338"/>
                  </a:lnTo>
                  <a:lnTo>
                    <a:pt x="407" y="372"/>
                  </a:lnTo>
                  <a:lnTo>
                    <a:pt x="409" y="416"/>
                  </a:lnTo>
                  <a:lnTo>
                    <a:pt x="410" y="465"/>
                  </a:lnTo>
                  <a:lnTo>
                    <a:pt x="413" y="514"/>
                  </a:lnTo>
                  <a:lnTo>
                    <a:pt x="415" y="580"/>
                  </a:lnTo>
                  <a:lnTo>
                    <a:pt x="417" y="682"/>
                  </a:lnTo>
                  <a:lnTo>
                    <a:pt x="418" y="809"/>
                  </a:lnTo>
                  <a:lnTo>
                    <a:pt x="420" y="938"/>
                  </a:lnTo>
                  <a:lnTo>
                    <a:pt x="421" y="1061"/>
                  </a:lnTo>
                  <a:lnTo>
                    <a:pt x="424" y="1169"/>
                  </a:lnTo>
                  <a:lnTo>
                    <a:pt x="426" y="1236"/>
                  </a:lnTo>
                  <a:lnTo>
                    <a:pt x="427" y="1273"/>
                  </a:lnTo>
                  <a:lnTo>
                    <a:pt x="429" y="1308"/>
                  </a:lnTo>
                  <a:lnTo>
                    <a:pt x="430" y="1345"/>
                  </a:lnTo>
                  <a:lnTo>
                    <a:pt x="432" y="1376"/>
                  </a:lnTo>
                  <a:lnTo>
                    <a:pt x="433" y="1413"/>
                  </a:lnTo>
                  <a:lnTo>
                    <a:pt x="437" y="1413"/>
                  </a:lnTo>
                  <a:lnTo>
                    <a:pt x="438" y="1413"/>
                  </a:lnTo>
                  <a:lnTo>
                    <a:pt x="440" y="1413"/>
                  </a:lnTo>
                  <a:lnTo>
                    <a:pt x="441" y="1413"/>
                  </a:lnTo>
                  <a:lnTo>
                    <a:pt x="443" y="1413"/>
                  </a:lnTo>
                  <a:lnTo>
                    <a:pt x="444" y="1413"/>
                  </a:lnTo>
                  <a:lnTo>
                    <a:pt x="447" y="1413"/>
                  </a:lnTo>
                  <a:lnTo>
                    <a:pt x="449" y="1413"/>
                  </a:lnTo>
                  <a:lnTo>
                    <a:pt x="450" y="1413"/>
                  </a:lnTo>
                  <a:lnTo>
                    <a:pt x="452" y="1413"/>
                  </a:lnTo>
                  <a:lnTo>
                    <a:pt x="453" y="1413"/>
                  </a:lnTo>
                  <a:lnTo>
                    <a:pt x="455" y="1413"/>
                  </a:lnTo>
                  <a:lnTo>
                    <a:pt x="458" y="1413"/>
                  </a:lnTo>
                  <a:lnTo>
                    <a:pt x="460" y="1413"/>
                  </a:lnTo>
                  <a:lnTo>
                    <a:pt x="461" y="1413"/>
                  </a:lnTo>
                  <a:lnTo>
                    <a:pt x="463" y="1413"/>
                  </a:lnTo>
                  <a:lnTo>
                    <a:pt x="464" y="1413"/>
                  </a:lnTo>
                  <a:lnTo>
                    <a:pt x="466" y="1413"/>
                  </a:lnTo>
                  <a:lnTo>
                    <a:pt x="469" y="1413"/>
                  </a:lnTo>
                  <a:lnTo>
                    <a:pt x="470" y="1413"/>
                  </a:lnTo>
                  <a:lnTo>
                    <a:pt x="472" y="1413"/>
                  </a:lnTo>
                  <a:lnTo>
                    <a:pt x="473" y="1413"/>
                  </a:lnTo>
                  <a:lnTo>
                    <a:pt x="475" y="1413"/>
                  </a:lnTo>
                  <a:lnTo>
                    <a:pt x="476" y="1413"/>
                  </a:lnTo>
                  <a:lnTo>
                    <a:pt x="480" y="1413"/>
                  </a:lnTo>
                  <a:lnTo>
                    <a:pt x="481" y="1413"/>
                  </a:lnTo>
                  <a:lnTo>
                    <a:pt x="483" y="1413"/>
                  </a:lnTo>
                  <a:lnTo>
                    <a:pt x="484" y="1413"/>
                  </a:lnTo>
                  <a:lnTo>
                    <a:pt x="486" y="1413"/>
                  </a:lnTo>
                  <a:lnTo>
                    <a:pt x="487" y="1413"/>
                  </a:lnTo>
                  <a:lnTo>
                    <a:pt x="490" y="1413"/>
                  </a:lnTo>
                  <a:lnTo>
                    <a:pt x="492" y="1413"/>
                  </a:lnTo>
                  <a:lnTo>
                    <a:pt x="493" y="1413"/>
                  </a:lnTo>
                  <a:lnTo>
                    <a:pt x="495" y="1413"/>
                  </a:lnTo>
                  <a:lnTo>
                    <a:pt x="496" y="1413"/>
                  </a:lnTo>
                  <a:lnTo>
                    <a:pt x="498" y="1413"/>
                  </a:lnTo>
                  <a:lnTo>
                    <a:pt x="501" y="1413"/>
                  </a:lnTo>
                  <a:lnTo>
                    <a:pt x="503" y="1413"/>
                  </a:lnTo>
                  <a:lnTo>
                    <a:pt x="504" y="1413"/>
                  </a:lnTo>
                  <a:lnTo>
                    <a:pt x="506" y="1413"/>
                  </a:lnTo>
                  <a:lnTo>
                    <a:pt x="507" y="1413"/>
                  </a:lnTo>
                  <a:lnTo>
                    <a:pt x="509" y="1413"/>
                  </a:lnTo>
                  <a:lnTo>
                    <a:pt x="512" y="1413"/>
                  </a:lnTo>
                  <a:lnTo>
                    <a:pt x="513" y="1413"/>
                  </a:lnTo>
                  <a:lnTo>
                    <a:pt x="515" y="1413"/>
                  </a:lnTo>
                  <a:lnTo>
                    <a:pt x="516" y="1413"/>
                  </a:lnTo>
                  <a:lnTo>
                    <a:pt x="518" y="1413"/>
                  </a:lnTo>
                  <a:lnTo>
                    <a:pt x="519" y="1413"/>
                  </a:lnTo>
                  <a:lnTo>
                    <a:pt x="523" y="1413"/>
                  </a:lnTo>
                  <a:lnTo>
                    <a:pt x="524" y="1413"/>
                  </a:lnTo>
                  <a:lnTo>
                    <a:pt x="526" y="1413"/>
                  </a:lnTo>
                  <a:lnTo>
                    <a:pt x="527" y="1413"/>
                  </a:lnTo>
                  <a:lnTo>
                    <a:pt x="529" y="1413"/>
                  </a:lnTo>
                  <a:lnTo>
                    <a:pt x="530" y="1344"/>
                  </a:lnTo>
                  <a:lnTo>
                    <a:pt x="533" y="1313"/>
                  </a:lnTo>
                  <a:lnTo>
                    <a:pt x="535" y="1305"/>
                  </a:lnTo>
                  <a:lnTo>
                    <a:pt x="536" y="1252"/>
                  </a:lnTo>
                  <a:lnTo>
                    <a:pt x="538" y="1181"/>
                  </a:lnTo>
                  <a:lnTo>
                    <a:pt x="539" y="1156"/>
                  </a:lnTo>
                  <a:lnTo>
                    <a:pt x="541" y="1161"/>
                  </a:lnTo>
                  <a:lnTo>
                    <a:pt x="543" y="1164"/>
                  </a:lnTo>
                  <a:lnTo>
                    <a:pt x="546" y="1164"/>
                  </a:lnTo>
                  <a:lnTo>
                    <a:pt x="547" y="1167"/>
                  </a:lnTo>
                  <a:lnTo>
                    <a:pt x="549" y="1169"/>
                  </a:lnTo>
                  <a:lnTo>
                    <a:pt x="550" y="1156"/>
                  </a:lnTo>
                  <a:lnTo>
                    <a:pt x="552" y="1132"/>
                  </a:lnTo>
                  <a:lnTo>
                    <a:pt x="553" y="1107"/>
                  </a:lnTo>
                  <a:lnTo>
                    <a:pt x="556" y="1096"/>
                  </a:lnTo>
                  <a:lnTo>
                    <a:pt x="558" y="1096"/>
                  </a:lnTo>
                  <a:lnTo>
                    <a:pt x="559" y="1104"/>
                  </a:lnTo>
                  <a:lnTo>
                    <a:pt x="561" y="1129"/>
                  </a:lnTo>
                  <a:lnTo>
                    <a:pt x="563" y="1167"/>
                  </a:lnTo>
                  <a:lnTo>
                    <a:pt x="564" y="1238"/>
                  </a:lnTo>
                  <a:lnTo>
                    <a:pt x="567" y="1291"/>
                  </a:lnTo>
                  <a:lnTo>
                    <a:pt x="569" y="1327"/>
                  </a:lnTo>
                  <a:lnTo>
                    <a:pt x="570" y="1368"/>
                  </a:lnTo>
                  <a:lnTo>
                    <a:pt x="572" y="1413"/>
                  </a:lnTo>
                  <a:lnTo>
                    <a:pt x="573" y="1413"/>
                  </a:lnTo>
                  <a:lnTo>
                    <a:pt x="575" y="1413"/>
                  </a:lnTo>
                  <a:lnTo>
                    <a:pt x="578" y="1413"/>
                  </a:lnTo>
                  <a:lnTo>
                    <a:pt x="579" y="1413"/>
                  </a:lnTo>
                  <a:lnTo>
                    <a:pt x="581" y="1348"/>
                  </a:lnTo>
                  <a:lnTo>
                    <a:pt x="582" y="1291"/>
                  </a:lnTo>
                  <a:lnTo>
                    <a:pt x="584" y="1204"/>
                  </a:lnTo>
                  <a:lnTo>
                    <a:pt x="586" y="1173"/>
                  </a:lnTo>
                  <a:lnTo>
                    <a:pt x="589" y="1144"/>
                  </a:lnTo>
                  <a:lnTo>
                    <a:pt x="590" y="1116"/>
                  </a:lnTo>
                  <a:lnTo>
                    <a:pt x="592" y="1075"/>
                  </a:lnTo>
                  <a:lnTo>
                    <a:pt x="593" y="1033"/>
                  </a:lnTo>
                  <a:lnTo>
                    <a:pt x="595" y="1010"/>
                  </a:lnTo>
                  <a:lnTo>
                    <a:pt x="596" y="1007"/>
                  </a:lnTo>
                  <a:lnTo>
                    <a:pt x="599" y="1009"/>
                  </a:lnTo>
                  <a:lnTo>
                    <a:pt x="601" y="1010"/>
                  </a:lnTo>
                  <a:lnTo>
                    <a:pt x="602" y="1020"/>
                  </a:lnTo>
                  <a:lnTo>
                    <a:pt x="604" y="1038"/>
                  </a:lnTo>
                  <a:lnTo>
                    <a:pt x="606" y="1052"/>
                  </a:lnTo>
                  <a:lnTo>
                    <a:pt x="607" y="1038"/>
                  </a:lnTo>
                  <a:lnTo>
                    <a:pt x="610" y="998"/>
                  </a:lnTo>
                  <a:lnTo>
                    <a:pt x="612" y="960"/>
                  </a:lnTo>
                  <a:lnTo>
                    <a:pt x="613" y="934"/>
                  </a:lnTo>
                  <a:lnTo>
                    <a:pt x="615" y="918"/>
                  </a:lnTo>
                  <a:lnTo>
                    <a:pt x="616" y="914"/>
                  </a:lnTo>
                  <a:lnTo>
                    <a:pt x="618" y="928"/>
                  </a:lnTo>
                  <a:lnTo>
                    <a:pt x="621" y="958"/>
                  </a:lnTo>
                  <a:lnTo>
                    <a:pt x="622" y="989"/>
                  </a:lnTo>
                  <a:lnTo>
                    <a:pt x="624" y="1018"/>
                  </a:lnTo>
                  <a:lnTo>
                    <a:pt x="626" y="1057"/>
                  </a:lnTo>
                  <a:lnTo>
                    <a:pt x="627" y="1101"/>
                  </a:lnTo>
                  <a:lnTo>
                    <a:pt x="629" y="1130"/>
                  </a:lnTo>
                  <a:lnTo>
                    <a:pt x="632" y="1136"/>
                  </a:lnTo>
                  <a:lnTo>
                    <a:pt x="633" y="1149"/>
                  </a:lnTo>
                  <a:lnTo>
                    <a:pt x="635" y="1178"/>
                  </a:lnTo>
                  <a:lnTo>
                    <a:pt x="636" y="1199"/>
                  </a:lnTo>
                  <a:lnTo>
                    <a:pt x="638" y="1198"/>
                  </a:lnTo>
                  <a:lnTo>
                    <a:pt x="639" y="1196"/>
                  </a:lnTo>
                  <a:lnTo>
                    <a:pt x="642" y="1209"/>
                  </a:lnTo>
                  <a:lnTo>
                    <a:pt x="644" y="1212"/>
                  </a:lnTo>
                  <a:lnTo>
                    <a:pt x="645" y="1186"/>
                  </a:lnTo>
                  <a:lnTo>
                    <a:pt x="647" y="1149"/>
                  </a:lnTo>
                  <a:lnTo>
                    <a:pt x="649" y="1126"/>
                  </a:lnTo>
                  <a:lnTo>
                    <a:pt x="650" y="1116"/>
                  </a:lnTo>
                  <a:lnTo>
                    <a:pt x="652" y="1113"/>
                  </a:lnTo>
                  <a:lnTo>
                    <a:pt x="655" y="1123"/>
                  </a:lnTo>
                  <a:lnTo>
                    <a:pt x="656" y="1150"/>
                  </a:lnTo>
                  <a:lnTo>
                    <a:pt x="658" y="1189"/>
                  </a:lnTo>
                  <a:lnTo>
                    <a:pt x="659" y="1225"/>
                  </a:lnTo>
                  <a:lnTo>
                    <a:pt x="661" y="1244"/>
                  </a:lnTo>
                  <a:lnTo>
                    <a:pt x="662" y="1235"/>
                  </a:lnTo>
                  <a:lnTo>
                    <a:pt x="665" y="1192"/>
                  </a:lnTo>
                  <a:lnTo>
                    <a:pt x="667" y="1130"/>
                  </a:lnTo>
                  <a:lnTo>
                    <a:pt x="669" y="1075"/>
                  </a:lnTo>
                  <a:lnTo>
                    <a:pt x="670" y="1043"/>
                  </a:lnTo>
                  <a:lnTo>
                    <a:pt x="672" y="1020"/>
                  </a:lnTo>
                  <a:lnTo>
                    <a:pt x="673" y="981"/>
                  </a:lnTo>
                  <a:lnTo>
                    <a:pt x="676" y="938"/>
                  </a:lnTo>
                  <a:lnTo>
                    <a:pt x="678" y="900"/>
                  </a:lnTo>
                  <a:lnTo>
                    <a:pt x="679" y="846"/>
                  </a:lnTo>
                  <a:lnTo>
                    <a:pt x="681" y="775"/>
                  </a:lnTo>
                  <a:lnTo>
                    <a:pt x="682" y="717"/>
                  </a:lnTo>
                  <a:lnTo>
                    <a:pt x="684" y="694"/>
                  </a:lnTo>
                  <a:lnTo>
                    <a:pt x="687" y="683"/>
                  </a:lnTo>
                  <a:lnTo>
                    <a:pt x="689" y="666"/>
                  </a:lnTo>
                  <a:lnTo>
                    <a:pt x="690" y="660"/>
                  </a:lnTo>
                  <a:lnTo>
                    <a:pt x="692" y="676"/>
                  </a:lnTo>
                  <a:lnTo>
                    <a:pt x="693" y="705"/>
                  </a:lnTo>
                  <a:lnTo>
                    <a:pt x="695" y="743"/>
                  </a:lnTo>
                  <a:lnTo>
                    <a:pt x="698" y="795"/>
                  </a:lnTo>
                  <a:lnTo>
                    <a:pt x="699" y="875"/>
                  </a:lnTo>
                  <a:lnTo>
                    <a:pt x="701" y="954"/>
                  </a:lnTo>
                  <a:lnTo>
                    <a:pt x="702" y="1023"/>
                  </a:lnTo>
                  <a:lnTo>
                    <a:pt x="704" y="1096"/>
                  </a:lnTo>
                  <a:lnTo>
                    <a:pt x="705" y="1167"/>
                  </a:lnTo>
                  <a:lnTo>
                    <a:pt x="708" y="1221"/>
                  </a:lnTo>
                  <a:lnTo>
                    <a:pt x="710" y="1270"/>
                  </a:lnTo>
                  <a:lnTo>
                    <a:pt x="712" y="1328"/>
                  </a:lnTo>
                  <a:lnTo>
                    <a:pt x="713" y="1381"/>
                  </a:lnTo>
                  <a:lnTo>
                    <a:pt x="715" y="1413"/>
                  </a:lnTo>
                  <a:lnTo>
                    <a:pt x="716" y="1413"/>
                  </a:lnTo>
                  <a:lnTo>
                    <a:pt x="719" y="1413"/>
                  </a:lnTo>
                  <a:lnTo>
                    <a:pt x="721" y="1413"/>
                  </a:lnTo>
                  <a:lnTo>
                    <a:pt x="722" y="1413"/>
                  </a:lnTo>
                  <a:lnTo>
                    <a:pt x="724" y="1413"/>
                  </a:lnTo>
                  <a:lnTo>
                    <a:pt x="725" y="1413"/>
                  </a:lnTo>
                  <a:lnTo>
                    <a:pt x="727" y="1413"/>
                  </a:lnTo>
                  <a:lnTo>
                    <a:pt x="730" y="1413"/>
                  </a:lnTo>
                  <a:lnTo>
                    <a:pt x="732" y="1413"/>
                  </a:lnTo>
                  <a:lnTo>
                    <a:pt x="733" y="1413"/>
                  </a:lnTo>
                  <a:lnTo>
                    <a:pt x="735" y="1413"/>
                  </a:lnTo>
                  <a:lnTo>
                    <a:pt x="736" y="1413"/>
                  </a:lnTo>
                  <a:lnTo>
                    <a:pt x="738" y="1413"/>
                  </a:lnTo>
                  <a:lnTo>
                    <a:pt x="741" y="1413"/>
                  </a:lnTo>
                  <a:lnTo>
                    <a:pt x="742" y="1413"/>
                  </a:lnTo>
                  <a:lnTo>
                    <a:pt x="744" y="1413"/>
                  </a:lnTo>
                  <a:lnTo>
                    <a:pt x="745" y="1413"/>
                  </a:lnTo>
                  <a:lnTo>
                    <a:pt x="747" y="1413"/>
                  </a:lnTo>
                  <a:lnTo>
                    <a:pt x="748" y="1413"/>
                  </a:lnTo>
                  <a:lnTo>
                    <a:pt x="751" y="1413"/>
                  </a:lnTo>
                  <a:lnTo>
                    <a:pt x="753" y="1413"/>
                  </a:lnTo>
                  <a:lnTo>
                    <a:pt x="755" y="1413"/>
                  </a:lnTo>
                  <a:lnTo>
                    <a:pt x="756" y="1413"/>
                  </a:lnTo>
                  <a:lnTo>
                    <a:pt x="758" y="1413"/>
                  </a:lnTo>
                  <a:lnTo>
                    <a:pt x="759" y="1413"/>
                  </a:lnTo>
                  <a:lnTo>
                    <a:pt x="762" y="1413"/>
                  </a:lnTo>
                  <a:lnTo>
                    <a:pt x="764" y="1413"/>
                  </a:lnTo>
                  <a:lnTo>
                    <a:pt x="765" y="1413"/>
                  </a:lnTo>
                  <a:lnTo>
                    <a:pt x="767" y="1413"/>
                  </a:lnTo>
                  <a:lnTo>
                    <a:pt x="768" y="1413"/>
                  </a:lnTo>
                  <a:lnTo>
                    <a:pt x="770" y="1413"/>
                  </a:lnTo>
                  <a:lnTo>
                    <a:pt x="771" y="1413"/>
                  </a:lnTo>
                  <a:lnTo>
                    <a:pt x="775" y="1413"/>
                  </a:lnTo>
                  <a:lnTo>
                    <a:pt x="776" y="1413"/>
                  </a:lnTo>
                  <a:lnTo>
                    <a:pt x="778" y="1413"/>
                  </a:lnTo>
                  <a:lnTo>
                    <a:pt x="779" y="1413"/>
                  </a:lnTo>
                  <a:lnTo>
                    <a:pt x="781" y="1413"/>
                  </a:lnTo>
                  <a:lnTo>
                    <a:pt x="782" y="1413"/>
                  </a:lnTo>
                  <a:lnTo>
                    <a:pt x="785" y="1413"/>
                  </a:lnTo>
                  <a:lnTo>
                    <a:pt x="787" y="1413"/>
                  </a:lnTo>
                  <a:lnTo>
                    <a:pt x="788" y="1413"/>
                  </a:lnTo>
                  <a:lnTo>
                    <a:pt x="790" y="1362"/>
                  </a:lnTo>
                  <a:lnTo>
                    <a:pt x="791" y="1310"/>
                  </a:lnTo>
                  <a:lnTo>
                    <a:pt x="793" y="1235"/>
                  </a:lnTo>
                  <a:lnTo>
                    <a:pt x="796" y="1161"/>
                  </a:lnTo>
                  <a:lnTo>
                    <a:pt x="798" y="1090"/>
                  </a:lnTo>
                  <a:lnTo>
                    <a:pt x="799" y="1047"/>
                  </a:lnTo>
                  <a:lnTo>
                    <a:pt x="801" y="1029"/>
                  </a:lnTo>
                  <a:lnTo>
                    <a:pt x="802" y="1015"/>
                  </a:lnTo>
                  <a:lnTo>
                    <a:pt x="804" y="1004"/>
                  </a:lnTo>
                  <a:lnTo>
                    <a:pt x="807" y="1015"/>
                  </a:lnTo>
                  <a:lnTo>
                    <a:pt x="808" y="1058"/>
                  </a:lnTo>
                  <a:lnTo>
                    <a:pt x="810" y="1123"/>
                  </a:lnTo>
                  <a:lnTo>
                    <a:pt x="811" y="1181"/>
                  </a:lnTo>
                  <a:lnTo>
                    <a:pt x="813" y="1215"/>
                  </a:lnTo>
                  <a:lnTo>
                    <a:pt x="814" y="1222"/>
                  </a:lnTo>
                  <a:lnTo>
                    <a:pt x="818" y="1215"/>
                  </a:lnTo>
                  <a:lnTo>
                    <a:pt x="819" y="1210"/>
                  </a:lnTo>
                  <a:lnTo>
                    <a:pt x="821" y="1225"/>
                  </a:lnTo>
                  <a:lnTo>
                    <a:pt x="822" y="1259"/>
                  </a:lnTo>
                  <a:lnTo>
                    <a:pt x="824" y="1310"/>
                  </a:lnTo>
                  <a:lnTo>
                    <a:pt x="825" y="1354"/>
                  </a:lnTo>
                  <a:lnTo>
                    <a:pt x="828" y="1373"/>
                  </a:lnTo>
                  <a:lnTo>
                    <a:pt x="830" y="1413"/>
                  </a:lnTo>
                  <a:lnTo>
                    <a:pt x="831" y="1413"/>
                  </a:lnTo>
                  <a:lnTo>
                    <a:pt x="833" y="1413"/>
                  </a:lnTo>
                  <a:lnTo>
                    <a:pt x="834" y="1413"/>
                  </a:lnTo>
                  <a:lnTo>
                    <a:pt x="836" y="1413"/>
                  </a:lnTo>
                  <a:lnTo>
                    <a:pt x="839" y="1413"/>
                  </a:lnTo>
                  <a:lnTo>
                    <a:pt x="841" y="1413"/>
                  </a:lnTo>
                  <a:lnTo>
                    <a:pt x="842" y="1413"/>
                  </a:lnTo>
                  <a:lnTo>
                    <a:pt x="844" y="1384"/>
                  </a:lnTo>
                  <a:lnTo>
                    <a:pt x="845" y="1378"/>
                  </a:lnTo>
                  <a:lnTo>
                    <a:pt x="847" y="1333"/>
                  </a:lnTo>
                  <a:lnTo>
                    <a:pt x="850" y="1311"/>
                  </a:lnTo>
                  <a:lnTo>
                    <a:pt x="851" y="1305"/>
                  </a:lnTo>
                  <a:lnTo>
                    <a:pt x="853" y="1278"/>
                  </a:lnTo>
                  <a:lnTo>
                    <a:pt x="854" y="1225"/>
                  </a:lnTo>
                  <a:lnTo>
                    <a:pt x="856" y="1175"/>
                  </a:lnTo>
                  <a:lnTo>
                    <a:pt x="858" y="1143"/>
                  </a:lnTo>
                  <a:lnTo>
                    <a:pt x="861" y="1133"/>
                  </a:lnTo>
                  <a:lnTo>
                    <a:pt x="862" y="1133"/>
                  </a:lnTo>
                  <a:lnTo>
                    <a:pt x="864" y="1129"/>
                  </a:lnTo>
                  <a:lnTo>
                    <a:pt x="865" y="1107"/>
                  </a:lnTo>
                  <a:lnTo>
                    <a:pt x="867" y="1080"/>
                  </a:lnTo>
                  <a:lnTo>
                    <a:pt x="868" y="1066"/>
                  </a:lnTo>
                  <a:lnTo>
                    <a:pt x="871" y="1067"/>
                  </a:lnTo>
                  <a:lnTo>
                    <a:pt x="873" y="1072"/>
                  </a:lnTo>
                  <a:lnTo>
                    <a:pt x="874" y="1076"/>
                  </a:lnTo>
                  <a:lnTo>
                    <a:pt x="876" y="1084"/>
                  </a:lnTo>
                  <a:lnTo>
                    <a:pt x="877" y="1095"/>
                  </a:lnTo>
                  <a:lnTo>
                    <a:pt x="879" y="1106"/>
                  </a:lnTo>
                  <a:lnTo>
                    <a:pt x="881" y="1115"/>
                  </a:lnTo>
                  <a:lnTo>
                    <a:pt x="884" y="1130"/>
                  </a:lnTo>
                  <a:lnTo>
                    <a:pt x="885" y="1161"/>
                  </a:lnTo>
                  <a:lnTo>
                    <a:pt x="887" y="1201"/>
                  </a:lnTo>
                  <a:lnTo>
                    <a:pt x="888" y="1236"/>
                  </a:lnTo>
                  <a:lnTo>
                    <a:pt x="890" y="1262"/>
                  </a:lnTo>
                  <a:lnTo>
                    <a:pt x="891" y="1282"/>
                  </a:lnTo>
                  <a:lnTo>
                    <a:pt x="894" y="1296"/>
                  </a:lnTo>
                  <a:lnTo>
                    <a:pt x="896" y="1301"/>
                  </a:lnTo>
                  <a:lnTo>
                    <a:pt x="897" y="1304"/>
                  </a:lnTo>
                  <a:lnTo>
                    <a:pt x="899" y="1311"/>
                  </a:lnTo>
                  <a:lnTo>
                    <a:pt x="901" y="1325"/>
                  </a:lnTo>
                  <a:lnTo>
                    <a:pt x="902" y="1347"/>
                  </a:lnTo>
                  <a:lnTo>
                    <a:pt x="905" y="1378"/>
                  </a:lnTo>
                  <a:lnTo>
                    <a:pt x="907" y="1413"/>
                  </a:lnTo>
                  <a:lnTo>
                    <a:pt x="908" y="1413"/>
                  </a:lnTo>
                  <a:lnTo>
                    <a:pt x="910" y="1413"/>
                  </a:lnTo>
                  <a:lnTo>
                    <a:pt x="911" y="1413"/>
                  </a:lnTo>
                  <a:lnTo>
                    <a:pt x="913" y="1413"/>
                  </a:lnTo>
                  <a:lnTo>
                    <a:pt x="916" y="1413"/>
                  </a:lnTo>
                  <a:lnTo>
                    <a:pt x="917" y="1413"/>
                  </a:lnTo>
                  <a:lnTo>
                    <a:pt x="919" y="1413"/>
                  </a:lnTo>
                  <a:lnTo>
                    <a:pt x="920" y="1413"/>
                  </a:lnTo>
                  <a:lnTo>
                    <a:pt x="922" y="1413"/>
                  </a:lnTo>
                  <a:lnTo>
                    <a:pt x="924" y="1413"/>
                  </a:lnTo>
                  <a:lnTo>
                    <a:pt x="927" y="1413"/>
                  </a:lnTo>
                  <a:lnTo>
                    <a:pt x="928" y="1413"/>
                  </a:lnTo>
                  <a:lnTo>
                    <a:pt x="930" y="1413"/>
                  </a:lnTo>
                  <a:lnTo>
                    <a:pt x="931" y="1413"/>
                  </a:lnTo>
                  <a:lnTo>
                    <a:pt x="933" y="1413"/>
                  </a:lnTo>
                  <a:lnTo>
                    <a:pt x="934" y="1413"/>
                  </a:lnTo>
                  <a:lnTo>
                    <a:pt x="937" y="1413"/>
                  </a:lnTo>
                  <a:lnTo>
                    <a:pt x="939" y="1413"/>
                  </a:lnTo>
                  <a:lnTo>
                    <a:pt x="940" y="1413"/>
                  </a:lnTo>
                  <a:lnTo>
                    <a:pt x="942" y="1413"/>
                  </a:lnTo>
                  <a:lnTo>
                    <a:pt x="944" y="1413"/>
                  </a:lnTo>
                  <a:lnTo>
                    <a:pt x="945" y="1413"/>
                  </a:lnTo>
                  <a:lnTo>
                    <a:pt x="948" y="1413"/>
                  </a:lnTo>
                  <a:lnTo>
                    <a:pt x="950" y="1413"/>
                  </a:lnTo>
                  <a:lnTo>
                    <a:pt x="951" y="1413"/>
                  </a:lnTo>
                  <a:lnTo>
                    <a:pt x="953" y="1413"/>
                  </a:lnTo>
                  <a:lnTo>
                    <a:pt x="954" y="1413"/>
                  </a:lnTo>
                  <a:lnTo>
                    <a:pt x="956" y="1413"/>
                  </a:lnTo>
                  <a:lnTo>
                    <a:pt x="959" y="1413"/>
                  </a:lnTo>
                  <a:lnTo>
                    <a:pt x="960" y="1413"/>
                  </a:lnTo>
                  <a:lnTo>
                    <a:pt x="962" y="1413"/>
                  </a:lnTo>
                  <a:lnTo>
                    <a:pt x="964" y="1413"/>
                  </a:lnTo>
                  <a:lnTo>
                    <a:pt x="965" y="1413"/>
                  </a:lnTo>
                  <a:lnTo>
                    <a:pt x="967" y="1413"/>
                  </a:lnTo>
                  <a:lnTo>
                    <a:pt x="970" y="1413"/>
                  </a:lnTo>
                  <a:lnTo>
                    <a:pt x="971" y="1413"/>
                  </a:lnTo>
                  <a:lnTo>
                    <a:pt x="973" y="1413"/>
                  </a:lnTo>
                  <a:lnTo>
                    <a:pt x="974" y="1413"/>
                  </a:lnTo>
                  <a:lnTo>
                    <a:pt x="976" y="1413"/>
                  </a:lnTo>
                  <a:lnTo>
                    <a:pt x="977" y="1413"/>
                  </a:lnTo>
                  <a:lnTo>
                    <a:pt x="980" y="1413"/>
                  </a:lnTo>
                  <a:lnTo>
                    <a:pt x="982" y="1413"/>
                  </a:lnTo>
                  <a:lnTo>
                    <a:pt x="983" y="1413"/>
                  </a:lnTo>
                  <a:lnTo>
                    <a:pt x="985" y="1413"/>
                  </a:lnTo>
                  <a:lnTo>
                    <a:pt x="987" y="1413"/>
                  </a:lnTo>
                  <a:lnTo>
                    <a:pt x="988" y="1413"/>
                  </a:lnTo>
                  <a:lnTo>
                    <a:pt x="990" y="1413"/>
                  </a:lnTo>
                  <a:lnTo>
                    <a:pt x="993" y="1413"/>
                  </a:lnTo>
                  <a:lnTo>
                    <a:pt x="994" y="1413"/>
                  </a:lnTo>
                  <a:lnTo>
                    <a:pt x="996" y="1413"/>
                  </a:lnTo>
                  <a:lnTo>
                    <a:pt x="997" y="1413"/>
                  </a:lnTo>
                  <a:lnTo>
                    <a:pt x="999" y="1413"/>
                  </a:lnTo>
                  <a:lnTo>
                    <a:pt x="1000" y="1413"/>
                  </a:lnTo>
                  <a:lnTo>
                    <a:pt x="1003" y="1413"/>
                  </a:lnTo>
                  <a:lnTo>
                    <a:pt x="1005" y="1413"/>
                  </a:lnTo>
                  <a:lnTo>
                    <a:pt x="1007" y="1413"/>
                  </a:lnTo>
                  <a:lnTo>
                    <a:pt x="1008" y="1413"/>
                  </a:lnTo>
                  <a:lnTo>
                    <a:pt x="1010" y="1413"/>
                  </a:lnTo>
                  <a:lnTo>
                    <a:pt x="1011" y="1413"/>
                  </a:lnTo>
                  <a:lnTo>
                    <a:pt x="1014" y="1413"/>
                  </a:lnTo>
                  <a:lnTo>
                    <a:pt x="1016" y="1413"/>
                  </a:lnTo>
                  <a:lnTo>
                    <a:pt x="1017" y="1413"/>
                  </a:lnTo>
                  <a:lnTo>
                    <a:pt x="1019" y="1413"/>
                  </a:lnTo>
                  <a:lnTo>
                    <a:pt x="1020" y="1413"/>
                  </a:lnTo>
                  <a:lnTo>
                    <a:pt x="1022" y="1413"/>
                  </a:lnTo>
                  <a:lnTo>
                    <a:pt x="1025" y="1413"/>
                  </a:lnTo>
                  <a:lnTo>
                    <a:pt x="1027" y="1413"/>
                  </a:lnTo>
                  <a:lnTo>
                    <a:pt x="1028" y="1413"/>
                  </a:lnTo>
                  <a:lnTo>
                    <a:pt x="1030" y="1413"/>
                  </a:lnTo>
                  <a:lnTo>
                    <a:pt x="1031" y="1413"/>
                  </a:lnTo>
                  <a:lnTo>
                    <a:pt x="1033" y="1413"/>
                  </a:lnTo>
                  <a:lnTo>
                    <a:pt x="1036" y="1413"/>
                  </a:lnTo>
                  <a:lnTo>
                    <a:pt x="1037" y="1413"/>
                  </a:lnTo>
                  <a:lnTo>
                    <a:pt x="1039" y="1413"/>
                  </a:lnTo>
                  <a:lnTo>
                    <a:pt x="1040" y="1413"/>
                  </a:lnTo>
                  <a:lnTo>
                    <a:pt x="1042" y="1413"/>
                  </a:lnTo>
                  <a:lnTo>
                    <a:pt x="1043" y="1413"/>
                  </a:lnTo>
                  <a:lnTo>
                    <a:pt x="1046" y="1413"/>
                  </a:lnTo>
                  <a:lnTo>
                    <a:pt x="1048" y="1413"/>
                  </a:lnTo>
                  <a:lnTo>
                    <a:pt x="1050" y="1413"/>
                  </a:lnTo>
                  <a:lnTo>
                    <a:pt x="1051" y="1413"/>
                  </a:lnTo>
                  <a:lnTo>
                    <a:pt x="1053" y="1413"/>
                  </a:lnTo>
                  <a:lnTo>
                    <a:pt x="1054" y="1413"/>
                  </a:lnTo>
                  <a:lnTo>
                    <a:pt x="1057" y="1379"/>
                  </a:lnTo>
                  <a:lnTo>
                    <a:pt x="1059" y="1371"/>
                  </a:lnTo>
                  <a:lnTo>
                    <a:pt x="1060" y="1344"/>
                  </a:lnTo>
                  <a:lnTo>
                    <a:pt x="1062" y="1281"/>
                  </a:lnTo>
                  <a:lnTo>
                    <a:pt x="1063" y="1184"/>
                  </a:lnTo>
                  <a:lnTo>
                    <a:pt x="1065" y="1083"/>
                  </a:lnTo>
                  <a:lnTo>
                    <a:pt x="1068" y="1017"/>
                  </a:lnTo>
                  <a:lnTo>
                    <a:pt x="1070" y="986"/>
                  </a:lnTo>
                  <a:lnTo>
                    <a:pt x="1071" y="954"/>
                  </a:lnTo>
                  <a:lnTo>
                    <a:pt x="1073" y="895"/>
                  </a:lnTo>
                  <a:lnTo>
                    <a:pt x="1074" y="865"/>
                  </a:lnTo>
                  <a:lnTo>
                    <a:pt x="1076" y="848"/>
                  </a:lnTo>
                  <a:lnTo>
                    <a:pt x="1079" y="832"/>
                  </a:lnTo>
                  <a:lnTo>
                    <a:pt x="1080" y="832"/>
                  </a:lnTo>
                  <a:lnTo>
                    <a:pt x="1082" y="861"/>
                  </a:lnTo>
                  <a:lnTo>
                    <a:pt x="1083" y="914"/>
                  </a:lnTo>
                  <a:lnTo>
                    <a:pt x="1085" y="977"/>
                  </a:lnTo>
                  <a:lnTo>
                    <a:pt x="1086" y="1043"/>
                  </a:lnTo>
                  <a:lnTo>
                    <a:pt x="1089" y="1087"/>
                  </a:lnTo>
                  <a:lnTo>
                    <a:pt x="1091" y="1101"/>
                  </a:lnTo>
                  <a:lnTo>
                    <a:pt x="1093" y="1101"/>
                  </a:lnTo>
                  <a:lnTo>
                    <a:pt x="1094" y="1095"/>
                  </a:lnTo>
                  <a:lnTo>
                    <a:pt x="1096" y="1070"/>
                  </a:lnTo>
                  <a:lnTo>
                    <a:pt x="1097" y="1027"/>
                  </a:lnTo>
                  <a:lnTo>
                    <a:pt x="1099" y="977"/>
                  </a:lnTo>
                  <a:lnTo>
                    <a:pt x="1102" y="932"/>
                  </a:lnTo>
                  <a:lnTo>
                    <a:pt x="1103" y="885"/>
                  </a:lnTo>
                  <a:lnTo>
                    <a:pt x="1105" y="822"/>
                  </a:lnTo>
                  <a:lnTo>
                    <a:pt x="1106" y="745"/>
                  </a:lnTo>
                  <a:lnTo>
                    <a:pt x="1108" y="680"/>
                  </a:lnTo>
                  <a:lnTo>
                    <a:pt x="1109" y="640"/>
                  </a:lnTo>
                  <a:lnTo>
                    <a:pt x="1113" y="603"/>
                  </a:lnTo>
                  <a:lnTo>
                    <a:pt x="1114" y="557"/>
                  </a:lnTo>
                  <a:lnTo>
                    <a:pt x="1116" y="528"/>
                  </a:lnTo>
                  <a:lnTo>
                    <a:pt x="1117" y="527"/>
                  </a:lnTo>
                  <a:lnTo>
                    <a:pt x="1119" y="530"/>
                  </a:lnTo>
                  <a:lnTo>
                    <a:pt x="1120" y="537"/>
                  </a:lnTo>
                  <a:lnTo>
                    <a:pt x="1123" y="570"/>
                  </a:lnTo>
                  <a:lnTo>
                    <a:pt x="1125" y="622"/>
                  </a:lnTo>
                  <a:lnTo>
                    <a:pt x="1126" y="670"/>
                  </a:lnTo>
                  <a:lnTo>
                    <a:pt x="1128" y="725"/>
                  </a:lnTo>
                  <a:lnTo>
                    <a:pt x="1129" y="788"/>
                  </a:lnTo>
                  <a:lnTo>
                    <a:pt x="1131" y="832"/>
                  </a:lnTo>
                  <a:lnTo>
                    <a:pt x="1134" y="848"/>
                  </a:lnTo>
                  <a:lnTo>
                    <a:pt x="1136" y="854"/>
                  </a:lnTo>
                  <a:lnTo>
                    <a:pt x="1137" y="858"/>
                  </a:lnTo>
                  <a:lnTo>
                    <a:pt x="1139" y="858"/>
                  </a:lnTo>
                  <a:lnTo>
                    <a:pt x="1140" y="874"/>
                  </a:lnTo>
                  <a:lnTo>
                    <a:pt x="1142" y="918"/>
                  </a:lnTo>
                  <a:lnTo>
                    <a:pt x="1145" y="969"/>
                  </a:lnTo>
                  <a:lnTo>
                    <a:pt x="1146" y="1023"/>
                  </a:lnTo>
                  <a:lnTo>
                    <a:pt x="1148" y="1104"/>
                  </a:lnTo>
                  <a:lnTo>
                    <a:pt x="1149" y="1190"/>
                  </a:lnTo>
                  <a:lnTo>
                    <a:pt x="1151" y="1273"/>
                  </a:lnTo>
                  <a:lnTo>
                    <a:pt x="1152" y="1313"/>
                  </a:lnTo>
                  <a:lnTo>
                    <a:pt x="1156" y="1348"/>
                  </a:lnTo>
                  <a:lnTo>
                    <a:pt x="1157" y="1413"/>
                  </a:lnTo>
                  <a:lnTo>
                    <a:pt x="1159" y="1413"/>
                  </a:lnTo>
                  <a:lnTo>
                    <a:pt x="1160" y="1413"/>
                  </a:lnTo>
                  <a:lnTo>
                    <a:pt x="1162" y="1413"/>
                  </a:lnTo>
                  <a:lnTo>
                    <a:pt x="1163" y="1413"/>
                  </a:lnTo>
                  <a:lnTo>
                    <a:pt x="1166" y="1413"/>
                  </a:lnTo>
                  <a:lnTo>
                    <a:pt x="1168" y="1413"/>
                  </a:lnTo>
                  <a:lnTo>
                    <a:pt x="1169" y="1413"/>
                  </a:lnTo>
                  <a:lnTo>
                    <a:pt x="1171" y="1413"/>
                  </a:lnTo>
                  <a:lnTo>
                    <a:pt x="1172" y="1413"/>
                  </a:lnTo>
                  <a:lnTo>
                    <a:pt x="1174" y="1413"/>
                  </a:lnTo>
                  <a:lnTo>
                    <a:pt x="1177" y="1413"/>
                  </a:lnTo>
                  <a:lnTo>
                    <a:pt x="1179" y="1413"/>
                  </a:lnTo>
                  <a:lnTo>
                    <a:pt x="1180" y="1364"/>
                  </a:lnTo>
                  <a:lnTo>
                    <a:pt x="1182" y="1247"/>
                  </a:lnTo>
                  <a:lnTo>
                    <a:pt x="1183" y="1152"/>
                  </a:lnTo>
                  <a:lnTo>
                    <a:pt x="1185" y="1096"/>
                  </a:lnTo>
                  <a:lnTo>
                    <a:pt x="1188" y="1057"/>
                  </a:lnTo>
                  <a:lnTo>
                    <a:pt x="1189" y="1017"/>
                  </a:lnTo>
                  <a:lnTo>
                    <a:pt x="1191" y="1023"/>
                  </a:lnTo>
                  <a:lnTo>
                    <a:pt x="1192" y="1060"/>
                  </a:lnTo>
                  <a:lnTo>
                    <a:pt x="1194" y="1090"/>
                  </a:lnTo>
                  <a:lnTo>
                    <a:pt x="1196" y="1076"/>
                  </a:lnTo>
                  <a:lnTo>
                    <a:pt x="1199" y="1024"/>
                  </a:lnTo>
                  <a:lnTo>
                    <a:pt x="1200" y="971"/>
                  </a:lnTo>
                  <a:lnTo>
                    <a:pt x="1202" y="923"/>
                  </a:lnTo>
                  <a:lnTo>
                    <a:pt x="1203" y="863"/>
                  </a:lnTo>
                  <a:lnTo>
                    <a:pt x="1205" y="808"/>
                  </a:lnTo>
                  <a:lnTo>
                    <a:pt x="1206" y="779"/>
                  </a:lnTo>
                  <a:lnTo>
                    <a:pt x="1209" y="766"/>
                  </a:lnTo>
                  <a:lnTo>
                    <a:pt x="1211" y="757"/>
                  </a:lnTo>
                  <a:lnTo>
                    <a:pt x="1212" y="763"/>
                  </a:lnTo>
                  <a:lnTo>
                    <a:pt x="1214" y="785"/>
                  </a:lnTo>
                  <a:lnTo>
                    <a:pt x="1215" y="809"/>
                  </a:lnTo>
                  <a:lnTo>
                    <a:pt x="1217" y="848"/>
                  </a:lnTo>
                  <a:lnTo>
                    <a:pt x="1219" y="911"/>
                  </a:lnTo>
                  <a:lnTo>
                    <a:pt x="1222" y="974"/>
                  </a:lnTo>
                  <a:lnTo>
                    <a:pt x="1223" y="1017"/>
                  </a:lnTo>
                  <a:lnTo>
                    <a:pt x="1225" y="1047"/>
                  </a:lnTo>
                  <a:lnTo>
                    <a:pt x="1226" y="1061"/>
                  </a:lnTo>
                  <a:lnTo>
                    <a:pt x="1228" y="1060"/>
                  </a:lnTo>
                  <a:lnTo>
                    <a:pt x="1229" y="1061"/>
                  </a:lnTo>
                  <a:lnTo>
                    <a:pt x="1232" y="1076"/>
                  </a:lnTo>
                  <a:lnTo>
                    <a:pt x="1234" y="1103"/>
                  </a:lnTo>
                  <a:lnTo>
                    <a:pt x="1235" y="1150"/>
                  </a:lnTo>
                  <a:lnTo>
                    <a:pt x="1237" y="1224"/>
                  </a:lnTo>
                  <a:lnTo>
                    <a:pt x="1239" y="1279"/>
                  </a:lnTo>
                  <a:lnTo>
                    <a:pt x="1240" y="1285"/>
                  </a:lnTo>
                  <a:lnTo>
                    <a:pt x="1243" y="1273"/>
                  </a:lnTo>
                  <a:lnTo>
                    <a:pt x="1245" y="1285"/>
                  </a:lnTo>
                  <a:lnTo>
                    <a:pt x="1246" y="1316"/>
                  </a:lnTo>
                  <a:lnTo>
                    <a:pt x="1248" y="1364"/>
                  </a:lnTo>
                  <a:lnTo>
                    <a:pt x="1249" y="1413"/>
                  </a:lnTo>
                </a:path>
              </a:pathLst>
            </a:custGeom>
            <a:noFill/>
            <a:ln w="3240">
              <a:solidFill>
                <a:srgbClr val="0000ff"/>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31" name=""/>
            <p:cNvSpPr/>
            <p:nvPr/>
          </p:nvSpPr>
          <p:spPr>
            <a:xfrm>
              <a:off x="2412720" y="4589280"/>
              <a:ext cx="293400" cy="660240"/>
            </a:xfrm>
            <a:custGeom>
              <a:avLst/>
              <a:gdLst/>
              <a:ahLst/>
              <a:rect l="l" t="t" r="r" b="b"/>
              <a:pathLst>
                <a:path w="772" h="2305">
                  <a:moveTo>
                    <a:pt x="0" y="2305"/>
                  </a:moveTo>
                  <a:lnTo>
                    <a:pt x="2" y="2305"/>
                  </a:lnTo>
                  <a:lnTo>
                    <a:pt x="5" y="2305"/>
                  </a:lnTo>
                  <a:lnTo>
                    <a:pt x="6" y="2305"/>
                  </a:lnTo>
                  <a:lnTo>
                    <a:pt x="8" y="2305"/>
                  </a:lnTo>
                  <a:lnTo>
                    <a:pt x="10" y="2305"/>
                  </a:lnTo>
                  <a:lnTo>
                    <a:pt x="11" y="2305"/>
                  </a:lnTo>
                  <a:lnTo>
                    <a:pt x="13" y="2305"/>
                  </a:lnTo>
                  <a:lnTo>
                    <a:pt x="16" y="2305"/>
                  </a:lnTo>
                  <a:lnTo>
                    <a:pt x="17" y="2305"/>
                  </a:lnTo>
                  <a:lnTo>
                    <a:pt x="19" y="2305"/>
                  </a:lnTo>
                  <a:lnTo>
                    <a:pt x="20" y="2305"/>
                  </a:lnTo>
                  <a:lnTo>
                    <a:pt x="22" y="2305"/>
                  </a:lnTo>
                  <a:lnTo>
                    <a:pt x="23" y="2305"/>
                  </a:lnTo>
                  <a:lnTo>
                    <a:pt x="26" y="2305"/>
                  </a:lnTo>
                  <a:lnTo>
                    <a:pt x="28" y="2305"/>
                  </a:lnTo>
                  <a:lnTo>
                    <a:pt x="29" y="2305"/>
                  </a:lnTo>
                  <a:lnTo>
                    <a:pt x="31" y="2305"/>
                  </a:lnTo>
                  <a:lnTo>
                    <a:pt x="33" y="2305"/>
                  </a:lnTo>
                  <a:lnTo>
                    <a:pt x="34" y="2305"/>
                  </a:lnTo>
                  <a:lnTo>
                    <a:pt x="37" y="2305"/>
                  </a:lnTo>
                  <a:lnTo>
                    <a:pt x="39" y="2305"/>
                  </a:lnTo>
                  <a:lnTo>
                    <a:pt x="40" y="2305"/>
                  </a:lnTo>
                  <a:lnTo>
                    <a:pt x="42" y="2305"/>
                  </a:lnTo>
                  <a:lnTo>
                    <a:pt x="43" y="2305"/>
                  </a:lnTo>
                  <a:lnTo>
                    <a:pt x="45" y="2305"/>
                  </a:lnTo>
                  <a:lnTo>
                    <a:pt x="48" y="2305"/>
                  </a:lnTo>
                  <a:lnTo>
                    <a:pt x="49" y="2213"/>
                  </a:lnTo>
                  <a:lnTo>
                    <a:pt x="51" y="2171"/>
                  </a:lnTo>
                  <a:lnTo>
                    <a:pt x="53" y="2148"/>
                  </a:lnTo>
                  <a:lnTo>
                    <a:pt x="54" y="2056"/>
                  </a:lnTo>
                  <a:lnTo>
                    <a:pt x="56" y="1938"/>
                  </a:lnTo>
                  <a:lnTo>
                    <a:pt x="59" y="1887"/>
                  </a:lnTo>
                  <a:lnTo>
                    <a:pt x="60" y="1863"/>
                  </a:lnTo>
                  <a:lnTo>
                    <a:pt x="62" y="1804"/>
                  </a:lnTo>
                  <a:lnTo>
                    <a:pt x="63" y="1738"/>
                  </a:lnTo>
                  <a:lnTo>
                    <a:pt x="65" y="1683"/>
                  </a:lnTo>
                  <a:lnTo>
                    <a:pt x="66" y="1624"/>
                  </a:lnTo>
                  <a:lnTo>
                    <a:pt x="69" y="1562"/>
                  </a:lnTo>
                  <a:lnTo>
                    <a:pt x="71" y="1502"/>
                  </a:lnTo>
                  <a:lnTo>
                    <a:pt x="72" y="1442"/>
                  </a:lnTo>
                  <a:lnTo>
                    <a:pt x="74" y="1389"/>
                  </a:lnTo>
                  <a:lnTo>
                    <a:pt x="76" y="1353"/>
                  </a:lnTo>
                  <a:lnTo>
                    <a:pt x="77" y="1327"/>
                  </a:lnTo>
                  <a:lnTo>
                    <a:pt x="79" y="1305"/>
                  </a:lnTo>
                  <a:lnTo>
                    <a:pt x="82" y="1287"/>
                  </a:lnTo>
                  <a:lnTo>
                    <a:pt x="83" y="1271"/>
                  </a:lnTo>
                  <a:lnTo>
                    <a:pt x="85" y="1248"/>
                  </a:lnTo>
                  <a:lnTo>
                    <a:pt x="86" y="1221"/>
                  </a:lnTo>
                  <a:lnTo>
                    <a:pt x="88" y="1191"/>
                  </a:lnTo>
                  <a:lnTo>
                    <a:pt x="89" y="1164"/>
                  </a:lnTo>
                  <a:lnTo>
                    <a:pt x="92" y="1133"/>
                  </a:lnTo>
                  <a:lnTo>
                    <a:pt x="94" y="1099"/>
                  </a:lnTo>
                  <a:lnTo>
                    <a:pt x="96" y="1069"/>
                  </a:lnTo>
                  <a:lnTo>
                    <a:pt x="97" y="1044"/>
                  </a:lnTo>
                  <a:lnTo>
                    <a:pt x="99" y="1021"/>
                  </a:lnTo>
                  <a:lnTo>
                    <a:pt x="100" y="996"/>
                  </a:lnTo>
                  <a:lnTo>
                    <a:pt x="103" y="975"/>
                  </a:lnTo>
                  <a:lnTo>
                    <a:pt x="105" y="955"/>
                  </a:lnTo>
                  <a:lnTo>
                    <a:pt x="106" y="932"/>
                  </a:lnTo>
                  <a:lnTo>
                    <a:pt x="108" y="906"/>
                  </a:lnTo>
                  <a:lnTo>
                    <a:pt x="109" y="884"/>
                  </a:lnTo>
                  <a:lnTo>
                    <a:pt x="111" y="866"/>
                  </a:lnTo>
                  <a:lnTo>
                    <a:pt x="114" y="843"/>
                  </a:lnTo>
                  <a:lnTo>
                    <a:pt x="116" y="820"/>
                  </a:lnTo>
                  <a:lnTo>
                    <a:pt x="117" y="792"/>
                  </a:lnTo>
                  <a:lnTo>
                    <a:pt x="119" y="761"/>
                  </a:lnTo>
                  <a:lnTo>
                    <a:pt x="120" y="726"/>
                  </a:lnTo>
                  <a:lnTo>
                    <a:pt x="122" y="695"/>
                  </a:lnTo>
                  <a:lnTo>
                    <a:pt x="125" y="663"/>
                  </a:lnTo>
                  <a:lnTo>
                    <a:pt x="126" y="628"/>
                  </a:lnTo>
                  <a:lnTo>
                    <a:pt x="128" y="594"/>
                  </a:lnTo>
                  <a:lnTo>
                    <a:pt x="129" y="565"/>
                  </a:lnTo>
                  <a:lnTo>
                    <a:pt x="131" y="539"/>
                  </a:lnTo>
                  <a:lnTo>
                    <a:pt x="132" y="519"/>
                  </a:lnTo>
                  <a:lnTo>
                    <a:pt x="135" y="502"/>
                  </a:lnTo>
                  <a:lnTo>
                    <a:pt x="137" y="483"/>
                  </a:lnTo>
                  <a:lnTo>
                    <a:pt x="139" y="463"/>
                  </a:lnTo>
                  <a:lnTo>
                    <a:pt x="140" y="445"/>
                  </a:lnTo>
                  <a:lnTo>
                    <a:pt x="142" y="425"/>
                  </a:lnTo>
                  <a:lnTo>
                    <a:pt x="143" y="400"/>
                  </a:lnTo>
                  <a:lnTo>
                    <a:pt x="146" y="376"/>
                  </a:lnTo>
                  <a:lnTo>
                    <a:pt x="148" y="347"/>
                  </a:lnTo>
                  <a:lnTo>
                    <a:pt x="149" y="318"/>
                  </a:lnTo>
                  <a:lnTo>
                    <a:pt x="151" y="291"/>
                  </a:lnTo>
                  <a:lnTo>
                    <a:pt x="152" y="268"/>
                  </a:lnTo>
                  <a:lnTo>
                    <a:pt x="154" y="245"/>
                  </a:lnTo>
                  <a:lnTo>
                    <a:pt x="157" y="221"/>
                  </a:lnTo>
                  <a:lnTo>
                    <a:pt x="159" y="201"/>
                  </a:lnTo>
                  <a:lnTo>
                    <a:pt x="160" y="189"/>
                  </a:lnTo>
                  <a:lnTo>
                    <a:pt x="162" y="178"/>
                  </a:lnTo>
                  <a:lnTo>
                    <a:pt x="163" y="167"/>
                  </a:lnTo>
                  <a:lnTo>
                    <a:pt x="165" y="159"/>
                  </a:lnTo>
                  <a:lnTo>
                    <a:pt x="168" y="153"/>
                  </a:lnTo>
                  <a:lnTo>
                    <a:pt x="169" y="152"/>
                  </a:lnTo>
                  <a:lnTo>
                    <a:pt x="171" y="156"/>
                  </a:lnTo>
                  <a:lnTo>
                    <a:pt x="172" y="169"/>
                  </a:lnTo>
                  <a:lnTo>
                    <a:pt x="174" y="182"/>
                  </a:lnTo>
                  <a:lnTo>
                    <a:pt x="175" y="189"/>
                  </a:lnTo>
                  <a:lnTo>
                    <a:pt x="179" y="190"/>
                  </a:lnTo>
                  <a:lnTo>
                    <a:pt x="180" y="193"/>
                  </a:lnTo>
                  <a:lnTo>
                    <a:pt x="182" y="195"/>
                  </a:lnTo>
                  <a:lnTo>
                    <a:pt x="183" y="195"/>
                  </a:lnTo>
                  <a:lnTo>
                    <a:pt x="185" y="199"/>
                  </a:lnTo>
                  <a:lnTo>
                    <a:pt x="186" y="210"/>
                  </a:lnTo>
                  <a:lnTo>
                    <a:pt x="188" y="219"/>
                  </a:lnTo>
                  <a:lnTo>
                    <a:pt x="191" y="224"/>
                  </a:lnTo>
                  <a:lnTo>
                    <a:pt x="192" y="224"/>
                  </a:lnTo>
                  <a:lnTo>
                    <a:pt x="194" y="227"/>
                  </a:lnTo>
                  <a:lnTo>
                    <a:pt x="195" y="230"/>
                  </a:lnTo>
                  <a:lnTo>
                    <a:pt x="197" y="236"/>
                  </a:lnTo>
                  <a:lnTo>
                    <a:pt x="198" y="241"/>
                  </a:lnTo>
                  <a:lnTo>
                    <a:pt x="202" y="244"/>
                  </a:lnTo>
                  <a:lnTo>
                    <a:pt x="203" y="247"/>
                  </a:lnTo>
                  <a:lnTo>
                    <a:pt x="205" y="248"/>
                  </a:lnTo>
                  <a:lnTo>
                    <a:pt x="206" y="248"/>
                  </a:lnTo>
                  <a:lnTo>
                    <a:pt x="208" y="245"/>
                  </a:lnTo>
                  <a:lnTo>
                    <a:pt x="209" y="244"/>
                  </a:lnTo>
                  <a:lnTo>
                    <a:pt x="212" y="241"/>
                  </a:lnTo>
                  <a:lnTo>
                    <a:pt x="214" y="235"/>
                  </a:lnTo>
                  <a:lnTo>
                    <a:pt x="215" y="225"/>
                  </a:lnTo>
                  <a:lnTo>
                    <a:pt x="217" y="219"/>
                  </a:lnTo>
                  <a:lnTo>
                    <a:pt x="218" y="210"/>
                  </a:lnTo>
                  <a:lnTo>
                    <a:pt x="220" y="201"/>
                  </a:lnTo>
                  <a:lnTo>
                    <a:pt x="223" y="190"/>
                  </a:lnTo>
                  <a:lnTo>
                    <a:pt x="225" y="181"/>
                  </a:lnTo>
                  <a:lnTo>
                    <a:pt x="226" y="172"/>
                  </a:lnTo>
                  <a:lnTo>
                    <a:pt x="228" y="164"/>
                  </a:lnTo>
                  <a:lnTo>
                    <a:pt x="229" y="155"/>
                  </a:lnTo>
                  <a:lnTo>
                    <a:pt x="231" y="146"/>
                  </a:lnTo>
                  <a:lnTo>
                    <a:pt x="234" y="138"/>
                  </a:lnTo>
                  <a:lnTo>
                    <a:pt x="235" y="129"/>
                  </a:lnTo>
                  <a:lnTo>
                    <a:pt x="237" y="118"/>
                  </a:lnTo>
                  <a:lnTo>
                    <a:pt x="238" y="112"/>
                  </a:lnTo>
                  <a:lnTo>
                    <a:pt x="240" y="109"/>
                  </a:lnTo>
                  <a:lnTo>
                    <a:pt x="241" y="107"/>
                  </a:lnTo>
                  <a:lnTo>
                    <a:pt x="245" y="110"/>
                  </a:lnTo>
                  <a:lnTo>
                    <a:pt x="246" y="115"/>
                  </a:lnTo>
                  <a:lnTo>
                    <a:pt x="248" y="119"/>
                  </a:lnTo>
                  <a:lnTo>
                    <a:pt x="249" y="122"/>
                  </a:lnTo>
                  <a:lnTo>
                    <a:pt x="251" y="129"/>
                  </a:lnTo>
                  <a:lnTo>
                    <a:pt x="252" y="136"/>
                  </a:lnTo>
                  <a:lnTo>
                    <a:pt x="255" y="142"/>
                  </a:lnTo>
                  <a:lnTo>
                    <a:pt x="257" y="152"/>
                  </a:lnTo>
                  <a:lnTo>
                    <a:pt x="258" y="165"/>
                  </a:lnTo>
                  <a:lnTo>
                    <a:pt x="260" y="176"/>
                  </a:lnTo>
                  <a:lnTo>
                    <a:pt x="261" y="184"/>
                  </a:lnTo>
                  <a:lnTo>
                    <a:pt x="263" y="189"/>
                  </a:lnTo>
                  <a:lnTo>
                    <a:pt x="266" y="196"/>
                  </a:lnTo>
                  <a:lnTo>
                    <a:pt x="268" y="202"/>
                  </a:lnTo>
                  <a:lnTo>
                    <a:pt x="269" y="208"/>
                  </a:lnTo>
                  <a:lnTo>
                    <a:pt x="271" y="215"/>
                  </a:lnTo>
                  <a:lnTo>
                    <a:pt x="272" y="216"/>
                  </a:lnTo>
                  <a:lnTo>
                    <a:pt x="274" y="213"/>
                  </a:lnTo>
                  <a:lnTo>
                    <a:pt x="277" y="213"/>
                  </a:lnTo>
                  <a:lnTo>
                    <a:pt x="278" y="213"/>
                  </a:lnTo>
                  <a:lnTo>
                    <a:pt x="280" y="207"/>
                  </a:lnTo>
                  <a:lnTo>
                    <a:pt x="281" y="204"/>
                  </a:lnTo>
                  <a:lnTo>
                    <a:pt x="283" y="205"/>
                  </a:lnTo>
                  <a:lnTo>
                    <a:pt x="285" y="208"/>
                  </a:lnTo>
                  <a:lnTo>
                    <a:pt x="288" y="207"/>
                  </a:lnTo>
                  <a:lnTo>
                    <a:pt x="289" y="201"/>
                  </a:lnTo>
                  <a:lnTo>
                    <a:pt x="291" y="193"/>
                  </a:lnTo>
                  <a:lnTo>
                    <a:pt x="292" y="182"/>
                  </a:lnTo>
                  <a:lnTo>
                    <a:pt x="294" y="167"/>
                  </a:lnTo>
                  <a:lnTo>
                    <a:pt x="295" y="152"/>
                  </a:lnTo>
                  <a:lnTo>
                    <a:pt x="297" y="138"/>
                  </a:lnTo>
                  <a:lnTo>
                    <a:pt x="300" y="124"/>
                  </a:lnTo>
                  <a:lnTo>
                    <a:pt x="301" y="110"/>
                  </a:lnTo>
                  <a:lnTo>
                    <a:pt x="303" y="96"/>
                  </a:lnTo>
                  <a:lnTo>
                    <a:pt x="304" y="86"/>
                  </a:lnTo>
                  <a:lnTo>
                    <a:pt x="306" y="78"/>
                  </a:lnTo>
                  <a:lnTo>
                    <a:pt x="308" y="70"/>
                  </a:lnTo>
                  <a:lnTo>
                    <a:pt x="311" y="66"/>
                  </a:lnTo>
                  <a:lnTo>
                    <a:pt x="312" y="66"/>
                  </a:lnTo>
                  <a:lnTo>
                    <a:pt x="314" y="72"/>
                  </a:lnTo>
                  <a:lnTo>
                    <a:pt x="315" y="81"/>
                  </a:lnTo>
                  <a:lnTo>
                    <a:pt x="317" y="93"/>
                  </a:lnTo>
                  <a:lnTo>
                    <a:pt x="318" y="104"/>
                  </a:lnTo>
                  <a:lnTo>
                    <a:pt x="321" y="113"/>
                  </a:lnTo>
                  <a:lnTo>
                    <a:pt x="323" y="122"/>
                  </a:lnTo>
                  <a:lnTo>
                    <a:pt x="324" y="133"/>
                  </a:lnTo>
                  <a:lnTo>
                    <a:pt x="326" y="142"/>
                  </a:lnTo>
                  <a:lnTo>
                    <a:pt x="328" y="149"/>
                  </a:lnTo>
                  <a:lnTo>
                    <a:pt x="329" y="152"/>
                  </a:lnTo>
                  <a:lnTo>
                    <a:pt x="332" y="152"/>
                  </a:lnTo>
                  <a:lnTo>
                    <a:pt x="334" y="152"/>
                  </a:lnTo>
                  <a:lnTo>
                    <a:pt x="335" y="158"/>
                  </a:lnTo>
                  <a:lnTo>
                    <a:pt x="337" y="164"/>
                  </a:lnTo>
                  <a:lnTo>
                    <a:pt x="338" y="170"/>
                  </a:lnTo>
                  <a:lnTo>
                    <a:pt x="340" y="176"/>
                  </a:lnTo>
                  <a:lnTo>
                    <a:pt x="343" y="187"/>
                  </a:lnTo>
                  <a:lnTo>
                    <a:pt x="344" y="193"/>
                  </a:lnTo>
                  <a:lnTo>
                    <a:pt x="346" y="190"/>
                  </a:lnTo>
                  <a:lnTo>
                    <a:pt x="348" y="178"/>
                  </a:lnTo>
                  <a:lnTo>
                    <a:pt x="349" y="162"/>
                  </a:lnTo>
                  <a:lnTo>
                    <a:pt x="351" y="139"/>
                  </a:lnTo>
                  <a:lnTo>
                    <a:pt x="354" y="112"/>
                  </a:lnTo>
                  <a:lnTo>
                    <a:pt x="355" y="84"/>
                  </a:lnTo>
                  <a:lnTo>
                    <a:pt x="357" y="63"/>
                  </a:lnTo>
                  <a:lnTo>
                    <a:pt x="358" y="43"/>
                  </a:lnTo>
                  <a:lnTo>
                    <a:pt x="360" y="24"/>
                  </a:lnTo>
                  <a:lnTo>
                    <a:pt x="361" y="10"/>
                  </a:lnTo>
                  <a:lnTo>
                    <a:pt x="364" y="1"/>
                  </a:lnTo>
                  <a:lnTo>
                    <a:pt x="366" y="0"/>
                  </a:lnTo>
                  <a:lnTo>
                    <a:pt x="367" y="6"/>
                  </a:lnTo>
                  <a:lnTo>
                    <a:pt x="369" y="13"/>
                  </a:lnTo>
                  <a:lnTo>
                    <a:pt x="371" y="20"/>
                  </a:lnTo>
                  <a:lnTo>
                    <a:pt x="372" y="26"/>
                  </a:lnTo>
                  <a:lnTo>
                    <a:pt x="375" y="33"/>
                  </a:lnTo>
                  <a:lnTo>
                    <a:pt x="377" y="38"/>
                  </a:lnTo>
                  <a:lnTo>
                    <a:pt x="378" y="43"/>
                  </a:lnTo>
                  <a:lnTo>
                    <a:pt x="380" y="49"/>
                  </a:lnTo>
                  <a:lnTo>
                    <a:pt x="381" y="53"/>
                  </a:lnTo>
                  <a:lnTo>
                    <a:pt x="383" y="55"/>
                  </a:lnTo>
                  <a:lnTo>
                    <a:pt x="386" y="56"/>
                  </a:lnTo>
                  <a:lnTo>
                    <a:pt x="387" y="58"/>
                  </a:lnTo>
                  <a:lnTo>
                    <a:pt x="389" y="53"/>
                  </a:lnTo>
                  <a:lnTo>
                    <a:pt x="391" y="43"/>
                  </a:lnTo>
                  <a:lnTo>
                    <a:pt x="392" y="35"/>
                  </a:lnTo>
                  <a:lnTo>
                    <a:pt x="394" y="30"/>
                  </a:lnTo>
                  <a:lnTo>
                    <a:pt x="397" y="29"/>
                  </a:lnTo>
                  <a:lnTo>
                    <a:pt x="398" y="27"/>
                  </a:lnTo>
                  <a:lnTo>
                    <a:pt x="400" y="26"/>
                  </a:lnTo>
                  <a:lnTo>
                    <a:pt x="401" y="21"/>
                  </a:lnTo>
                  <a:lnTo>
                    <a:pt x="403" y="17"/>
                  </a:lnTo>
                  <a:lnTo>
                    <a:pt x="404" y="13"/>
                  </a:lnTo>
                  <a:lnTo>
                    <a:pt x="407" y="20"/>
                  </a:lnTo>
                  <a:lnTo>
                    <a:pt x="409" y="38"/>
                  </a:lnTo>
                  <a:lnTo>
                    <a:pt x="411" y="61"/>
                  </a:lnTo>
                  <a:lnTo>
                    <a:pt x="412" y="81"/>
                  </a:lnTo>
                  <a:lnTo>
                    <a:pt x="414" y="95"/>
                  </a:lnTo>
                  <a:lnTo>
                    <a:pt x="415" y="107"/>
                  </a:lnTo>
                  <a:lnTo>
                    <a:pt x="417" y="118"/>
                  </a:lnTo>
                  <a:lnTo>
                    <a:pt x="420" y="127"/>
                  </a:lnTo>
                  <a:lnTo>
                    <a:pt x="421" y="132"/>
                  </a:lnTo>
                  <a:lnTo>
                    <a:pt x="423" y="150"/>
                  </a:lnTo>
                  <a:lnTo>
                    <a:pt x="424" y="175"/>
                  </a:lnTo>
                  <a:lnTo>
                    <a:pt x="426" y="205"/>
                  </a:lnTo>
                  <a:lnTo>
                    <a:pt x="427" y="239"/>
                  </a:lnTo>
                  <a:lnTo>
                    <a:pt x="430" y="279"/>
                  </a:lnTo>
                  <a:lnTo>
                    <a:pt x="432" y="316"/>
                  </a:lnTo>
                  <a:lnTo>
                    <a:pt x="434" y="350"/>
                  </a:lnTo>
                  <a:lnTo>
                    <a:pt x="435" y="380"/>
                  </a:lnTo>
                  <a:lnTo>
                    <a:pt x="437" y="414"/>
                  </a:lnTo>
                  <a:lnTo>
                    <a:pt x="438" y="443"/>
                  </a:lnTo>
                  <a:lnTo>
                    <a:pt x="441" y="474"/>
                  </a:lnTo>
                  <a:lnTo>
                    <a:pt x="443" y="520"/>
                  </a:lnTo>
                  <a:lnTo>
                    <a:pt x="444" y="597"/>
                  </a:lnTo>
                  <a:lnTo>
                    <a:pt x="446" y="701"/>
                  </a:lnTo>
                  <a:lnTo>
                    <a:pt x="447" y="829"/>
                  </a:lnTo>
                  <a:lnTo>
                    <a:pt x="449" y="967"/>
                  </a:lnTo>
                  <a:lnTo>
                    <a:pt x="452" y="1102"/>
                  </a:lnTo>
                  <a:lnTo>
                    <a:pt x="454" y="1231"/>
                  </a:lnTo>
                  <a:lnTo>
                    <a:pt x="455" y="1362"/>
                  </a:lnTo>
                  <a:lnTo>
                    <a:pt x="457" y="1494"/>
                  </a:lnTo>
                  <a:lnTo>
                    <a:pt x="458" y="1608"/>
                  </a:lnTo>
                  <a:lnTo>
                    <a:pt x="460" y="1697"/>
                  </a:lnTo>
                  <a:lnTo>
                    <a:pt x="463" y="1763"/>
                  </a:lnTo>
                  <a:lnTo>
                    <a:pt x="464" y="1820"/>
                  </a:lnTo>
                  <a:lnTo>
                    <a:pt x="466" y="1866"/>
                  </a:lnTo>
                  <a:lnTo>
                    <a:pt x="467" y="1889"/>
                  </a:lnTo>
                  <a:lnTo>
                    <a:pt x="469" y="1895"/>
                  </a:lnTo>
                  <a:lnTo>
                    <a:pt x="470" y="1884"/>
                  </a:lnTo>
                  <a:lnTo>
                    <a:pt x="473" y="1853"/>
                  </a:lnTo>
                  <a:lnTo>
                    <a:pt x="475" y="1813"/>
                  </a:lnTo>
                  <a:lnTo>
                    <a:pt x="477" y="1777"/>
                  </a:lnTo>
                  <a:lnTo>
                    <a:pt x="478" y="1744"/>
                  </a:lnTo>
                  <a:lnTo>
                    <a:pt x="480" y="1720"/>
                  </a:lnTo>
                  <a:lnTo>
                    <a:pt x="481" y="1714"/>
                  </a:lnTo>
                  <a:lnTo>
                    <a:pt x="484" y="1723"/>
                  </a:lnTo>
                  <a:lnTo>
                    <a:pt x="486" y="1730"/>
                  </a:lnTo>
                  <a:lnTo>
                    <a:pt x="487" y="1726"/>
                  </a:lnTo>
                  <a:lnTo>
                    <a:pt x="489" y="1721"/>
                  </a:lnTo>
                  <a:lnTo>
                    <a:pt x="490" y="1730"/>
                  </a:lnTo>
                  <a:lnTo>
                    <a:pt x="492" y="1750"/>
                  </a:lnTo>
                  <a:lnTo>
                    <a:pt x="495" y="1792"/>
                  </a:lnTo>
                  <a:lnTo>
                    <a:pt x="497" y="1864"/>
                  </a:lnTo>
                  <a:lnTo>
                    <a:pt x="498" y="1949"/>
                  </a:lnTo>
                  <a:lnTo>
                    <a:pt x="500" y="2015"/>
                  </a:lnTo>
                  <a:lnTo>
                    <a:pt x="501" y="2048"/>
                  </a:lnTo>
                  <a:lnTo>
                    <a:pt x="503" y="2058"/>
                  </a:lnTo>
                  <a:lnTo>
                    <a:pt x="506" y="2053"/>
                  </a:lnTo>
                  <a:lnTo>
                    <a:pt x="507" y="2050"/>
                  </a:lnTo>
                  <a:lnTo>
                    <a:pt x="509" y="2051"/>
                  </a:lnTo>
                  <a:lnTo>
                    <a:pt x="510" y="2047"/>
                  </a:lnTo>
                  <a:lnTo>
                    <a:pt x="512" y="2019"/>
                  </a:lnTo>
                  <a:lnTo>
                    <a:pt x="513" y="1968"/>
                  </a:lnTo>
                  <a:lnTo>
                    <a:pt x="517" y="1907"/>
                  </a:lnTo>
                  <a:lnTo>
                    <a:pt x="518" y="1839"/>
                  </a:lnTo>
                  <a:lnTo>
                    <a:pt x="520" y="1763"/>
                  </a:lnTo>
                  <a:lnTo>
                    <a:pt x="521" y="1680"/>
                  </a:lnTo>
                  <a:lnTo>
                    <a:pt x="523" y="1617"/>
                  </a:lnTo>
                  <a:lnTo>
                    <a:pt x="524" y="1581"/>
                  </a:lnTo>
                  <a:lnTo>
                    <a:pt x="526" y="1566"/>
                  </a:lnTo>
                  <a:lnTo>
                    <a:pt x="529" y="1558"/>
                  </a:lnTo>
                  <a:lnTo>
                    <a:pt x="530" y="1565"/>
                  </a:lnTo>
                  <a:lnTo>
                    <a:pt x="532" y="1586"/>
                  </a:lnTo>
                  <a:lnTo>
                    <a:pt x="533" y="1618"/>
                  </a:lnTo>
                  <a:lnTo>
                    <a:pt x="535" y="1655"/>
                  </a:lnTo>
                  <a:lnTo>
                    <a:pt x="536" y="1692"/>
                  </a:lnTo>
                  <a:lnTo>
                    <a:pt x="540" y="1726"/>
                  </a:lnTo>
                  <a:lnTo>
                    <a:pt x="541" y="1753"/>
                  </a:lnTo>
                  <a:lnTo>
                    <a:pt x="543" y="1781"/>
                  </a:lnTo>
                  <a:lnTo>
                    <a:pt x="544" y="1816"/>
                  </a:lnTo>
                  <a:lnTo>
                    <a:pt x="546" y="1850"/>
                  </a:lnTo>
                  <a:lnTo>
                    <a:pt x="547" y="1866"/>
                  </a:lnTo>
                  <a:lnTo>
                    <a:pt x="550" y="1866"/>
                  </a:lnTo>
                  <a:lnTo>
                    <a:pt x="552" y="1855"/>
                  </a:lnTo>
                  <a:lnTo>
                    <a:pt x="553" y="1833"/>
                  </a:lnTo>
                  <a:lnTo>
                    <a:pt x="555" y="1801"/>
                  </a:lnTo>
                  <a:lnTo>
                    <a:pt x="556" y="1770"/>
                  </a:lnTo>
                  <a:lnTo>
                    <a:pt x="558" y="1750"/>
                  </a:lnTo>
                  <a:lnTo>
                    <a:pt x="561" y="1744"/>
                  </a:lnTo>
                  <a:lnTo>
                    <a:pt x="563" y="1750"/>
                  </a:lnTo>
                  <a:lnTo>
                    <a:pt x="564" y="1763"/>
                  </a:lnTo>
                  <a:lnTo>
                    <a:pt x="566" y="1770"/>
                  </a:lnTo>
                  <a:lnTo>
                    <a:pt x="567" y="1767"/>
                  </a:lnTo>
                  <a:lnTo>
                    <a:pt x="569" y="1753"/>
                  </a:lnTo>
                  <a:lnTo>
                    <a:pt x="572" y="1737"/>
                  </a:lnTo>
                  <a:lnTo>
                    <a:pt x="573" y="1732"/>
                  </a:lnTo>
                  <a:lnTo>
                    <a:pt x="575" y="1743"/>
                  </a:lnTo>
                  <a:lnTo>
                    <a:pt x="576" y="1746"/>
                  </a:lnTo>
                  <a:lnTo>
                    <a:pt x="578" y="1735"/>
                  </a:lnTo>
                  <a:lnTo>
                    <a:pt x="580" y="1729"/>
                  </a:lnTo>
                  <a:lnTo>
                    <a:pt x="583" y="1741"/>
                  </a:lnTo>
                  <a:lnTo>
                    <a:pt x="584" y="1760"/>
                  </a:lnTo>
                  <a:lnTo>
                    <a:pt x="586" y="1772"/>
                  </a:lnTo>
                  <a:lnTo>
                    <a:pt x="587" y="1786"/>
                  </a:lnTo>
                  <a:lnTo>
                    <a:pt x="589" y="1803"/>
                  </a:lnTo>
                  <a:lnTo>
                    <a:pt x="590" y="1810"/>
                  </a:lnTo>
                  <a:lnTo>
                    <a:pt x="593" y="1806"/>
                  </a:lnTo>
                  <a:lnTo>
                    <a:pt x="595" y="1796"/>
                  </a:lnTo>
                  <a:lnTo>
                    <a:pt x="596" y="1781"/>
                  </a:lnTo>
                  <a:lnTo>
                    <a:pt x="598" y="1750"/>
                  </a:lnTo>
                  <a:lnTo>
                    <a:pt x="599" y="1712"/>
                  </a:lnTo>
                  <a:lnTo>
                    <a:pt x="601" y="1678"/>
                  </a:lnTo>
                  <a:lnTo>
                    <a:pt x="604" y="1652"/>
                  </a:lnTo>
                  <a:lnTo>
                    <a:pt x="606" y="1632"/>
                  </a:lnTo>
                  <a:lnTo>
                    <a:pt x="607" y="1620"/>
                  </a:lnTo>
                  <a:lnTo>
                    <a:pt x="609" y="1626"/>
                  </a:lnTo>
                  <a:lnTo>
                    <a:pt x="610" y="1640"/>
                  </a:lnTo>
                  <a:lnTo>
                    <a:pt x="612" y="1654"/>
                  </a:lnTo>
                  <a:lnTo>
                    <a:pt x="615" y="1663"/>
                  </a:lnTo>
                  <a:lnTo>
                    <a:pt x="616" y="1675"/>
                  </a:lnTo>
                  <a:lnTo>
                    <a:pt x="618" y="1692"/>
                  </a:lnTo>
                  <a:lnTo>
                    <a:pt x="619" y="1697"/>
                  </a:lnTo>
                  <a:lnTo>
                    <a:pt x="621" y="1681"/>
                  </a:lnTo>
                  <a:lnTo>
                    <a:pt x="623" y="1660"/>
                  </a:lnTo>
                  <a:lnTo>
                    <a:pt x="626" y="1654"/>
                  </a:lnTo>
                  <a:lnTo>
                    <a:pt x="627" y="1648"/>
                  </a:lnTo>
                  <a:lnTo>
                    <a:pt x="629" y="1632"/>
                  </a:lnTo>
                  <a:lnTo>
                    <a:pt x="630" y="1623"/>
                  </a:lnTo>
                  <a:lnTo>
                    <a:pt x="632" y="1624"/>
                  </a:lnTo>
                  <a:lnTo>
                    <a:pt x="633" y="1618"/>
                  </a:lnTo>
                  <a:lnTo>
                    <a:pt x="635" y="1609"/>
                  </a:lnTo>
                  <a:lnTo>
                    <a:pt x="638" y="1617"/>
                  </a:lnTo>
                  <a:lnTo>
                    <a:pt x="639" y="1637"/>
                  </a:lnTo>
                  <a:lnTo>
                    <a:pt x="641" y="1651"/>
                  </a:lnTo>
                  <a:lnTo>
                    <a:pt x="642" y="1657"/>
                  </a:lnTo>
                  <a:lnTo>
                    <a:pt x="644" y="1667"/>
                  </a:lnTo>
                  <a:lnTo>
                    <a:pt x="646" y="1675"/>
                  </a:lnTo>
                  <a:lnTo>
                    <a:pt x="649" y="1674"/>
                  </a:lnTo>
                  <a:lnTo>
                    <a:pt x="650" y="1674"/>
                  </a:lnTo>
                  <a:lnTo>
                    <a:pt x="652" y="1692"/>
                  </a:lnTo>
                  <a:lnTo>
                    <a:pt x="653" y="1726"/>
                  </a:lnTo>
                  <a:lnTo>
                    <a:pt x="655" y="1746"/>
                  </a:lnTo>
                  <a:lnTo>
                    <a:pt x="656" y="1740"/>
                  </a:lnTo>
                  <a:lnTo>
                    <a:pt x="659" y="1712"/>
                  </a:lnTo>
                  <a:lnTo>
                    <a:pt x="661" y="1684"/>
                  </a:lnTo>
                  <a:lnTo>
                    <a:pt x="662" y="1657"/>
                  </a:lnTo>
                  <a:lnTo>
                    <a:pt x="664" y="1629"/>
                  </a:lnTo>
                  <a:lnTo>
                    <a:pt x="666" y="1617"/>
                  </a:lnTo>
                  <a:lnTo>
                    <a:pt x="667" y="1628"/>
                  </a:lnTo>
                  <a:lnTo>
                    <a:pt x="670" y="1644"/>
                  </a:lnTo>
                  <a:lnTo>
                    <a:pt x="672" y="1664"/>
                  </a:lnTo>
                  <a:lnTo>
                    <a:pt x="673" y="1700"/>
                  </a:lnTo>
                  <a:lnTo>
                    <a:pt x="675" y="1749"/>
                  </a:lnTo>
                  <a:lnTo>
                    <a:pt x="676" y="1784"/>
                  </a:lnTo>
                  <a:lnTo>
                    <a:pt x="678" y="1801"/>
                  </a:lnTo>
                  <a:lnTo>
                    <a:pt x="681" y="1818"/>
                  </a:lnTo>
                  <a:lnTo>
                    <a:pt x="682" y="1843"/>
                  </a:lnTo>
                  <a:lnTo>
                    <a:pt x="684" y="1863"/>
                  </a:lnTo>
                  <a:lnTo>
                    <a:pt x="686" y="1875"/>
                  </a:lnTo>
                  <a:lnTo>
                    <a:pt x="687" y="1879"/>
                  </a:lnTo>
                  <a:lnTo>
                    <a:pt x="689" y="1878"/>
                  </a:lnTo>
                  <a:lnTo>
                    <a:pt x="692" y="1875"/>
                  </a:lnTo>
                  <a:lnTo>
                    <a:pt x="693" y="1876"/>
                  </a:lnTo>
                  <a:lnTo>
                    <a:pt x="695" y="1887"/>
                  </a:lnTo>
                  <a:lnTo>
                    <a:pt x="696" y="1907"/>
                  </a:lnTo>
                  <a:lnTo>
                    <a:pt x="698" y="1929"/>
                  </a:lnTo>
                  <a:lnTo>
                    <a:pt x="699" y="1938"/>
                  </a:lnTo>
                  <a:lnTo>
                    <a:pt x="702" y="1938"/>
                  </a:lnTo>
                  <a:lnTo>
                    <a:pt x="704" y="1942"/>
                  </a:lnTo>
                  <a:lnTo>
                    <a:pt x="705" y="1952"/>
                  </a:lnTo>
                  <a:lnTo>
                    <a:pt x="707" y="1947"/>
                  </a:lnTo>
                  <a:lnTo>
                    <a:pt x="709" y="1929"/>
                  </a:lnTo>
                  <a:lnTo>
                    <a:pt x="710" y="1904"/>
                  </a:lnTo>
                  <a:lnTo>
                    <a:pt x="713" y="1879"/>
                  </a:lnTo>
                  <a:lnTo>
                    <a:pt x="715" y="1859"/>
                  </a:lnTo>
                  <a:lnTo>
                    <a:pt x="716" y="1861"/>
                  </a:lnTo>
                  <a:lnTo>
                    <a:pt x="718" y="1878"/>
                  </a:lnTo>
                  <a:lnTo>
                    <a:pt x="719" y="1890"/>
                  </a:lnTo>
                  <a:lnTo>
                    <a:pt x="721" y="1889"/>
                  </a:lnTo>
                  <a:lnTo>
                    <a:pt x="724" y="1879"/>
                  </a:lnTo>
                  <a:lnTo>
                    <a:pt x="725" y="1859"/>
                  </a:lnTo>
                  <a:lnTo>
                    <a:pt x="727" y="1832"/>
                  </a:lnTo>
                  <a:lnTo>
                    <a:pt x="729" y="1818"/>
                  </a:lnTo>
                  <a:lnTo>
                    <a:pt x="730" y="1830"/>
                  </a:lnTo>
                  <a:lnTo>
                    <a:pt x="732" y="1858"/>
                  </a:lnTo>
                  <a:lnTo>
                    <a:pt x="735" y="1879"/>
                  </a:lnTo>
                  <a:lnTo>
                    <a:pt x="736" y="1873"/>
                  </a:lnTo>
                  <a:lnTo>
                    <a:pt x="738" y="1833"/>
                  </a:lnTo>
                  <a:lnTo>
                    <a:pt x="739" y="1787"/>
                  </a:lnTo>
                  <a:lnTo>
                    <a:pt x="741" y="1764"/>
                  </a:lnTo>
                  <a:lnTo>
                    <a:pt x="742" y="1769"/>
                  </a:lnTo>
                  <a:lnTo>
                    <a:pt x="744" y="1773"/>
                  </a:lnTo>
                  <a:lnTo>
                    <a:pt x="747" y="1764"/>
                  </a:lnTo>
                  <a:lnTo>
                    <a:pt x="749" y="1749"/>
                  </a:lnTo>
                  <a:lnTo>
                    <a:pt x="750" y="1738"/>
                  </a:lnTo>
                  <a:lnTo>
                    <a:pt x="752" y="1744"/>
                  </a:lnTo>
                  <a:lnTo>
                    <a:pt x="753" y="1770"/>
                  </a:lnTo>
                  <a:lnTo>
                    <a:pt x="755" y="1806"/>
                  </a:lnTo>
                  <a:lnTo>
                    <a:pt x="758" y="1836"/>
                  </a:lnTo>
                  <a:lnTo>
                    <a:pt x="759" y="1861"/>
                  </a:lnTo>
                  <a:lnTo>
                    <a:pt x="761" y="1884"/>
                  </a:lnTo>
                  <a:lnTo>
                    <a:pt x="762" y="1906"/>
                  </a:lnTo>
                  <a:lnTo>
                    <a:pt x="764" y="1956"/>
                  </a:lnTo>
                  <a:lnTo>
                    <a:pt x="765" y="2035"/>
                  </a:lnTo>
                  <a:lnTo>
                    <a:pt x="768" y="2171"/>
                  </a:lnTo>
                  <a:lnTo>
                    <a:pt x="770" y="2305"/>
                  </a:lnTo>
                  <a:lnTo>
                    <a:pt x="772" y="2305"/>
                  </a:lnTo>
                </a:path>
              </a:pathLst>
            </a:custGeom>
            <a:noFill/>
            <a:ln w="3240">
              <a:solidFill>
                <a:srgbClr val="0000ff"/>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32" name=""/>
            <p:cNvSpPr/>
            <p:nvPr/>
          </p:nvSpPr>
          <p:spPr>
            <a:xfrm rot="16200000">
              <a:off x="879120" y="4828320"/>
              <a:ext cx="7718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hicle Speed (km/h)</a:t>
              </a:r>
              <a:endParaRPr b="0" lang="en-US" sz="600" spc="-1" strike="noStrike">
                <a:solidFill>
                  <a:srgbClr val="000000"/>
                </a:solidFill>
                <a:latin typeface="Arial"/>
              </a:endParaRPr>
            </a:p>
          </p:txBody>
        </p:sp>
        <p:sp>
          <p:nvSpPr>
            <p:cNvPr id="933" name=""/>
            <p:cNvSpPr/>
            <p:nvPr/>
          </p:nvSpPr>
          <p:spPr>
            <a:xfrm>
              <a:off x="1960200" y="5354280"/>
              <a:ext cx="360000" cy="1832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Time (sec)</a:t>
              </a:r>
              <a:endParaRPr b="0" lang="en-US" sz="600" spc="-1" strike="noStrike">
                <a:solidFill>
                  <a:srgbClr val="000000"/>
                </a:solidFill>
                <a:latin typeface="Arial"/>
              </a:endParaRPr>
            </a:p>
          </p:txBody>
        </p:sp>
        <p:sp>
          <p:nvSpPr>
            <p:cNvPr id="934" name=""/>
            <p:cNvSpPr/>
            <p:nvPr/>
          </p:nvSpPr>
          <p:spPr>
            <a:xfrm>
              <a:off x="1458720" y="4497120"/>
              <a:ext cx="1361880" cy="7524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935" name=""/>
          <p:cNvSpPr/>
          <p:nvPr/>
        </p:nvSpPr>
        <p:spPr>
          <a:xfrm>
            <a:off x="851040" y="5584680"/>
            <a:ext cx="23079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ference vehicle spe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JE05 driving cycle)</a:t>
            </a:r>
            <a:endParaRPr b="0" lang="en-US" sz="1200" spc="-1" strike="noStrike">
              <a:solidFill>
                <a:srgbClr val="000000"/>
              </a:solidFill>
              <a:latin typeface="Arial"/>
            </a:endParaRPr>
          </a:p>
        </p:txBody>
      </p:sp>
      <p:grpSp>
        <p:nvGrpSpPr>
          <p:cNvPr id="936" name=""/>
          <p:cNvGrpSpPr/>
          <p:nvPr/>
        </p:nvGrpSpPr>
        <p:grpSpPr>
          <a:xfrm>
            <a:off x="3098880" y="4759200"/>
            <a:ext cx="1802880" cy="1050840"/>
            <a:chOff x="3098880" y="4759200"/>
            <a:chExt cx="1802880" cy="1050840"/>
          </a:xfrm>
        </p:grpSpPr>
        <p:sp>
          <p:nvSpPr>
            <p:cNvPr id="937" name=""/>
            <p:cNvSpPr/>
            <p:nvPr/>
          </p:nvSpPr>
          <p:spPr>
            <a:xfrm>
              <a:off x="3098880" y="4759200"/>
              <a:ext cx="1802880" cy="10508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38" name=""/>
            <p:cNvSpPr/>
            <p:nvPr/>
          </p:nvSpPr>
          <p:spPr>
            <a:xfrm>
              <a:off x="3227400" y="4768560"/>
              <a:ext cx="154764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imulation results</a:t>
              </a:r>
              <a:endParaRPr b="0" lang="en-US" sz="1400" spc="-1" strike="noStrike">
                <a:solidFill>
                  <a:srgbClr val="000000"/>
                </a:solidFill>
                <a:latin typeface="Arial"/>
              </a:endParaRPr>
            </a:p>
          </p:txBody>
        </p:sp>
        <p:grpSp>
          <p:nvGrpSpPr>
            <p:cNvPr id="939" name=""/>
            <p:cNvGrpSpPr/>
            <p:nvPr/>
          </p:nvGrpSpPr>
          <p:grpSpPr>
            <a:xfrm>
              <a:off x="3580560" y="5373720"/>
              <a:ext cx="844920" cy="423720"/>
              <a:chOff x="3580560" y="5373720"/>
              <a:chExt cx="844920" cy="423720"/>
            </a:xfrm>
          </p:grpSpPr>
          <p:sp>
            <p:nvSpPr>
              <p:cNvPr id="940" name=""/>
              <p:cNvSpPr/>
              <p:nvPr/>
            </p:nvSpPr>
            <p:spPr>
              <a:xfrm flipV="1">
                <a:off x="3745800" y="5399280"/>
                <a:ext cx="0" cy="287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rot="16200000">
                <a:off x="3468240" y="5486040"/>
                <a:ext cx="34668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rque</a:t>
                </a:r>
                <a:endParaRPr b="0" lang="en-US" sz="800" spc="-1" strike="noStrike">
                  <a:solidFill>
                    <a:srgbClr val="000000"/>
                  </a:solidFill>
                  <a:latin typeface="Arial"/>
                </a:endParaRPr>
              </a:p>
            </p:txBody>
          </p:sp>
          <p:sp>
            <p:nvSpPr>
              <p:cNvPr id="942" name=""/>
              <p:cNvSpPr/>
              <p:nvPr/>
            </p:nvSpPr>
            <p:spPr>
              <a:xfrm>
                <a:off x="3979440" y="5675400"/>
                <a:ext cx="16992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a:t>
                </a:r>
                <a:endParaRPr b="0" lang="en-US" sz="800" spc="-1" strike="noStrike">
                  <a:solidFill>
                    <a:srgbClr val="000000"/>
                  </a:solidFill>
                  <a:latin typeface="Arial"/>
                </a:endParaRPr>
              </a:p>
            </p:txBody>
          </p:sp>
          <p:sp>
            <p:nvSpPr>
              <p:cNvPr id="943" name=""/>
              <p:cNvSpPr/>
              <p:nvPr/>
            </p:nvSpPr>
            <p:spPr>
              <a:xfrm>
                <a:off x="3843000" y="5467320"/>
                <a:ext cx="441360" cy="220680"/>
              </a:xfrm>
              <a:custGeom>
                <a:avLst/>
                <a:gdLst/>
                <a:ahLst/>
                <a:rect l="l" t="t" r="r" b="b"/>
                <a:pathLst>
                  <a:path w="240" h="139">
                    <a:moveTo>
                      <a:pt x="0" y="139"/>
                    </a:moveTo>
                    <a:cubicBezTo>
                      <a:pt x="3" y="127"/>
                      <a:pt x="6" y="115"/>
                      <a:pt x="12" y="103"/>
                    </a:cubicBezTo>
                    <a:cubicBezTo>
                      <a:pt x="18" y="91"/>
                      <a:pt x="28" y="71"/>
                      <a:pt x="36" y="65"/>
                    </a:cubicBezTo>
                    <a:cubicBezTo>
                      <a:pt x="44" y="59"/>
                      <a:pt x="51" y="63"/>
                      <a:pt x="58" y="67"/>
                    </a:cubicBezTo>
                    <a:cubicBezTo>
                      <a:pt x="65" y="71"/>
                      <a:pt x="69" y="86"/>
                      <a:pt x="76" y="88"/>
                    </a:cubicBezTo>
                    <a:cubicBezTo>
                      <a:pt x="83" y="90"/>
                      <a:pt x="95" y="86"/>
                      <a:pt x="103" y="77"/>
                    </a:cubicBezTo>
                    <a:cubicBezTo>
                      <a:pt x="111" y="68"/>
                      <a:pt x="117" y="44"/>
                      <a:pt x="126" y="32"/>
                    </a:cubicBezTo>
                    <a:cubicBezTo>
                      <a:pt x="135" y="20"/>
                      <a:pt x="145" y="4"/>
                      <a:pt x="156" y="2"/>
                    </a:cubicBezTo>
                    <a:cubicBezTo>
                      <a:pt x="167" y="0"/>
                      <a:pt x="182" y="7"/>
                      <a:pt x="193" y="20"/>
                    </a:cubicBezTo>
                    <a:cubicBezTo>
                      <a:pt x="204" y="33"/>
                      <a:pt x="217" y="59"/>
                      <a:pt x="225" y="79"/>
                    </a:cubicBezTo>
                    <a:cubicBezTo>
                      <a:pt x="233" y="99"/>
                      <a:pt x="237" y="127"/>
                      <a:pt x="240" y="139"/>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3745800" y="5688000"/>
                <a:ext cx="6796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5" name=""/>
            <p:cNvGrpSpPr/>
            <p:nvPr/>
          </p:nvGrpSpPr>
          <p:grpSpPr>
            <a:xfrm>
              <a:off x="3578400" y="5004720"/>
              <a:ext cx="848520" cy="405000"/>
              <a:chOff x="3578400" y="5004720"/>
              <a:chExt cx="848520" cy="405000"/>
            </a:xfrm>
          </p:grpSpPr>
          <p:sp>
            <p:nvSpPr>
              <p:cNvPr id="946" name=""/>
              <p:cNvSpPr/>
              <p:nvPr/>
            </p:nvSpPr>
            <p:spPr>
              <a:xfrm flipV="1">
                <a:off x="3747240" y="5004720"/>
                <a:ext cx="0" cy="2876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rot="16200000">
                <a:off x="3542040" y="5117760"/>
                <a:ext cx="19440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pm</a:t>
                </a:r>
                <a:endParaRPr b="0" lang="en-US" sz="800" spc="-1" strike="noStrike">
                  <a:solidFill>
                    <a:srgbClr val="000000"/>
                  </a:solidFill>
                  <a:latin typeface="Arial"/>
                </a:endParaRPr>
              </a:p>
            </p:txBody>
          </p:sp>
          <p:sp>
            <p:nvSpPr>
              <p:cNvPr id="948" name=""/>
              <p:cNvSpPr/>
              <p:nvPr/>
            </p:nvSpPr>
            <p:spPr>
              <a:xfrm>
                <a:off x="3958200" y="5287680"/>
                <a:ext cx="16992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a:t>
                </a:r>
                <a:endParaRPr b="0" lang="en-US" sz="800" spc="-1" strike="noStrike">
                  <a:solidFill>
                    <a:srgbClr val="000000"/>
                  </a:solidFill>
                  <a:latin typeface="Arial"/>
                </a:endParaRPr>
              </a:p>
            </p:txBody>
          </p:sp>
          <p:sp>
            <p:nvSpPr>
              <p:cNvPr id="949" name=""/>
              <p:cNvSpPr/>
              <p:nvPr/>
            </p:nvSpPr>
            <p:spPr>
              <a:xfrm>
                <a:off x="3837240" y="5073480"/>
                <a:ext cx="441000" cy="220680"/>
              </a:xfrm>
              <a:custGeom>
                <a:avLst/>
                <a:gdLst/>
                <a:ahLst/>
                <a:rect l="l" t="t" r="r" b="b"/>
                <a:pathLst>
                  <a:path w="240" h="139">
                    <a:moveTo>
                      <a:pt x="0" y="139"/>
                    </a:moveTo>
                    <a:cubicBezTo>
                      <a:pt x="3" y="127"/>
                      <a:pt x="6" y="115"/>
                      <a:pt x="12" y="103"/>
                    </a:cubicBezTo>
                    <a:cubicBezTo>
                      <a:pt x="18" y="91"/>
                      <a:pt x="28" y="71"/>
                      <a:pt x="36" y="65"/>
                    </a:cubicBezTo>
                    <a:cubicBezTo>
                      <a:pt x="44" y="59"/>
                      <a:pt x="51" y="63"/>
                      <a:pt x="58" y="67"/>
                    </a:cubicBezTo>
                    <a:cubicBezTo>
                      <a:pt x="65" y="71"/>
                      <a:pt x="69" y="86"/>
                      <a:pt x="76" y="88"/>
                    </a:cubicBezTo>
                    <a:cubicBezTo>
                      <a:pt x="83" y="90"/>
                      <a:pt x="95" y="86"/>
                      <a:pt x="103" y="77"/>
                    </a:cubicBezTo>
                    <a:cubicBezTo>
                      <a:pt x="111" y="68"/>
                      <a:pt x="117" y="44"/>
                      <a:pt x="126" y="32"/>
                    </a:cubicBezTo>
                    <a:cubicBezTo>
                      <a:pt x="135" y="20"/>
                      <a:pt x="145" y="4"/>
                      <a:pt x="156" y="2"/>
                    </a:cubicBezTo>
                    <a:cubicBezTo>
                      <a:pt x="167" y="0"/>
                      <a:pt x="182" y="7"/>
                      <a:pt x="193" y="20"/>
                    </a:cubicBezTo>
                    <a:cubicBezTo>
                      <a:pt x="204" y="33"/>
                      <a:pt x="217" y="59"/>
                      <a:pt x="225" y="79"/>
                    </a:cubicBezTo>
                    <a:cubicBezTo>
                      <a:pt x="233" y="99"/>
                      <a:pt x="237" y="127"/>
                      <a:pt x="240" y="139"/>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3747240" y="5294160"/>
                <a:ext cx="6796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51" name=""/>
          <p:cNvGrpSpPr/>
          <p:nvPr/>
        </p:nvGrpSpPr>
        <p:grpSpPr>
          <a:xfrm>
            <a:off x="5327640" y="4768920"/>
            <a:ext cx="3290760" cy="1041480"/>
            <a:chOff x="5327640" y="4768920"/>
            <a:chExt cx="3290760" cy="1041480"/>
          </a:xfrm>
        </p:grpSpPr>
        <p:sp>
          <p:nvSpPr>
            <p:cNvPr id="952" name=""/>
            <p:cNvSpPr/>
            <p:nvPr/>
          </p:nvSpPr>
          <p:spPr>
            <a:xfrm>
              <a:off x="5327640" y="4768920"/>
              <a:ext cx="3290760" cy="10414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3" name=""/>
            <p:cNvSpPr/>
            <p:nvPr/>
          </p:nvSpPr>
          <p:spPr>
            <a:xfrm>
              <a:off x="5427360" y="4984920"/>
              <a:ext cx="309060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culated fuel economy with F.C. map or Measure exhaust emissions with an engine unit</a:t>
              </a:r>
              <a:endParaRPr b="0" lang="en-US" sz="1400" spc="-1" strike="noStrike">
                <a:solidFill>
                  <a:srgbClr val="000000"/>
                </a:solidFill>
                <a:latin typeface="Arial"/>
              </a:endParaRPr>
            </a:p>
          </p:txBody>
        </p:sp>
      </p:grpSp>
      <p:sp>
        <p:nvSpPr>
          <p:cNvPr id="954" name=""/>
          <p:cNvSpPr/>
          <p:nvPr/>
        </p:nvSpPr>
        <p:spPr>
          <a:xfrm flipH="1" rot="5400000">
            <a:off x="1919880" y="3823200"/>
            <a:ext cx="282600" cy="1033200"/>
          </a:xfrm>
          <a:custGeom>
            <a:avLst/>
            <a:gdLst>
              <a:gd name="textAreaLeft" fmla="*/ 43920 w 282600"/>
              <a:gd name="textAreaRight" fmla="*/ 247320 w 282600"/>
              <a:gd name="textAreaTop" fmla="*/ 258120 h 1033200"/>
              <a:gd name="textAreaBottom" fmla="*/ 775080 h 10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flipV="1" rot="16200000">
            <a:off x="3893400" y="4064400"/>
            <a:ext cx="358920" cy="1032120"/>
          </a:xfrm>
          <a:custGeom>
            <a:avLst/>
            <a:gdLst>
              <a:gd name="textAreaLeft" fmla="*/ 55440 w 358920"/>
              <a:gd name="textAreaRight" fmla="*/ 313920 w 358920"/>
              <a:gd name="textAreaTop" fmla="*/ 257760 h 1032120"/>
              <a:gd name="textAreaBottom" fmla="*/ 774000 h 103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eaeae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flipH="1" rot="10800000">
            <a:off x="4869000" y="4777920"/>
            <a:ext cx="442800" cy="1033560"/>
          </a:xfrm>
          <a:custGeom>
            <a:avLst/>
            <a:gdLst>
              <a:gd name="textAreaLeft" fmla="*/ 69480 w 442800"/>
              <a:gd name="textAreaRight" fmla="*/ 388080 w 442800"/>
              <a:gd name="textAreaTop" fmla="*/ 258120 h 1033560"/>
              <a:gd name="textAreaBottom" fmla="*/ 775440 h 10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eaeae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rot="10800000">
            <a:off x="3973680" y="1720440"/>
            <a:ext cx="876240" cy="1033560"/>
          </a:xfrm>
          <a:custGeom>
            <a:avLst/>
            <a:gdLst>
              <a:gd name="textAreaLeft" fmla="*/ 136800 w 876240"/>
              <a:gd name="textAreaRight" fmla="*/ 766800 w 876240"/>
              <a:gd name="textAreaTop" fmla="*/ 258120 h 1033560"/>
              <a:gd name="textAreaBottom" fmla="*/ 775440 h 10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eaeae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PlaceHolder 1"/>
          <p:cNvSpPr>
            <a:spLocks noGrp="1"/>
          </p:cNvSpPr>
          <p:nvPr>
            <p:ph type="title"/>
          </p:nvPr>
        </p:nvSpPr>
        <p:spPr>
          <a:xfrm>
            <a:off x="252360" y="122400"/>
            <a:ext cx="5780160" cy="21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HILS </a:t>
            </a:r>
            <a:r>
              <a:rPr b="1" lang="ja-JP" sz="2800" spc="-1" strike="noStrike">
                <a:solidFill>
                  <a:srgbClr val="4087c8"/>
                </a:solidFill>
                <a:latin typeface="HGP創英角ｺﾞｼｯｸUB"/>
              </a:rPr>
              <a:t>System</a:t>
            </a:r>
            <a:endParaRPr b="0" lang="en-US" sz="2800" spc="-1" strike="noStrike">
              <a:solidFill>
                <a:srgbClr val="4087c8"/>
              </a:solidFill>
              <a:latin typeface="HGP創英角ｺﾞｼｯｸUB"/>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15800" y="-360"/>
            <a:ext cx="1657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Agenda</a:t>
            </a:r>
            <a:endParaRPr b="0" lang="en-US" sz="2800" spc="-1" strike="noStrike">
              <a:solidFill>
                <a:srgbClr val="4087c8"/>
              </a:solidFill>
              <a:latin typeface="HGP創英角ｺﾞｼｯｸUB"/>
            </a:endParaRPr>
          </a:p>
        </p:txBody>
      </p:sp>
      <p:sp>
        <p:nvSpPr>
          <p:cNvPr id="960" name=""/>
          <p:cNvSpPr/>
          <p:nvPr/>
        </p:nvSpPr>
        <p:spPr>
          <a:xfrm>
            <a:off x="584280" y="4149720"/>
            <a:ext cx="881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a:off x="974880" y="1341360"/>
            <a:ext cx="8111880" cy="3933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Top Runner Approach  </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Fuel Efficiency Standard for HDVs</a:t>
            </a:r>
            <a:br>
              <a:rPr sz="2800"/>
            </a:br>
            <a:r>
              <a:rPr b="1"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Simulation Test Method</a:t>
            </a:r>
            <a:br>
              <a:rPr sz="2800"/>
            </a:br>
            <a:r>
              <a:rPr b="0"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for HD HEV Test</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Fuel Efficiency Standard for LDVs</a:t>
            </a:r>
            <a:br>
              <a:rPr sz="2800"/>
            </a:br>
            <a:r>
              <a:rPr b="1" lang="ja-JP" sz="2800" spc="-1" strike="noStrike">
                <a:solidFill>
                  <a:srgbClr val="000000"/>
                </a:solidFill>
                <a:latin typeface="Arial"/>
              </a:rPr>
              <a:t> </a:t>
            </a:r>
            <a:r>
              <a:rPr b="1" lang="ja-JP" sz="1800" spc="-1" strike="noStrike">
                <a:solidFill>
                  <a:srgbClr val="000000"/>
                </a:solidFill>
                <a:latin typeface="Arial"/>
              </a:rPr>
              <a:t>・</a:t>
            </a:r>
            <a:r>
              <a:rPr b="0" lang="ja-JP" sz="1800" spc="-1" strike="noStrike">
                <a:solidFill>
                  <a:srgbClr val="000000"/>
                </a:solidFill>
                <a:latin typeface="Arial"/>
              </a:rPr>
              <a:t> </a:t>
            </a:r>
            <a:r>
              <a:rPr b="0" lang="ja-JP" sz="2800" spc="-1" strike="noStrike">
                <a:solidFill>
                  <a:srgbClr val="000000"/>
                </a:solidFill>
                <a:latin typeface="Arial"/>
              </a:rPr>
              <a:t>Conventional Test Method</a:t>
            </a:r>
            <a:br>
              <a:rPr sz="2800"/>
            </a:br>
            <a:r>
              <a:rPr b="0" lang="ja-JP" sz="2800" spc="-1" strike="noStrike">
                <a:solidFill>
                  <a:srgbClr val="000000"/>
                </a:solidFill>
                <a:latin typeface="Arial"/>
              </a:rPr>
              <a:t> </a:t>
            </a:r>
            <a:r>
              <a:rPr b="1" lang="ja-JP" sz="1800" spc="-1" strike="noStrike">
                <a:solidFill>
                  <a:srgbClr val="000000"/>
                </a:solidFill>
                <a:latin typeface="Arial"/>
              </a:rPr>
              <a:t>・</a:t>
            </a:r>
            <a:r>
              <a:rPr b="0" lang="ja-JP" sz="1800" spc="-1" strike="noStrike">
                <a:solidFill>
                  <a:srgbClr val="000000"/>
                </a:solidFill>
                <a:latin typeface="Arial"/>
              </a:rPr>
              <a:t> </a:t>
            </a:r>
            <a:r>
              <a:rPr b="0" lang="ja-JP" sz="2800" spc="-1" strike="noStrike">
                <a:solidFill>
                  <a:srgbClr val="000000"/>
                </a:solidFill>
                <a:latin typeface="Arial"/>
              </a:rPr>
              <a:t>for LD HEV Test</a:t>
            </a:r>
            <a:br>
              <a:rPr sz="2800"/>
            </a:br>
            <a:r>
              <a:rPr b="0" lang="ja-JP" sz="2800" spc="-1" strike="noStrike">
                <a:solidFill>
                  <a:srgbClr val="000000"/>
                </a:solidFill>
                <a:latin typeface="Arial"/>
              </a:rPr>
              <a:t> </a:t>
            </a:r>
            <a:r>
              <a:rPr b="1" lang="ja-JP" sz="1800" spc="-1" strike="noStrike">
                <a:solidFill>
                  <a:srgbClr val="000000"/>
                </a:solidFill>
                <a:latin typeface="Arial"/>
              </a:rPr>
              <a:t>・</a:t>
            </a:r>
            <a:r>
              <a:rPr b="0" lang="ja-JP" sz="1800" spc="-1" strike="noStrike">
                <a:solidFill>
                  <a:srgbClr val="000000"/>
                </a:solidFill>
                <a:latin typeface="Arial"/>
              </a:rPr>
              <a:t> </a:t>
            </a:r>
            <a:r>
              <a:rPr b="0" lang="ja-JP" sz="2800" spc="-1" strike="noStrike">
                <a:solidFill>
                  <a:srgbClr val="000000"/>
                </a:solidFill>
                <a:latin typeface="Arial"/>
              </a:rPr>
              <a:t>Challenge for PHEV Evaluation</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IPT Bus : PHEV for HDV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15800" y="-360"/>
            <a:ext cx="1657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Agenda</a:t>
            </a:r>
            <a:endParaRPr b="0" lang="en-US" sz="2800" spc="-1" strike="noStrike">
              <a:solidFill>
                <a:srgbClr val="4087c8"/>
              </a:solidFill>
              <a:latin typeface="HGP創英角ｺﾞｼｯｸUB"/>
            </a:endParaRPr>
          </a:p>
        </p:txBody>
      </p:sp>
      <p:sp>
        <p:nvSpPr>
          <p:cNvPr id="228" name=""/>
          <p:cNvSpPr/>
          <p:nvPr/>
        </p:nvSpPr>
        <p:spPr>
          <a:xfrm>
            <a:off x="584280" y="4149720"/>
            <a:ext cx="881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974880" y="1341360"/>
            <a:ext cx="8111880" cy="3933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Top Runner Approach for FE regulation</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Fuel Efficiency regulation for HDVs</a:t>
            </a:r>
            <a:br>
              <a:rPr sz="2800"/>
            </a:br>
            <a:r>
              <a:rPr b="1"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Simulation Test Method</a:t>
            </a:r>
            <a:br>
              <a:rPr sz="2800"/>
            </a:br>
            <a:r>
              <a:rPr b="0"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for HD HEV Test</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Fuel Efficiency Regulation for LDVs</a:t>
            </a:r>
            <a:br>
              <a:rPr sz="2800"/>
            </a:br>
            <a:r>
              <a:rPr b="1"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Conventional Test Method</a:t>
            </a:r>
            <a:br>
              <a:rPr sz="2800"/>
            </a:br>
            <a:r>
              <a:rPr b="0"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for LD HEV Test</a:t>
            </a:r>
            <a:br>
              <a:rPr sz="2800"/>
            </a:br>
            <a:r>
              <a:rPr b="0"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Challenge for PHEV Evaluation</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IPT Bus : PHEV for HDV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344520" y="0"/>
            <a:ext cx="928368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Arial"/>
              </a:rPr>
              <a:t>Current</a:t>
            </a:r>
            <a:r>
              <a:rPr b="1" lang="en-US" sz="2400" spc="-1" strike="noStrike">
                <a:solidFill>
                  <a:srgbClr val="4087c8"/>
                </a:solidFill>
                <a:latin typeface="Arial"/>
              </a:rPr>
              <a:t> Test Procedures for LD Vehicle</a:t>
            </a:r>
            <a:endParaRPr b="0" lang="en-US" sz="2400" spc="-1" strike="noStrike">
              <a:solidFill>
                <a:srgbClr val="000000"/>
              </a:solidFill>
              <a:latin typeface="Arial"/>
            </a:endParaRPr>
          </a:p>
        </p:txBody>
      </p:sp>
      <p:sp>
        <p:nvSpPr>
          <p:cNvPr id="963" name=""/>
          <p:cNvSpPr/>
          <p:nvPr/>
        </p:nvSpPr>
        <p:spPr>
          <a:xfrm>
            <a:off x="662040" y="1197000"/>
            <a:ext cx="82976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s driving wheels placed on virtual road surface (roll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haust emission and fuel economy measured when operating vehicle in fixed pattern.</a:t>
            </a:r>
            <a:endParaRPr b="0" lang="en-US" sz="1800" spc="-1" strike="noStrike">
              <a:solidFill>
                <a:srgbClr val="000000"/>
              </a:solidFill>
              <a:latin typeface="Arial"/>
            </a:endParaRPr>
          </a:p>
        </p:txBody>
      </p:sp>
      <p:grpSp>
        <p:nvGrpSpPr>
          <p:cNvPr id="964" name=""/>
          <p:cNvGrpSpPr/>
          <p:nvPr/>
        </p:nvGrpSpPr>
        <p:grpSpPr>
          <a:xfrm>
            <a:off x="507960" y="2205000"/>
            <a:ext cx="6732360" cy="4138200"/>
            <a:chOff x="507960" y="2205000"/>
            <a:chExt cx="6732360" cy="4138200"/>
          </a:xfrm>
        </p:grpSpPr>
        <p:pic>
          <p:nvPicPr>
            <p:cNvPr id="965" name="" descr=""/>
            <p:cNvPicPr/>
            <p:nvPr/>
          </p:nvPicPr>
          <p:blipFill>
            <a:blip r:embed="rId1"/>
            <a:stretch/>
          </p:blipFill>
          <p:spPr>
            <a:xfrm>
              <a:off x="540360" y="2205000"/>
              <a:ext cx="3301560" cy="1324080"/>
            </a:xfrm>
            <a:prstGeom prst="rect">
              <a:avLst/>
            </a:prstGeom>
            <a:ln w="0">
              <a:noFill/>
            </a:ln>
          </p:spPr>
        </p:pic>
        <p:pic>
          <p:nvPicPr>
            <p:cNvPr id="966" name="" descr=""/>
            <p:cNvPicPr/>
            <p:nvPr/>
          </p:nvPicPr>
          <p:blipFill>
            <a:blip r:embed="rId2"/>
            <a:stretch/>
          </p:blipFill>
          <p:spPr>
            <a:xfrm>
              <a:off x="3828600" y="2205000"/>
              <a:ext cx="3397680" cy="1362240"/>
            </a:xfrm>
            <a:prstGeom prst="rect">
              <a:avLst/>
            </a:prstGeom>
            <a:ln w="0">
              <a:noFill/>
            </a:ln>
          </p:spPr>
        </p:pic>
        <p:pic>
          <p:nvPicPr>
            <p:cNvPr id="967" name="" descr=""/>
            <p:cNvPicPr/>
            <p:nvPr/>
          </p:nvPicPr>
          <p:blipFill>
            <a:blip r:embed="rId3"/>
            <a:stretch/>
          </p:blipFill>
          <p:spPr>
            <a:xfrm>
              <a:off x="527040" y="3525840"/>
              <a:ext cx="3328920" cy="1347840"/>
            </a:xfrm>
            <a:prstGeom prst="rect">
              <a:avLst/>
            </a:prstGeom>
            <a:ln w="0">
              <a:noFill/>
            </a:ln>
          </p:spPr>
        </p:pic>
        <p:pic>
          <p:nvPicPr>
            <p:cNvPr id="968" name="" descr=""/>
            <p:cNvPicPr/>
            <p:nvPr/>
          </p:nvPicPr>
          <p:blipFill>
            <a:blip r:embed="rId4"/>
            <a:stretch/>
          </p:blipFill>
          <p:spPr>
            <a:xfrm>
              <a:off x="3855960" y="3525840"/>
              <a:ext cx="3356640" cy="1359000"/>
            </a:xfrm>
            <a:prstGeom prst="rect">
              <a:avLst/>
            </a:prstGeom>
            <a:ln w="0">
              <a:noFill/>
            </a:ln>
          </p:spPr>
        </p:pic>
        <p:pic>
          <p:nvPicPr>
            <p:cNvPr id="969" name="" descr=""/>
            <p:cNvPicPr/>
            <p:nvPr/>
          </p:nvPicPr>
          <p:blipFill>
            <a:blip r:embed="rId5"/>
            <a:stretch/>
          </p:blipFill>
          <p:spPr>
            <a:xfrm>
              <a:off x="3855960" y="4884840"/>
              <a:ext cx="3384360" cy="1442880"/>
            </a:xfrm>
            <a:prstGeom prst="rect">
              <a:avLst/>
            </a:prstGeom>
            <a:ln w="0">
              <a:noFill/>
            </a:ln>
          </p:spPr>
        </p:pic>
        <p:grpSp>
          <p:nvGrpSpPr>
            <p:cNvPr id="970" name=""/>
            <p:cNvGrpSpPr/>
            <p:nvPr/>
          </p:nvGrpSpPr>
          <p:grpSpPr>
            <a:xfrm>
              <a:off x="507960" y="4869000"/>
              <a:ext cx="3356280" cy="1474200"/>
              <a:chOff x="507960" y="4869000"/>
              <a:chExt cx="3356280" cy="1474200"/>
            </a:xfrm>
          </p:grpSpPr>
          <p:pic>
            <p:nvPicPr>
              <p:cNvPr id="971" name="" descr=""/>
              <p:cNvPicPr/>
              <p:nvPr/>
            </p:nvPicPr>
            <p:blipFill>
              <a:blip r:embed="rId6"/>
              <a:stretch/>
            </p:blipFill>
            <p:spPr>
              <a:xfrm>
                <a:off x="507960" y="4869000"/>
                <a:ext cx="3353040" cy="1464120"/>
              </a:xfrm>
              <a:prstGeom prst="rect">
                <a:avLst/>
              </a:prstGeom>
              <a:ln w="0">
                <a:noFill/>
              </a:ln>
            </p:spPr>
          </p:pic>
          <p:sp>
            <p:nvSpPr>
              <p:cNvPr id="972" name=""/>
              <p:cNvSpPr/>
              <p:nvPr/>
            </p:nvSpPr>
            <p:spPr>
              <a:xfrm>
                <a:off x="507960" y="6333120"/>
                <a:ext cx="3356280" cy="10080"/>
              </a:xfrm>
              <a:prstGeom prst="rect">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pic>
        <p:nvPicPr>
          <p:cNvPr id="973" name="" descr=""/>
          <p:cNvPicPr/>
          <p:nvPr/>
        </p:nvPicPr>
        <p:blipFill>
          <a:blip r:embed="rId7"/>
          <a:stretch/>
        </p:blipFill>
        <p:spPr>
          <a:xfrm>
            <a:off x="6356520" y="2852640"/>
            <a:ext cx="2971800" cy="1828800"/>
          </a:xfrm>
          <a:prstGeom prst="rect">
            <a:avLst/>
          </a:prstGeom>
          <a:ln w="0">
            <a:noFill/>
          </a:ln>
        </p:spPr>
      </p:pic>
      <p:sp>
        <p:nvSpPr>
          <p:cNvPr id="974" name=""/>
          <p:cNvSpPr/>
          <p:nvPr/>
        </p:nvSpPr>
        <p:spPr>
          <a:xfrm>
            <a:off x="351000" y="6237360"/>
            <a:ext cx="36669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 descr=""/>
          <p:cNvPicPr/>
          <p:nvPr/>
        </p:nvPicPr>
        <p:blipFill>
          <a:blip r:embed="rId1"/>
          <a:stretch/>
        </p:blipFill>
        <p:spPr>
          <a:xfrm>
            <a:off x="1442880" y="1235160"/>
            <a:ext cx="6942240" cy="5146560"/>
          </a:xfrm>
          <a:prstGeom prst="rect">
            <a:avLst/>
          </a:prstGeom>
          <a:ln w="0">
            <a:noFill/>
          </a:ln>
        </p:spPr>
      </p:pic>
      <p:sp>
        <p:nvSpPr>
          <p:cNvPr id="976" name=""/>
          <p:cNvSpPr/>
          <p:nvPr/>
        </p:nvSpPr>
        <p:spPr>
          <a:xfrm>
            <a:off x="488880" y="0"/>
            <a:ext cx="330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Arial"/>
              </a:rPr>
              <a:t>Operation Mode</a:t>
            </a:r>
            <a:endParaRPr b="0" lang="en-US" sz="2800" spc="-1" strike="noStrike">
              <a:solidFill>
                <a:srgbClr val="000000"/>
              </a:solidFill>
              <a:latin typeface="Arial"/>
            </a:endParaRPr>
          </a:p>
        </p:txBody>
      </p:sp>
      <p:sp>
        <p:nvSpPr>
          <p:cNvPr id="977" name=""/>
          <p:cNvSpPr/>
          <p:nvPr/>
        </p:nvSpPr>
        <p:spPr>
          <a:xfrm>
            <a:off x="183240" y="1751040"/>
            <a:ext cx="129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Arial"/>
              </a:rPr>
              <a:t>Japan</a:t>
            </a:r>
            <a:r>
              <a:rPr b="0"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978" name=""/>
          <p:cNvSpPr/>
          <p:nvPr/>
        </p:nvSpPr>
        <p:spPr>
          <a:xfrm>
            <a:off x="172800" y="3408480"/>
            <a:ext cx="102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Arial"/>
              </a:rPr>
              <a:t>US</a:t>
            </a:r>
            <a:r>
              <a:rPr b="0"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979" name=""/>
          <p:cNvSpPr/>
          <p:nvPr/>
        </p:nvSpPr>
        <p:spPr>
          <a:xfrm>
            <a:off x="189000" y="5281560"/>
            <a:ext cx="142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Arial"/>
              </a:rPr>
              <a:t>Europe</a:t>
            </a:r>
            <a:r>
              <a:rPr b="0"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980" name=""/>
          <p:cNvSpPr/>
          <p:nvPr/>
        </p:nvSpPr>
        <p:spPr>
          <a:xfrm>
            <a:off x="2992680" y="1268280"/>
            <a:ext cx="15249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 </a:t>
            </a:r>
            <a:r>
              <a:rPr b="0" lang="en-US" sz="1200" spc="-1" strike="noStrike">
                <a:solidFill>
                  <a:srgbClr val="000000"/>
                </a:solidFill>
                <a:latin typeface="ＭＳ Ｐゴシック"/>
              </a:rPr>
              <a:t>Average 22.7km/h</a:t>
            </a:r>
            <a:endParaRPr b="0" lang="en-US" sz="1200" spc="-1" strike="noStrike">
              <a:solidFill>
                <a:srgbClr val="000000"/>
              </a:solidFill>
              <a:latin typeface="Arial"/>
            </a:endParaRPr>
          </a:p>
        </p:txBody>
      </p:sp>
      <p:sp>
        <p:nvSpPr>
          <p:cNvPr id="981" name=""/>
          <p:cNvSpPr/>
          <p:nvPr/>
        </p:nvSpPr>
        <p:spPr>
          <a:xfrm>
            <a:off x="7512480" y="2852640"/>
            <a:ext cx="1485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verage 77.7km/h</a:t>
            </a:r>
            <a:endParaRPr b="0" lang="en-US" sz="1200" spc="-1" strike="noStrike">
              <a:solidFill>
                <a:srgbClr val="000000"/>
              </a:solidFill>
              <a:latin typeface="Arial"/>
            </a:endParaRPr>
          </a:p>
        </p:txBody>
      </p:sp>
      <p:sp>
        <p:nvSpPr>
          <p:cNvPr id="982" name=""/>
          <p:cNvSpPr/>
          <p:nvPr/>
        </p:nvSpPr>
        <p:spPr>
          <a:xfrm>
            <a:off x="4191120" y="2824200"/>
            <a:ext cx="155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a:t>
            </a:r>
            <a:r>
              <a:rPr b="0" lang="en-US" sz="1800" spc="-1" strike="noStrike">
                <a:solidFill>
                  <a:srgbClr val="000000"/>
                </a:solidFill>
                <a:latin typeface="Arial"/>
              </a:rPr>
              <a:t>  </a:t>
            </a:r>
            <a:r>
              <a:rPr b="0" lang="en-US" sz="1200" spc="-1" strike="noStrike">
                <a:solidFill>
                  <a:srgbClr val="000000"/>
                </a:solidFill>
                <a:latin typeface="ＭＳ Ｐゴシック"/>
              </a:rPr>
              <a:t>31.5km/h</a:t>
            </a:r>
            <a:endParaRPr b="0" lang="en-US" sz="1200" spc="-1" strike="noStrike">
              <a:solidFill>
                <a:srgbClr val="000000"/>
              </a:solidFill>
              <a:latin typeface="Arial"/>
            </a:endParaRPr>
          </a:p>
        </p:txBody>
      </p:sp>
      <p:sp>
        <p:nvSpPr>
          <p:cNvPr id="983" name=""/>
          <p:cNvSpPr/>
          <p:nvPr/>
        </p:nvSpPr>
        <p:spPr>
          <a:xfrm>
            <a:off x="4969800" y="4479840"/>
            <a:ext cx="149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a:t>
            </a:r>
            <a:r>
              <a:rPr b="0" lang="en-US" sz="1800" spc="-1" strike="noStrike">
                <a:solidFill>
                  <a:srgbClr val="000000"/>
                </a:solidFill>
                <a:latin typeface="Arial"/>
              </a:rPr>
              <a:t> </a:t>
            </a:r>
            <a:r>
              <a:rPr b="0" lang="en-US" sz="1200" spc="-1" strike="noStrike">
                <a:solidFill>
                  <a:srgbClr val="000000"/>
                </a:solidFill>
                <a:latin typeface="ＭＳ Ｐゴシック"/>
              </a:rPr>
              <a:t>33.6km/h</a:t>
            </a:r>
            <a:endParaRPr b="0" lang="en-US" sz="1200" spc="-1" strike="noStrike">
              <a:solidFill>
                <a:srgbClr val="000000"/>
              </a:solidFill>
              <a:latin typeface="Arial"/>
            </a:endParaRPr>
          </a:p>
        </p:txBody>
      </p:sp>
      <p:sp>
        <p:nvSpPr>
          <p:cNvPr id="984" name=""/>
          <p:cNvSpPr/>
          <p:nvPr/>
        </p:nvSpPr>
        <p:spPr>
          <a:xfrm>
            <a:off x="3860640" y="1844640"/>
            <a:ext cx="743040" cy="228600"/>
          </a:xfrm>
          <a:prstGeom prst="rightArrow">
            <a:avLst>
              <a:gd name="adj1" fmla="val 50000"/>
              <a:gd name="adj2" fmla="val 812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5" name=""/>
          <p:cNvGrpSpPr/>
          <p:nvPr/>
        </p:nvGrpSpPr>
        <p:grpSpPr>
          <a:xfrm>
            <a:off x="8147160" y="1378080"/>
            <a:ext cx="1758600" cy="714960"/>
            <a:chOff x="8147160" y="1378080"/>
            <a:chExt cx="1758600" cy="714960"/>
          </a:xfrm>
        </p:grpSpPr>
        <p:sp>
          <p:nvSpPr>
            <p:cNvPr id="986" name=""/>
            <p:cNvSpPr/>
            <p:nvPr/>
          </p:nvSpPr>
          <p:spPr>
            <a:xfrm>
              <a:off x="8255880" y="1418400"/>
              <a:ext cx="1538280" cy="50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8147160" y="1378080"/>
              <a:ext cx="1758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Distance traveled</a:t>
              </a:r>
              <a:r>
                <a:rPr b="0" lang="zh-CN" sz="1000" spc="-1" strike="noStrike">
                  <a:solidFill>
                    <a:srgbClr val="000000"/>
                  </a:solidFill>
                  <a:latin typeface="ＭＳ Ｐゴシック"/>
                </a:rPr>
                <a:t>：</a:t>
              </a:r>
              <a:r>
                <a:rPr b="0" lang="en-US" sz="1000" spc="-1" strike="noStrike">
                  <a:solidFill>
                    <a:srgbClr val="000000"/>
                  </a:solidFill>
                  <a:latin typeface="ＭＳ Ｐゴシック"/>
                </a:rPr>
                <a:t>8.172km</a:t>
              </a:r>
              <a:endParaRPr b="0" lang="en-US" sz="1000" spc="-1" strike="noStrike">
                <a:solidFill>
                  <a:srgbClr val="000000"/>
                </a:solidFill>
                <a:latin typeface="Arial"/>
              </a:endParaRPr>
            </a:p>
          </p:txBody>
        </p:sp>
        <p:sp>
          <p:nvSpPr>
            <p:cNvPr id="988" name=""/>
            <p:cNvSpPr/>
            <p:nvPr/>
          </p:nvSpPr>
          <p:spPr>
            <a:xfrm>
              <a:off x="8147160" y="1536120"/>
              <a:ext cx="1758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verage speed</a:t>
              </a:r>
              <a:r>
                <a:rPr b="0" lang="zh-CN" sz="1000" spc="-1" strike="noStrike">
                  <a:solidFill>
                    <a:srgbClr val="000000"/>
                  </a:solidFill>
                  <a:latin typeface="ＭＳ Ｐゴシック"/>
                </a:rPr>
                <a:t>：</a:t>
              </a:r>
              <a:r>
                <a:rPr b="0" lang="en-US" sz="1000" spc="-1" strike="noStrike">
                  <a:solidFill>
                    <a:srgbClr val="000000"/>
                  </a:solidFill>
                  <a:latin typeface="ＭＳ Ｐゴシック"/>
                </a:rPr>
                <a:t>24.4km/h</a:t>
              </a:r>
              <a:endParaRPr b="0" lang="en-US" sz="1000" spc="-1" strike="noStrike">
                <a:solidFill>
                  <a:srgbClr val="000000"/>
                </a:solidFill>
                <a:latin typeface="Arial"/>
              </a:endParaRPr>
            </a:p>
          </p:txBody>
        </p:sp>
        <p:sp>
          <p:nvSpPr>
            <p:cNvPr id="989" name=""/>
            <p:cNvSpPr/>
            <p:nvPr/>
          </p:nvSpPr>
          <p:spPr>
            <a:xfrm>
              <a:off x="8147160" y="1694520"/>
              <a:ext cx="1756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Maximum speed</a:t>
              </a:r>
              <a:r>
                <a:rPr b="0" lang="zh-CN" sz="1000" spc="-1" strike="noStrike">
                  <a:solidFill>
                    <a:srgbClr val="000000"/>
                  </a:solidFill>
                  <a:latin typeface="ＭＳ Ｐゴシック"/>
                </a:rPr>
                <a:t>：</a:t>
              </a:r>
              <a:r>
                <a:rPr b="0" lang="en-US" sz="1000" spc="-1" strike="noStrike">
                  <a:solidFill>
                    <a:srgbClr val="000000"/>
                  </a:solidFill>
                  <a:latin typeface="ＭＳ Ｐゴシック"/>
                </a:rPr>
                <a:t>81.6km/h</a:t>
              </a:r>
              <a:endParaRPr b="0" lang="en-US" sz="1000" spc="-1" strike="noStrike">
                <a:solidFill>
                  <a:srgbClr val="000000"/>
                </a:solidFill>
                <a:latin typeface="Arial"/>
              </a:endParaRPr>
            </a:p>
          </p:txBody>
        </p:sp>
      </p:grpSp>
      <p:sp>
        <p:nvSpPr>
          <p:cNvPr id="990" name=""/>
          <p:cNvSpPr/>
          <p:nvPr/>
        </p:nvSpPr>
        <p:spPr>
          <a:xfrm>
            <a:off x="6591240" y="4869000"/>
            <a:ext cx="3043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Tests corresponding to traffic conditions of the respective areas and operation modes are condu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351000" y="2152800"/>
            <a:ext cx="5614920" cy="33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1) </a:t>
            </a:r>
            <a:r>
              <a:rPr b="1" lang="en-US" sz="1800" spc="-1" strike="noStrike">
                <a:solidFill>
                  <a:srgbClr val="000000"/>
                </a:solidFill>
                <a:latin typeface="Arial"/>
              </a:rPr>
              <a:t>Exhaust emission measur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Standard (Attachment 4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①</a:t>
            </a:r>
            <a:r>
              <a:rPr b="1" lang="en-US" sz="1600" spc="-1" strike="noStrike">
                <a:solidFill>
                  <a:srgbClr val="000000"/>
                </a:solidFill>
                <a:latin typeface="Arial"/>
              </a:rPr>
              <a:t> </a:t>
            </a:r>
            <a:r>
              <a:rPr b="0" lang="en-US" sz="1600" spc="-1" strike="noStrike">
                <a:solidFill>
                  <a:srgbClr val="000000"/>
                </a:solidFill>
                <a:latin typeface="Arial"/>
              </a:rPr>
              <a:t>M</a:t>
            </a:r>
            <a:r>
              <a:rPr b="0" lang="en-US" sz="1600" spc="-1" strike="noStrike">
                <a:solidFill>
                  <a:srgbClr val="000000"/>
                </a:solidFill>
                <a:latin typeface="Arial"/>
              </a:rPr>
              <a:t>ode test is conducted several times. Relation between current balance (ΔSOC) and exhaust emission weight are obtained.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②</a:t>
            </a:r>
            <a:r>
              <a:rPr b="0" lang="en-US" sz="1600" spc="-1" strike="noStrike">
                <a:solidFill>
                  <a:srgbClr val="000000"/>
                </a:solidFill>
                <a:latin typeface="Arial"/>
              </a:rPr>
              <a:t> </a:t>
            </a:r>
            <a:r>
              <a:rPr b="0" lang="en-US" sz="1600" spc="-1" strike="noStrike">
                <a:solidFill>
                  <a:srgbClr val="000000"/>
                </a:solidFill>
                <a:latin typeface="Arial"/>
              </a:rPr>
              <a:t>When statistical significance can be recognized for each exhaust emission component, exhaust emission weight of the prescribed tests shall be corrected to an exhaust emission weight corresponding to a current balance of zero, based on the inclination of the linear regression formula (correction fa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③</a:t>
            </a:r>
            <a:r>
              <a:rPr b="0" lang="en-US" sz="1600" spc="-1" strike="noStrike">
                <a:solidFill>
                  <a:srgbClr val="000000"/>
                </a:solidFill>
                <a:latin typeface="Arial"/>
              </a:rPr>
              <a:t> </a:t>
            </a:r>
            <a:r>
              <a:rPr b="0" lang="en-US" sz="1600" spc="-1" strike="noStrike">
                <a:solidFill>
                  <a:srgbClr val="000000"/>
                </a:solidFill>
                <a:latin typeface="Arial"/>
              </a:rPr>
              <a:t>When there is no statistical significance, corrections do not need to be made.</a:t>
            </a:r>
            <a:endParaRPr b="0" lang="en-US" sz="1600" spc="-1" strike="noStrike">
              <a:solidFill>
                <a:srgbClr val="000000"/>
              </a:solidFill>
              <a:latin typeface="Arial"/>
            </a:endParaRPr>
          </a:p>
        </p:txBody>
      </p:sp>
      <p:grpSp>
        <p:nvGrpSpPr>
          <p:cNvPr id="992" name=""/>
          <p:cNvGrpSpPr/>
          <p:nvPr/>
        </p:nvGrpSpPr>
        <p:grpSpPr>
          <a:xfrm>
            <a:off x="6045120" y="2421000"/>
            <a:ext cx="3508200" cy="2157480"/>
            <a:chOff x="6045120" y="2421000"/>
            <a:chExt cx="3508200" cy="2157480"/>
          </a:xfrm>
        </p:grpSpPr>
        <p:sp>
          <p:nvSpPr>
            <p:cNvPr id="993" name=""/>
            <p:cNvSpPr/>
            <p:nvPr/>
          </p:nvSpPr>
          <p:spPr>
            <a:xfrm>
              <a:off x="7047720" y="2943360"/>
              <a:ext cx="1440" cy="11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6045120" y="4065480"/>
              <a:ext cx="350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a:off x="6141240" y="4076640"/>
              <a:ext cx="3355200" cy="5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　　　　</a:t>
              </a:r>
              <a:r>
                <a:rPr b="0" lang="en-US" sz="2000" spc="-1" strike="noStrike">
                  <a:solidFill>
                    <a:srgbClr val="000000"/>
                  </a:solidFill>
                  <a:latin typeface="ＭＳ Ｐゴシック"/>
                </a:rPr>
                <a:t>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ΔSOC </a:t>
              </a:r>
              <a:r>
                <a:rPr b="1" lang="en-US" sz="1600" spc="-1" strike="noStrike">
                  <a:solidFill>
                    <a:srgbClr val="000000"/>
                  </a:solidFill>
                  <a:latin typeface="Arial"/>
                </a:rPr>
                <a:t>(</a:t>
              </a:r>
              <a:r>
                <a:rPr b="0" lang="en-US" sz="1600" spc="-1" strike="noStrike">
                  <a:solidFill>
                    <a:srgbClr val="000000"/>
                  </a:solidFill>
                  <a:latin typeface="Arial"/>
                </a:rPr>
                <a:t>Current balance) [A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
            <p:cNvSpPr/>
            <p:nvPr/>
          </p:nvSpPr>
          <p:spPr>
            <a:xfrm>
              <a:off x="6297840" y="2421000"/>
              <a:ext cx="2730960" cy="39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ission weight [g/km]</a:t>
              </a:r>
              <a:endParaRPr b="0" lang="en-US" sz="1600" spc="-1" strike="noStrike">
                <a:solidFill>
                  <a:srgbClr val="000000"/>
                </a:solidFill>
                <a:latin typeface="Arial"/>
              </a:endParaRPr>
            </a:p>
          </p:txBody>
        </p:sp>
        <p:sp>
          <p:nvSpPr>
            <p:cNvPr id="997" name=""/>
            <p:cNvSpPr/>
            <p:nvPr/>
          </p:nvSpPr>
          <p:spPr>
            <a:xfrm>
              <a:off x="8801640" y="3732120"/>
              <a:ext cx="190800" cy="1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8189640" y="3608280"/>
              <a:ext cx="190440" cy="1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7312320" y="3441600"/>
              <a:ext cx="190440" cy="1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309720" y="3274920"/>
              <a:ext cx="190440" cy="1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6738120" y="3311640"/>
              <a:ext cx="190440" cy="176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6352560" y="3325680"/>
              <a:ext cx="260532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3" name=""/>
          <p:cNvSpPr/>
          <p:nvPr/>
        </p:nvSpPr>
        <p:spPr>
          <a:xfrm>
            <a:off x="231840" y="1504800"/>
            <a:ext cx="9440640" cy="67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　</a:t>
            </a:r>
            <a:r>
              <a:rPr b="0" lang="en-US" sz="1800" spc="-1" strike="noStrike">
                <a:solidFill>
                  <a:srgbClr val="000000"/>
                </a:solidFill>
                <a:latin typeface="Arial"/>
              </a:rPr>
              <a:t>The </a:t>
            </a:r>
            <a:r>
              <a:rPr b="1" lang="en-US" sz="1800" spc="-1" strike="noStrike">
                <a:solidFill>
                  <a:srgbClr val="333399"/>
                </a:solidFill>
                <a:latin typeface="Arial"/>
              </a:rPr>
              <a:t>current balance is corrected to zero</a:t>
            </a:r>
            <a:r>
              <a:rPr b="0" lang="en-US" sz="1800" spc="-1" strike="noStrike">
                <a:solidFill>
                  <a:srgbClr val="000000"/>
                </a:solidFill>
                <a:latin typeface="Arial"/>
              </a:rPr>
              <a:t> based on relational expression with Δ</a:t>
            </a:r>
            <a:r>
              <a:rPr b="0" lang="en-US" sz="1800" spc="-1" strike="noStrike">
                <a:solidFill>
                  <a:srgbClr val="000000"/>
                </a:solidFill>
                <a:latin typeface="Arial"/>
              </a:rPr>
              <a:t> </a:t>
            </a:r>
            <a:r>
              <a:rPr b="0" lang="en-US" sz="1800" spc="-1" strike="noStrike">
                <a:solidFill>
                  <a:srgbClr val="000000"/>
                </a:solidFill>
                <a:latin typeface="Arial"/>
              </a:rPr>
              <a:t>SOC, considering effects by battery’s state of charge (SOC).</a:t>
            </a:r>
            <a:endParaRPr b="0" lang="en-US" sz="1800" spc="-1" strike="noStrike">
              <a:solidFill>
                <a:srgbClr val="000000"/>
              </a:solidFill>
              <a:latin typeface="Arial"/>
            </a:endParaRPr>
          </a:p>
        </p:txBody>
      </p:sp>
      <p:sp>
        <p:nvSpPr>
          <p:cNvPr id="1004" name=""/>
          <p:cNvSpPr/>
          <p:nvPr/>
        </p:nvSpPr>
        <p:spPr>
          <a:xfrm>
            <a:off x="351000" y="5465880"/>
            <a:ext cx="8997840" cy="91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2) Fuel consumption measurement [</a:t>
            </a:r>
            <a:r>
              <a:rPr b="1" lang="en-US" sz="1800" spc="-1" strike="noStrike">
                <a:solidFill>
                  <a:srgbClr val="000000"/>
                </a:solidFill>
                <a:latin typeface="Arial"/>
              </a:rPr>
              <a:t>TRIAS (5-9-2007</a:t>
            </a:r>
            <a:r>
              <a:rPr b="1" lang="en-US"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　　</a:t>
            </a:r>
            <a:r>
              <a:rPr b="1" lang="en-US" sz="1600" spc="-1" strike="noStrike">
                <a:solidFill>
                  <a:srgbClr val="000000"/>
                </a:solidFill>
                <a:latin typeface="Arial"/>
              </a:rPr>
              <a:t>①</a:t>
            </a:r>
            <a:r>
              <a:rPr b="1" lang="en-US" sz="1600" spc="-1" strike="noStrike">
                <a:solidFill>
                  <a:srgbClr val="000000"/>
                </a:solidFill>
                <a:latin typeface="Arial"/>
              </a:rPr>
              <a:t> </a:t>
            </a:r>
            <a:r>
              <a:rPr b="0" lang="en-US" sz="1600" spc="-1" strike="noStrike">
                <a:solidFill>
                  <a:srgbClr val="000000"/>
                </a:solidFill>
                <a:latin typeface="Arial"/>
              </a:rPr>
              <a:t>Fuel consumption shall be calculated by carbon balance method using exhaust emission value corrected to a current balance of zero, similar to exhaust emission.</a:t>
            </a:r>
            <a:endParaRPr b="0" lang="en-US" sz="1600" spc="-1" strike="noStrike">
              <a:solidFill>
                <a:srgbClr val="000000"/>
              </a:solidFill>
              <a:latin typeface="Arial"/>
            </a:endParaRPr>
          </a:p>
        </p:txBody>
      </p:sp>
      <p:sp>
        <p:nvSpPr>
          <p:cNvPr id="1005" name=""/>
          <p:cNvSpPr/>
          <p:nvPr/>
        </p:nvSpPr>
        <p:spPr>
          <a:xfrm>
            <a:off x="193680" y="955800"/>
            <a:ext cx="565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ion of current balance</a:t>
            </a:r>
            <a:endParaRPr b="0" lang="en-US" sz="2400" spc="-1" strike="noStrike">
              <a:solidFill>
                <a:srgbClr val="000000"/>
              </a:solidFill>
              <a:latin typeface="Arial"/>
            </a:endParaRPr>
          </a:p>
        </p:txBody>
      </p:sp>
      <p:sp>
        <p:nvSpPr>
          <p:cNvPr id="1006" name=""/>
          <p:cNvSpPr/>
          <p:nvPr/>
        </p:nvSpPr>
        <p:spPr>
          <a:xfrm>
            <a:off x="349560" y="0"/>
            <a:ext cx="434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Arial"/>
              </a:rPr>
              <a:t>Test procedures for HE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1209600" y="4365720"/>
            <a:ext cx="5303880" cy="2232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6045120" y="1197000"/>
            <a:ext cx="3510000" cy="2808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233280" y="1268280"/>
            <a:ext cx="3861000" cy="266544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0" name="" descr="plugoya1_1.gif"/>
          <p:cNvPicPr/>
          <p:nvPr/>
        </p:nvPicPr>
        <p:blipFill>
          <a:blip r:embed="rId1"/>
          <a:stretch/>
        </p:blipFill>
        <p:spPr>
          <a:xfrm>
            <a:off x="5108400" y="4437000"/>
            <a:ext cx="1032120" cy="952560"/>
          </a:xfrm>
          <a:prstGeom prst="rect">
            <a:avLst/>
          </a:prstGeom>
          <a:ln w="0">
            <a:noFill/>
          </a:ln>
        </p:spPr>
      </p:pic>
      <p:pic>
        <p:nvPicPr>
          <p:cNvPr id="1011" name="" descr="plug1_1.gif"/>
          <p:cNvPicPr/>
          <p:nvPr/>
        </p:nvPicPr>
        <p:blipFill>
          <a:blip r:embed="rId2"/>
          <a:stretch/>
        </p:blipFill>
        <p:spPr>
          <a:xfrm rot="19976400">
            <a:off x="4544640" y="4510080"/>
            <a:ext cx="1031760" cy="952560"/>
          </a:xfrm>
          <a:prstGeom prst="rect">
            <a:avLst/>
          </a:prstGeom>
          <a:ln w="0">
            <a:noFill/>
          </a:ln>
        </p:spPr>
      </p:pic>
      <p:pic>
        <p:nvPicPr>
          <p:cNvPr id="1012" name="" descr="プリウス">
            <a:hlinkClick r:id="rId3"/>
          </p:cNvPr>
          <p:cNvPicPr/>
          <p:nvPr/>
        </p:nvPicPr>
        <p:blipFill>
          <a:blip r:embed="rId4"/>
          <a:stretch/>
        </p:blipFill>
        <p:spPr>
          <a:xfrm>
            <a:off x="6721560" y="2527200"/>
            <a:ext cx="2833560" cy="1406520"/>
          </a:xfrm>
          <a:prstGeom prst="rect">
            <a:avLst/>
          </a:prstGeom>
          <a:ln w="0">
            <a:noFill/>
          </a:ln>
        </p:spPr>
      </p:pic>
      <p:pic>
        <p:nvPicPr>
          <p:cNvPr id="1013" name="" descr="プリウス">
            <a:hlinkClick r:id="rId5"/>
          </p:cNvPr>
          <p:cNvPicPr/>
          <p:nvPr/>
        </p:nvPicPr>
        <p:blipFill>
          <a:blip r:embed="rId6"/>
          <a:stretch/>
        </p:blipFill>
        <p:spPr>
          <a:xfrm>
            <a:off x="3470400" y="5086440"/>
            <a:ext cx="2808000" cy="1388880"/>
          </a:xfrm>
          <a:prstGeom prst="rect">
            <a:avLst/>
          </a:prstGeom>
          <a:ln w="0">
            <a:noFill/>
          </a:ln>
        </p:spPr>
      </p:pic>
      <p:pic>
        <p:nvPicPr>
          <p:cNvPr id="1014" name="" descr=""/>
          <p:cNvPicPr/>
          <p:nvPr/>
        </p:nvPicPr>
        <p:blipFill>
          <a:blip r:embed="rId7"/>
          <a:stretch/>
        </p:blipFill>
        <p:spPr>
          <a:xfrm>
            <a:off x="1793880" y="1341360"/>
            <a:ext cx="974880" cy="1224000"/>
          </a:xfrm>
          <a:prstGeom prst="rect">
            <a:avLst/>
          </a:prstGeom>
          <a:ln w="0">
            <a:noFill/>
          </a:ln>
        </p:spPr>
      </p:pic>
      <p:pic>
        <p:nvPicPr>
          <p:cNvPr id="1015" name="" descr=""/>
          <p:cNvPicPr/>
          <p:nvPr/>
        </p:nvPicPr>
        <p:blipFill>
          <a:blip r:embed="rId8"/>
          <a:stretch/>
        </p:blipFill>
        <p:spPr>
          <a:xfrm>
            <a:off x="7424640" y="1270080"/>
            <a:ext cx="974880" cy="1224000"/>
          </a:xfrm>
          <a:prstGeom prst="rect">
            <a:avLst/>
          </a:prstGeom>
          <a:ln w="0">
            <a:noFill/>
          </a:ln>
        </p:spPr>
      </p:pic>
      <p:pic>
        <p:nvPicPr>
          <p:cNvPr id="1016" name="" descr=""/>
          <p:cNvPicPr/>
          <p:nvPr/>
        </p:nvPicPr>
        <p:blipFill>
          <a:blip r:embed="rId9"/>
          <a:stretch/>
        </p:blipFill>
        <p:spPr>
          <a:xfrm>
            <a:off x="1676520" y="4797360"/>
            <a:ext cx="976320" cy="1224000"/>
          </a:xfrm>
          <a:prstGeom prst="rect">
            <a:avLst/>
          </a:prstGeom>
          <a:ln w="0">
            <a:noFill/>
          </a:ln>
        </p:spPr>
      </p:pic>
      <p:pic>
        <p:nvPicPr>
          <p:cNvPr id="1017" name="" descr=""/>
          <p:cNvPicPr/>
          <p:nvPr/>
        </p:nvPicPr>
        <p:blipFill>
          <a:blip r:embed="rId10"/>
          <a:stretch/>
        </p:blipFill>
        <p:spPr>
          <a:xfrm>
            <a:off x="1596960" y="4653000"/>
            <a:ext cx="1093680" cy="1619280"/>
          </a:xfrm>
          <a:prstGeom prst="rect">
            <a:avLst/>
          </a:prstGeom>
          <a:ln w="0">
            <a:noFill/>
          </a:ln>
        </p:spPr>
      </p:pic>
      <p:sp>
        <p:nvSpPr>
          <p:cNvPr id="1018" name="PlaceHolder 1"/>
          <p:cNvSpPr>
            <a:spLocks noGrp="1"/>
          </p:cNvSpPr>
          <p:nvPr>
            <p:ph type="title"/>
          </p:nvPr>
        </p:nvSpPr>
        <p:spPr>
          <a:xfrm>
            <a:off x="272880" y="-360"/>
            <a:ext cx="928872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7c8"/>
                </a:solidFill>
                <a:latin typeface="HGP創英角ｺﾞｼｯｸUB"/>
              </a:rPr>
              <a:t>From vehicle with internal combustion engine to HEV, Plug-in HEV</a:t>
            </a:r>
            <a:endParaRPr b="0" lang="en-US" sz="2400" spc="-1" strike="noStrike">
              <a:solidFill>
                <a:srgbClr val="4087c8"/>
              </a:solidFill>
              <a:latin typeface="HGP創英角ｺﾞｼｯｸUB"/>
            </a:endParaRPr>
          </a:p>
        </p:txBody>
      </p:sp>
      <p:sp>
        <p:nvSpPr>
          <p:cNvPr id="1019" name=""/>
          <p:cNvSpPr/>
          <p:nvPr/>
        </p:nvSpPr>
        <p:spPr>
          <a:xfrm rot="10800000">
            <a:off x="6668640" y="4293720"/>
            <a:ext cx="2027160" cy="2087640"/>
          </a:xfrm>
          <a:custGeom>
            <a:avLst/>
            <a:gdLst>
              <a:gd name="textAreaLeft" fmla="*/ 0 w 2027160"/>
              <a:gd name="textAreaRight" fmla="*/ 2027160 w 2027160"/>
              <a:gd name="textAreaTop" fmla="*/ 0 h 2087640"/>
              <a:gd name="textAreaBottom" fmla="*/ 2088000 h 2087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ff99"/>
              </a:gs>
              <a:gs pos="100000">
                <a:srgbClr val="bbe0e3"/>
              </a:gs>
            </a:gsLst>
            <a:lin ang="189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2925720" y="1457280"/>
            <a:ext cx="4444920" cy="858960"/>
          </a:xfrm>
          <a:prstGeom prst="rightArrow">
            <a:avLst>
              <a:gd name="adj1" fmla="val 50000"/>
              <a:gd name="adj2" fmla="val 129369"/>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2925720" y="1557360"/>
            <a:ext cx="428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of petroleum energy consumption</a:t>
            </a:r>
            <a:endParaRPr b="0" lang="en-US" sz="1800" spc="-1" strike="noStrike">
              <a:solidFill>
                <a:srgbClr val="000000"/>
              </a:solidFill>
              <a:latin typeface="Arial"/>
            </a:endParaRPr>
          </a:p>
        </p:txBody>
      </p:sp>
      <p:sp>
        <p:nvSpPr>
          <p:cNvPr id="1022" name=""/>
          <p:cNvSpPr/>
          <p:nvPr/>
        </p:nvSpPr>
        <p:spPr>
          <a:xfrm>
            <a:off x="7370640" y="436572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s petroleum energy with electricity</a:t>
            </a:r>
            <a:endParaRPr b="0" lang="en-US" sz="1800" spc="-1" strike="noStrike">
              <a:solidFill>
                <a:srgbClr val="000000"/>
              </a:solidFill>
              <a:latin typeface="Arial"/>
            </a:endParaRPr>
          </a:p>
        </p:txBody>
      </p:sp>
      <p:sp>
        <p:nvSpPr>
          <p:cNvPr id="1023" name=""/>
          <p:cNvSpPr/>
          <p:nvPr/>
        </p:nvSpPr>
        <p:spPr>
          <a:xfrm>
            <a:off x="1944000" y="176688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S</a:t>
            </a:r>
            <a:endParaRPr b="0" lang="en-US" sz="1800" spc="-1" strike="noStrike">
              <a:solidFill>
                <a:srgbClr val="000000"/>
              </a:solidFill>
              <a:latin typeface="Arial"/>
            </a:endParaRPr>
          </a:p>
        </p:txBody>
      </p:sp>
      <p:sp>
        <p:nvSpPr>
          <p:cNvPr id="1024" name=""/>
          <p:cNvSpPr/>
          <p:nvPr/>
        </p:nvSpPr>
        <p:spPr>
          <a:xfrm>
            <a:off x="7601040" y="168912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S</a:t>
            </a:r>
            <a:endParaRPr b="0" lang="en-US" sz="1800" spc="-1" strike="noStrike">
              <a:solidFill>
                <a:srgbClr val="000000"/>
              </a:solidFill>
              <a:latin typeface="Arial"/>
            </a:endParaRPr>
          </a:p>
        </p:txBody>
      </p:sp>
      <p:sp>
        <p:nvSpPr>
          <p:cNvPr id="1025" name=""/>
          <p:cNvSpPr/>
          <p:nvPr/>
        </p:nvSpPr>
        <p:spPr>
          <a:xfrm>
            <a:off x="193680" y="907920"/>
            <a:ext cx="522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 with internal combustion engine</a:t>
            </a:r>
            <a:endParaRPr b="0" lang="en-US" sz="1800" spc="-1" strike="noStrike">
              <a:solidFill>
                <a:srgbClr val="000000"/>
              </a:solidFill>
              <a:latin typeface="Arial"/>
            </a:endParaRPr>
          </a:p>
        </p:txBody>
      </p:sp>
      <p:sp>
        <p:nvSpPr>
          <p:cNvPr id="1026" name=""/>
          <p:cNvSpPr/>
          <p:nvPr/>
        </p:nvSpPr>
        <p:spPr>
          <a:xfrm>
            <a:off x="6004080" y="81108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V</a:t>
            </a:r>
            <a:endParaRPr b="0" lang="en-US" sz="2400" spc="-1" strike="noStrike">
              <a:solidFill>
                <a:srgbClr val="000000"/>
              </a:solidFill>
              <a:latin typeface="Arial"/>
            </a:endParaRPr>
          </a:p>
        </p:txBody>
      </p:sp>
      <p:sp>
        <p:nvSpPr>
          <p:cNvPr id="1027" name=""/>
          <p:cNvSpPr/>
          <p:nvPr/>
        </p:nvSpPr>
        <p:spPr>
          <a:xfrm>
            <a:off x="1133280" y="3933720"/>
            <a:ext cx="192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in HEV</a:t>
            </a:r>
            <a:endParaRPr b="0" lang="en-US" sz="2400" spc="-1" strike="noStrike">
              <a:solidFill>
                <a:srgbClr val="000000"/>
              </a:solidFill>
              <a:latin typeface="Arial"/>
            </a:endParaRPr>
          </a:p>
        </p:txBody>
      </p:sp>
      <p:pic>
        <p:nvPicPr>
          <p:cNvPr id="1028" name="" descr=""/>
          <p:cNvPicPr/>
          <p:nvPr/>
        </p:nvPicPr>
        <p:blipFill>
          <a:blip r:embed="rId11"/>
          <a:stretch/>
        </p:blipFill>
        <p:spPr>
          <a:xfrm>
            <a:off x="3003480" y="5367240"/>
            <a:ext cx="488880" cy="433440"/>
          </a:xfrm>
          <a:prstGeom prst="rect">
            <a:avLst/>
          </a:prstGeom>
          <a:ln w="0">
            <a:noFill/>
          </a:ln>
        </p:spPr>
      </p:pic>
      <p:pic>
        <p:nvPicPr>
          <p:cNvPr id="1029" name="" descr=""/>
          <p:cNvPicPr/>
          <p:nvPr/>
        </p:nvPicPr>
        <p:blipFill>
          <a:blip r:embed="rId12"/>
          <a:stretch/>
        </p:blipFill>
        <p:spPr>
          <a:xfrm>
            <a:off x="271440" y="2276640"/>
            <a:ext cx="844560" cy="977760"/>
          </a:xfrm>
          <a:prstGeom prst="rect">
            <a:avLst/>
          </a:prstGeom>
          <a:ln w="0">
            <a:noFill/>
          </a:ln>
        </p:spPr>
      </p:pic>
      <p:pic>
        <p:nvPicPr>
          <p:cNvPr id="1030" name="" descr=""/>
          <p:cNvPicPr/>
          <p:nvPr/>
        </p:nvPicPr>
        <p:blipFill>
          <a:blip r:embed="rId13"/>
          <a:stretch/>
        </p:blipFill>
        <p:spPr>
          <a:xfrm>
            <a:off x="1090440" y="2565360"/>
            <a:ext cx="2808360" cy="1195560"/>
          </a:xfrm>
          <a:prstGeom prst="rect">
            <a:avLst/>
          </a:prstGeom>
          <a:ln w="0">
            <a:noFill/>
          </a:ln>
        </p:spPr>
      </p:pic>
      <p:pic>
        <p:nvPicPr>
          <p:cNvPr id="1031" name="" descr=""/>
          <p:cNvPicPr/>
          <p:nvPr/>
        </p:nvPicPr>
        <p:blipFill>
          <a:blip r:embed="rId14"/>
          <a:stretch/>
        </p:blipFill>
        <p:spPr>
          <a:xfrm>
            <a:off x="6122880" y="2637000"/>
            <a:ext cx="646200" cy="571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repeatCount="indefinite">
                                  <p:stCondLst>
                                    <p:cond delay="0"/>
                                  </p:stCondLst>
                                  <p:childTnLst>
                                    <p:animEffect filter="fade" transition="out">
                                      <p:cBhvr additive="repl">
                                        <p:cTn id="6" dur="1000"/>
                                        <p:tgtEl>
                                          <p:spTgt spid="1017"/>
                                        </p:tgtEl>
                                      </p:cBhvr>
                                    </p:animEffect>
                                    <p:animScale>
                                      <p:cBhvr>
                                        <p:cTn id="7" dur="500" autoRev="1" fill="hold"/>
                                        <p:tgtEl>
                                          <p:spTgt spid="101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272880" y="0"/>
            <a:ext cx="780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Arial"/>
              </a:rPr>
              <a:t>Characteristics of Plug-in Vehicles</a:t>
            </a:r>
            <a:endParaRPr b="0" lang="en-US" sz="2800" spc="-1" strike="noStrike">
              <a:solidFill>
                <a:srgbClr val="000000"/>
              </a:solidFill>
              <a:latin typeface="Arial"/>
            </a:endParaRPr>
          </a:p>
        </p:txBody>
      </p:sp>
      <p:sp>
        <p:nvSpPr>
          <p:cNvPr id="1033" name=""/>
          <p:cNvSpPr/>
          <p:nvPr/>
        </p:nvSpPr>
        <p:spPr>
          <a:xfrm>
            <a:off x="200160" y="5445000"/>
            <a:ext cx="9281880" cy="119448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Charge Depleting (CD) mode: Vehicle is operated </a:t>
            </a:r>
            <a:r>
              <a:rPr b="0" lang="ja-JP" sz="1600" spc="-1" strike="noStrike" u="sng">
                <a:solidFill>
                  <a:srgbClr val="000000"/>
                </a:solidFill>
                <a:uFillTx/>
                <a:latin typeface="Arial Unicode MS"/>
                <a:ea typeface="Arial Unicode MS"/>
              </a:rPr>
              <a:t>by consuming electric energy supplied from external source )</a:t>
            </a:r>
            <a:r>
              <a:rPr b="0" lang="ja-JP" sz="1600" spc="-1" strike="noStrike">
                <a:solidFill>
                  <a:srgbClr val="000000"/>
                </a:solidFill>
                <a:latin typeface="Arial Unicode MS"/>
                <a:ea typeface="Arial Unicode MS"/>
              </a:rPr>
              <a:t> (while reducing battery’s state of charge (SOC))</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Charge Sustaining (CS) mode: </a:t>
            </a:r>
            <a:r>
              <a:rPr b="0" lang="ja-JP" sz="1600" spc="-1" strike="noStrike" u="sng">
                <a:solidFill>
                  <a:srgbClr val="000000"/>
                </a:solidFill>
                <a:uFillTx/>
                <a:latin typeface="Arial Unicode MS"/>
                <a:ea typeface="Arial Unicode MS"/>
              </a:rPr>
              <a:t>By fossil combustion power</a:t>
            </a:r>
            <a:r>
              <a:rPr b="0" lang="ja-JP" sz="1600" spc="-1" strike="noStrike">
                <a:solidFill>
                  <a:srgbClr val="000000"/>
                </a:solidFill>
                <a:latin typeface="Arial Unicode MS"/>
                <a:ea typeface="Arial Unicode MS"/>
              </a:rPr>
              <a:t>(</a:t>
            </a:r>
            <a:r>
              <a:rPr b="0" lang="ja-JP" sz="1600" spc="-1" strike="noStrike" u="sng">
                <a:solidFill>
                  <a:srgbClr val="000000"/>
                </a:solidFill>
                <a:uFillTx/>
                <a:latin typeface="Arial Unicode MS"/>
                <a:ea typeface="Arial Unicode MS"/>
              </a:rPr>
              <a:t>Engine</a:t>
            </a:r>
            <a:r>
              <a:rPr b="0" lang="ja-JP" sz="1600" spc="-1" strike="noStrike">
                <a:solidFill>
                  <a:srgbClr val="000000"/>
                </a:solidFill>
                <a:latin typeface="Arial Unicode MS"/>
                <a:ea typeface="Arial Unicode MS"/>
              </a:rPr>
              <a:t> + </a:t>
            </a:r>
            <a:r>
              <a:rPr b="0" lang="ja-JP" sz="1600" spc="-1" strike="noStrike" u="sng">
                <a:solidFill>
                  <a:srgbClr val="000000"/>
                </a:solidFill>
                <a:uFillTx/>
                <a:latin typeface="Arial Unicode MS"/>
                <a:ea typeface="Arial Unicode MS"/>
              </a:rPr>
              <a:t>regenerated electric energy)</a:t>
            </a:r>
            <a:r>
              <a:rPr b="0" lang="ja-JP" sz="1600" spc="-1" strike="noStrike">
                <a:solidFill>
                  <a:srgbClr val="000000"/>
                </a:solidFill>
                <a:latin typeface="Arial Unicode MS"/>
                <a:ea typeface="Arial Unicode MS"/>
              </a:rPr>
              <a:t>, operation of the vehicle is controlled so the </a:t>
            </a:r>
            <a:r>
              <a:rPr b="0" lang="ja-JP" sz="1600" spc="-1" strike="noStrike" u="sng">
                <a:solidFill>
                  <a:srgbClr val="000000"/>
                </a:solidFill>
                <a:uFillTx/>
                <a:latin typeface="Arial Unicode MS"/>
                <a:ea typeface="Arial Unicode MS"/>
              </a:rPr>
              <a:t>SOC value remains constant</a:t>
            </a:r>
            <a:r>
              <a:rPr b="0" lang="ja-JP" sz="1600" spc="-1" strike="noStrike">
                <a:solidFill>
                  <a:srgbClr val="000000"/>
                </a:solidFill>
                <a:latin typeface="Arial Unicode MS"/>
                <a:ea typeface="Arial Unicode MS"/>
              </a:rPr>
              <a:t>.  </a:t>
            </a:r>
            <a:endParaRPr b="0" lang="en-US" sz="1600" spc="-1" strike="noStrike">
              <a:solidFill>
                <a:srgbClr val="000000"/>
              </a:solidFill>
              <a:latin typeface="Arial"/>
            </a:endParaRPr>
          </a:p>
        </p:txBody>
      </p:sp>
      <p:grpSp>
        <p:nvGrpSpPr>
          <p:cNvPr id="1034" name=""/>
          <p:cNvGrpSpPr/>
          <p:nvPr/>
        </p:nvGrpSpPr>
        <p:grpSpPr>
          <a:xfrm>
            <a:off x="600120" y="692280"/>
            <a:ext cx="8791560" cy="4725360"/>
            <a:chOff x="600120" y="692280"/>
            <a:chExt cx="8791560" cy="4725360"/>
          </a:xfrm>
        </p:grpSpPr>
        <p:sp>
          <p:nvSpPr>
            <p:cNvPr id="1035" name=""/>
            <p:cNvSpPr/>
            <p:nvPr/>
          </p:nvSpPr>
          <p:spPr>
            <a:xfrm>
              <a:off x="1833480" y="1557360"/>
              <a:ext cx="2687760" cy="1727280"/>
            </a:xfrm>
            <a:prstGeom prst="rtTriangle">
              <a:avLst/>
            </a:prstGeom>
            <a:solidFill>
              <a:srgbClr val="fed9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1521000" y="1197000"/>
              <a:ext cx="31248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1833480" y="2276640"/>
              <a:ext cx="6161040" cy="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1833480" y="1046160"/>
              <a:ext cx="0" cy="339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1833480" y="4437000"/>
              <a:ext cx="60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rot="16200000">
              <a:off x="-164880" y="2488320"/>
              <a:ext cx="2111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tery’s state of char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 (%)</a:t>
              </a:r>
              <a:endParaRPr b="0" lang="en-US" sz="1800" spc="-1" strike="noStrike">
                <a:solidFill>
                  <a:srgbClr val="000000"/>
                </a:solidFill>
                <a:latin typeface="Arial"/>
              </a:endParaRPr>
            </a:p>
          </p:txBody>
        </p:sp>
        <p:sp>
          <p:nvSpPr>
            <p:cNvPr id="1041" name=""/>
            <p:cNvSpPr/>
            <p:nvPr/>
          </p:nvSpPr>
          <p:spPr>
            <a:xfrm>
              <a:off x="1608120" y="4437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42" name=""/>
            <p:cNvSpPr/>
            <p:nvPr/>
          </p:nvSpPr>
          <p:spPr>
            <a:xfrm>
              <a:off x="7373160" y="4460760"/>
              <a:ext cx="143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nce (km)</a:t>
              </a:r>
              <a:endParaRPr b="0" lang="en-US" sz="1600" spc="-1" strike="noStrike">
                <a:solidFill>
                  <a:srgbClr val="000000"/>
                </a:solidFill>
                <a:latin typeface="Arial"/>
              </a:endParaRPr>
            </a:p>
          </p:txBody>
        </p:sp>
        <p:sp>
          <p:nvSpPr>
            <p:cNvPr id="1043" name=""/>
            <p:cNvSpPr/>
            <p:nvPr/>
          </p:nvSpPr>
          <p:spPr>
            <a:xfrm flipV="1">
              <a:off x="5083200" y="1341000"/>
              <a:ext cx="0" cy="309564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4897800" y="4375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a:t>
              </a:r>
              <a:endParaRPr b="0" lang="en-US" sz="1800" spc="-1" strike="noStrike">
                <a:solidFill>
                  <a:srgbClr val="000000"/>
                </a:solidFill>
                <a:latin typeface="Arial"/>
              </a:endParaRPr>
            </a:p>
          </p:txBody>
        </p:sp>
        <p:sp>
          <p:nvSpPr>
            <p:cNvPr id="1045" name=""/>
            <p:cNvSpPr/>
            <p:nvPr/>
          </p:nvSpPr>
          <p:spPr>
            <a:xfrm rot="1779600">
              <a:off x="4328640" y="2492280"/>
              <a:ext cx="1770120" cy="503280"/>
            </a:xfrm>
            <a:custGeom>
              <a:avLst/>
              <a:gdLst>
                <a:gd name="textAreaLeft" fmla="*/ 309600 w 1770120"/>
                <a:gd name="textAreaRight" fmla="*/ 1283400 w 1770120"/>
                <a:gd name="textAreaTop" fmla="*/ 67320 h 503280"/>
                <a:gd name="textAreaBottom" fmla="*/ 435960 h 503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rot="1780800">
              <a:off x="2504880" y="2781000"/>
              <a:ext cx="224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ge Depleting (CD) mode</a:t>
              </a:r>
              <a:endParaRPr b="0" lang="en-US" sz="1800" spc="-1" strike="noStrike">
                <a:solidFill>
                  <a:srgbClr val="000000"/>
                </a:solidFill>
                <a:latin typeface="Arial"/>
              </a:endParaRPr>
            </a:p>
          </p:txBody>
        </p:sp>
        <p:sp>
          <p:nvSpPr>
            <p:cNvPr id="1047" name=""/>
            <p:cNvSpPr/>
            <p:nvPr/>
          </p:nvSpPr>
          <p:spPr>
            <a:xfrm>
              <a:off x="6897600" y="3429000"/>
              <a:ext cx="249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ge Sustaining (CS) mode</a:t>
              </a:r>
              <a:endParaRPr b="0" lang="en-US" sz="1800" spc="-1" strike="noStrike">
                <a:solidFill>
                  <a:srgbClr val="000000"/>
                </a:solidFill>
                <a:latin typeface="Arial"/>
              </a:endParaRPr>
            </a:p>
          </p:txBody>
        </p:sp>
        <p:sp>
          <p:nvSpPr>
            <p:cNvPr id="1048" name=""/>
            <p:cNvSpPr/>
            <p:nvPr/>
          </p:nvSpPr>
          <p:spPr>
            <a:xfrm>
              <a:off x="2768760" y="1197000"/>
              <a:ext cx="2597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ll Electric Range (AER) type control</a:t>
              </a:r>
              <a:endParaRPr b="0" lang="en-US" sz="1400" spc="-1" strike="noStrike">
                <a:solidFill>
                  <a:srgbClr val="000000"/>
                </a:solidFill>
                <a:latin typeface="Arial"/>
              </a:endParaRPr>
            </a:p>
          </p:txBody>
        </p:sp>
        <p:sp>
          <p:nvSpPr>
            <p:cNvPr id="1049" name=""/>
            <p:cNvSpPr/>
            <p:nvPr/>
          </p:nvSpPr>
          <p:spPr>
            <a:xfrm>
              <a:off x="3544920" y="1611360"/>
              <a:ext cx="1798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Blended type control</a:t>
              </a:r>
              <a:endParaRPr b="0" lang="en-US" sz="1400" spc="-1" strike="noStrike">
                <a:solidFill>
                  <a:srgbClr val="000000"/>
                </a:solidFill>
                <a:latin typeface="Arial"/>
              </a:endParaRPr>
            </a:p>
          </p:txBody>
        </p:sp>
        <p:sp>
          <p:nvSpPr>
            <p:cNvPr id="1050" name=""/>
            <p:cNvSpPr/>
            <p:nvPr/>
          </p:nvSpPr>
          <p:spPr>
            <a:xfrm flipV="1">
              <a:off x="3159000" y="1844280"/>
              <a:ext cx="468360" cy="360360"/>
            </a:xfrm>
            <a:prstGeom prst="line">
              <a:avLst/>
            </a:prstGeom>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flipV="1">
              <a:off x="2378160" y="1484280"/>
              <a:ext cx="547560" cy="432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1209600" y="3573360"/>
              <a:ext cx="1013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1053" name=""/>
            <p:cNvSpPr/>
            <p:nvPr/>
          </p:nvSpPr>
          <p:spPr>
            <a:xfrm>
              <a:off x="1209600" y="1425600"/>
              <a:ext cx="1013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p:txBody>
        </p:sp>
        <p:sp>
          <p:nvSpPr>
            <p:cNvPr id="1054" name=""/>
            <p:cNvSpPr/>
            <p:nvPr/>
          </p:nvSpPr>
          <p:spPr>
            <a:xfrm>
              <a:off x="1600200" y="299736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6122880" y="1724040"/>
              <a:ext cx="2262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Normal hybrid vehicles</a:t>
              </a:r>
              <a:endParaRPr b="0" lang="en-US" sz="1600" spc="-1" strike="noStrike">
                <a:solidFill>
                  <a:srgbClr val="000000"/>
                </a:solidFill>
                <a:latin typeface="Arial"/>
              </a:endParaRPr>
            </a:p>
          </p:txBody>
        </p:sp>
        <p:sp>
          <p:nvSpPr>
            <p:cNvPr id="1056" name=""/>
            <p:cNvSpPr/>
            <p:nvPr/>
          </p:nvSpPr>
          <p:spPr>
            <a:xfrm>
              <a:off x="1209600" y="2158920"/>
              <a:ext cx="1013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1057" name=""/>
            <p:cNvSpPr/>
            <p:nvPr/>
          </p:nvSpPr>
          <p:spPr>
            <a:xfrm>
              <a:off x="1209600" y="2865600"/>
              <a:ext cx="1013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1058" name=""/>
            <p:cNvSpPr/>
            <p:nvPr/>
          </p:nvSpPr>
          <p:spPr>
            <a:xfrm>
              <a:off x="1131840" y="920880"/>
              <a:ext cx="1013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1059" name=""/>
            <p:cNvSpPr/>
            <p:nvPr/>
          </p:nvSpPr>
          <p:spPr>
            <a:xfrm>
              <a:off x="1600200" y="105264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1600200" y="155736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1600200" y="227664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1600200" y="443880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3" name="" descr=""/>
            <p:cNvPicPr/>
            <p:nvPr/>
          </p:nvPicPr>
          <p:blipFill>
            <a:blip r:embed="rId1"/>
            <a:stretch/>
          </p:blipFill>
          <p:spPr>
            <a:xfrm>
              <a:off x="2932200" y="3716280"/>
              <a:ext cx="520560" cy="576360"/>
            </a:xfrm>
            <a:prstGeom prst="rect">
              <a:avLst/>
            </a:prstGeom>
            <a:ln w="0">
              <a:noFill/>
            </a:ln>
          </p:spPr>
        </p:pic>
        <p:pic>
          <p:nvPicPr>
            <p:cNvPr id="1064" name="" descr=""/>
            <p:cNvPicPr/>
            <p:nvPr/>
          </p:nvPicPr>
          <p:blipFill>
            <a:blip r:embed="rId2"/>
            <a:stretch/>
          </p:blipFill>
          <p:spPr>
            <a:xfrm>
              <a:off x="3819600" y="3743280"/>
              <a:ext cx="352440" cy="522360"/>
            </a:xfrm>
            <a:prstGeom prst="rect">
              <a:avLst/>
            </a:prstGeom>
            <a:ln w="0">
              <a:noFill/>
            </a:ln>
          </p:spPr>
        </p:pic>
        <p:sp>
          <p:nvSpPr>
            <p:cNvPr id="1065" name=""/>
            <p:cNvSpPr/>
            <p:nvPr/>
          </p:nvSpPr>
          <p:spPr>
            <a:xfrm>
              <a:off x="3474000" y="380700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pic>
          <p:nvPicPr>
            <p:cNvPr id="1066" name="" descr=""/>
            <p:cNvPicPr/>
            <p:nvPr/>
          </p:nvPicPr>
          <p:blipFill>
            <a:blip r:embed="rId3"/>
            <a:stretch/>
          </p:blipFill>
          <p:spPr>
            <a:xfrm>
              <a:off x="6435720" y="3716280"/>
              <a:ext cx="520560" cy="576360"/>
            </a:xfrm>
            <a:prstGeom prst="rect">
              <a:avLst/>
            </a:prstGeom>
            <a:ln w="0">
              <a:noFill/>
            </a:ln>
          </p:spPr>
        </p:pic>
        <p:sp>
          <p:nvSpPr>
            <p:cNvPr id="1067" name=""/>
            <p:cNvSpPr/>
            <p:nvPr/>
          </p:nvSpPr>
          <p:spPr>
            <a:xfrm>
              <a:off x="1600200" y="371628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1833480" y="1484280"/>
              <a:ext cx="3245040" cy="1805040"/>
            </a:xfrm>
            <a:custGeom>
              <a:avLst/>
              <a:gdLst/>
              <a:ahLst/>
              <a:rect l="l" t="t" r="r" b="b"/>
              <a:pathLst>
                <a:path w="1895" h="1410">
                  <a:moveTo>
                    <a:pt x="0" y="0"/>
                  </a:moveTo>
                  <a:lnTo>
                    <a:pt x="181" y="46"/>
                  </a:lnTo>
                  <a:lnTo>
                    <a:pt x="317" y="0"/>
                  </a:lnTo>
                  <a:lnTo>
                    <a:pt x="363" y="182"/>
                  </a:lnTo>
                  <a:lnTo>
                    <a:pt x="499" y="182"/>
                  </a:lnTo>
                  <a:lnTo>
                    <a:pt x="499" y="454"/>
                  </a:lnTo>
                  <a:lnTo>
                    <a:pt x="771" y="454"/>
                  </a:lnTo>
                  <a:lnTo>
                    <a:pt x="861" y="726"/>
                  </a:lnTo>
                  <a:lnTo>
                    <a:pt x="1043" y="590"/>
                  </a:lnTo>
                  <a:lnTo>
                    <a:pt x="1088" y="862"/>
                  </a:lnTo>
                  <a:lnTo>
                    <a:pt x="1360" y="862"/>
                  </a:lnTo>
                  <a:lnTo>
                    <a:pt x="1451" y="998"/>
                  </a:lnTo>
                  <a:lnTo>
                    <a:pt x="1542" y="907"/>
                  </a:lnTo>
                  <a:lnTo>
                    <a:pt x="1633" y="1361"/>
                  </a:lnTo>
                  <a:lnTo>
                    <a:pt x="1769" y="1134"/>
                  </a:lnTo>
                  <a:lnTo>
                    <a:pt x="1895" y="1410"/>
                  </a:lnTo>
                </a:path>
              </a:pathLst>
            </a:custGeom>
            <a:noFill/>
            <a:ln w="38160">
              <a:solidFill>
                <a:srgbClr val="ff7c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888160" y="2421000"/>
              <a:ext cx="28875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peration of PHEV vehicles change significantly after reaching A km</a:t>
              </a:r>
              <a:endParaRPr b="0" lang="en-US" sz="1400" spc="-1" strike="noStrike">
                <a:solidFill>
                  <a:srgbClr val="000000"/>
                </a:solidFill>
                <a:latin typeface="Arial"/>
              </a:endParaRPr>
            </a:p>
          </p:txBody>
        </p:sp>
        <p:sp>
          <p:nvSpPr>
            <p:cNvPr id="1070" name=""/>
            <p:cNvSpPr/>
            <p:nvPr/>
          </p:nvSpPr>
          <p:spPr>
            <a:xfrm>
              <a:off x="4521240" y="3284640"/>
              <a:ext cx="34812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1833480" y="1557360"/>
              <a:ext cx="2759040" cy="172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1857240" y="4581360"/>
              <a:ext cx="2590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2700000" y="4775040"/>
              <a:ext cx="298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lug-in r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harge Depleting Range)</a:t>
              </a:r>
              <a:endParaRPr b="0" lang="en-US" sz="1800" spc="-1" strike="noStrike">
                <a:solidFill>
                  <a:srgbClr val="000000"/>
                </a:solidFill>
                <a:latin typeface="Arial"/>
              </a:endParaRPr>
            </a:p>
          </p:txBody>
        </p:sp>
        <p:sp>
          <p:nvSpPr>
            <p:cNvPr id="1074" name=""/>
            <p:cNvSpPr/>
            <p:nvPr/>
          </p:nvSpPr>
          <p:spPr>
            <a:xfrm>
              <a:off x="3728880" y="1052640"/>
              <a:ext cx="0" cy="33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5384880" y="1052640"/>
              <a:ext cx="0" cy="33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6969240" y="1052640"/>
              <a:ext cx="0" cy="33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2246400" y="765000"/>
              <a:ext cx="94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ΔSOC=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078" name=""/>
            <p:cNvSpPr/>
            <p:nvPr/>
          </p:nvSpPr>
          <p:spPr>
            <a:xfrm>
              <a:off x="4119480" y="765000"/>
              <a:ext cx="94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ΔSOC=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079" name=""/>
            <p:cNvSpPr/>
            <p:nvPr/>
          </p:nvSpPr>
          <p:spPr>
            <a:xfrm>
              <a:off x="5637240" y="888840"/>
              <a:ext cx="93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ΔSOC= </a:t>
              </a: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1080" name=""/>
            <p:cNvSpPr/>
            <p:nvPr/>
          </p:nvSpPr>
          <p:spPr>
            <a:xfrm>
              <a:off x="7297560" y="892080"/>
              <a:ext cx="93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ΔSOC= </a:t>
              </a: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1081" name=""/>
            <p:cNvSpPr/>
            <p:nvPr/>
          </p:nvSpPr>
          <p:spPr>
            <a:xfrm>
              <a:off x="2277000" y="70632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test cycle</a:t>
              </a:r>
              <a:endParaRPr b="0" lang="en-US" sz="1200" spc="-1" strike="noStrike">
                <a:solidFill>
                  <a:srgbClr val="000000"/>
                </a:solidFill>
                <a:latin typeface="Arial"/>
              </a:endParaRPr>
            </a:p>
          </p:txBody>
        </p:sp>
        <p:sp>
          <p:nvSpPr>
            <p:cNvPr id="1082" name=""/>
            <p:cNvSpPr/>
            <p:nvPr/>
          </p:nvSpPr>
          <p:spPr>
            <a:xfrm>
              <a:off x="3953520" y="692280"/>
              <a:ext cx="108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test cycle</a:t>
              </a:r>
              <a:endParaRPr b="0" lang="en-US" sz="1200" spc="-1" strike="noStrike">
                <a:solidFill>
                  <a:srgbClr val="000000"/>
                </a:solidFill>
                <a:latin typeface="Arial"/>
              </a:endParaRPr>
            </a:p>
          </p:txBody>
        </p:sp>
        <p:sp>
          <p:nvSpPr>
            <p:cNvPr id="1083" name=""/>
            <p:cNvSpPr/>
            <p:nvPr/>
          </p:nvSpPr>
          <p:spPr>
            <a:xfrm>
              <a:off x="5608800" y="706320"/>
              <a:ext cx="106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test cycle</a:t>
              </a:r>
              <a:endParaRPr b="0" lang="en-US" sz="1200" spc="-1" strike="noStrike">
                <a:solidFill>
                  <a:srgbClr val="000000"/>
                </a:solidFill>
                <a:latin typeface="Arial"/>
              </a:endParaRPr>
            </a:p>
          </p:txBody>
        </p:sp>
        <p:sp>
          <p:nvSpPr>
            <p:cNvPr id="1084" name=""/>
            <p:cNvSpPr/>
            <p:nvPr/>
          </p:nvSpPr>
          <p:spPr>
            <a:xfrm>
              <a:off x="7191360" y="692280"/>
              <a:ext cx="106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test cycle</a:t>
              </a:r>
              <a:endParaRPr b="0" lang="en-US" sz="1200" spc="-1" strike="noStrike">
                <a:solidFill>
                  <a:srgbClr val="000000"/>
                </a:solidFill>
                <a:latin typeface="Arial"/>
              </a:endParaRPr>
            </a:p>
          </p:txBody>
        </p:sp>
        <p:sp>
          <p:nvSpPr>
            <p:cNvPr id="1085" name=""/>
            <p:cNvSpPr/>
            <p:nvPr/>
          </p:nvSpPr>
          <p:spPr>
            <a:xfrm flipV="1">
              <a:off x="4521240" y="1341000"/>
              <a:ext cx="0" cy="309564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4326120" y="43736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a:t>
              </a:r>
              <a:endParaRPr b="0" lang="en-US" sz="1800" spc="-1" strike="noStrike">
                <a:solidFill>
                  <a:srgbClr val="000000"/>
                </a:solidFill>
                <a:latin typeface="Arial"/>
              </a:endParaRPr>
            </a:p>
          </p:txBody>
        </p:sp>
        <p:sp>
          <p:nvSpPr>
            <p:cNvPr id="1087" name=""/>
            <p:cNvSpPr/>
            <p:nvPr/>
          </p:nvSpPr>
          <p:spPr>
            <a:xfrm>
              <a:off x="1857240" y="4724280"/>
              <a:ext cx="3167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272880" y="0"/>
            <a:ext cx="780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4087c8"/>
                </a:solidFill>
                <a:latin typeface="Arial"/>
              </a:rPr>
              <a:t>Challenges in evaluation of Plug-in HVs</a:t>
            </a:r>
            <a:endParaRPr b="0" lang="en-US" sz="2800" spc="-1" strike="noStrike">
              <a:solidFill>
                <a:srgbClr val="000000"/>
              </a:solidFill>
              <a:latin typeface="Arial"/>
            </a:endParaRPr>
          </a:p>
        </p:txBody>
      </p:sp>
      <p:sp>
        <p:nvSpPr>
          <p:cNvPr id="1089" name=""/>
          <p:cNvSpPr/>
          <p:nvPr/>
        </p:nvSpPr>
        <p:spPr>
          <a:xfrm>
            <a:off x="272880" y="981000"/>
            <a:ext cx="4464360" cy="64260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1. Definition of Plug-in range (CD range)</a:t>
            </a:r>
            <a:endParaRPr b="0" lang="en-US" sz="1800" spc="-1" strike="noStrike">
              <a:solidFill>
                <a:srgbClr val="000000"/>
              </a:solidFill>
              <a:latin typeface="Arial"/>
            </a:endParaRPr>
          </a:p>
        </p:txBody>
      </p:sp>
      <p:sp>
        <p:nvSpPr>
          <p:cNvPr id="1090" name=""/>
          <p:cNvSpPr/>
          <p:nvPr/>
        </p:nvSpPr>
        <p:spPr>
          <a:xfrm>
            <a:off x="4645080" y="450720"/>
            <a:ext cx="183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a:off x="344520" y="1700280"/>
            <a:ext cx="424800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Plug-in range(CD range) does not always show the total work of charged electric power( How can we define capacity of electricity?).</a:t>
            </a:r>
            <a:endParaRPr b="0" lang="en-US" sz="1600" spc="-1" strike="noStrike">
              <a:solidFill>
                <a:srgbClr val="000000"/>
              </a:solidFill>
              <a:latin typeface="Arial"/>
            </a:endParaRPr>
          </a:p>
        </p:txBody>
      </p:sp>
      <p:pic>
        <p:nvPicPr>
          <p:cNvPr id="1092" name="" descr=""/>
          <p:cNvPicPr/>
          <p:nvPr/>
        </p:nvPicPr>
        <p:blipFill>
          <a:blip r:embed="rId1"/>
          <a:stretch/>
        </p:blipFill>
        <p:spPr>
          <a:xfrm>
            <a:off x="5288040" y="692280"/>
            <a:ext cx="4618080" cy="2485800"/>
          </a:xfrm>
          <a:prstGeom prst="rect">
            <a:avLst/>
          </a:prstGeom>
          <a:ln w="0">
            <a:noFill/>
          </a:ln>
        </p:spPr>
      </p:pic>
      <p:sp>
        <p:nvSpPr>
          <p:cNvPr id="1093" name=""/>
          <p:cNvSpPr/>
          <p:nvPr/>
        </p:nvSpPr>
        <p:spPr>
          <a:xfrm>
            <a:off x="344520" y="3092400"/>
            <a:ext cx="820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ow can we estimate the changing point (A or A’) from test result?</a:t>
            </a:r>
            <a:endParaRPr b="0" lang="en-US" sz="1600" spc="-1" strike="noStrike">
              <a:solidFill>
                <a:srgbClr val="000000"/>
              </a:solidFill>
              <a:latin typeface="Arial"/>
            </a:endParaRPr>
          </a:p>
        </p:txBody>
      </p:sp>
      <p:sp>
        <p:nvSpPr>
          <p:cNvPr id="1094" name=""/>
          <p:cNvSpPr/>
          <p:nvPr/>
        </p:nvSpPr>
        <p:spPr>
          <a:xfrm>
            <a:off x="272880" y="3645000"/>
            <a:ext cx="7848720" cy="36828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2. Combination of  two different performances of CD mode/CS mode)</a:t>
            </a:r>
            <a:endParaRPr b="0" lang="en-US" sz="1800" spc="-1" strike="noStrike">
              <a:solidFill>
                <a:srgbClr val="000000"/>
              </a:solidFill>
              <a:latin typeface="Arial"/>
            </a:endParaRPr>
          </a:p>
        </p:txBody>
      </p:sp>
      <p:sp>
        <p:nvSpPr>
          <p:cNvPr id="1095" name=""/>
          <p:cNvSpPr/>
          <p:nvPr/>
        </p:nvSpPr>
        <p:spPr>
          <a:xfrm>
            <a:off x="272880" y="4149720"/>
            <a:ext cx="963324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we incorporate utility factor in the process of combination of two different performance of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we accommodate further and rapid improvement of Plug-in performance in the near future (mainly achieved by new technology on battery power intensity or cost down)?</a:t>
            </a:r>
            <a:endParaRPr b="0" lang="en-US" sz="1600" spc="-1" strike="noStrike">
              <a:solidFill>
                <a:srgbClr val="000000"/>
              </a:solidFill>
              <a:latin typeface="Arial"/>
            </a:endParaRPr>
          </a:p>
        </p:txBody>
      </p:sp>
      <p:sp>
        <p:nvSpPr>
          <p:cNvPr id="1096" name=""/>
          <p:cNvSpPr/>
          <p:nvPr/>
        </p:nvSpPr>
        <p:spPr>
          <a:xfrm>
            <a:off x="272880" y="5411880"/>
            <a:ext cx="7848720" cy="36828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3. Consumer Information</a:t>
            </a:r>
            <a:endParaRPr b="0" lang="en-US" sz="1800" spc="-1" strike="noStrike">
              <a:solidFill>
                <a:srgbClr val="000000"/>
              </a:solidFill>
              <a:latin typeface="Arial"/>
            </a:endParaRPr>
          </a:p>
        </p:txBody>
      </p:sp>
      <p:sp>
        <p:nvSpPr>
          <p:cNvPr id="1097" name=""/>
          <p:cNvSpPr/>
          <p:nvPr/>
        </p:nvSpPr>
        <p:spPr>
          <a:xfrm>
            <a:off x="266040" y="5916600"/>
            <a:ext cx="90486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w can we inform consumers of the multi-layered performance of Plug-in HV without confu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ctual performance differs depending on ways of 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15800" y="-360"/>
            <a:ext cx="1657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Agenda</a:t>
            </a:r>
            <a:endParaRPr b="0" lang="en-US" sz="2800" spc="-1" strike="noStrike">
              <a:solidFill>
                <a:srgbClr val="4087c8"/>
              </a:solidFill>
              <a:latin typeface="HGP創英角ｺﾞｼｯｸUB"/>
            </a:endParaRPr>
          </a:p>
        </p:txBody>
      </p:sp>
      <p:sp>
        <p:nvSpPr>
          <p:cNvPr id="1099" name=""/>
          <p:cNvSpPr/>
          <p:nvPr/>
        </p:nvSpPr>
        <p:spPr>
          <a:xfrm>
            <a:off x="584280" y="4149720"/>
            <a:ext cx="881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974880" y="1341360"/>
            <a:ext cx="8111880" cy="3933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Top Runner Approach  </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Fuel Efficiency Standard for HD Vehicle</a:t>
            </a:r>
            <a:br>
              <a:rPr sz="2800"/>
            </a:br>
            <a:r>
              <a:rPr b="1" lang="en-US" sz="2800" spc="-1" strike="noStrike">
                <a:solidFill>
                  <a:srgbClr val="808080"/>
                </a:solidFill>
                <a:latin typeface="Arial"/>
              </a:rPr>
              <a:t> </a:t>
            </a:r>
            <a:r>
              <a:rPr b="1" lang="zh-CN" sz="1800" spc="-1" strike="noStrike">
                <a:solidFill>
                  <a:srgbClr val="808080"/>
                </a:solidFill>
                <a:latin typeface="Arial"/>
              </a:rPr>
              <a:t>・</a:t>
            </a:r>
            <a:r>
              <a:rPr b="0" lang="en-US" sz="1800" spc="-1" strike="noStrike">
                <a:solidFill>
                  <a:srgbClr val="808080"/>
                </a:solidFill>
                <a:latin typeface="Arial"/>
              </a:rPr>
              <a:t> </a:t>
            </a:r>
            <a:r>
              <a:rPr b="0" lang="en-US" sz="2800" spc="-1" strike="noStrike">
                <a:solidFill>
                  <a:srgbClr val="808080"/>
                </a:solidFill>
                <a:latin typeface="Arial"/>
              </a:rPr>
              <a:t>Simulation Test Method</a:t>
            </a:r>
            <a:br>
              <a:rPr sz="2800"/>
            </a:br>
            <a:r>
              <a:rPr b="0" lang="en-US" sz="2800" spc="-1" strike="noStrike">
                <a:solidFill>
                  <a:srgbClr val="808080"/>
                </a:solidFill>
                <a:latin typeface="Arial"/>
              </a:rPr>
              <a:t> </a:t>
            </a:r>
            <a:r>
              <a:rPr b="1" lang="zh-CN" sz="1800" spc="-1" strike="noStrike">
                <a:solidFill>
                  <a:srgbClr val="808080"/>
                </a:solidFill>
                <a:latin typeface="Arial"/>
              </a:rPr>
              <a:t>・</a:t>
            </a:r>
            <a:r>
              <a:rPr b="0" lang="en-US" sz="1800" spc="-1" strike="noStrike">
                <a:solidFill>
                  <a:srgbClr val="808080"/>
                </a:solidFill>
                <a:latin typeface="Arial"/>
              </a:rPr>
              <a:t> </a:t>
            </a:r>
            <a:r>
              <a:rPr b="0" lang="en-US" sz="2800" spc="-1" strike="noStrike">
                <a:solidFill>
                  <a:srgbClr val="808080"/>
                </a:solidFill>
                <a:latin typeface="Arial"/>
              </a:rPr>
              <a:t>for HD HEV Test</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Fuel Efficiency Standard for LD Vehicle</a:t>
            </a:r>
            <a:br>
              <a:rPr sz="2800"/>
            </a:br>
            <a:r>
              <a:rPr b="1" lang="en-US" sz="2800" spc="-1" strike="noStrike">
                <a:solidFill>
                  <a:srgbClr val="808080"/>
                </a:solidFill>
                <a:latin typeface="Arial"/>
              </a:rPr>
              <a:t> </a:t>
            </a:r>
            <a:r>
              <a:rPr b="1" lang="zh-CN" sz="1800" spc="-1" strike="noStrike">
                <a:solidFill>
                  <a:srgbClr val="808080"/>
                </a:solidFill>
                <a:latin typeface="Arial"/>
              </a:rPr>
              <a:t>・</a:t>
            </a:r>
            <a:r>
              <a:rPr b="0" lang="en-US" sz="1800" spc="-1" strike="noStrike">
                <a:solidFill>
                  <a:srgbClr val="808080"/>
                </a:solidFill>
                <a:latin typeface="Arial"/>
              </a:rPr>
              <a:t> </a:t>
            </a:r>
            <a:r>
              <a:rPr b="0" lang="en-US" sz="2800" spc="-1" strike="noStrike">
                <a:solidFill>
                  <a:srgbClr val="808080"/>
                </a:solidFill>
                <a:latin typeface="Arial"/>
              </a:rPr>
              <a:t>Conventional Test Method</a:t>
            </a:r>
            <a:br>
              <a:rPr sz="2800"/>
            </a:br>
            <a:r>
              <a:rPr b="0" lang="en-US" sz="2800" spc="-1" strike="noStrike">
                <a:solidFill>
                  <a:srgbClr val="808080"/>
                </a:solidFill>
                <a:latin typeface="Arial"/>
              </a:rPr>
              <a:t> </a:t>
            </a:r>
            <a:r>
              <a:rPr b="1" lang="zh-CN" sz="1800" spc="-1" strike="noStrike">
                <a:solidFill>
                  <a:srgbClr val="808080"/>
                </a:solidFill>
                <a:latin typeface="Arial"/>
              </a:rPr>
              <a:t>・</a:t>
            </a:r>
            <a:r>
              <a:rPr b="0" lang="en-US" sz="1800" spc="-1" strike="noStrike">
                <a:solidFill>
                  <a:srgbClr val="808080"/>
                </a:solidFill>
                <a:latin typeface="Arial"/>
              </a:rPr>
              <a:t> </a:t>
            </a:r>
            <a:r>
              <a:rPr b="0" lang="en-US" sz="2800" spc="-1" strike="noStrike">
                <a:solidFill>
                  <a:srgbClr val="808080"/>
                </a:solidFill>
                <a:latin typeface="Arial"/>
              </a:rPr>
              <a:t>for LD HEV Test</a:t>
            </a:r>
            <a:br>
              <a:rPr sz="2800"/>
            </a:br>
            <a:r>
              <a:rPr b="0" lang="en-US" sz="2800" spc="-1" strike="noStrike">
                <a:solidFill>
                  <a:srgbClr val="808080"/>
                </a:solidFill>
                <a:latin typeface="Arial"/>
              </a:rPr>
              <a:t> </a:t>
            </a:r>
            <a:r>
              <a:rPr b="1" lang="zh-CN" sz="1800" spc="-1" strike="noStrike">
                <a:solidFill>
                  <a:srgbClr val="808080"/>
                </a:solidFill>
                <a:latin typeface="Arial"/>
              </a:rPr>
              <a:t>・</a:t>
            </a:r>
            <a:r>
              <a:rPr b="0" lang="en-US" sz="1800" spc="-1" strike="noStrike">
                <a:solidFill>
                  <a:srgbClr val="808080"/>
                </a:solidFill>
                <a:latin typeface="Arial"/>
              </a:rPr>
              <a:t> </a:t>
            </a:r>
            <a:r>
              <a:rPr b="0" lang="en-US" sz="2800" spc="-1" strike="noStrike">
                <a:solidFill>
                  <a:srgbClr val="808080"/>
                </a:solidFill>
                <a:latin typeface="Arial"/>
              </a:rPr>
              <a:t>Challenge for PHEV Evaluation</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T Bus : PHEV for HD Vehi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360" y="-360"/>
            <a:ext cx="7605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創英角ｺﾞｼｯｸUB"/>
              </a:rPr>
              <a:t>IPT Hybrid Bus: “Plug-less” Plug-in for HD Vehicle</a:t>
            </a:r>
            <a:endParaRPr b="0" lang="en-US" sz="2400" spc="-1" strike="noStrike">
              <a:solidFill>
                <a:srgbClr val="4087c8"/>
              </a:solidFill>
              <a:latin typeface="HGP創英角ｺﾞｼｯｸUB"/>
            </a:endParaRPr>
          </a:p>
        </p:txBody>
      </p:sp>
      <p:pic>
        <p:nvPicPr>
          <p:cNvPr id="1102" name="" descr=""/>
          <p:cNvPicPr/>
          <p:nvPr/>
        </p:nvPicPr>
        <p:blipFill>
          <a:blip r:embed="rId1"/>
          <a:srcRect l="0" t="4960" r="0" b="4960"/>
          <a:stretch/>
        </p:blipFill>
        <p:spPr>
          <a:xfrm>
            <a:off x="5421240" y="4581360"/>
            <a:ext cx="3510000" cy="1516320"/>
          </a:xfrm>
          <a:prstGeom prst="rect">
            <a:avLst/>
          </a:prstGeom>
          <a:ln w="0">
            <a:noFill/>
          </a:ln>
        </p:spPr>
      </p:pic>
      <p:sp>
        <p:nvSpPr>
          <p:cNvPr id="1103" name=""/>
          <p:cNvSpPr/>
          <p:nvPr/>
        </p:nvSpPr>
        <p:spPr>
          <a:xfrm>
            <a:off x="6492240" y="609444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Unit</a:t>
            </a:r>
            <a:endParaRPr b="0" lang="en-US" sz="1800" spc="-1" strike="noStrike">
              <a:solidFill>
                <a:srgbClr val="000000"/>
              </a:solidFill>
              <a:latin typeface="Arial"/>
            </a:endParaRPr>
          </a:p>
        </p:txBody>
      </p:sp>
      <p:pic>
        <p:nvPicPr>
          <p:cNvPr id="1104" name="" descr=""/>
          <p:cNvPicPr/>
          <p:nvPr/>
        </p:nvPicPr>
        <p:blipFill>
          <a:blip r:embed="rId2"/>
          <a:stretch/>
        </p:blipFill>
        <p:spPr>
          <a:xfrm>
            <a:off x="1001880" y="1700280"/>
            <a:ext cx="7904160" cy="2328840"/>
          </a:xfrm>
          <a:prstGeom prst="rect">
            <a:avLst/>
          </a:prstGeom>
          <a:ln w="0">
            <a:noFill/>
          </a:ln>
        </p:spPr>
      </p:pic>
      <p:pic>
        <p:nvPicPr>
          <p:cNvPr id="1105" name="" descr=""/>
          <p:cNvPicPr/>
          <p:nvPr/>
        </p:nvPicPr>
        <p:blipFill>
          <a:blip r:embed="rId3"/>
          <a:stretch/>
        </p:blipFill>
        <p:spPr>
          <a:xfrm>
            <a:off x="1209600" y="4653000"/>
            <a:ext cx="2962440" cy="1496880"/>
          </a:xfrm>
          <a:prstGeom prst="rect">
            <a:avLst/>
          </a:prstGeom>
          <a:ln w="0">
            <a:noFill/>
          </a:ln>
        </p:spPr>
      </p:pic>
      <p:sp>
        <p:nvSpPr>
          <p:cNvPr id="1106" name=""/>
          <p:cNvSpPr/>
          <p:nvPr/>
        </p:nvSpPr>
        <p:spPr>
          <a:xfrm>
            <a:off x="1395720" y="6093000"/>
            <a:ext cx="255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hium Ion Battery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344520" y="0"/>
            <a:ext cx="73915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7c8"/>
                </a:solidFill>
                <a:latin typeface="Arial"/>
              </a:rPr>
              <a:t>IPT Hybrid Bus</a:t>
            </a:r>
            <a:endParaRPr b="0" lang="en-US" sz="2400" spc="-1" strike="noStrike">
              <a:solidFill>
                <a:srgbClr val="000000"/>
              </a:solidFill>
              <a:latin typeface="Arial"/>
            </a:endParaRPr>
          </a:p>
        </p:txBody>
      </p:sp>
      <p:sp>
        <p:nvSpPr>
          <p:cNvPr id="1108" name=""/>
          <p:cNvSpPr/>
          <p:nvPr/>
        </p:nvSpPr>
        <p:spPr>
          <a:xfrm flipH="1" flipV="1">
            <a:off x="4536720" y="4627080"/>
            <a:ext cx="36910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09" name=""/>
          <p:cNvSpPr/>
          <p:nvPr/>
        </p:nvSpPr>
        <p:spPr>
          <a:xfrm flipH="1">
            <a:off x="3348000" y="4614840"/>
            <a:ext cx="4795920" cy="12600"/>
          </a:xfrm>
          <a:prstGeom prst="line">
            <a:avLst/>
          </a:prstGeom>
          <a:ln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10" name=""/>
          <p:cNvSpPr/>
          <p:nvPr/>
        </p:nvSpPr>
        <p:spPr>
          <a:xfrm flipH="1">
            <a:off x="4316400" y="4710240"/>
            <a:ext cx="380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1" name=""/>
          <p:cNvGrpSpPr/>
          <p:nvPr/>
        </p:nvGrpSpPr>
        <p:grpSpPr>
          <a:xfrm>
            <a:off x="8848800" y="2048040"/>
            <a:ext cx="230400" cy="1041480"/>
            <a:chOff x="8848800" y="2048040"/>
            <a:chExt cx="230400" cy="1041480"/>
          </a:xfrm>
        </p:grpSpPr>
        <p:grpSp>
          <p:nvGrpSpPr>
            <p:cNvPr id="1112" name=""/>
            <p:cNvGrpSpPr/>
            <p:nvPr/>
          </p:nvGrpSpPr>
          <p:grpSpPr>
            <a:xfrm>
              <a:off x="8994600" y="2048040"/>
              <a:ext cx="62640" cy="1041480"/>
              <a:chOff x="8994600" y="2048040"/>
              <a:chExt cx="62640" cy="1041480"/>
            </a:xfrm>
          </p:grpSpPr>
          <p:sp>
            <p:nvSpPr>
              <p:cNvPr id="1113" name=""/>
              <p:cNvSpPr/>
              <p:nvPr/>
            </p:nvSpPr>
            <p:spPr>
              <a:xfrm>
                <a:off x="8994600" y="2048040"/>
                <a:ext cx="62640" cy="1041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8994600" y="2048040"/>
                <a:ext cx="62640" cy="1041480"/>
              </a:xfrm>
              <a:prstGeom prst="rect">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5" name=""/>
            <p:cNvGrpSpPr/>
            <p:nvPr/>
          </p:nvGrpSpPr>
          <p:grpSpPr>
            <a:xfrm>
              <a:off x="8848800" y="2268360"/>
              <a:ext cx="230400" cy="23040"/>
              <a:chOff x="8848800" y="2268360"/>
              <a:chExt cx="230400" cy="23040"/>
            </a:xfrm>
          </p:grpSpPr>
          <p:sp>
            <p:nvSpPr>
              <p:cNvPr id="1116" name=""/>
              <p:cNvSpPr/>
              <p:nvPr/>
            </p:nvSpPr>
            <p:spPr>
              <a:xfrm>
                <a:off x="8848800" y="2268360"/>
                <a:ext cx="230400" cy="23040"/>
              </a:xfrm>
              <a:prstGeom prst="rect">
                <a:avLst/>
              </a:prstGeom>
              <a:solidFill>
                <a:srgbClr val="c0c0c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17" name=""/>
              <p:cNvSpPr/>
              <p:nvPr/>
            </p:nvSpPr>
            <p:spPr>
              <a:xfrm>
                <a:off x="8848800" y="2268360"/>
                <a:ext cx="230400" cy="23040"/>
              </a:xfrm>
              <a:prstGeom prst="rect">
                <a:avLst/>
              </a:prstGeom>
              <a:noFill/>
              <a:ln cap="rnd" w="324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118" name=""/>
            <p:cNvGrpSpPr/>
            <p:nvPr/>
          </p:nvGrpSpPr>
          <p:grpSpPr>
            <a:xfrm>
              <a:off x="8848800" y="2156040"/>
              <a:ext cx="230400" cy="26640"/>
              <a:chOff x="8848800" y="2156040"/>
              <a:chExt cx="230400" cy="26640"/>
            </a:xfrm>
          </p:grpSpPr>
          <p:sp>
            <p:nvSpPr>
              <p:cNvPr id="1119" name=""/>
              <p:cNvSpPr/>
              <p:nvPr/>
            </p:nvSpPr>
            <p:spPr>
              <a:xfrm>
                <a:off x="8848800" y="2156040"/>
                <a:ext cx="230400" cy="26640"/>
              </a:xfrm>
              <a:prstGeom prst="rect">
                <a:avLst/>
              </a:prstGeom>
              <a:solidFill>
                <a:srgbClr val="c0c0c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20" name=""/>
              <p:cNvSpPr/>
              <p:nvPr/>
            </p:nvSpPr>
            <p:spPr>
              <a:xfrm>
                <a:off x="8848800" y="2156040"/>
                <a:ext cx="230400" cy="26640"/>
              </a:xfrm>
              <a:prstGeom prst="rect">
                <a:avLst/>
              </a:prstGeom>
              <a:noFill/>
              <a:ln cap="rnd" w="324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121" name=""/>
            <p:cNvGrpSpPr/>
            <p:nvPr/>
          </p:nvGrpSpPr>
          <p:grpSpPr>
            <a:xfrm>
              <a:off x="8866440" y="2126160"/>
              <a:ext cx="20880" cy="29160"/>
              <a:chOff x="8866440" y="2126160"/>
              <a:chExt cx="20880" cy="29160"/>
            </a:xfrm>
          </p:grpSpPr>
          <p:sp>
            <p:nvSpPr>
              <p:cNvPr id="1122" name=""/>
              <p:cNvSpPr/>
              <p:nvPr/>
            </p:nvSpPr>
            <p:spPr>
              <a:xfrm>
                <a:off x="8866440" y="2126160"/>
                <a:ext cx="20880" cy="29160"/>
              </a:xfrm>
              <a:prstGeom prst="rect">
                <a:avLst/>
              </a:prstGeom>
              <a:solidFill>
                <a:srgbClr val="c0c0c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23" name=""/>
              <p:cNvSpPr/>
              <p:nvPr/>
            </p:nvSpPr>
            <p:spPr>
              <a:xfrm>
                <a:off x="8866440" y="2126160"/>
                <a:ext cx="20880" cy="29160"/>
              </a:xfrm>
              <a:prstGeom prst="rect">
                <a:avLst/>
              </a:prstGeom>
              <a:noFill/>
              <a:ln cap="rnd"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24" name=""/>
            <p:cNvGrpSpPr/>
            <p:nvPr/>
          </p:nvGrpSpPr>
          <p:grpSpPr>
            <a:xfrm>
              <a:off x="8908920" y="2126160"/>
              <a:ext cx="24120" cy="29160"/>
              <a:chOff x="8908920" y="2126160"/>
              <a:chExt cx="24120" cy="29160"/>
            </a:xfrm>
          </p:grpSpPr>
          <p:sp>
            <p:nvSpPr>
              <p:cNvPr id="1125" name=""/>
              <p:cNvSpPr/>
              <p:nvPr/>
            </p:nvSpPr>
            <p:spPr>
              <a:xfrm>
                <a:off x="8908920" y="2126160"/>
                <a:ext cx="24120" cy="29160"/>
              </a:xfrm>
              <a:prstGeom prst="rect">
                <a:avLst/>
              </a:prstGeom>
              <a:solidFill>
                <a:srgbClr val="c0c0c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26" name=""/>
              <p:cNvSpPr/>
              <p:nvPr/>
            </p:nvSpPr>
            <p:spPr>
              <a:xfrm>
                <a:off x="8908920" y="2126160"/>
                <a:ext cx="24120" cy="29160"/>
              </a:xfrm>
              <a:prstGeom prst="rect">
                <a:avLst/>
              </a:prstGeom>
              <a:noFill/>
              <a:ln cap="rnd"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27" name=""/>
            <p:cNvGrpSpPr/>
            <p:nvPr/>
          </p:nvGrpSpPr>
          <p:grpSpPr>
            <a:xfrm>
              <a:off x="8955720" y="2126160"/>
              <a:ext cx="16920" cy="29160"/>
              <a:chOff x="8955720" y="2126160"/>
              <a:chExt cx="16920" cy="29160"/>
            </a:xfrm>
          </p:grpSpPr>
          <p:sp>
            <p:nvSpPr>
              <p:cNvPr id="1128" name=""/>
              <p:cNvSpPr/>
              <p:nvPr/>
            </p:nvSpPr>
            <p:spPr>
              <a:xfrm>
                <a:off x="8955720" y="2126160"/>
                <a:ext cx="16920" cy="29160"/>
              </a:xfrm>
              <a:prstGeom prst="rect">
                <a:avLst/>
              </a:prstGeom>
              <a:solidFill>
                <a:srgbClr val="c0c0c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29" name=""/>
              <p:cNvSpPr/>
              <p:nvPr/>
            </p:nvSpPr>
            <p:spPr>
              <a:xfrm>
                <a:off x="8955720" y="2126160"/>
                <a:ext cx="16920" cy="29160"/>
              </a:xfrm>
              <a:prstGeom prst="rect">
                <a:avLst/>
              </a:prstGeom>
              <a:noFill/>
              <a:ln cap="rnd"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sp>
        <p:nvSpPr>
          <p:cNvPr id="1130" name=""/>
          <p:cNvSpPr/>
          <p:nvPr/>
        </p:nvSpPr>
        <p:spPr>
          <a:xfrm flipH="1">
            <a:off x="8557920" y="2130480"/>
            <a:ext cx="360360" cy="1476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H="1">
            <a:off x="8667360" y="2130480"/>
            <a:ext cx="290520" cy="1476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8440200" y="2130480"/>
            <a:ext cx="435240" cy="14652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3" name="" descr=""/>
          <p:cNvPicPr/>
          <p:nvPr/>
        </p:nvPicPr>
        <p:blipFill>
          <a:blip r:embed="rId1"/>
          <a:stretch/>
        </p:blipFill>
        <p:spPr>
          <a:xfrm>
            <a:off x="385920" y="1177920"/>
            <a:ext cx="7288200" cy="2637000"/>
          </a:xfrm>
          <a:prstGeom prst="rect">
            <a:avLst/>
          </a:prstGeom>
          <a:ln w="0">
            <a:noFill/>
          </a:ln>
        </p:spPr>
      </p:pic>
      <p:sp>
        <p:nvSpPr>
          <p:cNvPr id="1134" name=""/>
          <p:cNvSpPr/>
          <p:nvPr/>
        </p:nvSpPr>
        <p:spPr>
          <a:xfrm>
            <a:off x="6419880" y="2727360"/>
            <a:ext cx="861840" cy="4680"/>
          </a:xfrm>
          <a:prstGeom prst="line">
            <a:avLst/>
          </a:prstGeom>
          <a:ln w="316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35" name=""/>
          <p:cNvSpPr/>
          <p:nvPr/>
        </p:nvSpPr>
        <p:spPr>
          <a:xfrm>
            <a:off x="6351480" y="2573280"/>
            <a:ext cx="63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6330960" y="2765520"/>
            <a:ext cx="4284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6467400" y="2712960"/>
            <a:ext cx="3024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399360" y="2765520"/>
            <a:ext cx="3960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9" name=""/>
          <p:cNvGrpSpPr/>
          <p:nvPr/>
        </p:nvGrpSpPr>
        <p:grpSpPr>
          <a:xfrm>
            <a:off x="5178600" y="3121200"/>
            <a:ext cx="846000" cy="380880"/>
            <a:chOff x="5178600" y="3121200"/>
            <a:chExt cx="846000" cy="380880"/>
          </a:xfrm>
        </p:grpSpPr>
        <p:grpSp>
          <p:nvGrpSpPr>
            <p:cNvPr id="1140" name=""/>
            <p:cNvGrpSpPr/>
            <p:nvPr/>
          </p:nvGrpSpPr>
          <p:grpSpPr>
            <a:xfrm>
              <a:off x="5438160" y="3121200"/>
              <a:ext cx="586440" cy="257040"/>
              <a:chOff x="5438160" y="3121200"/>
              <a:chExt cx="586440" cy="257040"/>
            </a:xfrm>
          </p:grpSpPr>
          <p:sp>
            <p:nvSpPr>
              <p:cNvPr id="1141" name=""/>
              <p:cNvSpPr/>
              <p:nvPr/>
            </p:nvSpPr>
            <p:spPr>
              <a:xfrm>
                <a:off x="5438160" y="3121200"/>
                <a:ext cx="586440" cy="257040"/>
              </a:xfrm>
              <a:custGeom>
                <a:avLst/>
                <a:gdLst/>
                <a:ahLst/>
                <a:rect l="l" t="t" r="r" b="b"/>
                <a:pathLst>
                  <a:path w="165" h="77">
                    <a:moveTo>
                      <a:pt x="0" y="38"/>
                    </a:moveTo>
                    <a:lnTo>
                      <a:pt x="6" y="77"/>
                    </a:lnTo>
                    <a:lnTo>
                      <a:pt x="165" y="39"/>
                    </a:lnTo>
                    <a:lnTo>
                      <a:pt x="158"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5438160" y="3121200"/>
                <a:ext cx="586440" cy="257040"/>
              </a:xfrm>
              <a:custGeom>
                <a:avLst/>
                <a:gdLst/>
                <a:ahLst/>
                <a:rect l="l" t="t" r="r" b="b"/>
                <a:pathLst>
                  <a:path w="165" h="77">
                    <a:moveTo>
                      <a:pt x="0" y="38"/>
                    </a:moveTo>
                    <a:lnTo>
                      <a:pt x="6" y="77"/>
                    </a:lnTo>
                    <a:lnTo>
                      <a:pt x="165" y="39"/>
                    </a:lnTo>
                    <a:lnTo>
                      <a:pt x="158" y="0"/>
                    </a:lnTo>
                    <a:lnTo>
                      <a:pt x="0" y="38"/>
                    </a:lnTo>
                    <a:close/>
                  </a:path>
                </a:pathLst>
              </a:custGeom>
              <a:no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3" name=""/>
            <p:cNvGrpSpPr/>
            <p:nvPr/>
          </p:nvGrpSpPr>
          <p:grpSpPr>
            <a:xfrm>
              <a:off x="5178600" y="3164400"/>
              <a:ext cx="304920" cy="337680"/>
              <a:chOff x="5178600" y="3164400"/>
              <a:chExt cx="304920" cy="337680"/>
            </a:xfrm>
          </p:grpSpPr>
          <p:sp>
            <p:nvSpPr>
              <p:cNvPr id="1144" name=""/>
              <p:cNvSpPr/>
              <p:nvPr/>
            </p:nvSpPr>
            <p:spPr>
              <a:xfrm>
                <a:off x="5178600" y="3164400"/>
                <a:ext cx="304920" cy="337680"/>
              </a:xfrm>
              <a:custGeom>
                <a:avLst/>
                <a:gdLst/>
                <a:ahLst/>
                <a:rect l="l" t="t" r="r" b="b"/>
                <a:pathLst>
                  <a:path w="798" h="790">
                    <a:moveTo>
                      <a:pt x="328" y="40"/>
                    </a:moveTo>
                    <a:cubicBezTo>
                      <a:pt x="129" y="80"/>
                      <a:pt x="0" y="271"/>
                      <a:pt x="40" y="467"/>
                    </a:cubicBezTo>
                    <a:cubicBezTo>
                      <a:pt x="80" y="664"/>
                      <a:pt x="273" y="790"/>
                      <a:pt x="471" y="750"/>
                    </a:cubicBezTo>
                    <a:cubicBezTo>
                      <a:pt x="670" y="710"/>
                      <a:pt x="798" y="519"/>
                      <a:pt x="759" y="323"/>
                    </a:cubicBezTo>
                    <a:cubicBezTo>
                      <a:pt x="719" y="126"/>
                      <a:pt x="526" y="0"/>
                      <a:pt x="328" y="40"/>
                    </a:cubicBez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178600" y="3164400"/>
                <a:ext cx="304920" cy="337680"/>
              </a:xfrm>
              <a:custGeom>
                <a:avLst/>
                <a:gdLst/>
                <a:ahLst/>
                <a:rect l="l" t="t" r="r" b="b"/>
                <a:pathLst>
                  <a:path w="86" h="101">
                    <a:moveTo>
                      <a:pt x="35" y="5"/>
                    </a:moveTo>
                    <a:cubicBezTo>
                      <a:pt x="14" y="10"/>
                      <a:pt x="0" y="35"/>
                      <a:pt x="4" y="60"/>
                    </a:cubicBezTo>
                    <a:cubicBezTo>
                      <a:pt x="9" y="85"/>
                      <a:pt x="29" y="101"/>
                      <a:pt x="51" y="96"/>
                    </a:cubicBezTo>
                    <a:cubicBezTo>
                      <a:pt x="73" y="91"/>
                      <a:pt x="86" y="67"/>
                      <a:pt x="82" y="41"/>
                    </a:cubicBezTo>
                    <a:cubicBezTo>
                      <a:pt x="78" y="16"/>
                      <a:pt x="57" y="0"/>
                      <a:pt x="35" y="5"/>
                    </a:cubicBez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46" name=""/>
          <p:cNvGrpSpPr/>
          <p:nvPr/>
        </p:nvGrpSpPr>
        <p:grpSpPr>
          <a:xfrm>
            <a:off x="5918040" y="2998800"/>
            <a:ext cx="432720" cy="432720"/>
            <a:chOff x="5918040" y="2998800"/>
            <a:chExt cx="432720" cy="432720"/>
          </a:xfrm>
        </p:grpSpPr>
        <p:sp>
          <p:nvSpPr>
            <p:cNvPr id="1147" name=""/>
            <p:cNvSpPr/>
            <p:nvPr/>
          </p:nvSpPr>
          <p:spPr>
            <a:xfrm>
              <a:off x="5918040" y="2998800"/>
              <a:ext cx="432720" cy="432720"/>
            </a:xfrm>
            <a:custGeom>
              <a:avLst/>
              <a:gdLst/>
              <a:ahLst/>
              <a:rect l="l" t="t" r="r" b="b"/>
              <a:pathLst>
                <a:path w="122" h="128">
                  <a:moveTo>
                    <a:pt x="0" y="24"/>
                  </a:moveTo>
                  <a:lnTo>
                    <a:pt x="17" y="128"/>
                  </a:lnTo>
                  <a:lnTo>
                    <a:pt x="122" y="103"/>
                  </a:lnTo>
                  <a:lnTo>
                    <a:pt x="104" y="0"/>
                  </a:lnTo>
                  <a:lnTo>
                    <a:pt x="0"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5918040" y="2998800"/>
              <a:ext cx="432720" cy="432720"/>
            </a:xfrm>
            <a:custGeom>
              <a:avLst/>
              <a:gdLst/>
              <a:ahLst/>
              <a:rect l="l" t="t" r="r" b="b"/>
              <a:pathLst>
                <a:path w="122" h="128">
                  <a:moveTo>
                    <a:pt x="0" y="24"/>
                  </a:moveTo>
                  <a:lnTo>
                    <a:pt x="17" y="128"/>
                  </a:lnTo>
                  <a:lnTo>
                    <a:pt x="122" y="103"/>
                  </a:lnTo>
                  <a:lnTo>
                    <a:pt x="104" y="0"/>
                  </a:lnTo>
                  <a:lnTo>
                    <a:pt x="0" y="24"/>
                  </a:lnTo>
                  <a:close/>
                </a:path>
              </a:pathLst>
            </a:custGeom>
            <a:no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9" name=""/>
          <p:cNvGrpSpPr/>
          <p:nvPr/>
        </p:nvGrpSpPr>
        <p:grpSpPr>
          <a:xfrm>
            <a:off x="6294600" y="2901960"/>
            <a:ext cx="168840" cy="378720"/>
            <a:chOff x="6294600" y="2901960"/>
            <a:chExt cx="168840" cy="378720"/>
          </a:xfrm>
        </p:grpSpPr>
        <p:sp>
          <p:nvSpPr>
            <p:cNvPr id="1150" name=""/>
            <p:cNvSpPr/>
            <p:nvPr/>
          </p:nvSpPr>
          <p:spPr>
            <a:xfrm>
              <a:off x="6294600" y="2901960"/>
              <a:ext cx="168840" cy="378720"/>
            </a:xfrm>
            <a:custGeom>
              <a:avLst/>
              <a:gdLst/>
              <a:ahLst/>
              <a:rect l="l" t="t" r="r" b="b"/>
              <a:pathLst>
                <a:path w="48" h="112">
                  <a:moveTo>
                    <a:pt x="48" y="112"/>
                  </a:moveTo>
                  <a:lnTo>
                    <a:pt x="11" y="99"/>
                  </a:lnTo>
                  <a:lnTo>
                    <a:pt x="0" y="29"/>
                  </a:lnTo>
                  <a:lnTo>
                    <a:pt x="29" y="0"/>
                  </a:lnTo>
                  <a:lnTo>
                    <a:pt x="48"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6294600" y="2901960"/>
              <a:ext cx="168840" cy="378720"/>
            </a:xfrm>
            <a:custGeom>
              <a:avLst/>
              <a:gdLst/>
              <a:ahLst/>
              <a:rect l="l" t="t" r="r" b="b"/>
              <a:pathLst>
                <a:path w="48" h="112">
                  <a:moveTo>
                    <a:pt x="48" y="112"/>
                  </a:moveTo>
                  <a:lnTo>
                    <a:pt x="11" y="99"/>
                  </a:lnTo>
                  <a:lnTo>
                    <a:pt x="0" y="29"/>
                  </a:lnTo>
                  <a:lnTo>
                    <a:pt x="29" y="0"/>
                  </a:lnTo>
                  <a:lnTo>
                    <a:pt x="48" y="112"/>
                  </a:lnTo>
                  <a:close/>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2" name=""/>
          <p:cNvSpPr/>
          <p:nvPr/>
        </p:nvSpPr>
        <p:spPr>
          <a:xfrm>
            <a:off x="5421240" y="303120"/>
            <a:ext cx="212760" cy="3240"/>
          </a:xfrm>
          <a:prstGeom prst="rect">
            <a:avLst/>
          </a:prstGeom>
          <a:solidFill>
            <a:srgbClr val="ffd9c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3" name=""/>
          <p:cNvSpPr/>
          <p:nvPr/>
        </p:nvSpPr>
        <p:spPr>
          <a:xfrm>
            <a:off x="5421240" y="303120"/>
            <a:ext cx="212760" cy="3240"/>
          </a:xfrm>
          <a:prstGeom prst="rect">
            <a:avLst/>
          </a:prstGeom>
          <a:solidFill>
            <a:srgbClr val="ffdac5"/>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4" name=""/>
          <p:cNvSpPr/>
          <p:nvPr/>
        </p:nvSpPr>
        <p:spPr>
          <a:xfrm>
            <a:off x="5421240" y="330120"/>
            <a:ext cx="212760" cy="3240"/>
          </a:xfrm>
          <a:prstGeom prst="rect">
            <a:avLst/>
          </a:prstGeom>
          <a:solidFill>
            <a:srgbClr val="ffebe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5" name=""/>
          <p:cNvSpPr/>
          <p:nvPr/>
        </p:nvSpPr>
        <p:spPr>
          <a:xfrm>
            <a:off x="5421240" y="357120"/>
            <a:ext cx="212760" cy="3240"/>
          </a:xfrm>
          <a:prstGeom prst="rect">
            <a:avLst/>
          </a:prstGeom>
          <a:solidFill>
            <a:srgbClr val="fff7f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6" name=""/>
          <p:cNvSpPr/>
          <p:nvPr/>
        </p:nvSpPr>
        <p:spPr>
          <a:xfrm>
            <a:off x="5421240" y="452520"/>
            <a:ext cx="212760" cy="3240"/>
          </a:xfrm>
          <a:prstGeom prst="rect">
            <a:avLst/>
          </a:prstGeom>
          <a:solidFill>
            <a:srgbClr val="fff5f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7" name=""/>
          <p:cNvSpPr/>
          <p:nvPr/>
        </p:nvSpPr>
        <p:spPr>
          <a:xfrm>
            <a:off x="5421240" y="458640"/>
            <a:ext cx="212760" cy="3240"/>
          </a:xfrm>
          <a:prstGeom prst="rect">
            <a:avLst/>
          </a:prstGeom>
          <a:solidFill>
            <a:srgbClr val="fff2ec"/>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8" name=""/>
          <p:cNvSpPr/>
          <p:nvPr/>
        </p:nvSpPr>
        <p:spPr>
          <a:xfrm>
            <a:off x="5421240" y="469800"/>
            <a:ext cx="212760" cy="3240"/>
          </a:xfrm>
          <a:prstGeom prst="rect">
            <a:avLst/>
          </a:prstGeom>
          <a:solidFill>
            <a:srgbClr val="ffeee4"/>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9" name=""/>
          <p:cNvSpPr/>
          <p:nvPr/>
        </p:nvSpPr>
        <p:spPr>
          <a:xfrm>
            <a:off x="5421240" y="469800"/>
            <a:ext cx="212760" cy="3240"/>
          </a:xfrm>
          <a:prstGeom prst="rect">
            <a:avLst/>
          </a:prstGeom>
          <a:solidFill>
            <a:srgbClr val="ffece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0" name=""/>
          <p:cNvSpPr/>
          <p:nvPr/>
        </p:nvSpPr>
        <p:spPr>
          <a:xfrm>
            <a:off x="5421240" y="479520"/>
            <a:ext cx="212760" cy="3240"/>
          </a:xfrm>
          <a:prstGeom prst="rect">
            <a:avLst/>
          </a:prstGeom>
          <a:solidFill>
            <a:srgbClr val="ffe6d9"/>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1" name=""/>
          <p:cNvSpPr/>
          <p:nvPr/>
        </p:nvSpPr>
        <p:spPr>
          <a:xfrm>
            <a:off x="5421240" y="485640"/>
            <a:ext cx="212760" cy="3240"/>
          </a:xfrm>
          <a:prstGeom prst="rect">
            <a:avLst/>
          </a:prstGeom>
          <a:solidFill>
            <a:srgbClr val="ffe3d4"/>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2" name=""/>
          <p:cNvSpPr/>
          <p:nvPr/>
        </p:nvSpPr>
        <p:spPr>
          <a:xfrm>
            <a:off x="5421240" y="506520"/>
            <a:ext cx="212760" cy="3240"/>
          </a:xfrm>
          <a:prstGeom prst="rect">
            <a:avLst/>
          </a:prstGeom>
          <a:solidFill>
            <a:srgbClr val="ffd6b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3" name=""/>
          <p:cNvSpPr/>
          <p:nvPr/>
        </p:nvSpPr>
        <p:spPr>
          <a:xfrm>
            <a:off x="5421240" y="506520"/>
            <a:ext cx="212760" cy="3240"/>
          </a:xfrm>
          <a:prstGeom prst="rect">
            <a:avLst/>
          </a:prstGeom>
          <a:solidFill>
            <a:srgbClr val="ffd5bb"/>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4" name=""/>
          <p:cNvSpPr/>
          <p:nvPr/>
        </p:nvSpPr>
        <p:spPr>
          <a:xfrm>
            <a:off x="5421240" y="533520"/>
            <a:ext cx="212760" cy="2880"/>
          </a:xfrm>
          <a:prstGeom prst="rect">
            <a:avLst/>
          </a:prstGeom>
          <a:solidFill>
            <a:srgbClr val="ffc095"/>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5" name=""/>
          <p:cNvSpPr/>
          <p:nvPr/>
        </p:nvSpPr>
        <p:spPr>
          <a:xfrm>
            <a:off x="5421240" y="533520"/>
            <a:ext cx="212760" cy="2880"/>
          </a:xfrm>
          <a:prstGeom prst="rect">
            <a:avLst/>
          </a:prstGeom>
          <a:solidFill>
            <a:srgbClr val="ffbf92"/>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6" name=""/>
          <p:cNvSpPr/>
          <p:nvPr/>
        </p:nvSpPr>
        <p:spPr>
          <a:xfrm>
            <a:off x="5421240" y="554040"/>
            <a:ext cx="212760" cy="3240"/>
          </a:xfrm>
          <a:prstGeom prst="rect">
            <a:avLst/>
          </a:prstGeom>
          <a:solidFill>
            <a:srgbClr val="ffb074"/>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7" name=""/>
          <p:cNvSpPr/>
          <p:nvPr/>
        </p:nvSpPr>
        <p:spPr>
          <a:xfrm>
            <a:off x="5421240" y="554040"/>
            <a:ext cx="212760" cy="3240"/>
          </a:xfrm>
          <a:prstGeom prst="rect">
            <a:avLst/>
          </a:prstGeom>
          <a:solidFill>
            <a:srgbClr val="ffaf72"/>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8" name=""/>
          <p:cNvSpPr/>
          <p:nvPr/>
        </p:nvSpPr>
        <p:spPr>
          <a:xfrm>
            <a:off x="5421240" y="581040"/>
            <a:ext cx="212760" cy="3240"/>
          </a:xfrm>
          <a:prstGeom prst="rect">
            <a:avLst/>
          </a:prstGeom>
          <a:solidFill>
            <a:srgbClr val="ffa24a"/>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9" name=""/>
          <p:cNvSpPr/>
          <p:nvPr/>
        </p:nvSpPr>
        <p:spPr>
          <a:xfrm>
            <a:off x="5421240" y="581040"/>
            <a:ext cx="212760" cy="3240"/>
          </a:xfrm>
          <a:prstGeom prst="rect">
            <a:avLst/>
          </a:prstGeom>
          <a:solidFill>
            <a:srgbClr val="ffa247"/>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70" name=""/>
          <p:cNvSpPr/>
          <p:nvPr/>
        </p:nvSpPr>
        <p:spPr>
          <a:xfrm>
            <a:off x="5421240" y="608040"/>
            <a:ext cx="212760" cy="3240"/>
          </a:xfrm>
          <a:prstGeom prst="rect">
            <a:avLst/>
          </a:prstGeom>
          <a:solidFill>
            <a:srgbClr val="ff9a1a"/>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71" name=""/>
          <p:cNvSpPr/>
          <p:nvPr/>
        </p:nvSpPr>
        <p:spPr>
          <a:xfrm>
            <a:off x="5421240" y="608040"/>
            <a:ext cx="212760" cy="3240"/>
          </a:xfrm>
          <a:prstGeom prst="rect">
            <a:avLst/>
          </a:prstGeom>
          <a:solidFill>
            <a:srgbClr val="ff9a12"/>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72" name=""/>
          <p:cNvSpPr/>
          <p:nvPr/>
        </p:nvSpPr>
        <p:spPr>
          <a:xfrm flipH="1" flipV="1">
            <a:off x="3330720" y="3911400"/>
            <a:ext cx="17280" cy="7412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a:off x="2916000" y="4710240"/>
            <a:ext cx="52052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7683480" y="2133720"/>
            <a:ext cx="852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esel Engine</a:t>
            </a:r>
            <a:endParaRPr b="0" lang="en-US" sz="1600" spc="-1" strike="noStrike">
              <a:solidFill>
                <a:srgbClr val="000000"/>
              </a:solidFill>
              <a:latin typeface="Arial"/>
            </a:endParaRPr>
          </a:p>
        </p:txBody>
      </p:sp>
      <p:grpSp>
        <p:nvGrpSpPr>
          <p:cNvPr id="1175" name=""/>
          <p:cNvGrpSpPr/>
          <p:nvPr/>
        </p:nvGrpSpPr>
        <p:grpSpPr>
          <a:xfrm>
            <a:off x="8993160" y="2048040"/>
            <a:ext cx="62640" cy="1042200"/>
            <a:chOff x="8993160" y="2048040"/>
            <a:chExt cx="62640" cy="1042200"/>
          </a:xfrm>
        </p:grpSpPr>
        <p:sp>
          <p:nvSpPr>
            <p:cNvPr id="1176" name=""/>
            <p:cNvSpPr/>
            <p:nvPr/>
          </p:nvSpPr>
          <p:spPr>
            <a:xfrm>
              <a:off x="8993160" y="2048040"/>
              <a:ext cx="62640" cy="1042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8993160" y="2048040"/>
              <a:ext cx="62640" cy="1042200"/>
            </a:xfrm>
            <a:prstGeom prst="rect">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8" name=""/>
          <p:cNvGrpSpPr/>
          <p:nvPr/>
        </p:nvGrpSpPr>
        <p:grpSpPr>
          <a:xfrm>
            <a:off x="8848800" y="2271600"/>
            <a:ext cx="231120" cy="21960"/>
            <a:chOff x="8848800" y="2271600"/>
            <a:chExt cx="231120" cy="21960"/>
          </a:xfrm>
        </p:grpSpPr>
        <p:sp>
          <p:nvSpPr>
            <p:cNvPr id="1179" name=""/>
            <p:cNvSpPr/>
            <p:nvPr/>
          </p:nvSpPr>
          <p:spPr>
            <a:xfrm>
              <a:off x="8848800" y="2271600"/>
              <a:ext cx="2311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80" name=""/>
            <p:cNvSpPr/>
            <p:nvPr/>
          </p:nvSpPr>
          <p:spPr>
            <a:xfrm>
              <a:off x="8848800" y="2271600"/>
              <a:ext cx="231120" cy="21960"/>
            </a:xfrm>
            <a:prstGeom prst="rect">
              <a:avLst/>
            </a:prstGeom>
            <a:noFill/>
            <a:ln cap="rnd"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181" name=""/>
          <p:cNvGrpSpPr/>
          <p:nvPr/>
        </p:nvGrpSpPr>
        <p:grpSpPr>
          <a:xfrm>
            <a:off x="8848800" y="2157480"/>
            <a:ext cx="231120" cy="27720"/>
            <a:chOff x="8848800" y="2157480"/>
            <a:chExt cx="231120" cy="27720"/>
          </a:xfrm>
        </p:grpSpPr>
        <p:sp>
          <p:nvSpPr>
            <p:cNvPr id="1182" name=""/>
            <p:cNvSpPr/>
            <p:nvPr/>
          </p:nvSpPr>
          <p:spPr>
            <a:xfrm>
              <a:off x="8848800" y="2157480"/>
              <a:ext cx="231120" cy="27720"/>
            </a:xfrm>
            <a:prstGeom prst="rect">
              <a:avLst/>
            </a:prstGeom>
            <a:solidFill>
              <a:srgbClr val="c0c0c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83" name=""/>
            <p:cNvSpPr/>
            <p:nvPr/>
          </p:nvSpPr>
          <p:spPr>
            <a:xfrm>
              <a:off x="8848800" y="2157480"/>
              <a:ext cx="231120" cy="27720"/>
            </a:xfrm>
            <a:prstGeom prst="rect">
              <a:avLst/>
            </a:prstGeom>
            <a:noFill/>
            <a:ln cap="rnd" w="32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184" name=""/>
          <p:cNvGrpSpPr/>
          <p:nvPr/>
        </p:nvGrpSpPr>
        <p:grpSpPr>
          <a:xfrm>
            <a:off x="8867880" y="2128680"/>
            <a:ext cx="19800" cy="28080"/>
            <a:chOff x="8867880" y="2128680"/>
            <a:chExt cx="19800" cy="28080"/>
          </a:xfrm>
        </p:grpSpPr>
        <p:sp>
          <p:nvSpPr>
            <p:cNvPr id="1185" name=""/>
            <p:cNvSpPr/>
            <p:nvPr/>
          </p:nvSpPr>
          <p:spPr>
            <a:xfrm>
              <a:off x="8867880" y="2128680"/>
              <a:ext cx="19800" cy="28080"/>
            </a:xfrm>
            <a:prstGeom prst="rect">
              <a:avLst/>
            </a:prstGeom>
            <a:solidFill>
              <a:srgbClr val="c0c0c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86" name=""/>
            <p:cNvSpPr/>
            <p:nvPr/>
          </p:nvSpPr>
          <p:spPr>
            <a:xfrm>
              <a:off x="8867880" y="2128680"/>
              <a:ext cx="19800" cy="28080"/>
            </a:xfrm>
            <a:prstGeom prst="rect">
              <a:avLst/>
            </a:prstGeom>
            <a:noFill/>
            <a:ln cap="rnd" w="32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187" name=""/>
          <p:cNvGrpSpPr/>
          <p:nvPr/>
        </p:nvGrpSpPr>
        <p:grpSpPr>
          <a:xfrm>
            <a:off x="8908920" y="2128680"/>
            <a:ext cx="23400" cy="28080"/>
            <a:chOff x="8908920" y="2128680"/>
            <a:chExt cx="23400" cy="28080"/>
          </a:xfrm>
        </p:grpSpPr>
        <p:sp>
          <p:nvSpPr>
            <p:cNvPr id="1188" name=""/>
            <p:cNvSpPr/>
            <p:nvPr/>
          </p:nvSpPr>
          <p:spPr>
            <a:xfrm>
              <a:off x="8908920" y="2128680"/>
              <a:ext cx="23400" cy="28080"/>
            </a:xfrm>
            <a:prstGeom prst="rect">
              <a:avLst/>
            </a:prstGeom>
            <a:solidFill>
              <a:srgbClr val="c0c0c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89" name=""/>
            <p:cNvSpPr/>
            <p:nvPr/>
          </p:nvSpPr>
          <p:spPr>
            <a:xfrm>
              <a:off x="8908920" y="2128680"/>
              <a:ext cx="23400" cy="28080"/>
            </a:xfrm>
            <a:prstGeom prst="rect">
              <a:avLst/>
            </a:prstGeom>
            <a:noFill/>
            <a:ln cap="rnd" w="32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190" name=""/>
          <p:cNvGrpSpPr/>
          <p:nvPr/>
        </p:nvGrpSpPr>
        <p:grpSpPr>
          <a:xfrm>
            <a:off x="8956800" y="2128680"/>
            <a:ext cx="15480" cy="28080"/>
            <a:chOff x="8956800" y="2128680"/>
            <a:chExt cx="15480" cy="28080"/>
          </a:xfrm>
        </p:grpSpPr>
        <p:sp>
          <p:nvSpPr>
            <p:cNvPr id="1191" name=""/>
            <p:cNvSpPr/>
            <p:nvPr/>
          </p:nvSpPr>
          <p:spPr>
            <a:xfrm>
              <a:off x="8956800" y="2128680"/>
              <a:ext cx="15480" cy="28080"/>
            </a:xfrm>
            <a:prstGeom prst="rect">
              <a:avLst/>
            </a:prstGeom>
            <a:solidFill>
              <a:srgbClr val="c0c0c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92" name=""/>
            <p:cNvSpPr/>
            <p:nvPr/>
          </p:nvSpPr>
          <p:spPr>
            <a:xfrm>
              <a:off x="8956800" y="2128680"/>
              <a:ext cx="15480" cy="28080"/>
            </a:xfrm>
            <a:prstGeom prst="rect">
              <a:avLst/>
            </a:prstGeom>
            <a:noFill/>
            <a:ln cap="rnd" w="32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193" name=""/>
          <p:cNvGrpSpPr/>
          <p:nvPr/>
        </p:nvGrpSpPr>
        <p:grpSpPr>
          <a:xfrm>
            <a:off x="8993160" y="2048040"/>
            <a:ext cx="62640" cy="1042200"/>
            <a:chOff x="8993160" y="2048040"/>
            <a:chExt cx="62640" cy="1042200"/>
          </a:xfrm>
        </p:grpSpPr>
        <p:sp>
          <p:nvSpPr>
            <p:cNvPr id="1194" name=""/>
            <p:cNvSpPr/>
            <p:nvPr/>
          </p:nvSpPr>
          <p:spPr>
            <a:xfrm>
              <a:off x="8993160" y="2048040"/>
              <a:ext cx="62640" cy="1042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8993160" y="2048040"/>
              <a:ext cx="62640" cy="1042200"/>
            </a:xfrm>
            <a:prstGeom prst="rect">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6" name=""/>
          <p:cNvGrpSpPr/>
          <p:nvPr/>
        </p:nvGrpSpPr>
        <p:grpSpPr>
          <a:xfrm>
            <a:off x="8848800" y="2271600"/>
            <a:ext cx="231120" cy="21960"/>
            <a:chOff x="8848800" y="2271600"/>
            <a:chExt cx="231120" cy="21960"/>
          </a:xfrm>
        </p:grpSpPr>
        <p:sp>
          <p:nvSpPr>
            <p:cNvPr id="1197" name=""/>
            <p:cNvSpPr/>
            <p:nvPr/>
          </p:nvSpPr>
          <p:spPr>
            <a:xfrm>
              <a:off x="8848800" y="2271600"/>
              <a:ext cx="23112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98" name=""/>
            <p:cNvSpPr/>
            <p:nvPr/>
          </p:nvSpPr>
          <p:spPr>
            <a:xfrm>
              <a:off x="8848800" y="2271600"/>
              <a:ext cx="231120" cy="21960"/>
            </a:xfrm>
            <a:prstGeom prst="rect">
              <a:avLst/>
            </a:prstGeom>
            <a:noFill/>
            <a:ln cap="rnd"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199" name=""/>
          <p:cNvGrpSpPr/>
          <p:nvPr/>
        </p:nvGrpSpPr>
        <p:grpSpPr>
          <a:xfrm>
            <a:off x="8848800" y="2157480"/>
            <a:ext cx="231120" cy="27720"/>
            <a:chOff x="8848800" y="2157480"/>
            <a:chExt cx="231120" cy="27720"/>
          </a:xfrm>
        </p:grpSpPr>
        <p:sp>
          <p:nvSpPr>
            <p:cNvPr id="1200" name=""/>
            <p:cNvSpPr/>
            <p:nvPr/>
          </p:nvSpPr>
          <p:spPr>
            <a:xfrm>
              <a:off x="8848800" y="2157480"/>
              <a:ext cx="231120" cy="27720"/>
            </a:xfrm>
            <a:prstGeom prst="rect">
              <a:avLst/>
            </a:prstGeom>
            <a:solidFill>
              <a:srgbClr val="c0c0c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201" name=""/>
            <p:cNvSpPr/>
            <p:nvPr/>
          </p:nvSpPr>
          <p:spPr>
            <a:xfrm>
              <a:off x="8848800" y="2157480"/>
              <a:ext cx="231120" cy="27720"/>
            </a:xfrm>
            <a:prstGeom prst="rect">
              <a:avLst/>
            </a:prstGeom>
            <a:noFill/>
            <a:ln cap="rnd" w="32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202" name=""/>
          <p:cNvGrpSpPr/>
          <p:nvPr/>
        </p:nvGrpSpPr>
        <p:grpSpPr>
          <a:xfrm>
            <a:off x="8867880" y="2128680"/>
            <a:ext cx="19800" cy="28080"/>
            <a:chOff x="8867880" y="2128680"/>
            <a:chExt cx="19800" cy="28080"/>
          </a:xfrm>
        </p:grpSpPr>
        <p:sp>
          <p:nvSpPr>
            <p:cNvPr id="1203" name=""/>
            <p:cNvSpPr/>
            <p:nvPr/>
          </p:nvSpPr>
          <p:spPr>
            <a:xfrm>
              <a:off x="8867880" y="2128680"/>
              <a:ext cx="19800" cy="28080"/>
            </a:xfrm>
            <a:prstGeom prst="rect">
              <a:avLst/>
            </a:prstGeom>
            <a:solidFill>
              <a:srgbClr val="c0c0c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04" name=""/>
            <p:cNvSpPr/>
            <p:nvPr/>
          </p:nvSpPr>
          <p:spPr>
            <a:xfrm>
              <a:off x="8867880" y="2128680"/>
              <a:ext cx="19800" cy="28080"/>
            </a:xfrm>
            <a:prstGeom prst="rect">
              <a:avLst/>
            </a:prstGeom>
            <a:noFill/>
            <a:ln cap="rnd" w="32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205" name=""/>
          <p:cNvGrpSpPr/>
          <p:nvPr/>
        </p:nvGrpSpPr>
        <p:grpSpPr>
          <a:xfrm>
            <a:off x="8908920" y="2128680"/>
            <a:ext cx="23400" cy="28080"/>
            <a:chOff x="8908920" y="2128680"/>
            <a:chExt cx="23400" cy="28080"/>
          </a:xfrm>
        </p:grpSpPr>
        <p:sp>
          <p:nvSpPr>
            <p:cNvPr id="1206" name=""/>
            <p:cNvSpPr/>
            <p:nvPr/>
          </p:nvSpPr>
          <p:spPr>
            <a:xfrm>
              <a:off x="8908920" y="2128680"/>
              <a:ext cx="23400" cy="28080"/>
            </a:xfrm>
            <a:prstGeom prst="rect">
              <a:avLst/>
            </a:prstGeom>
            <a:solidFill>
              <a:srgbClr val="c0c0c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07" name=""/>
            <p:cNvSpPr/>
            <p:nvPr/>
          </p:nvSpPr>
          <p:spPr>
            <a:xfrm>
              <a:off x="8908920" y="2128680"/>
              <a:ext cx="23400" cy="28080"/>
            </a:xfrm>
            <a:prstGeom prst="rect">
              <a:avLst/>
            </a:prstGeom>
            <a:noFill/>
            <a:ln cap="rnd" w="32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208" name=""/>
          <p:cNvGrpSpPr/>
          <p:nvPr/>
        </p:nvGrpSpPr>
        <p:grpSpPr>
          <a:xfrm>
            <a:off x="8956800" y="2128680"/>
            <a:ext cx="15480" cy="28080"/>
            <a:chOff x="8956800" y="2128680"/>
            <a:chExt cx="15480" cy="28080"/>
          </a:xfrm>
        </p:grpSpPr>
        <p:sp>
          <p:nvSpPr>
            <p:cNvPr id="1209" name=""/>
            <p:cNvSpPr/>
            <p:nvPr/>
          </p:nvSpPr>
          <p:spPr>
            <a:xfrm>
              <a:off x="8956800" y="2128680"/>
              <a:ext cx="15480" cy="28080"/>
            </a:xfrm>
            <a:prstGeom prst="rect">
              <a:avLst/>
            </a:prstGeom>
            <a:solidFill>
              <a:srgbClr val="c0c0c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10" name=""/>
            <p:cNvSpPr/>
            <p:nvPr/>
          </p:nvSpPr>
          <p:spPr>
            <a:xfrm>
              <a:off x="8956800" y="2128680"/>
              <a:ext cx="15480" cy="28080"/>
            </a:xfrm>
            <a:prstGeom prst="rect">
              <a:avLst/>
            </a:prstGeom>
            <a:noFill/>
            <a:ln cap="rnd" w="324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211" name=""/>
          <p:cNvSpPr/>
          <p:nvPr/>
        </p:nvSpPr>
        <p:spPr>
          <a:xfrm flipH="1">
            <a:off x="8557920" y="2130480"/>
            <a:ext cx="360360" cy="1476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flipH="1">
            <a:off x="8667360" y="2130480"/>
            <a:ext cx="290520" cy="14763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flipH="1">
            <a:off x="8440200" y="2130480"/>
            <a:ext cx="435240" cy="14652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V="1">
            <a:off x="2933640" y="3925440"/>
            <a:ext cx="0" cy="808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330960" y="2751120"/>
            <a:ext cx="42840" cy="236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6467400" y="2712960"/>
            <a:ext cx="3024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399360" y="2765520"/>
            <a:ext cx="39600" cy="23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8" name=""/>
          <p:cNvGrpSpPr/>
          <p:nvPr/>
        </p:nvGrpSpPr>
        <p:grpSpPr>
          <a:xfrm>
            <a:off x="6294600" y="2901960"/>
            <a:ext cx="168840" cy="378720"/>
            <a:chOff x="6294600" y="2901960"/>
            <a:chExt cx="168840" cy="378720"/>
          </a:xfrm>
        </p:grpSpPr>
        <p:sp>
          <p:nvSpPr>
            <p:cNvPr id="1219" name=""/>
            <p:cNvSpPr/>
            <p:nvPr/>
          </p:nvSpPr>
          <p:spPr>
            <a:xfrm>
              <a:off x="6294600" y="2901960"/>
              <a:ext cx="168840" cy="378720"/>
            </a:xfrm>
            <a:custGeom>
              <a:avLst/>
              <a:gdLst/>
              <a:ahLst/>
              <a:rect l="l" t="t" r="r" b="b"/>
              <a:pathLst>
                <a:path w="48" h="112">
                  <a:moveTo>
                    <a:pt x="48" y="112"/>
                  </a:moveTo>
                  <a:lnTo>
                    <a:pt x="11" y="99"/>
                  </a:lnTo>
                  <a:lnTo>
                    <a:pt x="0" y="29"/>
                  </a:lnTo>
                  <a:lnTo>
                    <a:pt x="29" y="0"/>
                  </a:lnTo>
                  <a:lnTo>
                    <a:pt x="48"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294600" y="2901960"/>
              <a:ext cx="168840" cy="378720"/>
            </a:xfrm>
            <a:custGeom>
              <a:avLst/>
              <a:gdLst/>
              <a:ahLst/>
              <a:rect l="l" t="t" r="r" b="b"/>
              <a:pathLst>
                <a:path w="48" h="112">
                  <a:moveTo>
                    <a:pt x="48" y="112"/>
                  </a:moveTo>
                  <a:lnTo>
                    <a:pt x="11" y="99"/>
                  </a:lnTo>
                  <a:lnTo>
                    <a:pt x="0" y="29"/>
                  </a:lnTo>
                  <a:lnTo>
                    <a:pt x="29" y="0"/>
                  </a:lnTo>
                  <a:lnTo>
                    <a:pt x="48" y="112"/>
                  </a:lnTo>
                  <a:close/>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1" name=""/>
          <p:cNvSpPr/>
          <p:nvPr/>
        </p:nvSpPr>
        <p:spPr>
          <a:xfrm>
            <a:off x="5576760" y="334800"/>
            <a:ext cx="227160" cy="3240"/>
          </a:xfrm>
          <a:prstGeom prst="rect">
            <a:avLst/>
          </a:prstGeom>
          <a:solidFill>
            <a:srgbClr val="9caa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2" name=""/>
          <p:cNvSpPr/>
          <p:nvPr/>
        </p:nvSpPr>
        <p:spPr>
          <a:xfrm>
            <a:off x="5576760" y="334800"/>
            <a:ext cx="227160" cy="3240"/>
          </a:xfrm>
          <a:prstGeom prst="rect">
            <a:avLst/>
          </a:prstGeom>
          <a:solidFill>
            <a:srgbClr val="9eac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3" name=""/>
          <p:cNvSpPr/>
          <p:nvPr/>
        </p:nvSpPr>
        <p:spPr>
          <a:xfrm>
            <a:off x="5576760" y="361800"/>
            <a:ext cx="227160" cy="3240"/>
          </a:xfrm>
          <a:prstGeom prst="rect">
            <a:avLst/>
          </a:prstGeom>
          <a:solidFill>
            <a:srgbClr val="c4cc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4" name=""/>
          <p:cNvSpPr/>
          <p:nvPr/>
        </p:nvSpPr>
        <p:spPr>
          <a:xfrm>
            <a:off x="5576760" y="372960"/>
            <a:ext cx="227160" cy="3240"/>
          </a:xfrm>
          <a:prstGeom prst="rect">
            <a:avLst/>
          </a:prstGeom>
          <a:solidFill>
            <a:srgbClr val="cfd5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5" name=""/>
          <p:cNvSpPr/>
          <p:nvPr/>
        </p:nvSpPr>
        <p:spPr>
          <a:xfrm>
            <a:off x="5576760" y="372960"/>
            <a:ext cx="227160" cy="3240"/>
          </a:xfrm>
          <a:prstGeom prst="rect">
            <a:avLst/>
          </a:prstGeom>
          <a:solidFill>
            <a:srgbClr val="d1d7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6" name=""/>
          <p:cNvSpPr/>
          <p:nvPr/>
        </p:nvSpPr>
        <p:spPr>
          <a:xfrm>
            <a:off x="5576760" y="388800"/>
            <a:ext cx="227160" cy="3240"/>
          </a:xfrm>
          <a:prstGeom prst="rect">
            <a:avLst/>
          </a:prstGeom>
          <a:solidFill>
            <a:srgbClr val="e1e5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7" name=""/>
          <p:cNvSpPr/>
          <p:nvPr/>
        </p:nvSpPr>
        <p:spPr>
          <a:xfrm>
            <a:off x="5576760" y="399960"/>
            <a:ext cx="227160" cy="3240"/>
          </a:xfrm>
          <a:prstGeom prst="rect">
            <a:avLst/>
          </a:prstGeom>
          <a:solidFill>
            <a:srgbClr val="e9ec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8" name=""/>
          <p:cNvSpPr/>
          <p:nvPr/>
        </p:nvSpPr>
        <p:spPr>
          <a:xfrm>
            <a:off x="5576760" y="399960"/>
            <a:ext cx="227160" cy="3240"/>
          </a:xfrm>
          <a:prstGeom prst="rect">
            <a:avLst/>
          </a:prstGeom>
          <a:solidFill>
            <a:srgbClr val="ebee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9" name=""/>
          <p:cNvSpPr/>
          <p:nvPr/>
        </p:nvSpPr>
        <p:spPr>
          <a:xfrm>
            <a:off x="5576760" y="415800"/>
            <a:ext cx="227160" cy="3240"/>
          </a:xfrm>
          <a:prstGeom prst="rect">
            <a:avLst/>
          </a:prstGeom>
          <a:solidFill>
            <a:srgbClr val="f4f5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0" name=""/>
          <p:cNvSpPr/>
          <p:nvPr/>
        </p:nvSpPr>
        <p:spPr>
          <a:xfrm>
            <a:off x="5576760" y="484200"/>
            <a:ext cx="227160" cy="3240"/>
          </a:xfrm>
          <a:prstGeom prst="rect">
            <a:avLst/>
          </a:prstGeom>
          <a:solidFill>
            <a:srgbClr val="f8f8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1" name=""/>
          <p:cNvSpPr/>
          <p:nvPr/>
        </p:nvSpPr>
        <p:spPr>
          <a:xfrm>
            <a:off x="5576760" y="501480"/>
            <a:ext cx="227160" cy="3240"/>
          </a:xfrm>
          <a:prstGeom prst="rect">
            <a:avLst/>
          </a:prstGeom>
          <a:solidFill>
            <a:srgbClr val="eff1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2" name=""/>
          <p:cNvSpPr/>
          <p:nvPr/>
        </p:nvSpPr>
        <p:spPr>
          <a:xfrm>
            <a:off x="5576760" y="511200"/>
            <a:ext cx="227160" cy="3240"/>
          </a:xfrm>
          <a:prstGeom prst="rect">
            <a:avLst/>
          </a:prstGeom>
          <a:solidFill>
            <a:srgbClr val="e8eb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3" name=""/>
          <p:cNvSpPr/>
          <p:nvPr/>
        </p:nvSpPr>
        <p:spPr>
          <a:xfrm>
            <a:off x="5576760" y="522360"/>
            <a:ext cx="227160" cy="3240"/>
          </a:xfrm>
          <a:prstGeom prst="rect">
            <a:avLst/>
          </a:prstGeom>
          <a:solidFill>
            <a:srgbClr val="e1e5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4" name=""/>
          <p:cNvSpPr/>
          <p:nvPr/>
        </p:nvSpPr>
        <p:spPr>
          <a:xfrm>
            <a:off x="5576760" y="538200"/>
            <a:ext cx="227160" cy="3240"/>
          </a:xfrm>
          <a:prstGeom prst="rect">
            <a:avLst/>
          </a:prstGeom>
          <a:solidFill>
            <a:srgbClr val="cfd5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5" name=""/>
          <p:cNvSpPr/>
          <p:nvPr/>
        </p:nvSpPr>
        <p:spPr>
          <a:xfrm>
            <a:off x="5576760" y="538200"/>
            <a:ext cx="227160" cy="3240"/>
          </a:xfrm>
          <a:prstGeom prst="rect">
            <a:avLst/>
          </a:prstGeom>
          <a:solidFill>
            <a:srgbClr val="cdd4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6" name=""/>
          <p:cNvSpPr/>
          <p:nvPr/>
        </p:nvSpPr>
        <p:spPr>
          <a:xfrm>
            <a:off x="5576760" y="549360"/>
            <a:ext cx="227160" cy="3240"/>
          </a:xfrm>
          <a:prstGeom prst="rect">
            <a:avLst/>
          </a:prstGeom>
          <a:solidFill>
            <a:srgbClr val="c2ca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7" name=""/>
          <p:cNvSpPr/>
          <p:nvPr/>
        </p:nvSpPr>
        <p:spPr>
          <a:xfrm>
            <a:off x="5576760" y="549360"/>
            <a:ext cx="227160" cy="3240"/>
          </a:xfrm>
          <a:prstGeom prst="rect">
            <a:avLst/>
          </a:prstGeom>
          <a:solidFill>
            <a:srgbClr val="c0c8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8" name=""/>
          <p:cNvSpPr/>
          <p:nvPr/>
        </p:nvSpPr>
        <p:spPr>
          <a:xfrm>
            <a:off x="5576760" y="576360"/>
            <a:ext cx="227160" cy="3240"/>
          </a:xfrm>
          <a:prstGeom prst="rect">
            <a:avLst/>
          </a:prstGeom>
          <a:solidFill>
            <a:srgbClr val="9caa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9" name=""/>
          <p:cNvSpPr/>
          <p:nvPr/>
        </p:nvSpPr>
        <p:spPr>
          <a:xfrm>
            <a:off x="5576760" y="576360"/>
            <a:ext cx="227160" cy="3240"/>
          </a:xfrm>
          <a:prstGeom prst="rect">
            <a:avLst/>
          </a:prstGeom>
          <a:solidFill>
            <a:srgbClr val="99a8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1240" name=""/>
          <p:cNvGrpSpPr/>
          <p:nvPr/>
        </p:nvGrpSpPr>
        <p:grpSpPr>
          <a:xfrm>
            <a:off x="6396120" y="2720880"/>
            <a:ext cx="857880" cy="568440"/>
            <a:chOff x="6396120" y="2720880"/>
            <a:chExt cx="857880" cy="568440"/>
          </a:xfrm>
        </p:grpSpPr>
        <p:sp>
          <p:nvSpPr>
            <p:cNvPr id="1241" name=""/>
            <p:cNvSpPr/>
            <p:nvPr/>
          </p:nvSpPr>
          <p:spPr>
            <a:xfrm>
              <a:off x="6396120" y="2857680"/>
              <a:ext cx="213120" cy="422280"/>
            </a:xfrm>
            <a:custGeom>
              <a:avLst/>
              <a:gdLst/>
              <a:ahLst/>
              <a:rect l="l" t="t" r="r" b="b"/>
              <a:pathLst>
                <a:path w="60" h="125">
                  <a:moveTo>
                    <a:pt x="0" y="9"/>
                  </a:moveTo>
                  <a:lnTo>
                    <a:pt x="20" y="125"/>
                  </a:lnTo>
                  <a:lnTo>
                    <a:pt x="60" y="115"/>
                  </a:lnTo>
                  <a:lnTo>
                    <a:pt x="40" y="0"/>
                  </a:lnTo>
                  <a:lnTo>
                    <a:pt x="0" y="9"/>
                  </a:lnTo>
                  <a:close/>
                </a:path>
              </a:pathLst>
            </a:custGeom>
            <a:gradFill rotWithShape="0">
              <a:gsLst>
                <a:gs pos="0">
                  <a:srgbClr val="757500"/>
                </a:gs>
                <a:gs pos="100000">
                  <a:srgbClr val="ffff00"/>
                </a:gs>
              </a:gsLst>
              <a:path path="rect">
                <a:fillToRect l="50000" t="50000" r="50000" b="50000"/>
              </a:path>
            </a:grad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2" name=""/>
            <p:cNvGrpSpPr/>
            <p:nvPr/>
          </p:nvGrpSpPr>
          <p:grpSpPr>
            <a:xfrm>
              <a:off x="6704280" y="2720880"/>
              <a:ext cx="549720" cy="568440"/>
              <a:chOff x="6704280" y="2720880"/>
              <a:chExt cx="549720" cy="568440"/>
            </a:xfrm>
          </p:grpSpPr>
          <p:grpSp>
            <p:nvGrpSpPr>
              <p:cNvPr id="1243" name=""/>
              <p:cNvGrpSpPr/>
              <p:nvPr/>
            </p:nvGrpSpPr>
            <p:grpSpPr>
              <a:xfrm>
                <a:off x="6704280" y="2720880"/>
                <a:ext cx="538560" cy="497880"/>
                <a:chOff x="6704280" y="2720880"/>
                <a:chExt cx="538560" cy="497880"/>
              </a:xfrm>
            </p:grpSpPr>
            <p:pic>
              <p:nvPicPr>
                <p:cNvPr id="1244" name="" descr=""/>
                <p:cNvPicPr/>
                <p:nvPr/>
              </p:nvPicPr>
              <p:blipFill>
                <a:blip r:embed="rId2"/>
                <a:stretch/>
              </p:blipFill>
              <p:spPr>
                <a:xfrm>
                  <a:off x="6704280" y="2720880"/>
                  <a:ext cx="538560" cy="497880"/>
                </a:xfrm>
                <a:prstGeom prst="rect">
                  <a:avLst/>
                </a:prstGeom>
                <a:ln w="0">
                  <a:noFill/>
                </a:ln>
              </p:spPr>
            </p:pic>
            <p:pic>
              <p:nvPicPr>
                <p:cNvPr id="1245" name="" descr=""/>
                <p:cNvPicPr/>
                <p:nvPr/>
              </p:nvPicPr>
              <p:blipFill>
                <a:blip r:embed="rId3"/>
                <a:stretch/>
              </p:blipFill>
              <p:spPr>
                <a:xfrm>
                  <a:off x="6704280" y="2720880"/>
                  <a:ext cx="538560" cy="497880"/>
                </a:xfrm>
                <a:prstGeom prst="rect">
                  <a:avLst/>
                </a:prstGeom>
                <a:ln w="0">
                  <a:noFill/>
                </a:ln>
              </p:spPr>
            </p:pic>
            <p:sp>
              <p:nvSpPr>
                <p:cNvPr id="1246" name=""/>
                <p:cNvSpPr/>
                <p:nvPr/>
              </p:nvSpPr>
              <p:spPr>
                <a:xfrm>
                  <a:off x="6704280" y="2724480"/>
                  <a:ext cx="538560" cy="494280"/>
                </a:xfrm>
                <a:custGeom>
                  <a:avLst/>
                  <a:gdLst/>
                  <a:ahLst/>
                  <a:rect l="l" t="t" r="r" b="b"/>
                  <a:pathLst>
                    <a:path w="153" h="147">
                      <a:moveTo>
                        <a:pt x="0" y="31"/>
                      </a:moveTo>
                      <a:lnTo>
                        <a:pt x="20" y="147"/>
                      </a:lnTo>
                      <a:lnTo>
                        <a:pt x="153" y="115"/>
                      </a:lnTo>
                      <a:lnTo>
                        <a:pt x="134" y="0"/>
                      </a:lnTo>
                      <a:lnTo>
                        <a:pt x="0" y="31"/>
                      </a:lnTo>
                      <a:close/>
                    </a:path>
                  </a:pathLst>
                </a:custGeom>
                <a:no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7" name=""/>
              <p:cNvSpPr/>
              <p:nvPr/>
            </p:nvSpPr>
            <p:spPr>
              <a:xfrm>
                <a:off x="6771240" y="3103560"/>
                <a:ext cx="482760" cy="185760"/>
              </a:xfrm>
              <a:custGeom>
                <a:avLst/>
                <a:gdLst/>
                <a:ahLst/>
                <a:rect l="l" t="t" r="r" b="b"/>
                <a:pathLst>
                  <a:path w="137" h="55">
                    <a:moveTo>
                      <a:pt x="0" y="32"/>
                    </a:moveTo>
                    <a:lnTo>
                      <a:pt x="134" y="0"/>
                    </a:lnTo>
                    <a:lnTo>
                      <a:pt x="137" y="20"/>
                    </a:lnTo>
                    <a:lnTo>
                      <a:pt x="118" y="44"/>
                    </a:lnTo>
                    <a:lnTo>
                      <a:pt x="73" y="55"/>
                    </a:lnTo>
                    <a:lnTo>
                      <a:pt x="49" y="40"/>
                    </a:lnTo>
                    <a:lnTo>
                      <a:pt x="15" y="49"/>
                    </a:lnTo>
                    <a:lnTo>
                      <a:pt x="0" y="32"/>
                    </a:lnTo>
                    <a:close/>
                  </a:path>
                </a:pathLst>
              </a:custGeom>
              <a:solidFill>
                <a:srgbClr val="ff5050"/>
              </a:solidFill>
              <a:ln cap="rnd"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8" name=""/>
            <p:cNvGrpSpPr/>
            <p:nvPr/>
          </p:nvGrpSpPr>
          <p:grpSpPr>
            <a:xfrm>
              <a:off x="6547320" y="2844720"/>
              <a:ext cx="223200" cy="390600"/>
              <a:chOff x="6547320" y="2844720"/>
              <a:chExt cx="223200" cy="390600"/>
            </a:xfrm>
          </p:grpSpPr>
          <p:sp>
            <p:nvSpPr>
              <p:cNvPr id="1249" name=""/>
              <p:cNvSpPr/>
              <p:nvPr/>
            </p:nvSpPr>
            <p:spPr>
              <a:xfrm>
                <a:off x="6547320" y="2844720"/>
                <a:ext cx="223200" cy="390600"/>
              </a:xfrm>
              <a:custGeom>
                <a:avLst/>
                <a:gdLst/>
                <a:ahLst/>
                <a:rect l="l" t="t" r="r" b="b"/>
                <a:pathLst>
                  <a:path w="63" h="115">
                    <a:moveTo>
                      <a:pt x="0" y="11"/>
                    </a:moveTo>
                    <a:lnTo>
                      <a:pt x="18" y="115"/>
                    </a:lnTo>
                    <a:lnTo>
                      <a:pt x="63" y="104"/>
                    </a:lnTo>
                    <a:lnTo>
                      <a:pt x="46" y="0"/>
                    </a:lnTo>
                    <a:lnTo>
                      <a:pt x="0" y="11"/>
                    </a:lnTo>
                    <a:close/>
                  </a:path>
                </a:pathLst>
              </a:custGeom>
              <a:gradFill rotWithShape="0">
                <a:gsLst>
                  <a:gs pos="0">
                    <a:srgbClr val="fefefe"/>
                  </a:gs>
                  <a:gs pos="100000">
                    <a:srgbClr val="333399"/>
                  </a:gs>
                </a:gsLst>
                <a:path path="rect">
                  <a:fillToRect l="50000" t="50000" r="50000" b="50000"/>
                </a:path>
              </a:grad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6617520" y="2957400"/>
                <a:ext cx="32400" cy="16812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6663960" y="2946240"/>
                <a:ext cx="32400" cy="16992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flipV="1">
                <a:off x="6681240" y="3020760"/>
                <a:ext cx="65160" cy="14400"/>
              </a:xfrm>
              <a:prstGeom prst="line">
                <a:avLst/>
              </a:prstGeom>
              <a:ln cap="rnd" w="4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3" name=""/>
              <p:cNvSpPr/>
              <p:nvPr/>
            </p:nvSpPr>
            <p:spPr>
              <a:xfrm flipV="1">
                <a:off x="6583320" y="3047760"/>
                <a:ext cx="53280" cy="14400"/>
              </a:xfrm>
              <a:prstGeom prst="line">
                <a:avLst/>
              </a:prstGeom>
              <a:ln cap="rnd" w="4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grpSp>
        <p:nvGrpSpPr>
          <p:cNvPr id="1254" name=""/>
          <p:cNvGrpSpPr/>
          <p:nvPr/>
        </p:nvGrpSpPr>
        <p:grpSpPr>
          <a:xfrm>
            <a:off x="3654360" y="1420920"/>
            <a:ext cx="1297800" cy="276840"/>
            <a:chOff x="3654360" y="1420920"/>
            <a:chExt cx="1297800" cy="276840"/>
          </a:xfrm>
        </p:grpSpPr>
        <p:sp>
          <p:nvSpPr>
            <p:cNvPr id="1255" name=""/>
            <p:cNvSpPr/>
            <p:nvPr/>
          </p:nvSpPr>
          <p:spPr>
            <a:xfrm>
              <a:off x="3654360" y="1420920"/>
              <a:ext cx="1297800" cy="276840"/>
            </a:xfrm>
            <a:custGeom>
              <a:avLst/>
              <a:gdLst/>
              <a:ahLst/>
              <a:rect l="l" t="t" r="r" b="b"/>
              <a:pathLst>
                <a:path w="278" h="82">
                  <a:moveTo>
                    <a:pt x="56" y="0"/>
                  </a:moveTo>
                  <a:lnTo>
                    <a:pt x="278" y="0"/>
                  </a:lnTo>
                  <a:lnTo>
                    <a:pt x="278" y="82"/>
                  </a:lnTo>
                  <a:lnTo>
                    <a:pt x="0" y="82"/>
                  </a:lnTo>
                  <a:lnTo>
                    <a:pt x="0" y="17"/>
                  </a:lnTo>
                  <a:lnTo>
                    <a:pt x="56"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3654360" y="1420920"/>
              <a:ext cx="1297800" cy="276840"/>
            </a:xfrm>
            <a:custGeom>
              <a:avLst/>
              <a:gdLst/>
              <a:ahLst/>
              <a:rect l="l" t="t" r="r" b="b"/>
              <a:pathLst>
                <a:path w="278" h="82">
                  <a:moveTo>
                    <a:pt x="56" y="0"/>
                  </a:moveTo>
                  <a:lnTo>
                    <a:pt x="278" y="0"/>
                  </a:lnTo>
                  <a:lnTo>
                    <a:pt x="278" y="82"/>
                  </a:lnTo>
                  <a:lnTo>
                    <a:pt x="0" y="82"/>
                  </a:lnTo>
                  <a:lnTo>
                    <a:pt x="0" y="17"/>
                  </a:lnTo>
                  <a:lnTo>
                    <a:pt x="56" y="0"/>
                  </a:lnTo>
                  <a:close/>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7" name=""/>
          <p:cNvSpPr/>
          <p:nvPr/>
        </p:nvSpPr>
        <p:spPr>
          <a:xfrm>
            <a:off x="3814200" y="1484280"/>
            <a:ext cx="1021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ir Conditioner</a:t>
            </a:r>
            <a:endParaRPr b="0" lang="en-US" sz="1100" spc="-1" strike="noStrike">
              <a:solidFill>
                <a:srgbClr val="000000"/>
              </a:solidFill>
              <a:latin typeface="Arial"/>
            </a:endParaRPr>
          </a:p>
        </p:txBody>
      </p:sp>
      <p:sp>
        <p:nvSpPr>
          <p:cNvPr id="1258" name=""/>
          <p:cNvSpPr/>
          <p:nvPr/>
        </p:nvSpPr>
        <p:spPr>
          <a:xfrm>
            <a:off x="895320" y="4292640"/>
            <a:ext cx="1246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T Unit</a:t>
            </a:r>
            <a:endParaRPr b="0" lang="en-US" sz="1800" spc="-1" strike="noStrike">
              <a:solidFill>
                <a:srgbClr val="000000"/>
              </a:solidFill>
              <a:latin typeface="Arial"/>
            </a:endParaRPr>
          </a:p>
        </p:txBody>
      </p:sp>
      <p:grpSp>
        <p:nvGrpSpPr>
          <p:cNvPr id="1259" name=""/>
          <p:cNvGrpSpPr/>
          <p:nvPr/>
        </p:nvGrpSpPr>
        <p:grpSpPr>
          <a:xfrm>
            <a:off x="2620800" y="3378240"/>
            <a:ext cx="928080" cy="96120"/>
            <a:chOff x="2620800" y="3378240"/>
            <a:chExt cx="928080" cy="96120"/>
          </a:xfrm>
        </p:grpSpPr>
        <p:sp>
          <p:nvSpPr>
            <p:cNvPr id="1260" name=""/>
            <p:cNvSpPr/>
            <p:nvPr/>
          </p:nvSpPr>
          <p:spPr>
            <a:xfrm>
              <a:off x="2620800" y="3378240"/>
              <a:ext cx="928080" cy="96120"/>
            </a:xfrm>
            <a:prstGeom prst="ellipse">
              <a:avLst/>
            </a:prstGeom>
            <a:solidFill>
              <a:srgbClr val="ffff0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61" name=""/>
            <p:cNvSpPr/>
            <p:nvPr/>
          </p:nvSpPr>
          <p:spPr>
            <a:xfrm>
              <a:off x="2620800" y="3378240"/>
              <a:ext cx="928080" cy="96120"/>
            </a:xfrm>
            <a:prstGeom prst="ellipse">
              <a:avLst/>
            </a:prstGeom>
            <a:noFill/>
            <a:ln cap="rnd"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1262" name=""/>
          <p:cNvSpPr/>
          <p:nvPr/>
        </p:nvSpPr>
        <p:spPr>
          <a:xfrm>
            <a:off x="2620800" y="3321000"/>
            <a:ext cx="92880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3" name=""/>
          <p:cNvGrpSpPr/>
          <p:nvPr/>
        </p:nvGrpSpPr>
        <p:grpSpPr>
          <a:xfrm>
            <a:off x="2620800" y="3279600"/>
            <a:ext cx="928080" cy="97920"/>
            <a:chOff x="2620800" y="3279600"/>
            <a:chExt cx="928080" cy="97920"/>
          </a:xfrm>
        </p:grpSpPr>
        <p:sp>
          <p:nvSpPr>
            <p:cNvPr id="1264" name=""/>
            <p:cNvSpPr/>
            <p:nvPr/>
          </p:nvSpPr>
          <p:spPr>
            <a:xfrm>
              <a:off x="2620800" y="3279600"/>
              <a:ext cx="928080" cy="97920"/>
            </a:xfrm>
            <a:prstGeom prst="ellipse">
              <a:avLst/>
            </a:prstGeom>
            <a:solidFill>
              <a:srgbClr val="ffff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5" name=""/>
            <p:cNvSpPr/>
            <p:nvPr/>
          </p:nvSpPr>
          <p:spPr>
            <a:xfrm>
              <a:off x="2620800" y="3279600"/>
              <a:ext cx="928080" cy="97920"/>
            </a:xfrm>
            <a:prstGeom prst="ellipse">
              <a:avLst/>
            </a:prstGeom>
            <a:noFill/>
            <a:ln cap="rnd" w="46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266" name=""/>
          <p:cNvSpPr/>
          <p:nvPr/>
        </p:nvSpPr>
        <p:spPr>
          <a:xfrm flipV="1">
            <a:off x="26208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flipV="1">
            <a:off x="35496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8" name=""/>
          <p:cNvGrpSpPr/>
          <p:nvPr/>
        </p:nvGrpSpPr>
        <p:grpSpPr>
          <a:xfrm>
            <a:off x="2620800" y="3378240"/>
            <a:ext cx="928080" cy="96120"/>
            <a:chOff x="2620800" y="3378240"/>
            <a:chExt cx="928080" cy="96120"/>
          </a:xfrm>
        </p:grpSpPr>
        <p:sp>
          <p:nvSpPr>
            <p:cNvPr id="1269" name=""/>
            <p:cNvSpPr/>
            <p:nvPr/>
          </p:nvSpPr>
          <p:spPr>
            <a:xfrm>
              <a:off x="2620800" y="3378240"/>
              <a:ext cx="928080" cy="96120"/>
            </a:xfrm>
            <a:prstGeom prst="ellipse">
              <a:avLst/>
            </a:prstGeom>
            <a:solidFill>
              <a:srgbClr val="ffff0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70" name=""/>
            <p:cNvSpPr/>
            <p:nvPr/>
          </p:nvSpPr>
          <p:spPr>
            <a:xfrm>
              <a:off x="2620800" y="3378240"/>
              <a:ext cx="928080" cy="96120"/>
            </a:xfrm>
            <a:prstGeom prst="ellipse">
              <a:avLst/>
            </a:prstGeom>
            <a:noFill/>
            <a:ln cap="rnd"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1271" name=""/>
          <p:cNvSpPr/>
          <p:nvPr/>
        </p:nvSpPr>
        <p:spPr>
          <a:xfrm>
            <a:off x="2620800" y="3321000"/>
            <a:ext cx="92880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2" name=""/>
          <p:cNvGrpSpPr/>
          <p:nvPr/>
        </p:nvGrpSpPr>
        <p:grpSpPr>
          <a:xfrm>
            <a:off x="2620800" y="3279600"/>
            <a:ext cx="928080" cy="97920"/>
            <a:chOff x="2620800" y="3279600"/>
            <a:chExt cx="928080" cy="97920"/>
          </a:xfrm>
        </p:grpSpPr>
        <p:sp>
          <p:nvSpPr>
            <p:cNvPr id="1273" name=""/>
            <p:cNvSpPr/>
            <p:nvPr/>
          </p:nvSpPr>
          <p:spPr>
            <a:xfrm>
              <a:off x="2620800" y="3279600"/>
              <a:ext cx="928080" cy="97920"/>
            </a:xfrm>
            <a:prstGeom prst="ellipse">
              <a:avLst/>
            </a:prstGeom>
            <a:solidFill>
              <a:srgbClr val="ffff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4" name=""/>
            <p:cNvSpPr/>
            <p:nvPr/>
          </p:nvSpPr>
          <p:spPr>
            <a:xfrm>
              <a:off x="2620800" y="3279600"/>
              <a:ext cx="928080" cy="97920"/>
            </a:xfrm>
            <a:prstGeom prst="ellipse">
              <a:avLst/>
            </a:prstGeom>
            <a:noFill/>
            <a:ln cap="rnd" w="46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275" name=""/>
          <p:cNvSpPr/>
          <p:nvPr/>
        </p:nvSpPr>
        <p:spPr>
          <a:xfrm flipV="1">
            <a:off x="26208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flipV="1">
            <a:off x="35496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2982960" y="1506240"/>
            <a:ext cx="3240" cy="181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flipV="1">
            <a:off x="3179880" y="1420920"/>
            <a:ext cx="19080" cy="19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9" name=""/>
          <p:cNvGrpSpPr/>
          <p:nvPr/>
        </p:nvGrpSpPr>
        <p:grpSpPr>
          <a:xfrm>
            <a:off x="2620800" y="3378240"/>
            <a:ext cx="928080" cy="96120"/>
            <a:chOff x="2620800" y="3378240"/>
            <a:chExt cx="928080" cy="96120"/>
          </a:xfrm>
        </p:grpSpPr>
        <p:sp>
          <p:nvSpPr>
            <p:cNvPr id="1280" name=""/>
            <p:cNvSpPr/>
            <p:nvPr/>
          </p:nvSpPr>
          <p:spPr>
            <a:xfrm>
              <a:off x="2620800" y="3378240"/>
              <a:ext cx="928080" cy="96120"/>
            </a:xfrm>
            <a:prstGeom prst="ellipse">
              <a:avLst/>
            </a:prstGeom>
            <a:solidFill>
              <a:srgbClr val="ffff0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81" name=""/>
            <p:cNvSpPr/>
            <p:nvPr/>
          </p:nvSpPr>
          <p:spPr>
            <a:xfrm>
              <a:off x="2620800" y="3378240"/>
              <a:ext cx="928080" cy="96120"/>
            </a:xfrm>
            <a:prstGeom prst="ellipse">
              <a:avLst/>
            </a:prstGeom>
            <a:noFill/>
            <a:ln cap="rnd"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1282" name=""/>
          <p:cNvSpPr/>
          <p:nvPr/>
        </p:nvSpPr>
        <p:spPr>
          <a:xfrm>
            <a:off x="2620800" y="3321000"/>
            <a:ext cx="92880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3" name=""/>
          <p:cNvGrpSpPr/>
          <p:nvPr/>
        </p:nvGrpSpPr>
        <p:grpSpPr>
          <a:xfrm>
            <a:off x="2620800" y="3279600"/>
            <a:ext cx="928080" cy="97920"/>
            <a:chOff x="2620800" y="3279600"/>
            <a:chExt cx="928080" cy="97920"/>
          </a:xfrm>
        </p:grpSpPr>
        <p:sp>
          <p:nvSpPr>
            <p:cNvPr id="1284" name=""/>
            <p:cNvSpPr/>
            <p:nvPr/>
          </p:nvSpPr>
          <p:spPr>
            <a:xfrm>
              <a:off x="2620800" y="3279600"/>
              <a:ext cx="928080" cy="97920"/>
            </a:xfrm>
            <a:prstGeom prst="ellipse">
              <a:avLst/>
            </a:prstGeom>
            <a:solidFill>
              <a:srgbClr val="ffff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85" name=""/>
            <p:cNvSpPr/>
            <p:nvPr/>
          </p:nvSpPr>
          <p:spPr>
            <a:xfrm>
              <a:off x="2620800" y="3279600"/>
              <a:ext cx="928080" cy="97920"/>
            </a:xfrm>
            <a:prstGeom prst="ellipse">
              <a:avLst/>
            </a:prstGeom>
            <a:noFill/>
            <a:ln cap="rnd" w="46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286" name=""/>
          <p:cNvSpPr/>
          <p:nvPr/>
        </p:nvSpPr>
        <p:spPr>
          <a:xfrm flipV="1">
            <a:off x="26208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flipV="1">
            <a:off x="35496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8" name=""/>
          <p:cNvGrpSpPr/>
          <p:nvPr/>
        </p:nvGrpSpPr>
        <p:grpSpPr>
          <a:xfrm>
            <a:off x="2620800" y="3378240"/>
            <a:ext cx="928080" cy="96120"/>
            <a:chOff x="2620800" y="3378240"/>
            <a:chExt cx="928080" cy="96120"/>
          </a:xfrm>
        </p:grpSpPr>
        <p:sp>
          <p:nvSpPr>
            <p:cNvPr id="1289" name=""/>
            <p:cNvSpPr/>
            <p:nvPr/>
          </p:nvSpPr>
          <p:spPr>
            <a:xfrm>
              <a:off x="2620800" y="3378240"/>
              <a:ext cx="928080" cy="96120"/>
            </a:xfrm>
            <a:prstGeom prst="ellipse">
              <a:avLst/>
            </a:prstGeom>
            <a:solidFill>
              <a:srgbClr val="ffff0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90" name=""/>
            <p:cNvSpPr/>
            <p:nvPr/>
          </p:nvSpPr>
          <p:spPr>
            <a:xfrm>
              <a:off x="2620800" y="3378240"/>
              <a:ext cx="928080" cy="96120"/>
            </a:xfrm>
            <a:prstGeom prst="ellipse">
              <a:avLst/>
            </a:prstGeom>
            <a:noFill/>
            <a:ln cap="rnd" w="46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1291" name=""/>
          <p:cNvSpPr/>
          <p:nvPr/>
        </p:nvSpPr>
        <p:spPr>
          <a:xfrm>
            <a:off x="2620800" y="3321000"/>
            <a:ext cx="92880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2" name=""/>
          <p:cNvGrpSpPr/>
          <p:nvPr/>
        </p:nvGrpSpPr>
        <p:grpSpPr>
          <a:xfrm>
            <a:off x="2620800" y="3279600"/>
            <a:ext cx="928080" cy="97920"/>
            <a:chOff x="2620800" y="3279600"/>
            <a:chExt cx="928080" cy="97920"/>
          </a:xfrm>
        </p:grpSpPr>
        <p:sp>
          <p:nvSpPr>
            <p:cNvPr id="1293" name=""/>
            <p:cNvSpPr/>
            <p:nvPr/>
          </p:nvSpPr>
          <p:spPr>
            <a:xfrm>
              <a:off x="2620800" y="3279600"/>
              <a:ext cx="928080" cy="97920"/>
            </a:xfrm>
            <a:prstGeom prst="ellipse">
              <a:avLst/>
            </a:prstGeom>
            <a:solidFill>
              <a:srgbClr val="ffff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94" name=""/>
            <p:cNvSpPr/>
            <p:nvPr/>
          </p:nvSpPr>
          <p:spPr>
            <a:xfrm>
              <a:off x="2620800" y="3279600"/>
              <a:ext cx="928080" cy="97920"/>
            </a:xfrm>
            <a:prstGeom prst="ellipse">
              <a:avLst/>
            </a:prstGeom>
            <a:noFill/>
            <a:ln cap="rnd" w="46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295" name=""/>
          <p:cNvSpPr/>
          <p:nvPr/>
        </p:nvSpPr>
        <p:spPr>
          <a:xfrm flipV="1">
            <a:off x="26208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flipV="1">
            <a:off x="3549600" y="3328920"/>
            <a:ext cx="0" cy="986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flipV="1">
            <a:off x="2982960" y="1699920"/>
            <a:ext cx="3240" cy="16239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flipV="1">
            <a:off x="3179880" y="1679400"/>
            <a:ext cx="11160" cy="164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9" name=""/>
          <p:cNvGrpSpPr/>
          <p:nvPr/>
        </p:nvGrpSpPr>
        <p:grpSpPr>
          <a:xfrm>
            <a:off x="2625840" y="3713040"/>
            <a:ext cx="929520" cy="190800"/>
            <a:chOff x="2625840" y="3713040"/>
            <a:chExt cx="929520" cy="190800"/>
          </a:xfrm>
        </p:grpSpPr>
        <p:grpSp>
          <p:nvGrpSpPr>
            <p:cNvPr id="1300" name=""/>
            <p:cNvGrpSpPr/>
            <p:nvPr/>
          </p:nvGrpSpPr>
          <p:grpSpPr>
            <a:xfrm>
              <a:off x="2625840" y="3809880"/>
              <a:ext cx="928800" cy="93960"/>
              <a:chOff x="2625840" y="3809880"/>
              <a:chExt cx="928800" cy="93960"/>
            </a:xfrm>
          </p:grpSpPr>
          <p:sp>
            <p:nvSpPr>
              <p:cNvPr id="1301" name=""/>
              <p:cNvSpPr/>
              <p:nvPr/>
            </p:nvSpPr>
            <p:spPr>
              <a:xfrm>
                <a:off x="2625840" y="3809880"/>
                <a:ext cx="928800" cy="93960"/>
              </a:xfrm>
              <a:prstGeom prst="ellipse">
                <a:avLst/>
              </a:prstGeom>
              <a:solidFill>
                <a:srgbClr val="ffff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2" name=""/>
              <p:cNvSpPr/>
              <p:nvPr/>
            </p:nvSpPr>
            <p:spPr>
              <a:xfrm>
                <a:off x="2625840" y="3809880"/>
                <a:ext cx="928800" cy="93960"/>
              </a:xfrm>
              <a:prstGeom prst="ellipse">
                <a:avLst/>
              </a:prstGeom>
              <a:noFill/>
              <a:ln cap="rnd" w="32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1303" name=""/>
            <p:cNvSpPr/>
            <p:nvPr/>
          </p:nvSpPr>
          <p:spPr>
            <a:xfrm>
              <a:off x="2625840" y="3749400"/>
              <a:ext cx="929520" cy="107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4" name=""/>
            <p:cNvGrpSpPr/>
            <p:nvPr/>
          </p:nvGrpSpPr>
          <p:grpSpPr>
            <a:xfrm>
              <a:off x="2625840" y="3713040"/>
              <a:ext cx="928800" cy="96120"/>
              <a:chOff x="2625840" y="3713040"/>
              <a:chExt cx="928800" cy="96120"/>
            </a:xfrm>
          </p:grpSpPr>
          <p:sp>
            <p:nvSpPr>
              <p:cNvPr id="1305" name=""/>
              <p:cNvSpPr/>
              <p:nvPr/>
            </p:nvSpPr>
            <p:spPr>
              <a:xfrm>
                <a:off x="2625840" y="3713040"/>
                <a:ext cx="928800" cy="96120"/>
              </a:xfrm>
              <a:prstGeom prst="ellipse">
                <a:avLst/>
              </a:prstGeom>
              <a:solidFill>
                <a:srgbClr val="ffff0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06" name=""/>
              <p:cNvSpPr/>
              <p:nvPr/>
            </p:nvSpPr>
            <p:spPr>
              <a:xfrm>
                <a:off x="2625840" y="3713040"/>
                <a:ext cx="928800" cy="96120"/>
              </a:xfrm>
              <a:prstGeom prst="ellipse">
                <a:avLst/>
              </a:prstGeom>
              <a:noFill/>
              <a:ln cap="rnd" w="32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1307" name=""/>
            <p:cNvSpPr/>
            <p:nvPr/>
          </p:nvSpPr>
          <p:spPr>
            <a:xfrm flipV="1">
              <a:off x="2625840" y="3759120"/>
              <a:ext cx="0" cy="975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flipV="1">
              <a:off x="3555360" y="3759120"/>
              <a:ext cx="0" cy="975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9" name=""/>
          <p:cNvSpPr/>
          <p:nvPr/>
        </p:nvSpPr>
        <p:spPr>
          <a:xfrm>
            <a:off x="3552840" y="4008600"/>
            <a:ext cx="7920" cy="106200"/>
          </a:xfrm>
          <a:custGeom>
            <a:avLst/>
            <a:gdLst/>
            <a:ahLst/>
            <a:rect l="l" t="t" r="r" b="b"/>
            <a:pathLst>
              <a:path w="50" h="500">
                <a:moveTo>
                  <a:pt x="0" y="475"/>
                </a:moveTo>
                <a:lnTo>
                  <a:pt x="0" y="325"/>
                </a:lnTo>
                <a:cubicBezTo>
                  <a:pt x="0" y="311"/>
                  <a:pt x="12" y="300"/>
                  <a:pt x="25" y="300"/>
                </a:cubicBezTo>
                <a:cubicBezTo>
                  <a:pt x="39" y="300"/>
                  <a:pt x="50" y="311"/>
                  <a:pt x="50" y="325"/>
                </a:cubicBezTo>
                <a:lnTo>
                  <a:pt x="50" y="475"/>
                </a:lnTo>
                <a:cubicBezTo>
                  <a:pt x="50" y="489"/>
                  <a:pt x="39" y="500"/>
                  <a:pt x="25" y="500"/>
                </a:cubicBezTo>
                <a:cubicBezTo>
                  <a:pt x="12" y="500"/>
                  <a:pt x="0" y="489"/>
                  <a:pt x="0" y="475"/>
                </a:cubicBezTo>
                <a:close/>
                <a:moveTo>
                  <a:pt x="0" y="125"/>
                </a:moveTo>
                <a:lnTo>
                  <a:pt x="0" y="25"/>
                </a:lnTo>
                <a:cubicBezTo>
                  <a:pt x="0" y="11"/>
                  <a:pt x="12" y="0"/>
                  <a:pt x="25" y="0"/>
                </a:cubicBezTo>
                <a:cubicBezTo>
                  <a:pt x="39" y="0"/>
                  <a:pt x="50" y="11"/>
                  <a:pt x="50" y="25"/>
                </a:cubicBezTo>
                <a:lnTo>
                  <a:pt x="50" y="125"/>
                </a:lnTo>
                <a:cubicBezTo>
                  <a:pt x="50" y="139"/>
                  <a:pt x="39" y="150"/>
                  <a:pt x="25" y="150"/>
                </a:cubicBezTo>
                <a:cubicBezTo>
                  <a:pt x="12" y="150"/>
                  <a:pt x="0" y="139"/>
                  <a:pt x="0" y="125"/>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552840" y="4008600"/>
            <a:ext cx="7920" cy="106200"/>
          </a:xfrm>
          <a:custGeom>
            <a:avLst/>
            <a:gdLst/>
            <a:ahLst/>
            <a:rect l="l" t="t" r="r" b="b"/>
            <a:pathLst>
              <a:path w="50" h="500">
                <a:moveTo>
                  <a:pt x="0" y="475"/>
                </a:moveTo>
                <a:lnTo>
                  <a:pt x="0" y="325"/>
                </a:lnTo>
                <a:cubicBezTo>
                  <a:pt x="0" y="311"/>
                  <a:pt x="12" y="300"/>
                  <a:pt x="25" y="300"/>
                </a:cubicBezTo>
                <a:cubicBezTo>
                  <a:pt x="39" y="300"/>
                  <a:pt x="50" y="311"/>
                  <a:pt x="50" y="325"/>
                </a:cubicBezTo>
                <a:lnTo>
                  <a:pt x="50" y="475"/>
                </a:lnTo>
                <a:cubicBezTo>
                  <a:pt x="50" y="489"/>
                  <a:pt x="39" y="500"/>
                  <a:pt x="25" y="500"/>
                </a:cubicBezTo>
                <a:cubicBezTo>
                  <a:pt x="12" y="500"/>
                  <a:pt x="0" y="489"/>
                  <a:pt x="0" y="475"/>
                </a:cubicBezTo>
                <a:close/>
                <a:moveTo>
                  <a:pt x="0" y="125"/>
                </a:moveTo>
                <a:lnTo>
                  <a:pt x="0" y="25"/>
                </a:lnTo>
                <a:cubicBezTo>
                  <a:pt x="0" y="11"/>
                  <a:pt x="12" y="0"/>
                  <a:pt x="25" y="0"/>
                </a:cubicBezTo>
                <a:cubicBezTo>
                  <a:pt x="39" y="0"/>
                  <a:pt x="50" y="11"/>
                  <a:pt x="50" y="25"/>
                </a:cubicBezTo>
                <a:lnTo>
                  <a:pt x="50" y="125"/>
                </a:lnTo>
                <a:cubicBezTo>
                  <a:pt x="50" y="139"/>
                  <a:pt x="39" y="150"/>
                  <a:pt x="25" y="150"/>
                </a:cubicBezTo>
                <a:cubicBezTo>
                  <a:pt x="12" y="150"/>
                  <a:pt x="0" y="139"/>
                  <a:pt x="0" y="125"/>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1" name=""/>
          <p:cNvGrpSpPr/>
          <p:nvPr/>
        </p:nvGrpSpPr>
        <p:grpSpPr>
          <a:xfrm>
            <a:off x="2625840" y="3811680"/>
            <a:ext cx="929520" cy="92880"/>
            <a:chOff x="2625840" y="3811680"/>
            <a:chExt cx="929520" cy="92880"/>
          </a:xfrm>
        </p:grpSpPr>
        <p:sp>
          <p:nvSpPr>
            <p:cNvPr id="1312" name=""/>
            <p:cNvSpPr/>
            <p:nvPr/>
          </p:nvSpPr>
          <p:spPr>
            <a:xfrm>
              <a:off x="2625840" y="3811680"/>
              <a:ext cx="929520" cy="92880"/>
            </a:xfrm>
            <a:prstGeom prst="ellipse">
              <a:avLst/>
            </a:prstGeom>
            <a:solidFill>
              <a:srgbClr val="ffff00"/>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13" name=""/>
            <p:cNvSpPr/>
            <p:nvPr/>
          </p:nvSpPr>
          <p:spPr>
            <a:xfrm>
              <a:off x="2625840" y="3811680"/>
              <a:ext cx="929520" cy="92880"/>
            </a:xfrm>
            <a:prstGeom prst="ellipse">
              <a:avLst/>
            </a:prstGeom>
            <a:noFill/>
            <a:ln cap="rnd" w="324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sp>
        <p:nvSpPr>
          <p:cNvPr id="1314" name=""/>
          <p:cNvSpPr/>
          <p:nvPr/>
        </p:nvSpPr>
        <p:spPr>
          <a:xfrm>
            <a:off x="2625840" y="3747960"/>
            <a:ext cx="93024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5" name=""/>
          <p:cNvGrpSpPr/>
          <p:nvPr/>
        </p:nvGrpSpPr>
        <p:grpSpPr>
          <a:xfrm>
            <a:off x="2625840" y="3713040"/>
            <a:ext cx="929520" cy="97920"/>
            <a:chOff x="2625840" y="3713040"/>
            <a:chExt cx="929520" cy="97920"/>
          </a:xfrm>
        </p:grpSpPr>
        <p:sp>
          <p:nvSpPr>
            <p:cNvPr id="1316" name=""/>
            <p:cNvSpPr/>
            <p:nvPr/>
          </p:nvSpPr>
          <p:spPr>
            <a:xfrm>
              <a:off x="2625840" y="3713040"/>
              <a:ext cx="929520" cy="97920"/>
            </a:xfrm>
            <a:prstGeom prst="ellipse">
              <a:avLst/>
            </a:prstGeom>
            <a:solidFill>
              <a:srgbClr val="ffff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17" name=""/>
            <p:cNvSpPr/>
            <p:nvPr/>
          </p:nvSpPr>
          <p:spPr>
            <a:xfrm>
              <a:off x="2625840" y="3713040"/>
              <a:ext cx="929520" cy="97920"/>
            </a:xfrm>
            <a:prstGeom prst="ellipse">
              <a:avLst/>
            </a:prstGeom>
            <a:noFill/>
            <a:ln cap="rnd"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318" name=""/>
          <p:cNvSpPr/>
          <p:nvPr/>
        </p:nvSpPr>
        <p:spPr>
          <a:xfrm flipV="1">
            <a:off x="3556080" y="3760560"/>
            <a:ext cx="0" cy="982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9" name=""/>
          <p:cNvGrpSpPr/>
          <p:nvPr/>
        </p:nvGrpSpPr>
        <p:grpSpPr>
          <a:xfrm>
            <a:off x="2625840" y="3811680"/>
            <a:ext cx="929520" cy="92880"/>
            <a:chOff x="2625840" y="3811680"/>
            <a:chExt cx="929520" cy="92880"/>
          </a:xfrm>
        </p:grpSpPr>
        <p:sp>
          <p:nvSpPr>
            <p:cNvPr id="1320" name=""/>
            <p:cNvSpPr/>
            <p:nvPr/>
          </p:nvSpPr>
          <p:spPr>
            <a:xfrm>
              <a:off x="2625840" y="3811680"/>
              <a:ext cx="929520" cy="92880"/>
            </a:xfrm>
            <a:prstGeom prst="ellipse">
              <a:avLst/>
            </a:prstGeom>
            <a:solidFill>
              <a:srgbClr val="ffff00"/>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21" name=""/>
            <p:cNvSpPr/>
            <p:nvPr/>
          </p:nvSpPr>
          <p:spPr>
            <a:xfrm>
              <a:off x="2625840" y="3811680"/>
              <a:ext cx="929520" cy="92880"/>
            </a:xfrm>
            <a:prstGeom prst="ellipse">
              <a:avLst/>
            </a:prstGeom>
            <a:noFill/>
            <a:ln cap="rnd" w="324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sp>
        <p:nvSpPr>
          <p:cNvPr id="1322" name=""/>
          <p:cNvSpPr/>
          <p:nvPr/>
        </p:nvSpPr>
        <p:spPr>
          <a:xfrm>
            <a:off x="2625840" y="3747960"/>
            <a:ext cx="93024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3" name=""/>
          <p:cNvGrpSpPr/>
          <p:nvPr/>
        </p:nvGrpSpPr>
        <p:grpSpPr>
          <a:xfrm>
            <a:off x="2625840" y="3713040"/>
            <a:ext cx="929520" cy="97920"/>
            <a:chOff x="2625840" y="3713040"/>
            <a:chExt cx="929520" cy="97920"/>
          </a:xfrm>
        </p:grpSpPr>
        <p:sp>
          <p:nvSpPr>
            <p:cNvPr id="1324" name=""/>
            <p:cNvSpPr/>
            <p:nvPr/>
          </p:nvSpPr>
          <p:spPr>
            <a:xfrm>
              <a:off x="2625840" y="3713040"/>
              <a:ext cx="929520" cy="97920"/>
            </a:xfrm>
            <a:prstGeom prst="ellipse">
              <a:avLst/>
            </a:prstGeom>
            <a:solidFill>
              <a:srgbClr val="ffff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25" name=""/>
            <p:cNvSpPr/>
            <p:nvPr/>
          </p:nvSpPr>
          <p:spPr>
            <a:xfrm>
              <a:off x="2625840" y="3713040"/>
              <a:ext cx="929520" cy="97920"/>
            </a:xfrm>
            <a:prstGeom prst="ellipse">
              <a:avLst/>
            </a:prstGeom>
            <a:noFill/>
            <a:ln cap="rnd"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326" name=""/>
          <p:cNvSpPr/>
          <p:nvPr/>
        </p:nvSpPr>
        <p:spPr>
          <a:xfrm flipV="1">
            <a:off x="3556080" y="3760560"/>
            <a:ext cx="0" cy="982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2400480" y="3141720"/>
            <a:ext cx="1398240" cy="934920"/>
          </a:xfrm>
          <a:custGeom>
            <a:avLst/>
            <a:gdLst/>
            <a:ahLst/>
            <a:rect l="l" t="t" r="r" b="b"/>
            <a:pathLst>
              <a:path w="7234" h="6092">
                <a:moveTo>
                  <a:pt x="3751" y="53"/>
                </a:moveTo>
                <a:lnTo>
                  <a:pt x="3616" y="50"/>
                </a:lnTo>
                <a:lnTo>
                  <a:pt x="3603" y="51"/>
                </a:lnTo>
                <a:cubicBezTo>
                  <a:pt x="3589" y="51"/>
                  <a:pt x="3577" y="40"/>
                  <a:pt x="3577" y="26"/>
                </a:cubicBezTo>
                <a:cubicBezTo>
                  <a:pt x="3577" y="13"/>
                  <a:pt x="3588" y="1"/>
                  <a:pt x="3601" y="1"/>
                </a:cubicBezTo>
                <a:lnTo>
                  <a:pt x="3618" y="0"/>
                </a:lnTo>
                <a:lnTo>
                  <a:pt x="3753" y="3"/>
                </a:lnTo>
                <a:cubicBezTo>
                  <a:pt x="3766" y="4"/>
                  <a:pt x="3777" y="15"/>
                  <a:pt x="3777" y="29"/>
                </a:cubicBezTo>
                <a:cubicBezTo>
                  <a:pt x="3777" y="43"/>
                  <a:pt x="3765" y="54"/>
                  <a:pt x="3751" y="53"/>
                </a:cubicBezTo>
                <a:close/>
                <a:moveTo>
                  <a:pt x="3404" y="56"/>
                </a:moveTo>
                <a:lnTo>
                  <a:pt x="3254" y="66"/>
                </a:lnTo>
                <a:cubicBezTo>
                  <a:pt x="3240" y="67"/>
                  <a:pt x="3228" y="56"/>
                  <a:pt x="3227" y="42"/>
                </a:cubicBezTo>
                <a:cubicBezTo>
                  <a:pt x="3227" y="29"/>
                  <a:pt x="3237" y="17"/>
                  <a:pt x="3251" y="16"/>
                </a:cubicBezTo>
                <a:lnTo>
                  <a:pt x="3401" y="6"/>
                </a:lnTo>
                <a:cubicBezTo>
                  <a:pt x="3414" y="6"/>
                  <a:pt x="3426" y="16"/>
                  <a:pt x="3427" y="30"/>
                </a:cubicBezTo>
                <a:cubicBezTo>
                  <a:pt x="3428" y="44"/>
                  <a:pt x="3417" y="55"/>
                  <a:pt x="3404" y="56"/>
                </a:cubicBezTo>
                <a:close/>
                <a:moveTo>
                  <a:pt x="3057" y="88"/>
                </a:moveTo>
                <a:lnTo>
                  <a:pt x="2909" y="110"/>
                </a:lnTo>
                <a:cubicBezTo>
                  <a:pt x="2895" y="112"/>
                  <a:pt x="2883" y="102"/>
                  <a:pt x="2881" y="89"/>
                </a:cubicBezTo>
                <a:cubicBezTo>
                  <a:pt x="2879" y="75"/>
                  <a:pt x="2888" y="62"/>
                  <a:pt x="2902" y="60"/>
                </a:cubicBezTo>
                <a:lnTo>
                  <a:pt x="3050" y="38"/>
                </a:lnTo>
                <a:cubicBezTo>
                  <a:pt x="3064" y="36"/>
                  <a:pt x="3076" y="46"/>
                  <a:pt x="3078" y="59"/>
                </a:cubicBezTo>
                <a:cubicBezTo>
                  <a:pt x="3080" y="73"/>
                  <a:pt x="3071" y="86"/>
                  <a:pt x="3057" y="88"/>
                </a:cubicBezTo>
                <a:close/>
                <a:moveTo>
                  <a:pt x="2715" y="147"/>
                </a:moveTo>
                <a:lnTo>
                  <a:pt x="2569" y="182"/>
                </a:lnTo>
                <a:cubicBezTo>
                  <a:pt x="2556" y="186"/>
                  <a:pt x="2542" y="177"/>
                  <a:pt x="2539" y="164"/>
                </a:cubicBezTo>
                <a:cubicBezTo>
                  <a:pt x="2536" y="150"/>
                  <a:pt x="2544" y="137"/>
                  <a:pt x="2557" y="134"/>
                </a:cubicBezTo>
                <a:lnTo>
                  <a:pt x="2703" y="99"/>
                </a:lnTo>
                <a:cubicBezTo>
                  <a:pt x="2717" y="95"/>
                  <a:pt x="2730" y="104"/>
                  <a:pt x="2733" y="117"/>
                </a:cubicBezTo>
                <a:cubicBezTo>
                  <a:pt x="2736" y="131"/>
                  <a:pt x="2728" y="144"/>
                  <a:pt x="2715" y="147"/>
                </a:cubicBezTo>
                <a:close/>
                <a:moveTo>
                  <a:pt x="2379" y="236"/>
                </a:moveTo>
                <a:lnTo>
                  <a:pt x="2236" y="284"/>
                </a:lnTo>
                <a:cubicBezTo>
                  <a:pt x="2223" y="288"/>
                  <a:pt x="2209" y="281"/>
                  <a:pt x="2205" y="268"/>
                </a:cubicBezTo>
                <a:cubicBezTo>
                  <a:pt x="2200" y="255"/>
                  <a:pt x="2207" y="240"/>
                  <a:pt x="2220" y="236"/>
                </a:cubicBezTo>
                <a:lnTo>
                  <a:pt x="2363" y="189"/>
                </a:lnTo>
                <a:cubicBezTo>
                  <a:pt x="2376" y="185"/>
                  <a:pt x="2390" y="192"/>
                  <a:pt x="2394" y="205"/>
                </a:cubicBezTo>
                <a:cubicBezTo>
                  <a:pt x="2399" y="218"/>
                  <a:pt x="2392" y="232"/>
                  <a:pt x="2379" y="236"/>
                </a:cubicBezTo>
                <a:close/>
                <a:moveTo>
                  <a:pt x="2051" y="354"/>
                </a:moveTo>
                <a:lnTo>
                  <a:pt x="1915" y="413"/>
                </a:lnTo>
                <a:lnTo>
                  <a:pt x="1915" y="413"/>
                </a:lnTo>
                <a:cubicBezTo>
                  <a:pt x="1902" y="419"/>
                  <a:pt x="1887" y="414"/>
                  <a:pt x="1881" y="401"/>
                </a:cubicBezTo>
                <a:cubicBezTo>
                  <a:pt x="1875" y="389"/>
                  <a:pt x="1880" y="374"/>
                  <a:pt x="1893" y="368"/>
                </a:cubicBezTo>
                <a:lnTo>
                  <a:pt x="1895" y="367"/>
                </a:lnTo>
                <a:lnTo>
                  <a:pt x="2032" y="308"/>
                </a:lnTo>
                <a:cubicBezTo>
                  <a:pt x="2044" y="303"/>
                  <a:pt x="2059" y="309"/>
                  <a:pt x="2065" y="321"/>
                </a:cubicBezTo>
                <a:cubicBezTo>
                  <a:pt x="2070" y="334"/>
                  <a:pt x="2064" y="349"/>
                  <a:pt x="2051" y="354"/>
                </a:cubicBezTo>
                <a:close/>
                <a:moveTo>
                  <a:pt x="1736" y="501"/>
                </a:moveTo>
                <a:lnTo>
                  <a:pt x="1621" y="563"/>
                </a:lnTo>
                <a:lnTo>
                  <a:pt x="1606" y="573"/>
                </a:lnTo>
                <a:cubicBezTo>
                  <a:pt x="1594" y="580"/>
                  <a:pt x="1578" y="576"/>
                  <a:pt x="1571" y="564"/>
                </a:cubicBezTo>
                <a:cubicBezTo>
                  <a:pt x="1564" y="552"/>
                  <a:pt x="1568" y="537"/>
                  <a:pt x="1580" y="530"/>
                </a:cubicBezTo>
                <a:lnTo>
                  <a:pt x="1597" y="519"/>
                </a:lnTo>
                <a:lnTo>
                  <a:pt x="1713" y="457"/>
                </a:lnTo>
                <a:cubicBezTo>
                  <a:pt x="1725" y="451"/>
                  <a:pt x="1740" y="455"/>
                  <a:pt x="1746" y="467"/>
                </a:cubicBezTo>
                <a:cubicBezTo>
                  <a:pt x="1753" y="479"/>
                  <a:pt x="1749" y="495"/>
                  <a:pt x="1736" y="501"/>
                </a:cubicBezTo>
                <a:close/>
                <a:moveTo>
                  <a:pt x="1436" y="677"/>
                </a:moveTo>
                <a:lnTo>
                  <a:pt x="1346" y="736"/>
                </a:lnTo>
                <a:lnTo>
                  <a:pt x="1313" y="760"/>
                </a:lnTo>
                <a:cubicBezTo>
                  <a:pt x="1302" y="768"/>
                  <a:pt x="1286" y="766"/>
                  <a:pt x="1278" y="755"/>
                </a:cubicBezTo>
                <a:cubicBezTo>
                  <a:pt x="1270" y="744"/>
                  <a:pt x="1273" y="728"/>
                  <a:pt x="1284" y="720"/>
                </a:cubicBezTo>
                <a:lnTo>
                  <a:pt x="1319" y="695"/>
                </a:lnTo>
                <a:lnTo>
                  <a:pt x="1409" y="635"/>
                </a:lnTo>
                <a:cubicBezTo>
                  <a:pt x="1420" y="627"/>
                  <a:pt x="1436" y="630"/>
                  <a:pt x="1443" y="642"/>
                </a:cubicBezTo>
                <a:cubicBezTo>
                  <a:pt x="1451" y="653"/>
                  <a:pt x="1448" y="669"/>
                  <a:pt x="1436" y="677"/>
                </a:cubicBezTo>
                <a:close/>
                <a:moveTo>
                  <a:pt x="1155" y="880"/>
                </a:moveTo>
                <a:lnTo>
                  <a:pt x="1093" y="929"/>
                </a:lnTo>
                <a:lnTo>
                  <a:pt x="1041" y="976"/>
                </a:lnTo>
                <a:cubicBezTo>
                  <a:pt x="1030" y="985"/>
                  <a:pt x="1015" y="984"/>
                  <a:pt x="1005" y="974"/>
                </a:cubicBezTo>
                <a:cubicBezTo>
                  <a:pt x="996" y="963"/>
                  <a:pt x="997" y="947"/>
                  <a:pt x="1008" y="938"/>
                </a:cubicBezTo>
                <a:lnTo>
                  <a:pt x="1062" y="890"/>
                </a:lnTo>
                <a:lnTo>
                  <a:pt x="1123" y="841"/>
                </a:lnTo>
                <a:cubicBezTo>
                  <a:pt x="1134" y="832"/>
                  <a:pt x="1150" y="834"/>
                  <a:pt x="1158" y="845"/>
                </a:cubicBezTo>
                <a:cubicBezTo>
                  <a:pt x="1167" y="856"/>
                  <a:pt x="1165" y="871"/>
                  <a:pt x="1155" y="880"/>
                </a:cubicBezTo>
                <a:close/>
                <a:moveTo>
                  <a:pt x="895" y="1111"/>
                </a:moveTo>
                <a:lnTo>
                  <a:pt x="863" y="1143"/>
                </a:lnTo>
                <a:lnTo>
                  <a:pt x="792" y="1219"/>
                </a:lnTo>
                <a:cubicBezTo>
                  <a:pt x="783" y="1229"/>
                  <a:pt x="767" y="1229"/>
                  <a:pt x="757" y="1220"/>
                </a:cubicBezTo>
                <a:cubicBezTo>
                  <a:pt x="747" y="1210"/>
                  <a:pt x="746" y="1195"/>
                  <a:pt x="756" y="1184"/>
                </a:cubicBezTo>
                <a:lnTo>
                  <a:pt x="828" y="1107"/>
                </a:lnTo>
                <a:lnTo>
                  <a:pt x="860" y="1075"/>
                </a:lnTo>
                <a:cubicBezTo>
                  <a:pt x="870" y="1066"/>
                  <a:pt x="886" y="1066"/>
                  <a:pt x="896" y="1076"/>
                </a:cubicBezTo>
                <a:cubicBezTo>
                  <a:pt x="905" y="1086"/>
                  <a:pt x="905" y="1102"/>
                  <a:pt x="895" y="1111"/>
                </a:cubicBezTo>
                <a:close/>
                <a:moveTo>
                  <a:pt x="662" y="1369"/>
                </a:moveTo>
                <a:lnTo>
                  <a:pt x="658" y="1374"/>
                </a:lnTo>
                <a:lnTo>
                  <a:pt x="572" y="1487"/>
                </a:lnTo>
                <a:cubicBezTo>
                  <a:pt x="563" y="1498"/>
                  <a:pt x="548" y="1500"/>
                  <a:pt x="537" y="1492"/>
                </a:cubicBezTo>
                <a:cubicBezTo>
                  <a:pt x="526" y="1483"/>
                  <a:pt x="524" y="1467"/>
                  <a:pt x="532" y="1457"/>
                </a:cubicBezTo>
                <a:lnTo>
                  <a:pt x="620" y="1341"/>
                </a:lnTo>
                <a:lnTo>
                  <a:pt x="624" y="1337"/>
                </a:lnTo>
                <a:cubicBezTo>
                  <a:pt x="633" y="1326"/>
                  <a:pt x="649" y="1325"/>
                  <a:pt x="659" y="1334"/>
                </a:cubicBezTo>
                <a:cubicBezTo>
                  <a:pt x="670" y="1342"/>
                  <a:pt x="671" y="1358"/>
                  <a:pt x="662" y="1369"/>
                </a:cubicBezTo>
                <a:close/>
                <a:moveTo>
                  <a:pt x="461" y="1651"/>
                </a:moveTo>
                <a:lnTo>
                  <a:pt x="401" y="1750"/>
                </a:lnTo>
                <a:lnTo>
                  <a:pt x="385" y="1778"/>
                </a:lnTo>
                <a:cubicBezTo>
                  <a:pt x="379" y="1790"/>
                  <a:pt x="364" y="1795"/>
                  <a:pt x="352" y="1788"/>
                </a:cubicBezTo>
                <a:cubicBezTo>
                  <a:pt x="339" y="1782"/>
                  <a:pt x="335" y="1767"/>
                  <a:pt x="341" y="1755"/>
                </a:cubicBezTo>
                <a:lnTo>
                  <a:pt x="358" y="1723"/>
                </a:lnTo>
                <a:lnTo>
                  <a:pt x="419" y="1624"/>
                </a:lnTo>
                <a:cubicBezTo>
                  <a:pt x="426" y="1613"/>
                  <a:pt x="441" y="1609"/>
                  <a:pt x="453" y="1616"/>
                </a:cubicBezTo>
                <a:cubicBezTo>
                  <a:pt x="465" y="1623"/>
                  <a:pt x="469" y="1639"/>
                  <a:pt x="461" y="1651"/>
                </a:cubicBezTo>
                <a:close/>
                <a:moveTo>
                  <a:pt x="295" y="1955"/>
                </a:moveTo>
                <a:lnTo>
                  <a:pt x="266" y="2018"/>
                </a:lnTo>
                <a:lnTo>
                  <a:pt x="237" y="2092"/>
                </a:lnTo>
                <a:cubicBezTo>
                  <a:pt x="231" y="2104"/>
                  <a:pt x="217" y="2111"/>
                  <a:pt x="204" y="2105"/>
                </a:cubicBezTo>
                <a:cubicBezTo>
                  <a:pt x="191" y="2100"/>
                  <a:pt x="185" y="2086"/>
                  <a:pt x="190" y="2073"/>
                </a:cubicBezTo>
                <a:lnTo>
                  <a:pt x="221" y="1997"/>
                </a:lnTo>
                <a:lnTo>
                  <a:pt x="250" y="1934"/>
                </a:lnTo>
                <a:cubicBezTo>
                  <a:pt x="256" y="1922"/>
                  <a:pt x="271" y="1916"/>
                  <a:pt x="283" y="1922"/>
                </a:cubicBezTo>
                <a:cubicBezTo>
                  <a:pt x="296" y="1928"/>
                  <a:pt x="301" y="1943"/>
                  <a:pt x="295" y="1955"/>
                </a:cubicBezTo>
                <a:close/>
                <a:moveTo>
                  <a:pt x="169" y="2278"/>
                </a:moveTo>
                <a:lnTo>
                  <a:pt x="162" y="2299"/>
                </a:lnTo>
                <a:lnTo>
                  <a:pt x="129" y="2421"/>
                </a:lnTo>
                <a:cubicBezTo>
                  <a:pt x="125" y="2435"/>
                  <a:pt x="111" y="2442"/>
                  <a:pt x="98" y="2439"/>
                </a:cubicBezTo>
                <a:cubicBezTo>
                  <a:pt x="85" y="2435"/>
                  <a:pt x="77" y="2421"/>
                  <a:pt x="81" y="2408"/>
                </a:cubicBezTo>
                <a:lnTo>
                  <a:pt x="115" y="2283"/>
                </a:lnTo>
                <a:lnTo>
                  <a:pt x="122" y="2262"/>
                </a:lnTo>
                <a:cubicBezTo>
                  <a:pt x="126" y="2249"/>
                  <a:pt x="140" y="2242"/>
                  <a:pt x="154" y="2247"/>
                </a:cubicBezTo>
                <a:cubicBezTo>
                  <a:pt x="167" y="2251"/>
                  <a:pt x="174" y="2265"/>
                  <a:pt x="169" y="2278"/>
                </a:cubicBezTo>
                <a:close/>
                <a:moveTo>
                  <a:pt x="88" y="2614"/>
                </a:moveTo>
                <a:lnTo>
                  <a:pt x="69" y="2741"/>
                </a:lnTo>
                <a:lnTo>
                  <a:pt x="67" y="2761"/>
                </a:lnTo>
                <a:cubicBezTo>
                  <a:pt x="66" y="2775"/>
                  <a:pt x="53" y="2785"/>
                  <a:pt x="40" y="2784"/>
                </a:cubicBezTo>
                <a:cubicBezTo>
                  <a:pt x="26" y="2782"/>
                  <a:pt x="16" y="2770"/>
                  <a:pt x="17" y="2756"/>
                </a:cubicBezTo>
                <a:lnTo>
                  <a:pt x="19" y="2733"/>
                </a:lnTo>
                <a:lnTo>
                  <a:pt x="39" y="2606"/>
                </a:lnTo>
                <a:cubicBezTo>
                  <a:pt x="41" y="2593"/>
                  <a:pt x="53" y="2583"/>
                  <a:pt x="67" y="2585"/>
                </a:cubicBezTo>
                <a:cubicBezTo>
                  <a:pt x="81" y="2588"/>
                  <a:pt x="90" y="2600"/>
                  <a:pt x="88" y="2614"/>
                </a:cubicBezTo>
                <a:close/>
                <a:moveTo>
                  <a:pt x="53" y="2959"/>
                </a:moveTo>
                <a:lnTo>
                  <a:pt x="50" y="3047"/>
                </a:lnTo>
                <a:lnTo>
                  <a:pt x="52" y="3107"/>
                </a:lnTo>
                <a:cubicBezTo>
                  <a:pt x="53" y="3121"/>
                  <a:pt x="42" y="3133"/>
                  <a:pt x="28" y="3133"/>
                </a:cubicBezTo>
                <a:cubicBezTo>
                  <a:pt x="14" y="3133"/>
                  <a:pt x="3" y="3123"/>
                  <a:pt x="2" y="3109"/>
                </a:cubicBezTo>
                <a:lnTo>
                  <a:pt x="0" y="3045"/>
                </a:lnTo>
                <a:lnTo>
                  <a:pt x="3" y="2957"/>
                </a:lnTo>
                <a:cubicBezTo>
                  <a:pt x="3" y="2944"/>
                  <a:pt x="15" y="2933"/>
                  <a:pt x="29" y="2933"/>
                </a:cubicBezTo>
                <a:cubicBezTo>
                  <a:pt x="43" y="2933"/>
                  <a:pt x="53" y="2945"/>
                  <a:pt x="53" y="2959"/>
                </a:cubicBezTo>
                <a:close/>
                <a:moveTo>
                  <a:pt x="65" y="3305"/>
                </a:moveTo>
                <a:lnTo>
                  <a:pt x="69" y="3353"/>
                </a:lnTo>
                <a:lnTo>
                  <a:pt x="84" y="3452"/>
                </a:lnTo>
                <a:cubicBezTo>
                  <a:pt x="86" y="3466"/>
                  <a:pt x="77" y="3479"/>
                  <a:pt x="63" y="3481"/>
                </a:cubicBezTo>
                <a:cubicBezTo>
                  <a:pt x="49" y="3483"/>
                  <a:pt x="37" y="3474"/>
                  <a:pt x="35" y="3460"/>
                </a:cubicBezTo>
                <a:lnTo>
                  <a:pt x="19" y="3357"/>
                </a:lnTo>
                <a:lnTo>
                  <a:pt x="15" y="3310"/>
                </a:lnTo>
                <a:cubicBezTo>
                  <a:pt x="13" y="3296"/>
                  <a:pt x="24" y="3284"/>
                  <a:pt x="37" y="3283"/>
                </a:cubicBezTo>
                <a:cubicBezTo>
                  <a:pt x="51" y="3281"/>
                  <a:pt x="63" y="3292"/>
                  <a:pt x="65" y="3305"/>
                </a:cubicBezTo>
                <a:close/>
                <a:moveTo>
                  <a:pt x="122" y="3647"/>
                </a:moveTo>
                <a:lnTo>
                  <a:pt x="123" y="3650"/>
                </a:lnTo>
                <a:lnTo>
                  <a:pt x="162" y="3790"/>
                </a:lnTo>
                <a:cubicBezTo>
                  <a:pt x="165" y="3804"/>
                  <a:pt x="157" y="3818"/>
                  <a:pt x="144" y="3821"/>
                </a:cubicBezTo>
                <a:cubicBezTo>
                  <a:pt x="131" y="3825"/>
                  <a:pt x="117" y="3817"/>
                  <a:pt x="113" y="3804"/>
                </a:cubicBezTo>
                <a:lnTo>
                  <a:pt x="74" y="3660"/>
                </a:lnTo>
                <a:lnTo>
                  <a:pt x="73" y="3658"/>
                </a:lnTo>
                <a:cubicBezTo>
                  <a:pt x="71" y="3644"/>
                  <a:pt x="79" y="3631"/>
                  <a:pt x="93" y="3628"/>
                </a:cubicBezTo>
                <a:cubicBezTo>
                  <a:pt x="106" y="3625"/>
                  <a:pt x="120" y="3634"/>
                  <a:pt x="122" y="3647"/>
                </a:cubicBezTo>
                <a:close/>
                <a:moveTo>
                  <a:pt x="227" y="3976"/>
                </a:moveTo>
                <a:lnTo>
                  <a:pt x="267" y="4075"/>
                </a:lnTo>
                <a:lnTo>
                  <a:pt x="284" y="4113"/>
                </a:lnTo>
                <a:cubicBezTo>
                  <a:pt x="290" y="4126"/>
                  <a:pt x="285" y="4141"/>
                  <a:pt x="272" y="4147"/>
                </a:cubicBezTo>
                <a:cubicBezTo>
                  <a:pt x="260" y="4152"/>
                  <a:pt x="245" y="4147"/>
                  <a:pt x="239" y="4134"/>
                </a:cubicBezTo>
                <a:lnTo>
                  <a:pt x="220" y="4094"/>
                </a:lnTo>
                <a:lnTo>
                  <a:pt x="180" y="3995"/>
                </a:lnTo>
                <a:cubicBezTo>
                  <a:pt x="175" y="3982"/>
                  <a:pt x="181" y="3968"/>
                  <a:pt x="194" y="3963"/>
                </a:cubicBezTo>
                <a:cubicBezTo>
                  <a:pt x="207" y="3957"/>
                  <a:pt x="222" y="3964"/>
                  <a:pt x="227" y="3976"/>
                </a:cubicBezTo>
                <a:close/>
                <a:moveTo>
                  <a:pt x="373" y="4291"/>
                </a:moveTo>
                <a:lnTo>
                  <a:pt x="401" y="4344"/>
                </a:lnTo>
                <a:lnTo>
                  <a:pt x="448" y="4419"/>
                </a:lnTo>
                <a:cubicBezTo>
                  <a:pt x="455" y="4431"/>
                  <a:pt x="451" y="4447"/>
                  <a:pt x="439" y="4454"/>
                </a:cubicBezTo>
                <a:cubicBezTo>
                  <a:pt x="428" y="4461"/>
                  <a:pt x="412" y="4457"/>
                  <a:pt x="405" y="4445"/>
                </a:cubicBezTo>
                <a:lnTo>
                  <a:pt x="357" y="4367"/>
                </a:lnTo>
                <a:lnTo>
                  <a:pt x="329" y="4315"/>
                </a:lnTo>
                <a:cubicBezTo>
                  <a:pt x="323" y="4303"/>
                  <a:pt x="327" y="4287"/>
                  <a:pt x="339" y="4281"/>
                </a:cubicBezTo>
                <a:cubicBezTo>
                  <a:pt x="351" y="4274"/>
                  <a:pt x="367" y="4279"/>
                  <a:pt x="373" y="4291"/>
                </a:cubicBezTo>
                <a:close/>
                <a:moveTo>
                  <a:pt x="557" y="4585"/>
                </a:moveTo>
                <a:lnTo>
                  <a:pt x="566" y="4598"/>
                </a:lnTo>
                <a:lnTo>
                  <a:pt x="647" y="4704"/>
                </a:lnTo>
                <a:cubicBezTo>
                  <a:pt x="655" y="4715"/>
                  <a:pt x="653" y="4731"/>
                  <a:pt x="642" y="4739"/>
                </a:cubicBezTo>
                <a:cubicBezTo>
                  <a:pt x="631" y="4747"/>
                  <a:pt x="615" y="4745"/>
                  <a:pt x="607" y="4734"/>
                </a:cubicBezTo>
                <a:lnTo>
                  <a:pt x="525" y="4627"/>
                </a:lnTo>
                <a:lnTo>
                  <a:pt x="516" y="4613"/>
                </a:lnTo>
                <a:cubicBezTo>
                  <a:pt x="508" y="4602"/>
                  <a:pt x="511" y="4587"/>
                  <a:pt x="522" y="4579"/>
                </a:cubicBezTo>
                <a:cubicBezTo>
                  <a:pt x="534" y="4571"/>
                  <a:pt x="549" y="4574"/>
                  <a:pt x="557" y="4585"/>
                </a:cubicBezTo>
                <a:close/>
                <a:moveTo>
                  <a:pt x="774" y="4855"/>
                </a:moveTo>
                <a:lnTo>
                  <a:pt x="864" y="4950"/>
                </a:lnTo>
                <a:lnTo>
                  <a:pt x="876" y="4963"/>
                </a:lnTo>
                <a:cubicBezTo>
                  <a:pt x="886" y="4972"/>
                  <a:pt x="887" y="4988"/>
                  <a:pt x="877" y="4998"/>
                </a:cubicBezTo>
                <a:cubicBezTo>
                  <a:pt x="867" y="5008"/>
                  <a:pt x="851" y="5008"/>
                  <a:pt x="842" y="4999"/>
                </a:cubicBezTo>
                <a:lnTo>
                  <a:pt x="827" y="4985"/>
                </a:lnTo>
                <a:lnTo>
                  <a:pt x="738" y="4889"/>
                </a:lnTo>
                <a:cubicBezTo>
                  <a:pt x="728" y="4879"/>
                  <a:pt x="729" y="4863"/>
                  <a:pt x="739" y="4853"/>
                </a:cubicBezTo>
                <a:cubicBezTo>
                  <a:pt x="749" y="4844"/>
                  <a:pt x="765" y="4845"/>
                  <a:pt x="774" y="4855"/>
                </a:cubicBezTo>
                <a:close/>
                <a:moveTo>
                  <a:pt x="1021" y="5099"/>
                </a:moveTo>
                <a:lnTo>
                  <a:pt x="1094" y="5163"/>
                </a:lnTo>
                <a:lnTo>
                  <a:pt x="1134" y="5196"/>
                </a:lnTo>
                <a:cubicBezTo>
                  <a:pt x="1145" y="5204"/>
                  <a:pt x="1147" y="5220"/>
                  <a:pt x="1138" y="5231"/>
                </a:cubicBezTo>
                <a:cubicBezTo>
                  <a:pt x="1130" y="5241"/>
                  <a:pt x="1114" y="5243"/>
                  <a:pt x="1103" y="5235"/>
                </a:cubicBezTo>
                <a:lnTo>
                  <a:pt x="1061" y="5201"/>
                </a:lnTo>
                <a:lnTo>
                  <a:pt x="988" y="5137"/>
                </a:lnTo>
                <a:cubicBezTo>
                  <a:pt x="978" y="5128"/>
                  <a:pt x="977" y="5112"/>
                  <a:pt x="986" y="5101"/>
                </a:cubicBezTo>
                <a:cubicBezTo>
                  <a:pt x="995" y="5091"/>
                  <a:pt x="1011" y="5090"/>
                  <a:pt x="1021" y="5099"/>
                </a:cubicBezTo>
                <a:close/>
                <a:moveTo>
                  <a:pt x="1292" y="5317"/>
                </a:moveTo>
                <a:lnTo>
                  <a:pt x="1347" y="5357"/>
                </a:lnTo>
                <a:lnTo>
                  <a:pt x="1414" y="5401"/>
                </a:lnTo>
                <a:cubicBezTo>
                  <a:pt x="1426" y="5409"/>
                  <a:pt x="1429" y="5425"/>
                  <a:pt x="1421" y="5436"/>
                </a:cubicBezTo>
                <a:cubicBezTo>
                  <a:pt x="1414" y="5448"/>
                  <a:pt x="1398" y="5451"/>
                  <a:pt x="1387" y="5443"/>
                </a:cubicBezTo>
                <a:lnTo>
                  <a:pt x="1318" y="5397"/>
                </a:lnTo>
                <a:lnTo>
                  <a:pt x="1263" y="5357"/>
                </a:lnTo>
                <a:cubicBezTo>
                  <a:pt x="1251" y="5349"/>
                  <a:pt x="1249" y="5333"/>
                  <a:pt x="1257" y="5322"/>
                </a:cubicBezTo>
                <a:cubicBezTo>
                  <a:pt x="1265" y="5311"/>
                  <a:pt x="1281" y="5308"/>
                  <a:pt x="1292" y="5317"/>
                </a:cubicBezTo>
                <a:close/>
                <a:moveTo>
                  <a:pt x="1583" y="5506"/>
                </a:moveTo>
                <a:lnTo>
                  <a:pt x="1622" y="5529"/>
                </a:lnTo>
                <a:lnTo>
                  <a:pt x="1713" y="5579"/>
                </a:lnTo>
                <a:cubicBezTo>
                  <a:pt x="1725" y="5585"/>
                  <a:pt x="1730" y="5601"/>
                  <a:pt x="1723" y="5613"/>
                </a:cubicBezTo>
                <a:cubicBezTo>
                  <a:pt x="1717" y="5625"/>
                  <a:pt x="1702" y="5629"/>
                  <a:pt x="1689" y="5623"/>
                </a:cubicBezTo>
                <a:lnTo>
                  <a:pt x="1596" y="5572"/>
                </a:lnTo>
                <a:lnTo>
                  <a:pt x="1557" y="5549"/>
                </a:lnTo>
                <a:cubicBezTo>
                  <a:pt x="1546" y="5542"/>
                  <a:pt x="1542" y="5527"/>
                  <a:pt x="1549" y="5515"/>
                </a:cubicBezTo>
                <a:cubicBezTo>
                  <a:pt x="1556" y="5503"/>
                  <a:pt x="1571" y="5499"/>
                  <a:pt x="1583" y="5506"/>
                </a:cubicBezTo>
                <a:close/>
                <a:moveTo>
                  <a:pt x="1891" y="5668"/>
                </a:moveTo>
                <a:lnTo>
                  <a:pt x="1916" y="5680"/>
                </a:lnTo>
                <a:lnTo>
                  <a:pt x="2027" y="5728"/>
                </a:lnTo>
                <a:cubicBezTo>
                  <a:pt x="2040" y="5733"/>
                  <a:pt x="2046" y="5748"/>
                  <a:pt x="2040" y="5761"/>
                </a:cubicBezTo>
                <a:cubicBezTo>
                  <a:pt x="2035" y="5773"/>
                  <a:pt x="2020" y="5779"/>
                  <a:pt x="2008" y="5774"/>
                </a:cubicBezTo>
                <a:lnTo>
                  <a:pt x="1894" y="5725"/>
                </a:lnTo>
                <a:lnTo>
                  <a:pt x="1869" y="5713"/>
                </a:lnTo>
                <a:cubicBezTo>
                  <a:pt x="1857" y="5707"/>
                  <a:pt x="1852" y="5692"/>
                  <a:pt x="1858" y="5680"/>
                </a:cubicBezTo>
                <a:cubicBezTo>
                  <a:pt x="1864" y="5667"/>
                  <a:pt x="1879" y="5662"/>
                  <a:pt x="1891" y="5668"/>
                </a:cubicBezTo>
                <a:close/>
                <a:moveTo>
                  <a:pt x="2213" y="5800"/>
                </a:moveTo>
                <a:lnTo>
                  <a:pt x="2228" y="5806"/>
                </a:lnTo>
                <a:lnTo>
                  <a:pt x="2354" y="5848"/>
                </a:lnTo>
                <a:cubicBezTo>
                  <a:pt x="2367" y="5852"/>
                  <a:pt x="2374" y="5866"/>
                  <a:pt x="2370" y="5879"/>
                </a:cubicBezTo>
                <a:cubicBezTo>
                  <a:pt x="2365" y="5892"/>
                  <a:pt x="2351" y="5900"/>
                  <a:pt x="2338" y="5895"/>
                </a:cubicBezTo>
                <a:lnTo>
                  <a:pt x="2210" y="5853"/>
                </a:lnTo>
                <a:lnTo>
                  <a:pt x="2195" y="5847"/>
                </a:lnTo>
                <a:cubicBezTo>
                  <a:pt x="2182" y="5842"/>
                  <a:pt x="2175" y="5828"/>
                  <a:pt x="2180" y="5815"/>
                </a:cubicBezTo>
                <a:cubicBezTo>
                  <a:pt x="2185" y="5802"/>
                  <a:pt x="2200" y="5795"/>
                  <a:pt x="2213" y="5800"/>
                </a:cubicBezTo>
                <a:close/>
                <a:moveTo>
                  <a:pt x="2545" y="5904"/>
                </a:moveTo>
                <a:lnTo>
                  <a:pt x="2556" y="5907"/>
                </a:lnTo>
                <a:lnTo>
                  <a:pt x="2689" y="5939"/>
                </a:lnTo>
                <a:cubicBezTo>
                  <a:pt x="2703" y="5942"/>
                  <a:pt x="2711" y="5956"/>
                  <a:pt x="2708" y="5969"/>
                </a:cubicBezTo>
                <a:cubicBezTo>
                  <a:pt x="2704" y="5983"/>
                  <a:pt x="2691" y="5991"/>
                  <a:pt x="2678" y="5988"/>
                </a:cubicBezTo>
                <a:lnTo>
                  <a:pt x="2542" y="5955"/>
                </a:lnTo>
                <a:lnTo>
                  <a:pt x="2531" y="5952"/>
                </a:lnTo>
                <a:cubicBezTo>
                  <a:pt x="2518" y="5948"/>
                  <a:pt x="2510" y="5934"/>
                  <a:pt x="2514" y="5921"/>
                </a:cubicBezTo>
                <a:cubicBezTo>
                  <a:pt x="2517" y="5908"/>
                  <a:pt x="2531" y="5900"/>
                  <a:pt x="2545" y="5904"/>
                </a:cubicBezTo>
                <a:close/>
                <a:moveTo>
                  <a:pt x="2884" y="5978"/>
                </a:moveTo>
                <a:lnTo>
                  <a:pt x="2898" y="5981"/>
                </a:lnTo>
                <a:lnTo>
                  <a:pt x="3031" y="6001"/>
                </a:lnTo>
                <a:cubicBezTo>
                  <a:pt x="3045" y="6003"/>
                  <a:pt x="3054" y="6016"/>
                  <a:pt x="3052" y="6029"/>
                </a:cubicBezTo>
                <a:cubicBezTo>
                  <a:pt x="3050" y="6043"/>
                  <a:pt x="3038" y="6052"/>
                  <a:pt x="3024" y="6050"/>
                </a:cubicBezTo>
                <a:lnTo>
                  <a:pt x="2888" y="6030"/>
                </a:lnTo>
                <a:lnTo>
                  <a:pt x="2875" y="6027"/>
                </a:lnTo>
                <a:cubicBezTo>
                  <a:pt x="2861" y="6025"/>
                  <a:pt x="2852" y="6012"/>
                  <a:pt x="2855" y="5998"/>
                </a:cubicBezTo>
                <a:cubicBezTo>
                  <a:pt x="2857" y="5985"/>
                  <a:pt x="2871" y="5976"/>
                  <a:pt x="2884" y="5978"/>
                </a:cubicBezTo>
                <a:close/>
                <a:moveTo>
                  <a:pt x="3229" y="6024"/>
                </a:moveTo>
                <a:lnTo>
                  <a:pt x="3252" y="6027"/>
                </a:lnTo>
                <a:lnTo>
                  <a:pt x="3377" y="6034"/>
                </a:lnTo>
                <a:cubicBezTo>
                  <a:pt x="3391" y="6035"/>
                  <a:pt x="3402" y="6047"/>
                  <a:pt x="3401" y="6061"/>
                </a:cubicBezTo>
                <a:cubicBezTo>
                  <a:pt x="3400" y="6075"/>
                  <a:pt x="3388" y="6085"/>
                  <a:pt x="3374" y="6084"/>
                </a:cubicBezTo>
                <a:lnTo>
                  <a:pt x="3247" y="6076"/>
                </a:lnTo>
                <a:lnTo>
                  <a:pt x="3224" y="6074"/>
                </a:lnTo>
                <a:cubicBezTo>
                  <a:pt x="3210" y="6072"/>
                  <a:pt x="3200" y="6060"/>
                  <a:pt x="3201" y="6046"/>
                </a:cubicBezTo>
                <a:cubicBezTo>
                  <a:pt x="3203" y="6033"/>
                  <a:pt x="3215" y="6023"/>
                  <a:pt x="3229" y="6024"/>
                </a:cubicBezTo>
                <a:close/>
                <a:moveTo>
                  <a:pt x="3576" y="6041"/>
                </a:moveTo>
                <a:lnTo>
                  <a:pt x="3618" y="6042"/>
                </a:lnTo>
                <a:lnTo>
                  <a:pt x="3725" y="6040"/>
                </a:lnTo>
                <a:cubicBezTo>
                  <a:pt x="3739" y="6039"/>
                  <a:pt x="3750" y="6050"/>
                  <a:pt x="3751" y="6064"/>
                </a:cubicBezTo>
                <a:cubicBezTo>
                  <a:pt x="3751" y="6078"/>
                  <a:pt x="3740" y="6089"/>
                  <a:pt x="3726" y="6090"/>
                </a:cubicBezTo>
                <a:lnTo>
                  <a:pt x="3616" y="6092"/>
                </a:lnTo>
                <a:lnTo>
                  <a:pt x="3575" y="6091"/>
                </a:lnTo>
                <a:cubicBezTo>
                  <a:pt x="3561" y="6091"/>
                  <a:pt x="3550" y="6079"/>
                  <a:pt x="3551" y="6066"/>
                </a:cubicBezTo>
                <a:cubicBezTo>
                  <a:pt x="3551" y="6052"/>
                  <a:pt x="3562" y="6041"/>
                  <a:pt x="3576" y="6041"/>
                </a:cubicBezTo>
                <a:close/>
                <a:moveTo>
                  <a:pt x="3924" y="6030"/>
                </a:moveTo>
                <a:lnTo>
                  <a:pt x="3983" y="6027"/>
                </a:lnTo>
                <a:lnTo>
                  <a:pt x="4072" y="6017"/>
                </a:lnTo>
                <a:cubicBezTo>
                  <a:pt x="4086" y="6015"/>
                  <a:pt x="4098" y="6025"/>
                  <a:pt x="4100" y="6039"/>
                </a:cubicBezTo>
                <a:cubicBezTo>
                  <a:pt x="4101" y="6053"/>
                  <a:pt x="4091" y="6065"/>
                  <a:pt x="4077" y="6067"/>
                </a:cubicBezTo>
                <a:lnTo>
                  <a:pt x="3986" y="6076"/>
                </a:lnTo>
                <a:lnTo>
                  <a:pt x="3927" y="6080"/>
                </a:lnTo>
                <a:cubicBezTo>
                  <a:pt x="3913" y="6081"/>
                  <a:pt x="3901" y="6071"/>
                  <a:pt x="3900" y="6057"/>
                </a:cubicBezTo>
                <a:cubicBezTo>
                  <a:pt x="3900" y="6043"/>
                  <a:pt x="3910" y="6031"/>
                  <a:pt x="3924" y="6030"/>
                </a:cubicBezTo>
                <a:close/>
                <a:moveTo>
                  <a:pt x="4269" y="5991"/>
                </a:moveTo>
                <a:lnTo>
                  <a:pt x="4337" y="5981"/>
                </a:lnTo>
                <a:lnTo>
                  <a:pt x="4416" y="5966"/>
                </a:lnTo>
                <a:cubicBezTo>
                  <a:pt x="4430" y="5963"/>
                  <a:pt x="4443" y="5972"/>
                  <a:pt x="4445" y="5985"/>
                </a:cubicBezTo>
                <a:cubicBezTo>
                  <a:pt x="4448" y="5999"/>
                  <a:pt x="4439" y="6012"/>
                  <a:pt x="4426" y="6015"/>
                </a:cubicBezTo>
                <a:lnTo>
                  <a:pt x="4345" y="6030"/>
                </a:lnTo>
                <a:lnTo>
                  <a:pt x="4277" y="6040"/>
                </a:lnTo>
                <a:cubicBezTo>
                  <a:pt x="4263" y="6042"/>
                  <a:pt x="4250" y="6033"/>
                  <a:pt x="4248" y="6019"/>
                </a:cubicBezTo>
                <a:cubicBezTo>
                  <a:pt x="4246" y="6006"/>
                  <a:pt x="4256" y="5993"/>
                  <a:pt x="4269" y="5991"/>
                </a:cubicBezTo>
                <a:close/>
                <a:moveTo>
                  <a:pt x="4610" y="5923"/>
                </a:moveTo>
                <a:lnTo>
                  <a:pt x="4679" y="5907"/>
                </a:lnTo>
                <a:lnTo>
                  <a:pt x="4754" y="5885"/>
                </a:lnTo>
                <a:cubicBezTo>
                  <a:pt x="4768" y="5881"/>
                  <a:pt x="4781" y="5889"/>
                  <a:pt x="4785" y="5902"/>
                </a:cubicBezTo>
                <a:cubicBezTo>
                  <a:pt x="4789" y="5916"/>
                  <a:pt x="4781" y="5930"/>
                  <a:pt x="4768" y="5933"/>
                </a:cubicBezTo>
                <a:lnTo>
                  <a:pt x="4691" y="5955"/>
                </a:lnTo>
                <a:lnTo>
                  <a:pt x="4622" y="5972"/>
                </a:lnTo>
                <a:cubicBezTo>
                  <a:pt x="4609" y="5975"/>
                  <a:pt x="4595" y="5967"/>
                  <a:pt x="4592" y="5953"/>
                </a:cubicBezTo>
                <a:cubicBezTo>
                  <a:pt x="4589" y="5940"/>
                  <a:pt x="4597" y="5926"/>
                  <a:pt x="4610" y="5923"/>
                </a:cubicBezTo>
                <a:close/>
                <a:moveTo>
                  <a:pt x="4944" y="5827"/>
                </a:moveTo>
                <a:lnTo>
                  <a:pt x="5007" y="5806"/>
                </a:lnTo>
                <a:lnTo>
                  <a:pt x="5085" y="5776"/>
                </a:lnTo>
                <a:cubicBezTo>
                  <a:pt x="5097" y="5771"/>
                  <a:pt x="5112" y="5778"/>
                  <a:pt x="5117" y="5791"/>
                </a:cubicBezTo>
                <a:cubicBezTo>
                  <a:pt x="5122" y="5804"/>
                  <a:pt x="5115" y="5818"/>
                  <a:pt x="5102" y="5823"/>
                </a:cubicBezTo>
                <a:lnTo>
                  <a:pt x="5023" y="5853"/>
                </a:lnTo>
                <a:lnTo>
                  <a:pt x="4960" y="5874"/>
                </a:lnTo>
                <a:cubicBezTo>
                  <a:pt x="4947" y="5878"/>
                  <a:pt x="4933" y="5871"/>
                  <a:pt x="4929" y="5858"/>
                </a:cubicBezTo>
                <a:cubicBezTo>
                  <a:pt x="4924" y="5845"/>
                  <a:pt x="4931" y="5831"/>
                  <a:pt x="4944" y="5827"/>
                </a:cubicBezTo>
                <a:close/>
                <a:moveTo>
                  <a:pt x="5269" y="5701"/>
                </a:moveTo>
                <a:lnTo>
                  <a:pt x="5319" y="5680"/>
                </a:lnTo>
                <a:lnTo>
                  <a:pt x="5404" y="5638"/>
                </a:lnTo>
                <a:cubicBezTo>
                  <a:pt x="5416" y="5632"/>
                  <a:pt x="5431" y="5638"/>
                  <a:pt x="5437" y="5650"/>
                </a:cubicBezTo>
                <a:cubicBezTo>
                  <a:pt x="5443" y="5662"/>
                  <a:pt x="5438" y="5677"/>
                  <a:pt x="5425" y="5683"/>
                </a:cubicBezTo>
                <a:lnTo>
                  <a:pt x="5339" y="5725"/>
                </a:lnTo>
                <a:lnTo>
                  <a:pt x="5288" y="5747"/>
                </a:lnTo>
                <a:cubicBezTo>
                  <a:pt x="5276" y="5753"/>
                  <a:pt x="5261" y="5747"/>
                  <a:pt x="5256" y="5734"/>
                </a:cubicBezTo>
                <a:cubicBezTo>
                  <a:pt x="5250" y="5721"/>
                  <a:pt x="5256" y="5707"/>
                  <a:pt x="5269" y="5701"/>
                </a:cubicBezTo>
                <a:close/>
                <a:moveTo>
                  <a:pt x="5580" y="5547"/>
                </a:moveTo>
                <a:lnTo>
                  <a:pt x="5613" y="5529"/>
                </a:lnTo>
                <a:lnTo>
                  <a:pt x="5709" y="5472"/>
                </a:lnTo>
                <a:cubicBezTo>
                  <a:pt x="5721" y="5465"/>
                  <a:pt x="5736" y="5469"/>
                  <a:pt x="5743" y="5481"/>
                </a:cubicBezTo>
                <a:cubicBezTo>
                  <a:pt x="5750" y="5492"/>
                  <a:pt x="5746" y="5508"/>
                  <a:pt x="5734" y="5515"/>
                </a:cubicBezTo>
                <a:lnTo>
                  <a:pt x="5637" y="5573"/>
                </a:lnTo>
                <a:lnTo>
                  <a:pt x="5604" y="5591"/>
                </a:lnTo>
                <a:cubicBezTo>
                  <a:pt x="5592" y="5597"/>
                  <a:pt x="5577" y="5593"/>
                  <a:pt x="5570" y="5581"/>
                </a:cubicBezTo>
                <a:cubicBezTo>
                  <a:pt x="5563" y="5568"/>
                  <a:pt x="5568" y="5553"/>
                  <a:pt x="5580" y="5547"/>
                </a:cubicBezTo>
                <a:close/>
                <a:moveTo>
                  <a:pt x="5876" y="5364"/>
                </a:moveTo>
                <a:lnTo>
                  <a:pt x="5888" y="5356"/>
                </a:lnTo>
                <a:lnTo>
                  <a:pt x="5997" y="5277"/>
                </a:lnTo>
                <a:cubicBezTo>
                  <a:pt x="6008" y="5269"/>
                  <a:pt x="6023" y="5271"/>
                  <a:pt x="6031" y="5282"/>
                </a:cubicBezTo>
                <a:cubicBezTo>
                  <a:pt x="6040" y="5294"/>
                  <a:pt x="6037" y="5309"/>
                  <a:pt x="6026" y="5317"/>
                </a:cubicBezTo>
                <a:lnTo>
                  <a:pt x="5915" y="5398"/>
                </a:lnTo>
                <a:lnTo>
                  <a:pt x="5903" y="5406"/>
                </a:lnTo>
                <a:cubicBezTo>
                  <a:pt x="5892" y="5413"/>
                  <a:pt x="5876" y="5410"/>
                  <a:pt x="5869" y="5399"/>
                </a:cubicBezTo>
                <a:cubicBezTo>
                  <a:pt x="5861" y="5387"/>
                  <a:pt x="5864" y="5372"/>
                  <a:pt x="5876" y="5364"/>
                </a:cubicBezTo>
                <a:close/>
                <a:moveTo>
                  <a:pt x="6151" y="5154"/>
                </a:moveTo>
                <a:lnTo>
                  <a:pt x="6259" y="5058"/>
                </a:lnTo>
                <a:lnTo>
                  <a:pt x="6262" y="5055"/>
                </a:lnTo>
                <a:cubicBezTo>
                  <a:pt x="6272" y="5045"/>
                  <a:pt x="6288" y="5046"/>
                  <a:pt x="6298" y="5055"/>
                </a:cubicBezTo>
                <a:cubicBezTo>
                  <a:pt x="6307" y="5065"/>
                  <a:pt x="6307" y="5081"/>
                  <a:pt x="6297" y="5091"/>
                </a:cubicBezTo>
                <a:lnTo>
                  <a:pt x="6292" y="5096"/>
                </a:lnTo>
                <a:lnTo>
                  <a:pt x="6184" y="5191"/>
                </a:lnTo>
                <a:cubicBezTo>
                  <a:pt x="6174" y="5200"/>
                  <a:pt x="6158" y="5199"/>
                  <a:pt x="6149" y="5189"/>
                </a:cubicBezTo>
                <a:cubicBezTo>
                  <a:pt x="6140" y="5178"/>
                  <a:pt x="6141" y="5163"/>
                  <a:pt x="6151" y="5154"/>
                </a:cubicBezTo>
                <a:close/>
                <a:moveTo>
                  <a:pt x="6403" y="4915"/>
                </a:moveTo>
                <a:lnTo>
                  <a:pt x="6477" y="4836"/>
                </a:lnTo>
                <a:lnTo>
                  <a:pt x="6503" y="4805"/>
                </a:lnTo>
                <a:cubicBezTo>
                  <a:pt x="6512" y="4794"/>
                  <a:pt x="6528" y="4793"/>
                  <a:pt x="6539" y="4802"/>
                </a:cubicBezTo>
                <a:cubicBezTo>
                  <a:pt x="6549" y="4811"/>
                  <a:pt x="6551" y="4827"/>
                  <a:pt x="6542" y="4837"/>
                </a:cubicBezTo>
                <a:lnTo>
                  <a:pt x="6513" y="4871"/>
                </a:lnTo>
                <a:lnTo>
                  <a:pt x="6440" y="4949"/>
                </a:lnTo>
                <a:cubicBezTo>
                  <a:pt x="6430" y="4959"/>
                  <a:pt x="6415" y="4960"/>
                  <a:pt x="6405" y="4950"/>
                </a:cubicBezTo>
                <a:cubicBezTo>
                  <a:pt x="6394" y="4941"/>
                  <a:pt x="6394" y="4925"/>
                  <a:pt x="6403" y="4915"/>
                </a:cubicBezTo>
                <a:close/>
                <a:moveTo>
                  <a:pt x="6628" y="4650"/>
                </a:moveTo>
                <a:lnTo>
                  <a:pt x="6669" y="4597"/>
                </a:lnTo>
                <a:lnTo>
                  <a:pt x="6715" y="4530"/>
                </a:lnTo>
                <a:cubicBezTo>
                  <a:pt x="6723" y="4518"/>
                  <a:pt x="6738" y="4515"/>
                  <a:pt x="6750" y="4523"/>
                </a:cubicBezTo>
                <a:cubicBezTo>
                  <a:pt x="6761" y="4531"/>
                  <a:pt x="6764" y="4546"/>
                  <a:pt x="6756" y="4558"/>
                </a:cubicBezTo>
                <a:lnTo>
                  <a:pt x="6708" y="4628"/>
                </a:lnTo>
                <a:lnTo>
                  <a:pt x="6668" y="4681"/>
                </a:lnTo>
                <a:cubicBezTo>
                  <a:pt x="6660" y="4692"/>
                  <a:pt x="6644" y="4694"/>
                  <a:pt x="6633" y="4685"/>
                </a:cubicBezTo>
                <a:cubicBezTo>
                  <a:pt x="6622" y="4677"/>
                  <a:pt x="6620" y="4661"/>
                  <a:pt x="6628" y="4650"/>
                </a:cubicBezTo>
                <a:close/>
                <a:moveTo>
                  <a:pt x="6821" y="4362"/>
                </a:moveTo>
                <a:lnTo>
                  <a:pt x="6833" y="4342"/>
                </a:lnTo>
                <a:lnTo>
                  <a:pt x="6893" y="4232"/>
                </a:lnTo>
                <a:cubicBezTo>
                  <a:pt x="6899" y="4219"/>
                  <a:pt x="6915" y="4215"/>
                  <a:pt x="6927" y="4221"/>
                </a:cubicBezTo>
                <a:cubicBezTo>
                  <a:pt x="6939" y="4228"/>
                  <a:pt x="6943" y="4243"/>
                  <a:pt x="6937" y="4255"/>
                </a:cubicBezTo>
                <a:lnTo>
                  <a:pt x="6876" y="4368"/>
                </a:lnTo>
                <a:lnTo>
                  <a:pt x="6864" y="4388"/>
                </a:lnTo>
                <a:cubicBezTo>
                  <a:pt x="6857" y="4400"/>
                  <a:pt x="6841" y="4403"/>
                  <a:pt x="6830" y="4396"/>
                </a:cubicBezTo>
                <a:cubicBezTo>
                  <a:pt x="6818" y="4389"/>
                  <a:pt x="6814" y="4374"/>
                  <a:pt x="6821" y="4362"/>
                </a:cubicBezTo>
                <a:close/>
                <a:moveTo>
                  <a:pt x="6976" y="4053"/>
                </a:moveTo>
                <a:lnTo>
                  <a:pt x="7024" y="3935"/>
                </a:lnTo>
                <a:lnTo>
                  <a:pt x="7031" y="3915"/>
                </a:lnTo>
                <a:cubicBezTo>
                  <a:pt x="7035" y="3902"/>
                  <a:pt x="7049" y="3895"/>
                  <a:pt x="7062" y="3899"/>
                </a:cubicBezTo>
                <a:cubicBezTo>
                  <a:pt x="7075" y="3903"/>
                  <a:pt x="7082" y="3918"/>
                  <a:pt x="7078" y="3931"/>
                </a:cubicBezTo>
                <a:lnTo>
                  <a:pt x="7070" y="3954"/>
                </a:lnTo>
                <a:lnTo>
                  <a:pt x="7023" y="4072"/>
                </a:lnTo>
                <a:cubicBezTo>
                  <a:pt x="7017" y="4084"/>
                  <a:pt x="7003" y="4091"/>
                  <a:pt x="6990" y="4085"/>
                </a:cubicBezTo>
                <a:cubicBezTo>
                  <a:pt x="6977" y="4080"/>
                  <a:pt x="6971" y="4066"/>
                  <a:pt x="6976" y="4053"/>
                </a:cubicBezTo>
                <a:close/>
                <a:moveTo>
                  <a:pt x="7090" y="3725"/>
                </a:moveTo>
                <a:lnTo>
                  <a:pt x="7111" y="3648"/>
                </a:lnTo>
                <a:lnTo>
                  <a:pt x="7125" y="3581"/>
                </a:lnTo>
                <a:cubicBezTo>
                  <a:pt x="7128" y="3568"/>
                  <a:pt x="7142" y="3559"/>
                  <a:pt x="7155" y="3562"/>
                </a:cubicBezTo>
                <a:cubicBezTo>
                  <a:pt x="7169" y="3565"/>
                  <a:pt x="7177" y="3578"/>
                  <a:pt x="7174" y="3591"/>
                </a:cubicBezTo>
                <a:lnTo>
                  <a:pt x="7160" y="3661"/>
                </a:lnTo>
                <a:lnTo>
                  <a:pt x="7138" y="3739"/>
                </a:lnTo>
                <a:cubicBezTo>
                  <a:pt x="7135" y="3752"/>
                  <a:pt x="7121" y="3760"/>
                  <a:pt x="7108" y="3756"/>
                </a:cubicBezTo>
                <a:cubicBezTo>
                  <a:pt x="7094" y="3752"/>
                  <a:pt x="7087" y="3739"/>
                  <a:pt x="7090" y="3725"/>
                </a:cubicBezTo>
                <a:close/>
                <a:moveTo>
                  <a:pt x="7160" y="3386"/>
                </a:moveTo>
                <a:lnTo>
                  <a:pt x="7165" y="3351"/>
                </a:lnTo>
                <a:lnTo>
                  <a:pt x="7176" y="3238"/>
                </a:lnTo>
                <a:cubicBezTo>
                  <a:pt x="7177" y="3224"/>
                  <a:pt x="7189" y="3214"/>
                  <a:pt x="7203" y="3215"/>
                </a:cubicBezTo>
                <a:cubicBezTo>
                  <a:pt x="7216" y="3217"/>
                  <a:pt x="7227" y="3229"/>
                  <a:pt x="7225" y="3243"/>
                </a:cubicBezTo>
                <a:lnTo>
                  <a:pt x="7215" y="3359"/>
                </a:lnTo>
                <a:lnTo>
                  <a:pt x="7209" y="3393"/>
                </a:lnTo>
                <a:cubicBezTo>
                  <a:pt x="7207" y="3407"/>
                  <a:pt x="7195" y="3416"/>
                  <a:pt x="7181" y="3414"/>
                </a:cubicBezTo>
                <a:cubicBezTo>
                  <a:pt x="7167" y="3412"/>
                  <a:pt x="7158" y="3399"/>
                  <a:pt x="7160" y="3386"/>
                </a:cubicBezTo>
                <a:close/>
                <a:moveTo>
                  <a:pt x="7183" y="3041"/>
                </a:moveTo>
                <a:lnTo>
                  <a:pt x="7179" y="2891"/>
                </a:lnTo>
                <a:cubicBezTo>
                  <a:pt x="7179" y="2878"/>
                  <a:pt x="7189" y="2866"/>
                  <a:pt x="7203" y="2866"/>
                </a:cubicBezTo>
                <a:cubicBezTo>
                  <a:pt x="7217" y="2865"/>
                  <a:pt x="7229" y="2876"/>
                  <a:pt x="7229" y="2890"/>
                </a:cubicBezTo>
                <a:lnTo>
                  <a:pt x="7233" y="3040"/>
                </a:lnTo>
                <a:cubicBezTo>
                  <a:pt x="7234" y="3054"/>
                  <a:pt x="7223" y="3065"/>
                  <a:pt x="7209" y="3066"/>
                </a:cubicBezTo>
                <a:cubicBezTo>
                  <a:pt x="7195" y="3066"/>
                  <a:pt x="7184" y="3055"/>
                  <a:pt x="7183" y="3041"/>
                </a:cubicBezTo>
                <a:close/>
                <a:moveTo>
                  <a:pt x="7158" y="2696"/>
                </a:moveTo>
                <a:lnTo>
                  <a:pt x="7142" y="2590"/>
                </a:lnTo>
                <a:lnTo>
                  <a:pt x="7134" y="2549"/>
                </a:lnTo>
                <a:cubicBezTo>
                  <a:pt x="7131" y="2536"/>
                  <a:pt x="7139" y="2522"/>
                  <a:pt x="7153" y="2519"/>
                </a:cubicBezTo>
                <a:cubicBezTo>
                  <a:pt x="7166" y="2517"/>
                  <a:pt x="7180" y="2525"/>
                  <a:pt x="7183" y="2539"/>
                </a:cubicBezTo>
                <a:lnTo>
                  <a:pt x="7192" y="2582"/>
                </a:lnTo>
                <a:lnTo>
                  <a:pt x="7208" y="2688"/>
                </a:lnTo>
                <a:cubicBezTo>
                  <a:pt x="7210" y="2702"/>
                  <a:pt x="7200" y="2714"/>
                  <a:pt x="7187" y="2716"/>
                </a:cubicBezTo>
                <a:cubicBezTo>
                  <a:pt x="7173" y="2719"/>
                  <a:pt x="7160" y="2709"/>
                  <a:pt x="7158" y="2696"/>
                </a:cubicBezTo>
                <a:close/>
                <a:moveTo>
                  <a:pt x="7087" y="2356"/>
                </a:moveTo>
                <a:lnTo>
                  <a:pt x="7071" y="2298"/>
                </a:lnTo>
                <a:lnTo>
                  <a:pt x="7043" y="2214"/>
                </a:lnTo>
                <a:cubicBezTo>
                  <a:pt x="7039" y="2201"/>
                  <a:pt x="7046" y="2187"/>
                  <a:pt x="7059" y="2183"/>
                </a:cubicBezTo>
                <a:cubicBezTo>
                  <a:pt x="7072" y="2178"/>
                  <a:pt x="7086" y="2185"/>
                  <a:pt x="7090" y="2198"/>
                </a:cubicBezTo>
                <a:lnTo>
                  <a:pt x="7120" y="2284"/>
                </a:lnTo>
                <a:lnTo>
                  <a:pt x="7136" y="2343"/>
                </a:lnTo>
                <a:cubicBezTo>
                  <a:pt x="7139" y="2356"/>
                  <a:pt x="7131" y="2370"/>
                  <a:pt x="7118" y="2374"/>
                </a:cubicBezTo>
                <a:cubicBezTo>
                  <a:pt x="7105" y="2377"/>
                  <a:pt x="7091" y="2369"/>
                  <a:pt x="7087" y="2356"/>
                </a:cubicBezTo>
                <a:close/>
                <a:moveTo>
                  <a:pt x="6972" y="2029"/>
                </a:moveTo>
                <a:lnTo>
                  <a:pt x="6967" y="2017"/>
                </a:lnTo>
                <a:lnTo>
                  <a:pt x="6910" y="1894"/>
                </a:lnTo>
                <a:cubicBezTo>
                  <a:pt x="6904" y="1882"/>
                  <a:pt x="6909" y="1867"/>
                  <a:pt x="6922" y="1861"/>
                </a:cubicBezTo>
                <a:cubicBezTo>
                  <a:pt x="6934" y="1855"/>
                  <a:pt x="6949" y="1860"/>
                  <a:pt x="6955" y="1873"/>
                </a:cubicBezTo>
                <a:lnTo>
                  <a:pt x="7014" y="1998"/>
                </a:lnTo>
                <a:lnTo>
                  <a:pt x="7019" y="2010"/>
                </a:lnTo>
                <a:cubicBezTo>
                  <a:pt x="7024" y="2023"/>
                  <a:pt x="7017" y="2038"/>
                  <a:pt x="7005" y="2043"/>
                </a:cubicBezTo>
                <a:cubicBezTo>
                  <a:pt x="6992" y="2048"/>
                  <a:pt x="6977" y="2042"/>
                  <a:pt x="6972" y="2029"/>
                </a:cubicBezTo>
                <a:close/>
                <a:moveTo>
                  <a:pt x="6816" y="1721"/>
                </a:moveTo>
                <a:lnTo>
                  <a:pt x="6754" y="1620"/>
                </a:lnTo>
                <a:lnTo>
                  <a:pt x="6737" y="1595"/>
                </a:lnTo>
                <a:cubicBezTo>
                  <a:pt x="6729" y="1583"/>
                  <a:pt x="6732" y="1568"/>
                  <a:pt x="6743" y="1560"/>
                </a:cubicBezTo>
                <a:cubicBezTo>
                  <a:pt x="6755" y="1552"/>
                  <a:pt x="6770" y="1555"/>
                  <a:pt x="6778" y="1567"/>
                </a:cubicBezTo>
                <a:lnTo>
                  <a:pt x="6796" y="1593"/>
                </a:lnTo>
                <a:lnTo>
                  <a:pt x="6858" y="1695"/>
                </a:lnTo>
                <a:cubicBezTo>
                  <a:pt x="6865" y="1707"/>
                  <a:pt x="6862" y="1722"/>
                  <a:pt x="6850" y="1729"/>
                </a:cubicBezTo>
                <a:cubicBezTo>
                  <a:pt x="6838" y="1736"/>
                  <a:pt x="6823" y="1733"/>
                  <a:pt x="6816" y="1721"/>
                </a:cubicBezTo>
                <a:close/>
                <a:moveTo>
                  <a:pt x="6621" y="1433"/>
                </a:moveTo>
                <a:lnTo>
                  <a:pt x="6576" y="1373"/>
                </a:lnTo>
                <a:lnTo>
                  <a:pt x="6528" y="1317"/>
                </a:lnTo>
                <a:cubicBezTo>
                  <a:pt x="6520" y="1307"/>
                  <a:pt x="6521" y="1291"/>
                  <a:pt x="6531" y="1282"/>
                </a:cubicBezTo>
                <a:cubicBezTo>
                  <a:pt x="6542" y="1273"/>
                  <a:pt x="6558" y="1274"/>
                  <a:pt x="6567" y="1285"/>
                </a:cubicBezTo>
                <a:lnTo>
                  <a:pt x="6615" y="1342"/>
                </a:lnTo>
                <a:lnTo>
                  <a:pt x="6661" y="1403"/>
                </a:lnTo>
                <a:cubicBezTo>
                  <a:pt x="6670" y="1414"/>
                  <a:pt x="6667" y="1429"/>
                  <a:pt x="6656" y="1438"/>
                </a:cubicBezTo>
                <a:cubicBezTo>
                  <a:pt x="6645" y="1446"/>
                  <a:pt x="6630" y="1444"/>
                  <a:pt x="6621" y="1433"/>
                </a:cubicBezTo>
                <a:close/>
                <a:moveTo>
                  <a:pt x="6396" y="1169"/>
                </a:moveTo>
                <a:lnTo>
                  <a:pt x="6370" y="1142"/>
                </a:lnTo>
                <a:lnTo>
                  <a:pt x="6290" y="1064"/>
                </a:lnTo>
                <a:cubicBezTo>
                  <a:pt x="6280" y="1055"/>
                  <a:pt x="6280" y="1039"/>
                  <a:pt x="6290" y="1029"/>
                </a:cubicBezTo>
                <a:cubicBezTo>
                  <a:pt x="6299" y="1019"/>
                  <a:pt x="6315" y="1019"/>
                  <a:pt x="6325" y="1028"/>
                </a:cubicBezTo>
                <a:lnTo>
                  <a:pt x="6407" y="1108"/>
                </a:lnTo>
                <a:lnTo>
                  <a:pt x="6432" y="1135"/>
                </a:lnTo>
                <a:cubicBezTo>
                  <a:pt x="6442" y="1145"/>
                  <a:pt x="6441" y="1161"/>
                  <a:pt x="6431" y="1170"/>
                </a:cubicBezTo>
                <a:cubicBezTo>
                  <a:pt x="6421" y="1180"/>
                  <a:pt x="6405" y="1179"/>
                  <a:pt x="6396" y="1169"/>
                </a:cubicBezTo>
                <a:close/>
                <a:moveTo>
                  <a:pt x="6143" y="931"/>
                </a:moveTo>
                <a:lnTo>
                  <a:pt x="6140" y="929"/>
                </a:lnTo>
                <a:lnTo>
                  <a:pt x="6027" y="838"/>
                </a:lnTo>
                <a:cubicBezTo>
                  <a:pt x="6016" y="829"/>
                  <a:pt x="6014" y="813"/>
                  <a:pt x="6023" y="803"/>
                </a:cubicBezTo>
                <a:cubicBezTo>
                  <a:pt x="6032" y="792"/>
                  <a:pt x="6047" y="790"/>
                  <a:pt x="6058" y="799"/>
                </a:cubicBezTo>
                <a:lnTo>
                  <a:pt x="6174" y="892"/>
                </a:lnTo>
                <a:lnTo>
                  <a:pt x="6176" y="894"/>
                </a:lnTo>
                <a:cubicBezTo>
                  <a:pt x="6186" y="903"/>
                  <a:pt x="6187" y="919"/>
                  <a:pt x="6178" y="929"/>
                </a:cubicBezTo>
                <a:cubicBezTo>
                  <a:pt x="6169" y="939"/>
                  <a:pt x="6153" y="940"/>
                  <a:pt x="6143" y="931"/>
                </a:cubicBezTo>
                <a:close/>
                <a:moveTo>
                  <a:pt x="5866" y="722"/>
                </a:moveTo>
                <a:lnTo>
                  <a:pt x="5752" y="646"/>
                </a:lnTo>
                <a:lnTo>
                  <a:pt x="5742" y="640"/>
                </a:lnTo>
                <a:cubicBezTo>
                  <a:pt x="5730" y="633"/>
                  <a:pt x="5726" y="618"/>
                  <a:pt x="5733" y="606"/>
                </a:cubicBezTo>
                <a:cubicBezTo>
                  <a:pt x="5740" y="594"/>
                  <a:pt x="5756" y="590"/>
                  <a:pt x="5768" y="597"/>
                </a:cubicBezTo>
                <a:lnTo>
                  <a:pt x="5780" y="605"/>
                </a:lnTo>
                <a:lnTo>
                  <a:pt x="5894" y="681"/>
                </a:lnTo>
                <a:cubicBezTo>
                  <a:pt x="5906" y="688"/>
                  <a:pt x="5909" y="704"/>
                  <a:pt x="5901" y="715"/>
                </a:cubicBezTo>
                <a:cubicBezTo>
                  <a:pt x="5893" y="727"/>
                  <a:pt x="5878" y="730"/>
                  <a:pt x="5866" y="722"/>
                </a:cubicBezTo>
                <a:close/>
                <a:moveTo>
                  <a:pt x="5570" y="540"/>
                </a:moveTo>
                <a:lnTo>
                  <a:pt x="5468" y="485"/>
                </a:lnTo>
                <a:lnTo>
                  <a:pt x="5438" y="471"/>
                </a:lnTo>
                <a:cubicBezTo>
                  <a:pt x="5426" y="465"/>
                  <a:pt x="5421" y="450"/>
                  <a:pt x="5427" y="437"/>
                </a:cubicBezTo>
                <a:cubicBezTo>
                  <a:pt x="5433" y="425"/>
                  <a:pt x="5448" y="420"/>
                  <a:pt x="5460" y="426"/>
                </a:cubicBezTo>
                <a:lnTo>
                  <a:pt x="5491" y="441"/>
                </a:lnTo>
                <a:lnTo>
                  <a:pt x="5594" y="496"/>
                </a:lnTo>
                <a:cubicBezTo>
                  <a:pt x="5606" y="503"/>
                  <a:pt x="5611" y="518"/>
                  <a:pt x="5604" y="530"/>
                </a:cubicBezTo>
                <a:cubicBezTo>
                  <a:pt x="5598" y="542"/>
                  <a:pt x="5582" y="547"/>
                  <a:pt x="5570" y="540"/>
                </a:cubicBezTo>
                <a:close/>
                <a:moveTo>
                  <a:pt x="5258" y="387"/>
                </a:moveTo>
                <a:lnTo>
                  <a:pt x="5165" y="346"/>
                </a:lnTo>
                <a:lnTo>
                  <a:pt x="5121" y="330"/>
                </a:lnTo>
                <a:cubicBezTo>
                  <a:pt x="5108" y="325"/>
                  <a:pt x="5101" y="311"/>
                  <a:pt x="5106" y="298"/>
                </a:cubicBezTo>
                <a:cubicBezTo>
                  <a:pt x="5111" y="285"/>
                  <a:pt x="5126" y="278"/>
                  <a:pt x="5138" y="283"/>
                </a:cubicBezTo>
                <a:lnTo>
                  <a:pt x="5184" y="301"/>
                </a:lnTo>
                <a:lnTo>
                  <a:pt x="5278" y="341"/>
                </a:lnTo>
                <a:cubicBezTo>
                  <a:pt x="5291" y="346"/>
                  <a:pt x="5297" y="361"/>
                  <a:pt x="5291" y="374"/>
                </a:cubicBezTo>
                <a:cubicBezTo>
                  <a:pt x="5286" y="386"/>
                  <a:pt x="5271" y="392"/>
                  <a:pt x="5258" y="387"/>
                </a:cubicBezTo>
                <a:close/>
                <a:moveTo>
                  <a:pt x="4934" y="262"/>
                </a:moveTo>
                <a:lnTo>
                  <a:pt x="4844" y="233"/>
                </a:lnTo>
                <a:lnTo>
                  <a:pt x="4792" y="218"/>
                </a:lnTo>
                <a:cubicBezTo>
                  <a:pt x="4778" y="214"/>
                  <a:pt x="4771" y="200"/>
                  <a:pt x="4774" y="187"/>
                </a:cubicBezTo>
                <a:cubicBezTo>
                  <a:pt x="4778" y="174"/>
                  <a:pt x="4792" y="166"/>
                  <a:pt x="4805" y="170"/>
                </a:cubicBezTo>
                <a:lnTo>
                  <a:pt x="4860" y="185"/>
                </a:lnTo>
                <a:lnTo>
                  <a:pt x="4949" y="215"/>
                </a:lnTo>
                <a:cubicBezTo>
                  <a:pt x="4962" y="219"/>
                  <a:pt x="4970" y="233"/>
                  <a:pt x="4965" y="246"/>
                </a:cubicBezTo>
                <a:cubicBezTo>
                  <a:pt x="4961" y="260"/>
                  <a:pt x="4947" y="267"/>
                  <a:pt x="4934" y="262"/>
                </a:cubicBezTo>
                <a:close/>
                <a:moveTo>
                  <a:pt x="4599" y="167"/>
                </a:moveTo>
                <a:lnTo>
                  <a:pt x="4509" y="145"/>
                </a:lnTo>
                <a:lnTo>
                  <a:pt x="4454" y="134"/>
                </a:lnTo>
                <a:cubicBezTo>
                  <a:pt x="4441" y="132"/>
                  <a:pt x="4432" y="119"/>
                  <a:pt x="4434" y="105"/>
                </a:cubicBezTo>
                <a:cubicBezTo>
                  <a:pt x="4437" y="91"/>
                  <a:pt x="4450" y="83"/>
                  <a:pt x="4464" y="85"/>
                </a:cubicBezTo>
                <a:lnTo>
                  <a:pt x="4520" y="96"/>
                </a:lnTo>
                <a:lnTo>
                  <a:pt x="4611" y="118"/>
                </a:lnTo>
                <a:cubicBezTo>
                  <a:pt x="4624" y="121"/>
                  <a:pt x="4633" y="135"/>
                  <a:pt x="4630" y="148"/>
                </a:cubicBezTo>
                <a:cubicBezTo>
                  <a:pt x="4626" y="162"/>
                  <a:pt x="4613" y="170"/>
                  <a:pt x="4599" y="167"/>
                </a:cubicBezTo>
                <a:close/>
                <a:moveTo>
                  <a:pt x="4258" y="100"/>
                </a:moveTo>
                <a:lnTo>
                  <a:pt x="4160" y="85"/>
                </a:lnTo>
                <a:lnTo>
                  <a:pt x="4111" y="80"/>
                </a:lnTo>
                <a:cubicBezTo>
                  <a:pt x="4097" y="78"/>
                  <a:pt x="4087" y="66"/>
                  <a:pt x="4088" y="52"/>
                </a:cubicBezTo>
                <a:cubicBezTo>
                  <a:pt x="4090" y="39"/>
                  <a:pt x="4102" y="29"/>
                  <a:pt x="4116" y="30"/>
                </a:cubicBezTo>
                <a:lnTo>
                  <a:pt x="4168" y="36"/>
                </a:lnTo>
                <a:lnTo>
                  <a:pt x="4266" y="50"/>
                </a:lnTo>
                <a:cubicBezTo>
                  <a:pt x="4279" y="52"/>
                  <a:pt x="4289" y="65"/>
                  <a:pt x="4287" y="79"/>
                </a:cubicBezTo>
                <a:cubicBezTo>
                  <a:pt x="4285" y="92"/>
                  <a:pt x="4272" y="102"/>
                  <a:pt x="4258" y="100"/>
                </a:cubicBezTo>
                <a:close/>
                <a:moveTo>
                  <a:pt x="3913" y="61"/>
                </a:moveTo>
                <a:lnTo>
                  <a:pt x="3800" y="54"/>
                </a:lnTo>
                <a:cubicBezTo>
                  <a:pt x="3787" y="54"/>
                  <a:pt x="3776" y="42"/>
                  <a:pt x="3777" y="28"/>
                </a:cubicBezTo>
                <a:cubicBezTo>
                  <a:pt x="3778" y="14"/>
                  <a:pt x="3790" y="4"/>
                  <a:pt x="3804" y="5"/>
                </a:cubicBezTo>
                <a:lnTo>
                  <a:pt x="3916" y="12"/>
                </a:lnTo>
                <a:cubicBezTo>
                  <a:pt x="3930" y="12"/>
                  <a:pt x="3940" y="24"/>
                  <a:pt x="3939" y="38"/>
                </a:cubicBezTo>
                <a:cubicBezTo>
                  <a:pt x="3938" y="52"/>
                  <a:pt x="3926" y="62"/>
                  <a:pt x="3913" y="61"/>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633680" y="1352520"/>
            <a:ext cx="1662120" cy="349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1911240" y="1341360"/>
            <a:ext cx="131940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tery</a:t>
            </a:r>
            <a:endParaRPr b="0" lang="en-US" sz="1800" spc="-1" strike="noStrike">
              <a:solidFill>
                <a:srgbClr val="000000"/>
              </a:solidFill>
              <a:latin typeface="Arial"/>
            </a:endParaRPr>
          </a:p>
        </p:txBody>
      </p:sp>
      <p:sp>
        <p:nvSpPr>
          <p:cNvPr id="1330" name=""/>
          <p:cNvSpPr/>
          <p:nvPr/>
        </p:nvSpPr>
        <p:spPr>
          <a:xfrm>
            <a:off x="2954160" y="2136600"/>
            <a:ext cx="4042080" cy="1620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1331" name=""/>
          <p:cNvSpPr/>
          <p:nvPr/>
        </p:nvSpPr>
        <p:spPr>
          <a:xfrm flipV="1">
            <a:off x="3151080" y="1991880"/>
            <a:ext cx="4145040" cy="176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332" name=""/>
          <p:cNvSpPr/>
          <p:nvPr/>
        </p:nvSpPr>
        <p:spPr>
          <a:xfrm>
            <a:off x="6977160" y="2152800"/>
            <a:ext cx="0" cy="4158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7261200" y="1992240"/>
            <a:ext cx="0" cy="73656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6357960" y="2568600"/>
            <a:ext cx="0" cy="1904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35" name=""/>
          <p:cNvGrpSpPr/>
          <p:nvPr/>
        </p:nvGrpSpPr>
        <p:grpSpPr>
          <a:xfrm>
            <a:off x="8024760" y="3587760"/>
            <a:ext cx="1528920" cy="1208880"/>
            <a:chOff x="8024760" y="3587760"/>
            <a:chExt cx="1528920" cy="1208880"/>
          </a:xfrm>
        </p:grpSpPr>
        <p:sp>
          <p:nvSpPr>
            <p:cNvPr id="1336" name=""/>
            <p:cNvSpPr/>
            <p:nvPr/>
          </p:nvSpPr>
          <p:spPr>
            <a:xfrm>
              <a:off x="8024760" y="3587760"/>
              <a:ext cx="1528920" cy="1208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8024760" y="3587760"/>
              <a:ext cx="1528920" cy="1208880"/>
            </a:xfrm>
            <a:prstGeom prst="rect">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8" name=""/>
          <p:cNvSpPr/>
          <p:nvPr/>
        </p:nvSpPr>
        <p:spPr>
          <a:xfrm>
            <a:off x="8151840" y="3933720"/>
            <a:ext cx="119844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Supply</a:t>
            </a:r>
            <a:endParaRPr b="0" lang="en-US" sz="1600" spc="-1" strike="noStrike">
              <a:solidFill>
                <a:srgbClr val="000000"/>
              </a:solidFill>
              <a:latin typeface="Arial"/>
            </a:endParaRPr>
          </a:p>
        </p:txBody>
      </p:sp>
      <p:sp>
        <p:nvSpPr>
          <p:cNvPr id="1339" name=""/>
          <p:cNvSpPr/>
          <p:nvPr/>
        </p:nvSpPr>
        <p:spPr>
          <a:xfrm flipH="1" flipV="1">
            <a:off x="3529080" y="3906360"/>
            <a:ext cx="79992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3454560" y="3360600"/>
            <a:ext cx="126504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1172520" y="3665520"/>
            <a:ext cx="1353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Up &amp; Dow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180mm – 50mm)</a:t>
            </a:r>
            <a:endParaRPr b="0" lang="en-US" sz="1300" spc="-1" strike="noStrike">
              <a:solidFill>
                <a:srgbClr val="000000"/>
              </a:solidFill>
              <a:latin typeface="Arial"/>
            </a:endParaRPr>
          </a:p>
        </p:txBody>
      </p:sp>
      <p:sp>
        <p:nvSpPr>
          <p:cNvPr id="1342" name=""/>
          <p:cNvSpPr/>
          <p:nvPr/>
        </p:nvSpPr>
        <p:spPr>
          <a:xfrm>
            <a:off x="4789800" y="3789360"/>
            <a:ext cx="1799640" cy="300600"/>
          </a:xfrm>
          <a:prstGeom prst="rect">
            <a:avLst/>
          </a:prstGeom>
          <a:noFill/>
          <a:ln w="0">
            <a:noFill/>
          </a:ln>
        </p:spPr>
        <p:style>
          <a:lnRef idx="0"/>
          <a:fillRef idx="0"/>
          <a:effectRef idx="0"/>
          <a:fontRef idx="minor"/>
        </p:style>
        <p:txBody>
          <a:bodyPr wrap="none"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000000"/>
                </a:solidFill>
                <a:latin typeface="Arial"/>
              </a:rPr>
              <a:t>IPT Secondary Coil</a:t>
            </a:r>
            <a:endParaRPr b="0" lang="en-US" sz="1400" spc="-1" strike="noStrike">
              <a:solidFill>
                <a:srgbClr val="000000"/>
              </a:solidFill>
              <a:latin typeface="Arial"/>
            </a:endParaRPr>
          </a:p>
        </p:txBody>
      </p:sp>
      <p:sp>
        <p:nvSpPr>
          <p:cNvPr id="1343" name=""/>
          <p:cNvSpPr/>
          <p:nvPr/>
        </p:nvSpPr>
        <p:spPr>
          <a:xfrm>
            <a:off x="2984400" y="3483000"/>
            <a:ext cx="238320" cy="204840"/>
          </a:xfrm>
          <a:prstGeom prst="upDownArrow">
            <a:avLst>
              <a:gd name="adj1" fmla="val 50000"/>
              <a:gd name="adj2" fmla="val 19907"/>
            </a:avLst>
          </a:prstGeom>
          <a:solidFill>
            <a:srgbClr val="99ff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1344" name=""/>
          <p:cNvGrpSpPr/>
          <p:nvPr/>
        </p:nvGrpSpPr>
        <p:grpSpPr>
          <a:xfrm>
            <a:off x="2612880" y="2852640"/>
            <a:ext cx="855000" cy="286920"/>
            <a:chOff x="2612880" y="2852640"/>
            <a:chExt cx="855000" cy="286920"/>
          </a:xfrm>
        </p:grpSpPr>
        <p:sp>
          <p:nvSpPr>
            <p:cNvPr id="1345" name=""/>
            <p:cNvSpPr/>
            <p:nvPr/>
          </p:nvSpPr>
          <p:spPr>
            <a:xfrm>
              <a:off x="2612880" y="2852640"/>
              <a:ext cx="855000" cy="286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2612880" y="2852640"/>
              <a:ext cx="855000" cy="2869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7" name=""/>
          <p:cNvSpPr/>
          <p:nvPr/>
        </p:nvSpPr>
        <p:spPr>
          <a:xfrm>
            <a:off x="2715840" y="2924280"/>
            <a:ext cx="65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rter</a:t>
            </a:r>
            <a:endParaRPr b="0" lang="en-US" sz="1400" spc="-1" strike="noStrike">
              <a:solidFill>
                <a:srgbClr val="000000"/>
              </a:solidFill>
              <a:latin typeface="Arial"/>
            </a:endParaRPr>
          </a:p>
        </p:txBody>
      </p:sp>
      <p:sp>
        <p:nvSpPr>
          <p:cNvPr id="1348" name=""/>
          <p:cNvSpPr/>
          <p:nvPr/>
        </p:nvSpPr>
        <p:spPr>
          <a:xfrm>
            <a:off x="6746760" y="3689280"/>
            <a:ext cx="7034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or</a:t>
            </a:r>
            <a:endParaRPr b="0" lang="en-US" sz="1600" spc="-1" strike="noStrike">
              <a:solidFill>
                <a:srgbClr val="000000"/>
              </a:solidFill>
              <a:latin typeface="Arial"/>
            </a:endParaRPr>
          </a:p>
        </p:txBody>
      </p:sp>
      <p:sp>
        <p:nvSpPr>
          <p:cNvPr id="1349" name=""/>
          <p:cNvSpPr/>
          <p:nvPr/>
        </p:nvSpPr>
        <p:spPr>
          <a:xfrm>
            <a:off x="6513480" y="3284640"/>
            <a:ext cx="155520" cy="360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flipH="1">
            <a:off x="7214760" y="2637000"/>
            <a:ext cx="468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4389480" y="4076640"/>
            <a:ext cx="1555560" cy="300600"/>
          </a:xfrm>
          <a:prstGeom prst="rect">
            <a:avLst/>
          </a:prstGeom>
          <a:noFill/>
          <a:ln w="0">
            <a:noFill/>
          </a:ln>
        </p:spPr>
        <p:style>
          <a:lnRef idx="0"/>
          <a:fillRef idx="0"/>
          <a:effectRef idx="0"/>
          <a:fontRef idx="minor"/>
        </p:style>
        <p:txBody>
          <a:bodyPr wrap="none"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000000"/>
                </a:solidFill>
                <a:latin typeface="Arial"/>
              </a:rPr>
              <a:t>IPT Primary Coil</a:t>
            </a:r>
            <a:endParaRPr b="0" lang="en-US" sz="1400" spc="-1" strike="noStrike">
              <a:solidFill>
                <a:srgbClr val="000000"/>
              </a:solidFill>
              <a:latin typeface="Arial"/>
            </a:endParaRPr>
          </a:p>
        </p:txBody>
      </p:sp>
      <p:sp>
        <p:nvSpPr>
          <p:cNvPr id="1352" name=""/>
          <p:cNvSpPr/>
          <p:nvPr/>
        </p:nvSpPr>
        <p:spPr>
          <a:xfrm flipV="1">
            <a:off x="1911240" y="4005000"/>
            <a:ext cx="7794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3079800" y="5445000"/>
            <a:ext cx="3744720" cy="398880"/>
          </a:xfrm>
          <a:prstGeom prst="rect">
            <a:avLst/>
          </a:prstGeom>
          <a:solidFill>
            <a:srgbClr val="dddddd"/>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ig Power Quick Charge</a:t>
            </a:r>
            <a:endParaRPr b="0" lang="en-US" sz="2000" spc="-1" strike="noStrike">
              <a:solidFill>
                <a:srgbClr val="000000"/>
              </a:solidFill>
              <a:latin typeface="Arial"/>
            </a:endParaRPr>
          </a:p>
        </p:txBody>
      </p:sp>
      <p:pic>
        <p:nvPicPr>
          <p:cNvPr id="1354" name="" descr=""/>
          <p:cNvPicPr/>
          <p:nvPr/>
        </p:nvPicPr>
        <p:blipFill>
          <a:blip r:embed="rId4"/>
          <a:stretch/>
        </p:blipFill>
        <p:spPr>
          <a:xfrm>
            <a:off x="193680" y="4653000"/>
            <a:ext cx="2652840" cy="1571760"/>
          </a:xfrm>
          <a:prstGeom prst="rect">
            <a:avLst/>
          </a:prstGeom>
          <a:ln w="0">
            <a:noFill/>
          </a:ln>
          <a:effectLst>
            <a:outerShdw dist="17819" dir="2700000" blurRad="0" rotWithShape="0">
              <a:srgbClr val="808080"/>
            </a:outerShdw>
          </a:effectLst>
        </p:spPr>
      </p:pic>
      <p:sp>
        <p:nvSpPr>
          <p:cNvPr id="1355" name=""/>
          <p:cNvSpPr/>
          <p:nvPr/>
        </p:nvSpPr>
        <p:spPr>
          <a:xfrm>
            <a:off x="1631880" y="6648480"/>
            <a:ext cx="10587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6" name=""/>
          <p:cNvSpPr/>
          <p:nvPr/>
        </p:nvSpPr>
        <p:spPr>
          <a:xfrm>
            <a:off x="1631880" y="6648480"/>
            <a:ext cx="10587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7" name=""/>
          <p:cNvSpPr/>
          <p:nvPr/>
        </p:nvSpPr>
        <p:spPr>
          <a:xfrm>
            <a:off x="1631880" y="6648480"/>
            <a:ext cx="10587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8" name=""/>
          <p:cNvSpPr/>
          <p:nvPr/>
        </p:nvSpPr>
        <p:spPr>
          <a:xfrm>
            <a:off x="3122640" y="4869000"/>
            <a:ext cx="27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oard Secondary Coil</a:t>
            </a:r>
            <a:endParaRPr b="0" lang="en-US" sz="1800" spc="-1" strike="noStrike">
              <a:solidFill>
                <a:srgbClr val="000000"/>
              </a:solidFill>
              <a:latin typeface="Arial"/>
            </a:endParaRPr>
          </a:p>
        </p:txBody>
      </p:sp>
      <p:sp>
        <p:nvSpPr>
          <p:cNvPr id="1359" name=""/>
          <p:cNvSpPr/>
          <p:nvPr/>
        </p:nvSpPr>
        <p:spPr>
          <a:xfrm>
            <a:off x="2600280" y="6237360"/>
            <a:ext cx="329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rete-covered Primary Coil</a:t>
            </a:r>
            <a:endParaRPr b="0" lang="en-US" sz="1800" spc="-1" strike="noStrike">
              <a:solidFill>
                <a:srgbClr val="000000"/>
              </a:solidFill>
              <a:latin typeface="Arial"/>
            </a:endParaRPr>
          </a:p>
        </p:txBody>
      </p:sp>
      <p:sp>
        <p:nvSpPr>
          <p:cNvPr id="1360" name=""/>
          <p:cNvSpPr/>
          <p:nvPr/>
        </p:nvSpPr>
        <p:spPr>
          <a:xfrm flipV="1">
            <a:off x="2222640" y="5084280"/>
            <a:ext cx="857160" cy="289080"/>
          </a:xfrm>
          <a:prstGeom prst="line">
            <a:avLst/>
          </a:prstGeom>
          <a:ln w="28440">
            <a:solidFill>
              <a:srgbClr val="ff505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1600200" y="6022800"/>
            <a:ext cx="934920" cy="358920"/>
          </a:xfrm>
          <a:prstGeom prst="line">
            <a:avLst/>
          </a:prstGeom>
          <a:ln w="28440">
            <a:solidFill>
              <a:srgbClr val="ff505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2" name="" descr=""/>
          <p:cNvPicPr/>
          <p:nvPr/>
        </p:nvPicPr>
        <p:blipFill>
          <a:blip r:embed="rId5"/>
          <a:stretch/>
        </p:blipFill>
        <p:spPr>
          <a:xfrm>
            <a:off x="7215120" y="5373720"/>
            <a:ext cx="2495520" cy="116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3" name="" descr=""/>
          <p:cNvPicPr/>
          <p:nvPr/>
        </p:nvPicPr>
        <p:blipFill>
          <a:blip r:embed="rId1"/>
          <a:stretch/>
        </p:blipFill>
        <p:spPr>
          <a:xfrm>
            <a:off x="103320" y="1461960"/>
            <a:ext cx="9710640" cy="3848400"/>
          </a:xfrm>
          <a:prstGeom prst="rect">
            <a:avLst/>
          </a:prstGeom>
          <a:ln w="0">
            <a:noFill/>
          </a:ln>
        </p:spPr>
      </p:pic>
      <p:sp>
        <p:nvSpPr>
          <p:cNvPr id="1364" name=""/>
          <p:cNvSpPr/>
          <p:nvPr/>
        </p:nvSpPr>
        <p:spPr>
          <a:xfrm>
            <a:off x="0" y="12600"/>
            <a:ext cx="7839000" cy="5184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r>
              <a:rPr b="0" lang="zh-CN" sz="2800" spc="-1" strike="noStrike">
                <a:solidFill>
                  <a:srgbClr val="ffffff"/>
                </a:solidFill>
                <a:latin typeface="Tahoma"/>
              </a:rPr>
              <a:t>実証試験概要　【走行路】</a:t>
            </a:r>
            <a:endParaRPr b="0" lang="en-US" sz="2800" spc="-1" strike="noStrike">
              <a:solidFill>
                <a:srgbClr val="000000"/>
              </a:solidFill>
              <a:latin typeface="Arial"/>
            </a:endParaRPr>
          </a:p>
        </p:txBody>
      </p:sp>
      <p:sp>
        <p:nvSpPr>
          <p:cNvPr id="1365" name=""/>
          <p:cNvSpPr/>
          <p:nvPr/>
        </p:nvSpPr>
        <p:spPr>
          <a:xfrm>
            <a:off x="1182600" y="2120760"/>
            <a:ext cx="6356520" cy="2095560"/>
          </a:xfrm>
          <a:custGeom>
            <a:avLst/>
            <a:gdLst/>
            <a:ahLst/>
            <a:rect l="l" t="t" r="r" b="b"/>
            <a:pathLst>
              <a:path w="3696" h="1320">
                <a:moveTo>
                  <a:pt x="0" y="544"/>
                </a:moveTo>
                <a:cubicBezTo>
                  <a:pt x="90" y="562"/>
                  <a:pt x="423" y="630"/>
                  <a:pt x="538" y="670"/>
                </a:cubicBezTo>
                <a:cubicBezTo>
                  <a:pt x="653" y="710"/>
                  <a:pt x="690" y="722"/>
                  <a:pt x="688" y="784"/>
                </a:cubicBezTo>
                <a:cubicBezTo>
                  <a:pt x="686" y="846"/>
                  <a:pt x="536" y="976"/>
                  <a:pt x="528" y="1040"/>
                </a:cubicBezTo>
                <a:cubicBezTo>
                  <a:pt x="520" y="1104"/>
                  <a:pt x="528" y="1131"/>
                  <a:pt x="640" y="1168"/>
                </a:cubicBezTo>
                <a:cubicBezTo>
                  <a:pt x="752" y="1205"/>
                  <a:pt x="1061" y="1243"/>
                  <a:pt x="1200" y="1264"/>
                </a:cubicBezTo>
                <a:cubicBezTo>
                  <a:pt x="1339" y="1285"/>
                  <a:pt x="1381" y="1320"/>
                  <a:pt x="1472" y="1296"/>
                </a:cubicBezTo>
                <a:cubicBezTo>
                  <a:pt x="1563" y="1272"/>
                  <a:pt x="1429" y="1309"/>
                  <a:pt x="1744" y="1120"/>
                </a:cubicBezTo>
                <a:cubicBezTo>
                  <a:pt x="2059" y="931"/>
                  <a:pt x="3045" y="320"/>
                  <a:pt x="3360" y="160"/>
                </a:cubicBezTo>
                <a:cubicBezTo>
                  <a:pt x="3675" y="0"/>
                  <a:pt x="3576" y="144"/>
                  <a:pt x="3632" y="160"/>
                </a:cubicBezTo>
                <a:cubicBezTo>
                  <a:pt x="3688" y="176"/>
                  <a:pt x="3683" y="236"/>
                  <a:pt x="3696" y="256"/>
                </a:cubicBezTo>
              </a:path>
            </a:pathLst>
          </a:custGeom>
          <a:noFill/>
          <a:ln w="95400">
            <a:solidFill>
              <a:srgbClr val="0000ff"/>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366" name=""/>
          <p:cNvSpPr/>
          <p:nvPr/>
        </p:nvSpPr>
        <p:spPr>
          <a:xfrm>
            <a:off x="7020000" y="2637000"/>
            <a:ext cx="1271520" cy="1338120"/>
          </a:xfrm>
          <a:custGeom>
            <a:avLst/>
            <a:gdLst/>
            <a:ahLst/>
            <a:rect l="l" t="t" r="r" b="b"/>
            <a:pathLst>
              <a:path w="739" h="843">
                <a:moveTo>
                  <a:pt x="605" y="338"/>
                </a:moveTo>
                <a:cubicBezTo>
                  <a:pt x="556" y="252"/>
                  <a:pt x="467" y="130"/>
                  <a:pt x="414" y="76"/>
                </a:cubicBezTo>
                <a:cubicBezTo>
                  <a:pt x="362" y="21"/>
                  <a:pt x="351" y="0"/>
                  <a:pt x="289" y="12"/>
                </a:cubicBezTo>
                <a:cubicBezTo>
                  <a:pt x="227" y="23"/>
                  <a:pt x="80" y="97"/>
                  <a:pt x="40" y="147"/>
                </a:cubicBezTo>
                <a:cubicBezTo>
                  <a:pt x="0" y="197"/>
                  <a:pt x="21" y="240"/>
                  <a:pt x="50" y="316"/>
                </a:cubicBezTo>
                <a:cubicBezTo>
                  <a:pt x="79" y="392"/>
                  <a:pt x="160" y="518"/>
                  <a:pt x="214" y="603"/>
                </a:cubicBezTo>
                <a:cubicBezTo>
                  <a:pt x="268" y="688"/>
                  <a:pt x="307" y="811"/>
                  <a:pt x="374" y="827"/>
                </a:cubicBezTo>
                <a:cubicBezTo>
                  <a:pt x="441" y="843"/>
                  <a:pt x="555" y="713"/>
                  <a:pt x="614" y="699"/>
                </a:cubicBezTo>
                <a:cubicBezTo>
                  <a:pt x="673" y="685"/>
                  <a:pt x="713" y="768"/>
                  <a:pt x="726" y="741"/>
                </a:cubicBezTo>
                <a:cubicBezTo>
                  <a:pt x="739" y="714"/>
                  <a:pt x="714" y="606"/>
                  <a:pt x="694" y="539"/>
                </a:cubicBezTo>
                <a:cubicBezTo>
                  <a:pt x="674" y="472"/>
                  <a:pt x="624" y="380"/>
                  <a:pt x="605" y="338"/>
                </a:cubicBezTo>
                <a:close/>
              </a:path>
            </a:pathLst>
          </a:custGeom>
          <a:noFill/>
          <a:ln w="98280">
            <a:solidFill>
              <a:srgbClr val="ff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367" name=""/>
          <p:cNvSpPr/>
          <p:nvPr/>
        </p:nvSpPr>
        <p:spPr>
          <a:xfrm>
            <a:off x="2846520" y="2852640"/>
            <a:ext cx="2282760" cy="304920"/>
          </a:xfrm>
          <a:prstGeom prst="rect">
            <a:avLst/>
          </a:prstGeom>
          <a:solidFill>
            <a:srgbClr val="ffffff">
              <a:alpha val="90000"/>
            </a:srgbClr>
          </a:solidFill>
          <a:ln w="9360">
            <a:solidFill>
              <a:srgbClr val="0000ff"/>
            </a:solidFill>
            <a:miter/>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8.8km / RT by HV drive</a:t>
            </a:r>
            <a:endParaRPr b="0" lang="en-US" sz="1400" spc="-1" strike="noStrike">
              <a:solidFill>
                <a:srgbClr val="000000"/>
              </a:solidFill>
              <a:latin typeface="Arial"/>
            </a:endParaRPr>
          </a:p>
        </p:txBody>
      </p:sp>
      <p:sp>
        <p:nvSpPr>
          <p:cNvPr id="1368" name=""/>
          <p:cNvSpPr/>
          <p:nvPr/>
        </p:nvSpPr>
        <p:spPr>
          <a:xfrm>
            <a:off x="584280" y="2852640"/>
            <a:ext cx="858600" cy="363600"/>
          </a:xfrm>
          <a:prstGeom prst="ellipse">
            <a:avLst/>
          </a:prstGeom>
          <a:solidFill>
            <a:srgbClr val="ff0000"/>
          </a:solidFill>
          <a:ln w="0">
            <a:noFill/>
          </a:ln>
        </p:spPr>
        <p:style>
          <a:lnRef idx="0"/>
          <a:fillRef idx="0"/>
          <a:effectRef idx="0"/>
          <a:fontRef idx="minor"/>
        </p:style>
        <p:txBody>
          <a:bodyPr wrap="none"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pot</a:t>
            </a:r>
            <a:endParaRPr b="0" lang="en-US" sz="1600" spc="-1" strike="noStrike">
              <a:solidFill>
                <a:srgbClr val="000000"/>
              </a:solidFill>
              <a:latin typeface="Arial"/>
            </a:endParaRPr>
          </a:p>
        </p:txBody>
      </p:sp>
      <p:sp>
        <p:nvSpPr>
          <p:cNvPr id="1369" name=""/>
          <p:cNvSpPr/>
          <p:nvPr/>
        </p:nvSpPr>
        <p:spPr>
          <a:xfrm>
            <a:off x="544680" y="4041720"/>
            <a:ext cx="1912680" cy="395280"/>
          </a:xfrm>
          <a:custGeom>
            <a:avLst/>
            <a:gdLst/>
            <a:ahLst/>
            <a:rect l="l" t="t" r="r" b="b"/>
            <a:pathLst>
              <a:path w="21600" h="21600">
                <a:moveTo>
                  <a:pt x="0" y="0"/>
                </a:moveTo>
                <a:lnTo>
                  <a:pt x="21600" y="0"/>
                </a:lnTo>
                <a:lnTo>
                  <a:pt x="21600" y="21600"/>
                </a:lnTo>
                <a:lnTo>
                  <a:pt x="0" y="21600"/>
                </a:lnTo>
                <a:close/>
              </a:path>
              <a:path fill="none" w="21600" h="21600">
                <a:moveTo>
                  <a:pt x="-932" y="6246"/>
                </a:moveTo>
                <a:lnTo>
                  <a:pt x="-2583" y="6246"/>
                </a:lnTo>
                <a:lnTo>
                  <a:pt x="-2583" y="-21080"/>
                </a:lnTo>
                <a:lnTo>
                  <a:pt x="4584" y="-48405"/>
                </a:lnTo>
              </a:path>
            </a:pathLst>
          </a:custGeom>
          <a:solidFill>
            <a:srgbClr val="ffffff"/>
          </a:solidFill>
          <a:ln w="25560">
            <a:solidFill>
              <a:srgbClr val="000000"/>
            </a:solidFill>
            <a:miter/>
            <a:headEnd len="med" type="triangle" w="med"/>
          </a:ln>
        </p:spPr>
        <p:style>
          <a:lnRef idx="0"/>
          <a:fillRef idx="0"/>
          <a:effectRef idx="0"/>
          <a:fontRef idx="minor"/>
        </p:style>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ge Station</a:t>
            </a:r>
            <a:endParaRPr b="0" lang="en-US" sz="1600" spc="-1" strike="noStrike">
              <a:solidFill>
                <a:srgbClr val="000000"/>
              </a:solidFill>
              <a:latin typeface="Arial"/>
            </a:endParaRPr>
          </a:p>
        </p:txBody>
      </p:sp>
      <p:sp>
        <p:nvSpPr>
          <p:cNvPr id="1370" name=""/>
          <p:cNvSpPr/>
          <p:nvPr/>
        </p:nvSpPr>
        <p:spPr>
          <a:xfrm>
            <a:off x="3900600" y="5013360"/>
            <a:ext cx="1979640" cy="1116000"/>
          </a:xfrm>
          <a:custGeom>
            <a:avLst/>
            <a:gdLst/>
            <a:ahLst/>
            <a:rect l="l" t="t" r="r" b="b"/>
            <a:pathLst>
              <a:path w="21600" h="21600">
                <a:moveTo>
                  <a:pt x="0" y="0"/>
                </a:moveTo>
                <a:lnTo>
                  <a:pt x="21600" y="0"/>
                </a:lnTo>
                <a:lnTo>
                  <a:pt x="21600" y="21600"/>
                </a:lnTo>
                <a:lnTo>
                  <a:pt x="0" y="21600"/>
                </a:lnTo>
                <a:close/>
              </a:path>
              <a:path fill="none" w="21600" h="21600">
                <a:moveTo>
                  <a:pt x="-901" y="2212"/>
                </a:moveTo>
                <a:lnTo>
                  <a:pt x="-2421" y="2212"/>
                </a:lnTo>
                <a:lnTo>
                  <a:pt x="-2421" y="-12259"/>
                </a:lnTo>
                <a:lnTo>
                  <a:pt x="36163" y="-26762"/>
                </a:lnTo>
              </a:path>
            </a:pathLst>
          </a:custGeom>
          <a:solidFill>
            <a:srgbClr val="ffffff"/>
          </a:solidFill>
          <a:ln w="25560">
            <a:solidFill>
              <a:srgbClr val="000000"/>
            </a:solidFill>
            <a:miter/>
            <a:headEnd len="med" type="triangle" w="med"/>
          </a:ln>
        </p:spPr>
        <p:style>
          <a:lnRef idx="0"/>
          <a:fillRef idx="0"/>
          <a:effectRef idx="0"/>
          <a:fontRef idx="minor"/>
        </p:style>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第一ターミナル</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写真</a:t>
            </a:r>
            <a:endParaRPr b="0" lang="en-US" sz="1600" spc="-1" strike="noStrike">
              <a:solidFill>
                <a:srgbClr val="000000"/>
              </a:solidFill>
              <a:latin typeface="Arial"/>
            </a:endParaRPr>
          </a:p>
        </p:txBody>
      </p:sp>
      <p:sp>
        <p:nvSpPr>
          <p:cNvPr id="1371" name=""/>
          <p:cNvSpPr/>
          <p:nvPr/>
        </p:nvSpPr>
        <p:spPr>
          <a:xfrm>
            <a:off x="7488360" y="5049720"/>
            <a:ext cx="2028600" cy="1116000"/>
          </a:xfrm>
          <a:custGeom>
            <a:avLst/>
            <a:gdLst/>
            <a:ahLst/>
            <a:rect l="l" t="t" r="r" b="b"/>
            <a:pathLst>
              <a:path w="21600" h="21600">
                <a:moveTo>
                  <a:pt x="0" y="0"/>
                </a:moveTo>
                <a:lnTo>
                  <a:pt x="21600" y="0"/>
                </a:lnTo>
                <a:lnTo>
                  <a:pt x="21600" y="21600"/>
                </a:lnTo>
                <a:lnTo>
                  <a:pt x="0" y="21600"/>
                </a:lnTo>
                <a:close/>
              </a:path>
              <a:path fill="none" w="21600" h="21600">
                <a:moveTo>
                  <a:pt x="22479" y="2212"/>
                </a:moveTo>
                <a:lnTo>
                  <a:pt x="23723" y="2212"/>
                </a:lnTo>
                <a:lnTo>
                  <a:pt x="23723" y="-10078"/>
                </a:lnTo>
                <a:lnTo>
                  <a:pt x="11569" y="-22399"/>
                </a:lnTo>
              </a:path>
            </a:pathLst>
          </a:custGeom>
          <a:solidFill>
            <a:srgbClr val="ffffff"/>
          </a:solidFill>
          <a:ln w="25560">
            <a:solidFill>
              <a:srgbClr val="000000"/>
            </a:solidFill>
            <a:miter/>
            <a:headEnd len="med" type="triangle" w="med"/>
          </a:ln>
        </p:spPr>
        <p:style>
          <a:lnRef idx="0"/>
          <a:fillRef idx="0"/>
          <a:effectRef idx="0"/>
          <a:fontRef idx="minor"/>
        </p:style>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国際線ターミナル</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写真</a:t>
            </a:r>
            <a:endParaRPr b="0" lang="en-US" sz="1600" spc="-1" strike="noStrike">
              <a:solidFill>
                <a:srgbClr val="000000"/>
              </a:solidFill>
              <a:latin typeface="Arial"/>
            </a:endParaRPr>
          </a:p>
        </p:txBody>
      </p:sp>
      <p:sp>
        <p:nvSpPr>
          <p:cNvPr id="1372" name=""/>
          <p:cNvSpPr/>
          <p:nvPr/>
        </p:nvSpPr>
        <p:spPr>
          <a:xfrm>
            <a:off x="5967360" y="3933720"/>
            <a:ext cx="1560600" cy="578520"/>
          </a:xfrm>
          <a:prstGeom prst="rect">
            <a:avLst/>
          </a:prstGeom>
          <a:solidFill>
            <a:srgbClr val="ffffff">
              <a:alpha val="90000"/>
            </a:srgbClr>
          </a:solidFill>
          <a:ln w="12600">
            <a:solidFill>
              <a:srgbClr val="ff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1km / lap by EV drive</a:t>
            </a:r>
            <a:endParaRPr b="0" lang="en-US" sz="1600" spc="-1" strike="noStrike">
              <a:solidFill>
                <a:srgbClr val="000000"/>
              </a:solidFill>
              <a:latin typeface="Arial"/>
            </a:endParaRPr>
          </a:p>
        </p:txBody>
      </p:sp>
      <p:sp>
        <p:nvSpPr>
          <p:cNvPr id="1373" name=""/>
          <p:cNvSpPr/>
          <p:nvPr/>
        </p:nvSpPr>
        <p:spPr>
          <a:xfrm>
            <a:off x="272880" y="0"/>
            <a:ext cx="52261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7c8"/>
                </a:solidFill>
                <a:latin typeface="Arial"/>
              </a:rPr>
              <a:t>Driving Demonstration Test</a:t>
            </a:r>
            <a:endParaRPr b="0" lang="en-US" sz="2400" spc="-1" strike="noStrike">
              <a:solidFill>
                <a:srgbClr val="000000"/>
              </a:solidFill>
              <a:latin typeface="Arial"/>
            </a:endParaRPr>
          </a:p>
        </p:txBody>
      </p:sp>
      <p:pic>
        <p:nvPicPr>
          <p:cNvPr id="1374" name="" descr=""/>
          <p:cNvPicPr/>
          <p:nvPr/>
        </p:nvPicPr>
        <p:blipFill>
          <a:blip r:embed="rId2"/>
          <a:stretch/>
        </p:blipFill>
        <p:spPr>
          <a:xfrm>
            <a:off x="8151840" y="1125360"/>
            <a:ext cx="1628640" cy="2087640"/>
          </a:xfrm>
          <a:prstGeom prst="rect">
            <a:avLst/>
          </a:prstGeom>
          <a:ln w="0">
            <a:noFill/>
          </a:ln>
        </p:spPr>
      </p:pic>
      <p:pic>
        <p:nvPicPr>
          <p:cNvPr id="1375" name="" descr=""/>
          <p:cNvPicPr/>
          <p:nvPr/>
        </p:nvPicPr>
        <p:blipFill>
          <a:blip r:embed="rId3"/>
          <a:stretch/>
        </p:blipFill>
        <p:spPr>
          <a:xfrm>
            <a:off x="6769080" y="4605480"/>
            <a:ext cx="3044880" cy="1619280"/>
          </a:xfrm>
          <a:prstGeom prst="rect">
            <a:avLst/>
          </a:prstGeom>
          <a:ln w="0">
            <a:noFill/>
          </a:ln>
        </p:spPr>
      </p:pic>
      <p:pic>
        <p:nvPicPr>
          <p:cNvPr id="1376" name="" descr=""/>
          <p:cNvPicPr/>
          <p:nvPr/>
        </p:nvPicPr>
        <p:blipFill>
          <a:blip r:embed="rId4"/>
          <a:stretch/>
        </p:blipFill>
        <p:spPr>
          <a:xfrm>
            <a:off x="3664080" y="4600440"/>
            <a:ext cx="2950920" cy="1600200"/>
          </a:xfrm>
          <a:prstGeom prst="rect">
            <a:avLst/>
          </a:prstGeom>
          <a:ln w="0">
            <a:noFill/>
          </a:ln>
        </p:spPr>
      </p:pic>
      <p:pic>
        <p:nvPicPr>
          <p:cNvPr id="1377" name="" descr=""/>
          <p:cNvPicPr/>
          <p:nvPr/>
        </p:nvPicPr>
        <p:blipFill>
          <a:blip r:embed="rId5"/>
          <a:stretch/>
        </p:blipFill>
        <p:spPr>
          <a:xfrm>
            <a:off x="93600" y="4605480"/>
            <a:ext cx="3446640" cy="1590480"/>
          </a:xfrm>
          <a:prstGeom prst="rect">
            <a:avLst/>
          </a:prstGeom>
          <a:ln w="0">
            <a:noFill/>
          </a:ln>
        </p:spPr>
      </p:pic>
      <p:sp>
        <p:nvSpPr>
          <p:cNvPr id="1378" name=""/>
          <p:cNvSpPr/>
          <p:nvPr/>
        </p:nvSpPr>
        <p:spPr>
          <a:xfrm>
            <a:off x="6594480" y="4600440"/>
            <a:ext cx="0" cy="1586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164880" y="1052640"/>
            <a:ext cx="294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aneda Airport Shuttle B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60" y="-360"/>
            <a:ext cx="7605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Maximum improvement: “Top runner approach”</a:t>
            </a:r>
            <a:endParaRPr b="0" lang="en-US" sz="2800" spc="-1" strike="noStrike">
              <a:solidFill>
                <a:srgbClr val="4087c8"/>
              </a:solidFill>
              <a:latin typeface="HGP創英角ｺﾞｼｯｸUB"/>
            </a:endParaRPr>
          </a:p>
        </p:txBody>
      </p:sp>
      <p:sp>
        <p:nvSpPr>
          <p:cNvPr id="231" name=""/>
          <p:cNvSpPr/>
          <p:nvPr/>
        </p:nvSpPr>
        <p:spPr>
          <a:xfrm>
            <a:off x="5429160" y="2801880"/>
            <a:ext cx="432000" cy="2087640"/>
          </a:xfrm>
          <a:custGeom>
            <a:avLst/>
            <a:gdLst/>
            <a:ahLst/>
            <a:rect l="l" t="t" r="r" b="b"/>
            <a:pathLst>
              <a:path w="272" h="1134">
                <a:moveTo>
                  <a:pt x="0" y="0"/>
                </a:moveTo>
                <a:cubicBezTo>
                  <a:pt x="0" y="87"/>
                  <a:pt x="1" y="174"/>
                  <a:pt x="46" y="272"/>
                </a:cubicBezTo>
                <a:cubicBezTo>
                  <a:pt x="91" y="370"/>
                  <a:pt x="272" y="477"/>
                  <a:pt x="272" y="590"/>
                </a:cubicBezTo>
                <a:cubicBezTo>
                  <a:pt x="272" y="703"/>
                  <a:pt x="91" y="861"/>
                  <a:pt x="46" y="952"/>
                </a:cubicBezTo>
                <a:cubicBezTo>
                  <a:pt x="1" y="1043"/>
                  <a:pt x="0" y="1088"/>
                  <a:pt x="0" y="1134"/>
                </a:cubicBezTo>
                <a:cubicBezTo>
                  <a:pt x="0" y="1134"/>
                  <a:pt x="0" y="0"/>
                  <a:pt x="0" y="0"/>
                </a:cubicBezTo>
                <a:close/>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828800" y="4025880"/>
            <a:ext cx="431640" cy="1789200"/>
          </a:xfrm>
          <a:custGeom>
            <a:avLst/>
            <a:gdLst/>
            <a:ahLst/>
            <a:rect l="l" t="t" r="r" b="b"/>
            <a:pathLst>
              <a:path w="272" h="1134">
                <a:moveTo>
                  <a:pt x="0" y="0"/>
                </a:moveTo>
                <a:cubicBezTo>
                  <a:pt x="0" y="87"/>
                  <a:pt x="1" y="174"/>
                  <a:pt x="46" y="272"/>
                </a:cubicBezTo>
                <a:cubicBezTo>
                  <a:pt x="91" y="370"/>
                  <a:pt x="272" y="477"/>
                  <a:pt x="272" y="590"/>
                </a:cubicBezTo>
                <a:cubicBezTo>
                  <a:pt x="272" y="703"/>
                  <a:pt x="91" y="861"/>
                  <a:pt x="46" y="952"/>
                </a:cubicBezTo>
                <a:cubicBezTo>
                  <a:pt x="1" y="1043"/>
                  <a:pt x="0" y="1088"/>
                  <a:pt x="0" y="1134"/>
                </a:cubicBezTo>
                <a:cubicBezTo>
                  <a:pt x="0" y="1134"/>
                  <a:pt x="0" y="0"/>
                  <a:pt x="0" y="0"/>
                </a:cubicBezTo>
                <a:close/>
              </a:path>
            </a:pathLst>
          </a:custGeom>
          <a:solidFill>
            <a:srgbClr val="ffcc99"/>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88800" y="6391440"/>
            <a:ext cx="720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390240" y="2441520"/>
            <a:ext cx="4680" cy="394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1828800" y="2441520"/>
            <a:ext cx="6480" cy="394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5429160" y="2441520"/>
            <a:ext cx="6480" cy="394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355040" y="6373800"/>
            <a:ext cx="895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Year</a:t>
            </a:r>
            <a:endParaRPr b="0" lang="en-US" sz="1200" spc="-1" strike="noStrike">
              <a:solidFill>
                <a:srgbClr val="000000"/>
              </a:solidFill>
              <a:latin typeface="Arial"/>
            </a:endParaRPr>
          </a:p>
        </p:txBody>
      </p:sp>
      <p:sp>
        <p:nvSpPr>
          <p:cNvPr id="238" name=""/>
          <p:cNvSpPr/>
          <p:nvPr/>
        </p:nvSpPr>
        <p:spPr>
          <a:xfrm>
            <a:off x="4905000" y="6383160"/>
            <a:ext cx="988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Year</a:t>
            </a:r>
            <a:endParaRPr b="0" lang="en-US" sz="1200" spc="-1" strike="noStrike">
              <a:solidFill>
                <a:srgbClr val="000000"/>
              </a:solidFill>
              <a:latin typeface="Arial"/>
            </a:endParaRPr>
          </a:p>
        </p:txBody>
      </p:sp>
      <p:sp>
        <p:nvSpPr>
          <p:cNvPr id="239" name=""/>
          <p:cNvSpPr/>
          <p:nvPr/>
        </p:nvSpPr>
        <p:spPr>
          <a:xfrm>
            <a:off x="5068800" y="4230720"/>
            <a:ext cx="7207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068800" y="3870360"/>
            <a:ext cx="72072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468440" y="4230720"/>
            <a:ext cx="7207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468440" y="495144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69520" y="4711680"/>
            <a:ext cx="793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t>
            </a:r>
            <a:endParaRPr b="0" lang="en-US" sz="1200" spc="-1" strike="noStrike">
              <a:solidFill>
                <a:srgbClr val="000000"/>
              </a:solidFill>
              <a:latin typeface="Arial"/>
            </a:endParaRPr>
          </a:p>
        </p:txBody>
      </p:sp>
      <p:sp>
        <p:nvSpPr>
          <p:cNvPr id="244" name=""/>
          <p:cNvSpPr/>
          <p:nvPr/>
        </p:nvSpPr>
        <p:spPr>
          <a:xfrm>
            <a:off x="480240" y="3989520"/>
            <a:ext cx="1038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Runne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t>
            </a:r>
            <a:endParaRPr b="0" lang="en-US" sz="1200" spc="-1" strike="noStrike">
              <a:solidFill>
                <a:srgbClr val="000000"/>
              </a:solidFill>
              <a:latin typeface="Arial"/>
            </a:endParaRPr>
          </a:p>
        </p:txBody>
      </p:sp>
      <p:sp>
        <p:nvSpPr>
          <p:cNvPr id="245" name=""/>
          <p:cNvSpPr/>
          <p:nvPr/>
        </p:nvSpPr>
        <p:spPr>
          <a:xfrm>
            <a:off x="5960880" y="3727440"/>
            <a:ext cx="286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Target Standard Value in Target Year</a:t>
            </a:r>
            <a:endParaRPr b="0" lang="en-US" sz="1200" spc="-1" strike="noStrike">
              <a:solidFill>
                <a:srgbClr val="000000"/>
              </a:solidFill>
              <a:latin typeface="Arial"/>
            </a:endParaRPr>
          </a:p>
        </p:txBody>
      </p:sp>
      <p:sp>
        <p:nvSpPr>
          <p:cNvPr id="246" name=""/>
          <p:cNvSpPr/>
          <p:nvPr/>
        </p:nvSpPr>
        <p:spPr>
          <a:xfrm flipV="1">
            <a:off x="1857240" y="3457440"/>
            <a:ext cx="3506760" cy="736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021800" y="6388200"/>
            <a:ext cx="503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a:t>
            </a:r>
            <a:endParaRPr b="0" lang="en-US" sz="1200" spc="-1" strike="noStrike">
              <a:solidFill>
                <a:srgbClr val="000000"/>
              </a:solidFill>
              <a:latin typeface="Arial"/>
            </a:endParaRPr>
          </a:p>
        </p:txBody>
      </p:sp>
      <p:sp>
        <p:nvSpPr>
          <p:cNvPr id="248" name=""/>
          <p:cNvSpPr/>
          <p:nvPr/>
        </p:nvSpPr>
        <p:spPr>
          <a:xfrm>
            <a:off x="1562040" y="2577960"/>
            <a:ext cx="2133720" cy="304920"/>
          </a:xfrm>
          <a:prstGeom prst="wedgeRectCallout">
            <a:avLst>
              <a:gd name="adj1" fmla="val 73884"/>
              <a:gd name="adj2" fmla="val 30520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α</a:t>
            </a:r>
            <a:r>
              <a:rPr b="0" lang="zh-CN" sz="1800" spc="-1" strike="noStrike">
                <a:solidFill>
                  <a:srgbClr val="000000"/>
                </a:solidFill>
                <a:latin typeface="Arial"/>
              </a:rPr>
              <a:t>：</a:t>
            </a:r>
            <a:r>
              <a:rPr b="0" lang="en-US" sz="1800" spc="-1" strike="noStrike">
                <a:solidFill>
                  <a:srgbClr val="000000"/>
                </a:solidFill>
                <a:latin typeface="Arial"/>
              </a:rPr>
              <a:t>positive factors</a:t>
            </a:r>
            <a:endParaRPr b="0" lang="en-US" sz="1800" spc="-1" strike="noStrike">
              <a:solidFill>
                <a:srgbClr val="000000"/>
              </a:solidFill>
              <a:latin typeface="Arial"/>
            </a:endParaRPr>
          </a:p>
        </p:txBody>
      </p:sp>
      <p:sp>
        <p:nvSpPr>
          <p:cNvPr id="249" name=""/>
          <p:cNvSpPr/>
          <p:nvPr/>
        </p:nvSpPr>
        <p:spPr>
          <a:xfrm>
            <a:off x="6083280" y="2590920"/>
            <a:ext cx="2514600" cy="304560"/>
          </a:xfrm>
          <a:prstGeom prst="wedgeRectCallout">
            <a:avLst>
              <a:gd name="adj1" fmla="val -74745"/>
              <a:gd name="adj2" fmla="val 281773"/>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a:t>
            </a:r>
            <a:r>
              <a:rPr b="0" lang="en-US" sz="1600" spc="-1" strike="noStrike">
                <a:solidFill>
                  <a:srgbClr val="ff0000"/>
                </a:solidFill>
                <a:latin typeface="Arial"/>
              </a:rPr>
              <a:t>β</a:t>
            </a:r>
            <a:r>
              <a:rPr b="0" lang="zh-CN" sz="1600" spc="-1" strike="noStrike">
                <a:solidFill>
                  <a:srgbClr val="ff0000"/>
                </a:solidFill>
                <a:latin typeface="Arial"/>
              </a:rPr>
              <a:t>：</a:t>
            </a:r>
            <a:r>
              <a:rPr b="0" lang="en-US" sz="1800" spc="-1" strike="noStrike">
                <a:solidFill>
                  <a:srgbClr val="ff0000"/>
                </a:solidFill>
                <a:latin typeface="Arial"/>
              </a:rPr>
              <a:t>negative factors</a:t>
            </a:r>
            <a:endParaRPr b="0" lang="en-US" sz="1800" spc="-1" strike="noStrike">
              <a:solidFill>
                <a:srgbClr val="000000"/>
              </a:solidFill>
              <a:latin typeface="Arial"/>
            </a:endParaRPr>
          </a:p>
        </p:txBody>
      </p:sp>
      <p:sp>
        <p:nvSpPr>
          <p:cNvPr id="250" name=""/>
          <p:cNvSpPr/>
          <p:nvPr/>
        </p:nvSpPr>
        <p:spPr>
          <a:xfrm>
            <a:off x="5692680" y="4883040"/>
            <a:ext cx="3333960" cy="824040"/>
          </a:xfrm>
          <a:prstGeom prst="rect">
            <a:avLst/>
          </a:prstGeom>
          <a:solidFill>
            <a:srgbClr val="ffcc00">
              <a:alpha val="50000"/>
            </a:srgbClr>
          </a:solidFill>
          <a:ln w="1260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Factors: Technological Improv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ative Factors: Exhaust Emission Regulations, etc. (trade-off relation with fuel economy)</a:t>
            </a:r>
            <a:endParaRPr b="0" lang="en-US" sz="1200" spc="-1" strike="noStrike">
              <a:solidFill>
                <a:srgbClr val="000000"/>
              </a:solidFill>
              <a:latin typeface="Arial"/>
            </a:endParaRPr>
          </a:p>
        </p:txBody>
      </p:sp>
      <p:sp>
        <p:nvSpPr>
          <p:cNvPr id="251" name=""/>
          <p:cNvSpPr/>
          <p:nvPr/>
        </p:nvSpPr>
        <p:spPr>
          <a:xfrm>
            <a:off x="5782320" y="4313160"/>
            <a:ext cx="1289160" cy="30600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ehicles future</a:t>
            </a:r>
            <a:endParaRPr b="0" lang="en-US" sz="1200" spc="-1" strike="noStrike">
              <a:solidFill>
                <a:srgbClr val="000000"/>
              </a:solidFill>
              <a:latin typeface="Arial"/>
            </a:endParaRPr>
          </a:p>
        </p:txBody>
      </p:sp>
      <p:sp>
        <p:nvSpPr>
          <p:cNvPr id="252" name=""/>
          <p:cNvSpPr/>
          <p:nvPr/>
        </p:nvSpPr>
        <p:spPr>
          <a:xfrm>
            <a:off x="5370480" y="3441600"/>
            <a:ext cx="1800" cy="419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247840" y="4230720"/>
            <a:ext cx="2778120" cy="0"/>
          </a:xfrm>
          <a:prstGeom prst="line">
            <a:avLst/>
          </a:prstGeom>
          <a:ln w="25560">
            <a:solidFill>
              <a:srgbClr val="ff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163240" y="5329080"/>
            <a:ext cx="1162800" cy="306000"/>
          </a:xfrm>
          <a:prstGeom prst="roundRect">
            <a:avLst>
              <a:gd name="adj" fmla="val 16667"/>
            </a:avLst>
          </a:prstGeom>
          <a:solidFill>
            <a:srgbClr val="ffff99"/>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ehicles now</a:t>
            </a:r>
            <a:endParaRPr b="0" lang="en-US" sz="1200" spc="-1" strike="noStrike">
              <a:solidFill>
                <a:srgbClr val="000000"/>
              </a:solidFill>
              <a:latin typeface="Arial"/>
            </a:endParaRPr>
          </a:p>
        </p:txBody>
      </p:sp>
      <p:sp>
        <p:nvSpPr>
          <p:cNvPr id="255" name=""/>
          <p:cNvSpPr/>
          <p:nvPr/>
        </p:nvSpPr>
        <p:spPr>
          <a:xfrm>
            <a:off x="200160" y="981000"/>
            <a:ext cx="8997840" cy="1188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By target year, average fuel consumption must be higher than the best fuel efficiency in the base year.</a:t>
            </a:r>
            <a:endParaRPr b="0" lang="en-US" sz="1600" spc="-1" strike="noStrike">
              <a:solidFill>
                <a:srgbClr val="000000"/>
              </a:solidFill>
              <a:latin typeface="Arial"/>
            </a:endParaRPr>
          </a:p>
          <a:p>
            <a:pPr marL="271440" indent="-271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Standard should be high but reachable because target values are already achieved by actual vehicles in the base year.</a:t>
            </a:r>
            <a:endParaRPr b="0" lang="en-US" sz="1600" spc="-1" strike="noStrike">
              <a:solidFill>
                <a:srgbClr val="000000"/>
              </a:solidFill>
              <a:latin typeface="Arial"/>
            </a:endParaRPr>
          </a:p>
          <a:p>
            <a:pPr marL="271440" indent="-271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Particular types of cars such as HEVs and MT mounted cars are excluded from top runn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272880" y="-360"/>
            <a:ext cx="928872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7c8"/>
                </a:solidFill>
                <a:latin typeface="HGP創英角ｺﾞｼｯｸUB"/>
              </a:rPr>
              <a:t>Vehicle Energy Source Shift</a:t>
            </a:r>
            <a:endParaRPr b="0" lang="en-US" sz="2400" spc="-1" strike="noStrike">
              <a:solidFill>
                <a:srgbClr val="4087c8"/>
              </a:solidFill>
              <a:latin typeface="HGP創英角ｺﾞｼｯｸUB"/>
            </a:endParaRPr>
          </a:p>
        </p:txBody>
      </p:sp>
      <p:sp>
        <p:nvSpPr>
          <p:cNvPr id="1381" name=""/>
          <p:cNvSpPr/>
          <p:nvPr/>
        </p:nvSpPr>
        <p:spPr>
          <a:xfrm>
            <a:off x="351000" y="1268280"/>
            <a:ext cx="592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 Combustion Engine Vehicle</a:t>
            </a:r>
            <a:endParaRPr b="0" lang="en-US" sz="2400" spc="-1" strike="noStrike">
              <a:solidFill>
                <a:srgbClr val="000000"/>
              </a:solidFill>
              <a:latin typeface="Arial"/>
            </a:endParaRPr>
          </a:p>
        </p:txBody>
      </p:sp>
      <p:sp>
        <p:nvSpPr>
          <p:cNvPr id="1382" name=""/>
          <p:cNvSpPr/>
          <p:nvPr/>
        </p:nvSpPr>
        <p:spPr>
          <a:xfrm>
            <a:off x="1411920" y="1700280"/>
            <a:ext cx="108000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olin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se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Arial"/>
            </a:endParaRPr>
          </a:p>
        </p:txBody>
      </p:sp>
      <p:sp>
        <p:nvSpPr>
          <p:cNvPr id="1383" name=""/>
          <p:cNvSpPr/>
          <p:nvPr/>
        </p:nvSpPr>
        <p:spPr>
          <a:xfrm rot="1800000">
            <a:off x="1862280" y="3230640"/>
            <a:ext cx="7412040" cy="1728720"/>
          </a:xfrm>
          <a:custGeom>
            <a:avLst/>
            <a:gdLst>
              <a:gd name="textAreaLeft" fmla="*/ 0 w 7412040"/>
              <a:gd name="textAreaRight" fmla="*/ 7412400 w 7412040"/>
              <a:gd name="textAreaTop" fmla="*/ 0 h 1728720"/>
              <a:gd name="textAreaBottom" fmla="*/ 1729080 h 1728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be0e3">
                  <a:alpha val="42352"/>
                </a:srgbClr>
              </a:gs>
              <a:gs pos="100000">
                <a:srgbClr val="ff7c80">
                  <a:alpha val="38039"/>
                </a:srgbClr>
              </a:gs>
            </a:gsLst>
            <a:lin ang="90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
          <p:cNvSpPr/>
          <p:nvPr/>
        </p:nvSpPr>
        <p:spPr>
          <a:xfrm>
            <a:off x="6716520" y="6165720"/>
            <a:ext cx="306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 Electric Vehicle</a:t>
            </a:r>
            <a:endParaRPr b="0" lang="en-US" sz="2400" spc="-1" strike="noStrike">
              <a:solidFill>
                <a:srgbClr val="000000"/>
              </a:solidFill>
              <a:latin typeface="Arial"/>
            </a:endParaRPr>
          </a:p>
        </p:txBody>
      </p:sp>
      <p:sp>
        <p:nvSpPr>
          <p:cNvPr id="1385" name=""/>
          <p:cNvSpPr/>
          <p:nvPr/>
        </p:nvSpPr>
        <p:spPr>
          <a:xfrm>
            <a:off x="300600" y="88416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Now</a:t>
            </a:r>
            <a:endParaRPr b="0" lang="en-US" sz="2000" spc="-1" strike="noStrike">
              <a:solidFill>
                <a:srgbClr val="000000"/>
              </a:solidFill>
              <a:latin typeface="Arial"/>
            </a:endParaRPr>
          </a:p>
        </p:txBody>
      </p:sp>
      <p:sp>
        <p:nvSpPr>
          <p:cNvPr id="1386" name=""/>
          <p:cNvSpPr/>
          <p:nvPr/>
        </p:nvSpPr>
        <p:spPr>
          <a:xfrm>
            <a:off x="3845520" y="303228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Near Future</a:t>
            </a:r>
            <a:endParaRPr b="0" lang="en-US" sz="2000" spc="-1" strike="noStrike">
              <a:solidFill>
                <a:srgbClr val="000000"/>
              </a:solidFill>
              <a:latin typeface="Arial"/>
            </a:endParaRPr>
          </a:p>
        </p:txBody>
      </p:sp>
      <p:sp>
        <p:nvSpPr>
          <p:cNvPr id="1387" name=""/>
          <p:cNvSpPr/>
          <p:nvPr/>
        </p:nvSpPr>
        <p:spPr>
          <a:xfrm>
            <a:off x="6493320" y="5853240"/>
            <a:ext cx="13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Far Future</a:t>
            </a:r>
            <a:endParaRPr b="0" lang="en-US" sz="2000" spc="-1" strike="noStrike">
              <a:solidFill>
                <a:srgbClr val="000000"/>
              </a:solidFill>
              <a:latin typeface="Arial"/>
            </a:endParaRPr>
          </a:p>
        </p:txBody>
      </p:sp>
      <p:sp>
        <p:nvSpPr>
          <p:cNvPr id="1388" name=""/>
          <p:cNvSpPr/>
          <p:nvPr/>
        </p:nvSpPr>
        <p:spPr>
          <a:xfrm>
            <a:off x="4535640" y="3429000"/>
            <a:ext cx="1145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EV</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T</a:t>
            </a:r>
            <a:endParaRPr b="0" lang="en-US" sz="2800" spc="-1" strike="noStrike">
              <a:solidFill>
                <a:srgbClr val="000000"/>
              </a:solidFill>
              <a:latin typeface="Arial"/>
            </a:endParaRPr>
          </a:p>
        </p:txBody>
      </p:sp>
      <p:sp>
        <p:nvSpPr>
          <p:cNvPr id="1389" name=""/>
          <p:cNvSpPr/>
          <p:nvPr/>
        </p:nvSpPr>
        <p:spPr>
          <a:xfrm>
            <a:off x="6455520" y="2238480"/>
            <a:ext cx="2422440" cy="1191240"/>
          </a:xfrm>
          <a:prstGeom prst="rect">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m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ower Den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ergy Den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for Battery.</a:t>
            </a:r>
            <a:endParaRPr b="0" lang="en-US" sz="1800" spc="-1" strike="noStrike">
              <a:solidFill>
                <a:srgbClr val="000000"/>
              </a:solidFill>
              <a:latin typeface="Arial"/>
            </a:endParaRPr>
          </a:p>
        </p:txBody>
      </p:sp>
      <p:sp>
        <p:nvSpPr>
          <p:cNvPr id="1390" name=""/>
          <p:cNvSpPr/>
          <p:nvPr/>
        </p:nvSpPr>
        <p:spPr>
          <a:xfrm>
            <a:off x="532440" y="4508640"/>
            <a:ext cx="452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EV is EV with On-board Re-char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
          <p:cNvSpPr/>
          <p:nvPr/>
        </p:nvSpPr>
        <p:spPr>
          <a:xfrm>
            <a:off x="6364440" y="1914480"/>
            <a:ext cx="1482480" cy="15858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2319480" y="4365720"/>
            <a:ext cx="2328840" cy="158904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4181400" y="4437000"/>
            <a:ext cx="2652840" cy="151308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rot="20246400">
            <a:off x="2615760" y="2788920"/>
            <a:ext cx="3813120" cy="1368360"/>
          </a:xfrm>
          <a:prstGeom prst="ellipse">
            <a:avLst/>
          </a:prstGeom>
          <a:solidFill>
            <a:srgbClr val="cc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4878360" y="1557360"/>
            <a:ext cx="0" cy="44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1919160" y="4079880"/>
            <a:ext cx="70995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97" name=""/>
          <p:cNvSpPr/>
          <p:nvPr/>
        </p:nvSpPr>
        <p:spPr>
          <a:xfrm>
            <a:off x="7898760" y="373068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a:t>
            </a:r>
            <a:endParaRPr b="0" lang="en-US" sz="1800" spc="-1" strike="noStrike">
              <a:solidFill>
                <a:srgbClr val="000000"/>
              </a:solidFill>
              <a:latin typeface="Arial"/>
            </a:endParaRPr>
          </a:p>
        </p:txBody>
      </p:sp>
      <p:sp>
        <p:nvSpPr>
          <p:cNvPr id="1398" name=""/>
          <p:cNvSpPr/>
          <p:nvPr/>
        </p:nvSpPr>
        <p:spPr>
          <a:xfrm>
            <a:off x="8497800" y="4083120"/>
            <a:ext cx="5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a:t>
            </a:r>
            <a:endParaRPr b="0" lang="en-US" sz="1600" spc="-1" strike="noStrike">
              <a:solidFill>
                <a:srgbClr val="000000"/>
              </a:solidFill>
              <a:latin typeface="Arial"/>
            </a:endParaRPr>
          </a:p>
        </p:txBody>
      </p:sp>
      <p:sp>
        <p:nvSpPr>
          <p:cNvPr id="1399" name=""/>
          <p:cNvSpPr/>
          <p:nvPr/>
        </p:nvSpPr>
        <p:spPr>
          <a:xfrm>
            <a:off x="1450800" y="4083120"/>
            <a:ext cx="70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a:t>
            </a:r>
            <a:endParaRPr b="0" lang="en-US" sz="1600" spc="-1" strike="noStrike">
              <a:solidFill>
                <a:srgbClr val="000000"/>
              </a:solidFill>
              <a:latin typeface="Arial"/>
            </a:endParaRPr>
          </a:p>
        </p:txBody>
      </p:sp>
      <p:sp>
        <p:nvSpPr>
          <p:cNvPr id="1400" name=""/>
          <p:cNvSpPr/>
          <p:nvPr/>
        </p:nvSpPr>
        <p:spPr>
          <a:xfrm>
            <a:off x="5142240" y="62388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y</a:t>
            </a:r>
            <a:endParaRPr b="0" lang="en-US" sz="1800" spc="-1" strike="noStrike">
              <a:solidFill>
                <a:srgbClr val="000000"/>
              </a:solidFill>
              <a:latin typeface="Arial"/>
            </a:endParaRPr>
          </a:p>
        </p:txBody>
      </p:sp>
      <p:sp>
        <p:nvSpPr>
          <p:cNvPr id="1401" name=""/>
          <p:cNvSpPr/>
          <p:nvPr/>
        </p:nvSpPr>
        <p:spPr>
          <a:xfrm>
            <a:off x="4681440" y="118584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Y</a:t>
            </a:r>
            <a:endParaRPr b="0" lang="en-US" sz="1800" spc="-1" strike="noStrike">
              <a:solidFill>
                <a:srgbClr val="000000"/>
              </a:solidFill>
              <a:latin typeface="Arial"/>
            </a:endParaRPr>
          </a:p>
        </p:txBody>
      </p:sp>
      <p:grpSp>
        <p:nvGrpSpPr>
          <p:cNvPr id="1402" name=""/>
          <p:cNvGrpSpPr/>
          <p:nvPr/>
        </p:nvGrpSpPr>
        <p:grpSpPr>
          <a:xfrm>
            <a:off x="3957120" y="6021360"/>
            <a:ext cx="1157400" cy="779760"/>
            <a:chOff x="3957120" y="6021360"/>
            <a:chExt cx="1157400" cy="779760"/>
          </a:xfrm>
        </p:grpSpPr>
        <p:sp>
          <p:nvSpPr>
            <p:cNvPr id="1403" name=""/>
            <p:cNvSpPr/>
            <p:nvPr/>
          </p:nvSpPr>
          <p:spPr>
            <a:xfrm>
              <a:off x="4178520" y="602136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4178520" y="6595920"/>
              <a:ext cx="9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4178520" y="6314760"/>
              <a:ext cx="936000" cy="209880"/>
            </a:xfrm>
            <a:custGeom>
              <a:avLst/>
              <a:gdLst/>
              <a:ahLst/>
              <a:rect l="l" t="t" r="r" b="b"/>
              <a:pathLst>
                <a:path w="544" h="132">
                  <a:moveTo>
                    <a:pt x="0" y="132"/>
                  </a:moveTo>
                  <a:lnTo>
                    <a:pt x="33" y="3"/>
                  </a:lnTo>
                  <a:lnTo>
                    <a:pt x="45" y="132"/>
                  </a:lnTo>
                  <a:lnTo>
                    <a:pt x="78" y="87"/>
                  </a:lnTo>
                  <a:lnTo>
                    <a:pt x="91" y="132"/>
                  </a:lnTo>
                  <a:lnTo>
                    <a:pt x="129" y="66"/>
                  </a:lnTo>
                  <a:lnTo>
                    <a:pt x="181" y="132"/>
                  </a:lnTo>
                  <a:lnTo>
                    <a:pt x="198" y="84"/>
                  </a:lnTo>
                  <a:lnTo>
                    <a:pt x="227" y="132"/>
                  </a:lnTo>
                  <a:lnTo>
                    <a:pt x="249" y="90"/>
                  </a:lnTo>
                  <a:lnTo>
                    <a:pt x="272" y="132"/>
                  </a:lnTo>
                  <a:lnTo>
                    <a:pt x="300" y="45"/>
                  </a:lnTo>
                  <a:lnTo>
                    <a:pt x="317" y="132"/>
                  </a:lnTo>
                  <a:lnTo>
                    <a:pt x="363" y="99"/>
                  </a:lnTo>
                  <a:lnTo>
                    <a:pt x="408" y="132"/>
                  </a:lnTo>
                  <a:lnTo>
                    <a:pt x="423" y="45"/>
                  </a:lnTo>
                  <a:lnTo>
                    <a:pt x="454" y="132"/>
                  </a:lnTo>
                  <a:lnTo>
                    <a:pt x="474" y="60"/>
                  </a:lnTo>
                  <a:lnTo>
                    <a:pt x="507" y="0"/>
                  </a:lnTo>
                  <a:lnTo>
                    <a:pt x="544" y="13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4501080" y="652464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407" name=""/>
            <p:cNvSpPr/>
            <p:nvPr/>
          </p:nvSpPr>
          <p:spPr>
            <a:xfrm>
              <a:off x="3957120" y="60926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p:txBody>
        </p:sp>
      </p:grpSp>
      <p:grpSp>
        <p:nvGrpSpPr>
          <p:cNvPr id="1408" name=""/>
          <p:cNvGrpSpPr/>
          <p:nvPr/>
        </p:nvGrpSpPr>
        <p:grpSpPr>
          <a:xfrm>
            <a:off x="3493800" y="969840"/>
            <a:ext cx="1155600" cy="792360"/>
            <a:chOff x="3493800" y="969840"/>
            <a:chExt cx="1155600" cy="792360"/>
          </a:xfrm>
        </p:grpSpPr>
        <p:sp>
          <p:nvSpPr>
            <p:cNvPr id="1409" name=""/>
            <p:cNvSpPr/>
            <p:nvPr/>
          </p:nvSpPr>
          <p:spPr>
            <a:xfrm>
              <a:off x="3715200" y="969840"/>
              <a:ext cx="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3715200" y="1544760"/>
              <a:ext cx="93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3493800" y="1041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endParaRPr b="0" lang="en-US" sz="1200" spc="-1" strike="noStrike">
                <a:solidFill>
                  <a:srgbClr val="000000"/>
                </a:solidFill>
                <a:latin typeface="Arial"/>
              </a:endParaRPr>
            </a:p>
          </p:txBody>
        </p:sp>
        <p:sp>
          <p:nvSpPr>
            <p:cNvPr id="1412" name=""/>
            <p:cNvSpPr/>
            <p:nvPr/>
          </p:nvSpPr>
          <p:spPr>
            <a:xfrm>
              <a:off x="4103640" y="14857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413" name=""/>
            <p:cNvSpPr/>
            <p:nvPr/>
          </p:nvSpPr>
          <p:spPr>
            <a:xfrm>
              <a:off x="3737160" y="1106280"/>
              <a:ext cx="857160" cy="360360"/>
            </a:xfrm>
            <a:custGeom>
              <a:avLst/>
              <a:gdLst/>
              <a:ahLst/>
              <a:rect l="l" t="t" r="r" b="b"/>
              <a:pathLst>
                <a:path w="499" h="227">
                  <a:moveTo>
                    <a:pt x="0" y="227"/>
                  </a:moveTo>
                  <a:lnTo>
                    <a:pt x="41" y="0"/>
                  </a:lnTo>
                  <a:lnTo>
                    <a:pt x="458" y="0"/>
                  </a:lnTo>
                  <a:lnTo>
                    <a:pt x="499" y="22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4" name=""/>
          <p:cNvSpPr/>
          <p:nvPr/>
        </p:nvSpPr>
        <p:spPr>
          <a:xfrm>
            <a:off x="5005800" y="5013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y</a:t>
            </a:r>
            <a:endParaRPr b="0" lang="en-US" sz="1800" spc="-1" strike="noStrike">
              <a:solidFill>
                <a:srgbClr val="000000"/>
              </a:solidFill>
              <a:latin typeface="Arial"/>
            </a:endParaRPr>
          </a:p>
        </p:txBody>
      </p:sp>
      <p:sp>
        <p:nvSpPr>
          <p:cNvPr id="1415" name=""/>
          <p:cNvSpPr/>
          <p:nvPr/>
        </p:nvSpPr>
        <p:spPr>
          <a:xfrm>
            <a:off x="3168720" y="4437000"/>
            <a:ext cx="10904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area</a:t>
            </a:r>
            <a:endParaRPr b="0" lang="en-US" sz="1800" spc="-1" strike="noStrike">
              <a:solidFill>
                <a:srgbClr val="000000"/>
              </a:solidFill>
              <a:latin typeface="Arial"/>
            </a:endParaRPr>
          </a:p>
        </p:txBody>
      </p:sp>
      <p:sp>
        <p:nvSpPr>
          <p:cNvPr id="1416" name=""/>
          <p:cNvSpPr/>
          <p:nvPr/>
        </p:nvSpPr>
        <p:spPr>
          <a:xfrm>
            <a:off x="3848400" y="329076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urbs</a:t>
            </a:r>
            <a:endParaRPr b="0" lang="en-US" sz="1800" spc="-1" strike="noStrike">
              <a:solidFill>
                <a:srgbClr val="000000"/>
              </a:solidFill>
              <a:latin typeface="Arial"/>
            </a:endParaRPr>
          </a:p>
        </p:txBody>
      </p:sp>
      <p:sp>
        <p:nvSpPr>
          <p:cNvPr id="1417" name=""/>
          <p:cNvSpPr/>
          <p:nvPr/>
        </p:nvSpPr>
        <p:spPr>
          <a:xfrm>
            <a:off x="6589800" y="24987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ity</a:t>
            </a:r>
            <a:endParaRPr b="0" lang="en-US" sz="1800" spc="-1" strike="noStrike">
              <a:solidFill>
                <a:srgbClr val="000000"/>
              </a:solidFill>
              <a:latin typeface="Arial"/>
            </a:endParaRPr>
          </a:p>
        </p:txBody>
      </p:sp>
      <p:sp>
        <p:nvSpPr>
          <p:cNvPr id="1418" name=""/>
          <p:cNvSpPr/>
          <p:nvPr/>
        </p:nvSpPr>
        <p:spPr>
          <a:xfrm rot="16200000">
            <a:off x="4109760" y="1698480"/>
            <a:ext cx="100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ving Mode</a:t>
            </a:r>
            <a:endParaRPr b="0" lang="en-US" sz="1600" spc="-1" strike="noStrike">
              <a:solidFill>
                <a:srgbClr val="000000"/>
              </a:solidFill>
              <a:latin typeface="Arial"/>
            </a:endParaRPr>
          </a:p>
        </p:txBody>
      </p:sp>
      <p:sp>
        <p:nvSpPr>
          <p:cNvPr id="1419" name=""/>
          <p:cNvSpPr/>
          <p:nvPr/>
        </p:nvSpPr>
        <p:spPr>
          <a:xfrm>
            <a:off x="343440" y="0"/>
            <a:ext cx="42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7c8"/>
                </a:solidFill>
                <a:latin typeface="Arial"/>
              </a:rPr>
              <a:t>Right Vehicle to Right Place</a:t>
            </a:r>
            <a:endParaRPr b="0" lang="en-US" sz="2400" spc="-1" strike="noStrike">
              <a:solidFill>
                <a:srgbClr val="000000"/>
              </a:solidFill>
              <a:latin typeface="Arial"/>
            </a:endParaRPr>
          </a:p>
        </p:txBody>
      </p:sp>
      <p:sp>
        <p:nvSpPr>
          <p:cNvPr id="1420" name=""/>
          <p:cNvSpPr/>
          <p:nvPr/>
        </p:nvSpPr>
        <p:spPr>
          <a:xfrm>
            <a:off x="2152800" y="4365720"/>
            <a:ext cx="3978000" cy="1584360"/>
          </a:xfrm>
          <a:prstGeom prst="rtTriangle">
            <a:avLst/>
          </a:prstGeom>
          <a:solidFill>
            <a:srgbClr val="fed9d6">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Arial"/>
              </a:rPr>
              <a:t>HEV</a:t>
            </a:r>
            <a:endParaRPr b="0" lang="en-US" sz="2000" spc="-1" strike="noStrike">
              <a:solidFill>
                <a:srgbClr val="000000"/>
              </a:solidFill>
              <a:latin typeface="Arial"/>
            </a:endParaRPr>
          </a:p>
        </p:txBody>
      </p:sp>
      <p:sp>
        <p:nvSpPr>
          <p:cNvPr id="1421" name=""/>
          <p:cNvSpPr/>
          <p:nvPr/>
        </p:nvSpPr>
        <p:spPr>
          <a:xfrm>
            <a:off x="6951600" y="180828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Diesel</a:t>
            </a:r>
            <a:endParaRPr b="0" lang="en-US" sz="2000" spc="-1" strike="noStrike">
              <a:solidFill>
                <a:srgbClr val="000000"/>
              </a:solidFill>
              <a:latin typeface="Arial"/>
            </a:endParaRPr>
          </a:p>
        </p:txBody>
      </p:sp>
      <p:sp>
        <p:nvSpPr>
          <p:cNvPr id="1422" name=""/>
          <p:cNvSpPr/>
          <p:nvPr/>
        </p:nvSpPr>
        <p:spPr>
          <a:xfrm flipH="1">
            <a:off x="2152080" y="1268280"/>
            <a:ext cx="5771880" cy="3024360"/>
          </a:xfrm>
          <a:prstGeom prst="rtTriangle">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2154240" y="3429000"/>
            <a:ext cx="1092240" cy="2521080"/>
          </a:xfrm>
          <a:prstGeom prst="rtTriangle">
            <a:avLst/>
          </a:prstGeom>
          <a:solidFill>
            <a:srgbClr val="ff99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Arial"/>
              </a:rPr>
              <a:t>PHE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420"/>
                                        </p:tgtEl>
                                        <p:attrNameLst>
                                          <p:attrName>style.visibility</p:attrName>
                                        </p:attrNameLst>
                                      </p:cBhvr>
                                      <p:to>
                                        <p:strVal val="visible"/>
                                      </p:to>
                                    </p:set>
                                    <p:animEffect filter="fade" transition="in">
                                      <p:cBhvr additive="repl">
                                        <p:cTn id="14" dur="2000"/>
                                        <p:tgtEl>
                                          <p:spTgt spid="142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423"/>
                                        </p:tgtEl>
                                        <p:attrNameLst>
                                          <p:attrName>style.visibility</p:attrName>
                                        </p:attrNameLst>
                                      </p:cBhvr>
                                      <p:to>
                                        <p:strVal val="visible"/>
                                      </p:to>
                                    </p:set>
                                    <p:animEffect filter="fade" transition="in">
                                      <p:cBhvr additive="repl">
                                        <p:cTn id="19" dur="2000"/>
                                        <p:tgtEl>
                                          <p:spTgt spid="1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360" y="-22320"/>
            <a:ext cx="7605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87c8"/>
              </a:solidFill>
              <a:latin typeface="HGP創英角ｺﾞｼｯｸUB"/>
            </a:endParaRPr>
          </a:p>
        </p:txBody>
      </p:sp>
      <p:sp>
        <p:nvSpPr>
          <p:cNvPr id="1425" name=""/>
          <p:cNvSpPr/>
          <p:nvPr/>
        </p:nvSpPr>
        <p:spPr>
          <a:xfrm>
            <a:off x="1812600" y="2924280"/>
            <a:ext cx="652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a:rPr>
              <a:t>Thank you all for listening so attentively </a:t>
            </a:r>
            <a:endParaRPr b="0" lang="en-US" sz="2800" spc="-1" strike="noStrike">
              <a:solidFill>
                <a:srgbClr val="000000"/>
              </a:solidFill>
              <a:latin typeface="Arial"/>
            </a:endParaRPr>
          </a:p>
        </p:txBody>
      </p:sp>
      <p:sp>
        <p:nvSpPr>
          <p:cNvPr id="1426" name=""/>
          <p:cNvSpPr/>
          <p:nvPr/>
        </p:nvSpPr>
        <p:spPr>
          <a:xfrm>
            <a:off x="3803760" y="4221000"/>
            <a:ext cx="5702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or further qu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kihiko HOS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vironment Divi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oad Transport Bure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inistry of Land, Infrastructure, Transport and Tour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mail: </a:t>
            </a:r>
            <a:r>
              <a:rPr b="0" lang="en-US" sz="1800" spc="-1" strike="noStrike" u="sng">
                <a:solidFill>
                  <a:srgbClr val="009999"/>
                </a:solidFill>
                <a:uFillTx/>
                <a:latin typeface="Arial"/>
                <a:hlinkClick r:id="rId1"/>
              </a:rPr>
              <a:t>hoshi-a2rd@mlit.go.j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el: +81 3 5253 86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8160" y="-171720"/>
            <a:ext cx="848988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a:t>
            </a:r>
            <a:r>
              <a:rPr b="0" lang="en-US" sz="2800" spc="-1" strike="noStrike">
                <a:solidFill>
                  <a:srgbClr val="4087c8"/>
                </a:solidFill>
                <a:latin typeface="HGP創英角ｺﾞｼｯｸUB"/>
              </a:rPr>
              <a:t>Top runner approach”:  Positive factor (+α)</a:t>
            </a:r>
            <a:endParaRPr b="0" lang="en-US" sz="2800" spc="-1" strike="noStrike">
              <a:solidFill>
                <a:srgbClr val="4087c8"/>
              </a:solidFill>
              <a:latin typeface="HGP創英角ｺﾞｼｯｸUB"/>
            </a:endParaRPr>
          </a:p>
        </p:txBody>
      </p:sp>
      <p:sp>
        <p:nvSpPr>
          <p:cNvPr id="257" name="PlaceHolder 2"/>
          <p:cNvSpPr>
            <a:spLocks noGrp="1"/>
          </p:cNvSpPr>
          <p:nvPr>
            <p:ph/>
          </p:nvPr>
        </p:nvSpPr>
        <p:spPr>
          <a:xfrm>
            <a:off x="-360" y="764640"/>
            <a:ext cx="9705960" cy="5589720"/>
          </a:xfrm>
          <a:prstGeom prst="rect">
            <a:avLst/>
          </a:prstGeom>
          <a:noFill/>
          <a:ln w="0">
            <a:noFill/>
          </a:ln>
        </p:spPr>
        <p:txBody>
          <a:bodyPr lIns="90000" rIns="90000" tIns="46800" bIns="46800" anchor="t">
            <a:normAutofit fontScale="94000"/>
          </a:bodyPr>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000000"/>
                </a:solidFill>
                <a:uFillTx/>
                <a:latin typeface="Arial"/>
              </a:rPr>
              <a:t>Conventional fuel efficiency improvement technologies (2 – 4 % in total)</a:t>
            </a:r>
            <a:endParaRPr b="0" lang="en-US" sz="17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ngine compression ratio increase, Friction reduction, Weight reduction,</a:t>
            </a:r>
            <a:endParaRPr b="0" lang="en-US" sz="15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Reduction of vehicle travel resistance, Low rolling resistance tires</a:t>
            </a:r>
            <a:endParaRPr b="0" lang="en-US" sz="15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Optimizing overall control of engine</a:t>
            </a:r>
            <a:endParaRPr b="0" lang="en-US" sz="1500" spc="-1" strike="noStrike">
              <a:solidFill>
                <a:srgbClr val="000000"/>
              </a:solidFill>
              <a:latin typeface="Arial"/>
            </a:endParaRPr>
          </a:p>
          <a:p>
            <a:pPr lvl="1" marL="6984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000000"/>
                </a:solidFill>
                <a:uFillTx/>
                <a:latin typeface="Arial"/>
              </a:rPr>
              <a:t>Engine improvement [Gasoline engine]</a:t>
            </a:r>
            <a:endParaRPr b="0" lang="en-US" sz="17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4 valves (1%), 2 valves and 2 ignitions (2%), Variable valve system (1 – 7 %) </a:t>
            </a:r>
            <a:endParaRPr b="0" lang="en-US" sz="15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irect-injection stoichiometric engine (2%), Direct-injection lean-burn engine (10%)</a:t>
            </a:r>
            <a:endParaRPr b="0" lang="en-US" sz="15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Variable cylinder (7%), Miller cycle (10%)</a:t>
            </a:r>
            <a:endParaRPr b="0" lang="en-US" sz="15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High volume EGR (2%), Roller cam follower (1%), Offset crank (2%), Variable compression ratio (10%)</a:t>
            </a:r>
            <a:endParaRPr b="0" lang="en-US" sz="1500" spc="-1" strike="noStrike">
              <a:solidFill>
                <a:srgbClr val="000000"/>
              </a:solidFill>
              <a:latin typeface="Arial"/>
            </a:endParaRPr>
          </a:p>
          <a:p>
            <a:pPr lvl="1" marL="6984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000000"/>
                </a:solidFill>
                <a:uFillTx/>
                <a:latin typeface="Arial"/>
              </a:rPr>
              <a:t>Engine improvement [Diesel engine]</a:t>
            </a:r>
            <a:endParaRPr b="0" lang="en-US" sz="17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4 valves (1%) , Electronically controlled fuel injection device (1.5%) , Common rail (2.5%), Direct-injection diesel engine (8%), High pressure injection (1%), Supercharger and supercharger efficiency improvement (2 – 2.5%), Intercooler (1%), EGR (0.5 – 1%), Roller cam follower (1.5%), Offset crank (2%)</a:t>
            </a:r>
            <a:endParaRPr b="0" lang="en-US" sz="1500" spc="-1" strike="noStrike">
              <a:solidFill>
                <a:srgbClr val="000000"/>
              </a:solidFill>
              <a:latin typeface="Arial"/>
            </a:endParaRPr>
          </a:p>
          <a:p>
            <a:pPr lvl="1" marL="6984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000000"/>
                </a:solidFill>
                <a:uFillTx/>
                <a:latin typeface="Arial"/>
              </a:rPr>
              <a:t>Auxiliary equipment</a:t>
            </a:r>
            <a:endParaRPr b="0" lang="en-US" sz="17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lectric power steering (2%), Charge control (0.5%)</a:t>
            </a:r>
            <a:endParaRPr b="0" lang="en-US" sz="1500" spc="-1" strike="noStrike">
              <a:solidFill>
                <a:srgbClr val="000000"/>
              </a:solidFill>
              <a:latin typeface="Arial"/>
            </a:endParaRPr>
          </a:p>
          <a:p>
            <a:pPr lvl="1" marL="6984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000000"/>
                </a:solidFill>
                <a:uFillTx/>
                <a:latin typeface="Arial"/>
              </a:rPr>
              <a:t>Driving system improvement</a:t>
            </a:r>
            <a:endParaRPr b="0" lang="en-US" sz="17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Idle-neutral control (1%), AT with more gears (1 – 4%), Switch to CVT (7%), Switch to automated MT (AMT/DCT) (9%), Switch to MT (9%)</a:t>
            </a:r>
            <a:endParaRPr b="0" lang="en-US" sz="1500" spc="-1" strike="noStrike">
              <a:solidFill>
                <a:srgbClr val="000000"/>
              </a:solidFill>
              <a:latin typeface="Arial"/>
            </a:endParaRPr>
          </a:p>
          <a:p>
            <a:pPr lvl="1" marL="6984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000000"/>
                </a:solidFill>
                <a:uFillTx/>
                <a:latin typeface="Arial"/>
              </a:rPr>
              <a:t>Introduction of fuel-efficient vehicles</a:t>
            </a:r>
            <a:endParaRPr b="0" lang="en-US" sz="1700" spc="-1" strike="noStrike">
              <a:solidFill>
                <a:srgbClr val="000000"/>
              </a:solidFill>
              <a:latin typeface="Arial"/>
            </a:endParaRPr>
          </a:p>
          <a:p>
            <a:pPr lvl="1" marL="698400" indent="-26856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Hybrid vehicles (15 – 70%), Diesel vehicles (20%) , Idling stop vehicles (4 – 7%)</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60" y="-360"/>
            <a:ext cx="7605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a:t>
            </a:r>
            <a:r>
              <a:rPr b="0" lang="en-US" sz="2800" spc="-1" strike="noStrike">
                <a:solidFill>
                  <a:srgbClr val="4087c8"/>
                </a:solidFill>
                <a:latin typeface="HGP創英角ｺﾞｼｯｸUB"/>
              </a:rPr>
              <a:t>Top runner approach”: Negative factor (-β)</a:t>
            </a:r>
            <a:endParaRPr b="0" lang="en-US" sz="2800" spc="-1" strike="noStrike">
              <a:solidFill>
                <a:srgbClr val="4087c8"/>
              </a:solidFill>
              <a:latin typeface="HGP創英角ｺﾞｼｯｸUB"/>
            </a:endParaRPr>
          </a:p>
        </p:txBody>
      </p:sp>
      <p:sp>
        <p:nvSpPr>
          <p:cNvPr id="259" name="PlaceHolder 2"/>
          <p:cNvSpPr>
            <a:spLocks noGrp="1"/>
          </p:cNvSpPr>
          <p:nvPr>
            <p:ph/>
          </p:nvPr>
        </p:nvSpPr>
        <p:spPr>
          <a:xfrm>
            <a:off x="495000" y="907560"/>
            <a:ext cx="8915400" cy="5218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Exhaust emission regulations (▲3 to ▲7.5% in total)</a:t>
            </a:r>
            <a:endParaRPr b="0" lang="en-US" sz="24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Caused by technologies used on diesel vehicles and direct-injection lean-burn vehicles in response to the 2009 exhaust emission regulations.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Technologies considered were engine body improvement (NOx reduction by improving EGR, PM reduction by high pressure injection, etc.) and aftertreatment devices such as NOx occlusion reduction catalyst and continuous regeneration type DPF, etc.</a:t>
            </a:r>
            <a:endParaRPr b="0" lang="en-US" sz="2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Safety regulations (▲0.1 to ▲1.4% in total)</a:t>
            </a:r>
            <a:endParaRPr b="0" lang="en-US" sz="24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Caused by increased weight and travel resistance as a result of measures against/for offset crash, pedestrian protection, ISO-FIX, etc.</a:t>
            </a:r>
            <a:endParaRPr b="0" lang="en-US" sz="2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Arial"/>
              </a:rPr>
              <a:t>Noise regulations(▲0.1% in to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60" y="-360"/>
            <a:ext cx="7605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Maximum improvement: “Top runner approach”</a:t>
            </a:r>
            <a:endParaRPr b="0" lang="en-US" sz="2800" spc="-1" strike="noStrike">
              <a:solidFill>
                <a:srgbClr val="4087c8"/>
              </a:solidFill>
              <a:latin typeface="HGP創英角ｺﾞｼｯｸUB"/>
            </a:endParaRPr>
          </a:p>
        </p:txBody>
      </p:sp>
      <p:graphicFrame>
        <p:nvGraphicFramePr>
          <p:cNvPr id="261" name=""/>
          <p:cNvGraphicFramePr/>
          <p:nvPr/>
        </p:nvGraphicFramePr>
        <p:xfrm>
          <a:off x="679320" y="2163600"/>
          <a:ext cx="7894800" cy="3735720"/>
        </p:xfrm>
        <a:graphic>
          <a:graphicData uri="http://schemas.openxmlformats.org/presentationml/2006/ole">
            <p:oleObj progId="Excel.Sheet.12" r:id="rId1" spid="">
              <p:embed/>
              <p:pic>
                <p:nvPicPr>
                  <p:cNvPr id="262" name="" descr=""/>
                  <p:cNvPicPr/>
                  <p:nvPr/>
                </p:nvPicPr>
                <p:blipFill>
                  <a:blip r:embed="rId2"/>
                  <a:stretch/>
                </p:blipFill>
                <p:spPr>
                  <a:xfrm>
                    <a:off x="679320" y="2163600"/>
                    <a:ext cx="7894800" cy="3735720"/>
                  </a:xfrm>
                  <a:prstGeom prst="rect">
                    <a:avLst/>
                  </a:prstGeom>
                  <a:ln w="0">
                    <a:noFill/>
                  </a:ln>
                </p:spPr>
              </p:pic>
            </p:oleObj>
          </a:graphicData>
        </a:graphic>
      </p:graphicFrame>
      <p:sp>
        <p:nvSpPr>
          <p:cNvPr id="263" name=""/>
          <p:cNvSpPr/>
          <p:nvPr/>
        </p:nvSpPr>
        <p:spPr>
          <a:xfrm>
            <a:off x="8434440" y="3957480"/>
            <a:ext cx="140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015 New Target Standard Values</a:t>
            </a:r>
            <a:endParaRPr b="0" lang="en-US" sz="1200" spc="-1" strike="noStrike">
              <a:solidFill>
                <a:srgbClr val="000000"/>
              </a:solidFill>
              <a:latin typeface="Arial"/>
            </a:endParaRPr>
          </a:p>
        </p:txBody>
      </p:sp>
      <p:sp>
        <p:nvSpPr>
          <p:cNvPr id="264" name=""/>
          <p:cNvSpPr/>
          <p:nvPr/>
        </p:nvSpPr>
        <p:spPr>
          <a:xfrm>
            <a:off x="202680" y="981000"/>
            <a:ext cx="872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rrent Fuel Economy Performance and Level of 2015 Target Standard Val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Example (passenger vehicle:</a:t>
            </a:r>
            <a:r>
              <a:rPr b="0" lang="en-US" sz="1800" spc="-1" strike="noStrike">
                <a:solidFill>
                  <a:srgbClr val="000000"/>
                </a:solidFill>
                <a:latin typeface="Arial"/>
              </a:rPr>
              <a:t> </a:t>
            </a:r>
            <a:r>
              <a:rPr b="1" lang="en-US" sz="1800" spc="-1" strike="noStrike">
                <a:solidFill>
                  <a:srgbClr val="000000"/>
                </a:solidFill>
                <a:latin typeface="Arial"/>
              </a:rPr>
              <a:t>4 weight categories between 971kg and 1420kg)</a:t>
            </a:r>
            <a:endParaRPr b="0" lang="en-US" sz="1800" spc="-1" strike="noStrike">
              <a:solidFill>
                <a:srgbClr val="000000"/>
              </a:solidFill>
              <a:latin typeface="Arial"/>
            </a:endParaRPr>
          </a:p>
        </p:txBody>
      </p:sp>
      <p:sp>
        <p:nvSpPr>
          <p:cNvPr id="265" name=""/>
          <p:cNvSpPr/>
          <p:nvPr/>
        </p:nvSpPr>
        <p:spPr>
          <a:xfrm>
            <a:off x="3236760" y="5727600"/>
            <a:ext cx="572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Fuel economy values on this table are measured by JC08 mode.</a:t>
            </a:r>
            <a:endParaRPr b="0" lang="en-US" sz="1400" spc="-1" strike="noStrike">
              <a:solidFill>
                <a:srgbClr val="000000"/>
              </a:solidFill>
              <a:latin typeface="Arial"/>
            </a:endParaRPr>
          </a:p>
        </p:txBody>
      </p:sp>
      <p:sp>
        <p:nvSpPr>
          <p:cNvPr id="266" name=""/>
          <p:cNvSpPr/>
          <p:nvPr/>
        </p:nvSpPr>
        <p:spPr>
          <a:xfrm>
            <a:off x="8447040" y="4529160"/>
            <a:ext cx="140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Arial"/>
              </a:rPr>
              <a:t>2004 Average Fuel Economy</a:t>
            </a:r>
            <a:endParaRPr b="0" lang="en-US" sz="1200" spc="-1" strike="noStrike">
              <a:solidFill>
                <a:srgbClr val="000000"/>
              </a:solidFill>
              <a:latin typeface="Arial"/>
            </a:endParaRPr>
          </a:p>
        </p:txBody>
      </p:sp>
      <p:sp>
        <p:nvSpPr>
          <p:cNvPr id="267" name=""/>
          <p:cNvSpPr/>
          <p:nvPr/>
        </p:nvSpPr>
        <p:spPr>
          <a:xfrm>
            <a:off x="2178000" y="3530520"/>
            <a:ext cx="114480" cy="482760"/>
          </a:xfrm>
          <a:prstGeom prst="upArrow">
            <a:avLst>
              <a:gd name="adj1" fmla="val 50000"/>
              <a:gd name="adj2" fmla="val 105425"/>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8" name=""/>
          <p:cNvSpPr/>
          <p:nvPr/>
        </p:nvSpPr>
        <p:spPr>
          <a:xfrm>
            <a:off x="3784680" y="3765600"/>
            <a:ext cx="108000" cy="431640"/>
          </a:xfrm>
          <a:prstGeom prst="upArrow">
            <a:avLst>
              <a:gd name="adj1" fmla="val 50000"/>
              <a:gd name="adj2" fmla="val 99917"/>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9" name=""/>
          <p:cNvSpPr/>
          <p:nvPr/>
        </p:nvSpPr>
        <p:spPr>
          <a:xfrm>
            <a:off x="5524560" y="3949560"/>
            <a:ext cx="108000" cy="260640"/>
          </a:xfrm>
          <a:prstGeom prst="upArrow">
            <a:avLst>
              <a:gd name="adj1" fmla="val 50000"/>
              <a:gd name="adj2" fmla="val 60333"/>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0" name=""/>
          <p:cNvSpPr/>
          <p:nvPr/>
        </p:nvSpPr>
        <p:spPr>
          <a:xfrm>
            <a:off x="7118280" y="4121280"/>
            <a:ext cx="108000" cy="431640"/>
          </a:xfrm>
          <a:prstGeom prst="upArrow">
            <a:avLst>
              <a:gd name="adj1" fmla="val 50000"/>
              <a:gd name="adj2" fmla="val 99917"/>
            </a:avLst>
          </a:prstGeom>
          <a:solidFill>
            <a:srgbClr val="ffff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1" name=""/>
          <p:cNvSpPr/>
          <p:nvPr/>
        </p:nvSpPr>
        <p:spPr>
          <a:xfrm rot="20491800">
            <a:off x="4916160" y="2365200"/>
            <a:ext cx="1535040" cy="787680"/>
          </a:xfrm>
          <a:prstGeom prst="ellipse">
            <a:avLst/>
          </a:prstGeom>
          <a:noFill/>
          <a:ln w="25560">
            <a:solidFill>
              <a:srgbClr val="ff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2" name=""/>
          <p:cNvSpPr/>
          <p:nvPr/>
        </p:nvSpPr>
        <p:spPr>
          <a:xfrm flipH="1">
            <a:off x="6064200" y="2006640"/>
            <a:ext cx="736560" cy="30492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787080" y="1824120"/>
            <a:ext cx="2230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Hybrid Vehic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luded form Top-Runn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36160" y="-171720"/>
            <a:ext cx="8172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7c8"/>
                </a:solidFill>
                <a:latin typeface="HGP創英角ｺﾞｼｯｸUB"/>
              </a:rPr>
              <a:t>Fair Competition: “Segmentation by vehicle weight”</a:t>
            </a:r>
            <a:endParaRPr b="0" lang="en-US" sz="2800" spc="-1" strike="noStrike">
              <a:solidFill>
                <a:srgbClr val="4087c8"/>
              </a:solidFill>
              <a:latin typeface="HGP創英角ｺﾞｼｯｸUB"/>
            </a:endParaRPr>
          </a:p>
        </p:txBody>
      </p:sp>
      <p:sp>
        <p:nvSpPr>
          <p:cNvPr id="275" name=""/>
          <p:cNvSpPr/>
          <p:nvPr/>
        </p:nvSpPr>
        <p:spPr>
          <a:xfrm>
            <a:off x="200160" y="692280"/>
            <a:ext cx="9289800" cy="869760"/>
          </a:xfrm>
          <a:prstGeom prst="flowChartAlternateProcess">
            <a:avLst/>
          </a:prstGeom>
          <a:solidFill>
            <a:srgbClr val="bbe0e3">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72880" y="698400"/>
            <a:ext cx="9120240" cy="8607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gmentation by weight  so that competition will become fair in each category</a:t>
            </a:r>
            <a:endParaRPr b="0" lang="en-US" sz="14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Promoting introduction of advanced power-train and vehicles technologies by classifying vehicles into different categories by weight, transmission, fuel, and vehicle type.</a:t>
            </a:r>
            <a:endParaRPr b="0" lang="en-US" sz="1400" spc="-1" strike="noStrike">
              <a:solidFill>
                <a:srgbClr val="000000"/>
              </a:solidFill>
              <a:latin typeface="Arial"/>
            </a:endParaRPr>
          </a:p>
        </p:txBody>
      </p:sp>
      <p:sp>
        <p:nvSpPr>
          <p:cNvPr id="277" name=""/>
          <p:cNvSpPr/>
          <p:nvPr/>
        </p:nvSpPr>
        <p:spPr>
          <a:xfrm>
            <a:off x="1660680" y="6613560"/>
            <a:ext cx="718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1760400" y="4026960"/>
            <a:ext cx="0" cy="271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9" name=""/>
          <p:cNvCxnSpPr/>
          <p:nvPr/>
        </p:nvCxnSpPr>
        <p:spPr>
          <a:xfrm>
            <a:off x="1931760" y="4270320"/>
            <a:ext cx="1586520" cy="543600"/>
          </a:xfrm>
          <a:prstGeom prst="bentConnector3">
            <a:avLst>
              <a:gd name="adj1" fmla="val 49931"/>
            </a:avLst>
          </a:prstGeom>
          <a:ln w="19080">
            <a:solidFill>
              <a:srgbClr val="ff0000"/>
            </a:solidFill>
            <a:miter/>
          </a:ln>
        </p:spPr>
      </p:cxnSp>
      <p:cxnSp>
        <p:nvCxnSpPr>
          <p:cNvPr id="280" name=""/>
          <p:cNvCxnSpPr/>
          <p:nvPr/>
        </p:nvCxnSpPr>
        <p:spPr>
          <a:xfrm>
            <a:off x="3517560" y="4812840"/>
            <a:ext cx="1143720" cy="686520"/>
          </a:xfrm>
          <a:prstGeom prst="bentConnector3">
            <a:avLst>
              <a:gd name="adj1" fmla="val 50000"/>
            </a:avLst>
          </a:prstGeom>
          <a:ln w="19080">
            <a:solidFill>
              <a:srgbClr val="ff0000"/>
            </a:solidFill>
            <a:miter/>
          </a:ln>
        </p:spPr>
      </p:cxnSp>
      <p:cxnSp>
        <p:nvCxnSpPr>
          <p:cNvPr id="281" name=""/>
          <p:cNvCxnSpPr/>
          <p:nvPr/>
        </p:nvCxnSpPr>
        <p:spPr>
          <a:xfrm>
            <a:off x="4660560" y="5498640"/>
            <a:ext cx="1701000" cy="529200"/>
          </a:xfrm>
          <a:prstGeom prst="bentConnector3">
            <a:avLst>
              <a:gd name="adj1" fmla="val 49936"/>
            </a:avLst>
          </a:prstGeom>
          <a:ln w="19080">
            <a:solidFill>
              <a:srgbClr val="ff0000"/>
            </a:solidFill>
            <a:miter/>
          </a:ln>
        </p:spPr>
      </p:cxnSp>
      <p:cxnSp>
        <p:nvCxnSpPr>
          <p:cNvPr id="282" name=""/>
          <p:cNvCxnSpPr/>
          <p:nvPr/>
        </p:nvCxnSpPr>
        <p:spPr>
          <a:xfrm>
            <a:off x="6360840" y="6027480"/>
            <a:ext cx="1600920" cy="400680"/>
          </a:xfrm>
          <a:prstGeom prst="bentConnector3">
            <a:avLst>
              <a:gd name="adj1" fmla="val 50000"/>
            </a:avLst>
          </a:prstGeom>
          <a:ln w="19080">
            <a:solidFill>
              <a:srgbClr val="ff0000"/>
            </a:solidFill>
            <a:miter/>
          </a:ln>
        </p:spPr>
      </p:cxnSp>
      <p:sp>
        <p:nvSpPr>
          <p:cNvPr id="283" name=""/>
          <p:cNvSpPr/>
          <p:nvPr/>
        </p:nvSpPr>
        <p:spPr>
          <a:xfrm>
            <a:off x="2075040" y="4584600"/>
            <a:ext cx="142560" cy="128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4" name=""/>
          <p:cNvSpPr/>
          <p:nvPr/>
        </p:nvSpPr>
        <p:spPr>
          <a:xfrm>
            <a:off x="2333520" y="4729320"/>
            <a:ext cx="142920" cy="128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5" name=""/>
          <p:cNvSpPr/>
          <p:nvPr/>
        </p:nvSpPr>
        <p:spPr>
          <a:xfrm>
            <a:off x="2820960" y="5016600"/>
            <a:ext cx="142920" cy="128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6" name=""/>
          <p:cNvSpPr/>
          <p:nvPr/>
        </p:nvSpPr>
        <p:spPr>
          <a:xfrm>
            <a:off x="3151080" y="5046840"/>
            <a:ext cx="142920" cy="128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7" name=""/>
          <p:cNvSpPr/>
          <p:nvPr/>
        </p:nvSpPr>
        <p:spPr>
          <a:xfrm>
            <a:off x="3924360" y="527688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8" name=""/>
          <p:cNvSpPr/>
          <p:nvPr/>
        </p:nvSpPr>
        <p:spPr>
          <a:xfrm>
            <a:off x="4554360" y="563580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89" name=""/>
          <p:cNvSpPr/>
          <p:nvPr/>
        </p:nvSpPr>
        <p:spPr>
          <a:xfrm>
            <a:off x="2313000" y="4923000"/>
            <a:ext cx="142920" cy="128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0" name=""/>
          <p:cNvSpPr/>
          <p:nvPr/>
        </p:nvSpPr>
        <p:spPr>
          <a:xfrm>
            <a:off x="3700440" y="5181480"/>
            <a:ext cx="142920" cy="128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291" name=""/>
          <p:cNvSpPr/>
          <p:nvPr/>
        </p:nvSpPr>
        <p:spPr>
          <a:xfrm>
            <a:off x="855000" y="420372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 (km/l)</a:t>
            </a:r>
            <a:endParaRPr b="0" lang="en-US" sz="1400" spc="-1" strike="noStrike">
              <a:solidFill>
                <a:srgbClr val="000000"/>
              </a:solidFill>
              <a:latin typeface="Arial"/>
            </a:endParaRPr>
          </a:p>
        </p:txBody>
      </p:sp>
      <p:sp>
        <p:nvSpPr>
          <p:cNvPr id="292" name=""/>
          <p:cNvSpPr/>
          <p:nvPr/>
        </p:nvSpPr>
        <p:spPr>
          <a:xfrm>
            <a:off x="1774800" y="5370480"/>
            <a:ext cx="6815160" cy="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33960" y="5557680"/>
            <a:ext cx="142920" cy="128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294" name=""/>
          <p:cNvSpPr/>
          <p:nvPr/>
        </p:nvSpPr>
        <p:spPr>
          <a:xfrm>
            <a:off x="5049720" y="574524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5" name=""/>
          <p:cNvSpPr/>
          <p:nvPr/>
        </p:nvSpPr>
        <p:spPr>
          <a:xfrm>
            <a:off x="5537160" y="603252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6" name=""/>
          <p:cNvSpPr/>
          <p:nvPr/>
        </p:nvSpPr>
        <p:spPr>
          <a:xfrm>
            <a:off x="5867280" y="606276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7" name=""/>
          <p:cNvSpPr/>
          <p:nvPr/>
        </p:nvSpPr>
        <p:spPr>
          <a:xfrm>
            <a:off x="6211800" y="595008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8" name=""/>
          <p:cNvSpPr/>
          <p:nvPr/>
        </p:nvSpPr>
        <p:spPr>
          <a:xfrm>
            <a:off x="6284880" y="626580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99" name=""/>
          <p:cNvSpPr/>
          <p:nvPr/>
        </p:nvSpPr>
        <p:spPr>
          <a:xfrm>
            <a:off x="5029200" y="593892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300" name=""/>
          <p:cNvSpPr/>
          <p:nvPr/>
        </p:nvSpPr>
        <p:spPr>
          <a:xfrm>
            <a:off x="6845400" y="6297480"/>
            <a:ext cx="142920" cy="12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301" name=""/>
          <p:cNvSpPr/>
          <p:nvPr/>
        </p:nvSpPr>
        <p:spPr>
          <a:xfrm>
            <a:off x="6843600" y="4838760"/>
            <a:ext cx="142920" cy="1285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7966080" y="4840200"/>
            <a:ext cx="142920" cy="1285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303" name=""/>
          <p:cNvSpPr/>
          <p:nvPr/>
        </p:nvSpPr>
        <p:spPr>
          <a:xfrm rot="1244400">
            <a:off x="1622520" y="4860720"/>
            <a:ext cx="3119400" cy="528480"/>
          </a:xfrm>
          <a:prstGeom prst="ellipse">
            <a:avLst/>
          </a:prstGeom>
          <a:noFill/>
          <a:ln w="19080">
            <a:solidFill>
              <a:srgbClr val="33cc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207800">
            <a:off x="3722400" y="5559480"/>
            <a:ext cx="3443040" cy="596880"/>
          </a:xfrm>
          <a:prstGeom prst="ellipse">
            <a:avLst/>
          </a:prstGeom>
          <a:noFill/>
          <a:ln w="19080">
            <a:solidFill>
              <a:srgbClr val="008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31920" y="1773360"/>
            <a:ext cx="3105360" cy="307080"/>
          </a:xfrm>
          <a:prstGeom prst="rect">
            <a:avLst/>
          </a:prstGeom>
          <a:gradFill rotWithShape="0">
            <a:gsLst>
              <a:gs pos="0">
                <a:srgbClr val="333399">
                  <a:alpha val="70196"/>
                </a:srgbClr>
              </a:gs>
              <a:gs pos="50000">
                <a:srgbClr val="fefefe"/>
              </a:gs>
              <a:gs pos="100000">
                <a:srgbClr val="333399">
                  <a:alpha val="70196"/>
                </a:srgbClr>
              </a:gs>
            </a:gsLst>
            <a:lin ang="135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case of a singe standard value</a:t>
            </a:r>
            <a:endParaRPr b="0" lang="en-US" sz="1400" spc="-1" strike="noStrike">
              <a:solidFill>
                <a:srgbClr val="000000"/>
              </a:solidFill>
              <a:latin typeface="Arial"/>
            </a:endParaRPr>
          </a:p>
        </p:txBody>
      </p:sp>
      <p:sp>
        <p:nvSpPr>
          <p:cNvPr id="306" name=""/>
          <p:cNvSpPr/>
          <p:nvPr/>
        </p:nvSpPr>
        <p:spPr>
          <a:xfrm>
            <a:off x="841320" y="2157480"/>
            <a:ext cx="8174160" cy="7142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mpany A sells mostly compact cars that are above the standard value, so no improvement is necessary.</a:t>
            </a:r>
            <a:endParaRPr b="0" lang="en-US" sz="12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mpany B sells mostly larger vehicles that are below the standard value, so most car need improvement. </a:t>
            </a:r>
            <a:endParaRPr b="0" lang="en-US" sz="1200" spc="-1" strike="noStrike">
              <a:solidFill>
                <a:srgbClr val="000000"/>
              </a:solidFill>
              <a:latin typeface="Arial"/>
            </a:endParaRPr>
          </a:p>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eeting the standard is possible just by increasing the sales of compact cars</a:t>
            </a:r>
            <a:endParaRPr b="0" lang="en-US" sz="1200" spc="-1" strike="noStrike">
              <a:solidFill>
                <a:srgbClr val="000000"/>
              </a:solidFill>
              <a:latin typeface="Arial"/>
            </a:endParaRPr>
          </a:p>
        </p:txBody>
      </p:sp>
      <p:sp>
        <p:nvSpPr>
          <p:cNvPr id="307" name=""/>
          <p:cNvSpPr/>
          <p:nvPr/>
        </p:nvSpPr>
        <p:spPr>
          <a:xfrm>
            <a:off x="318600" y="2925720"/>
            <a:ext cx="4060800" cy="307080"/>
          </a:xfrm>
          <a:prstGeom prst="rect">
            <a:avLst/>
          </a:prstGeom>
          <a:gradFill rotWithShape="0">
            <a:gsLst>
              <a:gs pos="0">
                <a:srgbClr val="333399">
                  <a:alpha val="70196"/>
                </a:srgbClr>
              </a:gs>
              <a:gs pos="50000">
                <a:srgbClr val="fefefe"/>
              </a:gs>
              <a:gs pos="100000">
                <a:srgbClr val="333399">
                  <a:alpha val="70196"/>
                </a:srgbClr>
              </a:gs>
            </a:gsLst>
            <a:lin ang="135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case of a standard value for each category</a:t>
            </a:r>
            <a:endParaRPr b="0" lang="en-US" sz="1400" spc="-1" strike="noStrike">
              <a:solidFill>
                <a:srgbClr val="000000"/>
              </a:solidFill>
              <a:latin typeface="Arial"/>
            </a:endParaRPr>
          </a:p>
        </p:txBody>
      </p:sp>
      <p:sp>
        <p:nvSpPr>
          <p:cNvPr id="308" name=""/>
          <p:cNvSpPr/>
          <p:nvPr/>
        </p:nvSpPr>
        <p:spPr>
          <a:xfrm>
            <a:off x="816120" y="3292560"/>
            <a:ext cx="8216640" cy="714240"/>
          </a:xfrm>
          <a:prstGeom prst="rect">
            <a:avLst/>
          </a:prstGeom>
          <a:noFill/>
          <a:ln w="0">
            <a:noFill/>
          </a:ln>
        </p:spPr>
        <p:style>
          <a:lnRef idx="0"/>
          <a:fillRef idx="0"/>
          <a:effectRef idx="0"/>
          <a:fontRef idx="minor"/>
        </p:style>
        <p:txBody>
          <a:bodyPr lIns="90000" rIns="90000" tIns="46800" bIns="46800" anchor="t">
            <a:spAutoFit/>
          </a:bodyPr>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oth Company A and B must improve the fuel efficiency of cars that are below the standard</a:t>
            </a:r>
            <a:endParaRPr b="0" lang="en-US" sz="1200" spc="-1" strike="noStrike">
              <a:solidFill>
                <a:srgbClr val="000000"/>
              </a:solidFill>
              <a:latin typeface="Arial"/>
            </a:endParaRPr>
          </a:p>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oth companies cannot meet the standard by change of model mix and therefore, introduction of advanced technologies is necessary for all the weight class.</a:t>
            </a:r>
            <a:endParaRPr b="0" lang="en-US" sz="1200" spc="-1" strike="noStrike">
              <a:solidFill>
                <a:srgbClr val="000000"/>
              </a:solidFill>
              <a:latin typeface="Arial"/>
            </a:endParaRPr>
          </a:p>
        </p:txBody>
      </p:sp>
      <p:sp>
        <p:nvSpPr>
          <p:cNvPr id="309" name=""/>
          <p:cNvSpPr/>
          <p:nvPr/>
        </p:nvSpPr>
        <p:spPr>
          <a:xfrm>
            <a:off x="7589880" y="5094360"/>
            <a:ext cx="1652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Single standard value</a:t>
            </a:r>
            <a:endParaRPr b="0" lang="en-US" sz="1200" spc="-1" strike="noStrike">
              <a:solidFill>
                <a:srgbClr val="000000"/>
              </a:solidFill>
              <a:latin typeface="Arial"/>
            </a:endParaRPr>
          </a:p>
        </p:txBody>
      </p:sp>
      <p:sp>
        <p:nvSpPr>
          <p:cNvPr id="310" name=""/>
          <p:cNvSpPr/>
          <p:nvPr/>
        </p:nvSpPr>
        <p:spPr>
          <a:xfrm>
            <a:off x="7320960" y="5967360"/>
            <a:ext cx="1626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tandard value f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ach weight category</a:t>
            </a:r>
            <a:endParaRPr b="0" lang="en-US" sz="1200" spc="-1" strike="noStrike">
              <a:solidFill>
                <a:srgbClr val="000000"/>
              </a:solidFill>
              <a:latin typeface="Arial"/>
            </a:endParaRPr>
          </a:p>
        </p:txBody>
      </p:sp>
      <p:sp>
        <p:nvSpPr>
          <p:cNvPr id="311" name=""/>
          <p:cNvSpPr/>
          <p:nvPr/>
        </p:nvSpPr>
        <p:spPr>
          <a:xfrm>
            <a:off x="8053560" y="4797360"/>
            <a:ext cx="84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A</a:t>
            </a:r>
            <a:endParaRPr b="0" lang="en-US" sz="1000" spc="-1" strike="noStrike">
              <a:solidFill>
                <a:srgbClr val="000000"/>
              </a:solidFill>
              <a:latin typeface="Arial"/>
            </a:endParaRPr>
          </a:p>
        </p:txBody>
      </p:sp>
      <p:sp>
        <p:nvSpPr>
          <p:cNvPr id="312" name=""/>
          <p:cNvSpPr/>
          <p:nvPr/>
        </p:nvSpPr>
        <p:spPr>
          <a:xfrm>
            <a:off x="6940800" y="4799160"/>
            <a:ext cx="84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ny 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6200" y="-360"/>
            <a:ext cx="85676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87c8"/>
                </a:solidFill>
                <a:latin typeface="HGP創英角ｺﾞｼｯｸUB"/>
              </a:rPr>
              <a:t>Fair Competition: Segmentation by Vehicle Structures (Only for N1)</a:t>
            </a:r>
            <a:endParaRPr b="0" lang="en-US" sz="2200" spc="-1" strike="noStrike">
              <a:solidFill>
                <a:srgbClr val="4087c8"/>
              </a:solidFill>
              <a:latin typeface="HGP創英角ｺﾞｼｯｸUB"/>
            </a:endParaRPr>
          </a:p>
        </p:txBody>
      </p:sp>
      <p:graphicFrame>
        <p:nvGraphicFramePr>
          <p:cNvPr id="314" name=""/>
          <p:cNvGraphicFramePr/>
          <p:nvPr/>
        </p:nvGraphicFramePr>
        <p:xfrm>
          <a:off x="488880" y="3573360"/>
          <a:ext cx="9056880" cy="2422800"/>
        </p:xfrm>
        <a:graphic>
          <a:graphicData uri="http://schemas.openxmlformats.org/presentationml/2006/ole">
            <p:oleObj r:id="rId1" spid="">
              <p:embed/>
              <p:pic>
                <p:nvPicPr>
                  <p:cNvPr id="315" name="" descr=""/>
                  <p:cNvPicPr/>
                  <p:nvPr/>
                </p:nvPicPr>
                <p:blipFill>
                  <a:blip r:embed="rId2"/>
                  <a:stretch/>
                </p:blipFill>
                <p:spPr>
                  <a:xfrm>
                    <a:off x="488880" y="3573360"/>
                    <a:ext cx="9056880" cy="2422800"/>
                  </a:xfrm>
                  <a:prstGeom prst="rect">
                    <a:avLst/>
                  </a:prstGeom>
                  <a:ln w="0">
                    <a:noFill/>
                  </a:ln>
                </p:spPr>
              </p:pic>
            </p:oleObj>
          </a:graphicData>
        </a:graphic>
      </p:graphicFrame>
      <p:sp>
        <p:nvSpPr>
          <p:cNvPr id="316" name=""/>
          <p:cNvSpPr/>
          <p:nvPr/>
        </p:nvSpPr>
        <p:spPr>
          <a:xfrm>
            <a:off x="560520" y="1125360"/>
            <a:ext cx="8915400" cy="199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N1 vehicles, segments are defined by “several other features” in addition to “vehicles weight”, taking into consider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ket of each vehicle 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ed technology for each vehicle 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fication/Vehicle structure of each vehicle typ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15800" y="-360"/>
            <a:ext cx="1657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87c8"/>
                </a:solidFill>
                <a:latin typeface="HGP創英角ｺﾞｼｯｸUB"/>
              </a:rPr>
              <a:t>Agenda</a:t>
            </a:r>
            <a:endParaRPr b="0" lang="en-US" sz="2800" spc="-1" strike="noStrike">
              <a:solidFill>
                <a:srgbClr val="4087c8"/>
              </a:solidFill>
              <a:latin typeface="HGP創英角ｺﾞｼｯｸUB"/>
            </a:endParaRPr>
          </a:p>
        </p:txBody>
      </p:sp>
      <p:sp>
        <p:nvSpPr>
          <p:cNvPr id="318" name=""/>
          <p:cNvSpPr/>
          <p:nvPr/>
        </p:nvSpPr>
        <p:spPr>
          <a:xfrm>
            <a:off x="584280" y="4149720"/>
            <a:ext cx="881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974880" y="1341360"/>
            <a:ext cx="8111880" cy="3933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Top Runner Approach</a:t>
            </a:r>
            <a:r>
              <a:rPr b="1" lang="ja-JP" sz="2800" spc="-1" strike="noStrike">
                <a:solidFill>
                  <a:srgbClr val="000000"/>
                </a:solidFill>
                <a:latin typeface="Arial"/>
              </a:rPr>
              <a:t>  </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Fuel Efficiency regulation for HDVs</a:t>
            </a:r>
            <a:br>
              <a:rPr sz="2800"/>
            </a:br>
            <a:r>
              <a:rPr b="1" lang="ja-JP" sz="2800" spc="-1" strike="noStrike">
                <a:solidFill>
                  <a:srgbClr val="000000"/>
                </a:solidFill>
                <a:latin typeface="Arial"/>
              </a:rPr>
              <a:t> </a:t>
            </a:r>
            <a:r>
              <a:rPr b="1" lang="ja-JP" sz="1800" spc="-1" strike="noStrike">
                <a:solidFill>
                  <a:srgbClr val="000000"/>
                </a:solidFill>
                <a:latin typeface="Arial"/>
              </a:rPr>
              <a:t>・</a:t>
            </a:r>
            <a:r>
              <a:rPr b="0" lang="ja-JP" sz="1800" spc="-1" strike="noStrike">
                <a:solidFill>
                  <a:srgbClr val="000000"/>
                </a:solidFill>
                <a:latin typeface="Arial"/>
              </a:rPr>
              <a:t> </a:t>
            </a:r>
            <a:r>
              <a:rPr b="0" lang="ja-JP" sz="2800" spc="-1" strike="noStrike">
                <a:solidFill>
                  <a:srgbClr val="000000"/>
                </a:solidFill>
                <a:latin typeface="Arial"/>
              </a:rPr>
              <a:t>Simulation Test under JE05</a:t>
            </a:r>
            <a:br>
              <a:rPr sz="2800"/>
            </a:br>
            <a:r>
              <a:rPr b="0" lang="ja-JP" sz="2800" spc="-1" strike="noStrike">
                <a:solidFill>
                  <a:srgbClr val="000000"/>
                </a:solidFill>
                <a:latin typeface="Arial"/>
              </a:rPr>
              <a:t> </a:t>
            </a:r>
            <a:r>
              <a:rPr b="1" lang="ja-JP" sz="1800" spc="-1" strike="noStrike">
                <a:solidFill>
                  <a:srgbClr val="000000"/>
                </a:solidFill>
                <a:latin typeface="Arial"/>
              </a:rPr>
              <a:t>・</a:t>
            </a:r>
            <a:r>
              <a:rPr b="0" lang="ja-JP" sz="1800" spc="-1" strike="noStrike">
                <a:solidFill>
                  <a:srgbClr val="000000"/>
                </a:solidFill>
                <a:latin typeface="Arial"/>
              </a:rPr>
              <a:t> </a:t>
            </a:r>
            <a:r>
              <a:rPr b="0" lang="ja-JP" sz="2800" spc="-1" strike="noStrike">
                <a:solidFill>
                  <a:srgbClr val="000000"/>
                </a:solidFill>
                <a:latin typeface="Arial"/>
              </a:rPr>
              <a:t>HD HEV Test</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Fuel Efficiency Regulation for LDVs</a:t>
            </a:r>
            <a:br>
              <a:rPr sz="2800"/>
            </a:br>
            <a:r>
              <a:rPr b="1"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Conventional Test Method</a:t>
            </a:r>
            <a:br>
              <a:rPr sz="2800"/>
            </a:br>
            <a:r>
              <a:rPr b="0"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for LD HEV Test</a:t>
            </a:r>
            <a:br>
              <a:rPr sz="2800"/>
            </a:br>
            <a:r>
              <a:rPr b="0" lang="ja-JP" sz="2800" spc="-1" strike="noStrike">
                <a:solidFill>
                  <a:srgbClr val="808080"/>
                </a:solidFill>
                <a:latin typeface="Arial"/>
              </a:rPr>
              <a:t> </a:t>
            </a:r>
            <a:r>
              <a:rPr b="1" lang="ja-JP" sz="1800" spc="-1" strike="noStrike">
                <a:solidFill>
                  <a:srgbClr val="808080"/>
                </a:solidFill>
                <a:latin typeface="Arial"/>
              </a:rPr>
              <a:t>・</a:t>
            </a:r>
            <a:r>
              <a:rPr b="0" lang="ja-JP" sz="1800" spc="-1" strike="noStrike">
                <a:solidFill>
                  <a:srgbClr val="808080"/>
                </a:solidFill>
                <a:latin typeface="Arial"/>
              </a:rPr>
              <a:t> </a:t>
            </a:r>
            <a:r>
              <a:rPr b="0" lang="ja-JP" sz="2800" spc="-1" strike="noStrike">
                <a:solidFill>
                  <a:srgbClr val="808080"/>
                </a:solidFill>
                <a:latin typeface="Arial"/>
              </a:rPr>
              <a:t>Challenge for PHEV Evaluation</a:t>
            </a:r>
            <a:endParaRPr b="0" lang="en-US" sz="2800" spc="-1" strike="noStrike">
              <a:solidFill>
                <a:srgbClr val="000000"/>
              </a:solidFill>
              <a:latin typeface="Arial"/>
            </a:endParaRPr>
          </a:p>
          <a:p>
            <a:pPr marL="343080" indent="-343080">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08080"/>
                </a:solidFill>
                <a:latin typeface="Arial"/>
              </a:rPr>
              <a:t>IPT Bus : PHEV for HDV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12:19:33Z</dcterms:created>
  <dc:creator>行政情報システム室</dc:creator>
  <dc:description/>
  <dc:language>en-US</dc:language>
  <cp:lastModifiedBy>Gibbons</cp:lastModifiedBy>
  <dcterms:modified xsi:type="dcterms:W3CDTF">2008-11-11T16:38:50Z</dcterms:modified>
  <cp:revision>499</cp:revision>
  <dc:subject/>
  <dc:title>スライド 1</dc:title>
</cp:coreProperties>
</file>