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B79B-3DE4-44FB-B2CF-9CAD71F1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56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9495-EC07-46B0-893D-09B5D2AF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20DD-6F6C-41F0-BC3B-7E0FD74E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413F-3FBA-4C3B-8D29-05AB9ABB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5A4B5-8FB7-40E4-9D7E-16A20BF1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3BB0D-6BC1-47B9-B5EA-67696666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56645-77F3-49A4-9CFE-AAD726D8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3080C-C602-4FF0-941D-3650A9AB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73C6C-17F3-4C43-9F6D-95FDEB20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348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1B76C-7666-4335-9C4D-5411E2FC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4EE69-FACC-4DBF-BB35-AD02EE6B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F321-1372-4700-A42F-0417B40F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D7482-022E-401D-A2AD-2E767B1F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5D290-26AE-4385-A207-31742BE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56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17D1B-1812-4571-B5C0-9896B12A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0C95F-BAB7-4AE7-BD55-879E62BF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85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562280"/>
            <a:ext cx="264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DAEE2-96A5-450D-8070-8B7310E2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DF5E-3523-4DA2-AA5D-D2DEC21F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64E0-1575-4C2B-BE86-C4979581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441C-D7FD-4D3A-9B40-33201EA4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348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D4E0-FC2E-4570-B95B-13380EF9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C15A-391B-4127-8E0E-3BC07F80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56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34E6-4F44-4ECD-B4BC-83D493F9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852280"/>
            <a:ext cx="40158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562280"/>
            <a:ext cx="822960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B4F9-1085-4742-AB04-B6230EA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4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47200" y="6379920"/>
            <a:ext cx="2412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AB1D-68E1-4A0A-957B-8AF53B605FFF}" type="slidenum">
              <a:rPr b="0" lang="sv-S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551560" y="6379920"/>
            <a:ext cx="3168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7305840" y="6376680"/>
            <a:ext cx="86328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691F-E833-4055-8065-E0DB2DE02930}" type="datetime">
              <a:rPr b="0" lang="sv-SE" sz="8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4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1349280"/>
            <a:ext cx="820728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8647200" y="6379920"/>
            <a:ext cx="2412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E6C5-AA2A-468D-8420-527F8B0AE7C6}" type="slidenum">
              <a:rPr b="0" lang="sv-S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5551560" y="6379920"/>
            <a:ext cx="3168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7305840" y="6376680"/>
            <a:ext cx="86328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5411-F29F-4BEF-B50F-88823D29D04D}" type="datetime">
              <a:rPr b="0" lang="sv-SE" sz="8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v.se/templates/page3____21943.aspx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669900"/>
                </a:solidFill>
                <a:latin typeface="Arial"/>
              </a:rPr>
              <a:t>Eco car subsidy</a:t>
            </a:r>
            <a:r>
              <a:rPr b="1" lang="sv-S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9900"/>
                </a:solidFill>
                <a:latin typeface="Arial"/>
              </a:rPr>
              <a:t>Definition of eco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lternative fueled vehicles, energy consumption less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9.2 l petrol/100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9.7 m3 CNG/100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37 kWh electric energy/100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Conventional fueled veh. (petrol, diesel) CO2 emissions less 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120 g/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And if diesel also fulfill &lt;5 mg/km 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9900"/>
                </a:solidFill>
                <a:latin typeface="Arial"/>
              </a:rPr>
              <a:t>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0 000 Skr (1 100 €), new registration, only private per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Not the only definition of EFV in Sweden, other us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ngestio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axation of company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960" y="6238800"/>
            <a:ext cx="70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ad more on: </a:t>
            </a:r>
            <a:r>
              <a:rPr b="0" lang="sv-S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v.se/templates/page3____21943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32240" y="247680"/>
            <a:ext cx="3673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orking paper 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FV-01-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RPE Informal Group on EF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st Meeting, 6 June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ägverke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23E7-1895-4F68-B558-01A61C2B2FC0}" type="slidenum">
              <a:t>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FF8495-7470-4CB6-95A2-732C4B428A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669900"/>
                </a:solidFill>
                <a:latin typeface="Arial"/>
              </a:rPr>
              <a:t>Effects of the Eco car subsi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402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arge increase in ”eco cars” mainly Flex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arge increase in use of E85 (”pump-law” also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ince the increase were larger than expected the budget for the subsidary had to be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03880" y="2814480"/>
            <a:ext cx="5624280" cy="349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ägverk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5A2E-7653-4D5B-B0FC-C7A9868420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3661E4-2D9D-46FC-A8D1-C0EBFB7FA7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Biofuels in road transport in Sweden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46280" y="2144880"/>
            <a:ext cx="7700760" cy="43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ägverk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EAE3-D662-4D45-B60F-C9290B4EBE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B3A313-71BC-4B84-ADED-42F97C01B477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Important issues in an EFV defi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8428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ow emissions of air pol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ow emissions of climat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igh energy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ow nois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his can be included in concept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vironmental 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een Vehicle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an be difficult to have same global levels but principles could b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ägverk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9DC7-38E5-4363-AFEE-A3B020ED1D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DA5D87-D827-4377-91DB-FA46F446F0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7:43:30Z</dcterms:created>
  <dc:creator>Johansson_HA</dc:creator>
  <dc:description/>
  <dc:language>en-US</dc:language>
  <cp:lastModifiedBy>Romain HUBERT</cp:lastModifiedBy>
  <dcterms:modified xsi:type="dcterms:W3CDTF">2008-06-06T13:18:18Z</dcterms:modified>
  <cp:revision>122</cp:revision>
  <dc:subject/>
  <dc:title>Utsläpp av växthusgaser nivå för att nå 2 grader minskningar jämfört med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allversion">
    <vt:lpwstr>5.0</vt:lpwstr>
  </property>
</Properties>
</file>