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08FA-C44C-4C83-859D-37772E39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3A7C-78A3-4B99-AB92-0BFF36C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6C42-CFBC-4449-BA94-D3622DA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9ACE-ED7F-45A9-874B-3A791FE6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25643-3BAC-4EE8-8660-41E1B511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F49A2-ACE7-4B18-B62E-499C2CBA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9BD5-4695-4A87-A992-00A9CA7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227F5-219A-454A-B7A3-6A1186CE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92F5-7270-4691-A5F0-CFA5C39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348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D0891-1DE8-4125-967F-C8788C2F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F07B9-86B5-446C-B5FD-386E307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FC3-56F5-4847-82C4-CE32C0D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C38F6-8C2C-457A-B8D3-5684E93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BE9F4-D667-46B9-8968-F840CC9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0182A-B1AB-4220-97A9-8B4C0C7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7510-F075-439D-891B-C69B802A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A4D20-136C-432F-812A-B61A0C35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4D86-2630-4A7E-8922-E4FD27C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EF8A-CEEA-41B5-9FAF-B0BA42F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8C4F-E560-4549-9899-CE07142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348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A7C1-1EF3-4194-B785-130828B1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7C68-16CE-4697-8A6F-6FFD045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1CB8-00D4-49D0-BD81-14B35B0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28F9-50B5-4672-92AE-55C577E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47200" y="6379920"/>
            <a:ext cx="2412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317-4760-42EF-88BC-9B846915D3C4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551560" y="6379920"/>
            <a:ext cx="3168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7305840" y="6376680"/>
            <a:ext cx="86328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F2C-E7E3-4FF8-BEE4-FB2D690CBE00}" type="datetime">
              <a:rPr b="0" lang="sv-SE" sz="8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1349280"/>
            <a:ext cx="82072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8647200" y="6379920"/>
            <a:ext cx="2412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4210-96CB-407C-B585-CB124278BDD9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5551560" y="6379920"/>
            <a:ext cx="3168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7305840" y="6376680"/>
            <a:ext cx="86328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0658-6D5B-4BE8-BA09-2AF9D3082984}" type="datetime">
              <a:rPr b="0" lang="sv-SE" sz="8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v.se/templates/page3____21943.aspx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669900"/>
                </a:solidFill>
                <a:latin typeface="Arial"/>
              </a:rPr>
              <a:t>Eco car subsidy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9900"/>
                </a:solidFill>
                <a:latin typeface="Arial"/>
              </a:rPr>
              <a:t>Definition of eco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ternative fueled vehicles, energy consumption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9.2 l petrol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9.7 m3 CNG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7 kWh electric energy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Conventional fueled veh. (petrol, diesel) CO2 emissions less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20 g/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And if diesel also fulfill &lt;5 mg/km 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9900"/>
                </a:solidFill>
                <a:latin typeface="Arial"/>
              </a:rPr>
              <a:t>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0 000 Skr (1 100 €), new registration, only private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Not the only definition of EFV in Sweden, other us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ngestio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xation of company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960" y="6238800"/>
            <a:ext cx="70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ad more on: </a:t>
            </a:r>
            <a:r>
              <a:rPr b="0" lang="sv-S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v.se/templates/page3____21943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32240" y="247680"/>
            <a:ext cx="3673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orking paper 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FV-01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st Meeting, 6 June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1B55-3B3D-4CA9-9665-E0E3CAAE7C86}" type="slidenum">
              <a:t>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6B2AED-42C9-41D2-B901-F252695D67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669900"/>
                </a:solidFill>
                <a:latin typeface="Arial"/>
              </a:rPr>
              <a:t>Effects of the Eco car subsi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402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arge increase in ”eco cars” mainly Flex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arge increase in use of E85 (”pump-law” also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ince the increase were larger than expected the budget for the subsidary had to be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2814480"/>
            <a:ext cx="5624280" cy="34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8600-0785-4AB8-8A66-55817D569E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636B5-B17C-46B2-9DC8-CE0D8C392B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Biofuels in road transport in Sweden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6280" y="2144880"/>
            <a:ext cx="7700760" cy="43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C2C0-C8C1-4E4D-A02B-B500E35721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EF422-2A33-471B-A4B6-5EDBAC360929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Important issues in an EFV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8428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emissions of air pol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emissions of climat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gh 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nois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is can be included in concept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vironmental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een Vehicle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an be difficult to have same global levels but principles could b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EB37-36B7-4216-95F3-5C42CA3850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BA358-158B-4615-8468-A791E3947E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7:43:30Z</dcterms:created>
  <dc:creator>Johansson_HA</dc:creator>
  <dc:description/>
  <dc:language>en-US</dc:language>
  <cp:lastModifiedBy>Romain HUBERT</cp:lastModifiedBy>
  <dcterms:modified xsi:type="dcterms:W3CDTF">2008-06-06T13:18:18Z</dcterms:modified>
  <cp:revision>122</cp:revision>
  <dc:subject/>
  <dc:title>Utsläpp av växthusgaser nivå för att nå 2 grader minskningar jämfört med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allversion">
    <vt:lpwstr>5.0</vt:lpwstr>
  </property>
</Properties>
</file>