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00C22-37F0-4C3B-AF3E-BAA9057A5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24D51-4641-4D44-A2CE-AF29813CE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01F64-5A19-4947-B1CD-F69D44F17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7CF83-1254-4A9A-9502-F75DBFA47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EC98D-85B8-4B49-A8C9-6B7C6A256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EE1D3-1A9F-42BA-B2B1-0F2315F8A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01132-AFEB-47FB-905D-38BCC897A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E98A3-AF87-4EA7-AB1D-7BB4C7CCE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543A5-4C32-4D28-A81D-53A2A385F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28864-1259-4E57-869F-AACFF8B0E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5E498-2779-4728-9C8E-DE2832211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C988B-679A-4573-BCD5-939745DBD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1D4A9-50C5-4151-8839-6B0F0D06A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66A7E-48BA-4FEF-8D34-510D625D9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AEF89-B802-4EF4-A331-4A2FB5085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2A98F-DC2B-4762-B796-9C8D96675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4D2EF-8960-458C-AA45-932E0F406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6C2E9-3D05-4700-A3F3-12BCD1168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FB241-1473-40B1-B709-3995A0253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DF36E-C549-45F1-B9F9-2ABB1E577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A03B0-EC0D-4714-B3B3-AF5F72555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33D31-CE22-46F9-81B3-D82381005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A9B2A-1BE8-4EEF-BF92-F229855BF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5FF71-BD01-4995-85C6-351823D43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BBBB-C846-483C-BA55-EAC349DC3A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DD47-AA29-465A-B3C2-CC13768312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mendments to R113 &amp; R53</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 NM Roger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retary General IM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56/GRE, April 2006, IMMA presented Informal document GRE-56-7, which explained the research background and contained the original proposal fo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a new symmetrical beam in R113, with broadly the same performance as R98</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this new beam and R98 to R5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scussions at 58/GRE</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ＭＳ Ｐゴシック"/>
              </a:rPr>
              <a:t>58/GRE agreed to the IMMA proposal provided th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Latha"/>
              </a:rPr>
              <a:t>5-years after the amendment came into force, the requirement would be that the cut-off line would have to remain within the range -0.5% and -2.5% under all conditions of loading (how this was to be achieved was up to the manufactur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Latha"/>
              </a:rPr>
              <a:t>compliance with this requirement would only be tested in the rider-alone and the fully laden condition</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Latha"/>
              </a:rPr>
              <a:t>IMMA would prepare the texts for 59/G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113 Amendment</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endment is in GRE/2006/47/Rev.1</a:t>
            </a:r>
            <a:endParaRPr b="0" lang="en-US" sz="2800" spc="-1" strike="noStrike">
              <a:solidFill>
                <a:srgbClr val="ffffff"/>
              </a:solidFill>
              <a:latin typeface="Arial"/>
            </a:endParaRPr>
          </a:p>
          <a:p>
            <a:pPr marL="339480" indent="-3394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am pattern for lamps &gt;2000 lumens is based on the following elements:</a:t>
            </a:r>
            <a:endParaRPr b="0" lang="en-US" sz="2800" spc="-1" strike="noStrike">
              <a:solidFill>
                <a:srgbClr val="ffffff"/>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bove the HH line the beam remains the same as the other beam patterns in Regulation No. 113</a:t>
            </a:r>
            <a:endParaRPr b="0" lang="en-US" sz="2400" spc="-1" strike="noStrike">
              <a:solidFill>
                <a:srgbClr val="ffffff"/>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below the HH line, the values for individual points have been raised but the highest increase still leaves the maximum value for that particular point at the same level as in Regulation No. 98, e.g. points 1 &amp; 3.</a:t>
            </a:r>
            <a:r>
              <a:rPr b="0" lang="en-US"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verall effect of these measures is to maintain the same level of comfort for the on-coming driver, while providing better illumination for the ri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53 amendment</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mendment is in GRE/2006/46</a:t>
            </a:r>
            <a:r>
              <a:rPr b="0" lang="en-GB" sz="3200" spc="-1" strike="noStrike">
                <a:solidFill>
                  <a:srgbClr val="ffffff"/>
                </a:solidFill>
                <a:latin typeface="Arial"/>
                <a:ea typeface="ＭＳ Ｐゴシック"/>
              </a:rPr>
              <a:t>/Rev.1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ＭＳ Ｐゴシック"/>
              </a:rPr>
              <a:t>This text introduces into R53, the installation requirements for headlamps with a light source having an objective luminous flux which exceeds 2000 lumen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ＭＳ Ｐゴシック"/>
              </a:rPr>
              <a:t>It specifies the tests for the vertical alignment of these lamps</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ＭＳ Ｐゴシック"/>
              </a:rPr>
              <a:t>It also specifies the transitional provisions agreed by 58/G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Corrections to GRE/2006/46</a:t>
            </a:r>
            <a:r>
              <a:rPr b="0" lang="en-GB" sz="4000" spc="-1" strike="noStrike">
                <a:solidFill>
                  <a:srgbClr val="ffffff"/>
                </a:solidFill>
                <a:latin typeface="Arial"/>
                <a:ea typeface="ＭＳ Ｐゴシック"/>
              </a:rPr>
              <a:t>/Rev.1</a:t>
            </a:r>
            <a:endParaRPr b="0" lang="en-US" sz="40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 experts have identified corrections to the document, based on:</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necessary duplication/conflict of definition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used definition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rification of the test procedur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modified 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9:54:44Z</dcterms:created>
  <dc:creator>Administrator</dc:creator>
  <dc:description/>
  <dc:language>en-US</dc:language>
  <cp:lastModifiedBy>Administrator</cp:lastModifiedBy>
  <dcterms:modified xsi:type="dcterms:W3CDTF">2008-04-02T12:21:18Z</dcterms:modified>
  <cp:revision>4</cp:revision>
  <dc:subject/>
  <dc:title>Amendments to R53 &amp; R113</dc:title>
</cp:coreProperties>
</file>