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27C-E9CA-49E9-9E3F-5D24704F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04C3-BAFC-4F86-9418-1D439C22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525-8332-4183-BF4B-4324E558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27BD-D337-4EC0-82F5-B398C905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473-A325-41D6-9CD7-68A30F3A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66CF-3005-4135-BE68-DA16C31E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FD28-D130-4B2B-92E0-91256CBF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9337-41D7-46FA-BFBA-6CF95DCE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CB99-C288-4D91-B682-95A6CAB8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9E9-8B73-45C0-AFB5-1A3F2EF1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A427-76AA-49E3-A60F-2F620851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8BA4-1509-420D-B20E-E3E0EB94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570D-57D7-4041-834C-790DB77B0465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620280"/>
            <a:ext cx="8820360" cy="86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of the wording in 6.2.3.4 from J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3360"/>
            <a:ext cx="77756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2.3.4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application for type approval the manufacturer shall provide a statement that the vehicle type to be approved complies with the requirements of paragraph 6.2.3 of this Regulation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 addition to this statement, compliance with ASEP may be verified through the test as defined in Annex10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557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dd the underlined 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7308720" y="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BIG-ASEP-12-0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3:55:35Z</dcterms:created>
  <dc:creator>N125748</dc:creator>
  <dc:description/>
  <dc:language>en-US</dc:language>
  <cp:lastModifiedBy>Armengol</cp:lastModifiedBy>
  <dcterms:modified xsi:type="dcterms:W3CDTF">2008-08-27T10:04:04Z</dcterms:modified>
  <cp:revision>3</cp:revision>
  <dc:subject/>
  <dc:title>Proposal of the wording in 6.2.3.4 from JAS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  <property fmtid="{D5CDD505-2E9C-101B-9397-08002B2CF9AE}" pid="3" name="_NewReviewCycle">
    <vt:lpwstr/>
  </property>
</Properties>
</file>