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20F-3A1E-44D2-90F8-B2937AC0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BEC-4D11-477C-AB9E-E3164E09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355-513F-42FE-842F-EF2B780C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C20-0990-4318-9149-33A0DA34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4CD-73FA-4753-8CF2-1E1F1AD9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78F-2D47-4E3A-84A5-3CFC087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84D-5944-4059-82CF-61A87FC9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0F4-35F3-461D-8A6B-34D854EC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378-F3B7-49B9-A31C-040E772E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C01-4C6E-4CC7-AF66-C45EA75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E06-29C1-4E8F-BFDA-29AFAF6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103-431C-4AA4-8CB6-5A086FC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339-988D-4A9F-9F50-E6119FC5841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820360" cy="86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of the wording in 6.2.3.4 from J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3360"/>
            <a:ext cx="77756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2.3.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application for type approval the manufacturer shall provide a statement that the vehicle type to be approved complies with the requirements of paragraph 6.2.3 of this Regulation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 addition to this statement, compliance with ASEP may be verified through the test as defined in Annex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557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dd the underlined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BIG-ASEP-12-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55:35Z</dcterms:created>
  <dc:creator>N125748</dc:creator>
  <dc:description/>
  <dc:language>en-US</dc:language>
  <cp:lastModifiedBy>Armengol</cp:lastModifiedBy>
  <dcterms:modified xsi:type="dcterms:W3CDTF">2008-08-27T10:04:04Z</dcterms:modified>
  <cp:revision>3</cp:revision>
  <dc:subject/>
  <dc:title>Proposal of the wording in 6.2.3.4 from JAS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  <property fmtid="{D5CDD505-2E9C-101B-9397-08002B2CF9AE}" pid="3" name="_NewReviewCycle">
    <vt:lpwstr/>
  </property>
</Properties>
</file>