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8380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2066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4179240"/>
            <a:ext cx="8207280" cy="2066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8380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2066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2066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4179240"/>
            <a:ext cx="4005000" cy="2066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880" y="4179240"/>
            <a:ext cx="4005000" cy="2066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8380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2400" cy="2066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3240" y="1916280"/>
            <a:ext cx="2642400" cy="2066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8120" y="1916280"/>
            <a:ext cx="2642400" cy="2066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4179240"/>
            <a:ext cx="2642400" cy="2066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3240" y="4179240"/>
            <a:ext cx="2642400" cy="2066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8120" y="4179240"/>
            <a:ext cx="2642400" cy="2066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8380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0728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8380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4332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8380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4332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4332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8380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8380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2066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4332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4179240"/>
            <a:ext cx="4005000" cy="2066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8380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4332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2066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880" y="4179240"/>
            <a:ext cx="4005000" cy="2066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8380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2066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2066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4179240"/>
            <a:ext cx="8207280" cy="2066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8380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07280" cy="4332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3000"/>
          </a:bodyPr>
          <a:p>
            <a:pPr marL="357120" indent="-357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73640" indent="-298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9800" indent="-23760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5000" indent="-23760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140560" indent="-23760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140560" indent="-237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140560" indent="-237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71520" y="460440"/>
            <a:ext cx="769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INTERNATIONAL ORGANIZATION OF MOTOR VEHICLE MANUFACTUR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68360" y="6308640"/>
            <a:ext cx="820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280" y="6300720"/>
            <a:ext cx="849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r" pos="807408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age </a:t>
            </a:r>
            <a:fld id="{9673ABD7-83F2-48FB-81C2-CF0D099E2D0F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Feb. 20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r" pos="807408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71360" y="333360"/>
            <a:ext cx="1087560" cy="54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1419120"/>
            <a:ext cx="7391520" cy="4602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03280" y="2211480"/>
            <a:ext cx="5545080" cy="8650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9160" y="1087560"/>
            <a:ext cx="688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re Influence in ASEP Test / Measurement Uncertain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63280" y="6381720"/>
            <a:ext cx="578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itional Sound Emission Provisions (ASE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30560" y="3492360"/>
            <a:ext cx="144360" cy="142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76000" y="2309760"/>
            <a:ext cx="1464480" cy="666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imit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72 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_crs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70,5 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0,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16360" y="2284560"/>
            <a:ext cx="142920" cy="649080"/>
          </a:xfrm>
          <a:custGeom>
            <a:avLst/>
            <a:gdLst>
              <a:gd name="textAreaLeft" fmla="*/ 0 w 142920"/>
              <a:gd name="textAreaRight" fmla="*/ 51480 w 14292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58920" y="2500200"/>
            <a:ext cx="389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1000"/>
                <a:tab algn="l" pos="305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_Anchor = 72,4 dB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&gt; L_Anchor - L_crs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1,9 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1000"/>
                <a:tab algn="l" pos="305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&gt; L_pt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70,4 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4221000"/>
            <a:ext cx="4752720" cy="8654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13080" y="4319640"/>
            <a:ext cx="1336320" cy="6663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imit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72 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_crs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70 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0,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60840" y="4309920"/>
            <a:ext cx="142920" cy="649440"/>
          </a:xfrm>
          <a:custGeom>
            <a:avLst/>
            <a:gdLst>
              <a:gd name="textAreaLeft" fmla="*/ 0 w 142920"/>
              <a:gd name="textAreaRight" fmla="*/ 51480 w 14292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79640" y="4292640"/>
            <a:ext cx="325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241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_Anchor = 72,5 dB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7480"/>
                <a:tab algn="l" pos="241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&gt; L_Anchor - L_crs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2,5 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7480"/>
                <a:tab algn="l" pos="241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&gt; L_pt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69,0 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80000" y="4581360"/>
            <a:ext cx="144360" cy="14292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09:47:28Z</dcterms:created>
  <dc:creator>Cecile</dc:creator>
  <dc:description/>
  <dc:language>en-US</dc:language>
  <cp:lastModifiedBy>Hans-Martin Gerhard</cp:lastModifiedBy>
  <cp:lastPrinted>2006-11-06T13:57:18Z</cp:lastPrinted>
  <dcterms:modified xsi:type="dcterms:W3CDTF">2008-02-18T17:26:46Z</dcterms:modified>
  <cp:revision>159</cp:revision>
  <dc:subject/>
  <dc:title>Pré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33003041</vt:r8>
  </property>
  <property fmtid="{D5CDD505-2E9C-101B-9397-08002B2CF9AE}" pid="3" name="_AuthorEmail">
    <vt:lpwstr>hbietenb@ford.com</vt:lpwstr>
  </property>
  <property fmtid="{D5CDD505-2E9C-101B-9397-08002B2CF9AE}" pid="4" name="_AuthorEmailDisplayName">
    <vt:lpwstr>Bietenbeck, Hanns-Peter  (H.P.)</vt:lpwstr>
  </property>
  <property fmtid="{D5CDD505-2E9C-101B-9397-08002B2CF9AE}" pid="5" name="_EmailSubject">
    <vt:lpwstr>GRB ASEP Documents 9th and 1oth meeting</vt:lpwstr>
  </property>
  <property fmtid="{D5CDD505-2E9C-101B-9397-08002B2CF9AE}" pid="6" name="_NewReviewCycle">
    <vt:lpwstr/>
  </property>
</Properties>
</file>