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9DC-2615-4864-9031-2435AE55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D40-9C2C-44CE-9DD1-A1A85702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ABB-11D3-4DCB-B5BE-D9250A5C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389-B722-497A-B184-D8D7D07D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6CE-2DEC-4E65-83C3-05FCBEAB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7E9-CD66-4365-AD26-163F814F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644-FBBB-4868-94AA-DA2E103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FA6-D7E9-44C9-9151-E136859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671-2C6D-48B6-BB94-45BD125A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41C-8852-4C14-97B6-8F6DD06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A30-79C1-427A-BAEB-0D31B7B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A2E-5F4F-40DC-9B13-591A0A0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11B-609E-4037-9016-7CCFCC6B7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ibilit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 ASEP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P meeting jan 2008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 in limit values NL approa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gear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433520"/>
            <a:ext cx="7777440" cy="483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 6 dB spread in NL lim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149720"/>
            <a:ext cx="1081080" cy="936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1280" y="4581360"/>
            <a:ext cx="5256000" cy="16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 in limit values NL approa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gear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 2,5 dB spread in NL lim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69320" cy="439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4292640"/>
            <a:ext cx="86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1280" y="4581360"/>
            <a:ext cx="4248000" cy="16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 for spread in NL limit val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L,AS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nnex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*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rban,annex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3*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B,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in measured acceleration values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uses spread in limi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lerations as we exp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independent from eng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-BB max 10% higher than AA-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2871720"/>
            <a:ext cx="6409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lerations as we se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43640" y="6426360"/>
            <a:ext cx="30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; delay and shifting behind 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35733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PP-BB lower than AA-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3978360"/>
            <a:ext cx="450072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108080"/>
            <a:ext cx="4500720" cy="2513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4500720" cy="251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965400"/>
            <a:ext cx="4572000" cy="255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643716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spread PP-BB 10%, spread AA-BB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6360" y="35560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AA-BB 40% lower than PP-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re spread in accel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820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lat torqu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delay in track (esp Turbo and auto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of automatic gear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ittle pre-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ate depressing of accel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early releasing of accel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in alignment of lines AA’, PP’ and B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light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ilities to improve reproducibility of acceleration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ak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-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-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e overdoses pre-acceleration to be sure that the vehicle indeed uses its full acceleration potential (and che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oundaries to differenc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-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-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9:11Z</dcterms:created>
  <dc:creator>Erik de Graaff</dc:creator>
  <dc:description/>
  <dc:language>en-US</dc:language>
  <cp:lastModifiedBy>Rabar Paul</cp:lastModifiedBy>
  <dcterms:modified xsi:type="dcterms:W3CDTF">2008-02-06T15:38:35Z</dcterms:modified>
  <cp:revision>16</cp:revision>
  <dc:subject/>
  <dc:title>some observations on the base of the ASEP d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9744317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'ASEP': Documents from 9th meeting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