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C9C-E1EE-4D1D-9E57-CFDD776B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B10-5E99-4CB8-B709-A9AFA6BA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1C1-8BE5-428D-A4CF-E37027B2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85A-26DF-4C82-81EF-0A4B1D0F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034-1577-4768-A886-B6332F40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AA2-3226-4089-8497-EA375F21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6F3-A3A4-4E2B-9778-AECFE557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1D9-8093-424F-BA7F-D8DEA60E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3AF-D735-434E-9DD5-177B112C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EF6-204C-4E9B-9DFE-020987FC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4B9-8D1E-4A73-BA30-7A85AE6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8FE-5D6E-40EE-8FAB-A42E304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FF0-9A55-41C0-BE70-A230D8E2A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ibilit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L ASEP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by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P meeting jan 2008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ad in limit values NL approa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gear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1433520"/>
            <a:ext cx="7777440" cy="483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6093000"/>
            <a:ext cx="8229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 6 dB spread in NL limi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149720"/>
            <a:ext cx="1081080" cy="936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1280" y="4581360"/>
            <a:ext cx="5256000" cy="165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ad in limit values NL approa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ual gear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 2,5 dB spread in NL limi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069320" cy="439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59280" y="4292640"/>
            <a:ext cx="86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1280" y="4581360"/>
            <a:ext cx="4248000" cy="165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 for spread in NL limit val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L,AS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nnex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*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SEP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rban,annex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3*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B,ASEP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in measured acceleration values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SEP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uses spread in limi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lerations as we expec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independent from eng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-BB max 10% higher than AA-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7640" y="2871720"/>
            <a:ext cx="6409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lerations as we see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43640" y="6426360"/>
            <a:ext cx="30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; delay and shifting behind 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35733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: PP-BB lower than AA-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3978360"/>
            <a:ext cx="450072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108080"/>
            <a:ext cx="4500720" cy="2513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4500720" cy="251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3965400"/>
            <a:ext cx="4572000" cy="2552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643716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: spread PP-BB 10%, spread AA-BB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6360" y="355608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: AA-BB 40% lower than PP-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there spread in accel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73360"/>
            <a:ext cx="8820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lat torque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delay in track (esp Turbo and auto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of automatic gear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little pre-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late depressing of accel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early releasing of accel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 in alignment of lines AA’, PP’ and B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light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ilities to improve reproducibility of acceleration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tak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P-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-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be overdoses pre-acceleration to be sure that the vehicle indeed uses its full acceleration potential (and che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boundaries to differenc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P-B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A-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5:09:11Z</dcterms:created>
  <dc:creator>Erik de Graaff</dc:creator>
  <dc:description/>
  <dc:language>en-US</dc:language>
  <cp:lastModifiedBy>Rabar Paul</cp:lastModifiedBy>
  <dcterms:modified xsi:type="dcterms:W3CDTF">2008-02-06T15:38:35Z</dcterms:modified>
  <cp:revision>16</cp:revision>
  <dc:subject/>
  <dc:title>some observations on the base of the ASEP d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99744317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nformal Group 'ASEP': Documents from 9th meeting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