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F12-55FE-40DA-8290-D0CF918F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EDF-05FD-4F2B-A6DD-742EA47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B03-6906-4D49-975E-2D54DAF9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ACE-CE9E-471C-BFC6-C243E190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42F-FB1A-4ADF-979A-6A8608F1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A22-D1E8-4FF5-98E8-4C4CF672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155-B547-404A-9B77-2CA2A06D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0E3-DDD2-46E4-8633-BE1AB632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4D3-4FAC-4DC8-BED3-2D34A0E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A9F-1ADD-47DE-A873-34566C33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C82-64D8-4436-A45B-C2F6094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961-A2AA-459C-AD6E-D76A821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F80-EB88-4008-A90A-E0AD7E79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observations on the base of the ASEP d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P meeting jan 2008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obvious non linearity'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examples in later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measured data points of all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data points obviously beyond “normal behavior”, which should be detected by AS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992240"/>
            <a:ext cx="7777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77,1 Annex 3 = 73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is approved by all ASEP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2560680"/>
            <a:ext cx="6913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77,0 Annex 3 = 72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is disapproved in ASEP only by UBA 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2604960"/>
            <a:ext cx="68407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51.02 = 79,5; Annex 3 = 7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is disapproved in ASEP only by FD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. Is limit for engine speed high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2538360"/>
            <a:ext cx="67086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1.02 = 76,0 Annex 3 = 7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is approved according to all ASEP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67086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51.02 = 76,7 Annex 3 = 7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is generally approved according to AS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L spread in limi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19280" y="2546280"/>
            <a:ext cx="6697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1.02 = 81,1 Annex 3 = 7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is disapproved in ASEP only according to UBA 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2516040"/>
            <a:ext cx="6985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51.02 = 78,1 Annex 3 = 7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 is disapproved in ASEP only by UBA 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9280" y="2604960"/>
            <a:ext cx="68403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gh comparison of propos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e FD and UBA proposal are based on vehicle speed and engine speed. The NL proposal is based on vehicle speed and vehicle accel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A and FD limit curves look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BA is often, but not always, the most stri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ajority of vehicles NL limit is quite in line with UBA and FD, but for some vehicles significantly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 tends to be more liberal for vehicles with high acceleration and tighter for vehicles with slow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 tends to be more liberal in high gear ratios and tighter in low gea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mit curves of al three proposals can be tuned in order to (dis)approve certain vehicl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5,2 Annex 3 = 71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822320"/>
            <a:ext cx="8101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4,7 Annex 3 = 72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1640" y="2092320"/>
            <a:ext cx="76676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0,0 Annex 3 = 70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1881360"/>
            <a:ext cx="80056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51.02 = 76,0 Annex 3 = 7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89280"/>
            <a:ext cx="7993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9828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1127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hicles with non linear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242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gh comparison of propo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three proposals are proven to be practicably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 sometimes shows some scatter in limit values; especially in cases of automatic gearboxes which are shifting between AA’ and BB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 and UBA contain a subtraction of tyre noise, which can cause big uncertainty in case of dominant tyr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 and UBA require an engine speed; some vehicles may not have an engine speed and can not be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solution can be found for thes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ncipal choi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independent and in line with annex 3 philoso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lects natural understanding of nois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ten more stable to 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ble for most of the current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not applicable for types without engine speed like plug in hybrid (are such vehicles a concern for ASEP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o the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L proposal was intended to be design independent: the vehicle is seen as a black box moving with a vehicle speed and a vehicle acceleration. What is causing its propulsion is 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engine speed based ASEP proposals be design restri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PMR from 67 to 100 kW/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veh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iter engine 100 kW 6000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: 1500 k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capacity to 3 l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ur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rated speed to 9000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: Add electric eng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weight to 100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is effect noise va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ne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nex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in detail to all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slides show some detailed information gathered from the d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many cases everything is “as expecte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566064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urve is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expected noise level around 80 dB(A) (diesel) to 85 dB(A) (pe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f NL, FD and UBA are close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noise is well below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420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 not everything is “as exp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urve is not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expected noise level far beyond 80 dB(A) (120 dB(A)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f NL, FD and UBA are more than 10 dB 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noise is approved by one method, disapproved by the second and partly approved by the third (only within the boundary cond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912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on “approval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 in d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 differen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9 records; 15 are in twice with different analysi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now (R51.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 exceed p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exceed limit by more than 1,9 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imit R51.03 annex 3 is 72/73/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exceed p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exceed limit by more than 0,4 dB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EP with these settings of the limi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exceed NL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exceed FD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exceed UBA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have an obvious jump or non linearity in the noise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ed limit R51.02 by more than 1,9 dB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limit R51.03 annex 3 + 0,4 dB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out of 124 vehicles in dBase fulfill thes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of these vehicles are disapproved unanimously by all ASEP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L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A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xamples in later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hicles of concer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roved by all ASEP proposals (for this criterion the ASEP boundary conditions have not been taken into acc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s R51.02 limit +1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s annex 3 limit + 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vehicles fulfill thes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4 shows all significant jumps or non linearity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examples in later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5:09:11Z</dcterms:created>
  <dc:creator>Erik de Graaff</dc:creator>
  <dc:description/>
  <dc:language>en-US</dc:language>
  <cp:lastModifiedBy>Rabar Paul</cp:lastModifiedBy>
  <dcterms:modified xsi:type="dcterms:W3CDTF">2008-02-06T15:36:28Z</dcterms:modified>
  <cp:revision>23</cp:revision>
  <dc:subject/>
  <dc:title>some observations on the base of the ASEP d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3497055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'ASEP': Documents from 9th meeting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