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44A-D986-40A1-B824-274029BD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0E39-FA55-4F66-976F-AE02719C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F92-0A5A-4BBE-A94C-734BB095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75E-329C-4E6D-94C1-E3D87477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F6CF-4A6D-4090-A940-1989329C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4F0-B146-456F-B075-01FF566F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42E5-80C5-418E-9A2D-1FA45EC7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4F0-FFAF-401A-BAA5-69BD38A5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107-2CDB-424F-BE90-C9DAC400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95B-86F2-4A00-A4F6-540340BC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8ED7-327A-4AFB-83EA-D3CB3FB2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81F-30E5-467F-BFFC-64D3957B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E7FB-49E0-49CB-BDAF-12C479B0B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observations on the base of the ASEP d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d by the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P meeting jan 2008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hicles with obvious non linearity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veh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examples in later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measured data points of all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re data points obviously beyond “normal behavior”, which should be detected by AS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4360" y="1992240"/>
            <a:ext cx="777708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51.02 = 77,1 Annex 3 = 73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hicle is approved by all ASEP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87280" y="2560680"/>
            <a:ext cx="69138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51.02 = 77,0 Annex 3 = 72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hicle is disapproved in ASEP only by UBA p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87280" y="2604960"/>
            <a:ext cx="68407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51.02 = 79,5; Annex 3 = 70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 is disapproved in ASEP only by FD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. Is limit for engine speed high enoug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32000" y="2538360"/>
            <a:ext cx="67086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51.02 = 76,0 Annex 3 = 7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is approved according to all ASEP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2000" y="2565360"/>
            <a:ext cx="67086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51.02 = 76,7 Annex 3 = 71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 is generally approved according to AS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NL spread in limi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19280" y="2546280"/>
            <a:ext cx="669780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51.02 = 81,1 Annex 3 = 71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is disapproved in ASEP only according to UBA p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76360" y="2516040"/>
            <a:ext cx="69850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51.02 = 78,1 Annex 3 = 73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hicle is disapproved in ASEP only by UBA p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19280" y="2604960"/>
            <a:ext cx="684036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gh comparison of propos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the FD and UBA proposal are based on vehicle speed and engine speed. The NL proposal is based on vehicle speed and vehicle accel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A and FD limit curves look 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BA is often, but not always, the most stri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ajority of vehicles NL limit is quite in line with UBA and FD, but for some vehicles significantly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L tends to be more liberal for vehicles with high acceleration and tighter for vehicles with slow 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L tends to be more liberal in high gear ratios and tighter in low gear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mit curves of al three proposals can be tuned in order to (dis)approve certain vehicl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507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51.02 = 75,2 Annex 3 = 71,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1280" y="1822320"/>
            <a:ext cx="81010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507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51.02 = 74,7 Annex 3 = 72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71640" y="2092320"/>
            <a:ext cx="766764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507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51.02 = 70,0 Annex 3 = 70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1881360"/>
            <a:ext cx="800568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507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51.02 = 76,0 Annex 3 = 70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1889280"/>
            <a:ext cx="7993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hicles with non linear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98280" y="1112760"/>
            <a:ext cx="92422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hicles with non linear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98280" y="1112760"/>
            <a:ext cx="92422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hicles with non linear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98280" y="1112760"/>
            <a:ext cx="92422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hicles with non linear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112760"/>
            <a:ext cx="92422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hicles with non linear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2422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ugh comparison of propos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three proposals are proven to be practicably exe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ing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 sometimes shows some scatter in limit values; especially in cases of automatic gearboxes which are shifting between AA’ and BB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D and UBA contain a subtraction of tyre noise, which can cause big uncertainty in case of dominant tyre nois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D and UBA require an engine speed; some vehicles may not have an engine speed and can not be 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solution can be found for thes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ncipal choic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 independent and in line with annex 3 philoso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ine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lects natural understanding of noise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ten more stable to mea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ble for most of the current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not applicable for types without engine speed like plug in hybrid (are such vehicles a concern for ASEP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to the gro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L proposal was intended to be design independent: the vehicle is seen as a black box moving with a vehicle speed and a vehicle acceleration. What is causing its propulsion is no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engine speed based ASEP proposals be design restri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 PMR from 67 to 100 kW/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vehi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iter engine 100 kW 6000 r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: 1500 k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capacity to 3 l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ur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rated speed to 9000 r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: Add electric eng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weight to 1000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this effect noise valu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nnex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nnex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in detail to all she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slides show some detailed information gathered from the d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many cases everything is “as expecte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566064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 curve is 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expected noise level around 80 dB(A) (diesel) to 85 dB(A) (pe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of NL, FD and UBA are close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noise is well below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420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ome cases not everything is “as expect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5373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 curve is not 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expected noise level far beyond 80 dB(A) (120 dB(A)?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of NL, FD and UBA are more than 10 dB a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noise is approved by one method, disapproved by the second and partly approved by the third (only within the boundary cond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9120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s on “approval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s in dB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4 different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9 records; 15 are in twice with different analysis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now (R51.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 exceed pure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exceed limit by more than 1,9 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imit R51.03 annex 3 is 72/73/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exceed pure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 exceed limit by more than 0,4 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EP with these settings of the limi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 exceed NL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 exceed FD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exceed UBA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have an obvious jump or non linearity in the noise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ed limit R51.02 by more than 1,9 dB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 limit R51.03 annex 3 + 0,4 dB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out of 124 vehicles in dBase fulfill thes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of these vehicles are disapproved unanimously by all ASEP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L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A: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examples in later sh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pproved by all ASEP proposals (for this criterion the ASEP boundary conditions have not been taken into accou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s R51.02 limit +1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s annex 3 limit + 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vehicles fulfill thes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4 shows all significant jumps or non linearity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examples in later sh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5:09:11Z</dcterms:created>
  <dc:creator>Erik de Graaff</dc:creator>
  <dc:description/>
  <dc:language>en-US</dc:language>
  <cp:lastModifiedBy>Rabar Paul</cp:lastModifiedBy>
  <dcterms:modified xsi:type="dcterms:W3CDTF">2008-02-06T15:36:28Z</dcterms:modified>
  <cp:revision>23</cp:revision>
  <dc:subject/>
  <dc:title>some observations on the base of the ASEP dBa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3497055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>GRB Informal Group 'ASEP': Documents from 9th meeting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