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6D4-1E96-4882-99DE-2D8457A9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4D4-9175-43DE-A2DF-861F5BD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FF7-9BA3-49B0-9363-3BA8B5E8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DC3-33A9-476B-A01D-ED0F14B1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42D-4C30-450C-B60D-E052353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F97-6959-46C9-B442-B4A3FF0E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E7F-9AB0-4829-BA6E-B352AB4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05C-3D23-4ECE-B15F-E56B129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5DA-ECA9-46A9-B426-36EFCFE0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F2E-5C36-4216-8CF7-90ED1B6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04A-B2D5-4779-88E7-EE1B2E0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A6F-3F95-4120-AF39-6FA820E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38B7-8D6B-488A-ADC9-AD103C860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CE R41 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Outline of main modules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crossreference to draft amending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Presentation by Data Expert Group to 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19 February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62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l document No.GRB-4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7th GRB, 19-21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item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76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d by the expert from 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01-R41WG-08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920" y="1000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COPE ...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DEFINITIONS, TERMS AND SYMBOLS 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PPLICATION FOR APPROVAL 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MARKINGS 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PPROVAL 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PECIFICATIONS 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 </a:t>
            </a: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ASEP </a:t>
            </a: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Anti-tamp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MODIFICATION AND EXTENSION OF THE APPROVAL OF THE MOTORCY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YPE OR OF THE TYPE OF EXHAUST OR SILENCING SYSTEM(S)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CONFORMITY OF PRODUCTION 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ENALTIES FOR NON-CONFORMITY OF PRODUCTION 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RODUCTION DEFINITELY DISCONTINUED 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NAMES AND ADDRESSES OF TECHNICAL SERVICE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RESPONSIBLE FOR CONDUCTING APPROVAL TEST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D OF ADMINISTRATIVE DEPARTMENTS 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RANSITIONAL PROVISIONS 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1 - Approval commun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2 - Arrangements of approval 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3 - Methods and instruments for measuring the noise made by motor cycles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    </a:t>
            </a:r>
            <a:r>
              <a:rPr b="1" lang="en-GB" sz="1800" spc="-1" strike="noStrike">
                <a:solidFill>
                  <a:srgbClr val="0070c0"/>
                </a:solidFill>
                <a:latin typeface="Calibri"/>
              </a:rPr>
              <a:t>Pass-by enforcement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4 - Test track specific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5 - Exhaust system (silenc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6 - Maximum limits of sound level (new motor cycles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7 - Additional sound emission provisions (new motor cycles and new exhaust or silencing systems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AS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2920" y="1331640"/>
            <a:ext cx="85723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itial discussion at 10/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porting to 47/GR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41WG/GRB member comments to Italy by 31 M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nsideration of comments by 11/R41WG on [2/3] Ju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12/R41WG on 1 September (P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iscussion at 48/GRB (amended text and limit val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ctions since 9/R41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617480"/>
            <a:ext cx="857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EG continued discussions; still some ASEP issues to che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EG documents have been sent to UN for uploading on ECE website; origin of motorcycles added to noise leve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01-R41WG-08 (draft amendment) has been updated (see Informal Document N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This presentation shows how the amendment is linked to past decisions of 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Modular structure – “the pack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2766960" y="2182680"/>
            <a:ext cx="8242200" cy="4535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3" descr=""/>
          <p:cNvPicPr/>
          <p:nvPr/>
        </p:nvPicPr>
        <p:blipFill>
          <a:blip r:embed="rId2"/>
          <a:stretch/>
        </p:blipFill>
        <p:spPr>
          <a:xfrm>
            <a:off x="-1792440" y="2182680"/>
            <a:ext cx="8242560" cy="4542120"/>
          </a:xfrm>
          <a:prstGeom prst="rect">
            <a:avLst/>
          </a:prstGeom>
          <a:ln w="0">
            <a:noFill/>
          </a:ln>
        </p:spPr>
      </p:pic>
      <p:pic>
        <p:nvPicPr>
          <p:cNvPr id="50" name="Diagram 6" descr=""/>
          <p:cNvPicPr/>
          <p:nvPr/>
        </p:nvPicPr>
        <p:blipFill>
          <a:blip r:embed="rId3"/>
          <a:stretch/>
        </p:blipFill>
        <p:spPr>
          <a:xfrm>
            <a:off x="1122480" y="1268280"/>
            <a:ext cx="2541600" cy="889200"/>
          </a:xfrm>
          <a:prstGeom prst="rect">
            <a:avLst/>
          </a:prstGeom>
          <a:ln w="0">
            <a:noFill/>
          </a:ln>
        </p:spPr>
      </p:pic>
      <p:pic>
        <p:nvPicPr>
          <p:cNvPr id="51" name="Group 7" descr=""/>
          <p:cNvPicPr/>
          <p:nvPr/>
        </p:nvPicPr>
        <p:blipFill>
          <a:blip r:embed="rId4"/>
          <a:stretch/>
        </p:blipFill>
        <p:spPr>
          <a:xfrm>
            <a:off x="5767560" y="1341360"/>
            <a:ext cx="2253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9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required acceleration and potential perverse consequences (longer gearing in test = lower rpm = lower noise but also lower gears used in real life = higher rpm = higher noi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relationship between test conditions and actual use conditions, meaning reduced effectiveness of noise reduction measures in real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7429680" y="0"/>
            <a:ext cx="1693800" cy="1571760"/>
            <a:chOff x="7429680" y="0"/>
            <a:chExt cx="1693800" cy="1571760"/>
          </a:xfrm>
        </p:grpSpPr>
        <p:sp>
          <p:nvSpPr>
            <p:cNvPr id="55" name="Rounded Rectangle 4"/>
            <p:cNvSpPr/>
            <p:nvPr/>
          </p:nvSpPr>
          <p:spPr>
            <a:xfrm>
              <a:off x="7429680" y="0"/>
              <a:ext cx="1693800" cy="1571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4"/>
            <p:cNvSpPr/>
            <p:nvPr/>
          </p:nvSpPr>
          <p:spPr>
            <a:xfrm>
              <a:off x="7512120" y="75960"/>
              <a:ext cx="15289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New TA 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01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14920" y="3643200"/>
            <a:ext cx="4429080" cy="3089520"/>
          </a:xfrm>
          <a:prstGeom prst="rect">
            <a:avLst/>
          </a:prstGeom>
          <a:ln w="0">
            <a:noFill/>
          </a:ln>
        </p:spPr>
      </p:pic>
      <p:sp>
        <p:nvSpPr>
          <p:cNvPr id="59" name="Isosceles Triangle 9"/>
          <p:cNvSpPr/>
          <p:nvPr/>
        </p:nvSpPr>
        <p:spPr>
          <a:xfrm rot="5400000">
            <a:off x="3571560" y="4929120"/>
            <a:ext cx="2071800" cy="357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Essentially same method as for cars but with higher target accelerations and without acceleration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rescr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d target acceleration rate related to vehicle acceleration capability – level playing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urate simulation of noise source distribution (intake, exhaust, engine/gearbox, …) in relation to most relevant motorcycle operation – effective noise reduction meas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ependent of vehicle design to allow future propulsion technologies to be tested – vehicle speed and acceleration instead of engine sp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im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nex 3 section 1 (test method) + Annex 6 (lim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7429680" y="0"/>
            <a:ext cx="1693800" cy="1571760"/>
            <a:chOff x="7429680" y="0"/>
            <a:chExt cx="1693800" cy="1571760"/>
          </a:xfrm>
        </p:grpSpPr>
        <p:sp>
          <p:nvSpPr>
            <p:cNvPr id="63" name="Rounded Rectangle 8"/>
            <p:cNvSpPr/>
            <p:nvPr/>
          </p:nvSpPr>
          <p:spPr>
            <a:xfrm>
              <a:off x="7429680" y="0"/>
              <a:ext cx="1693800" cy="1571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ounded Rectangle 4"/>
            <p:cNvSpPr/>
            <p:nvPr/>
          </p:nvSpPr>
          <p:spPr>
            <a:xfrm>
              <a:off x="7512120" y="75960"/>
              <a:ext cx="15289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New TA 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S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Base TA test provides only “snapshot” of noise emission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ise levels below and above TA test conditions may increase inappropriat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7572240" y="0"/>
            <a:ext cx="1571760" cy="1571760"/>
            <a:chOff x="7572240" y="0"/>
            <a:chExt cx="1571760" cy="1571760"/>
          </a:xfrm>
        </p:grpSpPr>
        <p:sp>
          <p:nvSpPr>
            <p:cNvPr id="68" name="Rounded Rectangle 8"/>
            <p:cNvSpPr/>
            <p:nvPr/>
          </p:nvSpPr>
          <p:spPr>
            <a:xfrm>
              <a:off x="7572240" y="0"/>
              <a:ext cx="1571760" cy="15717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4"/>
            <p:cNvSpPr/>
            <p:nvPr/>
          </p:nvSpPr>
          <p:spPr>
            <a:xfrm>
              <a:off x="7648200" y="75960"/>
              <a:ext cx="14194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SE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214200" y="3191040"/>
            <a:ext cx="504828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5500800" y="3827520"/>
            <a:ext cx="2903400" cy="19587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2"/>
          <p:cNvSpPr/>
          <p:nvPr/>
        </p:nvSpPr>
        <p:spPr>
          <a:xfrm>
            <a:off x="2143080" y="4643280"/>
            <a:ext cx="1214640" cy="4287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5357880" y="3786120"/>
            <a:ext cx="3143160" cy="20718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3357720" y="3785760"/>
            <a:ext cx="2000160" cy="8571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8"/>
          <p:cNvSpPr/>
          <p:nvPr/>
        </p:nvSpPr>
        <p:spPr>
          <a:xfrm>
            <a:off x="3357720" y="5072040"/>
            <a:ext cx="2000160" cy="785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 rot="2787000">
            <a:off x="2856240" y="2978640"/>
            <a:ext cx="496800" cy="21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1"/>
          <p:cNvSpPr/>
          <p:nvPr/>
        </p:nvSpPr>
        <p:spPr>
          <a:xfrm>
            <a:off x="5840280" y="4637160"/>
            <a:ext cx="7891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S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efinition of operating range below and above TA test conditions within which nois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mission should not deviate significantly from what one would expect from the base TA test results – control beyond TA “snapsho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ufacturer declaration of conformity with possibility for TA authority to perform checks – limited testing burden at time of 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imits (slopes and toler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aragraph 6 and Annex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7572240" y="0"/>
            <a:ext cx="1571760" cy="1571760"/>
            <a:chOff x="7572240" y="0"/>
            <a:chExt cx="1571760" cy="1571760"/>
          </a:xfrm>
        </p:grpSpPr>
        <p:sp>
          <p:nvSpPr>
            <p:cNvPr id="81" name="Rounded Rectangle 10"/>
            <p:cNvSpPr/>
            <p:nvPr/>
          </p:nvSpPr>
          <p:spPr>
            <a:xfrm>
              <a:off x="7572240" y="0"/>
              <a:ext cx="1571760" cy="15717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unded Rectangle 4"/>
            <p:cNvSpPr/>
            <p:nvPr/>
          </p:nvSpPr>
          <p:spPr>
            <a:xfrm>
              <a:off x="7648200" y="75960"/>
              <a:ext cx="14194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SE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Roadside enfor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Stationary noise test with reference noise level by itself is only able to capture crude illegal systems and rough mani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Maximum WOT drive-by test result for lowest gear from TA test made available as additional reference data for roadside enforcement – better enforcement capability with drive-by noise test as additional tool next to stationary noise 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lignment with ISO 5130 (stationary noise t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nex 3 sec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7215120" y="0"/>
            <a:ext cx="1928880" cy="1571760"/>
            <a:chOff x="7215120" y="0"/>
            <a:chExt cx="1928880" cy="1571760"/>
          </a:xfrm>
        </p:grpSpPr>
        <p:sp>
          <p:nvSpPr>
            <p:cNvPr id="86" name="Rounded Rectangle 7"/>
            <p:cNvSpPr/>
            <p:nvPr/>
          </p:nvSpPr>
          <p:spPr>
            <a:xfrm>
              <a:off x="7215120" y="0"/>
              <a:ext cx="1928880" cy="1571760"/>
            </a:xfrm>
            <a:prstGeom prst="roundRect">
              <a:avLst>
                <a:gd name="adj" fmla="val 16667"/>
              </a:avLst>
            </a:prstGeom>
            <a:solidFill>
              <a:srgbClr val="37609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ounded Rectangle 4"/>
            <p:cNvSpPr/>
            <p:nvPr/>
          </p:nvSpPr>
          <p:spPr>
            <a:xfrm>
              <a:off x="7308720" y="75960"/>
              <a:ext cx="17416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Pass-by test for roadside  enforc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nti-tamp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29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prescriptions related to easily modifiable and manuall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djustable multi-mode muff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egal language to prevent approval of mufflers designed for tamp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erformance requirements for multi-mode mufflers (test all mo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aragraph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7143840" y="0"/>
            <a:ext cx="2000160" cy="1643040"/>
            <a:chOff x="7143840" y="0"/>
            <a:chExt cx="2000160" cy="1643040"/>
          </a:xfrm>
        </p:grpSpPr>
        <p:sp>
          <p:nvSpPr>
            <p:cNvPr id="91" name="Rounded Rectangle 8"/>
            <p:cNvSpPr/>
            <p:nvPr/>
          </p:nvSpPr>
          <p:spPr>
            <a:xfrm>
              <a:off x="7143840" y="0"/>
              <a:ext cx="2000160" cy="1643040"/>
            </a:xfrm>
            <a:prstGeom prst="roundRect">
              <a:avLst>
                <a:gd name="adj" fmla="val 16667"/>
              </a:avLst>
            </a:prstGeom>
            <a:solidFill>
              <a:srgbClr val="95373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4"/>
            <p:cNvSpPr/>
            <p:nvPr/>
          </p:nvSpPr>
          <p:spPr>
            <a:xfrm>
              <a:off x="7240680" y="79200"/>
              <a:ext cx="180648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nti-tampering / contructional requir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715000" y="2071800"/>
            <a:ext cx="1981080" cy="171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3500280" y="207648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9:53:22Z</dcterms:created>
  <dc:creator> </dc:creator>
  <dc:description/>
  <dc:language>en-US</dc:language>
  <cp:lastModifiedBy>Nelly Enonler</cp:lastModifiedBy>
  <dcterms:modified xsi:type="dcterms:W3CDTF">2008-02-20T13:45:58Z</dcterms:modified>
  <cp:revision>61</cp:revision>
  <dc:subject/>
  <dc:title>ECE R41 revision</dc:title>
</cp:coreProperties>
</file>