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D929-F23A-4471-8479-22F87D21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D8A2-A1EE-4672-8B68-39536165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C5C4-CF85-477B-AE00-4EDAD03F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30AF-FCF9-4947-A5EA-50531393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39B5-9742-4D43-A072-FE1FE66C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CDBA-1B5C-40F1-9F0B-579CB0A4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C8D8-7AAB-4E87-8332-748CEA65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B39D-90B6-4B1C-B7D0-F6C872B8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54DD-63F8-476C-92B6-8F24C142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E89E-2030-4DA7-BFE0-13D08CCC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7550-83D2-45B6-B92B-3E1C91D0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F2B2-C0A5-4810-99BA-5448EED7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174F-D3BD-4AE4-B61C-71892DBE0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recent experiences with Tyre noise 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d for GRB Feb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d by the Nether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51280" y="54936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formal document 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B-47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47th GRB, 19-21 Februar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genda item 8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4762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ted by Nether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 from a session on 26 C1 ty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4388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 2005 relatively high compared to earlier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4540320" cy="4797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84720" y="2046240"/>
            <a:ext cx="485928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 of ISO test track over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 10844 requires texture &gt; 0,4 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uld be checked every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requirement on maximum allowable tex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87280" y="2286000"/>
            <a:ext cx="711072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87720" y="5157720"/>
            <a:ext cx="1440000" cy="503280"/>
          </a:xfrm>
          <a:prstGeom prst="borderCallout2">
            <a:avLst>
              <a:gd name="adj1" fmla="val 18750"/>
              <a:gd name="adj2" fmla="val -8333"/>
              <a:gd name="adj3" fmla="val 22712"/>
              <a:gd name="adj4" fmla="val 157000"/>
              <a:gd name="adj5" fmla="val -243217"/>
              <a:gd name="adj6" fmla="val 210583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nstruction of test 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 of reconstruction of test trac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the noise of these 26 C1 ty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424720" cy="4446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0000" y="61657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4 dB(A) reduction due to reconstruction of ISO test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and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re noise levels depend very much on the actual status of the ISO test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ISO 10844 has no upper boundary on texture nor on a maximum (acoustical) life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wear of the test track the texture may increase significa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y result in a spread in noise levels up to 4 dB(A) depending on the tyre and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ghter requirements on ISO 10844 are necessary; including an upper boundary on texture. An ISO committee has nearly finished an update including such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ture specification of ISO 10844 has significant effect on future noise levels (and thus on the possible lim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1:04:35Z</dcterms:created>
  <dc:creator>Erik de Graaff</dc:creator>
  <dc:description/>
  <dc:language>en-US</dc:language>
  <cp:lastModifiedBy>Nelly Enonler</cp:lastModifiedBy>
  <dcterms:modified xsi:type="dcterms:W3CDTF">2008-02-20T11:22:44Z</dcterms:modified>
  <cp:revision>8</cp:revision>
  <dc:subject/>
  <dc:title>Dia 1</dc:title>
</cp:coreProperties>
</file>