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2A2-3BEB-42B9-A21E-683793B9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FE5-FF5A-4C93-839D-23431A77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AEC-389A-4E97-B5E6-E067C7C4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64E-F2C5-4764-B41D-68141837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BAD-D416-40E7-BB65-2A831D5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139-F42A-4BE1-80DC-008998F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209-B611-4999-8771-B2F7FC8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048-5F69-410D-A7DE-424ED88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D37-1198-46F9-A660-7470E0FA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AD5-367F-4994-8E75-20BBA380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44C-4315-4745-92CA-B52E09D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9C6-0410-4EFC-AB80-CE757B4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F75-A5AE-4F46-917F-7BC6B84CC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ECE R41 re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Outline of main modules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crossreference to draft amending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Presentation by Data Expert Group to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98989"/>
                </a:solidFill>
                <a:latin typeface="Calibri"/>
              </a:rPr>
              <a:t>19 February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01-R41WG-08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920" y="1000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COPE ...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DEFINITIONS, TERMS AND SYMBOLS 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LICATION FOR APPROVAL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ARKINGS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PPROVAL ......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PECIFICATIONS .........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 </a:t>
            </a:r>
            <a:r>
              <a:rPr b="1" lang="en-GB" sz="1800" spc="-1" strike="noStrike">
                <a:solidFill>
                  <a:srgbClr val="c0504d"/>
                </a:solidFill>
                <a:latin typeface="Calibri"/>
              </a:rPr>
              <a:t>Anti-tamp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MODIFICATION AND EXTENSION OF THE APPROVAL OF THE MOTORCY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YPE OR OF THE TYPE OF EXHAUST OR SILENCING SYSTEM(S)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CONFORMITY OF PRODUCTION 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ENALTIES FOR NON-CONFORMITY OF PRODUCTION 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RODUCTION DEFINITELY DISCONTINUED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NAMES AND ADDRESSES OF TECHNICAL SERVICE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RESPONSIBLE FOR CONDUCTING APPROVAL TEST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D OF ADMINISTRATIVE DEPARTMENTS 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RANSITIONAL PROVISIONS .............................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1 - Approval commun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2 - Arrangements of approval 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3 - Methods and instruments for measuring the noise made by motor cycles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    </a:t>
            </a:r>
            <a:r>
              <a:rPr b="1" lang="en-GB" sz="1800" spc="-1" strike="noStrike">
                <a:solidFill>
                  <a:srgbClr val="0070c0"/>
                </a:solidFill>
                <a:latin typeface="Calibri"/>
              </a:rPr>
              <a:t>Pass-by enforcement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4 - Test track specific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5 - Exhaust system (silenc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6 - Maximum limits of sound level (new motor cycle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TA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nnex 7 - Additional sound emission provisions (new motor cycles and new exhaust or silencing systems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AS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920" y="1331640"/>
            <a:ext cx="85723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Initial discussion at 10/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eporting to 47/GRB (with latest text as Informal Docu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R41WG/GRB member comments to Italy by 30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Consideration of comments by [DEG/R41WG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Preparation of revised text for 11/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iscussion at 48/GRB (amended text and limit val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ctions since 9/R41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617480"/>
            <a:ext cx="857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continued discussions; still some ASEP issues to che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DEG documents have been sent to UN for uploading on ECE website; origin of motorcycles added to noise leve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01-R41WG-08 (draft amendment) has been updated (see Informal Document 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</a:rPr>
              <a:t>This presentation shows how the amendment is linked to past decisions of R41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Modular structure – “the pack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2766960" y="2182680"/>
            <a:ext cx="8242200" cy="4535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3" descr=""/>
          <p:cNvPicPr/>
          <p:nvPr/>
        </p:nvPicPr>
        <p:blipFill>
          <a:blip r:embed="rId2"/>
          <a:stretch/>
        </p:blipFill>
        <p:spPr>
          <a:xfrm>
            <a:off x="-1792440" y="2182680"/>
            <a:ext cx="8242560" cy="4542120"/>
          </a:xfrm>
          <a:prstGeom prst="rect">
            <a:avLst/>
          </a:prstGeom>
          <a:ln w="0">
            <a:noFill/>
          </a:ln>
        </p:spPr>
      </p:pic>
      <p:pic>
        <p:nvPicPr>
          <p:cNvPr id="48" name="Diagram 6" descr=""/>
          <p:cNvPicPr/>
          <p:nvPr/>
        </p:nvPicPr>
        <p:blipFill>
          <a:blip r:embed="rId3"/>
          <a:stretch/>
        </p:blipFill>
        <p:spPr>
          <a:xfrm>
            <a:off x="1122480" y="1268280"/>
            <a:ext cx="2541600" cy="889200"/>
          </a:xfrm>
          <a:prstGeom prst="rect">
            <a:avLst/>
          </a:prstGeom>
          <a:ln w="0">
            <a:noFill/>
          </a:ln>
        </p:spPr>
      </p:pic>
      <p:pic>
        <p:nvPicPr>
          <p:cNvPr id="49" name="Group 7" descr=""/>
          <p:cNvPicPr/>
          <p:nvPr/>
        </p:nvPicPr>
        <p:blipFill>
          <a:blip r:embed="rId4"/>
          <a:stretch/>
        </p:blipFill>
        <p:spPr>
          <a:xfrm>
            <a:off x="5767560" y="1341360"/>
            <a:ext cx="22539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quired acceleration and potential perverse consequences (longer gearing in test = lower rpm = lower noise but also lower gears used in real life = higher rpm = higher no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relationship between test conditions and actual use conditions, meaning reduced effectiveness of noise reduction measures in real li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53" name="Rounded Rectangle 4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01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714920" y="3643200"/>
            <a:ext cx="4429080" cy="3089520"/>
          </a:xfrm>
          <a:prstGeom prst="rect">
            <a:avLst/>
          </a:prstGeom>
          <a:ln w="0">
            <a:noFill/>
          </a:ln>
        </p:spPr>
      </p:pic>
      <p:sp>
        <p:nvSpPr>
          <p:cNvPr id="57" name="Isosceles Triangle 9"/>
          <p:cNvSpPr/>
          <p:nvPr/>
        </p:nvSpPr>
        <p:spPr>
          <a:xfrm rot="5400000">
            <a:off x="3571560" y="4929120"/>
            <a:ext cx="2071800" cy="357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TA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92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Essentially same method as for cars but with higher target accelerations and without acceleration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rescr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d target acceleration rate related to vehicle acceleration capability – level playing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urate simulation of noise source distribution (intake, exhaust, engine/gearbox, …) in relation to most relevant motorcycle operation – effective noise reduction meas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ependent of vehicle design to allow future propulsion technologies to be tested – vehicle speed and acceleration instead of engine sp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1 (test method) + Annex 6 (lim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7429680" y="0"/>
            <a:ext cx="1693800" cy="1571760"/>
            <a:chOff x="7429680" y="0"/>
            <a:chExt cx="1693800" cy="1571760"/>
          </a:xfrm>
        </p:grpSpPr>
        <p:sp>
          <p:nvSpPr>
            <p:cNvPr id="61" name="Rounded Rectangle 8"/>
            <p:cNvSpPr/>
            <p:nvPr/>
          </p:nvSpPr>
          <p:spPr>
            <a:xfrm>
              <a:off x="7429680" y="0"/>
              <a:ext cx="1693800" cy="15717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4"/>
            <p:cNvSpPr/>
            <p:nvPr/>
          </p:nvSpPr>
          <p:spPr>
            <a:xfrm>
              <a:off x="7512120" y="75960"/>
              <a:ext cx="152892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New TA 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Base TA test provides only “snapshot” of noise emission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ise levels below and above TA test conditions may increase inappropriat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66" name="Rounded Rectangle 8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214200" y="3191040"/>
            <a:ext cx="504828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500800" y="3827520"/>
            <a:ext cx="2903400" cy="1958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2143080" y="4643280"/>
            <a:ext cx="1214640" cy="4287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357880" y="3786120"/>
            <a:ext cx="3143160" cy="20718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"/>
          <p:cNvSpPr/>
          <p:nvPr/>
        </p:nvSpPr>
        <p:spPr>
          <a:xfrm flipV="1">
            <a:off x="3357720" y="3785760"/>
            <a:ext cx="2000160" cy="8571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8"/>
          <p:cNvSpPr/>
          <p:nvPr/>
        </p:nvSpPr>
        <p:spPr>
          <a:xfrm>
            <a:off x="3357720" y="5072040"/>
            <a:ext cx="2000160" cy="785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 rot="2787000">
            <a:off x="2856240" y="2978640"/>
            <a:ext cx="496800" cy="21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5840280" y="4637160"/>
            <a:ext cx="7891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S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Definition of operating range below and above TA test conditions within which nois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mission should not deviate significantly from what one would expect from the base TA test results – control beyond TA “snapsho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ufacturer declaration of conformity with possibility for TA authority to perform checks – limited testing burden at time of 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imits (slopes and toler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 and Annex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7572240" y="0"/>
            <a:ext cx="1571760" cy="1571760"/>
            <a:chOff x="7572240" y="0"/>
            <a:chExt cx="1571760" cy="1571760"/>
          </a:xfrm>
        </p:grpSpPr>
        <p:sp>
          <p:nvSpPr>
            <p:cNvPr id="79" name="Rounded Rectangle 10"/>
            <p:cNvSpPr/>
            <p:nvPr/>
          </p:nvSpPr>
          <p:spPr>
            <a:xfrm>
              <a:off x="7572240" y="0"/>
              <a:ext cx="1571760" cy="15717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4"/>
            <p:cNvSpPr/>
            <p:nvPr/>
          </p:nvSpPr>
          <p:spPr>
            <a:xfrm>
              <a:off x="7648200" y="75960"/>
              <a:ext cx="14194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SE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Roadside enfor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92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Stationary noise test with reference noise level by itself is only able to capture crude illegal systems and rough mani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 /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Maximum WOT drive-by test result for lowest gear from TA test made available as additional reference data for roadside enforcement – better enforcement capability with drive-by noise test as additional tool next to stationary noise 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lignment with ISO 5130 (stationary noise t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nnex 3 section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7215120" y="0"/>
            <a:ext cx="1928880" cy="1571760"/>
            <a:chOff x="7215120" y="0"/>
            <a:chExt cx="1928880" cy="1571760"/>
          </a:xfrm>
        </p:grpSpPr>
        <p:sp>
          <p:nvSpPr>
            <p:cNvPr id="84" name="Rounded Rectangle 7"/>
            <p:cNvSpPr/>
            <p:nvPr/>
          </p:nvSpPr>
          <p:spPr>
            <a:xfrm>
              <a:off x="7215120" y="0"/>
              <a:ext cx="1928880" cy="1571760"/>
            </a:xfrm>
            <a:prstGeom prst="roundRect">
              <a:avLst>
                <a:gd name="adj" fmla="val 16667"/>
              </a:avLst>
            </a:prstGeom>
            <a:solidFill>
              <a:srgbClr val="37609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ounded Rectangle 4"/>
            <p:cNvSpPr/>
            <p:nvPr/>
          </p:nvSpPr>
          <p:spPr>
            <a:xfrm>
              <a:off x="7308720" y="75960"/>
              <a:ext cx="174168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Pass-by test for roadside  enforc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Anti-tamp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29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o prescriptions related to easily modifiable and manuall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adjustable multi-mode muffl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Legal language to prevent approval of mufflers designed for tamp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erformance requirements for multi-mode mufflers (test all mo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Remaining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0000"/>
                </a:solidFill>
                <a:uFillTx/>
                <a:latin typeface="Calibri"/>
              </a:rPr>
              <a:t>Where in 01-R41WG-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Paragraph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7143840" y="0"/>
            <a:ext cx="2000160" cy="1643040"/>
            <a:chOff x="7143840" y="0"/>
            <a:chExt cx="2000160" cy="1643040"/>
          </a:xfrm>
        </p:grpSpPr>
        <p:sp>
          <p:nvSpPr>
            <p:cNvPr id="89" name="Rounded Rectangle 8"/>
            <p:cNvSpPr/>
            <p:nvPr/>
          </p:nvSpPr>
          <p:spPr>
            <a:xfrm>
              <a:off x="7143840" y="0"/>
              <a:ext cx="2000160" cy="1643040"/>
            </a:xfrm>
            <a:prstGeom prst="roundRect">
              <a:avLst>
                <a:gd name="adj" fmla="val 16667"/>
              </a:avLst>
            </a:prstGeom>
            <a:solidFill>
              <a:srgbClr val="95373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ounded Rectangle 4"/>
            <p:cNvSpPr/>
            <p:nvPr/>
          </p:nvSpPr>
          <p:spPr>
            <a:xfrm>
              <a:off x="7240680" y="79200"/>
              <a:ext cx="180648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nl-BE" sz="2000" spc="-1" strike="noStrike">
                  <a:solidFill>
                    <a:srgbClr val="ffffff"/>
                  </a:solidFill>
                  <a:latin typeface="Calibri"/>
                </a:rPr>
                <a:t>Anti-tampering / contructional requir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5000" y="2071800"/>
            <a:ext cx="1981080" cy="171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3500280" y="207648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9:53:22Z</dcterms:created>
  <dc:creator> </dc:creator>
  <dc:description/>
  <dc:language>en-US</dc:language>
  <cp:lastModifiedBy>Gibbons</cp:lastModifiedBy>
  <dcterms:modified xsi:type="dcterms:W3CDTF">2008-06-03T07:56:41Z</dcterms:modified>
  <cp:revision>57</cp:revision>
  <dc:subject/>
  <dc:title>ECE R41 revision</dc:title>
</cp:coreProperties>
</file>