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A41CC-BBF9-48E2-8CB5-B4DB56653A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32033-7991-479D-BDFE-4379D8EEBC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DBBCE-BDAD-4FF1-BBC1-F71E602B45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40A76-5AF8-4515-83A7-A5F09C0DC2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FF1BA-5C44-4387-B4E6-0AD32D537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46C12-F067-4E31-856B-C570C297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8A3A0-B6AB-4495-95E2-C4ED0D4F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A0855-85F7-4057-956B-9B0F2AA5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2F91E-0C6F-4D32-9163-D52C219B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A4BB5-A4B1-4EF1-8415-4E91B942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2F8B9-BAC8-48F1-9741-178AD687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B1E52-BAA5-4B01-B5C4-1BF17FF728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3F0E8-5599-4A71-8391-A3F10B6B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813F9-E691-4DA8-B916-8C20EC22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94876-D062-45B4-A855-7B81B0E2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B6230-6E99-43BC-A397-C8C1F715F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396F5-81EC-4546-A6A2-E1917CD77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00B86-C128-41D2-BCC0-AB6098F831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D95F2-75D6-4DFD-B4B7-D4E200E9A2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FDB11-EFD2-4A62-BFAC-A0D99C8141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9C66D-E740-4058-B22E-2EE4711685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85F28-9E00-46E5-AB23-A4BF1498F1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23A9D-F27E-4805-8974-21B4CE0460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A4547-7F25-4191-AFEA-9743067210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RTO GTR W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9747-0A95-4219-B3FC-36D4751FAC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ETRTO"/>
          <p:cNvPicPr/>
          <p:nvPr/>
        </p:nvPicPr>
        <p:blipFill>
          <a:blip r:embed="rId2"/>
          <a:stretch/>
        </p:blipFill>
        <p:spPr>
          <a:xfrm>
            <a:off x="312840" y="6248520"/>
            <a:ext cx="604800" cy="58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C47A-90D4-4610-90A9-53714EB956E8}" type="datetime">
              <a:rPr b="0" lang="fr-FR" sz="1200" spc="-1" strike="noStrike">
                <a:solidFill>
                  <a:srgbClr val="000000"/>
                </a:solidFill>
                <a:latin typeface="Garamond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3C16-349C-467D-98E3-4E5EC58A178A}" type="slidenum">
              <a:rPr b="0" lang="fr-F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5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700" spc="-1" strike="noStrike">
                <a:solidFill>
                  <a:srgbClr val="006633"/>
                </a:solidFill>
                <a:latin typeface="Garamond"/>
              </a:rPr>
              <a:t>gtr for Tyres:</a:t>
            </a:r>
            <a:br>
              <a:rPr sz="5700"/>
            </a:br>
            <a:r>
              <a:rPr b="1" lang="en-GB" sz="4700" spc="-1" strike="noStrike">
                <a:solidFill>
                  <a:srgbClr val="006633"/>
                </a:solidFill>
                <a:latin typeface="Garamond"/>
              </a:rPr>
              <a:t>Update</a:t>
            </a:r>
            <a:endParaRPr b="0" lang="en-US" sz="4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311280" y="4698720"/>
            <a:ext cx="246852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vember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ETRTO"/>
          <p:cNvPicPr/>
          <p:nvPr/>
        </p:nvPicPr>
        <p:blipFill>
          <a:blip r:embed="rId1"/>
          <a:stretch/>
        </p:blipFill>
        <p:spPr>
          <a:xfrm>
            <a:off x="3865680" y="5337000"/>
            <a:ext cx="1361880" cy="1314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43080" y="285840"/>
            <a:ext cx="3429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Transmitted by the representative of ER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72280" y="142920"/>
            <a:ext cx="3657600" cy="9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Informal document No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WP.29-146-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146th WP.29, 11 - 14 November 2008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genda item 17.9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E4C7-7A4B-4445-ACC4-08FD410788C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33"/>
                </a:solidFill>
                <a:latin typeface="Garamond"/>
              </a:rPr>
              <a:t>GTR framework proposal – 1° step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9320" y="982800"/>
            <a:ext cx="3676680" cy="517032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Current UNECE Reg.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C ty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30, R11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 dim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 Sp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t gr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 ty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54, R11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 dim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 Sp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936960" y="982440"/>
            <a:ext cx="5006880" cy="518292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In the gt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C and C + LT ty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arm. Physical dimen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arm. High Speed (P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igh Speed + Endurance (C – UNECE R5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igh Speed + Endurance (LT – USA FMVSS13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durance (P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ow Pressure Endura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et grip (P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reaking Ener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ead Unsea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F009-F2D7-4B63-A73A-3D04F98F831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Remaining Technical Task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308240"/>
            <a:ext cx="8229600" cy="48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Include C and LT tyr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fine how to do it, taking into account Load Range and Load Index differ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armonise the tests (High Speed + Enduranc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o existing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nsiderable resources to be alloc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stimated to take 3 years (to be confirme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907F-E802-4D46-9ACD-2B2D521E05A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33"/>
                </a:solidFill>
                <a:latin typeface="Garamond"/>
              </a:rPr>
              <a:t>GTR framework proposal – 2° step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9320" y="982800"/>
            <a:ext cx="3676680" cy="517032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Current UNECE Reg.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C ty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30, R11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 dim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 Sp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t gr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 ty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54, R11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 dim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 Sp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936960" y="982440"/>
            <a:ext cx="5006880" cy="518292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In the gt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C and C + LT ty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arm. Physical dimen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arm. High Speed (P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Harm. High Speed (C + L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Harm. Endurance (C+ L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durance (P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ow Pressure Endura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et grip (P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reaking Ener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ead Unsea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2D96-1666-42BE-82CC-5281AB08616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4360" y="2933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6633"/>
                </a:solidFill>
                <a:latin typeface="Garamond"/>
              </a:rPr>
              <a:t>Thank you for your attention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EC00-1162-49D4-98E3-62988D525EC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15800" y="277920"/>
            <a:ext cx="874080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33"/>
                </a:solidFill>
                <a:latin typeface="Garamond"/>
              </a:rPr>
              <a:t>The GTR objective (3y working programme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7632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38120" y="228600"/>
            <a:ext cx="72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ad map for TYRE GTR – Technical Programme - PC ty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187488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1916280"/>
            <a:ext cx="936720" cy="44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ep 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ep 2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ep 3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ep 4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32000" y="1542960"/>
            <a:ext cx="936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7 1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17680" y="1538280"/>
            <a:ext cx="936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7 2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21000" y="1542960"/>
            <a:ext cx="936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7 3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08480" y="1541520"/>
            <a:ext cx="936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7 4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94160" y="1542960"/>
            <a:ext cx="936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8 1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67600" y="1542960"/>
            <a:ext cx="936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8 2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54720" y="1541520"/>
            <a:ext cx="936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8 3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32000" y="2131920"/>
            <a:ext cx="1249200" cy="144720"/>
          </a:xfrm>
          <a:prstGeom prst="rightArrow">
            <a:avLst>
              <a:gd name="adj1" fmla="val 50000"/>
              <a:gd name="adj2" fmla="val 21579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93800" y="3141720"/>
            <a:ext cx="1249560" cy="142920"/>
          </a:xfrm>
          <a:prstGeom prst="rightArrow">
            <a:avLst>
              <a:gd name="adj1" fmla="val 50000"/>
              <a:gd name="adj2" fmla="val 21857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70360" y="4221000"/>
            <a:ext cx="1062000" cy="144720"/>
          </a:xfrm>
          <a:prstGeom prst="rightArrow">
            <a:avLst>
              <a:gd name="adj1" fmla="val 50000"/>
              <a:gd name="adj2" fmla="val 18345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32360" y="4146480"/>
            <a:ext cx="358920" cy="357120"/>
          </a:xfrm>
          <a:custGeom>
            <a:avLst/>
            <a:gdLst>
              <a:gd name="textAreaLeft" fmla="*/ 81720 w 358920"/>
              <a:gd name="textAreaRight" fmla="*/ 277200 w 358920"/>
              <a:gd name="textAreaTop" fmla="*/ 81360 h 357120"/>
              <a:gd name="textAreaBottom" fmla="*/ 275760 h 35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80000" y="722160"/>
            <a:ext cx="1297080" cy="505080"/>
          </a:xfrm>
          <a:prstGeom prst="wedgeRectCallout">
            <a:avLst>
              <a:gd name="adj1" fmla="val -42532"/>
              <a:gd name="adj2" fmla="val 11289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b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79800" y="692280"/>
            <a:ext cx="1297080" cy="504720"/>
          </a:xfrm>
          <a:prstGeom prst="wedgeRectCallout">
            <a:avLst>
              <a:gd name="adj1" fmla="val -45837"/>
              <a:gd name="adj2" fmla="val 11289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5-28Sept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63640" y="722160"/>
            <a:ext cx="1297080" cy="505080"/>
          </a:xfrm>
          <a:prstGeom prst="wedgeRectCallout">
            <a:avLst>
              <a:gd name="adj1" fmla="val -38250"/>
              <a:gd name="adj2" fmla="val 11289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b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96360" y="722160"/>
            <a:ext cx="1296720" cy="505080"/>
          </a:xfrm>
          <a:prstGeom prst="wedgeRectCallout">
            <a:avLst>
              <a:gd name="adj1" fmla="val -36166"/>
              <a:gd name="adj2" fmla="val 11226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t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81800" y="5087880"/>
            <a:ext cx="358920" cy="357120"/>
          </a:xfrm>
          <a:custGeom>
            <a:avLst/>
            <a:gdLst>
              <a:gd name="textAreaLeft" fmla="*/ 81720 w 358920"/>
              <a:gd name="textAreaRight" fmla="*/ 277200 w 358920"/>
              <a:gd name="textAreaTop" fmla="*/ 81360 h 357120"/>
              <a:gd name="textAreaBottom" fmla="*/ 275760 h 35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101080" y="95400"/>
            <a:ext cx="949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7/1/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05080" y="6021360"/>
            <a:ext cx="1249200" cy="863640"/>
          </a:xfrm>
          <a:prstGeom prst="rightArrow">
            <a:avLst>
              <a:gd name="adj1" fmla="val 50000"/>
              <a:gd name="adj2" fmla="val 3616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19520" y="3387600"/>
            <a:ext cx="1371600" cy="0"/>
          </a:xfrm>
          <a:prstGeom prst="line">
            <a:avLst/>
          </a:prstGeom>
          <a:ln w="889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2349360"/>
            <a:ext cx="1371600" cy="0"/>
          </a:xfrm>
          <a:prstGeom prst="line">
            <a:avLst/>
          </a:prstGeom>
          <a:ln w="889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5535720"/>
            <a:ext cx="2217600" cy="12600"/>
          </a:xfrm>
          <a:prstGeom prst="line">
            <a:avLst/>
          </a:prstGeom>
          <a:ln w="889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038480" y="4500720"/>
            <a:ext cx="1524240" cy="0"/>
          </a:xfrm>
          <a:prstGeom prst="line">
            <a:avLst/>
          </a:prstGeom>
          <a:ln w="889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81800" y="4367160"/>
            <a:ext cx="358560" cy="357120"/>
          </a:xfrm>
          <a:custGeom>
            <a:avLst/>
            <a:gdLst>
              <a:gd name="textAreaLeft" fmla="*/ 81720 w 358560"/>
              <a:gd name="textAreaRight" fmla="*/ 276840 w 358560"/>
              <a:gd name="textAreaTop" fmla="*/ 81360 h 357120"/>
              <a:gd name="textAreaBottom" fmla="*/ 275760 h 35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948440" y="5300640"/>
            <a:ext cx="358920" cy="357120"/>
          </a:xfrm>
          <a:custGeom>
            <a:avLst/>
            <a:gdLst>
              <a:gd name="textAreaLeft" fmla="*/ 81720 w 358920"/>
              <a:gd name="textAreaRight" fmla="*/ 277200 w 358920"/>
              <a:gd name="textAreaTop" fmla="*/ 81360 h 357120"/>
              <a:gd name="textAreaBottom" fmla="*/ 275760 h 35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19640" y="5229360"/>
            <a:ext cx="2089080" cy="144360"/>
          </a:xfrm>
          <a:prstGeom prst="rightArrow">
            <a:avLst>
              <a:gd name="adj1" fmla="val 50000"/>
              <a:gd name="adj2" fmla="val 36178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00360" y="6021360"/>
            <a:ext cx="1584360" cy="863640"/>
          </a:xfrm>
          <a:prstGeom prst="rightArrow">
            <a:avLst>
              <a:gd name="adj1" fmla="val 50000"/>
              <a:gd name="adj2" fmla="val 4586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LUNGER ENG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EAD UNS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3573360"/>
            <a:ext cx="2057400" cy="0"/>
          </a:xfrm>
          <a:prstGeom prst="line">
            <a:avLst/>
          </a:prstGeom>
          <a:ln w="88920">
            <a:solidFill>
              <a:srgbClr val="3b81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76520" y="2565360"/>
            <a:ext cx="1676160" cy="0"/>
          </a:xfrm>
          <a:prstGeom prst="line">
            <a:avLst/>
          </a:prstGeom>
          <a:ln w="88920">
            <a:solidFill>
              <a:srgbClr val="3b81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91320" y="5800680"/>
            <a:ext cx="2192040" cy="0"/>
          </a:xfrm>
          <a:prstGeom prst="line">
            <a:avLst/>
          </a:prstGeom>
          <a:ln w="88920">
            <a:solidFill>
              <a:srgbClr val="3b81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4724280"/>
            <a:ext cx="1752480" cy="0"/>
          </a:xfrm>
          <a:prstGeom prst="line">
            <a:avLst/>
          </a:prstGeom>
          <a:ln w="88920">
            <a:solidFill>
              <a:srgbClr val="3b81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84720" y="4584600"/>
            <a:ext cx="358920" cy="357120"/>
          </a:xfrm>
          <a:custGeom>
            <a:avLst/>
            <a:gdLst>
              <a:gd name="textAreaLeft" fmla="*/ 81720 w 358920"/>
              <a:gd name="textAreaRight" fmla="*/ 277200 w 358920"/>
              <a:gd name="textAreaTop" fmla="*/ 81360 h 357120"/>
              <a:gd name="textAreaBottom" fmla="*/ 275760 h 35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974000" y="5659560"/>
            <a:ext cx="358920" cy="357120"/>
          </a:xfrm>
          <a:custGeom>
            <a:avLst/>
            <a:gdLst>
              <a:gd name="textAreaLeft" fmla="*/ 81720 w 358920"/>
              <a:gd name="textAreaRight" fmla="*/ 277200 w 358920"/>
              <a:gd name="textAreaTop" fmla="*/ 81360 h 357120"/>
              <a:gd name="textAreaBottom" fmla="*/ 275760 h 35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56000" y="6021360"/>
            <a:ext cx="1584360" cy="863640"/>
          </a:xfrm>
          <a:prstGeom prst="rightArrow">
            <a:avLst>
              <a:gd name="adj1" fmla="val 50000"/>
              <a:gd name="adj2" fmla="val 45863"/>
            </a:avLst>
          </a:pr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YRE END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OW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2060640"/>
            <a:ext cx="358560" cy="357120"/>
          </a:xfrm>
          <a:custGeom>
            <a:avLst/>
            <a:gdLst>
              <a:gd name="textAreaLeft" fmla="*/ 81720 w 358560"/>
              <a:gd name="textAreaRight" fmla="*/ 276840 w 358560"/>
              <a:gd name="textAreaTop" fmla="*/ 81360 h 357120"/>
              <a:gd name="textAreaBottom" fmla="*/ 275760 h 35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32720" y="2495520"/>
            <a:ext cx="358560" cy="357120"/>
          </a:xfrm>
          <a:custGeom>
            <a:avLst/>
            <a:gdLst>
              <a:gd name="textAreaLeft" fmla="*/ 81720 w 358560"/>
              <a:gd name="textAreaRight" fmla="*/ 276840 w 358560"/>
              <a:gd name="textAreaTop" fmla="*/ 81360 h 357120"/>
              <a:gd name="textAreaBottom" fmla="*/ 275760 h 35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36000" y="2133720"/>
            <a:ext cx="1439640" cy="215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eliminar D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257960" y="2565360"/>
            <a:ext cx="144000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nal DR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12000" y="6021360"/>
            <a:ext cx="1081080" cy="863640"/>
          </a:xfrm>
          <a:prstGeom prst="rightArrow">
            <a:avLst>
              <a:gd name="adj1" fmla="val 50000"/>
              <a:gd name="adj2" fmla="val 31294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IGH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3789360"/>
            <a:ext cx="1727280" cy="0"/>
          </a:xfrm>
          <a:prstGeom prst="line">
            <a:avLst/>
          </a:prstGeom>
          <a:ln w="889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32000" y="2781360"/>
            <a:ext cx="1008000" cy="0"/>
          </a:xfrm>
          <a:prstGeom prst="line">
            <a:avLst/>
          </a:prstGeom>
          <a:ln w="889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06960" y="6016680"/>
            <a:ext cx="2668680" cy="4680"/>
          </a:xfrm>
          <a:prstGeom prst="line">
            <a:avLst/>
          </a:prstGeom>
          <a:ln w="889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59400" y="4940280"/>
            <a:ext cx="3438360" cy="1440"/>
          </a:xfrm>
          <a:prstGeom prst="line">
            <a:avLst/>
          </a:prstGeom>
          <a:ln w="889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927920" y="4800600"/>
            <a:ext cx="358920" cy="357120"/>
          </a:xfrm>
          <a:custGeom>
            <a:avLst/>
            <a:gdLst>
              <a:gd name="textAreaLeft" fmla="*/ 81720 w 358920"/>
              <a:gd name="textAreaRight" fmla="*/ 277200 w 358920"/>
              <a:gd name="textAreaTop" fmla="*/ 81360 h 357120"/>
              <a:gd name="textAreaBottom" fmla="*/ 275760 h 35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4080" y="6021360"/>
            <a:ext cx="1249200" cy="863640"/>
          </a:xfrm>
          <a:prstGeom prst="rightArrow">
            <a:avLst>
              <a:gd name="adj1" fmla="val 50000"/>
              <a:gd name="adj2" fmla="val 36161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IM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32000" y="1916280"/>
            <a:ext cx="576000" cy="144360"/>
          </a:xfrm>
          <a:prstGeom prst="rightArrow">
            <a:avLst>
              <a:gd name="adj1" fmla="val 50000"/>
              <a:gd name="adj2" fmla="val 99751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08000" y="2997360"/>
            <a:ext cx="1368720" cy="144360"/>
          </a:xfrm>
          <a:prstGeom prst="rightArrow">
            <a:avLst>
              <a:gd name="adj1" fmla="val 50000"/>
              <a:gd name="adj2" fmla="val 237032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64000" y="4076640"/>
            <a:ext cx="1944720" cy="144360"/>
          </a:xfrm>
          <a:prstGeom prst="rightArrow">
            <a:avLst>
              <a:gd name="adj1" fmla="val 50000"/>
              <a:gd name="adj2" fmla="val 336783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76720" y="2852640"/>
            <a:ext cx="358560" cy="357120"/>
          </a:xfrm>
          <a:custGeom>
            <a:avLst/>
            <a:gdLst>
              <a:gd name="textAreaLeft" fmla="*/ 81720 w 358560"/>
              <a:gd name="textAreaRight" fmla="*/ 276840 w 358560"/>
              <a:gd name="textAreaTop" fmla="*/ 81360 h 357120"/>
              <a:gd name="textAreaBottom" fmla="*/ 275760 h 35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80000" y="3933720"/>
            <a:ext cx="358920" cy="357120"/>
          </a:xfrm>
          <a:custGeom>
            <a:avLst/>
            <a:gdLst>
              <a:gd name="textAreaLeft" fmla="*/ 81720 w 358920"/>
              <a:gd name="textAreaRight" fmla="*/ 277200 w 358920"/>
              <a:gd name="textAreaTop" fmla="*/ 81360 h 357120"/>
              <a:gd name="textAreaBottom" fmla="*/ 275760 h 35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32720" y="3068640"/>
            <a:ext cx="323640" cy="2890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36000" y="3068640"/>
            <a:ext cx="143964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d-hoc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244000" y="1530360"/>
            <a:ext cx="936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8 4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172360" y="6237360"/>
            <a:ext cx="936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9 1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750160" y="5805360"/>
            <a:ext cx="358920" cy="357480"/>
          </a:xfrm>
          <a:custGeom>
            <a:avLst/>
            <a:gdLst>
              <a:gd name="textAreaLeft" fmla="*/ 81720 w 358920"/>
              <a:gd name="textAreaRight" fmla="*/ 277200 w 358920"/>
              <a:gd name="textAreaTop" fmla="*/ 81360 h 357480"/>
              <a:gd name="textAreaBottom" fmla="*/ 276120 h 357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0" y="3645000"/>
            <a:ext cx="324000" cy="2887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853400" y="4653000"/>
            <a:ext cx="606240" cy="1411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8375760" y="5124240"/>
            <a:ext cx="807840" cy="376560"/>
          </a:xfrm>
          <a:custGeom>
            <a:avLst/>
            <a:gdLst>
              <a:gd name="textAreaLeft" fmla="*/ 0 w 807840"/>
              <a:gd name="textAreaRight" fmla="*/ 808200 w 807840"/>
              <a:gd name="textAreaTop" fmla="*/ 0 h 376560"/>
              <a:gd name="textAreaBottom" fmla="*/ 376920 h 376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88C1-BCE7-48B5-AC68-845E699EC82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9840" y="277560"/>
            <a:ext cx="85266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Scope – GRRF Chairman’s compromi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68520"/>
            <a:ext cx="822960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armonization of radial PC tyres (UNECE Reg30 and USA FMVSS139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nclude C type tyres (UNECE Reg.54) and LT tyres, exactly as in the present USA FMVSS 139 as Contracting Party op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vers tyres fitted to light vehicles of max mass 4536kg or 10.000 pounds, exactly as in the present USA FMVSS 13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5F10-0AAC-4324-8722-92E7857CCD2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Radial PC tyres - Harmonis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361880"/>
            <a:ext cx="822960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amonisation established fo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physical dimensions test meth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high speed test between UNECE R30 and USA FMVSS 13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ll others tests are uniqu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rom USA FMVSS139: endurance/low pressure -  breaking energy - bead unsea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rom UNECE R117: noise and wet gr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3060-2DA6-4687-BC68-9C45E084756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C and LT tyres - statu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150920"/>
            <a:ext cx="822960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o different High Speed tests and two different Endurance tests need to be harmonized (from UNECE R54 and USA FMVSS139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erally the test requirements (tyre’s loads, inflations and/or speeds) are adjusted based on the tyre technical parame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Difficult issu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For C tyres, the UNECE Reg.54 is referring to </a:t>
            </a:r>
            <a:r>
              <a:rPr b="0" lang="en-GB" sz="2500" spc="-1" strike="noStrike" u="sng">
                <a:solidFill>
                  <a:srgbClr val="000000"/>
                </a:solidFill>
                <a:uFillTx/>
                <a:latin typeface="Arial"/>
              </a:rPr>
              <a:t>Speed Symbol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500" spc="-1" strike="noStrike" u="sng">
                <a:solidFill>
                  <a:srgbClr val="000000"/>
                </a:solidFill>
                <a:uFillTx/>
                <a:latin typeface="Arial"/>
              </a:rPr>
              <a:t>Load Index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(e.g. 121 = 1450kg) for fixing testing condi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For LT tyres, the USA FMVSS 139 is referring to </a:t>
            </a:r>
            <a:r>
              <a:rPr b="0" lang="en-GB" sz="2500" spc="-1" strike="noStrike" u="sng">
                <a:solidFill>
                  <a:srgbClr val="000000"/>
                </a:solidFill>
                <a:uFillTx/>
                <a:latin typeface="Arial"/>
              </a:rPr>
              <a:t>Load Range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(letter C to E) for fixing testing condi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EF6D-0583-4F2D-ACBD-296D8783E71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C and LT tyres - statu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150920"/>
            <a:ext cx="847260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Load Index and Load Range : there is NO correlation between them and therefore they are NOT harmonized parame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An ad-hoc Tyre Industry project will be developed to harmonise the Industry Standards (Load Range versus Load Index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Consequentially will be developed the harmonisation project of tests from UNECE R54 and FMVSS 13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Another 3 years of work is foreseen, with major  resources to be dedicated to the tests’ harmonisation (high speed and enduranc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Working plan will be presented at next GRRF Feb.0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9C9C-85A1-4209-A693-CCEBD69AB8C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Scop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50920"/>
            <a:ext cx="822960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s Regulation covers new radial pneumatic tyres designed [primarily] for vehicles in category 1-1, 1-2 and 2*, all with a mass limit of 4.536 k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As defined in Special Resolution Number 1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regulation will includ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harmoniz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quirements for new radial pneumatic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assenger car tyr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egulation will also includ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non-harmoniz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rovisions fo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light truck / commercial type tyr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s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first ste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wards full harmonization. The time table for completing the harmonization of requirements for all tyres covered by this gtr is [three] years from [?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6DCC-4FD0-4753-B1E0-DA49C3F4650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Mark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8224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wording “Tubeless” must rem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wording “Radial” will disappe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UNECE Type Approval marking and USA DOT Tyre Identification markings will be combined in a unique global tyre type identification marking sequ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GLOBAL marking (logotype) to identify a tyre in compliance to the gtr provisions is also proposed – need for further assess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3:19:59Z</dcterms:created>
  <dc:creator>Keith Hodges</dc:creator>
  <dc:description/>
  <dc:language>en-US</dc:language>
  <cp:lastModifiedBy>Armengol</cp:lastModifiedBy>
  <dcterms:modified xsi:type="dcterms:W3CDTF">2008-11-13T14:15:30Z</dcterms:modified>
  <cp:revision>67</cp:revision>
  <dc:subject/>
  <dc:title>Point sur GT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