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CAC-7943-4557-B4D9-7A2BBB55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BBA-5BF8-40ED-9F00-03D2BD93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FBA-D3DB-4181-9611-A0C32EF0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4F7-EBE2-4101-8D22-2AEB6EDA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2E58-ECC5-4CE8-BC52-BC0CFFE1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99E9-9445-4C6B-88E2-0AD67EF2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56BC-FBF6-4570-8B96-27E661D0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C29E-B028-4C70-A234-6603228E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270C-4D49-4A67-81C9-DABC2E54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38B3-5567-4B62-A356-0AAF03FD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A3C3-1A6A-4190-BB32-5AFBEEF1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FDC-1677-4206-838F-5BB72A6C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7C21-93F2-45BD-B1AC-9329E4CB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4E81-4711-4436-8C44-E78126D5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04FB-A7E8-4B6B-9E04-413022E2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1A9D-F20F-4A36-8992-E7EB5B51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0EBF-58C3-4941-833A-65F463E7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2FA-034E-42F4-A178-06431D99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093-9136-46BF-8279-84313ED6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9A5-E1E8-4CAC-B3AA-953E8921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9E1-0E05-42D8-93A0-4462CE74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88D-2B57-4E11-83C0-D6EDB1C7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E58-6945-4C13-8403-76048A9F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3D4-4B45-4657-B357-389DE13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60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66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b0707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3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a0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e0e0e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11616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a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e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7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8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6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11616"/>
                  </a:gs>
                  <a:gs pos="100000">
                    <a:srgbClr val="9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af9e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9e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4A42-AEB1-4506-B5E5-7492930AC9BC}" type="slidenum">
              <a:rPr b="0" lang="en-GB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60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66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b0707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3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a0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e0e0e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11616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a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e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7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8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6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11616"/>
                  </a:gs>
                  <a:gs pos="100000">
                    <a:srgbClr val="9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af9e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9e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7605-0806-4F21-986A-404D6E649EFF}" type="slidenum">
              <a:rPr b="0" lang="en-GB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86d52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af9e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6b37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af9e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af9e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Small Group report on Annex 5 and the ECE Regulations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Dr N M Rogers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Coordinator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6028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af9e6"/>
                </a:solidFill>
                <a:uFillTx/>
                <a:latin typeface="Times New Roman"/>
              </a:rPr>
              <a:t>Transmitted by the representative of IMMA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189000"/>
            <a:ext cx="302436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af9e6"/>
                </a:solidFill>
                <a:uFillTx/>
                <a:latin typeface="Times New Roman"/>
              </a:rPr>
              <a:t>Informal document No</a:t>
            </a:r>
            <a:r>
              <a:rPr b="0" lang="en-GB" sz="1200" spc="-1" strike="noStrike">
                <a:solidFill>
                  <a:srgbClr val="faf9e6"/>
                </a:solidFill>
                <a:latin typeface="Times New Roman"/>
              </a:rPr>
              <a:t>. </a:t>
            </a:r>
            <a:r>
              <a:rPr b="1" lang="en-GB" sz="1600" spc="-1" strike="noStrike">
                <a:solidFill>
                  <a:srgbClr val="faf9e6"/>
                </a:solidFill>
                <a:latin typeface="Times New Roman"/>
              </a:rPr>
              <a:t>WP.29-146-27</a:t>
            </a:r>
            <a:endParaRPr b="0" lang="en-US" sz="16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9e6"/>
                </a:solidFill>
                <a:latin typeface="Times New Roman"/>
              </a:rPr>
              <a:t>(146th WP.29, 11 - 14 November 2008,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9e6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af9e6"/>
                </a:solidFill>
                <a:latin typeface="Times New Roman"/>
              </a:rPr>
              <a:t>agenda item 8.10)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E5B6-E6F6-4FB3-9079-E1D0AE3CD2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The issue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echnical Regulations change quickly because of technology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e Convention and Annex 5 get out of date, e.g. flashing stop lam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Drivers in international traffic are being fined for having vehicles meeting ECE Regulation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e Convention has to be kept up to dat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1FE-AA12-4B2C-A69E-3C1BA11B19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Legal Group suggestion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e Legal group suggested adding a general phrase to Annex 5 allowing compliance with ECE Regulations to be an alternativ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e problems are: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Not all requirements are in Annex 5, e.g. lighting in Article 32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Not all Convention Signatories have signed the 1958 Agreement (for ECE Regulations.)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589-496F-4983-A4B4-63DC9EFDC8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The Small Group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af9e6"/>
                </a:solidFill>
                <a:latin typeface="Arial"/>
              </a:rPr>
              <a:t>Was established to study the implications of the Legal group proposa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af9e6"/>
                </a:solidFill>
                <a:latin typeface="Arial"/>
              </a:rPr>
              <a:t>Members: IMMA, Norway, IRF, WP1 Secretari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af9e6"/>
                </a:solidFill>
                <a:latin typeface="Arial"/>
              </a:rPr>
              <a:t>Experts consulted: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OICA, vehicle manufacturers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IMMA, motorcycle and 3-wheeler manufacturers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GTB, automotive light experts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BB1-9F82-4F45-836D-BC8093599C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Drafting issues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e Convention has to cover all vehicl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echnical Regulations e.g. ECE, are driven by, or drive new technologies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Best practice tries to avoid cross-references to other legal instrument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4D7-0C41-4161-AD66-F20355A08E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Basic questions (1)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af9e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Does, or should, WP1 have any authority over what technical prescriptions are allowed for new vehicles, i.e. should they be consulted officially by WP29 whenever a proposal will conflict with the Convention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	</a:t>
            </a:r>
            <a:r>
              <a:rPr b="1" lang="en-GB" sz="28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The group’s view is that WP29 is autonomous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2.</a:t>
            </a:r>
            <a:r>
              <a:rPr b="0" lang="en-GB" sz="28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Should the Convention contain all the necessary requirements, or can it contain a cross-reference to another legal instrumen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	</a:t>
            </a:r>
            <a:r>
              <a:rPr b="1" lang="en-GB" sz="28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The group’s view is that there should not be a cross-reference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8D4-C643-4CD2-8C7C-83D7B9AEC5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Basic questions (2)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3.</a:t>
            </a:r>
            <a:r>
              <a:rPr b="0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If the changes in the technical regulations affect the main articles of the Convention, are Contracting Parties ready to make such changes?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The group has no answer to this.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4.</a:t>
            </a:r>
            <a:r>
              <a:rPr b="0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If the changes in the technical regulations only affect Annex 5, what is the most effective way of keeping the text of the Convention up to date?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The options are: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a general clause accepting the ECE Regulations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a separate Agreement Supplementing the Convention 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50F-65CB-4546-81E6-52D43AB42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There are real problems for drivers of modern cars in international traffic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The Convention risks becoming irrelevant for vehicles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A mechanism for keeping the relation between the Convention and the ECE Regulations up to date is needed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9e6"/>
                </a:solidFill>
                <a:latin typeface="Arial"/>
              </a:rPr>
              <a:t>(Note: the detailed changes needed so far are in the full report)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246-DF45-4F97-A10E-1C89385A73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6:29:15Z</dcterms:created>
  <dc:creator>--</dc:creator>
  <dc:description/>
  <dc:language>en-US</dc:language>
  <cp:lastModifiedBy>Ramos</cp:lastModifiedBy>
  <dcterms:modified xsi:type="dcterms:W3CDTF">2008-11-17T16:11:37Z</dcterms:modified>
  <cp:revision>7</cp:revision>
  <dc:subject/>
  <dc:title>Small Group report on Annex 5 and the ECE Regulations</dc:title>
</cp:coreProperties>
</file>