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826-AF5D-4B6F-86F4-60A4D53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419-2FD5-4E23-9F1F-2EB95F4B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07A-AE2B-422E-A5FC-43F240C8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43C-2D41-45DD-9917-F1D6114E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063-2E22-494A-B7C9-9D4152EA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30F4-6C70-4335-868C-F3B0B1C3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858A-EC75-4058-BEBA-9D41F689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1103-E95E-46D7-A471-253D7ED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DEC9-1E3F-4133-8199-B716B651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3510-8C82-4958-822F-EE16A95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2A9-2F51-4DBF-A46E-C2991CD8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405-34DC-47C0-8CAD-A5912D96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CA6C-8ACF-4243-A524-500A1A4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1B1C-83E4-4F4D-B13F-83708016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A906-73DA-463D-BA69-7A4B7F7F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4B66-BAB0-46DE-B17A-F13AF0B1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D74-5CB2-4883-9EDE-156BC62B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F78-D508-43BC-A048-55461E70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40F-C578-480D-A864-E4659B69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77D-F656-4BB0-93FC-DC8C2241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3D1-86B7-4716-A72A-4EBCFA1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776-326C-48E7-B191-269C9FA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8E1-B5CF-4B06-8D88-EF8D2EA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A2E-A5DE-4CDC-B574-7BEF87B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618D-BB39-473B-A813-595CE6CEFD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624-C0AE-4D96-A2AB-0D12BA1583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n-road Heavy-duty Engine        Off-cycle Emissions gtr (OCE gtr)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Report for AC.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ort from the United Stat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4th Session of Executive Committee AC.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3 November 2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152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P.29-146-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th WP.29, 11-14 November 2008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enda item 17.6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ey El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formance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maining Iss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D16-6063-4B68-A5A1-C29B13F64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 gtr:  Backgrou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Informal group of technical experts under GRP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ular meetings since 200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1 Plenary ses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 Editorial ses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June 2008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gtr was submitted as an Informal Document to GRPE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(ECE-TRANS-WP29-GRPE-56-inf14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033-2B31-43C8-A215-38D248322E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 gtr:  Key Ele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54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CE gtr complements the WHDC gt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-cycl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-cycle contro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ld-harmonized Not-to-Exceed (WNTE) “Control Area”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operating zone within which the WNTE emission limits a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NTE emission limits are stated as a function of the WHDC emission lim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NTE emission limits are slightly higher than the corresponding WHDC emission lim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ment of OCE Compli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anufacturer must provide a statement that attests to compliance with the provisions of the OCE gt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E Laboratory Test Proced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ptional laboratory test procedure is inclu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acting Parties may choose to require testing to verify OCE compliance prior to type approv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tr does not include specifications for in-use vehicle testing or on-vehicle emission measurement equi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the WNTE was developed to allow for testing of compliance during in-use, on the road operation of the engin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al countries and regional authorities may specify their own in-use testing requirements to enforce W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145-3B44-44C9-988D-73C361FCF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CE gtr:  Performance Requireme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54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 strategies shall be designed to enable compliance with the gt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“base emission strategy” shall not discriminate between test cycle operation and other operation and provide lesser emission control during operation not included on the test 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“auxiliary emission strategy” shall not reduce emission control un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operates on test cycles, including the W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provides protection to the eng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operates only on starting or warming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trades control of one pollutant for another while maintaining acceptable emission contr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mission strategy that fails to meet the performance requirements is a “Defeat Strategy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eat strategies are prohibited by the gt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066-2775-4A9C-B60A-CC0332C3D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 gtr:  Remaining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re remain no outstanding issues with the current gt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bsence of in-use testing procedures may represent an opportunity for future gtr ac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C06-FF8E-4560-BD4B-8F24269AAC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 gtr:  Acknowledge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 sponsoring country, the United States wishes to thank all those that have contributed to development of the OCE gt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ticular thanks to the following for continued support and hosting of meeting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German govern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Japanese government and JAS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UK govern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vironment Canad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gine Manufacturers Assoc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5E4-BAD1-4F16-887E-6D460DE795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 gtr:  Acknowledge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 wishes to recognize the valuable contributions made by representatives of the following organis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vironment Canad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uropean Commission DG Enterpris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oint Research Cent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ederal Ministry of Transport, Germany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ederal Environmental Agency, German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WTUEV Fahrzeug GmbH, Institute for Vehicle Technology, German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ÜV NORD Straßenverkehr GmbH, German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stitute for Transport Sciences, Hungar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ternational Organization of Motor Vehicle Manufactur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ternational Organization for Standardiz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nistry of Land, Infrastructure and Transport, Jap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nistry of the Environment, Jap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ational Traffic Safety and Environment Laboratory, Jap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apan Automobile Research Institu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apan Automobile Standards Internationalization Cen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apan Automobile Manufacturers Associ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therlands Ministry of the Environ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orea Automobile Testing &amp; Research Institu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wedish Environmental Protection Agenc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partment for Transport, United Kingd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gine Manufacturers Associ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2A1-F612-4949-B5B0-36ADFAAFD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 gtr:  Next Ste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anuary 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OCE gtr will be submitted on 15 January to the 5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GR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ch 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US is optimistic that the OCE gtr will be submitted as an Informal Document to the 2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C.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239-9FF6-4BB1-9C23-2EF226FC28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7:23:27Z</dcterms:created>
  <dc:creator>TSherwood</dc:creator>
  <dc:description/>
  <dc:language>en-US</dc:language>
  <cp:lastModifiedBy>Gianotti</cp:lastModifiedBy>
  <dcterms:modified xsi:type="dcterms:W3CDTF">2008-11-12T12:16:14Z</dcterms:modified>
  <cp:revision>11</cp:revision>
  <dc:subject/>
  <dc:title>On-road Heavy-duty Engine        Off-cycle Emissions GTR –  Status Report for AC.3</dc:title>
</cp:coreProperties>
</file>