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7AC-C1FE-42BD-ADC2-5DD64644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456-4CE0-41A7-B31F-AA1CEDD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AB7-7A63-44D1-8C67-6DBED698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A18-E1F2-439C-8ABB-25F42CC1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10F-8920-4431-BE07-05656BDD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DDB-834C-4253-84EE-93F53AE9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5F9-116A-4762-B6E5-326DAD69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501-FCE0-4620-90A4-7369B02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C5F-3730-4922-A681-518529E3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661-39CC-42C8-9FED-E4CF098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90D-2D26-493A-9147-CE31D2D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998-8A94-4FAE-BA2C-AC8425C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16C-8325-464F-9E32-A0671858E99D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78040" y="2286000"/>
            <a:ext cx="80722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76092"/>
                </a:solidFill>
                <a:latin typeface="Arial"/>
                <a:ea typeface="Arial"/>
              </a:rPr>
              <a:t>AFS Main Beam (Driving Beam)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806480" y="492912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Presentation to WP29 - 146</a:t>
            </a:r>
            <a:r>
              <a:rPr b="0" lang="en-GB" sz="20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404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P.29-146-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th WP.29, 11-14 November 2008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enda item 3.5.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35"/>
          <p:cNvGrpSpPr/>
          <p:nvPr/>
        </p:nvGrpSpPr>
        <p:grpSpPr>
          <a:xfrm>
            <a:off x="103320" y="3205080"/>
            <a:ext cx="7929360" cy="1509840"/>
            <a:chOff x="103320" y="3205080"/>
            <a:chExt cx="7929360" cy="1509840"/>
          </a:xfrm>
        </p:grpSpPr>
        <p:pic>
          <p:nvPicPr>
            <p:cNvPr id="81" name="Picture 88" descr="kami"/>
            <p:cNvPicPr/>
            <p:nvPr/>
          </p:nvPicPr>
          <p:blipFill>
            <a:blip r:embed="rId1"/>
            <a:srcRect l="4331" t="9926" r="7199" b="8131"/>
            <a:stretch/>
          </p:blipFill>
          <p:spPr>
            <a:xfrm>
              <a:off x="6139080" y="3658680"/>
              <a:ext cx="4705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9"/>
            <p:cNvSpPr/>
            <p:nvPr/>
          </p:nvSpPr>
          <p:spPr>
            <a:xfrm>
              <a:off x="981000" y="3205080"/>
              <a:ext cx="6257880" cy="1509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8" descr="kami"/>
            <p:cNvPicPr/>
            <p:nvPr/>
          </p:nvPicPr>
          <p:blipFill>
            <a:blip r:embed="rId2"/>
            <a:srcRect l="7240" t="8185" r="4330" b="9964"/>
            <a:stretch/>
          </p:blipFill>
          <p:spPr>
            <a:xfrm>
              <a:off x="517320" y="3975480"/>
              <a:ext cx="4705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Straight Connector 25"/>
            <p:cNvSpPr/>
            <p:nvPr/>
          </p:nvSpPr>
          <p:spPr>
            <a:xfrm>
              <a:off x="103320" y="3595680"/>
              <a:ext cx="7929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26"/>
            <p:cNvSpPr/>
            <p:nvPr/>
          </p:nvSpPr>
          <p:spPr>
            <a:xfrm>
              <a:off x="103320" y="3911400"/>
              <a:ext cx="7929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27"/>
            <p:cNvSpPr/>
            <p:nvPr/>
          </p:nvSpPr>
          <p:spPr>
            <a:xfrm>
              <a:off x="103320" y="4229280"/>
              <a:ext cx="7929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5"/>
          <p:cNvGrpSpPr/>
          <p:nvPr/>
        </p:nvGrpSpPr>
        <p:grpSpPr>
          <a:xfrm>
            <a:off x="57240" y="5054760"/>
            <a:ext cx="7927920" cy="1509480"/>
            <a:chOff x="57240" y="5054760"/>
            <a:chExt cx="7927920" cy="1509480"/>
          </a:xfrm>
        </p:grpSpPr>
        <p:pic>
          <p:nvPicPr>
            <p:cNvPr id="88" name="Picture 88" descr="kami"/>
            <p:cNvPicPr/>
            <p:nvPr/>
          </p:nvPicPr>
          <p:blipFill>
            <a:blip r:embed="rId3"/>
            <a:srcRect l="4331" t="9926" r="7199" b="8131"/>
            <a:stretch/>
          </p:blipFill>
          <p:spPr>
            <a:xfrm>
              <a:off x="3784680" y="5508360"/>
              <a:ext cx="4705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30"/>
            <p:cNvSpPr/>
            <p:nvPr/>
          </p:nvSpPr>
          <p:spPr>
            <a:xfrm>
              <a:off x="934920" y="5054760"/>
              <a:ext cx="6375600" cy="1509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88" descr="kami"/>
            <p:cNvPicPr/>
            <p:nvPr/>
          </p:nvPicPr>
          <p:blipFill>
            <a:blip r:embed="rId4"/>
            <a:srcRect l="7240" t="8185" r="4330" b="9964"/>
            <a:stretch/>
          </p:blipFill>
          <p:spPr>
            <a:xfrm>
              <a:off x="471240" y="5825160"/>
              <a:ext cx="4705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Straight Connector 32"/>
            <p:cNvSpPr/>
            <p:nvPr/>
          </p:nvSpPr>
          <p:spPr>
            <a:xfrm>
              <a:off x="57240" y="5445000"/>
              <a:ext cx="79279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33"/>
            <p:cNvSpPr/>
            <p:nvPr/>
          </p:nvSpPr>
          <p:spPr>
            <a:xfrm>
              <a:off x="57240" y="5762520"/>
              <a:ext cx="7927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34"/>
            <p:cNvSpPr/>
            <p:nvPr/>
          </p:nvSpPr>
          <p:spPr>
            <a:xfrm>
              <a:off x="57240" y="6078600"/>
              <a:ext cx="792792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149400" y="1442880"/>
            <a:ext cx="7870680" cy="1509840"/>
            <a:chOff x="149400" y="1442880"/>
            <a:chExt cx="7870680" cy="1509840"/>
          </a:xfrm>
        </p:grpSpPr>
        <p:sp>
          <p:nvSpPr>
            <p:cNvPr id="95" name="Freeform 37"/>
            <p:cNvSpPr/>
            <p:nvPr/>
          </p:nvSpPr>
          <p:spPr>
            <a:xfrm>
              <a:off x="984240" y="1442880"/>
              <a:ext cx="6959520" cy="1509840"/>
            </a:xfrm>
            <a:prstGeom prst="pie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88" descr="kami"/>
            <p:cNvPicPr/>
            <p:nvPr/>
          </p:nvPicPr>
          <p:blipFill>
            <a:blip r:embed="rId5"/>
            <a:srcRect l="7239" t="8185" r="4329" b="9964"/>
            <a:stretch/>
          </p:blipFill>
          <p:spPr>
            <a:xfrm>
              <a:off x="542880" y="2213280"/>
              <a:ext cx="4471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Straight Connector 39"/>
            <p:cNvSpPr/>
            <p:nvPr/>
          </p:nvSpPr>
          <p:spPr>
            <a:xfrm flipV="1">
              <a:off x="149400" y="1822320"/>
              <a:ext cx="7870680" cy="10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40"/>
            <p:cNvSpPr/>
            <p:nvPr/>
          </p:nvSpPr>
          <p:spPr>
            <a:xfrm flipV="1">
              <a:off x="149400" y="2139840"/>
              <a:ext cx="7870680" cy="9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41"/>
            <p:cNvSpPr/>
            <p:nvPr/>
          </p:nvSpPr>
          <p:spPr>
            <a:xfrm flipV="1">
              <a:off x="149400" y="2455920"/>
              <a:ext cx="7870680" cy="10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eft Arrow 50"/>
          <p:cNvSpPr/>
          <p:nvPr/>
        </p:nvSpPr>
        <p:spPr>
          <a:xfrm>
            <a:off x="6095880" y="3429000"/>
            <a:ext cx="500040" cy="18900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ft Arrow 51"/>
          <p:cNvSpPr/>
          <p:nvPr/>
        </p:nvSpPr>
        <p:spPr>
          <a:xfrm>
            <a:off x="3809880" y="5286240"/>
            <a:ext cx="500040" cy="18900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3"/>
          <p:cNvSpPr/>
          <p:nvPr/>
        </p:nvSpPr>
        <p:spPr>
          <a:xfrm>
            <a:off x="8167680" y="1751040"/>
            <a:ext cx="1500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No Opposing Traffic – Full Main Beam Ope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4"/>
          <p:cNvSpPr/>
          <p:nvPr/>
        </p:nvSpPr>
        <p:spPr>
          <a:xfrm>
            <a:off x="8335800" y="3835440"/>
            <a:ext cx="150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Main Beam light distribution adapted to avoid glare to oncoming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ight Brace 55"/>
          <p:cNvSpPr/>
          <p:nvPr/>
        </p:nvSpPr>
        <p:spPr>
          <a:xfrm>
            <a:off x="7953480" y="1736640"/>
            <a:ext cx="357120" cy="11430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143000"/>
              <a:gd name="textAreaBottom" fmla="*/ 1134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Brace 56"/>
          <p:cNvSpPr/>
          <p:nvPr/>
        </p:nvSpPr>
        <p:spPr>
          <a:xfrm>
            <a:off x="7953480" y="3286080"/>
            <a:ext cx="500040" cy="3071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071880"/>
              <a:gd name="textAreaBottom" fmla="*/ 305892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0" y="77328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Opposing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953400" y="44280"/>
            <a:ext cx="28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6"/>
          <p:cNvGrpSpPr/>
          <p:nvPr/>
        </p:nvGrpSpPr>
        <p:grpSpPr>
          <a:xfrm>
            <a:off x="0" y="3000240"/>
            <a:ext cx="7905600" cy="1416240"/>
            <a:chOff x="0" y="3000240"/>
            <a:chExt cx="7905600" cy="1416240"/>
          </a:xfrm>
        </p:grpSpPr>
        <p:sp>
          <p:nvSpPr>
            <p:cNvPr id="109" name="Freeform 9"/>
            <p:cNvSpPr/>
            <p:nvPr/>
          </p:nvSpPr>
          <p:spPr>
            <a:xfrm>
              <a:off x="876240" y="3000240"/>
              <a:ext cx="6545160" cy="1416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88" descr="kami"/>
            <p:cNvPicPr/>
            <p:nvPr/>
          </p:nvPicPr>
          <p:blipFill>
            <a:blip r:embed="rId1"/>
            <a:srcRect l="7218" t="8153" r="4331" b="9936"/>
            <a:stretch/>
          </p:blipFill>
          <p:spPr>
            <a:xfrm>
              <a:off x="412920" y="3723120"/>
              <a:ext cx="469080" cy="2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Straight Connector 11"/>
            <p:cNvSpPr/>
            <p:nvPr/>
          </p:nvSpPr>
          <p:spPr>
            <a:xfrm>
              <a:off x="0" y="3367080"/>
              <a:ext cx="79056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12"/>
            <p:cNvSpPr/>
            <p:nvPr/>
          </p:nvSpPr>
          <p:spPr>
            <a:xfrm>
              <a:off x="0" y="3663720"/>
              <a:ext cx="7905600" cy="14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13"/>
            <p:cNvSpPr/>
            <p:nvPr/>
          </p:nvSpPr>
          <p:spPr>
            <a:xfrm>
              <a:off x="0" y="3929040"/>
              <a:ext cx="79056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88" descr="kami"/>
            <p:cNvPicPr/>
            <p:nvPr/>
          </p:nvPicPr>
          <p:blipFill>
            <a:blip r:embed="rId2"/>
            <a:srcRect l="4331" t="9926" r="7199" b="8131"/>
            <a:stretch/>
          </p:blipFill>
          <p:spPr>
            <a:xfrm rot="10800000">
              <a:off x="6821280" y="3702600"/>
              <a:ext cx="469080" cy="23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9"/>
          <p:cNvGrpSpPr/>
          <p:nvPr/>
        </p:nvGrpSpPr>
        <p:grpSpPr>
          <a:xfrm>
            <a:off x="131760" y="1403280"/>
            <a:ext cx="7846920" cy="1417680"/>
            <a:chOff x="131760" y="1403280"/>
            <a:chExt cx="7846920" cy="1417680"/>
          </a:xfrm>
        </p:grpSpPr>
        <p:sp>
          <p:nvSpPr>
            <p:cNvPr id="116" name="Freeform 40"/>
            <p:cNvSpPr/>
            <p:nvPr/>
          </p:nvSpPr>
          <p:spPr>
            <a:xfrm>
              <a:off x="963360" y="1403280"/>
              <a:ext cx="6939000" cy="1417680"/>
            </a:xfrm>
            <a:prstGeom prst="pie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88" descr="kami"/>
            <p:cNvPicPr/>
            <p:nvPr/>
          </p:nvPicPr>
          <p:blipFill>
            <a:blip r:embed="rId3"/>
            <a:srcRect l="7216" t="8153" r="4330" b="9936"/>
            <a:stretch/>
          </p:blipFill>
          <p:spPr>
            <a:xfrm>
              <a:off x="524160" y="2126880"/>
              <a:ext cx="445680" cy="2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Straight Connector 42"/>
            <p:cNvSpPr/>
            <p:nvPr/>
          </p:nvSpPr>
          <p:spPr>
            <a:xfrm flipV="1">
              <a:off x="131760" y="1760400"/>
              <a:ext cx="7846920" cy="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43"/>
            <p:cNvSpPr/>
            <p:nvPr/>
          </p:nvSpPr>
          <p:spPr>
            <a:xfrm flipV="1">
              <a:off x="131760" y="2057400"/>
              <a:ext cx="7846920" cy="936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44"/>
            <p:cNvSpPr/>
            <p:nvPr/>
          </p:nvSpPr>
          <p:spPr>
            <a:xfrm flipV="1">
              <a:off x="131760" y="2355840"/>
              <a:ext cx="7846920" cy="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ight Arrow 45"/>
          <p:cNvSpPr/>
          <p:nvPr/>
        </p:nvSpPr>
        <p:spPr>
          <a:xfrm>
            <a:off x="7453440" y="3786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0"/>
          <p:cNvGrpSpPr/>
          <p:nvPr/>
        </p:nvGrpSpPr>
        <p:grpSpPr>
          <a:xfrm>
            <a:off x="190440" y="4816440"/>
            <a:ext cx="7905960" cy="1393920"/>
            <a:chOff x="190440" y="4816440"/>
            <a:chExt cx="7905960" cy="1393920"/>
          </a:xfrm>
        </p:grpSpPr>
        <p:grpSp>
          <p:nvGrpSpPr>
            <p:cNvPr id="123" name="Group 38"/>
            <p:cNvGrpSpPr/>
            <p:nvPr/>
          </p:nvGrpSpPr>
          <p:grpSpPr>
            <a:xfrm>
              <a:off x="190440" y="4816440"/>
              <a:ext cx="7905960" cy="1393920"/>
              <a:chOff x="190440" y="4816440"/>
              <a:chExt cx="7905960" cy="1393920"/>
            </a:xfrm>
          </p:grpSpPr>
          <p:sp>
            <p:nvSpPr>
              <p:cNvPr id="124" name="Freeform 30"/>
              <p:cNvSpPr/>
              <p:nvPr/>
            </p:nvSpPr>
            <p:spPr>
              <a:xfrm>
                <a:off x="1066680" y="4816440"/>
                <a:ext cx="4732560" cy="139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Picture 88" descr="kami"/>
              <p:cNvPicPr/>
              <p:nvPr/>
            </p:nvPicPr>
            <p:blipFill>
              <a:blip r:embed="rId4"/>
              <a:srcRect l="7218" t="8153" r="4331" b="9936"/>
              <a:stretch/>
            </p:blipFill>
            <p:spPr>
              <a:xfrm>
                <a:off x="603360" y="5540040"/>
                <a:ext cx="469080" cy="23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Straight Connector 32"/>
              <p:cNvSpPr/>
              <p:nvPr/>
            </p:nvSpPr>
            <p:spPr>
              <a:xfrm>
                <a:off x="190440" y="5182920"/>
                <a:ext cx="7905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Straight Connector 33"/>
              <p:cNvSpPr/>
              <p:nvPr/>
            </p:nvSpPr>
            <p:spPr>
              <a:xfrm>
                <a:off x="190440" y="5479920"/>
                <a:ext cx="7905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Straight Connector 34"/>
              <p:cNvSpPr/>
              <p:nvPr/>
            </p:nvSpPr>
            <p:spPr>
              <a:xfrm>
                <a:off x="190440" y="5778720"/>
                <a:ext cx="790596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Picture 88" descr="kami"/>
              <p:cNvPicPr/>
              <p:nvPr/>
            </p:nvPicPr>
            <p:blipFill>
              <a:blip r:embed="rId5"/>
              <a:srcRect l="4331" t="9926" r="7199" b="8131"/>
              <a:stretch/>
            </p:blipFill>
            <p:spPr>
              <a:xfrm rot="10800000">
                <a:off x="3845880" y="5553720"/>
                <a:ext cx="469080" cy="23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Right Arrow 47"/>
            <p:cNvSpPr/>
            <p:nvPr/>
          </p:nvSpPr>
          <p:spPr>
            <a:xfrm>
              <a:off x="4310280" y="5595840"/>
              <a:ext cx="500040" cy="142920"/>
            </a:xfrm>
            <a:prstGeom prst="rightArrow">
              <a:avLst>
                <a:gd name="adj1" fmla="val 50000"/>
                <a:gd name="adj2" fmla="val 4998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51"/>
          <p:cNvSpPr/>
          <p:nvPr/>
        </p:nvSpPr>
        <p:spPr>
          <a:xfrm>
            <a:off x="8167680" y="1557360"/>
            <a:ext cx="1500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No Preceding Traffic – Full Main Beam Ope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2"/>
          <p:cNvSpPr/>
          <p:nvPr/>
        </p:nvSpPr>
        <p:spPr>
          <a:xfrm>
            <a:off x="8238960" y="4000680"/>
            <a:ext cx="150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Main Beam light distribution adapted to avoid glare to preceding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Brace 53"/>
          <p:cNvSpPr/>
          <p:nvPr/>
        </p:nvSpPr>
        <p:spPr>
          <a:xfrm>
            <a:off x="7953480" y="1542960"/>
            <a:ext cx="357120" cy="11430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143000"/>
              <a:gd name="textAreaBottom" fmla="*/ 1134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Brace 54"/>
          <p:cNvSpPr/>
          <p:nvPr/>
        </p:nvSpPr>
        <p:spPr>
          <a:xfrm>
            <a:off x="7953480" y="3286080"/>
            <a:ext cx="500040" cy="3071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071880"/>
              <a:gd name="textAreaBottom" fmla="*/ 305892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0" y="71424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Preceding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6953400" y="44280"/>
            <a:ext cx="28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Video for 02 October.m1v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3952800" y="4287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DE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881520" y="214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DE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Video for 03 October.wmv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3952800" y="4287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DE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6"/>
          <p:cNvSpPr/>
          <p:nvPr/>
        </p:nvSpPr>
        <p:spPr>
          <a:xfrm>
            <a:off x="595440" y="857160"/>
            <a:ext cx="89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The system evaluates the road scene ahead of the vehicle and automatically adapts the light distribution according to the position of the preceding and oncoming traff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608040" y="4170240"/>
            <a:ext cx="7929360" cy="1509840"/>
            <a:chOff x="608040" y="4170240"/>
            <a:chExt cx="7929360" cy="1509840"/>
          </a:xfrm>
        </p:grpSpPr>
        <p:pic>
          <p:nvPicPr>
            <p:cNvPr id="144" name="Picture 88" descr="kami"/>
            <p:cNvPicPr/>
            <p:nvPr/>
          </p:nvPicPr>
          <p:blipFill>
            <a:blip r:embed="rId1"/>
            <a:srcRect l="4331" t="9926" r="7199" b="8131"/>
            <a:stretch/>
          </p:blipFill>
          <p:spPr>
            <a:xfrm>
              <a:off x="7717320" y="4611960"/>
              <a:ext cx="4705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Freeform 6"/>
            <p:cNvSpPr/>
            <p:nvPr/>
          </p:nvSpPr>
          <p:spPr>
            <a:xfrm>
              <a:off x="1485720" y="4170240"/>
              <a:ext cx="6937200" cy="1509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88" descr="kami"/>
            <p:cNvPicPr/>
            <p:nvPr/>
          </p:nvPicPr>
          <p:blipFill>
            <a:blip r:embed="rId2"/>
            <a:srcRect l="7240" t="8185" r="4330" b="9964"/>
            <a:stretch/>
          </p:blipFill>
          <p:spPr>
            <a:xfrm>
              <a:off x="1022040" y="4940640"/>
              <a:ext cx="47052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Straight Connector 8"/>
            <p:cNvSpPr/>
            <p:nvPr/>
          </p:nvSpPr>
          <p:spPr>
            <a:xfrm>
              <a:off x="608040" y="4560840"/>
              <a:ext cx="7929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9"/>
            <p:cNvSpPr/>
            <p:nvPr/>
          </p:nvSpPr>
          <p:spPr>
            <a:xfrm>
              <a:off x="608040" y="4876560"/>
              <a:ext cx="7929360" cy="14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10"/>
            <p:cNvSpPr/>
            <p:nvPr/>
          </p:nvSpPr>
          <p:spPr>
            <a:xfrm>
              <a:off x="608040" y="5194440"/>
              <a:ext cx="7929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13"/>
          <p:cNvSpPr/>
          <p:nvPr/>
        </p:nvSpPr>
        <p:spPr>
          <a:xfrm rot="5400000">
            <a:off x="3192480" y="2428560"/>
            <a:ext cx="1416240" cy="49593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ular Callout 14"/>
          <p:cNvSpPr/>
          <p:nvPr/>
        </p:nvSpPr>
        <p:spPr>
          <a:xfrm>
            <a:off x="4903920" y="6000840"/>
            <a:ext cx="1714320" cy="500040"/>
          </a:xfrm>
          <a:prstGeom prst="wedgeRectCallout">
            <a:avLst>
              <a:gd name="adj1" fmla="val -142236"/>
              <a:gd name="adj2" fmla="val -146824"/>
            </a:avLst>
          </a:pr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Normal dipped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6953400" y="44280"/>
            <a:ext cx="28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0"/>
          <p:cNvSpPr/>
          <p:nvPr/>
        </p:nvSpPr>
        <p:spPr>
          <a:xfrm>
            <a:off x="1400040" y="2428920"/>
            <a:ext cx="5838840" cy="1417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8" descr="kami"/>
          <p:cNvPicPr/>
          <p:nvPr/>
        </p:nvPicPr>
        <p:blipFill>
          <a:blip r:embed="rId3"/>
          <a:srcRect l="7218" t="8153" r="4331" b="9936"/>
          <a:stretch/>
        </p:blipFill>
        <p:spPr>
          <a:xfrm>
            <a:off x="936720" y="3152880"/>
            <a:ext cx="469800" cy="23184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32"/>
          <p:cNvSpPr/>
          <p:nvPr/>
        </p:nvSpPr>
        <p:spPr>
          <a:xfrm>
            <a:off x="523800" y="2795760"/>
            <a:ext cx="7905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3"/>
          <p:cNvSpPr/>
          <p:nvPr/>
        </p:nvSpPr>
        <p:spPr>
          <a:xfrm>
            <a:off x="523800" y="3092400"/>
            <a:ext cx="790596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523800" y="3390840"/>
            <a:ext cx="7905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6"/>
          <p:cNvSpPr/>
          <p:nvPr/>
        </p:nvSpPr>
        <p:spPr>
          <a:xfrm rot="5400000">
            <a:off x="3081240" y="633240"/>
            <a:ext cx="1415880" cy="4959360"/>
          </a:xfrm>
          <a:prstGeom prst="pie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8" descr="kami"/>
          <p:cNvPicPr/>
          <p:nvPr/>
        </p:nvPicPr>
        <p:blipFill>
          <a:blip r:embed="rId4"/>
          <a:srcRect l="7199" t="8131" r="4331" b="9926"/>
          <a:stretch/>
        </p:blipFill>
        <p:spPr>
          <a:xfrm>
            <a:off x="4809960" y="3143160"/>
            <a:ext cx="470160" cy="233280"/>
          </a:xfrm>
          <a:prstGeom prst="rect">
            <a:avLst/>
          </a:prstGeom>
          <a:ln w="0">
            <a:noFill/>
          </a:ln>
        </p:spPr>
      </p:pic>
      <p:sp>
        <p:nvSpPr>
          <p:cNvPr id="160" name="Right Arrow 39"/>
          <p:cNvSpPr/>
          <p:nvPr/>
        </p:nvSpPr>
        <p:spPr>
          <a:xfrm>
            <a:off x="5381640" y="32148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 flipH="1">
            <a:off x="4309560" y="2768760"/>
            <a:ext cx="1800" cy="10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1"/>
          <p:cNvSpPr/>
          <p:nvPr/>
        </p:nvSpPr>
        <p:spPr>
          <a:xfrm flipH="1">
            <a:off x="7203600" y="2768760"/>
            <a:ext cx="1800" cy="10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42"/>
          <p:cNvCxnSpPr/>
          <p:nvPr/>
        </p:nvCxnSpPr>
        <p:spPr>
          <a:xfrm>
            <a:off x="4296960" y="3785760"/>
            <a:ext cx="294228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TextBox 43"/>
          <p:cNvSpPr/>
          <p:nvPr/>
        </p:nvSpPr>
        <p:spPr>
          <a:xfrm>
            <a:off x="7356600" y="346536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Increased Observation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45"/>
          <p:cNvSpPr/>
          <p:nvPr/>
        </p:nvSpPr>
        <p:spPr>
          <a:xfrm flipH="1">
            <a:off x="6378120" y="4054320"/>
            <a:ext cx="180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46"/>
          <p:cNvSpPr/>
          <p:nvPr/>
        </p:nvSpPr>
        <p:spPr>
          <a:xfrm flipH="1">
            <a:off x="8404200" y="4054320"/>
            <a:ext cx="144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7"/>
          <p:cNvCxnSpPr/>
          <p:nvPr/>
        </p:nvCxnSpPr>
        <p:spPr>
          <a:xfrm>
            <a:off x="6404040" y="4214880"/>
            <a:ext cx="200088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8" name="Right Arrow 50"/>
          <p:cNvSpPr/>
          <p:nvPr/>
        </p:nvSpPr>
        <p:spPr>
          <a:xfrm rot="10800000">
            <a:off x="7046640" y="46429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ular Callout 51"/>
          <p:cNvSpPr/>
          <p:nvPr/>
        </p:nvSpPr>
        <p:spPr>
          <a:xfrm>
            <a:off x="7618320" y="6143760"/>
            <a:ext cx="1714680" cy="500040"/>
          </a:xfrm>
          <a:prstGeom prst="wedgeRectCallout">
            <a:avLst>
              <a:gd name="adj1" fmla="val -100833"/>
              <a:gd name="adj2" fmla="val -257500"/>
            </a:avLst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54061"/>
                </a:solidFill>
                <a:latin typeface="Arial"/>
                <a:ea typeface="Arial"/>
              </a:rPr>
              <a:t>Adapted Main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3"/>
          <p:cNvSpPr/>
          <p:nvPr/>
        </p:nvSpPr>
        <p:spPr>
          <a:xfrm>
            <a:off x="237960" y="3786120"/>
            <a:ext cx="2143440" cy="276480"/>
          </a:xfrm>
          <a:prstGeom prst="rect">
            <a:avLst/>
          </a:prstGeom>
          <a:noFill/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ceding Vehicl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4"/>
          <p:cNvSpPr/>
          <p:nvPr/>
        </p:nvSpPr>
        <p:spPr>
          <a:xfrm>
            <a:off x="380880" y="5715000"/>
            <a:ext cx="2000520" cy="459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pposing Vehicl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6"/>
          <p:cNvSpPr/>
          <p:nvPr/>
        </p:nvSpPr>
        <p:spPr>
          <a:xfrm>
            <a:off x="738360" y="235728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This is a driver </a:t>
            </a:r>
            <a:r>
              <a:rPr b="1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assistance</a:t>
            </a: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The driver remains responsible for deciding when it is appropriate to operate the main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5952960" y="4752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The Safety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6"/>
          <p:cNvSpPr/>
          <p:nvPr/>
        </p:nvSpPr>
        <p:spPr>
          <a:xfrm>
            <a:off x="809640" y="150012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Improvement of the observation distanc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Reduce driver fatig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Enhance the chances of detecting pedestrians and other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Avoid discomfort to other dri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5952960" y="4752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The Safety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6"/>
          <p:cNvSpPr/>
          <p:nvPr/>
        </p:nvSpPr>
        <p:spPr>
          <a:xfrm>
            <a:off x="452520" y="1428840"/>
            <a:ext cx="890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GTB taskforc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Prototype systems demonstrated to GRE in Octo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Feedback from GR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Proposals for amendments to ECE R48 and R123 expected to be approved by GTB in Ma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Proposals expected to be introduced to GRE in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4809960" y="14292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Introduction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1"/>
          <p:cNvSpPr/>
          <p:nvPr/>
        </p:nvSpPr>
        <p:spPr>
          <a:xfrm>
            <a:off x="523800" y="2286000"/>
            <a:ext cx="850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376092"/>
                </a:solidFill>
                <a:latin typeface="Arial"/>
                <a:ea typeface="Arial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376092"/>
                </a:solidFill>
                <a:latin typeface="Arial"/>
                <a:ea typeface="Arial"/>
              </a:rPr>
              <a:t>Your comme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376092"/>
                </a:solidFill>
                <a:latin typeface="Arial"/>
                <a:ea typeface="Arial"/>
              </a:rPr>
              <a:t>will be greatly appreci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6715080" y="363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80880" y="1711440"/>
            <a:ext cx="9072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Arial"/>
              </a:rPr>
              <a:t>Technological progress now provides the possibility to produce an adaptive driving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Arial"/>
              </a:rPr>
              <a:t>GTB considers that such a system can be introduced into ECE regulations  by amendments to Regulations Nos. 48 and 1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Arial"/>
              </a:rPr>
              <a:t>GTB wishes to clarify the current provisions to avoid differing interpretations and consequential debate between the contracting parties regarding accep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66680" y="1671480"/>
            <a:ext cx="87868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22520" indent="-1622520"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4061"/>
                </a:solidFill>
                <a:latin typeface="Arial"/>
                <a:ea typeface="Arial"/>
              </a:rPr>
              <a:t>2. 7. 28. " Adaptive front lighting system " (or "AFS") means a lighting device type-approved according to Regulation No. 123, providing beams with differing characteristics for automatic adaptation to varying conditions of use of the dipped-beam (passing beam) </a:t>
            </a:r>
            <a:r>
              <a:rPr b="0" lang="en-GB" sz="3600" spc="-1" strike="noStrike">
                <a:solidFill>
                  <a:srgbClr val="254061"/>
                </a:solidFill>
                <a:latin typeface="Arial"/>
                <a:ea typeface="Arial"/>
              </a:rPr>
              <a:t>and, if it applies, the main-beam (driving-beam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692760" y="6984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ECE R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1738440" y="5143680"/>
            <a:ext cx="7143480" cy="1214280"/>
          </a:xfrm>
          <a:prstGeom prst="rect">
            <a:avLst/>
          </a:prstGeom>
          <a:noFill/>
          <a:ln w="184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8607" t="13771" r="13934" b="3699"/>
          <a:stretch/>
        </p:blipFill>
        <p:spPr>
          <a:xfrm>
            <a:off x="1166760" y="1285920"/>
            <a:ext cx="7643880" cy="4852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0" name="Rectangle 3"/>
          <p:cNvSpPr/>
          <p:nvPr/>
        </p:nvSpPr>
        <p:spPr>
          <a:xfrm>
            <a:off x="1881360" y="3263760"/>
            <a:ext cx="6429240" cy="379440"/>
          </a:xfrm>
          <a:prstGeom prst="rect">
            <a:avLst/>
          </a:prstGeom>
          <a:noFill/>
          <a:ln w="165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38720" y="44280"/>
            <a:ext cx="462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TRANS-WP29-GRE-48-inf28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Page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80880" y="142884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AFS i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related to dipped and mai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applications currently focused on dipped b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AFS dipped beam solves the problem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Bend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Adverse weathe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Tow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Motorway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667480" y="3636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Current AF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06320" y="1666800"/>
            <a:ext cx="836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76092"/>
                </a:solidFill>
                <a:latin typeface="Arial"/>
                <a:ea typeface="Arial"/>
              </a:rPr>
              <a:t>The AFS dipped beam does not completely solve the problem of providing sufficient forward illu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76092"/>
                </a:solidFill>
                <a:latin typeface="Arial"/>
                <a:ea typeface="Arial"/>
              </a:rPr>
              <a:t>It does not provide a complete answer to ensuring adequate visibility in the case of the random presence of other veh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667480" y="3636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Current AF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37960" y="928800"/>
            <a:ext cx="923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76092"/>
                </a:solidFill>
                <a:latin typeface="Arial"/>
                <a:ea typeface="Arial"/>
              </a:rPr>
              <a:t>How to increase viewing distance without causing discomfort to other road us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67480" y="47520"/>
            <a:ext cx="41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Problems to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95440" y="267804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722160" algn="just">
              <a:buClr>
                <a:srgbClr val="376092"/>
              </a:buClr>
              <a:buFont typeface="Wingdings" charset="2"/>
              <a:buChar char="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Main beam as it exists today glares oncoming traffic in many situations and cannot b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 algn="just">
              <a:buClr>
                <a:srgbClr val="376092"/>
              </a:buClr>
              <a:buFont typeface="Wingdings" charset="2"/>
              <a:buChar char="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 algn="just">
              <a:buClr>
                <a:srgbClr val="376092"/>
              </a:buClr>
              <a:buFont typeface="Wingdings" charset="2"/>
              <a:buChar char="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The separation distance between vehicles means that the dipped beam will not provide sufficient forward illu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 algn="just">
              <a:buClr>
                <a:srgbClr val="376092"/>
              </a:buClr>
              <a:buFont typeface="Wingdings" charset="2"/>
              <a:buChar char="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 algn="just">
              <a:buClr>
                <a:srgbClr val="376092"/>
              </a:buClr>
              <a:buFont typeface="Wingdings" charset="2"/>
              <a:buChar char="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76092"/>
                </a:solidFill>
                <a:latin typeface="Arial"/>
                <a:ea typeface="Arial"/>
              </a:rPr>
              <a:t>Drivers have a reluctance to operate the main beam and frequently select the dipped beam too early as recent research by LLAB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5"/>
          <p:cNvGrpSpPr/>
          <p:nvPr/>
        </p:nvGrpSpPr>
        <p:grpSpPr>
          <a:xfrm>
            <a:off x="166680" y="3706920"/>
            <a:ext cx="9358200" cy="1514520"/>
            <a:chOff x="166680" y="3706920"/>
            <a:chExt cx="9358200" cy="1514520"/>
          </a:xfrm>
        </p:grpSpPr>
        <p:pic>
          <p:nvPicPr>
            <p:cNvPr id="60" name="Picture 88" descr="kami"/>
            <p:cNvPicPr/>
            <p:nvPr/>
          </p:nvPicPr>
          <p:blipFill>
            <a:blip r:embed="rId1"/>
            <a:srcRect l="7199" t="8131" r="4331" b="9926"/>
            <a:stretch/>
          </p:blipFill>
          <p:spPr>
            <a:xfrm>
              <a:off x="655200" y="4278240"/>
              <a:ext cx="555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88" descr="kami"/>
            <p:cNvPicPr/>
            <p:nvPr/>
          </p:nvPicPr>
          <p:blipFill>
            <a:blip r:embed="rId2"/>
            <a:srcRect l="4331" t="9926" r="7199" b="8131"/>
            <a:stretch/>
          </p:blipFill>
          <p:spPr>
            <a:xfrm>
              <a:off x="8826480" y="3921120"/>
              <a:ext cx="55548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Freeform 20"/>
            <p:cNvSpPr/>
            <p:nvPr/>
          </p:nvSpPr>
          <p:spPr>
            <a:xfrm rot="5400000">
              <a:off x="2935440" y="1985040"/>
              <a:ext cx="1514520" cy="495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>
              <a:off x="166680" y="3849480"/>
              <a:ext cx="93582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>
              <a:off x="166680" y="4206960"/>
              <a:ext cx="9358200" cy="144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>
              <a:off x="166680" y="4564080"/>
              <a:ext cx="93582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166680" y="1135080"/>
            <a:ext cx="9501120" cy="1701720"/>
            <a:chOff x="166680" y="1135080"/>
            <a:chExt cx="9501120" cy="1701720"/>
          </a:xfrm>
        </p:grpSpPr>
        <p:sp>
          <p:nvSpPr>
            <p:cNvPr id="67" name="Freeform 10"/>
            <p:cNvSpPr/>
            <p:nvPr/>
          </p:nvSpPr>
          <p:spPr>
            <a:xfrm>
              <a:off x="1174680" y="1135080"/>
              <a:ext cx="8400960" cy="1701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8" descr="kami"/>
            <p:cNvPicPr/>
            <p:nvPr/>
          </p:nvPicPr>
          <p:blipFill>
            <a:blip r:embed="rId3"/>
            <a:srcRect l="7248" t="8131" r="4361" b="9926"/>
            <a:stretch/>
          </p:blipFill>
          <p:spPr>
            <a:xfrm>
              <a:off x="641520" y="2003400"/>
              <a:ext cx="540000" cy="27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Straight Connector 12"/>
            <p:cNvSpPr/>
            <p:nvPr/>
          </p:nvSpPr>
          <p:spPr>
            <a:xfrm flipV="1">
              <a:off x="166680" y="1563480"/>
              <a:ext cx="9501120" cy="10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13"/>
            <p:cNvSpPr/>
            <p:nvPr/>
          </p:nvSpPr>
          <p:spPr>
            <a:xfrm flipV="1">
              <a:off x="166680" y="1920960"/>
              <a:ext cx="9501120" cy="10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14"/>
            <p:cNvSpPr/>
            <p:nvPr/>
          </p:nvSpPr>
          <p:spPr>
            <a:xfrm flipV="1">
              <a:off x="166680" y="2278080"/>
              <a:ext cx="9501120" cy="10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88" descr="kami"/>
          <p:cNvPicPr/>
          <p:nvPr/>
        </p:nvPicPr>
        <p:blipFill>
          <a:blip r:embed="rId4"/>
          <a:srcRect l="7199" t="8131" r="4331" b="9926"/>
          <a:stretch/>
        </p:blipFill>
        <p:spPr>
          <a:xfrm>
            <a:off x="7524720" y="4286160"/>
            <a:ext cx="485640" cy="231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2"/>
          <p:cNvSpPr/>
          <p:nvPr/>
        </p:nvSpPr>
        <p:spPr>
          <a:xfrm>
            <a:off x="5667480" y="236232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Arial"/>
                <a:ea typeface="Arial"/>
              </a:rPr>
              <a:t>No Opposing Traff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Arial"/>
                <a:ea typeface="Arial"/>
              </a:rPr>
              <a:t>Full Main Beam Op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3"/>
          <p:cNvSpPr/>
          <p:nvPr/>
        </p:nvSpPr>
        <p:spPr>
          <a:xfrm>
            <a:off x="4056120" y="492912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Arial"/>
                <a:ea typeface="Arial"/>
              </a:rPr>
              <a:t>Dipped Beam operated when opposing or preceding vehicles are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4"/>
          <p:cNvSpPr/>
          <p:nvPr/>
        </p:nvSpPr>
        <p:spPr>
          <a:xfrm>
            <a:off x="4040280" y="5737320"/>
            <a:ext cx="53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Arial"/>
                <a:ea typeface="Arial"/>
              </a:rPr>
              <a:t>Frequently drivers  operate the dipped beam earlier than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5667480" y="47520"/>
            <a:ext cx="41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Problems to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952640" y="12700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76092"/>
                </a:solidFill>
                <a:latin typeface="Arial"/>
                <a:ea typeface="Arial"/>
              </a:rPr>
              <a:t>The Adaptive Driving 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25600" y="2814480"/>
            <a:ext cx="90709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Arial"/>
              </a:rPr>
              <a:t>The following diagrams are intended to show the general principle of the automatic adaptation of the main beam to different traffic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They do not attempt to represent the actual beam distributions that can be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They only consider the case of a straight , flat road although the adaptive main beam responds to all road geome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6953400" y="44280"/>
            <a:ext cx="28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20:27:46Z</dcterms:created>
  <dc:creator>Geoff Draper</dc:creator>
  <dc:description/>
  <dc:language>en-US</dc:language>
  <cp:lastModifiedBy>Ramos</cp:lastModifiedBy>
  <dcterms:modified xsi:type="dcterms:W3CDTF">2008-11-11T13:05:15Z</dcterms:modified>
  <cp:revision>54</cp:revision>
  <dc:subject/>
  <dc:title>Slide 1</dc:title>
</cp:coreProperties>
</file>