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819C-1202-4E7C-9131-CCC283CB8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BFD7-5B5C-4F49-AD67-21BB1543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6AA1-413C-4021-830A-352597B0F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9129-9722-4B89-9B41-4DF3F6383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A1AF-4553-4390-A488-6AC73279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8680-F8BE-4C0E-8799-D4D69AFC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851F-CA0F-4384-8180-5F0142DB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5FBE-7912-48E6-9079-55430E14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A2BD-80E8-4EF7-BA57-A2177745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8718-DD66-452B-BDC0-5C6FB2C4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4D16-7691-4F6C-A0A4-026C9EC9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4A7D-270B-4479-9649-83857F08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F09C-8FED-4DA8-8B48-ED6B6B255ADE}" type="datetime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1D53-6D18-4D01-9258-F24900C4E802}" type="slidenum"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nouveau logo OICA"/>
          <p:cNvPicPr/>
          <p:nvPr/>
        </p:nvPicPr>
        <p:blipFill>
          <a:blip r:embed="rId3"/>
          <a:stretch/>
        </p:blipFill>
        <p:spPr>
          <a:xfrm>
            <a:off x="0" y="189000"/>
            <a:ext cx="1152360" cy="57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obal Harmonisation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ICA Pri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57200" y="5285880"/>
            <a:ext cx="64008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/ECE/WP.29/AC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 November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5EE9-2E58-4654-B991-83AC201BEB15}" type="slidenum"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30600" y="40968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formal document No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P.29-146-1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6th WP.29, 11-14 November 2008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genda item 20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r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78596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rge degree of harmonisation alre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principle should be harmonised, b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492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x subject with established practices in different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492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rge task with compromises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492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little benefit from formal harmo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NOT a gtr priority for O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2FBC-08B5-4EA5-AFDA-D36555BDD9C3}" type="slidenum"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CC9F-A4E3-44A9-B352-A70281AA1FFA}" type="slidenum"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Rectangle 4" descr=""/>
          <p:cNvPicPr/>
          <p:nvPr/>
        </p:nvPicPr>
        <p:blipFill>
          <a:blip r:embed="rId1"/>
          <a:stretch/>
        </p:blipFill>
        <p:spPr>
          <a:xfrm>
            <a:off x="950760" y="1938240"/>
            <a:ext cx="712008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ICA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00040" y="171432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ICA supports the principle of global harmonisation of vehicle regulations through the 1998 Agree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erience has shown that the process can be difficult and costly and that the results may not always justify the c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ICA is examining a range of subjects to evaluate likely benefit, expected difficulty and chance of suc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2D7E-DD1B-413C-9B98-F923D64E39BC}" type="slidenum"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tion of gtr su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68000"/>
            <a:ext cx="8686800" cy="52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tical support from key C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n-harmonised current 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allel rulemaking planned or in progr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earch Avail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st-effective technical sol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dustry consensus on objectiv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ensus of all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NG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ore 0 or 1 for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each question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New Picture (5).jpg"/>
          <p:cNvPicPr/>
          <p:nvPr/>
        </p:nvPicPr>
        <p:blipFill>
          <a:blip r:embed="rId1"/>
          <a:stretch/>
        </p:blipFill>
        <p:spPr>
          <a:xfrm>
            <a:off x="3971880" y="4734000"/>
            <a:ext cx="4824360" cy="1805040"/>
          </a:xfrm>
          <a:prstGeom prst="rect">
            <a:avLst/>
          </a:prstGeom>
          <a:ln w="0">
            <a:noFill/>
          </a:ln>
        </p:spPr>
      </p:pic>
      <p:sp>
        <p:nvSpPr>
          <p:cNvPr id="52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0C22-DDD1-4575-B4E9-187F77731636}" type="slidenum"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ead Restraints – Phase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tr (Phase I) comple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chance of agreement in the short term on a dynamic test seems remo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73160" indent="-3582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ybrid III dummy is unacceptable to some pa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73160" indent="-3582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oRID is not yet ready for regulatory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case for increased height has not been demonstr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urther gtr activity would be prem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73160" indent="-3582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 until BioRID is m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73160" indent="-3582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uct further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73160" indent="-3582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change Information &amp; 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73160" indent="-3582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C46E-83A4-426C-B3E0-4700ABCE239D}" type="slidenum"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yre Pressure Monitoring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78596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ity under 1958 Agreement seems likely to produce a non-harmonised requirement,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fferent from US-FMV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ICA would like harmonisation of TP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nefits and chance of success cannot be evaluated until GRRF work is comple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ICA priority assessment awaits GRRF conclu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9718-D79D-4A66-AF9E-1A2680C5AC00}" type="slidenum"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rash Test Dumm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ng Term harmonisation of crash tests will be easier if dummies are harmonised fir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61800"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ybrid III dummy for Front Impact is already harmoni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61800"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de and rear dummies may be suitable 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6180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 repository for definitions/specific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61800"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al Resol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61800"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Hybrid III as non-contentious first step to develop necessary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F92B-F99C-42EA-9089-7410148A474A}" type="slidenum"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edestrian Protection Phase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99680" y="1296720"/>
            <a:ext cx="8643960" cy="52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w test tool (FlexPLI) now under eval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elieved to be more biofidelic – OICA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nknowns and/or still under stud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surement &amp; calibration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ponses compared to current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ffect on 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cess for incorporation of new test tools under 1998 Agreemen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2720" indent="-352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mechanism for gtr “Transitional Provision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2720" indent="-352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to ensure orderly transi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2720" indent="-352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ition to Phase II should not conflict with Phase I application – period of manufacturer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2720" indent="-352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FC19-1BE2-4AA3-9953-E862CE8327C5}" type="slidenum"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.L.T.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85640" y="142848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Evaluation Pha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37476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ope - Listing of elements to be 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374760">
              <a:spcBef>
                <a:spcPts val="700"/>
              </a:spcBef>
              <a:buClr>
                <a:srgbClr val="000000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sessment of size of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374760">
              <a:spcBef>
                <a:spcPts val="700"/>
              </a:spcBef>
              <a:buClr>
                <a:srgbClr val="000000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ocation of task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374760">
              <a:spcBef>
                <a:spcPts val="700"/>
              </a:spcBef>
              <a:buClr>
                <a:srgbClr val="000000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tablishment of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OICA Prioriti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37476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te a thorough task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37476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cessary resources/chance of suc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37476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ssurance of adoption by contracting pa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3B77-DC65-4949-80BF-E221FC388699}" type="slidenum"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afety Glaz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0040" y="14997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tr established but lacks provisions for plastic glazing and mar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.43 permits side and rear Plastic gla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permit plastic windshield in fu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ICA supports development of gtr-6 to add plastic glazing provision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ally including plastic windsh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not yet possible, side and rear glazing, as R.4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an OICA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benefit fore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result in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DDITIONA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ing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98B9-7EBA-4433-B6EB-FC3A1C32C7FC}" type="slidenum"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6:58:48Z</dcterms:created>
  <dc:creator>Stu Showler</dc:creator>
  <dc:description/>
  <dc:language>en-US</dc:language>
  <cp:lastModifiedBy>Ramos</cp:lastModifiedBy>
  <dcterms:modified xsi:type="dcterms:W3CDTF">2008-11-07T09:31:47Z</dcterms:modified>
  <cp:revision>42</cp:revision>
  <dc:subject/>
  <dc:title>Global Harmonisation  OICA Priorities</dc:title>
</cp:coreProperties>
</file>