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1D3-C57E-4FE1-94AD-D4B197A7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3FE-1E57-4D0D-9EBB-A0E44F99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5A3-F8B8-4FCD-92C2-5D9C5B82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6F7-8F02-47EB-9C41-41574598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704-D55E-4B01-8C04-D5926EE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628-553A-4DB9-9CB1-78D9D40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E92-7482-411C-8F5E-7DF90DB9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61-B7DB-4218-97E4-E07431E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405-B875-40DE-94AE-13C41EF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31-6984-4399-B029-34F6360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CC8-E1AB-4691-A1EE-3B34F2B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C89-626B-46BF-98D5-F76F4DE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DEF-FD07-47FC-8E26-D133FEFA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630440"/>
            <a:ext cx="8497800" cy="25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rom Japan concerning the study on establishing the common bases for mutual recognition of International whole vehicle type appro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09440" y="4579920"/>
            <a:ext cx="93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Following the presentation made by Japan at the 14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ssion of WP29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5113440"/>
            <a:ext cx="8893080" cy="907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the 142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P29 in June 2007, Japan introduced JASIC’s work to establish the common bases for mutual recognition of International Whole Vehicle Type Approval (IWVTA) in WP29 as a part of its next ten year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60280"/>
            <a:ext cx="4105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.29-146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46th WP.29, 11-14 November 200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item 8.8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58680"/>
            <a:ext cx="87598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ress report from Japan regarding the establishment of the common bases for mutual recognition of International Whole Vehicle Type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763560"/>
            <a:ext cx="8964720" cy="50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of view for establishing the common bases for mutual recognition of International Whole Vehicle Type Approval (IWV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1080" y="1422360"/>
            <a:ext cx="885492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#1 Coping with the necessity to specify things related to type approv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305080"/>
            <a:ext cx="88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ckgroun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, regulations annexed to the 1958 agreement don’t have specifications of forms of application documents, specifications of vehicles necessary to be chosen for tests so-called “worst cases” and specifications of ranges of changes requiring the applications of so-called “extensions” and “revisions” in type approval proced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, vehicle types, variants and versions to classify vehicles for IWVTA need to be specified to identify vehicles in type approval proced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it is necessary to implement the study to specify these things as the common bases for mutual recognition of IWV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4941720"/>
            <a:ext cx="891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the stud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ecifications of vehicle types, variants and ver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ecifications of forms of applic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ecifications of “worst ca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ecifications of “extensions” and “revis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604880"/>
            <a:ext cx="873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ckgroun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though S.R.1 (Special Resolution No. 1 concerning the common definitions of vehicle categories, masses and dimensions) is established in WP29, definitions of categories, masses and dimensions (length, width, height) of vehicles are still different among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tuation sometimes brings inconsistency in specifying vehicles and applying technical regulations among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more, the definitions included in S.R.1 is not enough for IWV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t is necessary to implement the study to establish the definitions of categories, masses and dimensions for IWVTA based on S.R.1 in WP29 as the common bases for mutual recognition of IWVTA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240" y="692280"/>
            <a:ext cx="89377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#2 Coping with the necessity to have the common definitions of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" y="5230800"/>
            <a:ext cx="91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the stud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of vehicle categories, masses and dimensions (length, width, heigh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4167360"/>
            <a:ext cx="91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the stud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requirements for a whol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000" y="719280"/>
            <a:ext cx="85323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#3 Assuring vehicle safety and environmentally friendl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712880"/>
            <a:ext cx="873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ckgroun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requirements for a whole vehicle for WVTA are essential to ensure safety and environmentally friendly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t is necessary to implement the study to establish technical requirements for a whole vehicle based on the requirements of the regulations annexed to the 1958 agreement as the common bases for mutual recognition of IWVTA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1280" y="620640"/>
            <a:ext cx="8964720" cy="4608720"/>
          </a:xfrm>
          <a:prstGeom prst="roundRect">
            <a:avLst>
              <a:gd name="adj" fmla="val 45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25360"/>
            <a:ext cx="3961080" cy="4007160"/>
          </a:xfrm>
          <a:custGeom>
            <a:avLst/>
            <a:gdLst>
              <a:gd name="textAreaLeft" fmla="*/ 59400 w 3961080"/>
              <a:gd name="textAreaRight" fmla="*/ 3901680 w 3961080"/>
              <a:gd name="textAreaTop" fmla="*/ 59400 h 4007160"/>
              <a:gd name="textAreaBottom" fmla="*/ 3947760 h 4007160"/>
            </a:gdLst>
            <a:ahLst/>
            <a:rect l="textAreaLeft" t="textAreaTop" r="textAreaRight" b="textAreaBottom"/>
            <a:pathLst>
              <a:path w="21600" h="21851">
                <a:moveTo>
                  <a:pt x="1107" y="0"/>
                </a:moveTo>
                <a:arcTo wR="1107" hR="1107" stAng="16200000" swAng="-5400000"/>
                <a:lnTo>
                  <a:pt x="0" y="20744"/>
                </a:lnTo>
                <a:arcTo wR="1107" hR="1107" stAng="10800000" swAng="-5400000"/>
                <a:lnTo>
                  <a:pt x="20493" y="21851"/>
                </a:lnTo>
                <a:arcTo wR="1107" hR="1107" stAng="5400000" swAng="-5400000"/>
                <a:lnTo>
                  <a:pt x="21600" y="1107"/>
                </a:lnTo>
                <a:arcTo wR="1107" hR="110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692280"/>
            <a:ext cx="4248360" cy="324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360" y="5861520"/>
            <a:ext cx="8820360" cy="82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ing the system for  mutual recognition of IWVTA in WP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4440" y="3648240"/>
            <a:ext cx="28051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finitions of vehicle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5880" y="3287880"/>
            <a:ext cx="25963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finitions of vehicle m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4054320"/>
            <a:ext cx="381636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finitions of vehicle dimensions (length, width, he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724280"/>
            <a:ext cx="3744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equirements for a whole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741240"/>
            <a:ext cx="309708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ing common bases for mutual recognition of IWVTA in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5300640"/>
            <a:ext cx="3311640" cy="647640"/>
          </a:xfrm>
          <a:prstGeom prst="downArrow">
            <a:avLst>
              <a:gd name="adj1" fmla="val 67019"/>
              <a:gd name="adj2" fmla="val 54259"/>
            </a:avLst>
          </a:prstGeom>
          <a:solidFill>
            <a:srgbClr val="ffff99">
              <a:alpha val="47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200" y="6597720"/>
            <a:ext cx="586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“IWVTA” stands for “International Whole Vehicle Type Approval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719360"/>
            <a:ext cx="1872000" cy="1372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hing a consensus on the common bases for mutual recognition of IWVTA in WP29 by 2016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440" y="244440"/>
            <a:ext cx="89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utline of the JASIC project to establish the Common Bases for Mutual Recognition of IWVTA in WP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4292640"/>
            <a:ext cx="2016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ing information wit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ries not attending WP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1341360"/>
            <a:ext cx="107964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ＷＰ２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317600"/>
            <a:ext cx="3816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pecifications of vehicle types, variants and ver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614680"/>
            <a:ext cx="3816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pecifications of forms of application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251080"/>
            <a:ext cx="3816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pecifications of “extensions” and “revisio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9120" y="1890720"/>
            <a:ext cx="27385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pecifications of “worst cas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38560" y="1764360"/>
            <a:ext cx="1225440" cy="1468800"/>
          </a:xfrm>
          <a:prstGeom prst="rightArrow">
            <a:avLst>
              <a:gd name="adj1" fmla="val 49935"/>
              <a:gd name="adj2" fmla="val 596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3068640"/>
            <a:ext cx="755640" cy="1150920"/>
          </a:xfrm>
          <a:prstGeom prst="downArrow">
            <a:avLst>
              <a:gd name="adj1" fmla="val 57769"/>
              <a:gd name="adj2" fmla="val 61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2108160"/>
            <a:ext cx="102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 proposals by 201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97560" y="1962000"/>
            <a:ext cx="298800" cy="289080"/>
          </a:xfrm>
          <a:prstGeom prst="rightArrow">
            <a:avLst>
              <a:gd name="adj1" fmla="val 50000"/>
              <a:gd name="adj2" fmla="val 258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97560" y="2251080"/>
            <a:ext cx="298800" cy="289080"/>
          </a:xfrm>
          <a:prstGeom prst="rightArrow">
            <a:avLst>
              <a:gd name="adj1" fmla="val 50000"/>
              <a:gd name="adj2" fmla="val 258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97560" y="2538360"/>
            <a:ext cx="298800" cy="289080"/>
          </a:xfrm>
          <a:prstGeom prst="rightArrow">
            <a:avLst>
              <a:gd name="adj1" fmla="val 50000"/>
              <a:gd name="adj2" fmla="val 258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97560" y="2827440"/>
            <a:ext cx="298800" cy="288720"/>
          </a:xfrm>
          <a:prstGeom prst="rightArrow">
            <a:avLst>
              <a:gd name="adj1" fmla="val 50000"/>
              <a:gd name="adj2" fmla="val 258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089800">
            <a:off x="7248600" y="1674360"/>
            <a:ext cx="298440" cy="289080"/>
          </a:xfrm>
          <a:prstGeom prst="rightArrow">
            <a:avLst>
              <a:gd name="adj1" fmla="val 50000"/>
              <a:gd name="adj2" fmla="val 258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4581360"/>
            <a:ext cx="648000" cy="289080"/>
          </a:xfrm>
          <a:prstGeom prst="rightArrow">
            <a:avLst>
              <a:gd name="adj1" fmla="val 50000"/>
              <a:gd name="adj2" fmla="val 560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869000"/>
            <a:ext cx="648000" cy="288720"/>
          </a:xfrm>
          <a:prstGeom prst="rightArrow">
            <a:avLst>
              <a:gd name="adj1" fmla="val 50000"/>
              <a:gd name="adj2" fmla="val 561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2090880"/>
            <a:ext cx="1079280" cy="946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ed to other C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1508040"/>
            <a:ext cx="107928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ed to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4344840"/>
            <a:ext cx="1657080" cy="733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ed to countries not attending WP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8000" y="4292640"/>
            <a:ext cx="648000" cy="288720"/>
          </a:xfrm>
          <a:prstGeom prst="rightArrow">
            <a:avLst>
              <a:gd name="adj1" fmla="val 50000"/>
              <a:gd name="adj2" fmla="val 561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3357720"/>
            <a:ext cx="2087640" cy="775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ing with the influence on the social systems caused by the necessary cha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7308000" y="3069000"/>
            <a:ext cx="289080" cy="28764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7720800">
            <a:off x="6658560" y="407880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7:59:11Z</dcterms:created>
  <dc:creator>行政情報システム室</dc:creator>
  <dc:description/>
  <dc:language>en-US</dc:language>
  <cp:lastModifiedBy>Ramos</cp:lastModifiedBy>
  <dcterms:modified xsi:type="dcterms:W3CDTF">2008-11-07T08:49:00Z</dcterms:modified>
  <cp:revision>174</cp:revision>
  <dc:subject/>
  <dc:title>国際車両認証の相互承認のための基盤整備の検討について</dc:title>
</cp:coreProperties>
</file>