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9867900" cy="6735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867600" cy="673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6800" cy="3366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1"/>
          </p:nvPr>
        </p:nvSpPr>
        <p:spPr>
          <a:xfrm>
            <a:off x="558648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3252600" y="504360"/>
            <a:ext cx="3369960" cy="25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9280" rIns="8928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987120" y="3198960"/>
            <a:ext cx="7891560" cy="3031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2"/>
          </p:nvPr>
        </p:nvSpPr>
        <p:spPr>
          <a:xfrm>
            <a:off x="0" y="6397200"/>
            <a:ext cx="4276800" cy="3366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3"/>
          </p:nvPr>
        </p:nvSpPr>
        <p:spPr>
          <a:xfrm>
            <a:off x="5586480" y="639720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9358-1F99-405D-88B9-3A75E962F65C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5586480" y="6397560"/>
            <a:ext cx="4278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E903-BCAA-431A-8599-ECE2BDF2F015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3252960" y="504720"/>
            <a:ext cx="3369960" cy="252756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87120" y="3198960"/>
            <a:ext cx="789156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3252960" y="504720"/>
            <a:ext cx="3369960" cy="252756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87120" y="3198960"/>
            <a:ext cx="789156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5586480" y="6397560"/>
            <a:ext cx="4278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EED0-6505-4AF8-A530-871E19165641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466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7696440" cy="19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320" y="3938040"/>
            <a:ext cx="7696440" cy="19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466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10120" y="182880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320" y="393804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10120" y="393804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466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68400" y="182880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70480" y="182880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320" y="393804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68400" y="393804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70480" y="393804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466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320" y="1828800"/>
            <a:ext cx="76964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466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76964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466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0120" y="182880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466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466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466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0120" y="182880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393804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466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10120" y="182880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10120" y="393804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466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0120" y="182880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320" y="3938040"/>
            <a:ext cx="7696440" cy="19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4662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828800"/>
            <a:ext cx="76964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SzPct val="5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228600" y="152280"/>
            <a:ext cx="8763120" cy="6521400"/>
          </a:xfrm>
          <a:prstGeom prst="roundRect">
            <a:avLst>
              <a:gd name="adj" fmla="val 4069"/>
            </a:avLst>
          </a:pr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Object 5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569880" cy="709560"/>
          </a:xfrm>
          <a:prstGeom prst="rect">
            <a:avLst/>
          </a:prstGeom>
          <a:ln w="0">
            <a:noFill/>
          </a:ln>
        </p:spPr>
      </p:pic>
      <p:sp>
        <p:nvSpPr>
          <p:cNvPr id="4" name="Freeform 6"/>
          <p:cNvSpPr/>
          <p:nvPr/>
        </p:nvSpPr>
        <p:spPr>
          <a:xfrm>
            <a:off x="228600" y="6375240"/>
            <a:ext cx="4381560" cy="306720"/>
          </a:xfrm>
          <a:prstGeom prst="pi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523440" y="6352920"/>
            <a:ext cx="367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INTERNATIONAL ENERGY AGENCY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4610160" y="6375240"/>
            <a:ext cx="4381560" cy="3067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4556520" y="6351120"/>
            <a:ext cx="438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Arial"/>
                <a:ea typeface="ＭＳ Ｐゴシック"/>
              </a:rPr>
              <a:t>AGENCE INTERNATIONALE DE L’ENERGI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AutoShape 10"/>
          <p:cNvSpPr/>
          <p:nvPr/>
        </p:nvSpPr>
        <p:spPr>
          <a:xfrm>
            <a:off x="228600" y="152280"/>
            <a:ext cx="8763120" cy="6521400"/>
          </a:xfrm>
          <a:prstGeom prst="roundRect">
            <a:avLst>
              <a:gd name="adj" fmla="val 4069"/>
            </a:avLst>
          </a:pr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Object 11" descr=""/>
          <p:cNvPicPr/>
          <p:nvPr/>
        </p:nvPicPr>
        <p:blipFill>
          <a:blip r:embed="rId3"/>
          <a:stretch/>
        </p:blipFill>
        <p:spPr>
          <a:xfrm>
            <a:off x="380880" y="380880"/>
            <a:ext cx="569880" cy="709560"/>
          </a:xfrm>
          <a:prstGeom prst="rect">
            <a:avLst/>
          </a:prstGeom>
          <a:ln w="0">
            <a:noFill/>
          </a:ln>
        </p:spPr>
      </p:pic>
      <p:sp>
        <p:nvSpPr>
          <p:cNvPr id="10" name="Freeform 12"/>
          <p:cNvSpPr/>
          <p:nvPr/>
        </p:nvSpPr>
        <p:spPr>
          <a:xfrm>
            <a:off x="228600" y="6375240"/>
            <a:ext cx="4381560" cy="306720"/>
          </a:xfrm>
          <a:prstGeom prst="pi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3"/>
          <p:cNvSpPr/>
          <p:nvPr/>
        </p:nvSpPr>
        <p:spPr>
          <a:xfrm>
            <a:off x="523440" y="6352920"/>
            <a:ext cx="367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INTERNATIONAL ENERGY AGENCY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Freeform 14"/>
          <p:cNvSpPr/>
          <p:nvPr/>
        </p:nvSpPr>
        <p:spPr>
          <a:xfrm>
            <a:off x="4610160" y="6375240"/>
            <a:ext cx="4381560" cy="3067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15"/>
          <p:cNvSpPr/>
          <p:nvPr/>
        </p:nvSpPr>
        <p:spPr>
          <a:xfrm>
            <a:off x="4556520" y="6351120"/>
            <a:ext cx="438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Arial"/>
                <a:ea typeface="ＭＳ Ｐゴシック"/>
              </a:rPr>
              <a:t>AGENCE INTERNATIONALE DE L’ENERGI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2"/>
          <p:cNvSpPr/>
          <p:nvPr/>
        </p:nvSpPr>
        <p:spPr>
          <a:xfrm>
            <a:off x="571680" y="1295280"/>
            <a:ext cx="81914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1f20"/>
                </a:solidFill>
                <a:latin typeface="Arial"/>
                <a:ea typeface="ＭＳ Ｐゴシック"/>
              </a:rPr>
              <a:t>IEA International Conferences: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1f20"/>
                </a:solidFill>
                <a:latin typeface="Arial"/>
                <a:ea typeface="ＭＳ Ｐゴシック"/>
              </a:rPr>
              <a:t>Revolutionizing the transport secto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0" y="4191120"/>
            <a:ext cx="9144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kao Onod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ational Energy Agency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/ECE/WP29            25, June 2008           Geneva, Switzerl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6837120" y="5958000"/>
            <a:ext cx="207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ECD/IEA 2008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51640" y="404640"/>
            <a:ext cx="280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Informal Document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 No. WP.29-145-1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45th session, 24-27 June 2008,     agenda  item 8.7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4662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EA International Conferenc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76964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ective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sent options regarding electric drive vehicle related technologi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show the building blocks for a cost effective policy framewor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?: 1 October 2008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re?: UIC in Paris, France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4662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 Progra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76964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ning sessio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ssion 2: The role of policy interventions for deployment of new transport technologie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ssion 3: Promising technologies and their potential contribution to energy deman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ssion 4: Challenges facing the electricity system with a significant market of EVs and PHEV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ssion 5:  Future markets for EVs and PHEVs: needs and accept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ssion 6:  Towards a Future Policy Framework for revolutionizing the transport sector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837720" y="2819520"/>
            <a:ext cx="7696440" cy="35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 fontScale="83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ank you for your attention!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kao.onoda@iea.or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rlotte.forbes@iea.or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6T08:33:16Z</dcterms:created>
  <dc:creator>Takao Onoda</dc:creator>
  <dc:description/>
  <dc:language>en-US</dc:language>
  <cp:lastModifiedBy>Gianotti</cp:lastModifiedBy>
  <dcterms:modified xsi:type="dcterms:W3CDTF">2008-06-25T19:45:05Z</dcterms:modified>
  <cp:revision>134</cp:revision>
  <dc:subject/>
  <dc:title>Japanese Fuel Efficiency Standard </dc:title>
</cp:coreProperties>
</file>