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3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png" ContentType="image/png"/>
  <Override PartName="/ppt/media/image8.wmf" ContentType="image/x-wmf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1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288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1460520" y="1314000"/>
            <a:ext cx="3875040" cy="258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2800" spc="-1" strike="noStrike">
                <a:solidFill>
                  <a:srgbClr val="ffea18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ffea18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906480" y="4713120"/>
            <a:ext cx="4983120" cy="4191120"/>
          </a:xfrm>
          <a:prstGeom prst="rect">
            <a:avLst/>
          </a:prstGeom>
          <a:noFill/>
          <a:ln w="0">
            <a:noFill/>
          </a:ln>
        </p:spPr>
        <p:txBody>
          <a:bodyPr lIns="61200" rIns="61200" tIns="31320" bIns="3132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85272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5272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52720" y="4680"/>
            <a:ext cx="2944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52720" y="9455040"/>
            <a:ext cx="2944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9455040"/>
            <a:ext cx="2944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680"/>
            <a:ext cx="2944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75040" y="-46080"/>
            <a:ext cx="29178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75040" y="9402840"/>
            <a:ext cx="29178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40" y="9402840"/>
            <a:ext cx="29178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40" y="-46080"/>
            <a:ext cx="29178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460520" y="1314360"/>
            <a:ext cx="3875040" cy="2583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06480" y="4713120"/>
            <a:ext cx="498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52720" y="4680"/>
            <a:ext cx="2944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52720" y="9453600"/>
            <a:ext cx="2944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9453600"/>
            <a:ext cx="2944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680"/>
            <a:ext cx="2944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75040" y="-46080"/>
            <a:ext cx="29178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75040" y="9401040"/>
            <a:ext cx="29178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40" y="9401040"/>
            <a:ext cx="2916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40" y="-46080"/>
            <a:ext cx="29160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463760" y="1314360"/>
            <a:ext cx="3875040" cy="2583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860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550440"/>
            <a:ext cx="7620120" cy="81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800" spc="-1" strike="noStrike">
              <a:solidFill>
                <a:srgbClr val="ffea1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9250200" cy="203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4"/>
              </a:spcBef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3981600"/>
            <a:ext cx="9250200" cy="203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4"/>
              </a:spcBef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550440"/>
            <a:ext cx="7620120" cy="81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800" spc="-1" strike="noStrike">
              <a:solidFill>
                <a:srgbClr val="ffea1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514040" cy="203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4"/>
              </a:spcBef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6960" y="1752480"/>
            <a:ext cx="4514040" cy="203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4"/>
              </a:spcBef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981600"/>
            <a:ext cx="4514040" cy="203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4"/>
              </a:spcBef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6960" y="3981600"/>
            <a:ext cx="4514040" cy="203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4"/>
              </a:spcBef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550440"/>
            <a:ext cx="7620120" cy="81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800" spc="-1" strike="noStrike">
              <a:solidFill>
                <a:srgbClr val="ffea1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2978280" cy="203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4"/>
              </a:spcBef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84520" y="1752480"/>
            <a:ext cx="2978280" cy="203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4"/>
              </a:spcBef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711840" y="1752480"/>
            <a:ext cx="2978280" cy="203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4"/>
              </a:spcBef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3981600"/>
            <a:ext cx="2978280" cy="203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4"/>
              </a:spcBef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84520" y="3981600"/>
            <a:ext cx="2978280" cy="203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4"/>
              </a:spcBef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711840" y="3981600"/>
            <a:ext cx="2978280" cy="203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4"/>
              </a:spcBef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550440"/>
            <a:ext cx="7620120" cy="81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800" spc="-1" strike="noStrike">
              <a:solidFill>
                <a:srgbClr val="ffea18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752480"/>
            <a:ext cx="9250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550440"/>
            <a:ext cx="7620120" cy="81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800" spc="-1" strike="noStrike">
              <a:solidFill>
                <a:srgbClr val="ffea18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92502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4"/>
              </a:spcBef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550440"/>
            <a:ext cx="7620120" cy="81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800" spc="-1" strike="noStrike">
              <a:solidFill>
                <a:srgbClr val="ffea1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51404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4"/>
              </a:spcBef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6960" y="1752480"/>
            <a:ext cx="451404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4"/>
              </a:spcBef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550440"/>
            <a:ext cx="7620120" cy="81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800" spc="-1" strike="noStrike">
              <a:solidFill>
                <a:srgbClr val="ffea18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550440"/>
            <a:ext cx="76201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550440"/>
            <a:ext cx="7620120" cy="81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800" spc="-1" strike="noStrike">
              <a:solidFill>
                <a:srgbClr val="ffea1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514040" cy="203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4"/>
              </a:spcBef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6960" y="1752480"/>
            <a:ext cx="451404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4"/>
              </a:spcBef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3981600"/>
            <a:ext cx="4514040" cy="203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4"/>
              </a:spcBef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550440"/>
            <a:ext cx="7620120" cy="81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800" spc="-1" strike="noStrike">
              <a:solidFill>
                <a:srgbClr val="ffea1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51404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4"/>
              </a:spcBef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6960" y="1752480"/>
            <a:ext cx="4514040" cy="203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4"/>
              </a:spcBef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6960" y="3981600"/>
            <a:ext cx="4514040" cy="203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4"/>
              </a:spcBef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550440"/>
            <a:ext cx="7620120" cy="81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2800" spc="-1" strike="noStrike">
              <a:solidFill>
                <a:srgbClr val="ffea1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514040" cy="203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4"/>
              </a:spcBef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6960" y="1752480"/>
            <a:ext cx="4514040" cy="203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4"/>
              </a:spcBef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981600"/>
            <a:ext cx="9250200" cy="203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624"/>
              </a:spcBef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6e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8520" y="550440"/>
            <a:ext cx="7620120" cy="81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2800" spc="-1" strike="noStrike">
                <a:solidFill>
                  <a:srgbClr val="ffea18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ea1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480"/>
            <a:ext cx="9250200" cy="42674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1624"/>
              </a:spcBef>
              <a:spcAft>
                <a:spcPts val="1624"/>
              </a:spcAft>
              <a:buClr>
                <a:srgbClr val="ffea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1624"/>
              </a:spcBef>
              <a:spcAft>
                <a:spcPts val="1624"/>
              </a:spcAft>
              <a:buClr>
                <a:srgbClr val="ffea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1624"/>
              </a:spcBef>
              <a:spcAft>
                <a:spcPts val="1624"/>
              </a:spcAft>
              <a:buClr>
                <a:srgbClr val="ffea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263960" indent="-180360">
              <a:spcBef>
                <a:spcPts val="1624"/>
              </a:spcBef>
              <a:spcAft>
                <a:spcPts val="1624"/>
              </a:spcAft>
              <a:buClr>
                <a:srgbClr val="ffea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625040" indent="-180360">
              <a:spcBef>
                <a:spcPts val="1624"/>
              </a:spcBef>
              <a:spcAft>
                <a:spcPts val="1624"/>
              </a:spcAft>
              <a:buClr>
                <a:srgbClr val="ffea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625040" indent="-180360">
              <a:spcBef>
                <a:spcPts val="1624"/>
              </a:spcBef>
              <a:spcAft>
                <a:spcPts val="162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625040" indent="-180360">
              <a:spcBef>
                <a:spcPts val="1624"/>
              </a:spcBef>
              <a:spcAft>
                <a:spcPts val="162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077320" y="533520"/>
            <a:ext cx="2057400" cy="84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direct.gov.uk/sharp" TargetMode="External"/><Relationship Id="rId2" Type="http://schemas.openxmlformats.org/officeDocument/2006/relationships/hyperlink" Target="http://www.direct.gov.uk/sharp" TargetMode="External"/><Relationship Id="rId3" Type="http://schemas.openxmlformats.org/officeDocument/2006/relationships/hyperlink" Target="mailto:sharp@dft.gsi.gov.uk" TargetMode="External"/><Relationship Id="rId4" Type="http://schemas.openxmlformats.org/officeDocument/2006/relationships/oleObject" Target="../embeddings/oleObject1.bin"/><Relationship Id="rId5" Type="http://schemas.openxmlformats.org/officeDocument/2006/relationships/image" Target="../media/image18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6e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4600" y="2187360"/>
            <a:ext cx="928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2000" spc="-1" strike="noStrike">
                <a:solidFill>
                  <a:srgbClr val="ffea18"/>
                </a:solidFill>
                <a:latin typeface="Verdana"/>
              </a:rPr>
              <a:t>MOTORCYCLE HELMETS: CONSUMER SAFETY INFORMATION</a:t>
            </a:r>
            <a:br>
              <a:rPr sz="2600"/>
            </a:br>
            <a:br>
              <a:rPr sz="2600"/>
            </a:br>
            <a:r>
              <a:rPr b="1" i="1" lang="en-US" sz="4200" spc="-1" strike="noStrike">
                <a:solidFill>
                  <a:srgbClr val="ffea18"/>
                </a:solidFill>
                <a:latin typeface="Verdana"/>
              </a:rPr>
              <a:t>SHARP</a:t>
            </a:r>
            <a:endParaRPr b="1" lang="en-US" sz="4200" spc="-1" strike="noStrike">
              <a:solidFill>
                <a:srgbClr val="ffea18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01920" y="3962160"/>
            <a:ext cx="7246800" cy="2274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1375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orld Forum for Harmonization of Vehicle Regulations 145th sess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75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874"/>
              </a:spcBef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K Department for Transp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895320" y="404640"/>
          <a:ext cx="2448000" cy="13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5320" y="404640"/>
                    <a:ext cx="2448000" cy="13226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0" dir="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648400" y="189000"/>
            <a:ext cx="280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Informal Document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 No. WP.29-145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45th session, 24-27 June 2008,     agenda  item 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6e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88520" y="550440"/>
            <a:ext cx="7620120" cy="81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2800" spc="-1" strike="noStrike">
                <a:solidFill>
                  <a:srgbClr val="ffea18"/>
                </a:solidFill>
                <a:latin typeface="Verdana"/>
              </a:rPr>
              <a:t>Performance Differences</a:t>
            </a:r>
            <a:endParaRPr b="1" lang="en-US" sz="2800" spc="-1" strike="noStrike">
              <a:solidFill>
                <a:srgbClr val="ffea18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457280" y="1752480"/>
            <a:ext cx="7250040" cy="4267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6e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8960" y="764640"/>
            <a:ext cx="7620120" cy="81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2800" spc="-1" strike="noStrike">
                <a:solidFill>
                  <a:srgbClr val="ffea18"/>
                </a:solidFill>
                <a:latin typeface="Verdana"/>
              </a:rPr>
              <a:t>Dissemination</a:t>
            </a:r>
            <a:endParaRPr b="1" lang="en-US" sz="2800" spc="-1" strike="noStrike">
              <a:solidFill>
                <a:srgbClr val="ffea18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648400" y="1628640"/>
            <a:ext cx="2033640" cy="4392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951680" y="1628640"/>
            <a:ext cx="2060640" cy="4392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1682640"/>
            <a:ext cx="4902120" cy="42674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spcAft>
                <a:spcPts val="1375"/>
              </a:spcAft>
              <a:buClr>
                <a:srgbClr val="ffea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iority message is for motorcyclists to get a helmet that provides the best fi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spcAft>
                <a:spcPts val="1375"/>
              </a:spcAft>
              <a:buClr>
                <a:srgbClr val="ffea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n consider the SHARP rating; the more SHARP stars a helmet has, the more protection it can provid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spcAft>
                <a:spcPts val="1375"/>
              </a:spcAft>
              <a:buClr>
                <a:srgbClr val="ffea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ral strands targeting manufacturers, retailers and  consume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6e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8520" y="550440"/>
            <a:ext cx="7620120" cy="81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2800" spc="-1" strike="noStrike">
                <a:solidFill>
                  <a:srgbClr val="ffea18"/>
                </a:solidFill>
                <a:latin typeface="Verdana"/>
              </a:rPr>
              <a:t>SHARP ratings</a:t>
            </a:r>
            <a:endParaRPr b="1" lang="en-US" sz="2800" spc="-1" strike="noStrike">
              <a:solidFill>
                <a:srgbClr val="ffea1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0600" y="1412640"/>
            <a:ext cx="3744720" cy="48243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181080" indent="-181080">
              <a:lnSpc>
                <a:spcPct val="90000"/>
              </a:lnSpc>
              <a:spcBef>
                <a:spcPts val="1375"/>
              </a:spcBef>
              <a:spcAft>
                <a:spcPts val="1375"/>
              </a:spcAft>
              <a:buClr>
                <a:srgbClr val="ffea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sults published for 60 full face helmets on June 12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1375"/>
              </a:spcBef>
              <a:spcAft>
                <a:spcPts val="1375"/>
              </a:spcAft>
              <a:buClr>
                <a:srgbClr val="ffea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sting continuing through 2008 to complete full face helmets (representing ~ 80% of UK sales)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1375"/>
              </a:spcBef>
              <a:spcAft>
                <a:spcPts val="1375"/>
              </a:spcAft>
              <a:buClr>
                <a:srgbClr val="ffea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ving on to system / flip front helmets and then open fac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1375"/>
              </a:spcBef>
              <a:spcAft>
                <a:spcPts val="1375"/>
              </a:spcAft>
              <a:buClr>
                <a:srgbClr val="ffea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sts valid for all types/ styles of helm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351320" y="1413000"/>
          <a:ext cx="5688000" cy="47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1320" y="1413000"/>
                    <a:ext cx="5688000" cy="47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157720" y="3962160"/>
            <a:ext cx="4549680" cy="2057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/>
            </a:outerShdw>
          </a:effectLst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5157720" y="1752120"/>
            <a:ext cx="4549680" cy="2057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/>
            </a:outerShdw>
          </a:effectLst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6e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8520" y="550440"/>
            <a:ext cx="7620120" cy="81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2800" spc="-1" strike="noStrike">
                <a:solidFill>
                  <a:srgbClr val="ffea18"/>
                </a:solidFill>
                <a:latin typeface="Verdana"/>
              </a:rPr>
              <a:t>Further information</a:t>
            </a:r>
            <a:endParaRPr b="1" lang="en-US" sz="2800" spc="-1" strike="noStrike">
              <a:solidFill>
                <a:srgbClr val="ffea18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5694480" cy="42674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437"/>
              </a:spcBef>
              <a:spcAft>
                <a:spcPts val="1437"/>
              </a:spcAft>
              <a:buClr>
                <a:srgbClr val="ffea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vailable from the SHARP website </a:t>
            </a:r>
            <a:r>
              <a:rPr b="0" lang="en-US" sz="2600" spc="-1" strike="noStrike" u="sng">
                <a:solidFill>
                  <a:srgbClr val="60c900"/>
                </a:solidFill>
                <a:uFillTx/>
                <a:latin typeface="Arial"/>
                <a:hlinkClick r:id="rId1"/>
              </a:rPr>
              <a:t>w</a:t>
            </a:r>
            <a:r>
              <a:rPr b="0" lang="en-US" sz="2300" spc="-1" strike="noStrike" u="sng">
                <a:solidFill>
                  <a:srgbClr val="60c900"/>
                </a:solidFill>
                <a:uFillTx/>
                <a:latin typeface="Arial"/>
                <a:hlinkClick r:id="rId2"/>
              </a:rPr>
              <a:t>ww.direct.gov.uk/sharp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437"/>
              </a:spcBef>
              <a:spcAft>
                <a:spcPts val="14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spcAft>
                <a:spcPts val="1624"/>
              </a:spcAft>
              <a:buClr>
                <a:srgbClr val="ffea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r direct from </a:t>
            </a:r>
            <a:r>
              <a:rPr b="0" lang="en-US" sz="2600" spc="-1" strike="noStrike" u="sng">
                <a:solidFill>
                  <a:srgbClr val="60c900"/>
                </a:solidFill>
                <a:uFillTx/>
                <a:latin typeface="Arial"/>
                <a:hlinkClick r:id="rId3"/>
              </a:rPr>
              <a:t>sharp@dft.gsi.gov.u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24"/>
              </a:spcBef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448400" y="3573360"/>
          <a:ext cx="2219400" cy="2737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48400" y="3573360"/>
                    <a:ext cx="2219400" cy="27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6943680" y="1700280"/>
          <a:ext cx="3025800" cy="1695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43680" y="1700280"/>
                    <a:ext cx="3025800" cy="16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6e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0960" y="620280"/>
            <a:ext cx="7619760" cy="81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2800" spc="-1" strike="noStrike">
                <a:solidFill>
                  <a:srgbClr val="ffea18"/>
                </a:solidFill>
                <a:latin typeface="Verdana"/>
              </a:rPr>
              <a:t>Road Safety Policy</a:t>
            </a:r>
            <a:endParaRPr b="1" lang="en-US" sz="2800" spc="-1" strike="noStrike">
              <a:solidFill>
                <a:srgbClr val="ffea18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98400" y="1752120"/>
            <a:ext cx="3538800" cy="2845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0360" rIns="90360" tIns="44280" bIns="44280" anchor="t">
            <a:normAutofit fontScale="66000"/>
          </a:bodyPr>
          <a:p>
            <a:pPr marL="191520" indent="-191520">
              <a:spcBef>
                <a:spcPts val="1624"/>
              </a:spcBef>
              <a:spcAft>
                <a:spcPts val="1624"/>
              </a:spcAft>
              <a:buClr>
                <a:srgbClr val="ffea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Tomorrow’s roads – safer for everyo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1520" indent="-191520">
              <a:spcBef>
                <a:spcPts val="1624"/>
              </a:spcBef>
              <a:spcAft>
                <a:spcPts val="1624"/>
              </a:spcAft>
              <a:buClr>
                <a:srgbClr val="ffea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ategy launched in March 200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1520" indent="-191520">
              <a:spcBef>
                <a:spcPts val="1624"/>
              </a:spcBef>
              <a:spcAft>
                <a:spcPts val="1624"/>
              </a:spcAft>
              <a:buClr>
                <a:srgbClr val="ffea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rst review published April 200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91520" indent="-191520">
              <a:spcBef>
                <a:spcPts val="1624"/>
              </a:spcBef>
              <a:spcAft>
                <a:spcPts val="1624"/>
              </a:spcAft>
              <a:buClr>
                <a:srgbClr val="ffea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review published mid 200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086600" y="1752480"/>
            <a:ext cx="2838600" cy="3981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029200" y="2438280"/>
            <a:ext cx="278928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6e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680" y="620280"/>
            <a:ext cx="7618320" cy="81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The Casualty Reduction targets</a:t>
            </a:r>
            <a:endParaRPr b="1" lang="en-US" sz="2800" spc="-1" strike="noStrike">
              <a:solidFill>
                <a:srgbClr val="ffea1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6240" y="1773360"/>
            <a:ext cx="8986680" cy="4248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63600" indent="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2010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ffea18"/>
              </a:buClr>
              <a:buFont typeface="Arial"/>
              <a:buChar char="•"/>
              <a:tabLst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40% reduction in all K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63600">
              <a:lnSpc>
                <a:spcPct val="60000"/>
              </a:lnSpc>
              <a:spcBef>
                <a:spcPts val="1500"/>
              </a:spcBef>
              <a:spcAft>
                <a:spcPts val="1500"/>
              </a:spcAft>
              <a:buClr>
                <a:srgbClr val="ffea18"/>
              </a:buClr>
              <a:buFont typeface="Arial"/>
              <a:buChar char="•"/>
              <a:tabLst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50% reduction in child K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63600">
              <a:lnSpc>
                <a:spcPct val="60000"/>
              </a:lnSpc>
              <a:spcBef>
                <a:spcPts val="1500"/>
              </a:spcBef>
              <a:spcAft>
                <a:spcPts val="1500"/>
              </a:spcAft>
              <a:buClr>
                <a:srgbClr val="ffea18"/>
              </a:buClr>
              <a:buFont typeface="Arial"/>
              <a:buChar char="•"/>
              <a:tabLst>
                <a:tab algn="l" pos="480960"/>
                <a:tab algn="l" pos="961920"/>
                <a:tab algn="l" pos="1442880"/>
                <a:tab algn="l" pos="1924200"/>
                <a:tab algn="l" pos="2405160"/>
                <a:tab algn="l" pos="2886120"/>
                <a:tab algn="l" pos="3367080"/>
                <a:tab algn="l" pos="3848040"/>
                <a:tab algn="l" pos="4329000"/>
                <a:tab algn="l" pos="4809960"/>
                <a:tab algn="l" pos="5291280"/>
                <a:tab algn="l" pos="5772240"/>
                <a:tab algn="l" pos="6253200"/>
                <a:tab algn="l" pos="6734160"/>
                <a:tab algn="l" pos="7215120"/>
                <a:tab algn="l" pos="7696080"/>
                <a:tab algn="l" pos="8177040"/>
                <a:tab algn="l" pos="8658360"/>
                <a:tab algn="l" pos="9139320"/>
                <a:tab algn="l" pos="96202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% reduction in the rate of slight inju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95320" y="4437000"/>
            <a:ext cx="8777160" cy="9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ckling the significantly higher incidence in disadvantaged comm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22600" y="5661000"/>
            <a:ext cx="74563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5760" rIns="185760" tIns="92880" bIns="92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compared to the average for 1994-1998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6e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88520" y="550440"/>
            <a:ext cx="7620120" cy="81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2800" spc="-1" strike="noStrike">
                <a:solidFill>
                  <a:srgbClr val="ffea18"/>
                </a:solidFill>
                <a:latin typeface="Verdana"/>
              </a:rPr>
              <a:t>Motorcycling Safety</a:t>
            </a:r>
            <a:endParaRPr b="1" lang="en-US" sz="2800" spc="-1" strike="noStrike">
              <a:solidFill>
                <a:srgbClr val="ffea1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0240" y="1557000"/>
            <a:ext cx="6126120" cy="4267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spcAft>
                <a:spcPts val="1500"/>
              </a:spcAft>
              <a:buClr>
                <a:srgbClr val="ffea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a key issue for UK – separate strategy published in Feb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1500"/>
              </a:spcAft>
              <a:buClr>
                <a:srgbClr val="ffea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torcyclists are one of our most vulnerable groups of road user – comprising just 1% of traffic in the UK but represent 19% of all road death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1500"/>
              </a:spcAft>
              <a:buClr>
                <a:srgbClr val="ffea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% of all motorcyclist fatalities and 70% of those with serious injuries, sustain head injur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72400" y="1557360"/>
            <a:ext cx="3078000" cy="4360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6e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4600" y="549360"/>
            <a:ext cx="7620120" cy="81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2800" spc="-1" strike="noStrike">
                <a:solidFill>
                  <a:srgbClr val="ffea18"/>
                </a:solidFill>
                <a:latin typeface="Verdana"/>
              </a:rPr>
              <a:t>Research</a:t>
            </a:r>
            <a:endParaRPr b="1" lang="en-US" sz="2800" spc="-1" strike="noStrike">
              <a:solidFill>
                <a:srgbClr val="ffea1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3320" y="1557360"/>
            <a:ext cx="6846840" cy="4680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312"/>
              </a:spcBef>
              <a:spcAft>
                <a:spcPts val="1312"/>
              </a:spcAft>
              <a:buClr>
                <a:srgbClr val="ffea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OST 327 European research brought together experts from France, Germany, Hungary, Italy, Netherlands, Switzerland, Finland and United Kingdom and completed in 2001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spcAft>
                <a:spcPts val="1312"/>
              </a:spcAft>
              <a:buClr>
                <a:srgbClr val="ffea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Key outcomes included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spcAft>
                <a:spcPts val="1312"/>
              </a:spcAft>
              <a:buClr>
                <a:srgbClr val="ffea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ocation and frequency of blows to the head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spcAft>
                <a:spcPts val="1312"/>
              </a:spcAft>
              <a:buClr>
                <a:srgbClr val="ffea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etermining the speed range of survivable head impacts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spcAft>
                <a:spcPts val="1312"/>
              </a:spcAft>
              <a:buClr>
                <a:srgbClr val="ffea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commendations for future test methods and criteria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023320" y="1484280"/>
            <a:ext cx="1923840" cy="2057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COST 327 image"/>
          <p:cNvPicPr/>
          <p:nvPr/>
        </p:nvPicPr>
        <p:blipFill>
          <a:blip r:embed="rId2"/>
          <a:stretch/>
        </p:blipFill>
        <p:spPr>
          <a:xfrm>
            <a:off x="7520040" y="3860640"/>
            <a:ext cx="2452680" cy="1679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6e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8520" y="550440"/>
            <a:ext cx="7620120" cy="81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2800" spc="-1" strike="noStrike">
                <a:solidFill>
                  <a:srgbClr val="ffea18"/>
                </a:solidFill>
                <a:latin typeface="Verdana"/>
              </a:rPr>
              <a:t>Research</a:t>
            </a:r>
            <a:endParaRPr b="1" lang="en-US" sz="2800" spc="-1" strike="noStrike">
              <a:solidFill>
                <a:srgbClr val="ffea1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6846840" cy="42674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312"/>
              </a:spcBef>
              <a:spcAft>
                <a:spcPts val="1312"/>
              </a:spcAft>
              <a:buClr>
                <a:srgbClr val="ffea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UK commissioned further studies to understand the protection provided by current helmets conforming to ECE Reg. 22.05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spcAft>
                <a:spcPts val="1312"/>
              </a:spcAft>
              <a:buClr>
                <a:srgbClr val="ffea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sults showed noticeable differences in the safety performance of approved helmets available in the market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spcAft>
                <a:spcPts val="1312"/>
              </a:spcAft>
              <a:buClr>
                <a:srgbClr val="ffea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eveloped tests to establish which helmets provided greater safety potential than others, and objective assessment to provide purchasing information to motorcyclist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807320" y="3933720"/>
            <a:ext cx="2147760" cy="2148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742160" y="1752480"/>
            <a:ext cx="2225880" cy="1625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6e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0600" y="620280"/>
            <a:ext cx="7619760" cy="64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2700" spc="-1" strike="noStrike">
                <a:solidFill>
                  <a:srgbClr val="ffea18"/>
                </a:solidFill>
                <a:latin typeface="Verdana"/>
              </a:rPr>
              <a:t>SHARP – The Helmet Safety Scheme</a:t>
            </a:r>
            <a:endParaRPr b="1" lang="en-US" sz="2700" spc="-1" strike="noStrike">
              <a:solidFill>
                <a:srgbClr val="ffea1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0240" y="1483920"/>
            <a:ext cx="5622840" cy="4267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1500"/>
              </a:spcBef>
              <a:spcAft>
                <a:spcPts val="1500"/>
              </a:spcAft>
              <a:buClr>
                <a:srgbClr val="ffea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ea18"/>
                </a:solidFill>
                <a:latin typeface="Arial"/>
              </a:rPr>
              <a:t>SHAR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the </a:t>
            </a:r>
            <a:r>
              <a:rPr b="1" i="1" lang="en-US" sz="2400" spc="-1" strike="noStrike">
                <a:solidFill>
                  <a:srgbClr val="ffea18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ety </a:t>
            </a:r>
            <a:r>
              <a:rPr b="1" i="1" lang="en-US" sz="2400" spc="-1" strike="noStrike">
                <a:solidFill>
                  <a:srgbClr val="ffea18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met </a:t>
            </a:r>
            <a:r>
              <a:rPr b="1" i="1" lang="en-US" sz="2400" spc="-1" strike="noStrike">
                <a:solidFill>
                  <a:srgbClr val="ffea18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sessment and </a:t>
            </a:r>
            <a:r>
              <a:rPr b="1" i="1" lang="en-US" sz="2400" spc="-1" strike="noStrike">
                <a:solidFill>
                  <a:srgbClr val="ffea18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ing </a:t>
            </a:r>
            <a:r>
              <a:rPr b="1" i="1" lang="en-US" sz="2400" spc="-1" strike="noStrike">
                <a:solidFill>
                  <a:srgbClr val="ffea18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gramme – was launched in November 200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500"/>
              </a:spcBef>
              <a:spcAft>
                <a:spcPts val="1500"/>
              </a:spcAft>
              <a:buClr>
                <a:srgbClr val="ffea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mets are rated from 1- 5 stars depending on how well they perform in the laboratory tes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500"/>
              </a:spcBef>
              <a:spcAft>
                <a:spcPts val="1500"/>
              </a:spcAft>
              <a:buClr>
                <a:srgbClr val="ffea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ests are based on the science - reflecting current state-of-the-art in design, as well as user exposure and injury risk (COST 327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222960" y="2492280"/>
          <a:ext cx="3807000" cy="22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2960" y="2492280"/>
                    <a:ext cx="3807000" cy="2232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0" dir="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6e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88520" y="550440"/>
            <a:ext cx="7620120" cy="81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2800" spc="-1" strike="noStrike">
                <a:solidFill>
                  <a:srgbClr val="ffea18"/>
                </a:solidFill>
                <a:latin typeface="Verdana"/>
              </a:rPr>
              <a:t>SHARP Tests</a:t>
            </a:r>
            <a:endParaRPr b="1" lang="en-US" sz="2800" spc="-1" strike="noStrike">
              <a:solidFill>
                <a:srgbClr val="ffea1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3320" y="1413000"/>
            <a:ext cx="6630840" cy="4752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270000" indent="0">
              <a:spcBef>
                <a:spcPts val="1125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inear Impac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000" indent="-179640">
              <a:spcBef>
                <a:spcPts val="1125"/>
              </a:spcBef>
              <a:spcAft>
                <a:spcPts val="1125"/>
              </a:spcAft>
              <a:buClr>
                <a:srgbClr val="ffea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win-wire guided test based on British Standard BS 6658:1985 Helmet standard. The rig minimises the effect of energy dissipation through helmet rotation and rebou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000" indent="-179640">
              <a:spcBef>
                <a:spcPts val="1125"/>
              </a:spcBef>
              <a:spcAft>
                <a:spcPts val="1125"/>
              </a:spcAft>
              <a:buClr>
                <a:srgbClr val="ffea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ad forms of variable mass, as prescribed in UN-ECE Reg 22.0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000" indent="-179640">
              <a:spcBef>
                <a:spcPts val="1125"/>
              </a:spcBef>
              <a:spcAft>
                <a:spcPts val="1125"/>
              </a:spcAft>
              <a:buClr>
                <a:srgbClr val="ffea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mpact sites based around Reg 22.05 points, tested using flat and kerb anvi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000" indent="-179640">
              <a:spcBef>
                <a:spcPts val="1125"/>
              </a:spcBef>
              <a:spcAft>
                <a:spcPts val="1125"/>
              </a:spcAft>
              <a:buClr>
                <a:srgbClr val="ffea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cluding one higher and one lower impact speed compared to Reg 22.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000" indent="0">
              <a:spcBef>
                <a:spcPts val="1125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blique impact: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eg 22.05, METHOD 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7520040" y="1628640"/>
          <a:ext cx="2481120" cy="46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0040" y="1628640"/>
                    <a:ext cx="2481120" cy="4680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0" dir="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6e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88520" y="550440"/>
            <a:ext cx="7620120" cy="81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2800" spc="-1" strike="noStrike">
                <a:solidFill>
                  <a:srgbClr val="ffea18"/>
                </a:solidFill>
                <a:latin typeface="Verdana"/>
              </a:rPr>
              <a:t>SHARP Assessment</a:t>
            </a:r>
            <a:endParaRPr b="1" lang="en-US" sz="2800" spc="-1" strike="noStrike">
              <a:solidFill>
                <a:srgbClr val="ffea18"/>
              </a:solidFill>
              <a:latin typeface="Verdana"/>
            </a:endParaRPr>
          </a:p>
        </p:txBody>
      </p:sp>
      <p:sp>
        <p:nvSpPr>
          <p:cNvPr id="79" name=""/>
          <p:cNvSpPr/>
          <p:nvPr/>
        </p:nvSpPr>
        <p:spPr>
          <a:xfrm>
            <a:off x="6512040" y="1557360"/>
            <a:ext cx="3384360" cy="482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727680" y="3860640"/>
            <a:ext cx="3024360" cy="18734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656400" y="1557360"/>
            <a:ext cx="3240000" cy="1927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656400" y="5805360"/>
            <a:ext cx="3240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s by helmet location, COST 3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56400" y="3357720"/>
            <a:ext cx="3095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s by surface type, COST 3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557360"/>
            <a:ext cx="5622840" cy="4267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375"/>
              </a:spcBef>
              <a:spcAft>
                <a:spcPts val="1375"/>
              </a:spcAft>
              <a:buClr>
                <a:srgbClr val="ffea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Reg 22.05 underpins the SHARP assessment, therefore SHARP tests at ambient conditions. SHARP does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not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erform tests on retention systems or chin ba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1375"/>
              </a:spcBef>
              <a:spcAft>
                <a:spcPts val="1375"/>
              </a:spcAft>
              <a:buClr>
                <a:srgbClr val="ffea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eak g recorded over 32 individual impacts performed on 7 helmets at 3 velociti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1375"/>
              </a:spcBef>
              <a:spcAft>
                <a:spcPts val="1375"/>
              </a:spcAft>
              <a:buClr>
                <a:srgbClr val="ffea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Overall helmet rating is weighted to take account of the frequency and direction of real world impac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5T14:45:50Z</dcterms:created>
  <dc:creator>Dr Bob Moran</dc:creator>
  <dc:description>New version 4.1  - 24th May  2004 Tested under Office XP.</dc:description>
  <cp:keywords/>
  <dc:language>en-US</dc:language>
  <cp:lastModifiedBy>Gianotti</cp:lastModifiedBy>
  <cp:lastPrinted>2008-06-25T19:43:47Z</cp:lastPrinted>
  <dcterms:modified xsi:type="dcterms:W3CDTF">2008-06-25T19:45:21Z</dcterms:modified>
  <cp:revision>85</cp:revision>
  <dc:subject>Corporate Identity</dc:subject>
  <dc:title>DfT CORPORATE IDENTITY for PowerPoint</dc:title>
</cp:coreProperties>
</file>