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7A-8B6E-417B-BC4E-A406AE90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4120" y="363204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E78-4C75-499D-BFF7-098B1941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604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20A-A83B-45CF-9DE1-6824F227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1624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4800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8412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1624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4800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E81-025C-4BAB-8F02-73705E73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2C28-5DCF-4C32-956C-2B2AD3FE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472E-4EF5-4AF9-A7C9-2CFF4DF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DDF2-9B22-432A-93EB-0E71C20D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AC1-5DCC-43D4-B165-E8C9691C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BCD-F516-4779-83B6-CAC9C95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3760" y="609480"/>
            <a:ext cx="82422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9C5-E635-41AD-A076-7AFF047A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3529-CEFF-439A-B7B6-738F646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840-7998-4ACF-B150-B86A8FD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604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DB1-60C7-47EF-96F7-D1876B6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D3CB-1826-447C-8401-7AF5DAC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4120" y="363204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9BD-19BC-4233-BCA4-B969B53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604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B1C-8B5E-48C0-BBE1-5C8200AB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624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48000" y="141300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8412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1624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48000" y="3632040"/>
            <a:ext cx="2696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058-A7FA-45A4-8A34-3844323D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D6C-A4DF-446C-9D69-39AF82A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173-B60C-4B2E-A1B3-099231D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FA9-85A7-4920-ADE0-5CC5529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83760" y="609480"/>
            <a:ext cx="824220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BEB-6903-4B36-B360-6B270E1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FEE-7BAE-4CB1-BA56-DD2BA0C9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6040" y="363204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20B-E96C-4004-9934-9E32938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6040" y="1413000"/>
            <a:ext cx="408708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84120" y="3632040"/>
            <a:ext cx="83757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76C-8434-4A5C-9130-7ACA3F8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79360" y="304920"/>
            <a:ext cx="8585280" cy="6267240"/>
            <a:chOff x="279360" y="304920"/>
            <a:chExt cx="8585280" cy="6267240"/>
          </a:xfrm>
        </p:grpSpPr>
        <p:grpSp>
          <p:nvGrpSpPr>
            <p:cNvPr id="1" name="Group 3"/>
            <p:cNvGrpSpPr/>
            <p:nvPr/>
          </p:nvGrpSpPr>
          <p:grpSpPr>
            <a:xfrm>
              <a:off x="304200" y="304920"/>
              <a:ext cx="8521920" cy="5486400"/>
              <a:chOff x="304200" y="304920"/>
              <a:chExt cx="8521920" cy="54864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194240" y="304920"/>
                <a:ext cx="163188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7194240" y="1676520"/>
                <a:ext cx="163188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194240" y="3048120"/>
                <a:ext cx="163188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194240" y="4419720"/>
                <a:ext cx="163188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5562360" y="304920"/>
                <a:ext cx="163152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5562360" y="1676520"/>
                <a:ext cx="163152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5562360" y="3048120"/>
                <a:ext cx="163152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562360" y="4419720"/>
                <a:ext cx="163152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954160" y="304920"/>
                <a:ext cx="260820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2954160" y="1676520"/>
                <a:ext cx="260820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2954160" y="3048120"/>
                <a:ext cx="260820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2954160" y="4419720"/>
                <a:ext cx="260820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318240" y="304920"/>
                <a:ext cx="264960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304200" y="1676520"/>
                <a:ext cx="264996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304200" y="3048120"/>
                <a:ext cx="264996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304200" y="4419720"/>
                <a:ext cx="2649960" cy="13716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pic>
          <p:nvPicPr>
            <p:cNvPr id="18" name="Picture 20" descr="banner"/>
            <p:cNvPicPr/>
            <p:nvPr/>
          </p:nvPicPr>
          <p:blipFill>
            <a:blip r:embed="rId2"/>
            <a:stretch/>
          </p:blipFill>
          <p:spPr>
            <a:xfrm>
              <a:off x="279360" y="5780160"/>
              <a:ext cx="858528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E12-4291-443A-833E-E487C7499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body"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2209680" indent="-38088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2209680" indent="-38088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88d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281160" y="304920"/>
            <a:ext cx="8584920" cy="6248160"/>
            <a:chOff x="281160" y="304920"/>
            <a:chExt cx="8584920" cy="6248160"/>
          </a:xfrm>
        </p:grpSpPr>
        <p:sp>
          <p:nvSpPr>
            <p:cNvPr id="61" name="Rectangle 3"/>
            <p:cNvSpPr/>
            <p:nvPr/>
          </p:nvSpPr>
          <p:spPr>
            <a:xfrm>
              <a:off x="7467840" y="304920"/>
              <a:ext cx="1371240" cy="1371600"/>
            </a:xfrm>
            <a:prstGeom prst="rect">
              <a:avLst/>
            </a:prstGeom>
            <a:solidFill>
              <a:srgbClr val="d7d7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7467840" y="1676520"/>
              <a:ext cx="1371240" cy="1371600"/>
            </a:xfrm>
            <a:prstGeom prst="rect">
              <a:avLst/>
            </a:prstGeom>
            <a:solidFill>
              <a:srgbClr val="d7d7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7467840" y="3048120"/>
              <a:ext cx="1371240" cy="1371600"/>
            </a:xfrm>
            <a:prstGeom prst="rect">
              <a:avLst/>
            </a:prstGeom>
            <a:solidFill>
              <a:srgbClr val="d7d7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7467840" y="4419720"/>
              <a:ext cx="1371240" cy="1371600"/>
            </a:xfrm>
            <a:prstGeom prst="rect">
              <a:avLst/>
            </a:prstGeom>
            <a:solidFill>
              <a:srgbClr val="d7d7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6095880" y="304920"/>
              <a:ext cx="1371600" cy="13716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4724280" y="304920"/>
              <a:ext cx="1371240" cy="13716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2531880" y="304920"/>
              <a:ext cx="2192400" cy="13716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316080" y="304920"/>
              <a:ext cx="2227320" cy="13716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pic>
          <p:nvPicPr>
            <p:cNvPr id="69" name="Picture 11" descr="motorway image"/>
            <p:cNvPicPr/>
            <p:nvPr/>
          </p:nvPicPr>
          <p:blipFill>
            <a:blip r:embed="rId2"/>
            <a:stretch/>
          </p:blipFill>
          <p:spPr>
            <a:xfrm>
              <a:off x="314640" y="1689120"/>
              <a:ext cx="7141320" cy="411480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pic>
          <p:nvPicPr>
            <p:cNvPr id="70" name="Picture 12" descr="banner"/>
            <p:cNvPicPr/>
            <p:nvPr/>
          </p:nvPicPr>
          <p:blipFill>
            <a:blip r:embed="rId3"/>
            <a:stretch/>
          </p:blipFill>
          <p:spPr>
            <a:xfrm>
              <a:off x="281160" y="5761080"/>
              <a:ext cx="85849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Line 13"/>
          <p:cNvSpPr/>
          <p:nvPr/>
        </p:nvSpPr>
        <p:spPr>
          <a:xfrm>
            <a:off x="7454880" y="316080"/>
            <a:ext cx="0" cy="548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2209680" indent="-38088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2209680" indent="-38088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88dd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708-75A7-43AE-BAF9-64CB4E16C02D}" type="slidenum"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l.mortimer@transport.govt.n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072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1488dd"/>
                </a:solidFill>
                <a:latin typeface="Arial"/>
              </a:rPr>
              <a:t>World Forum for Harmonization of Vehicle Regulations 24 – 27 June 2008 </a:t>
            </a:r>
            <a:endParaRPr b="1" lang="en-US" sz="20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25800" y="4495680"/>
            <a:ext cx="11955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68360" y="5857920"/>
            <a:ext cx="381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Leo S Mortimer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New Zealand Ministry of Transport </a:t>
            </a:r>
            <a:r>
              <a:rPr b="0" lang="en-NZ" sz="1800" spc="-1" strike="noStrike">
                <a:solidFill>
                  <a:srgbClr val="96969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6" name="Picture 5" descr="N:\Images\Transport mode images\Land\Roads\BUSYROAD.TIF"/>
          <p:cNvPicPr/>
          <p:nvPr/>
        </p:nvPicPr>
        <p:blipFill>
          <a:blip r:embed="rId1"/>
          <a:stretch/>
        </p:blipFill>
        <p:spPr>
          <a:xfrm>
            <a:off x="357120" y="135720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6360" y="0"/>
            <a:ext cx="28083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l Documen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o. WP.29-145-14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th session, 24-27 June 2008,     agenda  item 6.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Used imports entering the light fleet in 2007 :</a:t>
            </a:r>
            <a:br>
              <a:rPr sz="2400"/>
            </a:b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88dd"/>
                </a:solidFill>
                <a:latin typeface="Arial"/>
              </a:rPr>
              <a:t>Year of manufacture and fuel type_x000b_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378000" y="1407960"/>
            <a:ext cx="8388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New Zealand Fleet (cont)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4120" y="1412640"/>
            <a:ext cx="8375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w Zealand has been keen to improve the age and quality of the national fleet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ooked at introducing an age ban on used import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ayed with standards based approach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ntroduced specific standards: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rontal impact standard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missions standar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andards are set out in Land Transport Rule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Land Transport Rules as legislation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ansport Rules cover a wide range of areas, including: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oad use behaviour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affic control devices (traffic lights, signs, road marking, etc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etting of speed limit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mmercial transport licensing, including work and rest time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Vehicle standar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Land Transport Rules – Vehicle Standards 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Vehicle Standards Rules include: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vehicle equipment  (includes exhaust noise)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rontal impact standar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vehicle repair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assenger vehicle construction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eavy vehicle brake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3760" y="333000"/>
            <a:ext cx="82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Land Transport Rules Vehicle Standards (Cont</a:t>
            </a:r>
            <a:r>
              <a:rPr b="1" lang="en-NZ" sz="2000" spc="-1" strike="noStrike">
                <a:solidFill>
                  <a:srgbClr val="1488dd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4120" y="907560"/>
            <a:ext cx="8375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nd Transport Rules currently progressing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Vehicle Equipment Amendment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mmobiliser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ise 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uel Consumption Information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ole of Vehicle Marking (microdots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Land Transport Rules making process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4120" y="1213920"/>
            <a:ext cx="8375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ansport Rules are made by the Minister of Transport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ransport Rules are deemed regulations with a similar legal status to that of regulation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urrently, the making of Rules is delegated to the Minister for Transport Safet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inistry of Transport determines transport polic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development of Rules is done by Land Transport NZ, which drafts them in plain language to reach a wide audience and carries out consultation on behalf of the Minister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88dd"/>
                </a:solidFill>
                <a:latin typeface="Arial"/>
              </a:rPr>
              <a:t>Land Transport Rules Development Process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215200" cy="4500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857232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Key features of the Rules process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4120" y="1143000"/>
            <a:ext cx="837576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binet approves annual Rules development programme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oT and Land Transport NZ work together on development of policy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orking group of technical experts may be set up to advise on the rule’s development, and a consultation paper sent out for comment by interested group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and Transport NZ drafts Rule and manages consultation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ule redrafted following consultation for MoT and Regulations Review Committee scrutin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Land Transport Rules Development (cont)e 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aking Land Transport Rules can take from 8 months to 3 year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 few years back that would have been from 18 months to 5 + year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ast track rules - Technical /minor change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mendment Rules – revising existing Rule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w Land Transport Rule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ften the delay is process driven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Matters to be taken into account by the Minister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nature of the proposed activity or service for which the Rule is being made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level of risk existing to land transport safety, and the need to maintain and improve land transport safety and securit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costs of implementing measures proposed in the Rule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international circumstances in respect of land transport safety; a rule must not be inconsistent with New Zealand’s international obligation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3760" y="285480"/>
            <a:ext cx="8402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1488dd"/>
                </a:solidFill>
                <a:latin typeface="Arial"/>
              </a:rPr>
              <a:t>Where in the World is New Zealand</a:t>
            </a:r>
            <a:endParaRPr b="1" lang="en-US" sz="2800" spc="-1" strike="noStrike">
              <a:solidFill>
                <a:srgbClr val="1488dd"/>
              </a:solidFill>
              <a:latin typeface="Arial"/>
            </a:endParaRPr>
          </a:p>
        </p:txBody>
      </p:sp>
      <p:pic>
        <p:nvPicPr>
          <p:cNvPr id="119" name="Picture 7" descr="http://www.mapworld.co.nz/maps/world/upsidedown.jpg"/>
          <p:cNvPicPr/>
          <p:nvPr/>
        </p:nvPicPr>
        <p:blipFill>
          <a:blip r:embed="rId1"/>
          <a:stretch/>
        </p:blipFill>
        <p:spPr>
          <a:xfrm>
            <a:off x="285840" y="1000080"/>
            <a:ext cx="8572320" cy="5000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Matters to be taken into account by the Minister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hether the proposed Rule: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ts val="43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ssists economic development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ts val="43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mproves access and mobilit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ts val="43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rotects and promotes public health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ts val="43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nsures environmental sustainability.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Key features of the Rules process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b4d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llowing noting by Cabinet, Minister signs the Rule into law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ule becomes law 28 days after gazetting or on date specified in rule.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n the main, Rules will provide for a reasonable lead in time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inal Rules subject to disallowance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b4d2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Proposed Rule changes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re has been a keenness by governments to improve the Rule making proces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ule making takes too long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  able to respond immediately to change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inisters and industry get frustrated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Proposed Rule changes (cont)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rovide greater flexibility to the consultative proces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rovide greater flexibility to notification requirement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nclude additional urgent Rule making power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ntinue to improve administrative proces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Fast technical &amp; minor changes)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New Zealand Land Transport Rules development process has become more efficient over recent year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ule development process accepted by the industr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oliticians would like to be able to make changes quicker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hanges proposed  will meet that expectation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3760" y="609120"/>
            <a:ext cx="82422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endParaRPr b="1" lang="en-US" sz="40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4120" y="1571400"/>
            <a:ext cx="83757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Leo S Mortimer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anager Land Safety Legislation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inistry of Transport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ellington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w Zealand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mail  </a:t>
            </a:r>
            <a:r>
              <a:rPr b="1" lang="en-NZ" sz="2000" spc="-1" strike="noStrike" u="sng">
                <a:solidFill>
                  <a:srgbClr val="eaeaea"/>
                </a:solidFill>
                <a:uFillTx/>
                <a:latin typeface="Arial"/>
                <a:hlinkClick r:id="rId1"/>
              </a:rPr>
              <a:t>l.mortimer@transport.govt.nz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www.transport.govt.nz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4" descr="NZ Map.bmp"/>
          <p:cNvPicPr/>
          <p:nvPr/>
        </p:nvPicPr>
        <p:blipFill>
          <a:blip r:embed="rId1"/>
          <a:stretch/>
        </p:blipFill>
        <p:spPr>
          <a:xfrm>
            <a:off x="285840" y="285840"/>
            <a:ext cx="6643440" cy="621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Annual Report 07 877.jpg"/>
          <p:cNvPicPr/>
          <p:nvPr/>
        </p:nvPicPr>
        <p:blipFill>
          <a:blip r:embed="rId2"/>
          <a:stretch/>
        </p:blipFill>
        <p:spPr>
          <a:xfrm>
            <a:off x="6929280" y="285840"/>
            <a:ext cx="1857600" cy="14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Annual Report 07 881.jpg"/>
          <p:cNvPicPr/>
          <p:nvPr/>
        </p:nvPicPr>
        <p:blipFill>
          <a:blip r:embed="rId3"/>
          <a:stretch/>
        </p:blipFill>
        <p:spPr>
          <a:xfrm>
            <a:off x="6929280" y="1714680"/>
            <a:ext cx="1857600" cy="13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Annual Report 2006 disc 1 069.jpg"/>
          <p:cNvPicPr/>
          <p:nvPr/>
        </p:nvPicPr>
        <p:blipFill>
          <a:blip r:embed="rId4"/>
          <a:stretch/>
        </p:blipFill>
        <p:spPr>
          <a:xfrm>
            <a:off x="6929280" y="307188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nnual Report 2006 disc 2 035.jpg"/>
          <p:cNvPicPr/>
          <p:nvPr/>
        </p:nvPicPr>
        <p:blipFill>
          <a:blip r:embed="rId5"/>
          <a:stretch/>
        </p:blipFill>
        <p:spPr>
          <a:xfrm>
            <a:off x="6929280" y="4500720"/>
            <a:ext cx="185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5560" y="356760"/>
            <a:ext cx="81723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New Zealand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pic>
        <p:nvPicPr>
          <p:cNvPr id="127" name="Content Placeholder 4" descr="NZ Map.bmp"/>
          <p:cNvPicPr/>
          <p:nvPr/>
        </p:nvPicPr>
        <p:blipFill>
          <a:blip r:embed="rId1"/>
          <a:stretch/>
        </p:blipFill>
        <p:spPr>
          <a:xfrm>
            <a:off x="285840" y="285840"/>
            <a:ext cx="6643440" cy="6286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Annual Report 07 877.jpg"/>
          <p:cNvPicPr/>
          <p:nvPr/>
        </p:nvPicPr>
        <p:blipFill>
          <a:blip r:embed="rId2"/>
          <a:stretch/>
        </p:blipFill>
        <p:spPr>
          <a:xfrm>
            <a:off x="6929280" y="285840"/>
            <a:ext cx="1857600" cy="140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Annual Report 07 881.jpg"/>
          <p:cNvPicPr/>
          <p:nvPr/>
        </p:nvPicPr>
        <p:blipFill>
          <a:blip r:embed="rId3"/>
          <a:stretch/>
        </p:blipFill>
        <p:spPr>
          <a:xfrm>
            <a:off x="6929280" y="1714680"/>
            <a:ext cx="1857600" cy="13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Annual Report 2006 disc 1 069.jpg"/>
          <p:cNvPicPr/>
          <p:nvPr/>
        </p:nvPicPr>
        <p:blipFill>
          <a:blip r:embed="rId4"/>
          <a:stretch/>
        </p:blipFill>
        <p:spPr>
          <a:xfrm>
            <a:off x="6929280" y="307188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nual Report 2006 disc 2 035.jpg"/>
          <p:cNvPicPr/>
          <p:nvPr/>
        </p:nvPicPr>
        <p:blipFill>
          <a:blip r:embed="rId5"/>
          <a:stretch/>
        </p:blipFill>
        <p:spPr>
          <a:xfrm>
            <a:off x="6929280" y="4500720"/>
            <a:ext cx="185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Outline of New Zealand Structure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4120" y="1356840"/>
            <a:ext cx="837576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1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93,000 km of sealed roads, of which 11,000km are State highway and 82,000 km are local roa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1,000 km of State highway – 170km are classed as motorway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mated 38 billion vehicle kilometres travelled (VKt) in New Zealand – 50% of this is on State highway network.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e Highway 1 south of Auckland is busiest carrying 200,000 vehicles per day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New Zealand structure (cont)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4120" y="1412640"/>
            <a:ext cx="8375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147,642  Licensed driver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6,474  hold a motor cycle licence.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will have both) 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704,870). Registered and licensed Motor Vehicles, which includes: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123 mope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,048 motor cycle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ccff33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557,745 cars/vans/utes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03030"/>
                </a:solidFill>
                <a:latin typeface="Arial"/>
              </a:rPr>
              <a:t>(as at 30 May 2008) 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ew Zealand: Road Trauma overview 1990-2007</a:t>
            </a:r>
            <a:br>
              <a:rPr sz="2400"/>
            </a:b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4120" y="1413000"/>
            <a:ext cx="8375760" cy="424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643960" cy="4429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28584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orld Harmonisation of Global Standards (WP29) – June 2008</a:t>
            </a:r>
            <a:r>
              <a:rPr b="0" lang="en-N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3760" y="609480"/>
            <a:ext cx="824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1488dd"/>
                </a:solidFill>
                <a:latin typeface="Arial"/>
              </a:rPr>
              <a:t>New Zealand Fleet</a:t>
            </a:r>
            <a:endParaRPr b="1" lang="en-US" sz="2400" spc="-1" strike="noStrike">
              <a:solidFill>
                <a:srgbClr val="1488dd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413000"/>
            <a:ext cx="8375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w Zealand does not have a vehicle manufacture or assembly industry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ew Zealand accepts all vehicles made to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uropean, Japanese ,  Australian or United States standard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majority of imported vehicles entering the New Zealand fleet are used import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4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3399ff"/>
                </a:solidFill>
                <a:latin typeface="Arial"/>
                <a:ea typeface="Arial"/>
              </a:rPr>
              <a:t>Origins of light vehicles entering the fleet in 2007</a:t>
            </a:r>
            <a:endParaRPr b="1" lang="en-US" sz="2000" spc="-1" strike="noStrike">
              <a:solidFill>
                <a:srgbClr val="1488dd"/>
              </a:solidFill>
              <a:latin typeface="Arial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281160" y="1066680"/>
            <a:ext cx="85816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50:11Z</dcterms:created>
  <dc:creator/>
  <dc:description/>
  <dc:language>en-US</dc:language>
  <cp:lastModifiedBy>Gianotti</cp:lastModifiedBy>
  <cp:lastPrinted>2004-12-07T22:06:45Z</cp:lastPrinted>
  <dcterms:modified xsi:type="dcterms:W3CDTF">2008-06-25T10:08:58Z</dcterms:modified>
  <cp:revision>366</cp:revision>
  <dc:subject/>
  <dc:title>Research and Statistics</dc:title>
</cp:coreProperties>
</file>