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Click to move the slide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3458F6-4DBA-4402-80A5-831BAA59E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A does the labeling, NHTSA does the 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CCF-5ADF-4394-8BF5-10CD5A12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C8B-98DB-4E63-BBCB-5F428780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F83-8651-46EC-A606-FC9907FC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A17-6DE9-4922-B180-C17CD054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13F44-214B-44EE-8B39-D529292DAB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323D0-A49A-4A22-A0E2-8C64574AC8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97E6E-57FC-4E89-9D76-219113C304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F9039-F7D1-4B07-9E9B-6268EF5452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FE0F6-42C2-47CA-92EC-D3C55A5B6F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5C1CD-AFA0-4210-8026-6830A8DDCF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AF8AA-53E8-42C2-A802-57A776E4A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6D1-D6DB-4890-92D5-7728C65A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F31FD-D40E-4C5B-872F-9A0E00881A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F6D04-30E3-483D-9CFE-12F0F17322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6088B-7EBA-4FFE-8BFD-1F0957B720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209A7-A4B2-4B47-8A02-837C450B33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F8F84-3903-4B81-A1AF-92B6F4D07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12E-7EE2-4A94-9107-97E1245E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9C8-5D74-4419-A1AD-FA7AD624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0AF-E4F6-444F-9ED9-DF8E36EA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7CF-352A-49CD-9E28-B9A3AFB5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823-9669-4B9C-A6F2-4B238B6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A46-5896-4EED-8E0A-FFB9F449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D15-995B-4477-A2A2-CE33FE31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19320" y="0"/>
            <a:ext cx="7924680" cy="1447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d4d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ootlight MT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ootlight MT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ootlight MT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F35-3D74-4D75-85F0-1739E33F2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12503" r="0" b="9376"/>
          <a:stretch/>
        </p:blipFill>
        <p:spPr>
          <a:xfrm>
            <a:off x="0" y="0"/>
            <a:ext cx="1224000" cy="1447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219320" y="0"/>
            <a:ext cx="0" cy="144792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57913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752480"/>
            <a:ext cx="556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C151-2C81-45DD-8E03-85A2CAD91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0"/>
            <a:ext cx="3352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2820960" cy="426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203040"/>
            <a:ext cx="1422360" cy="806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ootlight MT Light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Footlight MT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ootlight MT Ligh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ootlight MT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ootlight MT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752480"/>
            <a:ext cx="556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Corporate Average Fuel Economy Rulemaking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556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ootlight MT Light"/>
              </a:rPr>
              <a:t>National Highway Traffic Safety Administration</a:t>
            </a:r>
            <a:endParaRPr b="0" lang="en-US" sz="3200" spc="-1" strike="noStrike">
              <a:solidFill>
                <a:srgbClr val="808080"/>
              </a:solidFill>
              <a:latin typeface="Footlight MT Light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228600"/>
            <a:ext cx="28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formal Document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No. WP.29-145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5th session, 24-27 June 2008,     agenda  item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55435-43DC-4EF9-AB85-134130A587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NHTSA’s Proposal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Use model developed by the Volpe Center in Cambridge MA.  Same model used by agency to develop reformed truck standards in 2006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Manufacturers product plans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Updated list of technologies and associated costs and benefits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Updated economic, energy and environmental assumptions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dd technologies to all the vehicles of the seven largest manufacturers until the marginal cost of the technology is just equal to the marginal benefits (energy and environmental benefits)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57D-E96D-4BE7-9C49-C0F8EEB8FE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Passenger Car Standards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603440"/>
            <a:ext cx="7350120" cy="502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6CB-3846-4145-9CEA-4BB6477EEF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Light Truck Standards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1603440"/>
            <a:ext cx="7350120" cy="502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EDC-0DD2-4762-AF01-B3F95AC7A3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Proposed Levels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5018040"/>
        </p:xfrm>
        <a:graphic>
          <a:graphicData uri="http://schemas.openxmlformats.org/drawingml/2006/table">
            <a:tbl>
              <a:tblPr/>
              <a:tblGrid>
                <a:gridCol w="2438280"/>
                <a:gridCol w="1752840"/>
                <a:gridCol w="1981080"/>
                <a:gridCol w="20574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mp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Light Tr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mp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Combi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mp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0 (BA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9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8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8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Average Annual Increas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4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A6E-C7F2-49A3-9074-23DE31B453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Observations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he 4.5% rate of increase for 2011-2015 standards substanti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exceeds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the 3.3 % average annual increase that would be required to meet the 35 mpg level of EISA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Only need 2.1% average annual increase for combined fleet from 2016 onward to reach the required level of 35 mpg by 2020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Proposal delivers significant benefits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Would save 54.7 billion gallons of fuel over the lifetime of these vehicles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For comparison, the 2008-2011 light truck rule saved 7.8 billion gallons of fuel over the lifetime of the vehicles</a:t>
            </a: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Would reduce vehicle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Footlight MT Light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emissions by 521 million metric tons over the lifetime of the vehicles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Costs are also significant - $46.75 Billion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he proposed levels are extremely cost-beneficial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126-544E-453F-8798-AF1F34FE78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Footlight MT Light"/>
              </a:rPr>
              <a:t> </a:t>
            </a:r>
            <a:r>
              <a:rPr b="0" lang="en-US" sz="3800" spc="-1" strike="noStrike">
                <a:solidFill>
                  <a:srgbClr val="cc6600"/>
                </a:solidFill>
                <a:latin typeface="Footlight MT Light"/>
              </a:rPr>
              <a:t>Estimated Costs and Benefits</a:t>
            </a:r>
            <a:br>
              <a:rPr sz="3800"/>
            </a:br>
            <a:r>
              <a:rPr b="0" lang="en-US" sz="3800" spc="-1" strike="noStrike">
                <a:solidFill>
                  <a:srgbClr val="cc6600"/>
                </a:solidFill>
                <a:latin typeface="Footlight MT Light"/>
              </a:rPr>
              <a:t>Passenger Cars ($millions)</a:t>
            </a:r>
            <a:endParaRPr b="0" lang="en-US" sz="3800" spc="-1" strike="noStrike">
              <a:solidFill>
                <a:srgbClr val="cc6600"/>
              </a:solidFill>
              <a:latin typeface="Footlight MT Ligh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600200"/>
          <a:ext cx="8077320" cy="5029200"/>
        </p:xfrm>
        <a:graphic>
          <a:graphicData uri="http://schemas.openxmlformats.org/drawingml/2006/table">
            <a:tbl>
              <a:tblPr/>
              <a:tblGrid>
                <a:gridCol w="1271160"/>
                <a:gridCol w="1036440"/>
                <a:gridCol w="1154160"/>
                <a:gridCol w="1153440"/>
                <a:gridCol w="1154160"/>
                <a:gridCol w="1153080"/>
                <a:gridCol w="1154880"/>
              </a:tblGrid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Model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1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,5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4,9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6,1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7,8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9,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0,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1,8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,3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,8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,7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4,8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15,7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Net 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,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,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4,0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4,5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15,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Average Car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$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$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$4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$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$6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DF3-EF7D-4742-9E13-3D583A42DD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Footlight MT Light"/>
              </a:rPr>
              <a:t> </a:t>
            </a:r>
            <a:r>
              <a:rPr b="0" lang="en-US" sz="3800" spc="-1" strike="noStrike">
                <a:solidFill>
                  <a:srgbClr val="cc6600"/>
                </a:solidFill>
                <a:latin typeface="Footlight MT Light"/>
              </a:rPr>
              <a:t>Estimated Costs and Benefits</a:t>
            </a:r>
            <a:br>
              <a:rPr sz="3800"/>
            </a:br>
            <a:r>
              <a:rPr b="0" lang="en-US" sz="3800" spc="-1" strike="noStrike">
                <a:solidFill>
                  <a:srgbClr val="cc6600"/>
                </a:solidFill>
                <a:latin typeface="Footlight MT Light"/>
              </a:rPr>
              <a:t>Light Trucks ($millions)</a:t>
            </a:r>
            <a:endParaRPr b="0" lang="en-US" sz="3800" spc="-1" strike="noStrike">
              <a:solidFill>
                <a:srgbClr val="cc6600"/>
              </a:solidFill>
              <a:latin typeface="Footlight MT Light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9480" y="1600200"/>
          <a:ext cx="8077320" cy="5057640"/>
        </p:xfrm>
        <a:graphic>
          <a:graphicData uri="http://schemas.openxmlformats.org/drawingml/2006/table">
            <a:tbl>
              <a:tblPr/>
              <a:tblGrid>
                <a:gridCol w="1271880"/>
                <a:gridCol w="1036440"/>
                <a:gridCol w="1154160"/>
                <a:gridCol w="1152360"/>
                <a:gridCol w="1154160"/>
                <a:gridCol w="1154160"/>
                <a:gridCol w="1154160"/>
              </a:tblGrid>
              <a:tr h="808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Model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011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,9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8,7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13,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14,9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16,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57,3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1,6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4,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7,3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8,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8,7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0,9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Net 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,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3,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6,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6,7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7,4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26,4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Average Truck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$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$6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$8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$9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ootlight MT Light"/>
                        </a:rPr>
                        <a:t>$9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93E-C788-481E-828B-67E9C63895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EISA Credit Trading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EISA recognizes the significance of its requirement for a 40% increase in U.S. new vehicle fuel economy by 2020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Provides significant additional flexibility by adding greater use of credits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Three significant new provisions for use of credits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22F-2C57-422B-AC68-2672C6D92C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EISA Credit Trading (Cont’d)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Companies can now carry credits forward for 5 years, instead of the 3 years previously specified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Encourages early introduction of technology and gives incentive for over-compliance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Companies can now sell their credits to other companies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No limit to how much any company can rely on traded credits to raise its CAFE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Trading must be set up so as to “preserve total oil savings”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Companies can now transfer credits between their car and truck fleets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Can only transfer credits earned in 2011 or later years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otlight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Transfers are capped at 1 mpg for 2011-2013, 1.4 mpg 2014-2017, and 2 mpg for 2018 and beyond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9E5-EB30-4492-85F4-8BC703624D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Footlight MT Light"/>
              </a:rPr>
              <a:t>Proposed Credit Trading Program</a:t>
            </a:r>
            <a:endParaRPr b="0" lang="en-US" sz="40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DOT is an accountant not a bank – we won’t pay interest or make loans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ll manufacturers need to have an account with NHTSA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nyone can buy credits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ll trades are worked out between manufacturers and/or other credit holders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ach credit will be identified by the year in which it was earned, the manufacturer who earned it and the fleet from which it was earned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648-8FAD-4E88-AD13-AFA602D846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CAFE History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HTSA regulating CAFE under the guidance provided by Congress in the Energy Policy and Conservation Act (EPCA)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1975:  Added Title V (Improving Automotive Efficiency) to Motor Vehicle Information and Cost Savings Act in response to ’73-’74 Oil Embargo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stablished CAFE standards for cars and light trucks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doubled CAFE for cars by 1985 to 27.5 mpg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otlight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did not specify fuel economy number for light trucks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DEC-E100-4CD9-9C43-83F55F80FD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1974 Pontiac Bonneville 2dr"/>
          <p:cNvPicPr/>
          <p:nvPr/>
        </p:nvPicPr>
        <p:blipFill>
          <a:blip r:embed="rId1"/>
          <a:stretch/>
        </p:blipFill>
        <p:spPr>
          <a:xfrm>
            <a:off x="152280" y="1600200"/>
            <a:ext cx="601992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Piece of History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76360" y="4571640"/>
            <a:ext cx="5562360" cy="20574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In 1975, there were almost 18 million pick-up trucks on the road, making up 15% of the passenger vehicles.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89A-FCA9-4A56-B3DC-380ACA19FF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CAFE Standards Development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tandards had to be set at “maximum feasible” level for each model year by taking into consideration: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echnological feasibility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conomic practicability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ffect of other standards on fuel economy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Need of the nation to conserve energy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HTSA must also consider impact of CAFE standards on safety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DE6-9B3C-4B17-B2D4-075A01C92F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CAFE Changes 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In 2002, a NAS study of the CAFE program recommended: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ttribute-based system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Credit trading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In 2006, NHTSA issued an attribute-based system for light trucks (2008 – 2011)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December 19, 2007, the President signed the Energy Independence and Security Act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309-2157-4399-977F-E9FC7AB13B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Footlight MT Light"/>
              </a:rPr>
              <a:t>Energy Independence and </a:t>
            </a:r>
            <a:br>
              <a:rPr sz="3600"/>
            </a:br>
            <a:r>
              <a:rPr b="0" lang="en-US" sz="3600" spc="-1" strike="noStrike">
                <a:solidFill>
                  <a:srgbClr val="cc6600"/>
                </a:solidFill>
                <a:latin typeface="Footlight MT Light"/>
              </a:rPr>
              <a:t>Security Act (EISA)</a:t>
            </a:r>
            <a:endParaRPr b="0" lang="en-US" sz="36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Requires DOT to issue car and truck standards beginning in 2011 at maximum feasible level for each year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Requires that the combined car and light truck fleet performance reach at least 35 mpg by 2020 model year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Limits any DOT rule to no more than 5 model years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NHTSA has proposed standards for 2011-2015 model years </a:t>
            </a: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B40-5349-44F5-BC8D-3AEE76059E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Footlight MT Light"/>
              </a:rPr>
              <a:t>EISA (Cont’d)</a:t>
            </a:r>
            <a:endParaRPr b="0" lang="en-US" sz="44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Footlight MT Light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standards be set based on a vehicle attribute or attributes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Gives express authority to establish a program so manufacturers can trade fuel economy credits among themselves and can transfer credits between their car and light truck fleets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1E2-D1D8-425D-89F8-55E82B2111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Footlight MT Light"/>
              </a:rPr>
              <a:t>EISA (Cont’d)</a:t>
            </a:r>
            <a:endParaRPr b="0" lang="en-US" sz="40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5680" y="1892160"/>
            <a:ext cx="839304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The National Academies of Sciences to write a report:</a:t>
            </a:r>
            <a:endParaRPr b="0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Assess technologies  to improve fuel economy of medium, heavy-duty, and work trucks --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(1 year after NHTSA contract) 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Update the assessment of technologies and their costs and effectiveness for all categories of vehicles -- (every 5 years) </a:t>
            </a:r>
            <a:endParaRPr b="0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939-7130-4CC8-9E0D-B2F50560869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Footlight MT Light"/>
              </a:rPr>
              <a:t>EISA (Cont’d)</a:t>
            </a:r>
            <a:endParaRPr b="0" lang="en-US" sz="4000" spc="-1" strike="noStrike">
              <a:solidFill>
                <a:srgbClr val="cc6600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Additional Requirements--NHTSA: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onduct a study to develop recommendations regarding the setting of standards for medium and heavy duty vehicles and work trucks (1 year after the NAS study) 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Promulgate regulations for medium and heavy duty vehicles and work trucks (within 2 years after the NHTSA study) 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Develop and label automobile fuel economy and greenhouse gas emission rating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bel automobiles about capability of operating on alternative fuel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mplement educational program about alternative fuels and how to maximize fuel savings</a:t>
            </a: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stablish national tire fuel efficiency rating system for replacement tires (December 2009)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86B-3E99-47E8-AE02-1DC3ED4325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7:51:23Z</dcterms:created>
  <dc:creator>debbie.ascone</dc:creator>
  <dc:description/>
  <dc:language>en-US</dc:language>
  <cp:lastModifiedBy>Gianotti</cp:lastModifiedBy>
  <dcterms:modified xsi:type="dcterms:W3CDTF">2008-06-25T10:04:32Z</dcterms:modified>
  <cp:revision>26</cp:revision>
  <dc:subject/>
  <dc:title>Energy Independence and Security Act (EISA) </dc:title>
</cp:coreProperties>
</file>