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63E761-CA3E-487C-9E3E-670BF76D5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Vehicles are changing rapidly.  Drivers are not changing. There is a concern that drivers might be confused by the various types and permutations of warning systems on the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D40E64-8C61-442E-99BC-0F6262326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gvall describes five stages in the sequence of events leading up to a crash –“normal driving”, “deviation from normal driving”, “emerging situation”, “critical situation” and “crash unavoidable”. Each of these stages can be seen as defining a set of countermeasures.  So where do we start with warnings?  We decided to look at the most critical situations, the last few seconds that provide an opportunity to avoid a cr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1EE30E-9A56-438A-B8C9-3C2B35F18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5A9F7A-07C5-4854-B220-0B4559ABA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6B8177-3794-4B3D-95B5-90E8CE637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7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7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C1EC79-DC4C-4E5D-A27A-027260F98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582D59-FA58-40E2-8FA3-6FF4A2F1C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172F21-0987-499E-B868-EE010F065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AF0180-D026-4AE6-84BB-AADE2C3C7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2AA125-2A25-44DB-8FA1-8DEB93AD1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925720" y="0"/>
            <a:ext cx="6186600" cy="635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21680" y="6541920"/>
            <a:ext cx="88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WP.29 ITS Informal Group 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 IHRA  Nov 2008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Marlett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75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75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1"/>
          </p:nvPr>
        </p:nvSpPr>
        <p:spPr>
          <a:xfrm>
            <a:off x="6629040" y="5866920"/>
            <a:ext cx="19810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65440" y="606096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1079640" cy="48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95280" y="228600"/>
            <a:ext cx="1303560" cy="263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5800" y="228600"/>
            <a:ext cx="479520" cy="250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620120" y="6477120"/>
            <a:ext cx="92556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648320"/>
            <a:ext cx="91440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tatement of Principles on the Design of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igh-Priority Warning Signa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eter Bur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HRA-I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08000" y="333360"/>
          <a:ext cx="6245280" cy="946080"/>
        </p:xfrm>
        <a:graphic>
          <a:graphicData uri="http://schemas.openxmlformats.org/drawingml/2006/table">
            <a:tbl>
              <a:tblPr/>
              <a:tblGrid>
                <a:gridCol w="3060720"/>
                <a:gridCol w="3184560"/>
              </a:tblGrid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ＭＳ 明朝"/>
                        </a:rPr>
                        <a:t>Transmitted by the representative of Canada</a:t>
                      </a:r>
                      <a:endParaRPr b="0" lang="en-US" sz="13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ＭＳ 明朝"/>
                        </a:rPr>
                        <a:t>Informal Document No.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 </a:t>
                      </a: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Tahoma"/>
                          <a:ea typeface="ＭＳ 明朝"/>
                        </a:rPr>
                        <a:t>ITS-16-05</a:t>
                      </a:r>
                      <a:endParaRPr b="0" lang="en-US" sz="17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6th session, 14 November 2008,</a:t>
                      </a:r>
                      <a:endParaRPr b="0" lang="en-US" sz="13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agenda item 4.</a:t>
                      </a:r>
                      <a:endParaRPr b="0" lang="en-US" sz="13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440000"/>
            <a:ext cx="876312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1066680" indent="-6094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rmal driving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1066680" indent="-6094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viation from normal driving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1066680" indent="-6094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erging situation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1066680" indent="-6094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ical situation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1066680" indent="-6094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ash unavoidable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106668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Integrated Safety Chain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156000" y="541008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Tingvall, 2007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3352680"/>
            <a:ext cx="914400" cy="60984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458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High-Level Warning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5388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5388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signal informing the driver of a hazardous situation, which if not corrected by an immediate action (0 to 2 seconds), will result in equipment damage and/or personal injury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5388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75560" y="4911840"/>
            <a:ext cx="2368440" cy="1882800"/>
          </a:xfrm>
          <a:prstGeom prst="rect">
            <a:avLst/>
          </a:prstGeom>
          <a:solidFill>
            <a:srgbClr val="66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25"/>
              </a:spcBef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FAILURE DUE TO:</a:t>
            </a:r>
            <a:endParaRPr b="0" lang="en-US" sz="1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Not noticed</a:t>
            </a:r>
            <a:endParaRPr b="0" lang="en-US" sz="1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Confusion</a:t>
            </a:r>
            <a:endParaRPr b="0" lang="en-US" sz="1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Misunderstood</a:t>
            </a:r>
            <a:endParaRPr b="0" lang="en-US" sz="1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Ignored it…</a:t>
            </a:r>
            <a:endParaRPr b="0" lang="en-US" sz="1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218120" y="1612800"/>
            <a:ext cx="2054160" cy="2123640"/>
            <a:chOff x="4218120" y="1612800"/>
            <a:chExt cx="2054160" cy="2123640"/>
          </a:xfrm>
        </p:grpSpPr>
        <p:sp>
          <p:nvSpPr>
            <p:cNvPr id="116" name=""/>
            <p:cNvSpPr/>
            <p:nvPr/>
          </p:nvSpPr>
          <p:spPr>
            <a:xfrm>
              <a:off x="4811760" y="2974680"/>
              <a:ext cx="663120" cy="761760"/>
            </a:xfrm>
            <a:prstGeom prst="upArrow">
              <a:avLst>
                <a:gd name="adj1" fmla="val 50000"/>
                <a:gd name="adj2" fmla="val 28719"/>
              </a:avLst>
            </a:prstGeom>
            <a:solidFill>
              <a:srgbClr val="000066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18120" y="1612800"/>
              <a:ext cx="2054160" cy="136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IMELY &amp;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PPROPRIATE 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20400"/>
            <a:ext cx="9645480" cy="920520"/>
          </a:xfrm>
          <a:prstGeom prst="rect">
            <a:avLst/>
          </a:prstGeom>
          <a:solidFill>
            <a:srgbClr val="ff3300"/>
          </a:solidFill>
          <a:ln w="9360">
            <a:solidFill>
              <a:srgbClr val="ccec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ystem performance is limited by the driver’s response to the warning</a:t>
            </a:r>
            <a:br>
              <a:rPr sz="2000"/>
            </a:br>
            <a:br>
              <a:rPr sz="1400"/>
            </a:br>
            <a:endParaRPr b="1" lang="en-US" sz="1800" spc="-1" strike="noStrike">
              <a:solidFill>
                <a:srgbClr val="0066ff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87200" y="4788000"/>
            <a:ext cx="5526000" cy="2006640"/>
            <a:chOff x="187200" y="4788000"/>
            <a:chExt cx="5526000" cy="2006640"/>
          </a:xfrm>
        </p:grpSpPr>
        <p:sp>
          <p:nvSpPr>
            <p:cNvPr id="120" name=""/>
            <p:cNvSpPr/>
            <p:nvPr/>
          </p:nvSpPr>
          <p:spPr>
            <a:xfrm>
              <a:off x="3205800" y="4788000"/>
              <a:ext cx="2507400" cy="200664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ctr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</a:rPr>
                <a:t>WARNING PERFORMANCE</a:t>
              </a: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 lvl="1" marL="320760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Sensor coverage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 lvl="1" marL="320760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Sensor reliability 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 lvl="1" marL="320760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Sensor accuracy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 lvl="1" marL="320760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Warning decision logi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 lvl="1" marL="320760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Warning itself  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7200" y="4788000"/>
              <a:ext cx="3018600" cy="200664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ctr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</a:rPr>
                <a:t>WARNING FUNCTION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Senses road traffic environment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Filters &amp; processes information 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 lvl="1" marL="320760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for hazard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Calculates severity &amp; urgency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buClr>
                  <a:srgbClr val="d83900"/>
                </a:buClr>
                <a:buFont typeface="Wingdings" charset="2"/>
                <a:buChar char="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Issues warning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693760" y="1722600"/>
            <a:ext cx="4863240" cy="3065400"/>
            <a:chOff x="5693760" y="1722600"/>
            <a:chExt cx="4863240" cy="3065400"/>
          </a:xfrm>
        </p:grpSpPr>
        <p:sp>
          <p:nvSpPr>
            <p:cNvPr id="123" name=""/>
            <p:cNvSpPr/>
            <p:nvPr/>
          </p:nvSpPr>
          <p:spPr>
            <a:xfrm>
              <a:off x="5713560" y="1722600"/>
              <a:ext cx="4843440" cy="3065400"/>
            </a:xfrm>
            <a:prstGeom prst="irregularSeal2">
              <a:avLst/>
            </a:prstGeom>
            <a:solidFill>
              <a:srgbClr val="66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NING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AILURE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 response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appropriate response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low response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188800">
              <a:off x="5851440" y="3598560"/>
              <a:ext cx="662760" cy="939960"/>
            </a:xfrm>
            <a:prstGeom prst="upArrow">
              <a:avLst>
                <a:gd name="adj1" fmla="val 50000"/>
                <a:gd name="adj2" fmla="val 35456"/>
              </a:avLst>
            </a:prstGeom>
            <a:solidFill>
              <a:srgbClr val="000066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7520" y="3804120"/>
            <a:ext cx="2226240" cy="671760"/>
            <a:chOff x="1667520" y="3804120"/>
            <a:chExt cx="2226240" cy="671760"/>
          </a:xfrm>
        </p:grpSpPr>
        <p:sp>
          <p:nvSpPr>
            <p:cNvPr id="126" name=""/>
            <p:cNvSpPr/>
            <p:nvPr/>
          </p:nvSpPr>
          <p:spPr>
            <a:xfrm rot="5362200">
              <a:off x="1720800" y="3758400"/>
              <a:ext cx="663480" cy="762840"/>
            </a:xfrm>
            <a:prstGeom prst="upArrow">
              <a:avLst>
                <a:gd name="adj1" fmla="val 50000"/>
                <a:gd name="adj2" fmla="val 28744"/>
              </a:avLst>
            </a:prstGeom>
            <a:solidFill>
              <a:srgbClr val="000066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34320" y="3837240"/>
              <a:ext cx="1459440" cy="6084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NING 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90160" y="3065400"/>
            <a:ext cx="2763000" cy="1846440"/>
            <a:chOff x="3890160" y="3065400"/>
            <a:chExt cx="2763000" cy="1846440"/>
          </a:xfrm>
        </p:grpSpPr>
        <p:sp>
          <p:nvSpPr>
            <p:cNvPr id="129" name=""/>
            <p:cNvSpPr/>
            <p:nvPr/>
          </p:nvSpPr>
          <p:spPr>
            <a:xfrm>
              <a:off x="3894120" y="3065400"/>
              <a:ext cx="2759040" cy="1846440"/>
            </a:xfrm>
            <a:prstGeom prst="irregularSeal2">
              <a:avLst/>
            </a:prstGeom>
            <a:solidFill>
              <a:srgbClr val="ff33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NING!</a:t>
              </a: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endParaRPr b="0" lang="en-US" sz="17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362200">
              <a:off x="3943440" y="3758040"/>
              <a:ext cx="662760" cy="762120"/>
            </a:xfrm>
            <a:prstGeom prst="upArrow">
              <a:avLst>
                <a:gd name="adj1" fmla="val 50000"/>
                <a:gd name="adj2" fmla="val 28748"/>
              </a:avLst>
            </a:prstGeom>
            <a:solidFill>
              <a:srgbClr val="000066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90520" y="3736800"/>
            <a:ext cx="1641600" cy="804960"/>
          </a:xfrm>
          <a:prstGeom prst="rect">
            <a:avLst/>
          </a:prstGeom>
          <a:solidFill>
            <a:srgbClr val="ff99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ZAR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90520" y="1612800"/>
          <a:ext cx="3246480" cy="21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612800"/>
                    <a:ext cx="324648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Factors mediating warning effectivenes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100584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picuit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river frustration and annoyance 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ectanc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requency of warnings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 differences and condit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ponse options/ uncertaint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ust 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ingness and/or ability to compl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39312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Crash avoidance response option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927000" indent="-53316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mediate hard braking.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927000" indent="-53316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mediate steering manoeuvre.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927000" indent="-53316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mediate termination of initiated or initiating action.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927000" indent="-53316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ek awareness of situation and perform one of the above responses.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927000" indent="-53316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mediate decision to retake control by the driver.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04640" y="1143000"/>
            <a:ext cx="873936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57200"/>
            <a:ext cx="8458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Status and Scop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1003320" indent="-60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me good generic warning guidelines are available, but these need to be consolidated, promoted &amp; applied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1003320" indent="-60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HRA-ITS working group has developed these principles to support the UN-ECE WP.29 ITS informal group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1003320" indent="-60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se principles are based on a consolidation of published guidelines, research and expert opinion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1003320" indent="-60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cope – high-priority warnings on passenger vehicles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1003320" indent="-60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se principles are for the people who design and evaluate high-priority warning systems for vehicles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04640" y="1143000"/>
            <a:ext cx="873936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57200"/>
            <a:ext cx="8458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Design Princip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902880" indent="-548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s should be noticeable in the driving environment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02880" indent="-548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s should be distinguishable from other messages in the vehicle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02880" indent="-548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s should provide spatial cues to the hazard location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02880" indent="-548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s should inform the driver of the hazard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02880" indent="-548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s should elicit timely responses or decision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02880" indent="-548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ultiple warnings should be prioritized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02880" indent="-548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lse/ nuisance warning rates should be low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902880" indent="-5482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Arial"/>
              <a:buAutoNum type="arabicPeriod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n-operational system status should be displayed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14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Other considerations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 evidence of significant problems with current ITS – limited data exists on the performance of these systems in the field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 “one right way” to design warning systems – but there are wrong way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neric principles and/or guidelines and best practices for specific systems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re should be taken so as not to constrain new safety technologies because vehicle design and ITS are changing rapidly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rivers and the road traffic environment are not changing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 signals are a key component of advanced driver assistance systems. 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s IHRA-ITS document provides some basic recommendations for the design of warnings based on current practice, research and expert opinion.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99960" y="2603520"/>
            <a:ext cx="8448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f4a2f"/>
                </a:solidFill>
                <a:uFillTx/>
                <a:latin typeface="Arial"/>
              </a:rPr>
              <a:t>Thank you</a:t>
            </a:r>
            <a:r>
              <a:rPr b="1" lang="en-US" sz="40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cf4a2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90360" y="5638320"/>
            <a:ext cx="7086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 amber visual icon in the mirrors (Delphi)</a:t>
            </a:r>
            <a:endParaRPr b="0" lang="en-US" sz="24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577800"/>
            <a:ext cx="82296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00200" y="977760"/>
            <a:ext cx="6248520" cy="4060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90720" y="5562720"/>
            <a:ext cx="7086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lind Spot Detection (Ford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21560" cy="507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5638680"/>
            <a:ext cx="7086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1000"/>
          </a:bodyPr>
          <a:p>
            <a:pPr marL="370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70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rcedes Blind Spot Assi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90720" y="5562720"/>
            <a:ext cx="7086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udi’s Side Assis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90360" y="5638320"/>
            <a:ext cx="7086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 amber light in the A-pillar (Volvo)</a:t>
            </a:r>
            <a:endParaRPr b="0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609480"/>
          <a:ext cx="7162920" cy="5372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09480"/>
                    <a:ext cx="716292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3159000" cy="3554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19320" y="3693960"/>
            <a:ext cx="457200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de sensor display uni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5000" y="112680"/>
            <a:ext cx="6532560" cy="60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d839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982800"/>
            <a:ext cx="91440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marL="45252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rnings are intended to promote driver awareness and timely and appropriate responses in critical situation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252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andard warnings will improve system performance with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584000" indent="-3207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tter understanding and attention from driv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584000" indent="-3207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duced confu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1584000" indent="-32076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re accurate and consistent expect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252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d83900"/>
              </a:buClr>
              <a:buSzPct val="75000"/>
              <a:buFont typeface="Wingdings" charset="2"/>
              <a:buChar char=""/>
              <a:tabLst>
                <a:tab algn="l" pos="1303200"/>
                <a:tab algn="l" pos="2606760"/>
                <a:tab algn="l" pos="3909960"/>
                <a:tab algn="l" pos="5213520"/>
                <a:tab algn="l" pos="6516720"/>
                <a:tab algn="l" pos="7819920"/>
                <a:tab algn="l" pos="9123480"/>
                <a:tab algn="l" pos="104266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urpose of this document is to provide some basic recommendations for the design of warning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56:18Z</dcterms:created>
  <dc:creator/>
  <dc:description/>
  <dc:language>en-US</dc:language>
  <cp:lastModifiedBy>Gianotti</cp:lastModifiedBy>
  <cp:lastPrinted>2000-12-19T20:25:35Z</cp:lastPrinted>
  <dcterms:modified xsi:type="dcterms:W3CDTF">2008-11-27T10:33:01Z</dcterms:modified>
  <cp:revision>505</cp:revision>
  <dc:subject/>
  <dc:title>PowerPoint Presentation</dc:title>
</cp:coreProperties>
</file>