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194B15-788C-490D-A9AC-321D5710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Vehicles are changing rapidly.  Drivers are not changing. There is a concern that drivers might be confused by the various types and permutations of warning systems on the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49853B-62D6-4DD6-B8BF-3F5C53B8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gvall describes five stages in the sequence of events leading up to a crash –“normal driving”, “deviation from normal driving”, “emerging situation”, “critical situation” and “crash unavoidable”. Each of these stages can be seen as defining a set of countermeasures.  So where do we start with warnings?  We decided to look at the most critical situations, the last few seconds that provide an opportunity to avoid a 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8CBD61-95F1-4A8E-A8E2-650700615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633119-43ED-4E10-8C68-95C305C1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82DF7E-8711-4CAB-B9B8-50E948A65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7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0AD888-DF54-4F07-9618-5A95909B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6E5EE7-2102-40E9-856D-E62ED8782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823629-CC6D-44F8-B67C-FFF942B7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DBDA21-3388-44D5-A74C-D498BACD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91827E-6335-4644-9125-432E076DB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925720" y="0"/>
            <a:ext cx="6186600" cy="635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1680" y="6541920"/>
            <a:ext cx="88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WP.29 ITS Informal Group 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 IHRA  Nov 2008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Marlett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1"/>
          </p:nvPr>
        </p:nvSpPr>
        <p:spPr>
          <a:xfrm>
            <a:off x="6629040" y="5866920"/>
            <a:ext cx="19810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1079640" cy="4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95280" y="228600"/>
            <a:ext cx="1303560" cy="26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5800" y="228600"/>
            <a:ext cx="479520" cy="25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620120" y="6477120"/>
            <a:ext cx="9255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48320"/>
            <a:ext cx="9144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atement of Principles on the Design of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igh-Priority Warning Sign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eter Bur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8000" y="333360"/>
          <a:ext cx="6245280" cy="946080"/>
        </p:xfrm>
        <a:graphic>
          <a:graphicData uri="http://schemas.openxmlformats.org/drawingml/2006/table">
            <a:tbl>
              <a:tblPr/>
              <a:tblGrid>
                <a:gridCol w="3060720"/>
                <a:gridCol w="318456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ＭＳ 明朝"/>
                        </a:rPr>
                        <a:t>Transmitted by the representative of Canada</a:t>
                      </a:r>
                      <a:endParaRPr b="0" lang="en-US" sz="13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ＭＳ 明朝"/>
                        </a:rPr>
                        <a:t>Informal Document No.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 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ITS-16-05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6th session, 14 November 2008,</a:t>
                      </a:r>
                      <a:endParaRPr b="0" lang="en-US" sz="13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genda item 4.</a:t>
                      </a:r>
                      <a:endParaRPr b="0" lang="en-US" sz="13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440000"/>
            <a:ext cx="876312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rmal driving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iation from normal driving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ing situation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situation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ash unavoidable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ntegrated Safety Chain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156000" y="54100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ingvall, 2007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52680"/>
            <a:ext cx="914400" cy="60984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High-Level Warning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signal informing the driver of a hazardous situation, which if not corrected by an immediate action (0 to 2 seconds), will result in equipment damage and/or personal injury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75560" y="4911840"/>
            <a:ext cx="2368440" cy="1882800"/>
          </a:xfrm>
          <a:prstGeom prst="rect">
            <a:avLst/>
          </a:prstGeom>
          <a:solidFill>
            <a:srgbClr val="66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AILURE DUE TO: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Not noticed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Misunderstood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Ignored it…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218120" y="1612800"/>
            <a:ext cx="2054160" cy="2123640"/>
            <a:chOff x="4218120" y="1612800"/>
            <a:chExt cx="2054160" cy="2123640"/>
          </a:xfrm>
        </p:grpSpPr>
        <p:sp>
          <p:nvSpPr>
            <p:cNvPr id="116" name=""/>
            <p:cNvSpPr/>
            <p:nvPr/>
          </p:nvSpPr>
          <p:spPr>
            <a:xfrm>
              <a:off x="4811760" y="2974680"/>
              <a:ext cx="663120" cy="761760"/>
            </a:xfrm>
            <a:prstGeom prst="upArrow">
              <a:avLst>
                <a:gd name="adj1" fmla="val 50000"/>
                <a:gd name="adj2" fmla="val 28719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8120" y="1612800"/>
              <a:ext cx="2054160" cy="136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MELY &amp;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PPROPRIATE 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20400"/>
            <a:ext cx="9645480" cy="9205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ystem performance is limited by the driver’s response to the warning</a:t>
            </a:r>
            <a:br>
              <a:rPr sz="2000"/>
            </a:br>
            <a:br>
              <a:rPr sz="1400"/>
            </a:br>
            <a:endParaRPr b="1" lang="en-US" sz="18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7200" y="4788000"/>
            <a:ext cx="5526000" cy="2006640"/>
            <a:chOff x="187200" y="4788000"/>
            <a:chExt cx="5526000" cy="2006640"/>
          </a:xfrm>
        </p:grpSpPr>
        <p:sp>
          <p:nvSpPr>
            <p:cNvPr id="120" name=""/>
            <p:cNvSpPr/>
            <p:nvPr/>
          </p:nvSpPr>
          <p:spPr>
            <a:xfrm>
              <a:off x="3205800" y="4788000"/>
              <a:ext cx="2507400" cy="20066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WARNING PERFORMANCE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or coverage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or reliability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or accuracy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arning decision logi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arning itself 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200" y="4788000"/>
              <a:ext cx="3018600" cy="20066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WARNING FUNCTION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es road traffic environment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ilters &amp; processes information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or hazard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alculates severity &amp; urgency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Issues warning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693760" y="1722600"/>
            <a:ext cx="4863240" cy="3065400"/>
            <a:chOff x="5693760" y="1722600"/>
            <a:chExt cx="4863240" cy="3065400"/>
          </a:xfrm>
        </p:grpSpPr>
        <p:sp>
          <p:nvSpPr>
            <p:cNvPr id="123" name=""/>
            <p:cNvSpPr/>
            <p:nvPr/>
          </p:nvSpPr>
          <p:spPr>
            <a:xfrm>
              <a:off x="5713560" y="1722600"/>
              <a:ext cx="4843440" cy="3065400"/>
            </a:xfrm>
            <a:prstGeom prst="irregularSeal2">
              <a:avLst/>
            </a:prstGeom>
            <a:solidFill>
              <a:srgbClr val="66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NING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 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appropriate 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low 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188800">
              <a:off x="5851440" y="3598560"/>
              <a:ext cx="662760" cy="939960"/>
            </a:xfrm>
            <a:prstGeom prst="upArrow">
              <a:avLst>
                <a:gd name="adj1" fmla="val 50000"/>
                <a:gd name="adj2" fmla="val 35456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7520" y="3804120"/>
            <a:ext cx="2226240" cy="671760"/>
            <a:chOff x="1667520" y="3804120"/>
            <a:chExt cx="2226240" cy="671760"/>
          </a:xfrm>
        </p:grpSpPr>
        <p:sp>
          <p:nvSpPr>
            <p:cNvPr id="126" name=""/>
            <p:cNvSpPr/>
            <p:nvPr/>
          </p:nvSpPr>
          <p:spPr>
            <a:xfrm rot="5362200">
              <a:off x="1720800" y="3758400"/>
              <a:ext cx="663480" cy="762840"/>
            </a:xfrm>
            <a:prstGeom prst="upArrow">
              <a:avLst>
                <a:gd name="adj1" fmla="val 50000"/>
                <a:gd name="adj2" fmla="val 28744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4320" y="3837240"/>
              <a:ext cx="1459440" cy="6084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NING 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90160" y="3065400"/>
            <a:ext cx="2763000" cy="1846440"/>
            <a:chOff x="3890160" y="3065400"/>
            <a:chExt cx="2763000" cy="1846440"/>
          </a:xfrm>
        </p:grpSpPr>
        <p:sp>
          <p:nvSpPr>
            <p:cNvPr id="129" name=""/>
            <p:cNvSpPr/>
            <p:nvPr/>
          </p:nvSpPr>
          <p:spPr>
            <a:xfrm>
              <a:off x="3894120" y="3065400"/>
              <a:ext cx="2759040" cy="1846440"/>
            </a:xfrm>
            <a:prstGeom prst="irregularSeal2">
              <a:avLst/>
            </a:prstGeom>
            <a:solidFill>
              <a:srgbClr val="ff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NING!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362200">
              <a:off x="3943440" y="3758040"/>
              <a:ext cx="662760" cy="762120"/>
            </a:xfrm>
            <a:prstGeom prst="upArrow">
              <a:avLst>
                <a:gd name="adj1" fmla="val 50000"/>
                <a:gd name="adj2" fmla="val 28748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0520" y="3736800"/>
            <a:ext cx="1641600" cy="804960"/>
          </a:xfrm>
          <a:prstGeom prst="rect">
            <a:avLst/>
          </a:prstGeom>
          <a:solidFill>
            <a:srgbClr val="ff99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0520" y="1612800"/>
          <a:ext cx="324648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612800"/>
                    <a:ext cx="3246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Factors mediating warning effectivenes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10058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picui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 frustration and annoyance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anc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equency of warning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 differences and condi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 options/ uncertain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ust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ingness and/or ability to compl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Crash avoidance response op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hard braking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steering manoeuvre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termination of initiated or initiating action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ek awareness of situation and perform one of the above responses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cision to retake control by the driver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04640" y="1143000"/>
            <a:ext cx="8739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tatus and Scop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 good generic warning guidelines are available, but these need to be consolidated, promoted &amp; applied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HRA-ITS working group has developed these principles to support the UN-ECE WP.29 ITS informal group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principles are based on a consolidation of published guidelines, research and expert opinion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ope – high-priority warnings on passenger vehicles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principles are for the people who design and evaluate high-priority warning systems for vehicles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4640" y="1143000"/>
            <a:ext cx="8739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5720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Design Princi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be noticeable in the driving environmen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be distinguishable from other messages in the vehicl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provide spatial cues to the hazard lo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inform the driver of the hazar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elicit timely responses or decis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ltiple warnings should be prioritiz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lse/ nuisance warning rates should be low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operational system status should be display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4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Other considera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evidence of significant problems with current ITS – limited data exists on the performance of these systems in the fiel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“one right way” to design warning systems – but there are wrong way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ic principles and/or guidelines and best practices for specific system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re should be taken so as not to constrain new safety technologies because vehicle design and ITS are changing rapidl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s and the road traffic environment are not chang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signals are a key component of advanced driver assistance systems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IHRA-ITS document provides some basic recommendations for the design of warnings based on current practice, research and expert opin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9960" y="2603520"/>
            <a:ext cx="8448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Thank you</a:t>
            </a: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360" y="5638320"/>
            <a:ext cx="7086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amber visual icon in the mirrors (Delphi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577800"/>
            <a:ext cx="82296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977760"/>
            <a:ext cx="6248520" cy="4060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5562720"/>
            <a:ext cx="7086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ind Spot Detection (For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21560" cy="507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5638680"/>
            <a:ext cx="7086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370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70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rcedes Blind Spot Assi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90720" y="5562720"/>
            <a:ext cx="7086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’s Side Assi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0360" y="5638320"/>
            <a:ext cx="7086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amber light in the A-pillar (Volvo)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609480"/>
          <a:ext cx="7162920" cy="5372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16292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159000" cy="355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3693960"/>
            <a:ext cx="457200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de sensor display uni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5000" y="112680"/>
            <a:ext cx="65325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8280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45252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are intended to promote driver awareness and timely and appropriate responses in critical situ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252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ndard warnings will improve system performance with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84000" indent="-3207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tter understanding and attention from driv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84000" indent="-3207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duced confu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84000" indent="-3207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re accurate and consistent expec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252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urpose of this document is to provide some basic recommendations for the design of warning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/>
  <dc:description/>
  <dc:language>en-US</dc:language>
  <cp:lastModifiedBy>Gianotti</cp:lastModifiedBy>
  <cp:lastPrinted>2000-12-19T20:25:35Z</cp:lastPrinted>
  <dcterms:modified xsi:type="dcterms:W3CDTF">2008-11-27T10:33:01Z</dcterms:modified>
  <cp:revision>505</cp:revision>
  <dc:subject/>
  <dc:title>PowerPoint Presentation</dc:title>
</cp:coreProperties>
</file>