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9A7-544C-4D34-B1F2-2D9E50BD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878-E093-4C58-9590-440F31A9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F7E-2DE5-4FDE-9061-E09780AC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A3B-6FE6-4D10-93BD-1C43D439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BB97-B2BB-4793-9C81-399DA254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936-4189-4D19-BB30-5CB85FB3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411A-5286-45AE-87BF-A3F6E410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B662-E0E7-4064-A2C9-694659BA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3659-AC0D-47BC-91CE-85D19C7B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E5C7-FF25-49F3-BA19-4DD6267B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2ACA-B7BB-4E98-AEE1-A31B8B7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1A4-6F7C-4BF3-A8CF-27EB220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C357-6A16-4EAE-8137-0D29BEB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797-7750-4433-88BA-BDE0C46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FA3-6452-480C-BA4C-9170392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D66C-8D78-4EA8-BC96-029AB230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1FFF-D54B-4B81-BA97-2ABF22A7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4AD1-0F61-452E-BE80-74BBC52C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70B7-F709-4281-93A4-49AB8BA3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7C58-4090-4DDB-AF4B-556C2671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42AE-9C5E-4F62-956A-5EF153B1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6FE6-CE86-4175-B2E5-C954D6B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C70-93F8-4C73-8EDB-69BB2E1D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AFD0-8C6C-4677-B95E-0276A17E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EA54-EAAB-47FF-816E-B999733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8755-B4A1-466C-BD84-D81E6031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EDDD-6651-4A2C-9CE5-E1A21197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2AE3-7477-4B2B-9039-3631DF8E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7122-E0BE-4DCA-B4FB-A11F01BE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8D61-3C9B-4616-AE68-2F34EB3B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09B9-EB29-4B81-91BA-E13DB0CF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39CF-5C8B-4A8E-9AFD-0950DB53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E976-FC09-40A2-B446-EF65AFBF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990-FB95-4A82-B709-FE5B9FF6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CE12-EDD9-4740-B13D-FDD14D02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F140-FDB8-4C7D-B08E-8498B1B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944A-5F92-493A-AE5C-ADC0F3F4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F53ED-3409-4418-8303-8042E63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1F4E-F768-4392-B2E0-992EE42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26BA-F5ED-4671-B075-5A47DF03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9FB5-5CA0-4FE2-9062-20673BDC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61CB-C8A0-421B-8CD4-0CD3FB5B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D9F4-DBCB-47B9-B378-BB6F9A36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D6D24-AB88-4446-9ABD-E6790AA8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5C1-3737-4AC1-8E60-F50149B8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009A-3006-4BFD-8AAF-BA1244B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F118-51A7-48E3-88E7-647540F5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87D31-107C-49E4-830C-F45743A5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52B4-E311-451B-B35F-BC8000B2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B193-1F72-4791-94CB-02234DB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3C5F-0EAE-4906-B186-7A7BC42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62B3D-DD73-4456-A794-84081CB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40DE8-57F2-42FF-A934-9A0737E0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92D9-051F-4325-94FE-6B8A9E84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5EBE8-180B-4FD2-A4B7-C440FEEA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C61-80EF-4B73-9F2A-F2641083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0C3A-7F94-412E-9857-ECBF1934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4EBC-C7C9-4C90-A28C-F4AB989D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EA2A-86B2-4B16-80A1-929DD47E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B89C8-3163-4983-B9F3-250F2914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7F986-9A44-424B-BCC3-D4E2448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3BD9D-0DCD-43B8-BD6F-B88EDCD6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F7A6-C686-49EE-A72F-D45FBB8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7DA1-0485-4DD5-AA97-F4DCB8D5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ABAC-4A4F-4FEB-979E-4218364E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6B1C-1E95-4C8F-8FA9-1745723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483-3FC1-495F-B7B8-E71FAC8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4336F-6061-4DFF-924B-2B25296C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9D57-3D21-414B-929C-BE2BD110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07D9A-B1CB-47FC-A050-FD51F3CC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967-5EAE-4D6B-B6AE-22FFBCB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599-6813-41D7-971E-397600F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フリーフォーム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0FD-A45A-460F-933F-26E6530A384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フリーフォーム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フリーフォーム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C369-E810-4DE9-9138-ED5FBA079BF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フリーフォーム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フリーフォーム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D90-6F10-413B-96BC-600116EDF26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52AC-6193-4BFA-A87E-7CA871D3621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フリーフォーム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フリーフォーム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66A9-1581-4FD8-B35D-1F1353C8029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01C-683D-478A-AD6B-19303152F3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Brief Review up to Now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A75D-B37B-4376-B998-4F0482AC03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11280" y="3213000"/>
            <a:ext cx="79200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vember 14, 2008, Gen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CE/WP29/ITS Inform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6th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. Shima and K. Hiramat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08000" y="333360"/>
          <a:ext cx="5829480" cy="946080"/>
        </p:xfrm>
        <a:graphic>
          <a:graphicData uri="http://schemas.openxmlformats.org/drawingml/2006/table">
            <a:tbl>
              <a:tblPr/>
              <a:tblGrid>
                <a:gridCol w="2857680"/>
                <a:gridCol w="297180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明朝"/>
                        </a:rPr>
                        <a:t>Transmitted by the representative of Jap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明朝"/>
                        </a:rPr>
                        <a:t>Informal Document No.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TS-16-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th session, 14 November 2008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enda item 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13840" y="428400"/>
            <a:ext cx="8929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ts val="34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ctivities so far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24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ablished : June 200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C Round Table : February 200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reed upon continuation of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roval of TOR : November 200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27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develop common understanding of driver assistance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27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exchange of information on technology tre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27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review activity in the second year to WP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roval of Report of Two Years(2005 &amp; 2006) Activities : March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                     </a:t>
            </a: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Summay as follows : </a:t>
            </a:r>
            <a:r>
              <a:rPr b="1" i="1" lang="ja-JP" sz="3000" spc="-1" strike="noStrike">
                <a:solidFill>
                  <a:srgbClr val="ff0066"/>
                </a:solidFill>
                <a:latin typeface="Arial"/>
              </a:rPr>
              <a:t>・・・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3E65-DFE6-4AB6-B369-647FE420D59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13840" y="49968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mmon Understanding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300"/>
              </a:lnSpc>
              <a:spcBef>
                <a:spcPts val="24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ew from Driver Behavior : Assistance Type according to Human Proc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cognition assistance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gement assistance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War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peration assistance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300"/>
              </a:lnSpc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ew from Driving Sequence : Assistance Type according to Driving Cond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rmal driving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Information &amp;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ritical driving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War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-Crash(last second) driving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ADD-3EBF-4BBD-B84E-4F67C9BE45F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7FA-B047-4AD0-A482-0EF465B178C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8560" y="428760"/>
            <a:ext cx="8785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reatment of In-Vehicle ITS Technologi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Information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61720">
              <a:lnSpc>
                <a:spcPts val="2798"/>
              </a:lnSpc>
              <a:spcBef>
                <a:spcPts val="11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keep monitoring the situation of self-commitment basis guidelines in each region for a time be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Warning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61720">
              <a:lnSpc>
                <a:spcPts val="2798"/>
              </a:lnSpc>
              <a:spcBef>
                <a:spcPts val="11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maintain its cooperation with IHRA-ITS WG for getting the way to treat warning systems including HMI aspect. </a:t>
            </a:r>
            <a:r>
              <a:rPr b="1" i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i="1" lang="en-US" sz="2600" spc="-1" strike="noStrike" u="sng">
                <a:solidFill>
                  <a:srgbClr val="ff0066"/>
                </a:solidFill>
                <a:uFillTx/>
                <a:latin typeface="Arial"/>
              </a:rPr>
              <a:t>Now ongo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61720">
              <a:lnSpc>
                <a:spcPts val="2798"/>
              </a:lnSpc>
              <a:spcBef>
                <a:spcPts val="11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explore one mechanism for assessing regulatory requirements by involving G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79280" y="18900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lnSpc>
                <a:spcPct val="90000"/>
              </a:lnSpc>
              <a:spcBef>
                <a:spcPts val="15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Control :</a:t>
            </a:r>
            <a:br>
              <a:rPr sz="3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have following understanding as a base for future conside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lation of auditory or visual announcement devices providing information on the system func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ystems activated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under normal driving condi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be designed based on “Driver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nouncement is made when the driving initiative is transferred from system to driv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ver is kept involved in driving operation. For example, starting initiative should not be given to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allows switching on or off by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allows overriding by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for Control systems to reduce collision speed activated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under pre-crash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collision is no longer avoidable, there is no room for necessity of overriding and driver is not very likely to depend on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CE23-B1A6-4BAA-BE91-2EE4A30E5B8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79280" y="500040"/>
            <a:ext cx="87854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Role of ITS Informal Group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5998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Enduranc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maintain ITS Informal Group and to conduct its meeting about once a year, in particular studies on HMI through cooperation with IHRA-ITS W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Tasks in the futur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fields not covering by existing GRs or on subjects requiring strategic examin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deem at WP29 or GRs, or items across GRs for overall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citation of rule making by member country of WP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BB2-6622-41D2-AC18-D532B9607E1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B5C-F9AF-4A3E-9B2C-3BAD352F20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3120" y="428760"/>
            <a:ext cx="8570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Recent Activity of IHRA-ITS W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1599"/>
              </a:lnSpc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gress report was provided at the last WP29/ITS Informal Group Meeting in November, 200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 July 16 and 17 in 2008, IHRA-ITS WG Meeting was held in London and discussed for revis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raft proposal has been finalized as warning statements of princip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2286000"/>
            <a:ext cx="8286480" cy="213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 you for your Attention !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696-26D4-4FDB-B3F8-4C9DD86797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Gianotti</cp:lastModifiedBy>
  <cp:lastPrinted>2002-02-04T03:12:41Z</cp:lastPrinted>
  <dcterms:modified xsi:type="dcterms:W3CDTF">2008-11-27T10:16:34Z</dcterms:modified>
  <cp:revision>278</cp:revision>
  <dc:subject/>
  <dc:title>ITASSup</dc:title>
</cp:coreProperties>
</file>