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6A7-47EC-4971-8FF3-15CE4A29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3AE-5080-4999-964A-CCD38FFF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01F-5DB0-447E-A726-59580798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E23A-5589-41DC-8F27-D93B685D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47A5-2A17-4074-8F16-AD289FC3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C964-4501-45D4-914D-2BEF4E8C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BA79-C1C6-4BBC-B425-8D022685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EFA9-7CDB-4CFA-BC4C-4DEB2A0C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2FE2-BA5A-4F59-97D2-B7BDE117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DEC2-0C6D-4B04-8D36-65A39650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A217-0A68-48CD-B486-322157F4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A0CD-0E4F-43A2-A799-9BF1433D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E4BB-820F-490F-AAFE-4ED1D4C3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4289-C4A5-40C1-B031-81ACA9BA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FF74-5BAB-400E-845B-15C7A120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9BC3-A217-448C-8495-4C446DCF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03BE-5194-4C32-9DA8-1F35E9DC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0DA1F-21BC-4AFC-BA86-2CA39CD8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9C93D-59DF-4D42-BFFA-FB812BE5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0BD13-0AAA-450B-B369-C90674E0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E611E-9A3C-4E0B-BA05-A437BA4F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3F1D5-C5A7-4F8C-B1CD-82EABBE9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3E3-1A40-4A28-8F23-606A0944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67D15-E798-44BF-BCD0-0B5362CC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4C175-B21B-437C-ADFE-C47A6595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791F0-5A3D-4C3A-B2F2-B205CA89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246E-44FD-458A-BAE5-0784CE4A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B73B0-B512-4720-8885-6B72303A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D12FE-743E-4BFD-AA76-B8A2DE47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3DFD-312B-4C45-8EFF-AD2403D8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00D19-99D4-48B2-A994-5CCC8770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DF65B-6DE2-475C-803F-662573A6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97BE1-EEF8-4022-BEE3-264733AC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254-8F0E-49DE-9C9A-495B385C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FE3FB-8EE4-407D-AD0E-DF4E4161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45F3A-5D95-455E-8382-03D35801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A9F0E-B95B-470F-A06F-39C421EE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67E81-1509-43E6-9E50-33466296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84D44-CF0C-4D68-B357-811C8AED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82AB5-EA30-4A6B-B5E1-C850ACCE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43637-B9FB-40F6-94ED-DE179675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32ED3-C58F-4388-AB87-7621D8C4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B3105-A396-4062-806F-F23C9ED1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1FF8F-9F7A-4988-8DF3-1C0D8D08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5423-1EAF-42D4-A3B0-A1B3048B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5629A-64E2-4F8C-847C-99591813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FE39E-8344-4E62-BE11-7381312C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93870-36E4-45F7-AD52-027E7E7F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D73BD-62DA-4ACC-93DB-98A0E1F9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80F6A-133F-4E36-B4F0-252BFD98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3917A-1EBC-4286-8641-BF633232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57B2B-C19E-4559-BDC5-8EF186A5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5FFF9-0E08-4FF8-B14F-CE09FE4F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4D87B-4406-441D-8D23-A47B764B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DED9D-2E69-44F7-A50D-0934FAFC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E1E2-905A-467E-AB14-B88762B6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EAD48-F504-4F32-AF3A-3F406CF1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997BD-D5C4-4C90-B632-E10E236E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1F56E-D85B-4F61-AD55-0E3706F8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1503D-E1D4-4BCA-9F58-68A7E9DF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E5EF2-6B76-4F5E-9AB6-9F746C33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0C353-7315-487E-A630-6437F441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5B491-72B7-40F4-85E2-D788312F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EA30C-B1B7-4754-9E0A-596943BE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77759-DF6D-4F88-94F3-147BBE18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5B3FD-808D-446D-8E4F-311CB7E9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67D-73DF-42A4-858C-D82A65A3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2A550-A161-49B4-A719-8E3F37A3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CAE75-C0EE-4A98-B70C-57AB56DB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E7616-2526-490D-A299-70AAFA40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3845-4300-48E5-B741-C3C4A217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5BD6-7B2A-4055-9E39-7E75F276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フリーフォーム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フリーフォーム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4959-B950-47D5-96D5-54E3645F2CA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フリーフォーム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フリーフォーム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A90B-4D41-4F58-878B-8BFB60B6738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フリーフォーム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フリーフォーム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98AE-5177-4ED9-849F-3D80631B503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30AA-18A4-467D-8F3B-0F778358BD0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フリーフォーム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フリーフォーム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D69F-B485-4814-AC9C-70EF4FFD27E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B19F-3F82-4660-9BD9-B7CEFDCB593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923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Brief Review up to Now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スライド番号プレースホルダ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CD2C-5EF0-4F72-B2CF-E6157CF53F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11280" y="3213000"/>
            <a:ext cx="79200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vember 14, 2008, Gene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ECE/WP29/ITS Informal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6th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. Shima and K. Hiramats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908000" y="333360"/>
          <a:ext cx="5829480" cy="946080"/>
        </p:xfrm>
        <a:graphic>
          <a:graphicData uri="http://schemas.openxmlformats.org/drawingml/2006/table">
            <a:tbl>
              <a:tblPr/>
              <a:tblGrid>
                <a:gridCol w="2857680"/>
                <a:gridCol w="2971800"/>
              </a:tblGrid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ＭＳ 明朝"/>
                        </a:rPr>
                        <a:t>Transmitted by the representative of Jap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ＭＳ 明朝"/>
                        </a:rPr>
                        <a:t>Informal Document No.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ITS-16-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th session, 14 November 2008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genda item 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13840" y="428400"/>
            <a:ext cx="89298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lnSpc>
                <a:spcPts val="34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ctivities so far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ts val="3498"/>
              </a:lnSpc>
              <a:spcBef>
                <a:spcPts val="24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ablished : June 200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ts val="3498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TC Round Table : February 200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ts val="3498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greed upon continuation of activ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ts val="3498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pproval of TOR : November 200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ts val="2798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develop common understanding of driver assistance syste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ts val="2798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exchange of information on technology tre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ts val="2798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review activity in the second year to WP2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ts val="3498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pproval of Report of Two Years(2005 &amp; 2006) Activities : March 200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66"/>
                </a:solidFill>
                <a:latin typeface="Arial"/>
              </a:rPr>
              <a:t>                     </a:t>
            </a:r>
            <a:r>
              <a:rPr b="1" i="1" lang="en-US" sz="3000" spc="-1" strike="noStrike">
                <a:solidFill>
                  <a:srgbClr val="ff0066"/>
                </a:solidFill>
                <a:latin typeface="Arial"/>
              </a:rPr>
              <a:t>Summay as follows : </a:t>
            </a:r>
            <a:r>
              <a:rPr b="1" i="1" lang="ja-JP" sz="3000" spc="-1" strike="noStrike">
                <a:solidFill>
                  <a:srgbClr val="ff0066"/>
                </a:solidFill>
                <a:latin typeface="Arial"/>
              </a:rPr>
              <a:t>・・・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スライド番号プレースホルダ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FD6E-485A-4315-9670-505AA5B96DD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13840" y="499680"/>
            <a:ext cx="89298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ommon Understanding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ts val="3300"/>
              </a:lnSpc>
              <a:spcBef>
                <a:spcPts val="24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iew from Driver Behavior : Assistance Type according to Human Proces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ts val="33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cognition assistance </a:t>
            </a:r>
            <a:r>
              <a:rPr b="1" lang="ja-JP" sz="2600" spc="-1" strike="noStrike">
                <a:solidFill>
                  <a:srgbClr val="ffffff"/>
                </a:solidFill>
                <a:latin typeface="Arial"/>
              </a:rPr>
              <a:t>⇒ 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ts val="33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udgement assistance </a:t>
            </a:r>
            <a:r>
              <a:rPr b="1" lang="ja-JP" sz="2600" spc="-1" strike="noStrike">
                <a:solidFill>
                  <a:srgbClr val="ffffff"/>
                </a:solidFill>
                <a:latin typeface="Arial"/>
              </a:rPr>
              <a:t>⇒ 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War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ts val="33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peration assistance </a:t>
            </a:r>
            <a:r>
              <a:rPr b="1" lang="ja-JP" sz="2600" spc="-1" strike="noStrike">
                <a:solidFill>
                  <a:srgbClr val="ffffff"/>
                </a:solidFill>
                <a:latin typeface="Arial"/>
              </a:rPr>
              <a:t>⇒ 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Contr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ts val="3300"/>
              </a:lnSpc>
              <a:spcBef>
                <a:spcPts val="18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iew from Driving Sequence : Assistance Type according to Driving Cond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ts val="33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rmal driving </a:t>
            </a:r>
            <a:r>
              <a:rPr b="1" lang="ja-JP" sz="2600" spc="-1" strike="noStrike">
                <a:solidFill>
                  <a:srgbClr val="ffffff"/>
                </a:solidFill>
                <a:latin typeface="Arial"/>
              </a:rPr>
              <a:t>⇒ 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Information &amp; Contr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ts val="33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ritical driving </a:t>
            </a:r>
            <a:r>
              <a:rPr b="1" lang="ja-JP" sz="2600" spc="-1" strike="noStrike">
                <a:solidFill>
                  <a:srgbClr val="ffffff"/>
                </a:solidFill>
                <a:latin typeface="Arial"/>
              </a:rPr>
              <a:t>⇒ 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War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ts val="33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-Crash(last second) driving </a:t>
            </a:r>
            <a:r>
              <a:rPr b="1" lang="ja-JP" sz="2600" spc="-1" strike="noStrike">
                <a:solidFill>
                  <a:srgbClr val="ffffff"/>
                </a:solidFill>
                <a:latin typeface="Arial"/>
              </a:rPr>
              <a:t>⇒ 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Contr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スライド番号プレースホルダ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ED9F-4667-483B-995F-3A6940AF086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スライド番号プレースホルダ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EEEB-7933-4D21-AB4B-54AA2FB4561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58560" y="428760"/>
            <a:ext cx="8785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reatment of In-Vehicle ITS Technologies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11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66"/>
                </a:solidFill>
                <a:uFillTx/>
                <a:latin typeface="Arial"/>
              </a:rPr>
              <a:t>Information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3000" indent="-261720">
              <a:lnSpc>
                <a:spcPts val="2798"/>
              </a:lnSpc>
              <a:spcBef>
                <a:spcPts val="11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keep monitoring the situation of self-commitment basis guidelines in each region for a time be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66"/>
                </a:solidFill>
                <a:uFillTx/>
                <a:latin typeface="Arial"/>
              </a:rPr>
              <a:t>Warning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3000" indent="-261720">
              <a:lnSpc>
                <a:spcPts val="2798"/>
              </a:lnSpc>
              <a:spcBef>
                <a:spcPts val="11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maintain its cooperation with IHRA-ITS WG for getting the way to treat warning systems including HMI aspect. </a:t>
            </a:r>
            <a:r>
              <a:rPr b="1" i="1" lang="ja-JP" sz="2600" spc="-1" strike="noStrike">
                <a:solidFill>
                  <a:srgbClr val="ffffff"/>
                </a:solidFill>
                <a:latin typeface="Arial"/>
              </a:rPr>
              <a:t>⇒ </a:t>
            </a:r>
            <a:r>
              <a:rPr b="1" i="1" lang="en-US" sz="2600" spc="-1" strike="noStrike" u="sng">
                <a:solidFill>
                  <a:srgbClr val="ff0066"/>
                </a:solidFill>
                <a:uFillTx/>
                <a:latin typeface="Arial"/>
              </a:rPr>
              <a:t>Now ongo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3000" indent="-261720">
              <a:lnSpc>
                <a:spcPts val="2798"/>
              </a:lnSpc>
              <a:spcBef>
                <a:spcPts val="11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explore one mechanism for assessing regulatory requirements by involving G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79280" y="189000"/>
            <a:ext cx="87854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lnSpc>
                <a:spcPct val="90000"/>
              </a:lnSpc>
              <a:spcBef>
                <a:spcPts val="15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66"/>
                </a:solidFill>
                <a:uFillTx/>
                <a:latin typeface="Arial"/>
              </a:rPr>
              <a:t>Control :</a:t>
            </a:r>
            <a:br>
              <a:rPr sz="30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have following understanding as a base for future consider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should be designed in which driver is always held responsible for his/her driving. For this purpose followings are effec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4600" indent="-250200">
              <a:lnSpc>
                <a:spcPct val="90000"/>
              </a:lnSpc>
              <a:spcBef>
                <a:spcPts val="451"/>
              </a:spcBef>
              <a:buClr>
                <a:srgbClr val="ccaf0a"/>
              </a:buClr>
              <a:buSzPct val="8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tallation of auditory or visual announcement devices providing information on the system functio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systems activated </a:t>
            </a:r>
            <a:r>
              <a:rPr b="1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under normal driving conditio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uld be designed based on “Driver in the loop”, where driver should be involved in driving in a way or other. For this purpose followings are effec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4600" indent="-250200">
              <a:lnSpc>
                <a:spcPct val="90000"/>
              </a:lnSpc>
              <a:spcBef>
                <a:spcPts val="451"/>
              </a:spcBef>
              <a:buClr>
                <a:srgbClr val="ccaf0a"/>
              </a:buClr>
              <a:buSzPct val="8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nouncement is made when the driving initiative is transferred from system to driv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4600" indent="-250200">
              <a:lnSpc>
                <a:spcPct val="90000"/>
              </a:lnSpc>
              <a:spcBef>
                <a:spcPts val="451"/>
              </a:spcBef>
              <a:buClr>
                <a:srgbClr val="ccaf0a"/>
              </a:buClr>
              <a:buSzPct val="8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iver is kept involved in driving operation. For example, starting initiative should not be given to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4600" indent="-250200">
              <a:lnSpc>
                <a:spcPct val="90000"/>
              </a:lnSpc>
              <a:spcBef>
                <a:spcPts val="451"/>
              </a:spcBef>
              <a:buClr>
                <a:srgbClr val="ccaf0a"/>
              </a:buClr>
              <a:buSzPct val="8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allows switching on or off by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4600" indent="-250200">
              <a:lnSpc>
                <a:spcPct val="90000"/>
              </a:lnSpc>
              <a:spcBef>
                <a:spcPts val="451"/>
              </a:spcBef>
              <a:buClr>
                <a:srgbClr val="ccaf0a"/>
              </a:buClr>
              <a:buSzPct val="8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allows overriding by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lnSpc>
                <a:spcPct val="9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for Control systems to reduce collision speed activated </a:t>
            </a:r>
            <a:r>
              <a:rPr b="1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under pre-crash con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collision is no longer avoidable, there is no room for necessity of overriding and driver is not very likely to depend on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スライド番号プレースホルダ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B01E-81B8-4AB6-9F4A-496D1AABC1B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79280" y="500040"/>
            <a:ext cx="878544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Role of ITS Informal Group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ts val="5998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66"/>
                </a:solidFill>
                <a:uFillTx/>
                <a:latin typeface="Arial"/>
              </a:rPr>
              <a:t>Endurance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maintain ITS Informal Group and to conduct its meeting about once a year, in particular studies on HMI through cooperation with IHRA-ITS W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66"/>
                </a:solidFill>
                <a:uFillTx/>
                <a:latin typeface="Arial"/>
              </a:rPr>
              <a:t>Tasks in the future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fields not covering by existing GRs or on subjects requiring strategic examin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deem at WP29 or GRs, or items across GRs for overall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citation of rule making by member country of WP2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スライド番号プレースホルダ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9DCE-8B46-45BE-BFD9-9956C980BD8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スライド番号プレースホルダ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2EB9-19DF-4209-938E-787703C2A70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73120" y="428760"/>
            <a:ext cx="85708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Recent Activity of IHRA-ITS WG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ts val="1599"/>
              </a:lnSpc>
              <a:spcBef>
                <a:spcPts val="11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1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rogress report was provided at the last WP29/ITS Informal Group Meeting in November, 2007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1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n July 16 and 17 in 2008, IHRA-ITS WG Meeting was held in London and discussed for revis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1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raft proposal has been finalized as warning statements of principl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2286000"/>
            <a:ext cx="8286480" cy="213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ank you for your Attention !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スライド番号プレースホルダ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26CE-3DEE-4185-905E-1FF42D7832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01:26:26Z</dcterms:created>
  <dc:creator/>
  <dc:description/>
  <dc:language>en-US</dc:language>
  <cp:lastModifiedBy>Gianotti</cp:lastModifiedBy>
  <cp:lastPrinted>2002-02-04T03:12:41Z</cp:lastPrinted>
  <dcterms:modified xsi:type="dcterms:W3CDTF">2008-11-27T10:16:34Z</dcterms:modified>
  <cp:revision>278</cp:revision>
  <dc:subject/>
  <dc:title>ITASSup</dc:title>
</cp:coreProperties>
</file>