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A81E-B9C6-4510-8D2D-6B8FAE6F8A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B260-49A3-4F08-8601-7EA2C53E1C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2B10-F2E8-476C-9D25-D9E8D1B4E9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61BA-AD73-407C-ACF9-559C6D3A43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4959-E15F-46FB-85C7-AE6CF1324C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FD0B-D1A1-450F-B376-2AC236CDBC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E71A-AF25-41D6-9E4F-CA297F499E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DD3E-6664-411C-90CE-2440B401CC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573F-6574-414A-A864-5C4B36DF3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4E01-CD75-4803-8AF4-978724009B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DC50-43E8-4127-9B45-6604ADA4B0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CC38-8FDD-4CD5-B2F6-877BCF888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984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984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207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207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476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904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81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6920" y="6397560"/>
            <a:ext cx="1079640" cy="446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rcRect l="0" t="0" r="3586" b="0"/>
          <a:stretch/>
        </p:blipFill>
        <p:spPr>
          <a:xfrm>
            <a:off x="5834160" y="6381720"/>
            <a:ext cx="1965240" cy="4478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103320" y="6472080"/>
            <a:ext cx="5616360" cy="130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90440" y="6602400"/>
            <a:ext cx="5616720" cy="130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39F6-4B47-4A47-A50C-9027963A075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34800" y="2334960"/>
            <a:ext cx="790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Overview of Truck Accidents in Japa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14160" y="1503360"/>
            <a:ext cx="46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ff"/>
                </a:solidFill>
                <a:latin typeface="Arial"/>
              </a:rPr>
              <a:t>Informal </a:t>
            </a:r>
            <a:r>
              <a:rPr b="0" i="1" lang="ja-JP" sz="2400" spc="-1" strike="noStrike">
                <a:solidFill>
                  <a:srgbClr val="0099ff"/>
                </a:solidFill>
                <a:latin typeface="Arial"/>
              </a:rPr>
              <a:t>Meeting of Cab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2160" y="838080"/>
            <a:ext cx="19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7.4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52880" y="5572080"/>
            <a:ext cx="2178000" cy="90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3038" t="0" r="5441" b="0"/>
          <a:stretch/>
        </p:blipFill>
        <p:spPr>
          <a:xfrm>
            <a:off x="2444760" y="4506840"/>
            <a:ext cx="3738600" cy="89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28800" y="337032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(Current materials concerning truck acci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19760" y="347760"/>
            <a:ext cx="28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GRSP-INF-CS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9560" y="1836360"/>
            <a:ext cx="57546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ident type of truck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152960" y="5286240"/>
            <a:ext cx="42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traffic accident data in 19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84080" y="1116000"/>
            <a:ext cx="7172640" cy="4246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734080"/>
            <a:ext cx="481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Object truck model : 12ton &lt; GV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Except 3rd concerned  truck in pile up acci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ision part of tru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181760" y="5445000"/>
            <a:ext cx="42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traffic accident data in 19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896080"/>
            <a:ext cx="7991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Vehicle to vehicle collision  except 3rd concerned  truck in pile up acci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Object truck model : 12ton &lt; GV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6160" y="1144440"/>
            <a:ext cx="69040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jury region and contact poi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7042320" cy="402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18720" y="5526000"/>
            <a:ext cx="45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traffic accident data in 1992-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23480" y="593100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Hear-on and Rear-end collision acci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wearing seatbe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0280" y="1440000"/>
            <a:ext cx="7367400" cy="3598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39360" y="5181480"/>
            <a:ext cx="45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traffic accident data in 1992-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75720" y="554184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Hear-on and Rear-end collision acci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ahoma"/>
              </a:rPr>
              <a:t>In-depth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18593" r="4399" b="5538"/>
          <a:stretch/>
        </p:blipFill>
        <p:spPr>
          <a:xfrm>
            <a:off x="2940120" y="1106640"/>
            <a:ext cx="6203880" cy="521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0040" y="1445760"/>
            <a:ext cx="680112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MA investigated HGV rollover accidents by using the in-depth data of Japan highway Safety Center (JH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HS collects a HGV accidents around the Toumei-highwa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Rollover data: 55 vehicles(1997-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524360" y="3733920"/>
            <a:ext cx="800280" cy="571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8520" y="403380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Nago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54680" y="4406760"/>
            <a:ext cx="476280" cy="419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0240" y="33354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628600">
            <a:off x="6555960" y="4516560"/>
            <a:ext cx="917640" cy="44280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19720"/>
            <a:ext cx="800280" cy="457200"/>
          </a:xfrm>
          <a:custGeom>
            <a:avLst/>
            <a:gdLst/>
            <a:ahLst/>
            <a:rect l="l" t="t" r="r" b="b"/>
            <a:pathLst>
              <a:path w="504" h="240">
                <a:moveTo>
                  <a:pt x="504" y="0"/>
                </a:moveTo>
                <a:lnTo>
                  <a:pt x="312" y="168"/>
                </a:lnTo>
                <a:lnTo>
                  <a:pt x="0" y="2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458040" y="4819320"/>
            <a:ext cx="323640" cy="8953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880" y="57164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ahoma"/>
              </a:rPr>
              <a:t>Toumei-hig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62640" y="4743360"/>
            <a:ext cx="190440" cy="171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83520" y="4311720"/>
            <a:ext cx="19044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5560" y="4865760"/>
            <a:ext cx="285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6600"/>
                </a:solidFill>
                <a:latin typeface="Tahoma"/>
              </a:rPr>
              <a:t>Data collectimg 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ahoma"/>
              </a:rPr>
              <a:t>Truck rollover acciden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3120" y="133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llover accident occurs also in Jap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jury:47%    Injury (almost slight injury):3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serious rollover accident is few in Jap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-rollover is 87% of all rollover accident. 180-rollover is only 4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9994" t="0" r="28679" b="0"/>
          <a:stretch/>
        </p:blipFill>
        <p:spPr>
          <a:xfrm>
            <a:off x="4417920" y="2763720"/>
            <a:ext cx="3716280" cy="359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28443" t="0" r="25281" b="0"/>
          <a:stretch/>
        </p:blipFill>
        <p:spPr>
          <a:xfrm>
            <a:off x="1071720" y="2722680"/>
            <a:ext cx="334800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ahoma"/>
              </a:rPr>
              <a:t>Deformation mode of 90 rollov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41520"/>
            <a:ext cx="5450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deformation : 34% (Front guard frame or van body greatly contributed to the restraint of the cab deforma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many deformation : C-type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1%), these thinks 90-rollover with subsequent impact.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66640" y="4510080"/>
            <a:ext cx="1397160" cy="1184400"/>
            <a:chOff x="566640" y="4510080"/>
            <a:chExt cx="1397160" cy="1184400"/>
          </a:xfrm>
        </p:grpSpPr>
        <p:sp>
          <p:nvSpPr>
            <p:cNvPr id="143" name=""/>
            <p:cNvSpPr/>
            <p:nvPr/>
          </p:nvSpPr>
          <p:spPr>
            <a:xfrm>
              <a:off x="675360" y="4510080"/>
              <a:ext cx="1245240" cy="213840"/>
            </a:xfrm>
            <a:custGeom>
              <a:avLst/>
              <a:gdLst/>
              <a:ahLst/>
              <a:rect l="l" t="t" r="r" b="b"/>
              <a:pathLst>
                <a:path w="1171" h="240">
                  <a:moveTo>
                    <a:pt x="397" y="0"/>
                  </a:moveTo>
                  <a:lnTo>
                    <a:pt x="1171" y="0"/>
                  </a:lnTo>
                  <a:lnTo>
                    <a:pt x="817" y="240"/>
                  </a:lnTo>
                  <a:lnTo>
                    <a:pt x="0" y="239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97600" y="4733640"/>
              <a:ext cx="41040" cy="393840"/>
            </a:xfrm>
            <a:custGeom>
              <a:avLst/>
              <a:gdLst/>
              <a:ahLst/>
              <a:rect l="l" t="t" r="r" b="b"/>
              <a:pathLst>
                <a:path w="70" h="349">
                  <a:moveTo>
                    <a:pt x="70" y="0"/>
                  </a:moveTo>
                  <a:lnTo>
                    <a:pt x="0" y="3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66640" y="4723200"/>
              <a:ext cx="10872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7600" y="4844520"/>
              <a:ext cx="465840" cy="849960"/>
            </a:xfrm>
            <a:custGeom>
              <a:avLst/>
              <a:gdLst/>
              <a:ahLst/>
              <a:rect l="l" t="t" r="r" b="b"/>
              <a:pathLst>
                <a:path w="454" h="953">
                  <a:moveTo>
                    <a:pt x="0" y="318"/>
                  </a:moveTo>
                  <a:lnTo>
                    <a:pt x="454" y="0"/>
                  </a:lnTo>
                  <a:lnTo>
                    <a:pt x="454" y="363"/>
                  </a:lnTo>
                  <a:lnTo>
                    <a:pt x="273" y="499"/>
                  </a:lnTo>
                  <a:lnTo>
                    <a:pt x="227" y="771"/>
                  </a:lnTo>
                  <a:lnTo>
                    <a:pt x="0" y="953"/>
                  </a:lnTo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17720" y="4520520"/>
              <a:ext cx="460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8040" y="4591080"/>
              <a:ext cx="4716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6640" y="5127840"/>
              <a:ext cx="930960" cy="566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rot="200400">
            <a:off x="2231640" y="4567320"/>
            <a:ext cx="1244520" cy="212760"/>
          </a:xfrm>
          <a:custGeom>
            <a:avLst/>
            <a:gdLst/>
            <a:ahLst/>
            <a:rect l="l" t="t" r="r" b="b"/>
            <a:pathLst>
              <a:path w="1171" h="240">
                <a:moveTo>
                  <a:pt x="397" y="0"/>
                </a:moveTo>
                <a:lnTo>
                  <a:pt x="1171" y="0"/>
                </a:lnTo>
                <a:lnTo>
                  <a:pt x="817" y="240"/>
                </a:lnTo>
                <a:lnTo>
                  <a:pt x="0" y="239"/>
                </a:lnTo>
                <a:lnTo>
                  <a:pt x="397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19400" y="4741920"/>
            <a:ext cx="8892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38560" y="4836960"/>
            <a:ext cx="466560" cy="849600"/>
          </a:xfrm>
          <a:custGeom>
            <a:avLst/>
            <a:gdLst/>
            <a:ahLst/>
            <a:rect l="l" t="t" r="r" b="b"/>
            <a:pathLst>
              <a:path w="454" h="953">
                <a:moveTo>
                  <a:pt x="0" y="318"/>
                </a:moveTo>
                <a:lnTo>
                  <a:pt x="454" y="0"/>
                </a:lnTo>
                <a:lnTo>
                  <a:pt x="454" y="363"/>
                </a:lnTo>
                <a:lnTo>
                  <a:pt x="273" y="499"/>
                </a:lnTo>
                <a:lnTo>
                  <a:pt x="227" y="771"/>
                </a:lnTo>
                <a:lnTo>
                  <a:pt x="0" y="953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68600" y="4610160"/>
            <a:ext cx="23652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65640" y="4664160"/>
            <a:ext cx="20160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5121360"/>
            <a:ext cx="930240" cy="565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90960" y="4794120"/>
            <a:ext cx="14760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1440" y="4524480"/>
            <a:ext cx="1246320" cy="318960"/>
          </a:xfrm>
          <a:custGeom>
            <a:avLst/>
            <a:gdLst/>
            <a:ahLst/>
            <a:rect l="l" t="t" r="r" b="b"/>
            <a:pathLst>
              <a:path w="1213" h="358">
                <a:moveTo>
                  <a:pt x="411" y="0"/>
                </a:moveTo>
                <a:lnTo>
                  <a:pt x="1213" y="0"/>
                </a:lnTo>
                <a:lnTo>
                  <a:pt x="1047" y="106"/>
                </a:lnTo>
                <a:lnTo>
                  <a:pt x="867" y="358"/>
                </a:lnTo>
                <a:lnTo>
                  <a:pt x="315" y="220"/>
                </a:lnTo>
                <a:lnTo>
                  <a:pt x="0" y="239"/>
                </a:lnTo>
                <a:lnTo>
                  <a:pt x="411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43440" y="4737240"/>
            <a:ext cx="10800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3680" y="4857840"/>
            <a:ext cx="466920" cy="850680"/>
          </a:xfrm>
          <a:custGeom>
            <a:avLst/>
            <a:gdLst/>
            <a:ahLst/>
            <a:rect l="l" t="t" r="r" b="b"/>
            <a:pathLst>
              <a:path w="454" h="953">
                <a:moveTo>
                  <a:pt x="0" y="318"/>
                </a:moveTo>
                <a:lnTo>
                  <a:pt x="454" y="0"/>
                </a:lnTo>
                <a:lnTo>
                  <a:pt x="454" y="363"/>
                </a:lnTo>
                <a:lnTo>
                  <a:pt x="273" y="499"/>
                </a:lnTo>
                <a:lnTo>
                  <a:pt x="227" y="771"/>
                </a:lnTo>
                <a:lnTo>
                  <a:pt x="0" y="953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4520" y="4533840"/>
            <a:ext cx="46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54840" y="4605480"/>
            <a:ext cx="4752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43440" y="5141880"/>
            <a:ext cx="930240" cy="566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00640" y="4613400"/>
            <a:ext cx="738360" cy="856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96"/>
                </a:move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389720" y="4711680"/>
            <a:ext cx="10800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19960" y="4832280"/>
            <a:ext cx="466920" cy="851040"/>
          </a:xfrm>
          <a:custGeom>
            <a:avLst/>
            <a:gdLst/>
            <a:ahLst/>
            <a:rect l="l" t="t" r="r" b="b"/>
            <a:pathLst>
              <a:path w="454" h="953">
                <a:moveTo>
                  <a:pt x="0" y="318"/>
                </a:moveTo>
                <a:lnTo>
                  <a:pt x="454" y="0"/>
                </a:lnTo>
                <a:lnTo>
                  <a:pt x="454" y="363"/>
                </a:lnTo>
                <a:lnTo>
                  <a:pt x="273" y="499"/>
                </a:lnTo>
                <a:lnTo>
                  <a:pt x="227" y="771"/>
                </a:lnTo>
                <a:lnTo>
                  <a:pt x="0" y="953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89720" y="5116680"/>
            <a:ext cx="930240" cy="566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07400" y="4689360"/>
            <a:ext cx="831960" cy="257400"/>
          </a:xfrm>
          <a:custGeom>
            <a:avLst/>
            <a:gdLst/>
            <a:ahLst/>
            <a:rect l="l" t="t" r="r" b="b"/>
            <a:pathLst>
              <a:path w="810" h="288">
                <a:moveTo>
                  <a:pt x="0" y="282"/>
                </a:moveTo>
                <a:lnTo>
                  <a:pt x="408" y="288"/>
                </a:lnTo>
                <a:lnTo>
                  <a:pt x="810" y="0"/>
                </a:lnTo>
                <a:lnTo>
                  <a:pt x="336" y="54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21640" y="4764240"/>
            <a:ext cx="130320" cy="150840"/>
          </a:xfrm>
          <a:custGeom>
            <a:avLst/>
            <a:gdLst/>
            <a:ahLst/>
            <a:rect l="l" t="t" r="r" b="b"/>
            <a:pathLst>
              <a:path w="126" h="168">
                <a:moveTo>
                  <a:pt x="18" y="168"/>
                </a:moveTo>
                <a:lnTo>
                  <a:pt x="126" y="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26400" y="4694400"/>
            <a:ext cx="179640" cy="139680"/>
          </a:xfrm>
          <a:custGeom>
            <a:avLst/>
            <a:gdLst/>
            <a:ahLst/>
            <a:rect l="l" t="t" r="r" b="b"/>
            <a:pathLst>
              <a:path w="156" h="144">
                <a:moveTo>
                  <a:pt x="48" y="144"/>
                </a:moveTo>
                <a:lnTo>
                  <a:pt x="156" y="1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13560" y="4491000"/>
            <a:ext cx="739800" cy="444600"/>
          </a:xfrm>
          <a:custGeom>
            <a:avLst/>
            <a:gdLst/>
            <a:ahLst/>
            <a:rect l="l" t="t" r="r" b="b"/>
            <a:pathLst>
              <a:path w="720" h="498">
                <a:moveTo>
                  <a:pt x="0" y="252"/>
                </a:moveTo>
                <a:lnTo>
                  <a:pt x="396" y="0"/>
                </a:lnTo>
                <a:lnTo>
                  <a:pt x="720" y="288"/>
                </a:lnTo>
                <a:lnTo>
                  <a:pt x="390" y="498"/>
                </a:lnTo>
                <a:lnTo>
                  <a:pt x="0" y="25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18520" y="4950000"/>
            <a:ext cx="128520" cy="149040"/>
          </a:xfrm>
          <a:custGeom>
            <a:avLst/>
            <a:gdLst/>
            <a:ahLst/>
            <a:rect l="l" t="t" r="r" b="b"/>
            <a:pathLst>
              <a:path w="126" h="168">
                <a:moveTo>
                  <a:pt x="18" y="168"/>
                </a:moveTo>
                <a:lnTo>
                  <a:pt x="126" y="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098960" y="4772160"/>
            <a:ext cx="10800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862520"/>
            <a:ext cx="466560" cy="849240"/>
          </a:xfrm>
          <a:custGeom>
            <a:avLst/>
            <a:gdLst/>
            <a:ahLst/>
            <a:rect l="l" t="t" r="r" b="b"/>
            <a:pathLst>
              <a:path w="454" h="953">
                <a:moveTo>
                  <a:pt x="0" y="318"/>
                </a:moveTo>
                <a:lnTo>
                  <a:pt x="454" y="0"/>
                </a:lnTo>
                <a:lnTo>
                  <a:pt x="454" y="363"/>
                </a:lnTo>
                <a:lnTo>
                  <a:pt x="273" y="499"/>
                </a:lnTo>
                <a:lnTo>
                  <a:pt x="227" y="771"/>
                </a:lnTo>
                <a:lnTo>
                  <a:pt x="0" y="953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98960" y="5145120"/>
            <a:ext cx="930240" cy="566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240" y="4148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de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44120" y="41371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13880" y="415764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51880" y="4156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0400" y="41576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84840" y="4886280"/>
            <a:ext cx="135000" cy="246240"/>
          </a:xfrm>
          <a:custGeom>
            <a:avLst/>
            <a:gdLst/>
            <a:ahLst/>
            <a:rect l="l" t="t" r="r" b="b"/>
            <a:pathLst>
              <a:path w="132" h="276">
                <a:moveTo>
                  <a:pt x="132" y="276"/>
                </a:moveTo>
                <a:lnTo>
                  <a:pt x="0" y="108"/>
                </a:lnTo>
                <a:lnTo>
                  <a:pt x="1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0040" y="4757760"/>
            <a:ext cx="135000" cy="192240"/>
          </a:xfrm>
          <a:custGeom>
            <a:avLst/>
            <a:gdLst/>
            <a:ahLst/>
            <a:rect l="l" t="t" r="r" b="b"/>
            <a:pathLst>
              <a:path w="96" h="144">
                <a:moveTo>
                  <a:pt x="96" y="144"/>
                </a:moveTo>
                <a:lnTo>
                  <a:pt x="0" y="96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15040" y="4735440"/>
            <a:ext cx="136440" cy="139680"/>
          </a:xfrm>
          <a:custGeom>
            <a:avLst/>
            <a:gdLst/>
            <a:ahLst/>
            <a:rect l="l" t="t" r="r" b="b"/>
            <a:pathLst>
              <a:path w="84" h="132">
                <a:moveTo>
                  <a:pt x="84" y="132"/>
                </a:moveTo>
                <a:lnTo>
                  <a:pt x="0" y="84"/>
                </a:lnTo>
                <a:lnTo>
                  <a:pt x="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3080" y="4549680"/>
            <a:ext cx="1101960" cy="328680"/>
          </a:xfrm>
          <a:custGeom>
            <a:avLst/>
            <a:gdLst/>
            <a:ahLst/>
            <a:rect l="l" t="t" r="r" b="b"/>
            <a:pathLst>
              <a:path w="1074" h="367">
                <a:moveTo>
                  <a:pt x="379" y="0"/>
                </a:moveTo>
                <a:lnTo>
                  <a:pt x="0" y="235"/>
                </a:lnTo>
                <a:lnTo>
                  <a:pt x="522" y="232"/>
                </a:lnTo>
                <a:lnTo>
                  <a:pt x="767" y="367"/>
                </a:lnTo>
                <a:lnTo>
                  <a:pt x="1074" y="184"/>
                </a:lnTo>
                <a:lnTo>
                  <a:pt x="834" y="40"/>
                </a:lnTo>
                <a:lnTo>
                  <a:pt x="395" y="8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69000" y="4827600"/>
            <a:ext cx="60480" cy="299880"/>
          </a:xfrm>
          <a:custGeom>
            <a:avLst/>
            <a:gdLst/>
            <a:ahLst/>
            <a:rect l="l" t="t" r="r" b="b"/>
            <a:pathLst>
              <a:path w="60" h="336">
                <a:moveTo>
                  <a:pt x="48" y="0"/>
                </a:moveTo>
                <a:lnTo>
                  <a:pt x="60" y="192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6582" t="0" r="28161" b="0"/>
          <a:stretch/>
        </p:blipFill>
        <p:spPr>
          <a:xfrm>
            <a:off x="5562720" y="855720"/>
            <a:ext cx="3240000" cy="3578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864400" y="2714760"/>
            <a:ext cx="2190600" cy="1465200"/>
          </a:xfrm>
          <a:custGeom>
            <a:avLst/>
            <a:gdLst/>
            <a:ahLst/>
            <a:rect l="l" t="t" r="r" b="b"/>
            <a:pathLst>
              <a:path w="1380" h="923">
                <a:moveTo>
                  <a:pt x="402" y="0"/>
                </a:moveTo>
                <a:lnTo>
                  <a:pt x="0" y="55"/>
                </a:lnTo>
                <a:cubicBezTo>
                  <a:pt x="27" y="183"/>
                  <a:pt x="100" y="558"/>
                  <a:pt x="567" y="768"/>
                </a:cubicBezTo>
                <a:cubicBezTo>
                  <a:pt x="932" y="923"/>
                  <a:pt x="1380" y="658"/>
                  <a:pt x="1371" y="667"/>
                </a:cubicBezTo>
                <a:cubicBezTo>
                  <a:pt x="1345" y="680"/>
                  <a:pt x="1124" y="255"/>
                  <a:pt x="1106" y="292"/>
                </a:cubicBezTo>
                <a:cubicBezTo>
                  <a:pt x="1088" y="311"/>
                  <a:pt x="924" y="464"/>
                  <a:pt x="640" y="338"/>
                </a:cubicBezTo>
                <a:cubicBezTo>
                  <a:pt x="484" y="265"/>
                  <a:pt x="452" y="70"/>
                  <a:pt x="402" y="0"/>
                </a:cubicBezTo>
                <a:close/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70000" y="1596960"/>
            <a:ext cx="865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Most important cases of the truck crew's injury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   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Frontal accident        1) Rear-end (front / rea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) Head-on (front / fro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Rollover accidents are few in serious injuries of trck dri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011240" y="1589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59:35Z</dcterms:created>
  <dc:creator> </dc:creator>
  <dc:description/>
  <dc:language>en-US</dc:language>
  <cp:lastModifiedBy>Gianotti</cp:lastModifiedBy>
  <dcterms:modified xsi:type="dcterms:W3CDTF">2007-05-02T10:00:18Z</dcterms:modified>
  <cp:revision>86</cp:revision>
  <dc:subject/>
  <dc:title>実車追突試験と 　　振り子衝撃試験の比較</dc:title>
</cp:coreProperties>
</file>