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42113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EC7-564D-4D2C-AA3A-9969F575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C04-3432-40F7-B81E-CAEF6316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313-5718-42DE-9422-5B885FC8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62E-C244-4C48-8EB8-21E68D9A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527-69D2-45C2-B7F2-0942BA6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FAF-2BDD-405A-B348-AA457D41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0D3-6D3E-418A-BDCF-7D73CE9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3BD-A257-49A5-95F8-CE7A6DA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6F6-7ACC-4005-8163-5ED58494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5F8-4D62-4F2A-B2CD-B4279CF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193-3917-4B46-B3FA-C83F4AE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F30-5432-43F8-B943-F44C633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E729-A4A9-43E8-BC4E-64908193A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255240"/>
            <a:ext cx="9142560" cy="12600"/>
          </a:xfrm>
          <a:prstGeom prst="line">
            <a:avLst/>
          </a:prstGeom>
          <a:ln w="50760">
            <a:solidFill>
              <a:srgbClr val="000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4000" y="142920"/>
            <a:ext cx="19202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ffic Accidents Heavy Tru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21320"/>
            <a:ext cx="9144000" cy="433440"/>
          </a:xfrm>
          <a:prstGeom prst="rect">
            <a:avLst/>
          </a:prstGeom>
          <a:solidFill>
            <a:srgbClr val="0003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25480" y="6456240"/>
            <a:ext cx="7219800" cy="397080"/>
            <a:chOff x="825480" y="6456240"/>
            <a:chExt cx="7219800" cy="397080"/>
          </a:xfrm>
        </p:grpSpPr>
        <p:sp>
          <p:nvSpPr>
            <p:cNvPr id="9" name=""/>
            <p:cNvSpPr/>
            <p:nvPr/>
          </p:nvSpPr>
          <p:spPr>
            <a:xfrm>
              <a:off x="825480" y="6456240"/>
              <a:ext cx="382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olvo Truck Corporation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6896160" y="6546960"/>
              <a:ext cx="1149120" cy="1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7772400" y="624852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1-05-15, Claes Aved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12520" y="1295280"/>
            <a:ext cx="69318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ample contains of 455 traffic accidents, all with injured truck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tbelt usage less than 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idents mainly occurred in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vo Trucks, i.e. cabs tested according to Swedish pendulu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and break down of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Accident typ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Rollover frequency (rollover= turnover 90 degrees or rollover &gt; 90 degree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Cab deformation; frequency of longitudinal deformation of upper a-pilla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7621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accident statist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600" y="3885840"/>
            <a:ext cx="1600200" cy="2209680"/>
            <a:chOff x="1371600" y="3885840"/>
            <a:chExt cx="1600200" cy="22096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371600" y="4033800"/>
              <a:ext cx="1600200" cy="206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1788120" y="3885840"/>
              <a:ext cx="346680" cy="401760"/>
              <a:chOff x="1788120" y="3885840"/>
              <a:chExt cx="346680" cy="401760"/>
            </a:xfrm>
          </p:grpSpPr>
          <p:sp>
            <p:nvSpPr>
              <p:cNvPr id="53" name=""/>
              <p:cNvSpPr/>
              <p:nvPr/>
            </p:nvSpPr>
            <p:spPr>
              <a:xfrm>
                <a:off x="1834200" y="3953160"/>
                <a:ext cx="27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788120" y="3885840"/>
                <a:ext cx="69120" cy="401760"/>
                <a:chOff x="1788120" y="3885840"/>
                <a:chExt cx="69120" cy="40176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788120" y="4220640"/>
                  <a:ext cx="69120" cy="66960"/>
                </a:xfrm>
                <a:prstGeom prst="ellipse">
                  <a:avLst/>
                </a:prstGeom>
                <a:solidFill>
                  <a:srgbClr val="ff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1810800" y="3885840"/>
                  <a:ext cx="0" cy="334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2065320" y="3885840"/>
                <a:ext cx="69480" cy="390600"/>
                <a:chOff x="2065320" y="3885840"/>
                <a:chExt cx="69480" cy="39060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2099880" y="3885840"/>
                  <a:ext cx="0" cy="334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065320" y="4209480"/>
                  <a:ext cx="69480" cy="66960"/>
                </a:xfrm>
                <a:prstGeom prst="ellipse">
                  <a:avLst/>
                </a:prstGeom>
                <a:solidFill>
                  <a:srgbClr val="ff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" name=""/>
          <p:cNvSpPr/>
          <p:nvPr/>
        </p:nvSpPr>
        <p:spPr>
          <a:xfrm>
            <a:off x="6300720" y="47628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RSP-INF-CS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52800" y="4343400"/>
            <a:ext cx="1047600" cy="550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52800" y="3505320"/>
            <a:ext cx="1047600" cy="70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52800" y="5114880"/>
            <a:ext cx="1047600" cy="100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29080"/>
            <a:ext cx="1066680" cy="39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ing off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104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63836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866960"/>
            <a:ext cx="1067040" cy="3985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629080"/>
            <a:ext cx="1067040" cy="398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truck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629080"/>
            <a:ext cx="1067040" cy="398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c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629080"/>
            <a:ext cx="1067040" cy="39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629080"/>
            <a:ext cx="1066680" cy="40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629080"/>
            <a:ext cx="990720" cy="39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 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828800"/>
            <a:ext cx="1143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n typ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330800"/>
            <a:ext cx="9907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638360"/>
            <a:ext cx="586728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1866960"/>
            <a:ext cx="1066680" cy="3985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1866960"/>
            <a:ext cx="1066680" cy="3985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562720"/>
            <a:ext cx="685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511440"/>
            <a:ext cx="990720" cy="70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114880"/>
            <a:ext cx="990720" cy="100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352760"/>
            <a:ext cx="106668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3514680"/>
            <a:ext cx="1066680" cy="70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114880"/>
            <a:ext cx="1066680" cy="10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40" y="3514680"/>
            <a:ext cx="112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 inju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il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a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k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5276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l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3072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inal de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A-pillar, any  si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530520"/>
            <a:ext cx="1067040" cy="703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4368960"/>
            <a:ext cx="1067040" cy="550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5130720"/>
            <a:ext cx="1067040" cy="100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530520"/>
            <a:ext cx="1067040" cy="703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4368960"/>
            <a:ext cx="1067040" cy="550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30720"/>
            <a:ext cx="1067040" cy="100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3530520"/>
            <a:ext cx="106704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4368960"/>
            <a:ext cx="106704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5130720"/>
            <a:ext cx="1067040" cy="100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3530520"/>
            <a:ext cx="1066680" cy="70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4368960"/>
            <a:ext cx="1066680" cy="55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5130720"/>
            <a:ext cx="1066680" cy="100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685800"/>
            <a:ext cx="35049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cidents with injured truck driver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 Volvo cabs- all pendulum tested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45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52800" y="4343400"/>
            <a:ext cx="1047600" cy="550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52800" y="3505320"/>
            <a:ext cx="1047600" cy="70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52800" y="5114880"/>
            <a:ext cx="1047600" cy="100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629080"/>
            <a:ext cx="1066680" cy="39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ing off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1104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63836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866960"/>
            <a:ext cx="1067040" cy="3985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629080"/>
            <a:ext cx="1067040" cy="39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629080"/>
            <a:ext cx="1066680" cy="40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629080"/>
            <a:ext cx="990720" cy="39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 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28800"/>
            <a:ext cx="1143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n typ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330800"/>
            <a:ext cx="9907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1638360"/>
            <a:ext cx="586728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1866960"/>
            <a:ext cx="1066680" cy="3985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1866960"/>
            <a:ext cx="1066680" cy="3985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3511440"/>
            <a:ext cx="990720" cy="70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5114880"/>
            <a:ext cx="990720" cy="100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52760"/>
            <a:ext cx="106668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514680"/>
            <a:ext cx="1066680" cy="70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114880"/>
            <a:ext cx="1066680" cy="10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640" y="3514680"/>
            <a:ext cx="112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 inju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il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a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k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5276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l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3072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inal de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A-pillar, any  si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530520"/>
            <a:ext cx="106704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4368960"/>
            <a:ext cx="106704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130720"/>
            <a:ext cx="1067040" cy="100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3530520"/>
            <a:ext cx="1066680" cy="70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368960"/>
            <a:ext cx="1066680" cy="55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5130720"/>
            <a:ext cx="1066680" cy="100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 rot="5400000">
            <a:off x="2514600" y="440352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493704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6/ 24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 rot="5400000">
            <a:off x="2514600" y="3107160"/>
            <a:ext cx="304920" cy="2590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364176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7/ 246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685800"/>
            <a:ext cx="35049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cidents with injured truck driver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 Volvo cabs- all pendulum tested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45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629080"/>
            <a:ext cx="1067040" cy="398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truck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629080"/>
            <a:ext cx="1067040" cy="398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c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30520"/>
            <a:ext cx="1067040" cy="703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368960"/>
            <a:ext cx="1067040" cy="550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5130720"/>
            <a:ext cx="1067040" cy="100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530520"/>
            <a:ext cx="1067040" cy="703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368960"/>
            <a:ext cx="1067040" cy="550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5130720"/>
            <a:ext cx="1067040" cy="100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52800" y="4343400"/>
            <a:ext cx="1047600" cy="550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2800" y="3505320"/>
            <a:ext cx="1047600" cy="70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52800" y="5114880"/>
            <a:ext cx="1047600" cy="100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629080"/>
            <a:ext cx="1066680" cy="39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ing off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104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63836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866960"/>
            <a:ext cx="1067040" cy="3985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629080"/>
            <a:ext cx="1067040" cy="39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629080"/>
            <a:ext cx="1066680" cy="40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629080"/>
            <a:ext cx="990720" cy="39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 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1143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n typ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330800"/>
            <a:ext cx="9907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1638360"/>
            <a:ext cx="586728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1866960"/>
            <a:ext cx="1066680" cy="3985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1866960"/>
            <a:ext cx="1066680" cy="3985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511440"/>
            <a:ext cx="990720" cy="70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114880"/>
            <a:ext cx="990720" cy="100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4352760"/>
            <a:ext cx="106668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514680"/>
            <a:ext cx="1066680" cy="70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5114880"/>
            <a:ext cx="1066680" cy="10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40" y="3514680"/>
            <a:ext cx="112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 inju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il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a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k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35276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l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13072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inal de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A-pillar, any  si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530520"/>
            <a:ext cx="106704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4368960"/>
            <a:ext cx="106704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5130720"/>
            <a:ext cx="1067040" cy="100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3530520"/>
            <a:ext cx="1066680" cy="70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01000" y="4368960"/>
            <a:ext cx="1066680" cy="55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5130720"/>
            <a:ext cx="1066680" cy="100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685800"/>
            <a:ext cx="35049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cidents with injured truck driver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 Volvo cabs- all pendulum tested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45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2629080"/>
            <a:ext cx="1067040" cy="398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truck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2629080"/>
            <a:ext cx="1067040" cy="398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c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3530520"/>
            <a:ext cx="1067040" cy="703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368960"/>
            <a:ext cx="1067040" cy="550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130720"/>
            <a:ext cx="1067040" cy="100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3530520"/>
            <a:ext cx="1067040" cy="703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4368960"/>
            <a:ext cx="1067040" cy="550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5130720"/>
            <a:ext cx="1067040" cy="100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8680" y="364176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/ 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5400000">
            <a:off x="6019560" y="310716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93704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/ 189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5400000">
            <a:off x="6019920" y="440388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52800" y="4343400"/>
            <a:ext cx="1047600" cy="550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52800" y="3505320"/>
            <a:ext cx="1047600" cy="70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52800" y="5114880"/>
            <a:ext cx="1047600" cy="100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2629080"/>
            <a:ext cx="1066680" cy="39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ing off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476440"/>
            <a:ext cx="228600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1048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20192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1638360"/>
            <a:ext cx="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866960"/>
            <a:ext cx="1067040" cy="3985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2629080"/>
            <a:ext cx="1067040" cy="39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685800"/>
            <a:ext cx="350496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cidents with injured truck driver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 Volvo cabs- all pendulum tested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45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629080"/>
            <a:ext cx="1066680" cy="40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629080"/>
            <a:ext cx="990720" cy="39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 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828800"/>
            <a:ext cx="11430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n typ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t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4330800"/>
            <a:ext cx="9907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1638360"/>
            <a:ext cx="5867280" cy="304920"/>
          </a:xfrm>
          <a:custGeom>
            <a:avLst/>
            <a:gdLst/>
            <a:ahLst/>
            <a:rect l="l" t="t" r="r" b="b"/>
            <a:pathLst>
              <a:path w="1632" h="192">
                <a:moveTo>
                  <a:pt x="0" y="192"/>
                </a:moveTo>
                <a:lnTo>
                  <a:pt x="0" y="0"/>
                </a:lnTo>
                <a:lnTo>
                  <a:pt x="1632" y="0"/>
                </a:lnTo>
                <a:lnTo>
                  <a:pt x="1632" y="192"/>
                </a:lnTo>
                <a:lnTo>
                  <a:pt x="163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1866960"/>
            <a:ext cx="1066680" cy="3985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1866960"/>
            <a:ext cx="1066680" cy="3985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511440"/>
            <a:ext cx="990720" cy="70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114880"/>
            <a:ext cx="990720" cy="100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4352760"/>
            <a:ext cx="106668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514680"/>
            <a:ext cx="1066680" cy="70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114880"/>
            <a:ext cx="1066680" cy="10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40" y="3514680"/>
            <a:ext cx="112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 inju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il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ad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k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35276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lov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5130720"/>
            <a:ext cx="114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inal de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A-pillar, any  si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y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530520"/>
            <a:ext cx="1067040" cy="70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4368960"/>
            <a:ext cx="1067040" cy="550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5130720"/>
            <a:ext cx="1067040" cy="100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530520"/>
            <a:ext cx="1066680" cy="70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01000" y="4368960"/>
            <a:ext cx="1066680" cy="55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5130720"/>
            <a:ext cx="1066680" cy="100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 rot="5400000">
            <a:off x="2514600" y="440352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93704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6/ 455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2629080"/>
            <a:ext cx="1067040" cy="398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truck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629080"/>
            <a:ext cx="1067040" cy="398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-c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3530520"/>
            <a:ext cx="1067040" cy="703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368960"/>
            <a:ext cx="1067040" cy="550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5130720"/>
            <a:ext cx="1067040" cy="1007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530520"/>
            <a:ext cx="1067040" cy="703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68960"/>
            <a:ext cx="1067040" cy="550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5130720"/>
            <a:ext cx="1067040" cy="100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 rot="5400000">
            <a:off x="6019920" y="441972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49528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/ 455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7238880" y="1965240"/>
            <a:ext cx="1460520" cy="1523880"/>
            <a:chOff x="7238880" y="1965240"/>
            <a:chExt cx="1460520" cy="1523880"/>
          </a:xfrm>
        </p:grpSpPr>
        <p:graphicFrame>
          <p:nvGraphicFramePr>
            <p:cNvPr id="243" name=""/>
            <p:cNvGraphicFramePr/>
            <p:nvPr/>
          </p:nvGraphicFramePr>
          <p:xfrm>
            <a:off x="7238880" y="1965240"/>
            <a:ext cx="1460520" cy="1523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8880" y="1965240"/>
                      <a:ext cx="146052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7612200" y="3165480"/>
              <a:ext cx="131760" cy="82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4896000" y="2008080"/>
          <a:ext cx="2181240" cy="1486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2008080"/>
                    <a:ext cx="21812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5"/>
          <a:srcRect l="6005" t="0" r="7998" b="13459"/>
          <a:stretch/>
        </p:blipFill>
        <p:spPr>
          <a:xfrm>
            <a:off x="152280" y="1889280"/>
            <a:ext cx="2286000" cy="1544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rcRect l="0" t="13335" r="0" b="0"/>
          <a:stretch/>
        </p:blipFill>
        <p:spPr>
          <a:xfrm>
            <a:off x="2505240" y="1889280"/>
            <a:ext cx="145728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52280" y="3565440"/>
            <a:ext cx="2286000" cy="165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rcRect l="0" t="7632" r="0" b="11985"/>
          <a:stretch/>
        </p:blipFill>
        <p:spPr>
          <a:xfrm>
            <a:off x="2514600" y="356544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rcRect l="14286" t="0" r="7143" b="0"/>
          <a:stretch/>
        </p:blipFill>
        <p:spPr>
          <a:xfrm>
            <a:off x="7226280" y="3730680"/>
            <a:ext cx="1554120" cy="1527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rcRect l="0" t="0" r="0" b="8920"/>
          <a:stretch/>
        </p:blipFill>
        <p:spPr>
          <a:xfrm>
            <a:off x="4876920" y="3718080"/>
            <a:ext cx="2230200" cy="1523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6320" y="158436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ver+ collision with guard r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59876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ver+ collision with earthen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320" y="89856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ormation of cab in single vehicle accidents- some severe 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41800" y="2079720"/>
            <a:ext cx="1155960" cy="291960"/>
          </a:xfrm>
          <a:custGeom>
            <a:avLst/>
            <a:gdLst/>
            <a:ahLst/>
            <a:rect l="l" t="t" r="r" b="b"/>
            <a:pathLst>
              <a:path w="728" h="184">
                <a:moveTo>
                  <a:pt x="0" y="0"/>
                </a:moveTo>
                <a:cubicBezTo>
                  <a:pt x="59" y="4"/>
                  <a:pt x="251" y="12"/>
                  <a:pt x="352" y="24"/>
                </a:cubicBezTo>
                <a:cubicBezTo>
                  <a:pt x="453" y="36"/>
                  <a:pt x="551" y="55"/>
                  <a:pt x="608" y="72"/>
                </a:cubicBezTo>
                <a:cubicBezTo>
                  <a:pt x="665" y="89"/>
                  <a:pt x="676" y="109"/>
                  <a:pt x="696" y="128"/>
                </a:cubicBezTo>
                <a:cubicBezTo>
                  <a:pt x="716" y="147"/>
                  <a:pt x="721" y="172"/>
                  <a:pt x="728" y="184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53280" y="3260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5 kp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260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5 kph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4997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0 kph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162320"/>
            <a:ext cx="762120" cy="978120"/>
          </a:xfrm>
          <a:custGeom>
            <a:avLst/>
            <a:gdLst/>
            <a:ahLst/>
            <a:rect l="l" t="t" r="r" b="b"/>
            <a:pathLst>
              <a:path w="480" h="616">
                <a:moveTo>
                  <a:pt x="0" y="616"/>
                </a:moveTo>
                <a:cubicBezTo>
                  <a:pt x="13" y="569"/>
                  <a:pt x="43" y="417"/>
                  <a:pt x="80" y="336"/>
                </a:cubicBezTo>
                <a:cubicBezTo>
                  <a:pt x="117" y="255"/>
                  <a:pt x="180" y="173"/>
                  <a:pt x="224" y="128"/>
                </a:cubicBezTo>
                <a:cubicBezTo>
                  <a:pt x="268" y="83"/>
                  <a:pt x="301" y="85"/>
                  <a:pt x="344" y="64"/>
                </a:cubicBezTo>
                <a:cubicBezTo>
                  <a:pt x="387" y="43"/>
                  <a:pt x="452" y="13"/>
                  <a:pt x="480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9600" y="50133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5 kph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320" y="126216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ormation of cab in truck to truck collisions- severe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1002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sion truck front vs  truck r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0" t="0" r="0" b="12623"/>
          <a:stretch/>
        </p:blipFill>
        <p:spPr>
          <a:xfrm>
            <a:off x="304920" y="2481120"/>
            <a:ext cx="36576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762120"/>
            <a:ext cx="822960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ingle vehicle accid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% of the accidents resulting in truck driver injuries are single vehicle accidents. There is a rollover as first sequence or as a later sequence in 68% of these accident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y as a result of impact against ground, earthen bank, guard rail, rock, tree, etc. after the rollover there is a deformation of upper a-pillar in 39% of the single vehicle accidents, i.e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1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all accidents in sample.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ngitudin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ngth in roof structure and upper a-pillar is needed to protect driver in a sing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vehicle acciden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is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% of the accidents resulting in truck driver injuries are collisions. There is a deformation of upper a-pillar in 39% of all collisions, i.e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6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all accidents in databas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formation is in most cases a result of the 1st collision to other vehicle. In only 6 of the car truck collisions with deformed a-pillar, the deformation is a result of impact against ground after a rollover, i.e. ~1% of all accidents in sampl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ngitudin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ngth in roof structure and upper a-pillar is needed to protect driver in a colli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95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14400" y="2361960"/>
            <a:ext cx="990720" cy="1295280"/>
            <a:chOff x="914400" y="2361960"/>
            <a:chExt cx="990720" cy="12952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914400" y="2448720"/>
              <a:ext cx="990720" cy="120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172160" y="2361960"/>
              <a:ext cx="214560" cy="235800"/>
              <a:chOff x="1172160" y="2361960"/>
              <a:chExt cx="214560" cy="235800"/>
            </a:xfrm>
          </p:grpSpPr>
          <p:sp>
            <p:nvSpPr>
              <p:cNvPr id="271" name=""/>
              <p:cNvSpPr/>
              <p:nvPr/>
            </p:nvSpPr>
            <p:spPr>
              <a:xfrm>
                <a:off x="1200600" y="2401560"/>
                <a:ext cx="171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1172160" y="2361960"/>
                <a:ext cx="42840" cy="235800"/>
                <a:chOff x="1172160" y="2361960"/>
                <a:chExt cx="42840" cy="235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172160" y="2558520"/>
                  <a:ext cx="42840" cy="39240"/>
                </a:xfrm>
                <a:prstGeom prst="ellipse">
                  <a:avLst/>
                </a:prstGeom>
                <a:solidFill>
                  <a:srgbClr val="ff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1186200" y="2361960"/>
                  <a:ext cx="0" cy="19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343880" y="2361960"/>
                <a:ext cx="42840" cy="229320"/>
                <a:chOff x="1343880" y="2361960"/>
                <a:chExt cx="42840" cy="22932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1365120" y="2361960"/>
                  <a:ext cx="0" cy="19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343880" y="2552040"/>
                  <a:ext cx="42840" cy="39240"/>
                </a:xfrm>
                <a:prstGeom prst="ellipse">
                  <a:avLst/>
                </a:prstGeom>
                <a:solidFill>
                  <a:srgbClr val="ff00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3T16:35:52Z</dcterms:created>
  <dc:creator>Claes Avedal</dc:creator>
  <dc:description/>
  <dc:language>en-US</dc:language>
  <cp:lastModifiedBy>Gianotti</cp:lastModifiedBy>
  <cp:lastPrinted>2001-05-15T09:31:52Z</cp:lastPrinted>
  <dcterms:modified xsi:type="dcterms:W3CDTF">2007-05-01T12:10:21Z</dcterms:modified>
  <cp:revision>31</cp:revision>
  <dc:subject/>
  <dc:title>Ingen bildrubrik</dc:title>
</cp:coreProperties>
</file>