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wmf" ContentType="image/x-wmf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262160" y="720360"/>
            <a:ext cx="479880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77760" y="4559040"/>
            <a:ext cx="535968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5CEE7FE-A50F-416A-B900-DCA3F47501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120" bIns="42120" anchor="t">
            <a:noAutofit/>
          </a:bodyPr>
          <a:p>
            <a:pPr lvl="1" marL="45720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ile test configurations already exist for self-protection, pedestrians and reparability, the same does not apply for compatibilit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order to avoid to many test configurations , © we may consider that self protection at 64 km/h ODB test could serve for assessment of compartment for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ever this is necessary but not enough, because currently everybody knows the need of good structural interactions between front unit.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this reason, we propose filling this gap with an assessment approach that put under control the non aggressiveness of the front uni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energetic approach associated with this assessment proposal should be the only one way to satisfy both self and partner prote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120" bIns="42120" anchor="t">
            <a:noAutofit/>
          </a:bodyPr>
          <a:p>
            <a:pPr lvl="1" marL="45720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ile test configurations already exist for self-protection, pedestrians and reparability, the same does not apply for compatibilit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order to avoid to many test configurations , © we may consider that self protection at 64 km/h ODB test could serve for assessment of compartment for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ever this is necessary but not enough, because currently everybody knows the need of good structural interactions between front unit.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this reason, we propose filling this gap with an assessment approach that put under control the non aggressiveness of the front uni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energetic approach associated with this assessment proposal should be the only one way to satisfy both self and partner prote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120" bIns="42120" anchor="t">
            <a:noAutofit/>
          </a:bodyPr>
          <a:p>
            <a:pPr lvl="1" marL="45720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ile test configurations already exist for self-protection, pedestrians and reparability, the same does not apply for compatibilit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order to avoid to many test configurations , © we may consider that self protection at 64 km/h ODB test could serve for assessment of compartment for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ever this is necessary but not enough, because currently everybody knows the need of good structural interactions between front unit. 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this reason, we propose filling this gap with an assessment approach that put under control the non aggressiveness of the front uni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energetic approach associated with this assessment proposal should be the only one way to satisfy both self and partner prote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A9CE-AA4A-4105-8EA3-3494AA29D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43AE-9638-4B59-8230-23CF0C80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958E-82D7-4688-A657-250FF2B2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70F9-9728-4710-9ED6-A7F811987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8BC3-4015-46BC-A0D7-1EBE91CF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AFF3-DC35-4AD6-9BE3-481C1A99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1DF5-D673-4ECB-8751-A5DBDF41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9D8D-FA61-482D-85A3-A40336FC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1F65-7701-4103-B7FE-1179E611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9293-557A-4697-941C-86ED5367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ED76-45C2-416A-88E0-28CF8D60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0C3E-103D-4E84-8BDC-58738BEC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03640" y="62161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6542-83D6-4522-908D-392A2CA39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03280" y="6583320"/>
            <a:ext cx="66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ty-second session of GRSP   11-14 December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4920" y="6453360"/>
            <a:ext cx="1368360" cy="3124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rcRect l="4378" t="70990" r="2719" b="0"/>
          <a:stretch/>
        </p:blipFill>
        <p:spPr>
          <a:xfrm>
            <a:off x="5364000" y="6316560"/>
            <a:ext cx="1729080" cy="604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452600" y="1639800"/>
            <a:ext cx="3936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52600" y="1639800"/>
            <a:ext cx="230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13880" y="163980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3880" y="163980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16000" y="5229360"/>
            <a:ext cx="6912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78400" y="1771920"/>
            <a:ext cx="3955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GULATION No. 9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(Frontal collis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oposal for draft amend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oposal submitted by 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0"/>
            <a:ext cx="2050920" cy="1844280"/>
            <a:chOff x="0" y="0"/>
            <a:chExt cx="2050920" cy="1844280"/>
          </a:xfrm>
        </p:grpSpPr>
        <p:pic>
          <p:nvPicPr>
            <p:cNvPr id="58" name="" descr=""/>
            <p:cNvPicPr/>
            <p:nvPr/>
          </p:nvPicPr>
          <p:blipFill>
            <a:blip r:embed="rId1"/>
            <a:srcRect l="4378" t="70990" r="2719" b="0"/>
            <a:stretch/>
          </p:blipFill>
          <p:spPr>
            <a:xfrm>
              <a:off x="0" y="1126440"/>
              <a:ext cx="205092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rcRect l="4378" t="0" r="2719" b="50319"/>
            <a:stretch/>
          </p:blipFill>
          <p:spPr>
            <a:xfrm>
              <a:off x="0" y="0"/>
              <a:ext cx="2050920" cy="1228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5347080" y="465480"/>
            <a:ext cx="31359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formal Document No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GRSP-42-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42nd GRSP, 11-14 December 2007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nda item 17(b)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DF7F-E39B-4C5E-8D2A-EBE001499FE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nt crush f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558972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etter force harmonisation between light and heavy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042920" y="1413000"/>
            <a:ext cx="6642000" cy="3557520"/>
            <a:chOff x="1042920" y="1413000"/>
            <a:chExt cx="6642000" cy="355752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1042920" y="1413000"/>
              <a:ext cx="4465440" cy="3557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" name=""/>
            <p:cNvGrpSpPr/>
            <p:nvPr/>
          </p:nvGrpSpPr>
          <p:grpSpPr>
            <a:xfrm>
              <a:off x="5722920" y="3139920"/>
              <a:ext cx="1962000" cy="1670040"/>
              <a:chOff x="5722920" y="3139920"/>
              <a:chExt cx="1962000" cy="1670040"/>
            </a:xfrm>
          </p:grpSpPr>
          <p:sp>
            <p:nvSpPr>
              <p:cNvPr id="119" name=""/>
              <p:cNvSpPr/>
              <p:nvPr/>
            </p:nvSpPr>
            <p:spPr>
              <a:xfrm>
                <a:off x="6316560" y="3596400"/>
                <a:ext cx="12985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Current barrier @ 60 kp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>
                <a:off x="5735880" y="3826080"/>
                <a:ext cx="580320" cy="1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316560" y="4168440"/>
                <a:ext cx="13449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ew approach </a:t>
                </a: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@ 60 kp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316560" y="3139920"/>
                <a:ext cx="1368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Current barrier @ 56 kp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722920" y="3368520"/>
                <a:ext cx="593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22920" y="4283640"/>
                <a:ext cx="593640" cy="0"/>
              </a:xfrm>
              <a:prstGeom prst="line">
                <a:avLst/>
              </a:prstGeom>
              <a:ln w="7632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BC2E-AF81-4A9E-837E-FC8684077C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urrent Self protection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" y="1600200"/>
          <a:ext cx="8229600" cy="2849400"/>
        </p:xfrm>
        <a:graphic>
          <a:graphicData uri="http://schemas.openxmlformats.org/drawingml/2006/table">
            <a:tbl>
              <a:tblPr/>
              <a:tblGrid>
                <a:gridCol w="5281560"/>
                <a:gridCol w="1428840"/>
                <a:gridCol w="1519200"/>
              </a:tblGrid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LUENCE ON VEHICLE FRONT END STIFFN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SPEED EFF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 km/h  &gt;&gt;  60 km/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ORMABLE ELEMENT EFF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barrier  &gt;&gt;   PDB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EF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5229000"/>
            <a:ext cx="829152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 3"/>
                <a:ea typeface="Wingdings 3"/>
              </a:rPr>
              <a:t>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GHT CARS SELF PROTECTION IS IMPROV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 3"/>
                <a:ea typeface="Wingdings 3"/>
              </a:rPr>
              <a:t>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EAVY VEHICLES ARE NOT PENAL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69FC-DAFD-43AE-A2E5-3E5DE329E04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efinition of deformable barrier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stics of the deformable b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DB barrier is composed of the following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One back pl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One back deformable cor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 Two intermediate plat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 One progressive deformable cor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 One front deformable cor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 One contact pl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) One outer claddin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 Blind rive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 Epoxy res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48320" y="2427120"/>
            <a:ext cx="4038480" cy="287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0CB6-69E9-4E73-B89B-EC355856C5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efinition of deformable barrier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rrier 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dhesive bond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formity of production (dynamic te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2AA3-F6A2-4245-BA0C-08EDE0CE81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tential for 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iteria assessment still in progress in EEV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to N1 and M1 vehicles greater than 2,5 ton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earch in progress for light truck with NHT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&gt; world wide harmonisation pos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sible future applications to M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FC8A-3EDE-4EC2-9703-1018ABC5D4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nce proposes to set up a new informal group on this subject and is ready to take the lead of this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A6A5-82C6-4ABE-B7DB-EA2AF68AA8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452600" y="1639800"/>
            <a:ext cx="3936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52600" y="1639800"/>
            <a:ext cx="230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13880" y="163980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13880" y="163980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16000" y="5229360"/>
            <a:ext cx="6912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78400" y="1771920"/>
            <a:ext cx="3955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GULATION No. 9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(Frontal collis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oposal for draft amend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oposal submitted by 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0"/>
            <a:ext cx="2050920" cy="1844280"/>
            <a:chOff x="0" y="0"/>
            <a:chExt cx="2050920" cy="18442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rcRect l="4378" t="70990" r="2719" b="0"/>
            <a:stretch/>
          </p:blipFill>
          <p:spPr>
            <a:xfrm>
              <a:off x="0" y="1126440"/>
              <a:ext cx="205092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2"/>
            <a:srcRect l="4378" t="0" r="2719" b="50319"/>
            <a:stretch/>
          </p:blipFill>
          <p:spPr>
            <a:xfrm>
              <a:off x="0" y="0"/>
              <a:ext cx="2050920" cy="1228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F8EF-3EAA-48A0-B423-4637AD5ED47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est severity: Energy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50842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3"/>
                <a:ea typeface="Wingdings 3"/>
              </a:rPr>
              <a:t>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EAVY VEHICLE IS TWO TIME PENALISED: MASS + TEST CONFIGURATIO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3"/>
                <a:ea typeface="Wingdings 3"/>
              </a:rPr>
              <a:t>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ED TO INCREASE SELF PROTECTION OF LIGHT C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476360" y="2997360"/>
            <a:ext cx="2255760" cy="1617480"/>
            <a:chOff x="1476360" y="2997360"/>
            <a:chExt cx="2255760" cy="1617480"/>
          </a:xfrm>
        </p:grpSpPr>
        <p:sp>
          <p:nvSpPr>
            <p:cNvPr id="149" name=""/>
            <p:cNvSpPr/>
            <p:nvPr/>
          </p:nvSpPr>
          <p:spPr>
            <a:xfrm flipH="1">
              <a:off x="1608120" y="2997360"/>
              <a:ext cx="87624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FOR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96920" y="4294080"/>
              <a:ext cx="790560" cy="306000"/>
            </a:xfrm>
            <a:prstGeom prst="rect">
              <a:avLst/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1996920" y="3198600"/>
              <a:ext cx="0" cy="139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697120" y="3622320"/>
              <a:ext cx="539640" cy="977760"/>
            </a:xfrm>
            <a:prstGeom prst="rect">
              <a:avLst/>
            </a:prstGeom>
            <a:solidFill>
              <a:srgbClr val="3333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73160" y="4614840"/>
              <a:ext cx="175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76360" y="4117680"/>
              <a:ext cx="509400" cy="4968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79280" y="3639960"/>
            <a:ext cx="1152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IGHT C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000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484280"/>
            <a:ext cx="1619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EAVY VEHI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0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5130720"/>
            <a:ext cx="8785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403280" y="981000"/>
            <a:ext cx="2879280" cy="1662120"/>
            <a:chOff x="1403280" y="981000"/>
            <a:chExt cx="2879280" cy="1662120"/>
          </a:xfrm>
        </p:grpSpPr>
        <p:sp>
          <p:nvSpPr>
            <p:cNvPr id="159" name=""/>
            <p:cNvSpPr/>
            <p:nvPr/>
          </p:nvSpPr>
          <p:spPr>
            <a:xfrm flipH="1">
              <a:off x="2975760" y="1332000"/>
              <a:ext cx="5205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166560" y="1627200"/>
              <a:ext cx="329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11600" y="2243160"/>
              <a:ext cx="1352160" cy="388800"/>
            </a:xfrm>
            <a:prstGeom prst="rect">
              <a:avLst/>
            </a:prstGeom>
            <a:solidFill>
              <a:srgbClr val="3333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24440" y="1155600"/>
              <a:ext cx="571320" cy="1476360"/>
            </a:xfrm>
            <a:prstGeom prst="rect">
              <a:avLst/>
            </a:prstGeom>
            <a:solidFill>
              <a:srgbClr val="3333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11600" y="2631960"/>
              <a:ext cx="2370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03280" y="2129040"/>
              <a:ext cx="513720" cy="50292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1917000" y="1155600"/>
              <a:ext cx="0" cy="1487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77800" y="981000"/>
              <a:ext cx="86652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FOR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741560" y="2173320"/>
            <a:ext cx="3294720" cy="1835280"/>
            <a:chOff x="4741560" y="2173320"/>
            <a:chExt cx="3294720" cy="1835280"/>
          </a:xfrm>
        </p:grpSpPr>
        <p:sp>
          <p:nvSpPr>
            <p:cNvPr id="168" name=""/>
            <p:cNvSpPr/>
            <p:nvPr/>
          </p:nvSpPr>
          <p:spPr>
            <a:xfrm>
              <a:off x="6265800" y="2409840"/>
              <a:ext cx="1590480" cy="13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61040" y="2409840"/>
              <a:ext cx="1440" cy="1328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56280" y="2409840"/>
              <a:ext cx="1800" cy="1328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265800" y="2409840"/>
              <a:ext cx="1590480" cy="13287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265800" y="3272040"/>
              <a:ext cx="1303200" cy="271440"/>
            </a:xfrm>
            <a:prstGeom prst="rect">
              <a:avLst/>
            </a:prstGeom>
            <a:solidFill>
              <a:srgbClr val="3333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65800" y="2610000"/>
              <a:ext cx="1001520" cy="266760"/>
            </a:xfrm>
            <a:prstGeom prst="rect">
              <a:avLst/>
            </a:prstGeom>
            <a:solidFill>
              <a:srgbClr val="3333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569000" y="3272040"/>
              <a:ext cx="287280" cy="271440"/>
            </a:xfrm>
            <a:prstGeom prst="rect">
              <a:avLst/>
            </a:prstGeom>
            <a:solidFill>
              <a:srgbClr val="ff99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267320" y="2610000"/>
              <a:ext cx="588960" cy="266760"/>
            </a:xfrm>
            <a:prstGeom prst="rect">
              <a:avLst/>
            </a:prstGeom>
            <a:solidFill>
              <a:srgbClr val="ff99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65800" y="3738600"/>
              <a:ext cx="15904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265800" y="3738240"/>
              <a:ext cx="1440" cy="414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7061040" y="3738240"/>
              <a:ext cx="1440" cy="414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7856280" y="3738240"/>
              <a:ext cx="1800" cy="414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65800" y="2409840"/>
              <a:ext cx="1440" cy="1328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24400" y="3738600"/>
              <a:ext cx="414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24400" y="3071880"/>
              <a:ext cx="414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24400" y="2409840"/>
              <a:ext cx="414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40080" y="2173320"/>
              <a:ext cx="2644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% OF KINETIC ENERGY ABSORB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89120" y="38559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947640" y="38559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12640" y="3855960"/>
              <a:ext cx="32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91600" y="3251160"/>
              <a:ext cx="43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EAV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634720" y="3409920"/>
              <a:ext cx="54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2000 kg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11400" y="2589120"/>
              <a:ext cx="38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IGH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34720" y="2747880"/>
              <a:ext cx="54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1000 kg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741560" y="2933640"/>
              <a:ext cx="733680" cy="3589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82960" y="2994120"/>
              <a:ext cx="77760" cy="77760"/>
            </a:xfrm>
            <a:prstGeom prst="rect">
              <a:avLst/>
            </a:prstGeom>
            <a:solidFill>
              <a:srgbClr val="3333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896360" y="2959200"/>
              <a:ext cx="54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EHIC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82960" y="3173400"/>
              <a:ext cx="77760" cy="77760"/>
            </a:xfrm>
            <a:prstGeom prst="rect">
              <a:avLst/>
            </a:prstGeom>
            <a:solidFill>
              <a:srgbClr val="ff99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97080" y="3138480"/>
              <a:ext cx="576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RRI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C00E-8642-41C9-8DA5-765EB8902DC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CHOC07a" descr=""/>
          <p:cNvPicPr/>
          <p:nvPr/>
        </p:nvPicPr>
        <p:blipFill>
          <a:blip r:embed="rId1"/>
          <a:stretch/>
        </p:blipFill>
        <p:spPr>
          <a:xfrm>
            <a:off x="2771640" y="4005360"/>
            <a:ext cx="2310120" cy="1079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730600" y="1774800"/>
            <a:ext cx="2438280" cy="1079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11280" y="2279520"/>
            <a:ext cx="189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id barr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46240" y="4378320"/>
            <a:ext cx="248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forma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008000" y="476280"/>
                <a:ext cx="11890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6630840" y="476280"/>
                <a:ext cx="20466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ab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ehicl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EE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6443640" y="2006640"/>
                <a:ext cx="146196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ab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ehicl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090960" y="3006720"/>
                <a:ext cx="15602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ab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rrie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k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243240" y="603360"/>
                <a:ext cx="255276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k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ab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ehicl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ab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rrie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319800" y="2635200"/>
                <a:ext cx="155592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verit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5970600" y="4160880"/>
                <a:ext cx="255276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ab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ehicl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k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ab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rrie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796000" y="4808520"/>
                <a:ext cx="27655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verity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ab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rrie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2413080" y="706320"/>
            <a:ext cx="431640" cy="144720"/>
          </a:xfrm>
          <a:prstGeom prst="rightArrow">
            <a:avLst>
              <a:gd name="adj1" fmla="val 50000"/>
              <a:gd name="adj2" fmla="val 74565"/>
            </a:avLst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940360" y="706320"/>
            <a:ext cx="432000" cy="144720"/>
          </a:xfrm>
          <a:prstGeom prst="rightArrow">
            <a:avLst>
              <a:gd name="adj1" fmla="val 50000"/>
              <a:gd name="adj2" fmla="val 74627"/>
            </a:avLst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132000" y="5238720"/>
                <a:ext cx="156060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ab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rrier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k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5796000" y="4076640"/>
            <a:ext cx="2798640" cy="1152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16520" y="1919160"/>
            <a:ext cx="2737080" cy="1152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A2E0-67A8-40EC-8E4A-E25DCEFDAB2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644920" y="692280"/>
                <a:ext cx="44481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verity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ab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rrie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466560" y="2781360"/>
            <a:ext cx="8642520" cy="29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compensate the severity for heavy vehi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V f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riation on test speed (V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Variation 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635280" y="1838160"/>
            <a:ext cx="2808000" cy="368280"/>
            <a:chOff x="3635280" y="1838160"/>
            <a:chExt cx="2808000" cy="368280"/>
          </a:xfrm>
        </p:grpSpPr>
        <p:sp>
          <p:nvSpPr>
            <p:cNvPr id="217" name=""/>
            <p:cNvSpPr/>
            <p:nvPr/>
          </p:nvSpPr>
          <p:spPr>
            <a:xfrm>
              <a:off x="3635280" y="1838160"/>
              <a:ext cx="28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f m        &gt;&gt;&gt; severity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282920" y="191124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5938560" y="191772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7093080" y="5373720"/>
                <a:ext cx="95544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ab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rrie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30440" y="4869000"/>
                <a:ext cx="198900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ab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rrie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an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2627280" y="620640"/>
            <a:ext cx="4465800" cy="647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5400000">
            <a:off x="4572720" y="1483200"/>
            <a:ext cx="431640" cy="144720"/>
          </a:xfrm>
          <a:prstGeom prst="rightArrow">
            <a:avLst>
              <a:gd name="adj1" fmla="val 50000"/>
              <a:gd name="adj2" fmla="val 74565"/>
            </a:avLst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400000">
            <a:off x="4572720" y="2419920"/>
            <a:ext cx="431640" cy="144720"/>
          </a:xfrm>
          <a:prstGeom prst="rightArrow">
            <a:avLst>
              <a:gd name="adj1" fmla="val 50000"/>
              <a:gd name="adj2" fmla="val 74565"/>
            </a:avLst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7735200">
            <a:off x="3957840" y="3969360"/>
            <a:ext cx="792000" cy="142920"/>
          </a:xfrm>
          <a:prstGeom prst="rightArrow">
            <a:avLst>
              <a:gd name="adj1" fmla="val 50000"/>
              <a:gd name="adj2" fmla="val 138539"/>
            </a:avLst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3179400">
            <a:off x="4894560" y="3969360"/>
            <a:ext cx="792000" cy="142920"/>
          </a:xfrm>
          <a:prstGeom prst="rightArrow">
            <a:avLst>
              <a:gd name="adj1" fmla="val 50000"/>
              <a:gd name="adj2" fmla="val 138539"/>
            </a:avLst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00000" y="4724280"/>
            <a:ext cx="3816360" cy="100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59280" y="4724280"/>
            <a:ext cx="3384720" cy="100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BA57-2C9A-4444-92E5-5B6B4459006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A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xpert from France announced that at the next session he will present a proposal for draft amendments to Regulation N°94 taking into account the outcome of the research on barriers carried out by the EEVC Working Group 15 “Frontal impact and Crash compatibility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inforce passive safety performance of modern vehic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rmonise front-end force of the future flee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405D-C8BA-437C-B344-3C7F4D2ADCA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916360" y="692280"/>
                <a:ext cx="37447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ES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ab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rrie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466560" y="2781360"/>
            <a:ext cx="8642520" cy="29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compensate severity for heavy vehi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 f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riation on test speed (V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Variation 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635280" y="1838160"/>
            <a:ext cx="2808000" cy="368280"/>
            <a:chOff x="3635280" y="1838160"/>
            <a:chExt cx="2808000" cy="368280"/>
          </a:xfrm>
        </p:grpSpPr>
        <p:sp>
          <p:nvSpPr>
            <p:cNvPr id="232" name=""/>
            <p:cNvSpPr/>
            <p:nvPr/>
          </p:nvSpPr>
          <p:spPr>
            <a:xfrm>
              <a:off x="3635280" y="1838160"/>
              <a:ext cx="28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if m        then    EES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4282920" y="191124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5938560" y="191772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7093080" y="5373720"/>
                <a:ext cx="95544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ab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rrie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979640" y="4869000"/>
                <a:ext cx="157968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ab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rrie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st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2627280" y="620640"/>
            <a:ext cx="4176720" cy="647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4572720" y="1483200"/>
            <a:ext cx="431640" cy="144720"/>
          </a:xfrm>
          <a:prstGeom prst="rightArrow">
            <a:avLst>
              <a:gd name="adj1" fmla="val 50000"/>
              <a:gd name="adj2" fmla="val 74565"/>
            </a:avLst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4572720" y="2419920"/>
            <a:ext cx="431640" cy="144720"/>
          </a:xfrm>
          <a:prstGeom prst="rightArrow">
            <a:avLst>
              <a:gd name="adj1" fmla="val 50000"/>
              <a:gd name="adj2" fmla="val 74565"/>
            </a:avLst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7735200">
            <a:off x="3957840" y="3969360"/>
            <a:ext cx="792000" cy="142920"/>
          </a:xfrm>
          <a:prstGeom prst="rightArrow">
            <a:avLst>
              <a:gd name="adj1" fmla="val 50000"/>
              <a:gd name="adj2" fmla="val 138539"/>
            </a:avLst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3179400">
            <a:off x="4894560" y="3969360"/>
            <a:ext cx="792000" cy="142920"/>
          </a:xfrm>
          <a:prstGeom prst="rightArrow">
            <a:avLst>
              <a:gd name="adj1" fmla="val 50000"/>
              <a:gd name="adj2" fmla="val 138539"/>
            </a:avLst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42920" y="4724280"/>
            <a:ext cx="3673440" cy="100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59280" y="4724280"/>
            <a:ext cx="3529080" cy="1008360"/>
          </a:xfrm>
          <a:prstGeom prst="roundRect">
            <a:avLst>
              <a:gd name="adj" fmla="val 16667"/>
            </a:avLst>
          </a:prstGeom>
          <a:solidFill>
            <a:srgbClr val="ff6600">
              <a:alpha val="30000"/>
            </a:srgbClr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116000" y="4365720"/>
            <a:ext cx="3600360" cy="1871640"/>
          </a:xfrm>
          <a:prstGeom prst="line">
            <a:avLst/>
          </a:prstGeom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116000" y="4437000"/>
            <a:ext cx="3384720" cy="1728720"/>
          </a:xfrm>
          <a:prstGeom prst="line">
            <a:avLst/>
          </a:prstGeom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05080" y="5911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olitically unaccep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0587-E1A2-45D9-B35D-6FA6B4D2E6B9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1997 Directive 96/ 79/ CE (Frontal collision) was first introduced (</a:t>
            </a: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egulation N°94 alignment in 1998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the European Commission wanted to review certain technical aspects, especially the test speed and the barrier design after a period of implemen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2000, EEVC WG16 (frontal impact)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mmended “not to raise the test speed to 60 km/h until there is a better understanding of compatibility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orted: "barrier instability for new generation of car and a barrier stiffness too low for modern vehicles (as they bottom out the barrier), was not the original intent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2007, EEVC WG15 (frontal impact and compatibility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mmended, "the test speed of the current offset test (Regulation N°94) must not be raised to 60 km/h without modification of the current test procedure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ed: "the current test speed for regulation cannot be increased using the existing UNECE Regulation N°94 barrier without increasing the existing discrepancy in frontal stiffness and aggressiveness for the vehicle fleet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DD37-F76F-4E02-9DFF-790998841D2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rrent Barrier problems in Regulation N°94, (listed in EEVC WG15 final report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rrier instability for new generation of car, stiffness of barrier too low for modern vehi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st severity increases with car mass with constant test speed and makes force matching unreach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f-protection level depends on the vehicle size and m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ficult to assess force levels with this barrier type and configuration with constant speed tests (bottoming out of barrier causes undesired inertial loads for measurement of a cars frontal for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structural interaction is potentially possible because of load spreading in the barrier and subsequent barrier bottoming 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osed chang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st parameters: test speed, overlap and barrier ground clear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stacle: new barrier design (PDB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5351-A4C0-4C0E-B801-56D611EBEF2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452600" y="1639800"/>
            <a:ext cx="3936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52600" y="1639800"/>
            <a:ext cx="230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13880" y="163980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3880" y="163980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42920" y="370800"/>
            <a:ext cx="6357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Overlap and ground clea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50 per cent overlap and 150 mm ground clearance ensures that the full front of the vehicle is in direct contact with the barrier when tested in offset condi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4578480" y="950760"/>
            <a:ext cx="3146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4578480" y="950760"/>
            <a:ext cx="2990880" cy="33624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-4578480" y="950760"/>
            <a:ext cx="309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-4578480" y="950760"/>
            <a:ext cx="3000600" cy="337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-4578480" y="1773360"/>
          <a:ext cx="6245280" cy="3313080"/>
        </p:xfrm>
        <a:graphic>
          <a:graphicData uri="http://schemas.openxmlformats.org/drawingml/2006/table">
            <a:tbl>
              <a:tblPr/>
              <a:tblGrid>
                <a:gridCol w="3146400"/>
                <a:gridCol w="3098880"/>
              </a:tblGrid>
              <a:tr h="33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4176720" y="333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3000600" cy="3372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657600" y="311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4572000" y="1989000"/>
            <a:ext cx="2990880" cy="3362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08000" y="1340640"/>
            <a:ext cx="46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lative position of the vehicle front end structure in front of the barrier (side members and lower load paths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2A5B-F3D0-41F1-AA23-4008C21890D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684360" y="1052640"/>
            <a:ext cx="7345080" cy="4968720"/>
            <a:chOff x="684360" y="1052640"/>
            <a:chExt cx="7345080" cy="4968720"/>
          </a:xfrm>
        </p:grpSpPr>
        <p:sp>
          <p:nvSpPr>
            <p:cNvPr id="83" name=""/>
            <p:cNvSpPr/>
            <p:nvPr/>
          </p:nvSpPr>
          <p:spPr>
            <a:xfrm>
              <a:off x="684360" y="1052640"/>
              <a:ext cx="7345080" cy="496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885680" y="202536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887120" y="2025360"/>
              <a:ext cx="180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87120" y="2025360"/>
              <a:ext cx="180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881000" y="3638520"/>
              <a:ext cx="5943240" cy="108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881000" y="3333600"/>
              <a:ext cx="5943240" cy="108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828720" y="1484280"/>
              <a:ext cx="7127280" cy="44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5940360" y="1196640"/>
              <a:ext cx="162828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"/>
          <p:cNvSpPr/>
          <p:nvPr/>
        </p:nvSpPr>
        <p:spPr>
          <a:xfrm>
            <a:off x="611280" y="687960"/>
            <a:ext cx="835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uctural database of the 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hicle Crash Compatibility" projec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VC‑Comp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6035040"/>
            <a:ext cx="835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lidated by EEVC WG15 and presented on informal document GRSP‑41‑25 (41st GRSP sessio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4458-1383-4E60-ADBA-D162761F9E9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arison of the two deformable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rrent ECE R94 barrier with constant stiff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ed barrier with Progressive Stiff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78D0-88B2-486B-B416-34937B3C59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est severity: Self protection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530064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 3"/>
                <a:ea typeface="Wingdings 3"/>
              </a:rPr>
              <a:t>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ED TO HARMONISE TEST SEVER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 3"/>
                <a:ea typeface="Wingdings 3"/>
              </a:rPr>
              <a:t>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ED TO IMPROVE SELF PROTECTION OF LIGHT C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24360" y="1197000"/>
            <a:ext cx="2808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SEVE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ECE R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68360" y="1268280"/>
            <a:ext cx="4481640" cy="2908440"/>
            <a:chOff x="468360" y="1268280"/>
            <a:chExt cx="4481640" cy="2908440"/>
          </a:xfrm>
        </p:grpSpPr>
        <p:sp>
          <p:nvSpPr>
            <p:cNvPr id="99" name=""/>
            <p:cNvSpPr/>
            <p:nvPr/>
          </p:nvSpPr>
          <p:spPr>
            <a:xfrm>
              <a:off x="486000" y="3168720"/>
              <a:ext cx="196200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LIGHT C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1000 k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8360" y="2089080"/>
              <a:ext cx="196236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HEAVY VEHIC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2000 k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646360" y="1268280"/>
              <a:ext cx="576360" cy="2908440"/>
            </a:xfrm>
            <a:prstGeom prst="upArrow">
              <a:avLst>
                <a:gd name="adj1" fmla="val 33333"/>
                <a:gd name="adj2" fmla="val 1382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98720" y="3430440"/>
              <a:ext cx="863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98720" y="2352600"/>
              <a:ext cx="863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95640" y="2214360"/>
              <a:ext cx="185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EES: 50 km/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95640" y="3286080"/>
              <a:ext cx="185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EES: 44 km/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508720" y="2492280"/>
            <a:ext cx="3206520" cy="1297080"/>
            <a:chOff x="5508720" y="2492280"/>
            <a:chExt cx="3206520" cy="1297080"/>
          </a:xfrm>
        </p:grpSpPr>
        <p:sp>
          <p:nvSpPr>
            <p:cNvPr id="107" name=""/>
            <p:cNvSpPr/>
            <p:nvPr/>
          </p:nvSpPr>
          <p:spPr>
            <a:xfrm>
              <a:off x="5787720" y="2738160"/>
              <a:ext cx="2808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Self protection level depends on the vehicle mass / siz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08720" y="2492280"/>
              <a:ext cx="3206520" cy="12970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6203-254C-4C10-B14F-2D095F73608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st seve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332000" y="1341360"/>
            <a:ext cx="6337080" cy="3859200"/>
            <a:chOff x="1332000" y="1341360"/>
            <a:chExt cx="6337080" cy="385920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1332000" y="1341360"/>
              <a:ext cx="6337080" cy="38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6011640" y="4581360"/>
              <a:ext cx="1512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w approa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79280" y="5589720"/>
            <a:ext cx="8640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ncrease the test severity for light vehicles without changing heavy one’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Test severity for all vehicle mass range will be harmonised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3656-562A-4A83-8E64-0DCFD30E1B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5T14:07:19Z</dcterms:created>
  <dc:creator>Tiphaine MARTIN</dc:creator>
  <dc:description/>
  <dc:language>en-US</dc:language>
  <cp:lastModifiedBy>Gianotti</cp:lastModifiedBy>
  <cp:lastPrinted>2003-09-16T12:44:55Z</cp:lastPrinted>
  <dcterms:modified xsi:type="dcterms:W3CDTF">2007-12-13T13:04:16Z</dcterms:modified>
  <cp:revision>1099</cp:revision>
  <dc:subject/>
  <dc:title>Aucun titre de diapositive</dc:title>
</cp:coreProperties>
</file>