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A30-2849-49C3-A9D4-362C3199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822-6625-4212-ADE3-5208EECD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E25-9985-4C6C-93FA-1DB29C5E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4CB-126D-4284-966E-51EA9E67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9B9-02F0-4ECC-9D6C-986A4D02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631-48E2-4BB7-B74D-95B05C2B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463-65C6-4423-BBF9-F1EA58EF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72A-1F03-4F70-9B7B-06F6ABAA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FBA-D56D-4690-91A0-D5ACA866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B7B-F8AC-4981-A9AC-3CB7A198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AEE-7E0F-4960-92D0-91095B6A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21B-0D0B-42B7-A86A-C076C4A0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A9E9-921D-4F60-AE70-87A5EA357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so.org/iso/fr/iso_catalogue/catalogue_ics/catalogue_detail_ics.htm?csnumber=45301&amp;ICS1=43&amp;ICS2=040&amp;ICS3=80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osal for a new Regulation on Child Restrai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by the experts from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971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ormal document No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SP-42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42nd GRSP, 11-14 December 200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enda item 12(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050920" y="333360"/>
          <a:ext cx="6240600" cy="639720"/>
        </p:xfrm>
        <a:graphic>
          <a:graphicData uri="http://schemas.openxmlformats.org/drawingml/2006/table">
            <a:tbl>
              <a:tblPr/>
              <a:tblGrid>
                <a:gridCol w="3579840"/>
                <a:gridCol w="2660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17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mitted by the expert from 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17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nformal document No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SP-42-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2nd GRSP, 11-14 December 2007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da item 12(a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ase of Use / Mis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cri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S installation in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S adjustment for child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ustable (permanently fitted) ha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operability with veh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fety be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 tensio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limi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b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ult sitting position (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ld comfort and health harm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OCUME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360" y="1316880"/>
            <a:ext cx="871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VC WG18: Draft document to be validated by EEVC SC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“LEGISLATION REVIEW ON CHILD PROTECTION &amp; PROPOSAL OF POSSIBLE IMPROVEMENTS OF THE CURRENT EUROPEAN LEGIS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EVC WG12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ocuments N° 394, 493, 498 &amp;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O: ISO TC 22/SC 12/WG 1 Document ISO/PDTS 14646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so.org/iso/fr/iso_catalogue/catalogue_ics/catalogue_detail_ics.htm?csnumber=45301&amp;ICS1=43&amp;ICS2=040&amp;ICS3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C: NPACS New Programme for the Assessment of Child Seats - Procedures for the Evaluation of Child Restraint Systems for Consumer Information - Final Report - March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dft.gov.uk/rmd/project.asp?intProjectID=11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ec.europa.eu/transport/roadsafety/publications/projectfiles/npacs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I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ocuments ECE-TRANS-WP29-GRSP-41-inf17e&amp;18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unece.org/trans/doc/2007/wp29grsp/ECE-TRANS-WP29-GRSP-41-inf17e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unece.org/trans/doc/2007/wp29grsp/ECE-TRANS-WP29-GRSP-41-inf18e.pdf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ing its 142nd session WP29 agreed to the establishment by GRSP of the new inform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nce wants to propose a frame work for this informal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d on outputs coming from different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the needs to improve Child Restraint Systems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basis of a new set of perform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POSAL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b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ication of Child Restrai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m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ynam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s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b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e of Use / Mis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 Of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 with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 comfort and health harm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bench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resentatives of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s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ractor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 rotation ancho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ssification of C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gral (ISOFIX) / Non integ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um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dominal 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tical head/neck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ynam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e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nt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r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types of tests (2 pul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 seat mechanical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 mechanical perform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onents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(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ability (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2nd GRSP GENEVA 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5:39:54Z</dcterms:created>
  <dc:creator>castaing</dc:creator>
  <dc:description/>
  <dc:language>en-US</dc:language>
  <cp:lastModifiedBy>Gianotti</cp:lastModifiedBy>
  <dcterms:modified xsi:type="dcterms:W3CDTF">2007-12-12T12:18:22Z</dcterms:modified>
  <cp:revision>7</cp:revision>
  <dc:subject/>
  <dc:title>Diapositive 1</dc:title>
</cp:coreProperties>
</file>