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440613" cy="1092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441200" cy="10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224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214880" y="-360"/>
            <a:ext cx="3224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90360" y="819000"/>
            <a:ext cx="5459400" cy="40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744480" y="5187960"/>
            <a:ext cx="59515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374480"/>
            <a:ext cx="3224160" cy="5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14880" y="10374480"/>
            <a:ext cx="3224160" cy="5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05AB-FC8F-4E97-9CBC-29483BA7E3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90720" y="819000"/>
            <a:ext cx="5460840" cy="4096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44480" y="5187960"/>
            <a:ext cx="59515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k you chairman, and good after noon ladies and gentlemen. My name is Atsuhiro Konosu, and I assigned a task of chairperson of Flex-TEG MT. In this presentation, I would like to explain its activities so f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60360"/>
            <a:ext cx="8420040" cy="614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436572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suhiro Ko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person of Flex-TEG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170080"/>
            <a:ext cx="8929800" cy="2043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Repor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le Pedestrian Legform Impactor Technical Evaluation Group (Flex-TEG)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81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mitted by the expert from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4280"/>
            <a:ext cx="331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SP-41-0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1st GRSP, 7-11 May 2007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da item 2.1.1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35720" y="895320"/>
            <a:ext cx="0" cy="511344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49560" y="79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4032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80" y="17316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-TEG Overal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8680" y="4428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Flex-TEG Activities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ex-TEG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80" y="549360"/>
            <a:ext cx="9036000" cy="6208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Agenda of 4</a:t>
            </a:r>
            <a:r>
              <a:rPr b="1" lang="ja-JP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 Flex-TEG meeting (2 April 2007, BASt, Bergisch Gladb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1. Opening and Wel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2. Adoption on the draft agenda of 4th Flex-TE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3. Adoption on the draft minutes for 3rd Flex-TE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4. Confirmation of Status of Acti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 Flex-GT Information and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1. Computer simulation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1.1. Development of an FE Biofidelic Flexible Pedestrian Legform Impactor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FLEX-GT-prototyp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1.2. Development of a Biofidelic Flexible Pedestrian Legform Impactor Type G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FLEX-G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2.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2.1. Information on Flexible Pedestrian Legform Impactor Type GT (FLEX-G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3. Te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3.1. Flexible Pedestrian Legform Impactor Type GT (FLEX-GT) Evaluation Te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3.2. Flexible Pedestrian Legform Impactor Type GT (FLEX-GT) Car Te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3.3. Flex-GT-prototype BASt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3.4. Handling and Usage (Flex-GT-proto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3.5. Certification Histories (Flex-GT-proto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3.6. Flex-GT-prototype ACEA/BASt Tests at BASt/BGS Marc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5.4. Demonstration of the Flex-GT-prototype test (13:30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6. Future action plans (round-robin tes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7. Discussion on the contents of Flex-TEG status report for the 41st GR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8. A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9. 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8680" y="4428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Flex-TEG Activities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ex-TEG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565200"/>
            <a:ext cx="9036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Participants of 4</a:t>
            </a:r>
            <a:r>
              <a:rPr b="1" lang="ja-JP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 Flex-TEG meeting (2 April 2007, BASt, Bergisch Gladb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5120" y="1071720"/>
            <a:ext cx="7437240" cy="530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A. Konosu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lex-TEG chairperson/J-MLIT/JAR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. Bee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lex-TEG secretariat/FTSS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. Inomata (J-MLIT/JASI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. Zander, B. Lorenz (B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D. Cesari (INR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. Gehring, P. Lessmann (B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. Kinsky, M. Zeugner, M. Erzgraeber (GM-E/AC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. Ries (VW/AC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. Fleischhacker (Porsche/AC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. Sipido, J. Ni (F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. Suzuki, I. Imaizumi (HONDA R&amp;D/JAMA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K. Wolff (S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. Minne (UTA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L. Thompson (T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W. Liebers (T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. Haug (GE Pla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. Burleigh (FTSS-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. Issiki (J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: 24 attendanc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1050840"/>
            <a:ext cx="3855960" cy="403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680" y="4428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Flex-TEG Activities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ex-TEG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565200"/>
            <a:ext cx="885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int 1: Finalization of the Flex-GT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1052640"/>
            <a:ext cx="5076720" cy="359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80080" y="981000"/>
            <a:ext cx="1771560" cy="3384720"/>
          </a:xfrm>
          <a:custGeom>
            <a:avLst/>
            <a:gdLst>
              <a:gd name="textAreaLeft" fmla="*/ 86400 w 1771560"/>
              <a:gd name="textAreaRight" fmla="*/ 1685160 w 1771560"/>
              <a:gd name="textAreaTop" fmla="*/ 86400 h 3384720"/>
              <a:gd name="textAreaBottom" fmla="*/ 3298320 h 3384720"/>
            </a:gdLst>
            <a:ahLst/>
            <a:rect l="textAreaLeft" t="textAreaTop" r="textAreaRight" b="textAreaBottom"/>
            <a:pathLst>
              <a:path w="21600" h="41265">
                <a:moveTo>
                  <a:pt x="3600" y="0"/>
                </a:moveTo>
                <a:arcTo wR="3600" hR="3600" stAng="16200000" swAng="-5400000"/>
                <a:lnTo>
                  <a:pt x="0" y="37665"/>
                </a:lnTo>
                <a:arcTo wR="3600" hR="3600" stAng="10800000" swAng="-5400000"/>
                <a:lnTo>
                  <a:pt x="18000" y="41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5157720"/>
            <a:ext cx="352728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-GT specification (need not to change Flex-GT-prototype specification) and its best impact height is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6480000" y="4689360"/>
            <a:ext cx="431640" cy="358920"/>
          </a:xfrm>
          <a:prstGeom prst="rightArrow">
            <a:avLst>
              <a:gd name="adj1" fmla="val 50000"/>
              <a:gd name="adj2" fmla="val 3006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13372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8680" y="4428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Flex-TEG Activities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ex-TEG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565200"/>
            <a:ext cx="885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int 1: Finalization of the Flex-GT specifications, con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840" y="981000"/>
            <a:ext cx="91224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-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697360" y="1325520"/>
            <a:ext cx="3411720" cy="5365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51720" y="9810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39520" y="102384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ment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8000" y="1577880"/>
            <a:ext cx="3189240" cy="4991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489480" y="1577880"/>
            <a:ext cx="838080" cy="4996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75640" y="12682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in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7840" y="126828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uter Fl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08560" y="2298600"/>
            <a:ext cx="1243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l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oprene and rubber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24360" y="2514600"/>
            <a:ext cx="503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8680" y="4428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Flex-TEG Activities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ex-TEG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565200"/>
            <a:ext cx="8856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int 2: Many of Flex-GT and Flex-GT-prototype test data is started to 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990720"/>
            <a:ext cx="8856720" cy="207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enda of 4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Flex-TE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 Te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1. Flexible Pedestrian Legform Impactor Type GT (FLEX-GT) Evaluation Te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2. Flexible Pedestrian Legform Impactor Type GT (FLEX-GT) Car Te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3. Flex-GT-prototype BASt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4. Handling and Usage (Flex-GT-proto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5. Certification Histories (Flex-GT-prototy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.6. Flex-GT-prototype ACEA/BASt Tests at BASt/BGS Marc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0000" y="581184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07D, Flex-GT (SN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0000" y="491796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07D, Flex-GT (SN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0000" y="400536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07C, Flex-GT (SN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00" y="3068640"/>
            <a:ext cx="157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07A, Flex-GT (SN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11134"/>
          <a:stretch/>
        </p:blipFill>
        <p:spPr>
          <a:xfrm>
            <a:off x="4211640" y="5013360"/>
            <a:ext cx="208908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11640" y="3251160"/>
            <a:ext cx="2038320" cy="165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05200" y="4897440"/>
            <a:ext cx="939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urce: JAMA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05200" y="4005360"/>
            <a:ext cx="939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urce: JAMA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720" y="5819760"/>
            <a:ext cx="128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urce: J-MLIT/NTSEL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720" y="6700680"/>
            <a:ext cx="128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urce: J-MLIT/NTSEL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82840" y="6686640"/>
            <a:ext cx="1118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urce: BASt/BGS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82840" y="4869000"/>
            <a:ext cx="1118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urce: BASt/BGS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3500280"/>
            <a:ext cx="2475000" cy="2284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 on Flex-GT-prototype and Flex-GT is just sta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-GT evaluation tests will be continued by this autumn, then 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ex-TEG meeting will be held in this autum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4960" y="3274920"/>
            <a:ext cx="3533760" cy="752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64960" y="4197240"/>
            <a:ext cx="353376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64960" y="5108400"/>
            <a:ext cx="3533760" cy="743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64960" y="6005520"/>
            <a:ext cx="3524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360360"/>
            <a:ext cx="8420040" cy="614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8000" y="2781360"/>
            <a:ext cx="5689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 you for your atten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20:02Z</dcterms:created>
  <dc:creator> </dc:creator>
  <dc:description/>
  <dc:language>en-US</dc:language>
  <cp:lastModifiedBy>Gianotti</cp:lastModifiedBy>
  <dcterms:modified xsi:type="dcterms:W3CDTF">2007-04-30T09:30:06Z</dcterms:modified>
  <cp:revision>182</cp:revision>
  <dc:subject/>
  <dc:title>スライド 1</dc:title>
</cp:coreProperties>
</file>