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06000" y="645840"/>
            <a:ext cx="4908600" cy="367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Comic Sans MS"/>
              </a:rPr>
              <a:t>Click to move the slide</a:t>
            </a: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7760" y="4559040"/>
            <a:ext cx="5354640" cy="3794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30600" bIns="306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9320" cy="356076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0600" bIns="306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422360" y="843120"/>
            <a:ext cx="4471920" cy="3354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06360" y="64620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7760" y="4559040"/>
            <a:ext cx="5354640" cy="3794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30600" bIns="306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06360" y="646200"/>
            <a:ext cx="4908600" cy="36795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7760" y="4559040"/>
            <a:ext cx="5354640" cy="3794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30600" bIns="30600" anchor="t">
            <a:noAutofit/>
          </a:bodyPr>
          <a:p>
            <a:pPr indent="0" algn="just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1920" y="3827520"/>
            <a:ext cx="79880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1920" y="382752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82752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2640" y="111276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11276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1920" y="382752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2640" y="382752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827520"/>
            <a:ext cx="25718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spcAft>
                <a:spcPts val="2750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3898080" cy="519768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112760"/>
            <a:ext cx="3898080" cy="519768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0720" y="74160"/>
            <a:ext cx="87994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112760"/>
            <a:ext cx="3898080" cy="519768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1920" y="382752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3898080" cy="519768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82752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112760"/>
            <a:ext cx="389808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1920" y="3827520"/>
            <a:ext cx="7988040" cy="2478960"/>
          </a:xfrm>
          <a:prstGeom prst="rect">
            <a:avLst/>
          </a:prstGeom>
          <a:noFill/>
          <a:ln w="0">
            <a:noFill/>
          </a:ln>
        </p:spPr>
        <p:txBody>
          <a:bodyPr lIns="118800" rIns="118800" tIns="58320" bIns="58320" anchor="t">
            <a:normAutofit/>
          </a:bodyPr>
          <a:p>
            <a:pPr indent="0">
              <a:spcBef>
                <a:spcPts val="2750"/>
              </a:spcBef>
              <a:spcAft>
                <a:spcPts val="2750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Comic Sans MS"/>
              </a:rPr>
              <a:t>Click to edit the title text format</a:t>
            </a: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 fontScale="57000"/>
          </a:bodyPr>
          <a:p>
            <a:pPr marL="255960" indent="-255960">
              <a:spcBef>
                <a:spcPts val="2750"/>
              </a:spcBef>
              <a:spcAft>
                <a:spcPts val="27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554400" indent="-211680">
              <a:spcBef>
                <a:spcPts val="2750"/>
              </a:spcBef>
              <a:spcAft>
                <a:spcPts val="2750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2" marL="853920" indent="-169920">
              <a:spcBef>
                <a:spcPts val="2750"/>
              </a:spcBef>
              <a:spcAft>
                <a:spcPts val="2750"/>
              </a:spcAft>
              <a:buClr>
                <a:srgbClr val="ff00ff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3" marL="1197000" indent="-170640">
              <a:spcBef>
                <a:spcPts val="2750"/>
              </a:spcBef>
              <a:spcAft>
                <a:spcPts val="2750"/>
              </a:spcAft>
              <a:buClr>
                <a:srgbClr val="ff9800"/>
              </a:buClr>
              <a:buSzPct val="62000"/>
              <a:buFont typeface="Wingdings" charset="2"/>
              <a:buChar char="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4" marL="1537200" indent="-169920">
              <a:spcBef>
                <a:spcPts val="2750"/>
              </a:spcBef>
              <a:spcAft>
                <a:spcPts val="2750"/>
              </a:spcAft>
              <a:buClr>
                <a:srgbClr val="ff9800"/>
              </a:buClr>
              <a:buSzPct val="62000"/>
              <a:buFont typeface="Wingdings" charset="2"/>
              <a:buChar char="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5" marL="1537200" indent="-169920">
              <a:spcBef>
                <a:spcPts val="2750"/>
              </a:spcBef>
              <a:spcAft>
                <a:spcPts val="2750"/>
              </a:spcAft>
              <a:buClr>
                <a:srgbClr val="ffffff"/>
              </a:buClr>
              <a:buSzPct val="62000"/>
              <a:buFont typeface="Wingdings" charset="2"/>
              <a:buChar char="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6" marL="1537200" indent="-169920">
              <a:spcBef>
                <a:spcPts val="2750"/>
              </a:spcBef>
              <a:spcAft>
                <a:spcPts val="2750"/>
              </a:spcAft>
              <a:buClr>
                <a:srgbClr val="ffffff"/>
              </a:buClr>
              <a:buSzPct val="62000"/>
              <a:buFont typeface="Wingdings" charset="2"/>
              <a:buChar char="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715000" y="6478560"/>
            <a:ext cx="33987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omic Sans MS"/>
              </a:rPr>
              <a:t>GRRF 61 5</a:t>
            </a:r>
            <a:r>
              <a:rPr b="1" lang="en-GB" sz="11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1100" spc="-1" strike="noStrike">
                <a:solidFill>
                  <a:srgbClr val="ffffff"/>
                </a:solidFill>
                <a:latin typeface="Comic Sans MS"/>
              </a:rPr>
              <a:t> – 9</a:t>
            </a:r>
            <a:r>
              <a:rPr b="1" lang="en-GB" sz="11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1100" spc="-1" strike="noStrike">
                <a:solidFill>
                  <a:srgbClr val="ffffff"/>
                </a:solidFill>
                <a:latin typeface="Comic Sans MS"/>
              </a:rPr>
              <a:t> February 2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524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9600" y="6323040"/>
            <a:ext cx="119556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1752480"/>
            <a:ext cx="457200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800" spc="-1" strike="noStrike">
                <a:solidFill>
                  <a:srgbClr val="ffff00"/>
                </a:solidFill>
                <a:latin typeface="Comic Sans MS"/>
              </a:rPr>
              <a:t>Commercial vehicle wheel detachment and fixing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16520" y="5445000"/>
            <a:ext cx="422748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</a:rPr>
              <a:t>Department for Transport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0600" y="20160"/>
            <a:ext cx="6432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81240"/>
                <a:tab algn="l" pos="2562120"/>
                <a:tab algn="l" pos="3843360"/>
                <a:tab algn="l" pos="5124600"/>
                <a:tab algn="l" pos="6405480"/>
                <a:tab algn="l" pos="7686720"/>
                <a:tab algn="l" pos="8967960"/>
                <a:tab algn="l" pos="1024884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GRRF 61</a:t>
            </a:r>
            <a:r>
              <a:rPr b="1" lang="en-US" sz="3600" spc="-1" strike="noStrike" baseline="30000">
                <a:solidFill>
                  <a:srgbClr val="66ffff"/>
                </a:solidFill>
                <a:latin typeface="Comic Sans MS"/>
              </a:rPr>
              <a:t>st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 Sess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16520" y="4724280"/>
            <a:ext cx="40417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awrence That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4146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39000" y="28440"/>
            <a:ext cx="310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Informal document N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RRF-61-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61st GRRF, 5-9 February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da item 7.4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GB" sz="53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7520" y="1112760"/>
            <a:ext cx="850896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-449280">
              <a:lnSpc>
                <a:spcPct val="80000"/>
              </a:lnSpc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Wheel clamp load critical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lnSpc>
                <a:spcPct val="80000"/>
              </a:lnSpc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Current fixings adequate for clamping force providing relaxation is accounted for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lnSpc>
                <a:spcPct val="80000"/>
              </a:lnSpc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Joint relaxation is a key maintenance issue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lnSpc>
                <a:spcPct val="80000"/>
              </a:lnSpc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Wheel fixing problems not unique to UK – worldwide problem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lnSpc>
                <a:spcPct val="80000"/>
              </a:lnSpc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Higher incidence of problems on left-side – bias small for loose wheel nuts - large for wheel detachment 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720" y="-53280"/>
            <a:ext cx="8799480" cy="8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GB" sz="48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-449280">
              <a:lnSpc>
                <a:spcPct val="80000"/>
              </a:lnSpc>
              <a:spcBef>
                <a:spcPts val="1687"/>
              </a:spcBef>
              <a:spcAft>
                <a:spcPts val="1687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Comic Sans MS"/>
              </a:rPr>
              <a:t>86% of operators have formal policies for wheel fixings, but 12% reported never re-torquing a wheel</a:t>
            </a:r>
            <a:endParaRPr b="1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lnSpc>
                <a:spcPct val="80000"/>
              </a:lnSpc>
              <a:spcBef>
                <a:spcPts val="1687"/>
              </a:spcBef>
              <a:spcAft>
                <a:spcPts val="1687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Comic Sans MS"/>
              </a:rPr>
              <a:t>Operators have daily safety check regimes, but drivers .......</a:t>
            </a:r>
            <a:endParaRPr b="1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lnSpc>
                <a:spcPct val="80000"/>
              </a:lnSpc>
              <a:spcBef>
                <a:spcPts val="675"/>
              </a:spcBef>
              <a:spcAft>
                <a:spcPts val="1687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Comic Sans MS"/>
              </a:rPr>
              <a:t>26% of drivers admit not always checking while 32% admit not always looking for loose wheels</a:t>
            </a:r>
            <a:endParaRPr b="1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lnSpc>
                <a:spcPct val="80000"/>
              </a:lnSpc>
              <a:spcBef>
                <a:spcPts val="675"/>
              </a:spcBef>
              <a:spcAft>
                <a:spcPts val="1687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Comic Sans MS"/>
              </a:rPr>
              <a:t>2% never check</a:t>
            </a:r>
            <a:endParaRPr b="1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5300" spc="-1" strike="noStrike">
                <a:solidFill>
                  <a:srgbClr val="66ffff"/>
                </a:solidFill>
                <a:latin typeface="Comic Sans MS"/>
              </a:rPr>
              <a:t>Where next?</a:t>
            </a: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 fontScale="97000"/>
          </a:bodyPr>
          <a:p>
            <a:pPr marL="435600" indent="-435600">
              <a:spcBef>
                <a:spcPts val="1562"/>
              </a:spcBef>
              <a:spcAft>
                <a:spcPts val="1562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Phase 2 - project will include: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943560" indent="-360360">
              <a:spcBef>
                <a:spcPts val="624"/>
              </a:spcBef>
              <a:spcAft>
                <a:spcPts val="156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Comparison of torque vs angular tightening and assess repeatability of clamp force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943560" indent="-360360">
              <a:spcBef>
                <a:spcPts val="624"/>
              </a:spcBef>
              <a:spcAft>
                <a:spcPts val="156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Assessment, testing and durability of wheel nut retention and movement indicator devices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943560" indent="-360360">
              <a:spcBef>
                <a:spcPts val="624"/>
              </a:spcBef>
              <a:spcAft>
                <a:spcPts val="156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Further standardisation of best practice and wheel tightening methods 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943560" indent="-360360">
              <a:spcBef>
                <a:spcPts val="624"/>
              </a:spcBef>
              <a:spcAft>
                <a:spcPts val="156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500" spc="-1" strike="noStrike">
                <a:solidFill>
                  <a:srgbClr val="ffff00"/>
                </a:solidFill>
                <a:latin typeface="Comic Sans MS"/>
              </a:rPr>
              <a:t>Further education to encourage adoption of wheel maintenance procedures</a:t>
            </a:r>
            <a:endParaRPr b="1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720" y="-15120"/>
            <a:ext cx="8799480" cy="7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GB" sz="4300" spc="-1" strike="noStrike">
              <a:solidFill>
                <a:srgbClr val="f57b4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 algn="ctr"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Thank you</a:t>
            </a:r>
            <a:endParaRPr b="1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 algn="ctr"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6000" spc="-1" strike="noStrike">
                <a:solidFill>
                  <a:srgbClr val="66ffff"/>
                </a:solidFill>
                <a:latin typeface="Comic Sans MS"/>
              </a:rPr>
              <a:t>for your attention</a:t>
            </a:r>
            <a:endParaRPr b="1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 algn="ctr"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3600" spc="-1" strike="noStrike">
                <a:solidFill>
                  <a:srgbClr val="66ffff"/>
                </a:solidFill>
                <a:latin typeface="Comic Sans MS"/>
              </a:rPr>
              <a:t>Phase 1 research</a:t>
            </a:r>
            <a:endParaRPr b="1" lang="en-US" sz="36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640" y="1112400"/>
            <a:ext cx="8342640" cy="5210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>
              <a:lnSpc>
                <a:spcPct val="80000"/>
              </a:lnSpc>
              <a:spcBef>
                <a:spcPts val="2251"/>
              </a:spcBef>
              <a:spcAft>
                <a:spcPts val="225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Heavy vehicle wheel detachment, frequency of occurrence and loose wheel fixing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lnSpc>
                <a:spcPct val="80000"/>
              </a:lnSpc>
              <a:spcBef>
                <a:spcPts val="1312"/>
              </a:spcBef>
              <a:spcAft>
                <a:spcPts val="1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lnSpc>
                <a:spcPct val="80000"/>
              </a:lnSpc>
              <a:spcBef>
                <a:spcPts val="1312"/>
              </a:spcBef>
              <a:spcAft>
                <a:spcPts val="1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Website: www.dft.gov.uk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Comic Sans MS"/>
              </a:rPr>
              <a:t>URL:www.dft.gov.uk/stellent/groups/dft_roads/documents/page/dft_roads_613560.hcsp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lnSpc>
                <a:spcPct val="80000"/>
              </a:lnSpc>
              <a:spcBef>
                <a:spcPts val="2251"/>
              </a:spcBef>
              <a:spcAft>
                <a:spcPts val="225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3600" spc="-1" strike="noStrike">
                <a:solidFill>
                  <a:srgbClr val="66ffff"/>
                </a:solidFill>
                <a:latin typeface="Comic Sans MS"/>
              </a:rPr>
              <a:t>Research Objectives</a:t>
            </a: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48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84924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dentify the current frequency of wheel detachment in the UK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84924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nalyse existing sources of UK data on wheel fixing problem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84924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ather parallel information on wheel detachment from other count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3600" spc="-1" strike="noStrike">
                <a:solidFill>
                  <a:srgbClr val="66ffff"/>
                </a:solidFill>
                <a:latin typeface="Comic Sans MS"/>
              </a:rPr>
              <a:t>Research objectives (cont’d)</a:t>
            </a:r>
            <a:endParaRPr b="1" lang="en-US" sz="36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.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dentify current wheel fixing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tandards and best practice in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ightening method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5.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urvey the views of drivers,                   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operators and manufacturers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720" y="-1013040"/>
            <a:ext cx="8799480" cy="27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GB" sz="87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 algn="ctr">
              <a:spcBef>
                <a:spcPts val="2750"/>
              </a:spcBef>
              <a:spcAft>
                <a:spcPts val="2750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 algn="ctr"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9600" spc="-1" strike="noStrike">
                <a:solidFill>
                  <a:srgbClr val="66ffff"/>
                </a:solidFill>
                <a:latin typeface="Comic Sans MS"/>
              </a:rPr>
              <a:t>RESULTS</a:t>
            </a:r>
            <a:endParaRPr b="1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2300" spc="-1" strike="noStrike">
                <a:solidFill>
                  <a:srgbClr val="66ffff"/>
                </a:solidFill>
                <a:latin typeface="Comic Sans MS"/>
              </a:rPr>
              <a:t>TRL’s estimated frequency of wheel fixing/detachment problems</a:t>
            </a:r>
            <a:endParaRPr b="1" lang="en-US" sz="2300" spc="-1" strike="noStrike">
              <a:solidFill>
                <a:srgbClr val="ff9933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17520" y="1293840"/>
          <a:ext cx="8640720" cy="4010040"/>
        </p:xfrm>
        <a:graphic>
          <a:graphicData uri="http://schemas.openxmlformats.org/drawingml/2006/table">
            <a:tbl>
              <a:tblPr/>
              <a:tblGrid>
                <a:gridCol w="1166760"/>
                <a:gridCol w="1716120"/>
                <a:gridCol w="1484280"/>
                <a:gridCol w="1400040"/>
                <a:gridCol w="1457640"/>
                <a:gridCol w="1415880"/>
              </a:tblGrid>
              <a:tr h="601560">
                <a:tc rowSpan="2"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25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stimated number of incidents per year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heel defects (loose, missing, damaged nuts, et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heel detachment (no collisi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heel detachment (damage only accid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heel detachment (injury accid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heel detachment (fatal accid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Upper estim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wer estim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7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1200240"/>
                          <a:tab algn="l" pos="2400480"/>
                          <a:tab algn="l" pos="3600360"/>
                          <a:tab algn="l" pos="4800600"/>
                          <a:tab algn="l" pos="6000840"/>
                          <a:tab algn="l" pos="7201080"/>
                          <a:tab algn="l" pos="8400960"/>
                          <a:tab algn="l" pos="9601200"/>
                          <a:tab algn="l" pos="1080144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28160" marR="128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3600" spc="-1" strike="noStrike">
                <a:solidFill>
                  <a:srgbClr val="66ffff"/>
                </a:solidFill>
                <a:latin typeface="Comic Sans MS"/>
              </a:rPr>
              <a:t>Do wheels fall off abroad?</a:t>
            </a:r>
            <a:endParaRPr b="1" lang="en-US" sz="36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2280" y="974520"/>
            <a:ext cx="3924000" cy="5335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>
              <a:spcBef>
                <a:spcPts val="1312"/>
              </a:spcBef>
              <a:spcAft>
                <a:spcPts val="1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Information with supporting data was received from: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Finland    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Canada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Japan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USA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New Zealand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0">
              <a:spcBef>
                <a:spcPts val="524"/>
              </a:spcBef>
              <a:spcAft>
                <a:spcPts val="1312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902880"/>
            <a:ext cx="3925800" cy="5683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>
              <a:spcBef>
                <a:spcPts val="1312"/>
              </a:spcBef>
              <a:spcAft>
                <a:spcPts val="1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7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Replies received from other countries: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Luxemburg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Sweden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Norway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Holland 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Franc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Germany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-371520">
              <a:spcBef>
                <a:spcPts val="524"/>
              </a:spcBef>
              <a:spcAft>
                <a:spcPts val="1312"/>
              </a:spcAft>
              <a:buClr>
                <a:srgbClr val="ffff00"/>
              </a:buClr>
              <a:buSzPct val="50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100" spc="-1" strike="noStrike">
                <a:solidFill>
                  <a:srgbClr val="ffff00"/>
                </a:solidFill>
                <a:latin typeface="Comic Sans MS"/>
              </a:rPr>
              <a:t>Ivory Coast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lvl="1" marL="973080" indent="0">
              <a:spcBef>
                <a:spcPts val="575"/>
              </a:spcBef>
              <a:spcAft>
                <a:spcPts val="1437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720" y="74160"/>
            <a:ext cx="8799480" cy="5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r>
              <a:rPr b="1" lang="en-GB" sz="5000" spc="-1" strike="noStrike">
                <a:solidFill>
                  <a:srgbClr val="66ffff"/>
                </a:solidFill>
                <a:latin typeface="Comic Sans MS"/>
              </a:rPr>
              <a:t>Designs &amp; Standards</a:t>
            </a:r>
            <a:r>
              <a:rPr b="1" lang="en-GB" sz="5000" spc="-1" strike="noStrike">
                <a:solidFill>
                  <a:srgbClr val="f57b49"/>
                </a:solidFill>
                <a:latin typeface="Comic Sans MS"/>
              </a:rPr>
              <a:t> </a:t>
            </a:r>
            <a:endParaRPr b="1" lang="en-US" sz="50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112760"/>
            <a:ext cx="818352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>
              <a:spcBef>
                <a:spcPts val="2438"/>
              </a:spcBef>
              <a:spcAft>
                <a:spcPts val="2438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39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-449280"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ree different designs and three main standards: BS, DIN and IS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720" y="-91440"/>
            <a:ext cx="8799480" cy="92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18800" rIns="118800" tIns="58320" bIns="58320" anchor="ctr">
            <a:noAutofit/>
          </a:bodyPr>
          <a:p>
            <a:pPr indent="0" algn="ctr">
              <a:buNone/>
              <a:tabLst>
                <a:tab algn="l" pos="0"/>
                <a:tab algn="l" pos="1204920"/>
                <a:tab algn="l" pos="2409840"/>
                <a:tab algn="l" pos="3614760"/>
                <a:tab algn="l" pos="4819680"/>
                <a:tab algn="l" pos="6024600"/>
                <a:tab algn="l" pos="7229520"/>
                <a:tab algn="l" pos="8434440"/>
                <a:tab algn="l" pos="9639360"/>
                <a:tab algn="l" pos="10844280"/>
              </a:tabLst>
            </a:pPr>
            <a:endParaRPr b="1" lang="en-US" sz="5300" spc="-1" strike="noStrike">
              <a:solidFill>
                <a:srgbClr val="ff99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1920" y="1112760"/>
            <a:ext cx="7988040" cy="5197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118800" rIns="118800" tIns="58320" bIns="58320" anchor="t">
            <a:normAutofit/>
          </a:bodyPr>
          <a:p>
            <a:pPr marL="4492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 algn="ctr">
              <a:spcBef>
                <a:spcPts val="5312"/>
              </a:spcBef>
              <a:spcAft>
                <a:spcPts val="5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GB" sz="8500" spc="-1" strike="noStrike">
                <a:solidFill>
                  <a:srgbClr val="66ffff"/>
                </a:solidFill>
                <a:latin typeface="Comic Sans MS"/>
              </a:rPr>
              <a:t>Conclusions</a:t>
            </a:r>
            <a:endParaRPr b="1" lang="en-US" sz="8500" spc="-1" strike="noStrike">
              <a:solidFill>
                <a:srgbClr val="ffffff"/>
              </a:solidFill>
              <a:latin typeface="Comic Sans MS"/>
            </a:endParaRPr>
          </a:p>
          <a:p>
            <a:pPr marL="449280" indent="0" algn="ctr">
              <a:spcBef>
                <a:spcPts val="5312"/>
              </a:spcBef>
              <a:spcAft>
                <a:spcPts val="5312"/>
              </a:spcAft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1" lang="en-US" sz="8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15:15:58Z</dcterms:created>
  <dc:creator>Integrated Transport Division</dc:creator>
  <dc:description>Min talk</dc:description>
  <dc:language>en-US</dc:language>
  <cp:lastModifiedBy>Hubert</cp:lastModifiedBy>
  <cp:lastPrinted>2003-04-08T13:54:32Z</cp:lastPrinted>
  <dcterms:modified xsi:type="dcterms:W3CDTF">2007-02-09T14:16:06Z</dcterms:modified>
  <cp:revision>393</cp:revision>
  <dc:subject>Transport White Paper</dc:subject>
  <dc:title>Local Transport Plans Conference - Cambridge 18 Nov 98</dc:title>
</cp:coreProperties>
</file>