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A5377-2208-401F-AD4F-4B3B96CFED06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 aftern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name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explanation about achievements of ASV3, I would like to explain about target of vehicle safe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raph shows situation of traffic accidents in Jap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fatalities are decreasing but still 6,871 at the end of last 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accident and number of injuries are very high lev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arch, Japanese government set the target to reduce fatalities to 5,500 by the yea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ing only at the trend of decreasing numbers, we are optimistic about this target, but it is not right as situation is not so eas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raph showing the reduction of fatalities by vehicle safety mea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straight line shows the target for vehicle safety measures set in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 line shows the result and optimistic prosp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is based on accidents data shows we could achieve the target 5 years earl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uccessful result was achieved mainly by introduction of passive safety through safety regulations and NCAP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report in June, new target has been set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chieve this new target, we cannot be optimistic and additional measures are 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at we should really think about is after 2010 because it is predicted that effect of passive safety will finally reach satu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we have to continue to make effort in passive safety, we should accelerate our efforts towards mass introduction of active safety technolog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port in June raised following strategies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 term measures: incentives for priority technologies should be consider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 term measures : it is necessary to introduce a new type of accident analysis using driving recorder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measures: development of communication technologies is importa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n we should take measures to popularize ASVs very aggressiv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list is showing necesary points for popular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oday I will explain three of important items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Next are government incentive measures to introduce ASV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report in June pointed out the necessity of consideration to establish incentive meas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report recommends technologies having following aspects should have prio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atured technologies,  effectiveness,   Social neces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[C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heavy duty vehicle equipped with damage mitigation braking system is regarded as suitable candidate for such incentive meas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Now request of budget for subsidy to users buying such heavy duty vehicle with other measures are being considered inside gover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hope such strong measures will promote popularization of not only vehicles having incentives but also all of ASVs through indirect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y conclusion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achievements of ASV3 and the new safety policy are the base of ASV 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Effective measures like incentives or evaluation of effectiveness using Driving Recorders should be considered for encouraging market introduction of ASV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ASV project is joining “The trials on public roads on inter-vehicle communication” by cooperative effort of industries and gover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ternational cooperation is one of key iss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0E17-E285-44D7-B26E-BEC5B08FA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7D13-4858-4E0D-922F-F03887A41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841D-8CAE-4B99-BEAD-5ECE9F6B0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7727-C494-4361-B11D-E4238B790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49195-4F23-4AE3-B891-B34C0468A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9FFFB-7B0D-4102-A327-E38B29B8C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AE154-5E28-4203-B744-BF45EF0F9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7EFC5-2B2C-4584-88BD-4307373EA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0BF21-C8FF-4271-AF51-3B6552269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0A2D8-F232-45C5-866D-6B1E748B1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3C6B3-6B97-48DB-8936-C17879CC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2C2F-ABEE-4BCD-8456-6D7CA8C6B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4CB97-E60C-474D-A6CE-24749CFC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09AC1-DE1F-450E-96F3-4F9491A0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7AD8F-5544-487E-898F-953E2DF1E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3AF25-C1E8-427C-9486-9F96A8C0D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4A13A-E99D-4653-9F33-B03B0241A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13E3-C006-4B8F-B829-FACECF524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6C5E-647C-491D-BC3A-9F9D4A2A7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046F-FADC-4305-97E0-E6C61E293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3617-8FAF-4525-A182-3C7AD87AE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90A5-C26A-4E31-B7DE-202D75B8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57B4-77AB-42C2-9722-CBC8402B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1C72-5B19-4F02-A918-13018B1C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0383B-5496-4D2F-815C-5440F2C0DB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6AC5E-B8EF-48D0-9626-C832C3B583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6920" y="1916280"/>
            <a:ext cx="874872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The Promotion of </a:t>
            </a:r>
            <a:br>
              <a:rPr sz="3600"/>
            </a:b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  Active Safety Measures in Japan</a:t>
            </a: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3200"/>
            </a:b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        - collision damage mitigation brake -  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47640" y="5113440"/>
            <a:ext cx="673200" cy="6919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181160" y="4292280"/>
            <a:ext cx="67816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February</a:t>
            </a:r>
            <a:r>
              <a:rPr b="0" i="1" lang="zh-CN" sz="3200" spc="-1" strike="noStrike">
                <a:solidFill>
                  <a:srgbClr val="ffff00"/>
                </a:solidFill>
                <a:latin typeface="Arial"/>
              </a:rPr>
              <a:t>　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ad Transport Bure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LIT Jap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943600" y="85680"/>
            <a:ext cx="3105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Informal document No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RRF-61-2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61st GRRF, 5-9 February 200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genda item 7.4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324000" y="1916280"/>
          <a:ext cx="8029440" cy="463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916280"/>
                    <a:ext cx="8029440" cy="46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38512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arget of safety measures</a:t>
            </a:r>
            <a:br>
              <a:rPr sz="4400"/>
            </a:b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Government of Japan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595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 Black"/>
              </a:rPr>
              <a:t>Safety Policy of Government of Jap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65120" y="3357720"/>
            <a:ext cx="217008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Arial"/>
              </a:rPr>
              <a:t>Number of accidents </a:t>
            </a:r>
            <a:br>
              <a:rPr sz="1400"/>
            </a:br>
            <a:r>
              <a:rPr b="1" lang="en-US" sz="1400" spc="-1" strike="noStrike">
                <a:solidFill>
                  <a:srgbClr val="333300"/>
                </a:solidFill>
                <a:latin typeface="Arial"/>
              </a:rPr>
              <a:t>(Unit: 10,000 accident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07080" y="4782960"/>
            <a:ext cx="20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Arial"/>
              </a:rPr>
              <a:t>Number of fatalit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6150240" y="3864960"/>
            <a:ext cx="564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umber of traffic accidents/injuries/vehicles (x10,000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46720" y="2565360"/>
            <a:ext cx="212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Arial"/>
              </a:rPr>
              <a:t>Number of injuries</a:t>
            </a:r>
            <a:br>
              <a:rPr sz="1400"/>
            </a:br>
            <a:r>
              <a:rPr b="1" lang="en-US" sz="1400" spc="-1" strike="noStrike">
                <a:solidFill>
                  <a:srgbClr val="333300"/>
                </a:solidFill>
                <a:latin typeface="Arial"/>
              </a:rPr>
              <a:t> (Unit: 10,000 person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6200000">
            <a:off x="-1681920" y="4089960"/>
            <a:ext cx="373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umber of fatalities (Perso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55640" y="6583320"/>
            <a:ext cx="813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[Based on Traffic Accident Occurrence Conditions (National Police Agency Traffic Bureau)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625840" y="3919680"/>
            <a:ext cx="349200" cy="94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237200" y="2852640"/>
            <a:ext cx="35064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667640" y="1916280"/>
            <a:ext cx="1152360" cy="4681440"/>
            <a:chOff x="7667640" y="1916280"/>
            <a:chExt cx="1152360" cy="4681440"/>
          </a:xfrm>
        </p:grpSpPr>
        <p:sp>
          <p:nvSpPr>
            <p:cNvPr id="122" name=""/>
            <p:cNvSpPr/>
            <p:nvPr/>
          </p:nvSpPr>
          <p:spPr>
            <a:xfrm>
              <a:off x="7667640" y="1916280"/>
              <a:ext cx="1152360" cy="468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29440" y="2205000"/>
              <a:ext cx="6076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00"/>
                  </a:solidFill>
                  <a:latin typeface="Arial"/>
                </a:rPr>
                <a:t>12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029440" y="2781360"/>
              <a:ext cx="6076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00"/>
                  </a:solidFill>
                  <a:latin typeface="Arial"/>
                </a:rPr>
                <a:t>10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172360" y="3357720"/>
              <a:ext cx="4662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00"/>
                  </a:solidFill>
                  <a:latin typeface="Arial"/>
                </a:rPr>
                <a:t>8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172360" y="3934080"/>
              <a:ext cx="4662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00"/>
                  </a:solidFill>
                  <a:latin typeface="Arial"/>
                </a:rPr>
                <a:t>6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172360" y="4581720"/>
              <a:ext cx="4662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00"/>
                  </a:solidFill>
                  <a:latin typeface="Arial"/>
                </a:rPr>
                <a:t>4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72360" y="5158080"/>
              <a:ext cx="4662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00"/>
                  </a:solidFill>
                  <a:latin typeface="Arial"/>
                </a:rPr>
                <a:t>2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4067280" y="5157720"/>
            <a:ext cx="374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Arial"/>
              </a:rPr>
              <a:t>Number of vehicles</a:t>
            </a:r>
            <a:br>
              <a:rPr sz="1400"/>
            </a:br>
            <a:r>
              <a:rPr b="1" lang="en-US" sz="1400" spc="-1" strike="noStrike">
                <a:solidFill>
                  <a:srgbClr val="333300"/>
                </a:solidFill>
                <a:latin typeface="Arial"/>
              </a:rPr>
              <a:t> (Unit: 1 million vehicle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380360" y="4869000"/>
            <a:ext cx="1368360" cy="1520640"/>
            <a:chOff x="7380360" y="4869000"/>
            <a:chExt cx="1368360" cy="1520640"/>
          </a:xfrm>
        </p:grpSpPr>
        <p:sp>
          <p:nvSpPr>
            <p:cNvPr id="131" name=""/>
            <p:cNvSpPr/>
            <p:nvPr/>
          </p:nvSpPr>
          <p:spPr>
            <a:xfrm>
              <a:off x="7380360" y="5243400"/>
              <a:ext cx="1368360" cy="401760"/>
            </a:xfrm>
            <a:prstGeom prst="ellipse">
              <a:avLst/>
            </a:prstGeom>
            <a:solidFill>
              <a:srgbClr val="ffcc99">
                <a:alpha val="42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816320" y="602136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00"/>
                  </a:solidFill>
                  <a:latin typeface="Arial"/>
                </a:rPr>
                <a:t>201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101080" y="5373720"/>
              <a:ext cx="0" cy="719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524720" y="4869000"/>
              <a:ext cx="432000" cy="288720"/>
            </a:xfrm>
            <a:prstGeom prst="line">
              <a:avLst/>
            </a:prstGeom>
            <a:ln w="28440">
              <a:solidFill>
                <a:srgbClr val="ff00ff"/>
              </a:solidFill>
              <a:prstDash val="dash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956720" y="5084640"/>
              <a:ext cx="215640" cy="216000"/>
            </a:xfrm>
            <a:prstGeom prst="star5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7247160" y="59500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Arial"/>
              </a:rPr>
              <a:t>200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0800000">
            <a:off x="8604000" y="4869000"/>
            <a:ext cx="215640" cy="149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Century"/>
                <a:ea typeface="ＭＳ 明朝"/>
              </a:rPr>
              <a:t>Ultimately Zer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93600" y="5207760"/>
            <a:ext cx="515880" cy="426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Arial"/>
              </a:rPr>
              <a:t>5,500</a:t>
            </a:r>
            <a:br>
              <a:rPr sz="1400"/>
            </a:br>
            <a:r>
              <a:rPr b="1" lang="en-US" sz="1400" spc="-1" strike="noStrike">
                <a:solidFill>
                  <a:srgbClr val="333300"/>
                </a:solidFill>
                <a:latin typeface="Arial"/>
              </a:rPr>
              <a:t>(201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311240" y="4199760"/>
            <a:ext cx="515880" cy="426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Arial"/>
              </a:rPr>
              <a:t>6,871</a:t>
            </a:r>
            <a:br>
              <a:rPr sz="1400"/>
            </a:br>
            <a:r>
              <a:rPr b="1" lang="en-US" sz="1400" spc="-1" strike="noStrike">
                <a:solidFill>
                  <a:srgbClr val="333300"/>
                </a:solidFill>
                <a:latin typeface="Arial"/>
              </a:rPr>
              <a:t>(2005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38512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Target of Fatality Reduction Effect</a:t>
            </a:r>
            <a:br>
              <a:rPr sz="3200"/>
            </a:b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by</a:t>
            </a: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 vehicle safety measures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-252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403280" y="189000"/>
          <a:ext cx="676440" cy="303120"/>
        </p:xfrm>
        <a:graphic>
          <a:graphicData uri="http://schemas.openxmlformats.org/drawingml/2006/table">
            <a:tbl>
              <a:tblPr/>
              <a:tblGrid>
                <a:gridCol w="67644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43" name=""/>
          <p:cNvGrpSpPr/>
          <p:nvPr/>
        </p:nvGrpSpPr>
        <p:grpSpPr>
          <a:xfrm>
            <a:off x="0" y="1700280"/>
            <a:ext cx="9144000" cy="5157720"/>
            <a:chOff x="0" y="1700280"/>
            <a:chExt cx="9144000" cy="5157720"/>
          </a:xfrm>
        </p:grpSpPr>
        <p:sp>
          <p:nvSpPr>
            <p:cNvPr id="144" name=""/>
            <p:cNvSpPr/>
            <p:nvPr/>
          </p:nvSpPr>
          <p:spPr>
            <a:xfrm>
              <a:off x="2843280" y="2689560"/>
              <a:ext cx="403200" cy="63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1700280"/>
              <a:ext cx="9144000" cy="515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11280" y="5938560"/>
              <a:ext cx="879480" cy="38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00"/>
                  </a:solidFill>
                  <a:latin typeface="ＭＳ Ｐゴシック"/>
                </a:rPr>
                <a:t>200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1379520" y="2103840"/>
              <a:ext cx="6341760" cy="3287160"/>
              <a:chOff x="1379520" y="2103840"/>
              <a:chExt cx="6341760" cy="3287160"/>
            </a:xfrm>
          </p:grpSpPr>
          <p:sp>
            <p:nvSpPr>
              <p:cNvPr id="148" name=""/>
              <p:cNvSpPr/>
              <p:nvPr/>
            </p:nvSpPr>
            <p:spPr>
              <a:xfrm flipH="1" rot="1884600">
                <a:off x="3344400" y="3601080"/>
                <a:ext cx="118440" cy="362520"/>
              </a:xfrm>
              <a:custGeom>
                <a:avLst/>
                <a:gdLst/>
                <a:ahLst/>
                <a:rect l="l" t="t" r="r" b="b"/>
                <a:pathLst>
                  <a:path w="138" h="357">
                    <a:moveTo>
                      <a:pt x="138" y="3"/>
                    </a:moveTo>
                    <a:lnTo>
                      <a:pt x="138" y="357"/>
                    </a:lnTo>
                    <a:lnTo>
                      <a:pt x="0" y="357"/>
                    </a:lnTo>
                    <a:lnTo>
                      <a:pt x="21" y="0"/>
                    </a:lnTo>
                    <a:lnTo>
                      <a:pt x="138" y="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3366ff"/>
                  </a:gs>
                  <a:gs pos="100000">
                    <a:srgbClr val="ffffff"/>
                  </a:gs>
                </a:gsLst>
                <a:lin ang="728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 rot="2001600">
                <a:off x="3273840" y="3574800"/>
                <a:ext cx="135720" cy="340920"/>
              </a:xfrm>
              <a:custGeom>
                <a:avLst/>
                <a:gdLst/>
                <a:ahLst/>
                <a:rect l="l" t="t" r="r" b="b"/>
                <a:pathLst>
                  <a:path w="138" h="357">
                    <a:moveTo>
                      <a:pt x="138" y="3"/>
                    </a:moveTo>
                    <a:lnTo>
                      <a:pt x="138" y="357"/>
                    </a:lnTo>
                    <a:lnTo>
                      <a:pt x="0" y="357"/>
                    </a:lnTo>
                    <a:lnTo>
                      <a:pt x="21" y="0"/>
                    </a:lnTo>
                    <a:lnTo>
                      <a:pt x="138" y="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3366ff"/>
                  </a:gs>
                  <a:gs pos="100000">
                    <a:srgbClr val="ffffff"/>
                  </a:gs>
                </a:gsLst>
                <a:lin ang="74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 rot="2054400">
                <a:off x="3231720" y="3559320"/>
                <a:ext cx="111960" cy="288720"/>
              </a:xfrm>
              <a:custGeom>
                <a:avLst/>
                <a:gdLst/>
                <a:ahLst/>
                <a:rect l="l" t="t" r="r" b="b"/>
                <a:pathLst>
                  <a:path w="138" h="357">
                    <a:moveTo>
                      <a:pt x="138" y="3"/>
                    </a:moveTo>
                    <a:lnTo>
                      <a:pt x="138" y="357"/>
                    </a:lnTo>
                    <a:lnTo>
                      <a:pt x="0" y="357"/>
                    </a:lnTo>
                    <a:lnTo>
                      <a:pt x="21" y="0"/>
                    </a:lnTo>
                    <a:lnTo>
                      <a:pt x="138" y="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3366ff"/>
                  </a:gs>
                  <a:gs pos="100000">
                    <a:srgbClr val="ffffff"/>
                  </a:gs>
                </a:gsLst>
                <a:lin ang="745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 rot="2031000">
                <a:off x="3170880" y="3542040"/>
                <a:ext cx="118440" cy="240840"/>
              </a:xfrm>
              <a:custGeom>
                <a:avLst/>
                <a:gdLst/>
                <a:ahLst/>
                <a:rect l="l" t="t" r="r" b="b"/>
                <a:pathLst>
                  <a:path w="138" h="357">
                    <a:moveTo>
                      <a:pt x="138" y="3"/>
                    </a:moveTo>
                    <a:lnTo>
                      <a:pt x="138" y="357"/>
                    </a:lnTo>
                    <a:lnTo>
                      <a:pt x="0" y="357"/>
                    </a:lnTo>
                    <a:lnTo>
                      <a:pt x="21" y="0"/>
                    </a:lnTo>
                    <a:lnTo>
                      <a:pt x="138" y="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3366ff"/>
                  </a:gs>
                  <a:gs pos="100000">
                    <a:srgbClr val="ffffff"/>
                  </a:gs>
                </a:gsLst>
                <a:lin ang="743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 rot="1924800">
                <a:off x="3123720" y="3535200"/>
                <a:ext cx="100800" cy="176400"/>
              </a:xfrm>
              <a:custGeom>
                <a:avLst/>
                <a:gdLst/>
                <a:ahLst/>
                <a:rect l="l" t="t" r="r" b="b"/>
                <a:pathLst>
                  <a:path w="138" h="357">
                    <a:moveTo>
                      <a:pt x="138" y="3"/>
                    </a:moveTo>
                    <a:lnTo>
                      <a:pt x="138" y="357"/>
                    </a:lnTo>
                    <a:lnTo>
                      <a:pt x="0" y="357"/>
                    </a:lnTo>
                    <a:lnTo>
                      <a:pt x="21" y="0"/>
                    </a:lnTo>
                    <a:lnTo>
                      <a:pt x="138" y="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3366ff"/>
                  </a:gs>
                  <a:gs pos="100000">
                    <a:srgbClr val="ffffff"/>
                  </a:gs>
                </a:gsLst>
                <a:lin ang="732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rot="2092800">
                <a:off x="3069360" y="3509640"/>
                <a:ext cx="100800" cy="149760"/>
              </a:xfrm>
              <a:custGeom>
                <a:avLst/>
                <a:gdLst/>
                <a:ahLst/>
                <a:rect l="l" t="t" r="r" b="b"/>
                <a:pathLst>
                  <a:path w="138" h="357">
                    <a:moveTo>
                      <a:pt x="138" y="3"/>
                    </a:moveTo>
                    <a:lnTo>
                      <a:pt x="138" y="357"/>
                    </a:lnTo>
                    <a:lnTo>
                      <a:pt x="0" y="357"/>
                    </a:lnTo>
                    <a:lnTo>
                      <a:pt x="21" y="0"/>
                    </a:lnTo>
                    <a:lnTo>
                      <a:pt x="138" y="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3366ff"/>
                  </a:gs>
                  <a:gs pos="100000">
                    <a:srgbClr val="ffffff"/>
                  </a:gs>
                </a:gsLst>
                <a:lin ang="749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451640" y="4307400"/>
                <a:ext cx="269640" cy="1081800"/>
              </a:xfrm>
              <a:custGeom>
                <a:avLst/>
                <a:gdLst/>
                <a:ahLst/>
                <a:rect l="l" t="t" r="r" b="b"/>
                <a:pathLst>
                  <a:path w="138" h="357">
                    <a:moveTo>
                      <a:pt x="138" y="3"/>
                    </a:moveTo>
                    <a:lnTo>
                      <a:pt x="138" y="357"/>
                    </a:lnTo>
                    <a:lnTo>
                      <a:pt x="0" y="357"/>
                    </a:lnTo>
                    <a:lnTo>
                      <a:pt x="21" y="0"/>
                    </a:lnTo>
                    <a:lnTo>
                      <a:pt x="138" y="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3366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236000" y="4309200"/>
                <a:ext cx="303120" cy="1081800"/>
              </a:xfrm>
              <a:custGeom>
                <a:avLst/>
                <a:gdLst/>
                <a:ahLst/>
                <a:rect l="l" t="t" r="r" b="b"/>
                <a:pathLst>
                  <a:path w="138" h="357">
                    <a:moveTo>
                      <a:pt x="138" y="3"/>
                    </a:moveTo>
                    <a:lnTo>
                      <a:pt x="138" y="357"/>
                    </a:lnTo>
                    <a:lnTo>
                      <a:pt x="0" y="357"/>
                    </a:lnTo>
                    <a:lnTo>
                      <a:pt x="21" y="0"/>
                    </a:lnTo>
                    <a:lnTo>
                      <a:pt x="138" y="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3366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192600">
                <a:off x="6999120" y="4307040"/>
                <a:ext cx="311400" cy="1057680"/>
              </a:xfrm>
              <a:custGeom>
                <a:avLst/>
                <a:gdLst/>
                <a:ahLst/>
                <a:rect l="l" t="t" r="r" b="b"/>
                <a:pathLst>
                  <a:path w="138" h="357">
                    <a:moveTo>
                      <a:pt x="138" y="3"/>
                    </a:moveTo>
                    <a:lnTo>
                      <a:pt x="138" y="357"/>
                    </a:lnTo>
                    <a:lnTo>
                      <a:pt x="0" y="357"/>
                    </a:lnTo>
                    <a:lnTo>
                      <a:pt x="21" y="0"/>
                    </a:lnTo>
                    <a:lnTo>
                      <a:pt x="138" y="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3366ff"/>
                  </a:gs>
                  <a:gs pos="100000">
                    <a:srgbClr val="ffffff"/>
                  </a:gs>
                </a:gsLst>
                <a:lin ang="520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192600">
                <a:off x="6748560" y="4296240"/>
                <a:ext cx="320400" cy="1053720"/>
              </a:xfrm>
              <a:custGeom>
                <a:avLst/>
                <a:gdLst/>
                <a:ahLst/>
                <a:rect l="l" t="t" r="r" b="b"/>
                <a:pathLst>
                  <a:path w="138" h="357">
                    <a:moveTo>
                      <a:pt x="138" y="3"/>
                    </a:moveTo>
                    <a:lnTo>
                      <a:pt x="138" y="357"/>
                    </a:lnTo>
                    <a:lnTo>
                      <a:pt x="0" y="357"/>
                    </a:lnTo>
                    <a:lnTo>
                      <a:pt x="21" y="0"/>
                    </a:lnTo>
                    <a:lnTo>
                      <a:pt x="138" y="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3366ff"/>
                  </a:gs>
                  <a:gs pos="100000">
                    <a:srgbClr val="ffffff"/>
                  </a:gs>
                </a:gsLst>
                <a:lin ang="520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307800">
                <a:off x="6542640" y="4270320"/>
                <a:ext cx="298440" cy="1062360"/>
              </a:xfrm>
              <a:custGeom>
                <a:avLst/>
                <a:gdLst/>
                <a:ahLst/>
                <a:rect l="l" t="t" r="r" b="b"/>
                <a:pathLst>
                  <a:path w="138" h="357">
                    <a:moveTo>
                      <a:pt x="138" y="3"/>
                    </a:moveTo>
                    <a:lnTo>
                      <a:pt x="138" y="357"/>
                    </a:lnTo>
                    <a:lnTo>
                      <a:pt x="0" y="357"/>
                    </a:lnTo>
                    <a:lnTo>
                      <a:pt x="21" y="0"/>
                    </a:lnTo>
                    <a:lnTo>
                      <a:pt x="138" y="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3366ff"/>
                  </a:gs>
                  <a:gs pos="100000">
                    <a:srgbClr val="ffffff"/>
                  </a:gs>
                </a:gsLst>
                <a:lin ang="509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364200">
                <a:off x="6314040" y="4246200"/>
                <a:ext cx="267480" cy="1053720"/>
              </a:xfrm>
              <a:custGeom>
                <a:avLst/>
                <a:gdLst/>
                <a:ahLst/>
                <a:rect l="l" t="t" r="r" b="b"/>
                <a:pathLst>
                  <a:path w="138" h="357">
                    <a:moveTo>
                      <a:pt x="138" y="3"/>
                    </a:moveTo>
                    <a:lnTo>
                      <a:pt x="138" y="357"/>
                    </a:lnTo>
                    <a:lnTo>
                      <a:pt x="0" y="357"/>
                    </a:lnTo>
                    <a:lnTo>
                      <a:pt x="21" y="0"/>
                    </a:lnTo>
                    <a:lnTo>
                      <a:pt x="138" y="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3366ff"/>
                  </a:gs>
                  <a:gs pos="100000">
                    <a:srgbClr val="ffffff"/>
                  </a:gs>
                </a:gsLst>
                <a:lin ang="503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477600">
                <a:off x="6066000" y="4217760"/>
                <a:ext cx="304920" cy="1047600"/>
              </a:xfrm>
              <a:custGeom>
                <a:avLst/>
                <a:gdLst/>
                <a:ahLst/>
                <a:rect l="l" t="t" r="r" b="b"/>
                <a:pathLst>
                  <a:path w="138" h="357">
                    <a:moveTo>
                      <a:pt x="138" y="3"/>
                    </a:moveTo>
                    <a:lnTo>
                      <a:pt x="138" y="357"/>
                    </a:lnTo>
                    <a:lnTo>
                      <a:pt x="0" y="357"/>
                    </a:lnTo>
                    <a:lnTo>
                      <a:pt x="21" y="0"/>
                    </a:lnTo>
                    <a:lnTo>
                      <a:pt x="138" y="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3366ff"/>
                  </a:gs>
                  <a:gs pos="100000">
                    <a:srgbClr val="ffffff"/>
                  </a:gs>
                </a:gsLst>
                <a:lin ang="492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565200">
                <a:off x="5863680" y="4196160"/>
                <a:ext cx="285480" cy="1025280"/>
              </a:xfrm>
              <a:custGeom>
                <a:avLst/>
                <a:gdLst/>
                <a:ahLst/>
                <a:rect l="l" t="t" r="r" b="b"/>
                <a:pathLst>
                  <a:path w="138" h="357">
                    <a:moveTo>
                      <a:pt x="138" y="3"/>
                    </a:moveTo>
                    <a:lnTo>
                      <a:pt x="138" y="357"/>
                    </a:lnTo>
                    <a:lnTo>
                      <a:pt x="0" y="357"/>
                    </a:lnTo>
                    <a:lnTo>
                      <a:pt x="21" y="0"/>
                    </a:lnTo>
                    <a:lnTo>
                      <a:pt x="138" y="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3366ff"/>
                  </a:gs>
                  <a:gs pos="100000">
                    <a:srgbClr val="ffffff"/>
                  </a:gs>
                </a:gsLst>
                <a:lin ang="483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626400">
                <a:off x="5653080" y="4165560"/>
                <a:ext cx="298440" cy="1018800"/>
              </a:xfrm>
              <a:custGeom>
                <a:avLst/>
                <a:gdLst/>
                <a:ahLst/>
                <a:rect l="l" t="t" r="r" b="b"/>
                <a:pathLst>
                  <a:path w="138" h="357">
                    <a:moveTo>
                      <a:pt x="138" y="3"/>
                    </a:moveTo>
                    <a:lnTo>
                      <a:pt x="138" y="357"/>
                    </a:lnTo>
                    <a:lnTo>
                      <a:pt x="0" y="357"/>
                    </a:lnTo>
                    <a:lnTo>
                      <a:pt x="21" y="0"/>
                    </a:lnTo>
                    <a:lnTo>
                      <a:pt x="138" y="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3366ff"/>
                  </a:gs>
                  <a:gs pos="100000">
                    <a:srgbClr val="ffffff"/>
                  </a:gs>
                </a:gsLst>
                <a:lin ang="47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612000">
                <a:off x="5433840" y="4126680"/>
                <a:ext cx="304920" cy="1017000"/>
              </a:xfrm>
              <a:custGeom>
                <a:avLst/>
                <a:gdLst/>
                <a:ahLst/>
                <a:rect l="l" t="t" r="r" b="b"/>
                <a:pathLst>
                  <a:path w="138" h="357">
                    <a:moveTo>
                      <a:pt x="138" y="3"/>
                    </a:moveTo>
                    <a:lnTo>
                      <a:pt x="138" y="357"/>
                    </a:lnTo>
                    <a:lnTo>
                      <a:pt x="0" y="357"/>
                    </a:lnTo>
                    <a:lnTo>
                      <a:pt x="21" y="0"/>
                    </a:lnTo>
                    <a:lnTo>
                      <a:pt x="138" y="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3366ff"/>
                  </a:gs>
                  <a:gs pos="100000">
                    <a:srgbClr val="ffffff"/>
                  </a:gs>
                </a:gsLst>
                <a:lin ang="47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715800">
                <a:off x="5213880" y="4105080"/>
                <a:ext cx="291960" cy="970920"/>
              </a:xfrm>
              <a:custGeom>
                <a:avLst/>
                <a:gdLst/>
                <a:ahLst/>
                <a:rect l="l" t="t" r="r" b="b"/>
                <a:pathLst>
                  <a:path w="138" h="357">
                    <a:moveTo>
                      <a:pt x="138" y="3"/>
                    </a:moveTo>
                    <a:lnTo>
                      <a:pt x="138" y="357"/>
                    </a:lnTo>
                    <a:lnTo>
                      <a:pt x="0" y="357"/>
                    </a:lnTo>
                    <a:lnTo>
                      <a:pt x="21" y="0"/>
                    </a:lnTo>
                    <a:lnTo>
                      <a:pt x="138" y="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3366ff"/>
                  </a:gs>
                  <a:gs pos="100000">
                    <a:srgbClr val="ffffff"/>
                  </a:gs>
                </a:gsLst>
                <a:lin ang="468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807600">
                <a:off x="5001480" y="4069800"/>
                <a:ext cx="273960" cy="938520"/>
              </a:xfrm>
              <a:custGeom>
                <a:avLst/>
                <a:gdLst/>
                <a:ahLst/>
                <a:rect l="l" t="t" r="r" b="b"/>
                <a:pathLst>
                  <a:path w="138" h="357">
                    <a:moveTo>
                      <a:pt x="138" y="3"/>
                    </a:moveTo>
                    <a:lnTo>
                      <a:pt x="138" y="357"/>
                    </a:lnTo>
                    <a:lnTo>
                      <a:pt x="0" y="357"/>
                    </a:lnTo>
                    <a:lnTo>
                      <a:pt x="21" y="0"/>
                    </a:lnTo>
                    <a:lnTo>
                      <a:pt x="138" y="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3366ff"/>
                  </a:gs>
                  <a:gs pos="100000">
                    <a:srgbClr val="ffffff"/>
                  </a:gs>
                </a:gsLst>
                <a:lin ang="45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980400">
                <a:off x="4869720" y="4057200"/>
                <a:ext cx="278640" cy="895320"/>
              </a:xfrm>
              <a:custGeom>
                <a:avLst/>
                <a:gdLst/>
                <a:ahLst/>
                <a:rect l="l" t="t" r="r" b="b"/>
                <a:pathLst>
                  <a:path w="138" h="357">
                    <a:moveTo>
                      <a:pt x="138" y="3"/>
                    </a:moveTo>
                    <a:lnTo>
                      <a:pt x="138" y="357"/>
                    </a:lnTo>
                    <a:lnTo>
                      <a:pt x="0" y="357"/>
                    </a:lnTo>
                    <a:lnTo>
                      <a:pt x="21" y="0"/>
                    </a:lnTo>
                    <a:lnTo>
                      <a:pt x="138" y="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3366ff"/>
                  </a:gs>
                  <a:gs pos="100000">
                    <a:srgbClr val="ffffff"/>
                  </a:gs>
                </a:gsLst>
                <a:lin ang="442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1063800">
                <a:off x="4680720" y="4015800"/>
                <a:ext cx="290160" cy="864720"/>
              </a:xfrm>
              <a:custGeom>
                <a:avLst/>
                <a:gdLst/>
                <a:ahLst/>
                <a:rect l="l" t="t" r="r" b="b"/>
                <a:pathLst>
                  <a:path w="138" h="357">
                    <a:moveTo>
                      <a:pt x="138" y="3"/>
                    </a:moveTo>
                    <a:lnTo>
                      <a:pt x="138" y="357"/>
                    </a:lnTo>
                    <a:lnTo>
                      <a:pt x="0" y="357"/>
                    </a:lnTo>
                    <a:lnTo>
                      <a:pt x="21" y="0"/>
                    </a:lnTo>
                    <a:lnTo>
                      <a:pt x="138" y="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3366ff"/>
                  </a:gs>
                  <a:gs pos="100000">
                    <a:srgbClr val="ffffff"/>
                  </a:gs>
                </a:gsLst>
                <a:lin ang="433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1201800">
                <a:off x="4489920" y="3953160"/>
                <a:ext cx="278640" cy="858240"/>
              </a:xfrm>
              <a:custGeom>
                <a:avLst/>
                <a:gdLst/>
                <a:ahLst/>
                <a:rect l="l" t="t" r="r" b="b"/>
                <a:pathLst>
                  <a:path w="138" h="357">
                    <a:moveTo>
                      <a:pt x="138" y="3"/>
                    </a:moveTo>
                    <a:lnTo>
                      <a:pt x="138" y="357"/>
                    </a:lnTo>
                    <a:lnTo>
                      <a:pt x="0" y="357"/>
                    </a:lnTo>
                    <a:lnTo>
                      <a:pt x="21" y="0"/>
                    </a:lnTo>
                    <a:lnTo>
                      <a:pt x="138" y="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3366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1306200">
                <a:off x="4329720" y="3911760"/>
                <a:ext cx="285120" cy="812880"/>
              </a:xfrm>
              <a:custGeom>
                <a:avLst/>
                <a:gdLst/>
                <a:ahLst/>
                <a:rect l="l" t="t" r="r" b="b"/>
                <a:pathLst>
                  <a:path w="138" h="357">
                    <a:moveTo>
                      <a:pt x="138" y="3"/>
                    </a:moveTo>
                    <a:lnTo>
                      <a:pt x="138" y="357"/>
                    </a:lnTo>
                    <a:lnTo>
                      <a:pt x="0" y="357"/>
                    </a:lnTo>
                    <a:lnTo>
                      <a:pt x="21" y="0"/>
                    </a:lnTo>
                    <a:lnTo>
                      <a:pt x="138" y="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3366ff"/>
                  </a:gs>
                  <a:gs pos="100000">
                    <a:srgbClr val="ffffff"/>
                  </a:gs>
                </a:gsLst>
                <a:lin ang="409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1453200">
                <a:off x="4169520" y="3859560"/>
                <a:ext cx="254520" cy="773640"/>
              </a:xfrm>
              <a:custGeom>
                <a:avLst/>
                <a:gdLst/>
                <a:ahLst/>
                <a:rect l="l" t="t" r="r" b="b"/>
                <a:pathLst>
                  <a:path w="138" h="357">
                    <a:moveTo>
                      <a:pt x="138" y="3"/>
                    </a:moveTo>
                    <a:lnTo>
                      <a:pt x="138" y="357"/>
                    </a:lnTo>
                    <a:lnTo>
                      <a:pt x="0" y="357"/>
                    </a:lnTo>
                    <a:lnTo>
                      <a:pt x="21" y="0"/>
                    </a:lnTo>
                    <a:lnTo>
                      <a:pt x="138" y="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3366ff"/>
                  </a:gs>
                  <a:gs pos="100000">
                    <a:srgbClr val="ffffff"/>
                  </a:gs>
                </a:gsLst>
                <a:lin ang="394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 rot="1486800">
                <a:off x="4124880" y="3835440"/>
                <a:ext cx="175680" cy="734400"/>
              </a:xfrm>
              <a:custGeom>
                <a:avLst/>
                <a:gdLst/>
                <a:ahLst/>
                <a:rect l="l" t="t" r="r" b="b"/>
                <a:pathLst>
                  <a:path w="138" h="357">
                    <a:moveTo>
                      <a:pt x="138" y="3"/>
                    </a:moveTo>
                    <a:lnTo>
                      <a:pt x="138" y="357"/>
                    </a:lnTo>
                    <a:lnTo>
                      <a:pt x="0" y="357"/>
                    </a:lnTo>
                    <a:lnTo>
                      <a:pt x="21" y="0"/>
                    </a:lnTo>
                    <a:lnTo>
                      <a:pt x="138" y="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3366ff"/>
                  </a:gs>
                  <a:gs pos="100000">
                    <a:srgbClr val="ffffff"/>
                  </a:gs>
                </a:gsLst>
                <a:lin ang="68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 rot="1600200">
                <a:off x="4006800" y="3820320"/>
                <a:ext cx="190440" cy="664200"/>
              </a:xfrm>
              <a:custGeom>
                <a:avLst/>
                <a:gdLst/>
                <a:ahLst/>
                <a:rect l="l" t="t" r="r" b="b"/>
                <a:pathLst>
                  <a:path w="138" h="357">
                    <a:moveTo>
                      <a:pt x="138" y="3"/>
                    </a:moveTo>
                    <a:lnTo>
                      <a:pt x="138" y="357"/>
                    </a:lnTo>
                    <a:lnTo>
                      <a:pt x="0" y="357"/>
                    </a:lnTo>
                    <a:lnTo>
                      <a:pt x="21" y="0"/>
                    </a:lnTo>
                    <a:lnTo>
                      <a:pt x="138" y="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3366ff"/>
                  </a:gs>
                  <a:gs pos="100000">
                    <a:srgbClr val="ffffff"/>
                  </a:gs>
                </a:gsLst>
                <a:lin ang="70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 rot="1584000">
                <a:off x="3903840" y="3814200"/>
                <a:ext cx="195120" cy="582120"/>
              </a:xfrm>
              <a:custGeom>
                <a:avLst/>
                <a:gdLst/>
                <a:ahLst/>
                <a:rect l="l" t="t" r="r" b="b"/>
                <a:pathLst>
                  <a:path w="138" h="357">
                    <a:moveTo>
                      <a:pt x="138" y="3"/>
                    </a:moveTo>
                    <a:lnTo>
                      <a:pt x="138" y="357"/>
                    </a:lnTo>
                    <a:lnTo>
                      <a:pt x="0" y="357"/>
                    </a:lnTo>
                    <a:lnTo>
                      <a:pt x="21" y="0"/>
                    </a:lnTo>
                    <a:lnTo>
                      <a:pt x="138" y="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3366ff"/>
                  </a:gs>
                  <a:gs pos="100000">
                    <a:srgbClr val="ffffff"/>
                  </a:gs>
                </a:gsLst>
                <a:lin ang="698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 rot="1585800">
                <a:off x="3798000" y="3787560"/>
                <a:ext cx="205920" cy="525960"/>
              </a:xfrm>
              <a:custGeom>
                <a:avLst/>
                <a:gdLst/>
                <a:ahLst/>
                <a:rect l="l" t="t" r="r" b="b"/>
                <a:pathLst>
                  <a:path w="138" h="357">
                    <a:moveTo>
                      <a:pt x="138" y="3"/>
                    </a:moveTo>
                    <a:lnTo>
                      <a:pt x="138" y="357"/>
                    </a:lnTo>
                    <a:lnTo>
                      <a:pt x="0" y="357"/>
                    </a:lnTo>
                    <a:lnTo>
                      <a:pt x="21" y="0"/>
                    </a:lnTo>
                    <a:lnTo>
                      <a:pt x="138" y="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3366ff"/>
                  </a:gs>
                  <a:gs pos="100000">
                    <a:srgbClr val="ffffff"/>
                  </a:gs>
                </a:gsLst>
                <a:lin ang="698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 rot="1587000">
                <a:off x="3681720" y="3733200"/>
                <a:ext cx="173160" cy="499320"/>
              </a:xfrm>
              <a:custGeom>
                <a:avLst/>
                <a:gdLst/>
                <a:ahLst/>
                <a:rect l="l" t="t" r="r" b="b"/>
                <a:pathLst>
                  <a:path w="138" h="357">
                    <a:moveTo>
                      <a:pt x="138" y="3"/>
                    </a:moveTo>
                    <a:lnTo>
                      <a:pt x="138" y="357"/>
                    </a:lnTo>
                    <a:lnTo>
                      <a:pt x="0" y="357"/>
                    </a:lnTo>
                    <a:lnTo>
                      <a:pt x="21" y="0"/>
                    </a:lnTo>
                    <a:lnTo>
                      <a:pt x="138" y="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3366ff"/>
                  </a:gs>
                  <a:gs pos="100000">
                    <a:srgbClr val="ffffff"/>
                  </a:gs>
                </a:gsLst>
                <a:lin ang="699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 rot="1711200">
                <a:off x="3597840" y="3702960"/>
                <a:ext cx="180000" cy="476280"/>
              </a:xfrm>
              <a:custGeom>
                <a:avLst/>
                <a:gdLst/>
                <a:ahLst/>
                <a:rect l="l" t="t" r="r" b="b"/>
                <a:pathLst>
                  <a:path w="138" h="357">
                    <a:moveTo>
                      <a:pt x="138" y="3"/>
                    </a:moveTo>
                    <a:lnTo>
                      <a:pt x="138" y="357"/>
                    </a:lnTo>
                    <a:lnTo>
                      <a:pt x="0" y="357"/>
                    </a:lnTo>
                    <a:lnTo>
                      <a:pt x="21" y="0"/>
                    </a:lnTo>
                    <a:lnTo>
                      <a:pt x="138" y="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3366ff"/>
                  </a:gs>
                  <a:gs pos="100000">
                    <a:srgbClr val="ffffff"/>
                  </a:gs>
                </a:gsLst>
                <a:lin ang="711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 rot="1884600">
                <a:off x="3505680" y="3656880"/>
                <a:ext cx="158040" cy="445320"/>
              </a:xfrm>
              <a:custGeom>
                <a:avLst/>
                <a:gdLst/>
                <a:ahLst/>
                <a:rect l="l" t="t" r="r" b="b"/>
                <a:pathLst>
                  <a:path w="138" h="357">
                    <a:moveTo>
                      <a:pt x="138" y="3"/>
                    </a:moveTo>
                    <a:lnTo>
                      <a:pt x="138" y="357"/>
                    </a:lnTo>
                    <a:lnTo>
                      <a:pt x="0" y="357"/>
                    </a:lnTo>
                    <a:lnTo>
                      <a:pt x="21" y="0"/>
                    </a:lnTo>
                    <a:lnTo>
                      <a:pt x="138" y="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3366ff"/>
                  </a:gs>
                  <a:gs pos="100000">
                    <a:srgbClr val="ffffff"/>
                  </a:gs>
                </a:gsLst>
                <a:lin ang="728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 rot="1884600">
                <a:off x="3411720" y="3630600"/>
                <a:ext cx="164160" cy="406800"/>
              </a:xfrm>
              <a:custGeom>
                <a:avLst/>
                <a:gdLst/>
                <a:ahLst/>
                <a:rect l="l" t="t" r="r" b="b"/>
                <a:pathLst>
                  <a:path w="138" h="357">
                    <a:moveTo>
                      <a:pt x="138" y="3"/>
                    </a:moveTo>
                    <a:lnTo>
                      <a:pt x="138" y="357"/>
                    </a:lnTo>
                    <a:lnTo>
                      <a:pt x="0" y="357"/>
                    </a:lnTo>
                    <a:lnTo>
                      <a:pt x="21" y="0"/>
                    </a:lnTo>
                    <a:lnTo>
                      <a:pt x="138" y="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3366ff"/>
                  </a:gs>
                  <a:gs pos="100000">
                    <a:srgbClr val="ffffff"/>
                  </a:gs>
                </a:gsLst>
                <a:lin ang="728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379520" y="2103840"/>
                <a:ext cx="6249600" cy="2757240"/>
              </a:xfrm>
              <a:custGeom>
                <a:avLst/>
                <a:gdLst/>
                <a:ahLst/>
                <a:rect l="l" t="t" r="r" b="b"/>
                <a:pathLst>
                  <a:path w="2886" h="1272">
                    <a:moveTo>
                      <a:pt x="0" y="0"/>
                    </a:moveTo>
                    <a:cubicBezTo>
                      <a:pt x="67" y="61"/>
                      <a:pt x="135" y="122"/>
                      <a:pt x="207" y="186"/>
                    </a:cubicBezTo>
                    <a:cubicBezTo>
                      <a:pt x="279" y="250"/>
                      <a:pt x="362" y="325"/>
                      <a:pt x="429" y="384"/>
                    </a:cubicBezTo>
                    <a:cubicBezTo>
                      <a:pt x="496" y="443"/>
                      <a:pt x="539" y="485"/>
                      <a:pt x="612" y="543"/>
                    </a:cubicBezTo>
                    <a:cubicBezTo>
                      <a:pt x="685" y="601"/>
                      <a:pt x="790" y="677"/>
                      <a:pt x="867" y="729"/>
                    </a:cubicBezTo>
                    <a:cubicBezTo>
                      <a:pt x="944" y="781"/>
                      <a:pt x="992" y="809"/>
                      <a:pt x="1077" y="855"/>
                    </a:cubicBezTo>
                    <a:cubicBezTo>
                      <a:pt x="1162" y="901"/>
                      <a:pt x="1310" y="973"/>
                      <a:pt x="1380" y="1005"/>
                    </a:cubicBezTo>
                    <a:cubicBezTo>
                      <a:pt x="1450" y="1037"/>
                      <a:pt x="1459" y="1036"/>
                      <a:pt x="1497" y="1050"/>
                    </a:cubicBezTo>
                    <a:cubicBezTo>
                      <a:pt x="1535" y="1064"/>
                      <a:pt x="1572" y="1078"/>
                      <a:pt x="1608" y="1089"/>
                    </a:cubicBezTo>
                    <a:cubicBezTo>
                      <a:pt x="1644" y="1100"/>
                      <a:pt x="1674" y="1109"/>
                      <a:pt x="1713" y="1119"/>
                    </a:cubicBezTo>
                    <a:cubicBezTo>
                      <a:pt x="1752" y="1129"/>
                      <a:pt x="1796" y="1139"/>
                      <a:pt x="1842" y="1149"/>
                    </a:cubicBezTo>
                    <a:cubicBezTo>
                      <a:pt x="1888" y="1159"/>
                      <a:pt x="1949" y="1171"/>
                      <a:pt x="1992" y="1179"/>
                    </a:cubicBezTo>
                    <a:cubicBezTo>
                      <a:pt x="2035" y="1187"/>
                      <a:pt x="2065" y="1194"/>
                      <a:pt x="2100" y="1200"/>
                    </a:cubicBezTo>
                    <a:cubicBezTo>
                      <a:pt x="2135" y="1206"/>
                      <a:pt x="2168" y="1213"/>
                      <a:pt x="2205" y="1218"/>
                    </a:cubicBezTo>
                    <a:cubicBezTo>
                      <a:pt x="2242" y="1223"/>
                      <a:pt x="2283" y="1228"/>
                      <a:pt x="2322" y="1233"/>
                    </a:cubicBezTo>
                    <a:cubicBezTo>
                      <a:pt x="2361" y="1238"/>
                      <a:pt x="2395" y="1244"/>
                      <a:pt x="2439" y="1248"/>
                    </a:cubicBezTo>
                    <a:cubicBezTo>
                      <a:pt x="2483" y="1252"/>
                      <a:pt x="2538" y="1255"/>
                      <a:pt x="2589" y="1257"/>
                    </a:cubicBezTo>
                    <a:cubicBezTo>
                      <a:pt x="2640" y="1259"/>
                      <a:pt x="2696" y="1261"/>
                      <a:pt x="2745" y="1263"/>
                    </a:cubicBezTo>
                    <a:cubicBezTo>
                      <a:pt x="2794" y="1265"/>
                      <a:pt x="2857" y="1270"/>
                      <a:pt x="2886" y="1272"/>
                    </a:cubicBezTo>
                  </a:path>
                </a:pathLst>
              </a:custGeom>
              <a:noFill/>
              <a:ln w="38160">
                <a:solidFill>
                  <a:srgbClr val="0000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523640" y="4861080"/>
                <a:ext cx="19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7718400" y="5268960"/>
              <a:ext cx="271440" cy="66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13760" y="5268960"/>
              <a:ext cx="404640" cy="66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967440" y="5268960"/>
              <a:ext cx="346320" cy="66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456240" y="5268960"/>
              <a:ext cx="511200" cy="66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099120" y="5268960"/>
              <a:ext cx="357120" cy="66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692680" y="5268960"/>
              <a:ext cx="406440" cy="66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284800" y="5268960"/>
              <a:ext cx="407880" cy="66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879800" y="5268960"/>
              <a:ext cx="405000" cy="66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497480" y="5268960"/>
              <a:ext cx="382320" cy="66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068720" y="5268960"/>
              <a:ext cx="428760" cy="66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660840" y="5268960"/>
              <a:ext cx="407880" cy="66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254400" y="5268960"/>
              <a:ext cx="406440" cy="66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851200" y="5268960"/>
              <a:ext cx="403200" cy="66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446200" y="5268960"/>
              <a:ext cx="405000" cy="66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39760" y="5268960"/>
              <a:ext cx="406440" cy="66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635120" y="5268960"/>
              <a:ext cx="404640" cy="66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362240" y="5268960"/>
              <a:ext cx="272880" cy="66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718400" y="4639680"/>
              <a:ext cx="271440" cy="6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313760" y="4639680"/>
              <a:ext cx="404640" cy="6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967440" y="4639680"/>
              <a:ext cx="346320" cy="6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456240" y="4639680"/>
              <a:ext cx="511200" cy="6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099120" y="4639680"/>
              <a:ext cx="357120" cy="6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692680" y="4639680"/>
              <a:ext cx="406440" cy="6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284800" y="4639680"/>
              <a:ext cx="407880" cy="6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879800" y="4639680"/>
              <a:ext cx="405000" cy="6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497480" y="4639680"/>
              <a:ext cx="382320" cy="6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068720" y="4639680"/>
              <a:ext cx="428760" cy="6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660840" y="4639680"/>
              <a:ext cx="407880" cy="6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254400" y="4639680"/>
              <a:ext cx="406440" cy="6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851200" y="4639680"/>
              <a:ext cx="403200" cy="6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446200" y="4639680"/>
              <a:ext cx="405000" cy="6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039760" y="4639680"/>
              <a:ext cx="406440" cy="6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35120" y="4639680"/>
              <a:ext cx="404640" cy="6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362240" y="4639680"/>
              <a:ext cx="272880" cy="6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718400" y="3990240"/>
              <a:ext cx="27144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313760" y="3990240"/>
              <a:ext cx="40464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967440" y="3990240"/>
              <a:ext cx="34632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456240" y="3990240"/>
              <a:ext cx="51120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099120" y="3990240"/>
              <a:ext cx="35712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692680" y="3990240"/>
              <a:ext cx="40644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284800" y="3990240"/>
              <a:ext cx="40788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79800" y="3990240"/>
              <a:ext cx="40500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497480" y="3990240"/>
              <a:ext cx="38232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068720" y="3990240"/>
              <a:ext cx="42876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60840" y="3990240"/>
              <a:ext cx="40788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254400" y="3990240"/>
              <a:ext cx="40644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851200" y="3990240"/>
              <a:ext cx="40320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46200" y="3990240"/>
              <a:ext cx="40500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039760" y="3990240"/>
              <a:ext cx="40644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635120" y="3990240"/>
              <a:ext cx="40464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362240" y="3990240"/>
              <a:ext cx="27288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718400" y="3353040"/>
              <a:ext cx="271440" cy="6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313760" y="3353040"/>
              <a:ext cx="404640" cy="6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967440" y="3353040"/>
              <a:ext cx="346320" cy="6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56240" y="3353040"/>
              <a:ext cx="511200" cy="6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099120" y="3353040"/>
              <a:ext cx="357120" cy="6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692680" y="3353040"/>
              <a:ext cx="406440" cy="6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284800" y="3353040"/>
              <a:ext cx="407880" cy="6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879800" y="3353040"/>
              <a:ext cx="405000" cy="6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497480" y="3353040"/>
              <a:ext cx="382320" cy="6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068720" y="3353040"/>
              <a:ext cx="428760" cy="6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660840" y="3353040"/>
              <a:ext cx="407880" cy="6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54400" y="3353040"/>
              <a:ext cx="406440" cy="6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51200" y="3353040"/>
              <a:ext cx="403200" cy="6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446200" y="3353040"/>
              <a:ext cx="405000" cy="6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039760" y="3353040"/>
              <a:ext cx="406440" cy="6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635120" y="3353040"/>
              <a:ext cx="404640" cy="6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362240" y="3353040"/>
              <a:ext cx="272880" cy="6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18400" y="2720520"/>
              <a:ext cx="271440" cy="63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313760" y="2720520"/>
              <a:ext cx="404640" cy="63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967440" y="2720520"/>
              <a:ext cx="346320" cy="63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456240" y="2720520"/>
              <a:ext cx="511200" cy="63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099120" y="2720520"/>
              <a:ext cx="357120" cy="63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692680" y="2720520"/>
              <a:ext cx="406440" cy="63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284800" y="2720520"/>
              <a:ext cx="407880" cy="63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79800" y="2720520"/>
              <a:ext cx="405000" cy="63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497480" y="2720520"/>
              <a:ext cx="382320" cy="63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068720" y="2720520"/>
              <a:ext cx="428760" cy="63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660840" y="2720520"/>
              <a:ext cx="407880" cy="63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254400" y="2720520"/>
              <a:ext cx="406440" cy="63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446200" y="2720520"/>
              <a:ext cx="405000" cy="63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039760" y="2720520"/>
              <a:ext cx="406440" cy="63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635120" y="2720520"/>
              <a:ext cx="404640" cy="63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362240" y="2720520"/>
              <a:ext cx="272880" cy="63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18400" y="2086560"/>
              <a:ext cx="271440" cy="63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313760" y="2086560"/>
              <a:ext cx="404640" cy="63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967440" y="2086560"/>
              <a:ext cx="346320" cy="63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56240" y="2086560"/>
              <a:ext cx="511200" cy="63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099120" y="2086560"/>
              <a:ext cx="357120" cy="63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692680" y="2086560"/>
              <a:ext cx="406440" cy="63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284800" y="2086560"/>
              <a:ext cx="407880" cy="63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879800" y="2086560"/>
              <a:ext cx="405000" cy="63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497480" y="2086560"/>
              <a:ext cx="382320" cy="63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068720" y="2086560"/>
              <a:ext cx="428760" cy="63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60840" y="2086560"/>
              <a:ext cx="407880" cy="63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254400" y="2086560"/>
              <a:ext cx="406440" cy="63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51200" y="2086560"/>
              <a:ext cx="403200" cy="63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446200" y="2086560"/>
              <a:ext cx="405000" cy="63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039760" y="2086560"/>
              <a:ext cx="406440" cy="63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635120" y="2086560"/>
              <a:ext cx="404640" cy="63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362240" y="2086560"/>
              <a:ext cx="272880" cy="63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362240" y="2720520"/>
              <a:ext cx="66276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362240" y="3353040"/>
              <a:ext cx="66276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362240" y="3990240"/>
              <a:ext cx="66276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362240" y="4639680"/>
              <a:ext cx="66276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362240" y="5268960"/>
              <a:ext cx="66276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989840" y="2086560"/>
              <a:ext cx="0" cy="3844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660840" y="2086560"/>
              <a:ext cx="0" cy="384408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692680" y="2086560"/>
              <a:ext cx="0" cy="384408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718400" y="4639680"/>
              <a:ext cx="0" cy="129096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362240" y="2086560"/>
              <a:ext cx="66276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362240" y="2086560"/>
              <a:ext cx="0" cy="38440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362240" y="5931000"/>
              <a:ext cx="66276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362240" y="2102040"/>
              <a:ext cx="4338360" cy="149508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732640" y="2419920"/>
              <a:ext cx="2492280" cy="375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333300"/>
                  </a:solidFill>
                  <a:uFillTx/>
                  <a:latin typeface="ＭＳ Ｐゴシック"/>
                </a:rPr>
                <a:t>initial target in 199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648400" y="3546000"/>
              <a:ext cx="106200" cy="1058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55520" y="2539800"/>
              <a:ext cx="1114560" cy="26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00"/>
                  </a:solidFill>
                  <a:latin typeface="ＭＳ Ｐゴシック"/>
                </a:rPr>
                <a:t>- 5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55520" y="3187800"/>
              <a:ext cx="112572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00"/>
                  </a:solidFill>
                  <a:latin typeface="ＭＳ Ｐゴシック"/>
                </a:rPr>
                <a:t>- 1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55520" y="3809160"/>
              <a:ext cx="111456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00"/>
                  </a:solidFill>
                  <a:latin typeface="ＭＳ Ｐゴシック"/>
                </a:rPr>
                <a:t>- 1,5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55520" y="4432320"/>
              <a:ext cx="1114560" cy="26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00"/>
                  </a:solidFill>
                  <a:latin typeface="ＭＳ Ｐゴシック"/>
                </a:rPr>
                <a:t>- 2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55520" y="5056920"/>
              <a:ext cx="1125720" cy="3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00"/>
                  </a:solidFill>
                  <a:latin typeface="ＭＳ Ｐゴシック"/>
                </a:rPr>
                <a:t>- 2,5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41520" y="1982520"/>
              <a:ext cx="65376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00"/>
                  </a:solidFill>
                  <a:latin typeface="ＭＳ Ｐゴシック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55520" y="5733000"/>
              <a:ext cx="112572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00"/>
                  </a:solidFill>
                  <a:latin typeface="ＭＳ Ｐゴシック"/>
                </a:rPr>
                <a:t>- 3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362240" y="5931000"/>
              <a:ext cx="2880" cy="48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3659040" y="5941800"/>
              <a:ext cx="5040" cy="549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686560" y="5931000"/>
              <a:ext cx="46080" cy="560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724880" y="5931000"/>
              <a:ext cx="6120" cy="63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214960" y="6184800"/>
              <a:ext cx="904680" cy="37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00"/>
                  </a:solidFill>
                  <a:latin typeface="ＭＳ Ｐゴシック"/>
                </a:rPr>
                <a:t>201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289320" y="6184800"/>
              <a:ext cx="893880" cy="45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00"/>
                  </a:solidFill>
                  <a:latin typeface="ＭＳ Ｐゴシック"/>
                </a:rPr>
                <a:t>200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286760" y="6184800"/>
              <a:ext cx="892080" cy="46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00"/>
                  </a:solidFill>
                  <a:latin typeface="ＭＳ Ｐゴシック"/>
                </a:rPr>
                <a:t>201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46000" y="6184800"/>
              <a:ext cx="878040" cy="35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00"/>
                  </a:solidFill>
                  <a:latin typeface="ＭＳ Ｐゴシック"/>
                </a:rPr>
                <a:t>199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2266920" y="3427560"/>
              <a:ext cx="558720" cy="35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5726160" y="3033720"/>
              <a:ext cx="226800" cy="52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952960" y="2802960"/>
              <a:ext cx="1924200" cy="384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00"/>
                  </a:solidFill>
                  <a:latin typeface="ＭＳ Ｐゴシック"/>
                </a:rPr>
                <a:t>1,200 reduct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16200000">
              <a:off x="-1789560" y="3837960"/>
              <a:ext cx="4300560" cy="362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Reduction of fatalities since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 Black"/>
                </a:rPr>
                <a:t>　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1999</a:t>
              </a:r>
              <a:r>
                <a:rPr b="0" lang="en-US" sz="1600" spc="-1" strike="noStrike">
                  <a:solidFill>
                    <a:srgbClr val="000000"/>
                  </a:solidFill>
                  <a:latin typeface="Century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43280" y="3394800"/>
              <a:ext cx="0" cy="261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403280" y="3818880"/>
              <a:ext cx="1728720" cy="564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00"/>
                  </a:solidFill>
                  <a:latin typeface="ＭＳ Ｐゴシック"/>
                </a:rPr>
                <a:t>Already achieved 1,000 reduct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4902120" y="4437000"/>
            <a:ext cx="2833920" cy="1093680"/>
          </a:xfrm>
          <a:prstGeom prst="line">
            <a:avLst/>
          </a:prstGeom>
          <a:ln w="57240">
            <a:solidFill>
              <a:srgbClr val="008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4743360" y="5084640"/>
            <a:ext cx="2781360" cy="427320"/>
          </a:xfrm>
          <a:prstGeom prst="line">
            <a:avLst/>
          </a:prstGeom>
          <a:ln w="28440">
            <a:solidFill>
              <a:srgbClr val="ff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835280" y="5175360"/>
            <a:ext cx="2933640" cy="623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ff0000"/>
                </a:solidFill>
                <a:uFillTx/>
                <a:latin typeface="ＭＳ Ｐゴシック"/>
              </a:rPr>
              <a:t>（ＩＩ）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ＭＳ Ｐゴシック"/>
              </a:rPr>
              <a:t>Continuous reduction after 2010 by active safe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435640" y="3429000"/>
            <a:ext cx="3419280" cy="1279080"/>
            <a:chOff x="5435640" y="3429000"/>
            <a:chExt cx="3419280" cy="1279080"/>
          </a:xfrm>
        </p:grpSpPr>
        <p:sp>
          <p:nvSpPr>
            <p:cNvPr id="322" name=""/>
            <p:cNvSpPr/>
            <p:nvPr/>
          </p:nvSpPr>
          <p:spPr>
            <a:xfrm>
              <a:off x="5435640" y="3709800"/>
              <a:ext cx="466560" cy="674280"/>
            </a:xfrm>
            <a:prstGeom prst="downArrow">
              <a:avLst>
                <a:gd name="adj1" fmla="val 50000"/>
                <a:gd name="adj2" fmla="val 3613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767200" y="3429000"/>
              <a:ext cx="2907000" cy="458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333300"/>
                  </a:solidFill>
                  <a:uFillTx/>
                  <a:latin typeface="ＭＳ Ｐゴシック"/>
                </a:rPr>
                <a:t>Additional + 800 in 200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5741640" y="4275000"/>
              <a:ext cx="641160" cy="31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556240" y="4506840"/>
              <a:ext cx="199800" cy="20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902200" y="3974760"/>
              <a:ext cx="2952720" cy="458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 u="sng">
                  <a:solidFill>
                    <a:srgbClr val="333300"/>
                  </a:solidFill>
                  <a:uFillTx/>
                  <a:latin typeface="ＭＳ Ｐゴシック"/>
                </a:rPr>
                <a:t>（Ｉ） </a:t>
              </a:r>
              <a:r>
                <a:rPr b="1" lang="en-US" sz="1600" spc="-1" strike="noStrike" u="sng">
                  <a:solidFill>
                    <a:srgbClr val="333300"/>
                  </a:solidFill>
                  <a:uFillTx/>
                  <a:latin typeface="ＭＳ Ｐゴシック"/>
                </a:rPr>
                <a:t>New target:2,000 reduct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-92160" y="-79200"/>
            <a:ext cx="595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0" i="1" lang="en-US" sz="2000" spc="-1" strike="noStrike">
                <a:solidFill>
                  <a:srgbClr val="ffffff"/>
                </a:solidFill>
                <a:latin typeface="Arial Black"/>
              </a:rPr>
              <a:t>The 2006 MLIT  Transport Policy Council’s Report on vehicle safety 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596360" y="4869000"/>
            <a:ext cx="0" cy="504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trategies for active safety measur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95280" y="4005360"/>
            <a:ext cx="8439120" cy="28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hort term measur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centives for priority technologies should be considere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Middle term measures 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troduction of  new type of accident analysis using driving recorder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Future measur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velopment of communication technologies is importan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-92160" y="-79200"/>
            <a:ext cx="595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0" i="1" lang="en-US" sz="2000" spc="-1" strike="noStrike">
                <a:solidFill>
                  <a:srgbClr val="ffffff"/>
                </a:solidFill>
                <a:latin typeface="Arial Black"/>
              </a:rPr>
              <a:t>The 2006 MLIT  Transport Policy Council’s Report on vehicle safety 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059280" y="1989000"/>
            <a:ext cx="583236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268360" y="2060640"/>
            <a:ext cx="6875640" cy="18003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success of passive safety measures, prompt action should be taken now to expand utilization of active safety for continuous reduction after 2010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Market introduction of</a:t>
            </a:r>
            <a:br>
              <a:rPr sz="3600"/>
            </a:b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           Active Safety Technology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7720" y="1483920"/>
            <a:ext cx="80074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Technical meas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Technical guidelines based on “ the concept of driver assistance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Public outre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Public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Even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Knowledge for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Basic information about ASV technolog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Industries’ eff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Motor vehicle indus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Truck operato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Governmen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Clear message of importance of ASV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Incentive mea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centiv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28640" y="1385280"/>
            <a:ext cx="7832880" cy="19990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vy duty vehicles equipped with collision damage mitigation brake are subsidized from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pril 2007.(Plan*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*) The Diet are discussing a final drafted budget of 2007 FY and have not yet approved it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84360" y="3645000"/>
            <a:ext cx="3958920" cy="2808360"/>
          </a:xfrm>
          <a:prstGeom prst="roundRect">
            <a:avLst>
              <a:gd name="adj" fmla="val 725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collision damage mitigation brake on heavy duty vehicle was selected for incentiv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65120" indent="-285840"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ured technolog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65120" indent="-285840"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fective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65120" indent="-285840"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al necess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4932360" y="3998880"/>
            <a:ext cx="3567240" cy="24033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4932360" y="3798720"/>
            <a:ext cx="3567240" cy="240372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3"/>
          <a:stretch/>
        </p:blipFill>
        <p:spPr>
          <a:xfrm>
            <a:off x="4932360" y="3746520"/>
            <a:ext cx="3567240" cy="240336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4"/>
          <a:stretch/>
        </p:blipFill>
        <p:spPr>
          <a:xfrm>
            <a:off x="6394320" y="4573440"/>
            <a:ext cx="1590840" cy="588960"/>
          </a:xfrm>
          <a:prstGeom prst="rect">
            <a:avLst/>
          </a:prstGeom>
          <a:ln w="0">
            <a:noFill/>
          </a:ln>
        </p:spPr>
      </p:pic>
      <p:grpSp>
        <p:nvGrpSpPr>
          <p:cNvPr id="343" name=""/>
          <p:cNvGrpSpPr/>
          <p:nvPr/>
        </p:nvGrpSpPr>
        <p:grpSpPr>
          <a:xfrm>
            <a:off x="6599160" y="4611600"/>
            <a:ext cx="780840" cy="329760"/>
            <a:chOff x="6599160" y="4611600"/>
            <a:chExt cx="780840" cy="329760"/>
          </a:xfrm>
        </p:grpSpPr>
        <p:sp>
          <p:nvSpPr>
            <p:cNvPr id="344" name=""/>
            <p:cNvSpPr/>
            <p:nvPr/>
          </p:nvSpPr>
          <p:spPr>
            <a:xfrm>
              <a:off x="6599160" y="4611600"/>
              <a:ext cx="780840" cy="329760"/>
            </a:xfrm>
            <a:custGeom>
              <a:avLst/>
              <a:gdLst/>
              <a:ahLst/>
              <a:rect l="l" t="t" r="r" b="b"/>
              <a:pathLst>
                <a:path w="374" h="147">
                  <a:moveTo>
                    <a:pt x="73" y="0"/>
                  </a:moveTo>
                  <a:lnTo>
                    <a:pt x="73" y="72"/>
                  </a:lnTo>
                  <a:lnTo>
                    <a:pt x="0" y="147"/>
                  </a:lnTo>
                  <a:lnTo>
                    <a:pt x="73" y="103"/>
                  </a:lnTo>
                  <a:lnTo>
                    <a:pt x="73" y="124"/>
                  </a:lnTo>
                  <a:lnTo>
                    <a:pt x="123" y="124"/>
                  </a:lnTo>
                  <a:lnTo>
                    <a:pt x="123" y="124"/>
                  </a:lnTo>
                  <a:lnTo>
                    <a:pt x="199" y="124"/>
                  </a:lnTo>
                  <a:lnTo>
                    <a:pt x="374" y="124"/>
                  </a:lnTo>
                  <a:lnTo>
                    <a:pt x="374" y="103"/>
                  </a:lnTo>
                  <a:lnTo>
                    <a:pt x="374" y="72"/>
                  </a:lnTo>
                  <a:lnTo>
                    <a:pt x="374" y="72"/>
                  </a:lnTo>
                  <a:lnTo>
                    <a:pt x="374" y="0"/>
                  </a:lnTo>
                  <a:lnTo>
                    <a:pt x="199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599160" y="4611600"/>
              <a:ext cx="780840" cy="329760"/>
            </a:xfrm>
            <a:custGeom>
              <a:avLst/>
              <a:gdLst/>
              <a:ahLst/>
              <a:rect l="l" t="t" r="r" b="b"/>
              <a:pathLst>
                <a:path w="374" h="147">
                  <a:moveTo>
                    <a:pt x="73" y="0"/>
                  </a:moveTo>
                  <a:lnTo>
                    <a:pt x="73" y="72"/>
                  </a:lnTo>
                  <a:lnTo>
                    <a:pt x="0" y="147"/>
                  </a:lnTo>
                  <a:lnTo>
                    <a:pt x="73" y="103"/>
                  </a:lnTo>
                  <a:lnTo>
                    <a:pt x="73" y="124"/>
                  </a:lnTo>
                  <a:lnTo>
                    <a:pt x="123" y="124"/>
                  </a:lnTo>
                  <a:lnTo>
                    <a:pt x="123" y="124"/>
                  </a:lnTo>
                  <a:lnTo>
                    <a:pt x="199" y="124"/>
                  </a:lnTo>
                  <a:lnTo>
                    <a:pt x="374" y="124"/>
                  </a:lnTo>
                  <a:lnTo>
                    <a:pt x="374" y="103"/>
                  </a:lnTo>
                  <a:lnTo>
                    <a:pt x="374" y="72"/>
                  </a:lnTo>
                  <a:lnTo>
                    <a:pt x="374" y="72"/>
                  </a:lnTo>
                  <a:lnTo>
                    <a:pt x="374" y="0"/>
                  </a:lnTo>
                  <a:lnTo>
                    <a:pt x="199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73" y="0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6477120" y="5467320"/>
            <a:ext cx="1066680" cy="152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ake activa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030640" y="4395960"/>
            <a:ext cx="334188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063760" y="4440240"/>
            <a:ext cx="346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333300"/>
                </a:solidFill>
                <a:latin typeface="Arial"/>
              </a:rPr>
              <a:t>The milimeter wave sensor is scannning former condi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967280" y="3716280"/>
            <a:ext cx="2057400" cy="24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821480" y="3763800"/>
            <a:ext cx="345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●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When the vehicle approachs to former vehicle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804000" y="4627440"/>
            <a:ext cx="59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333300"/>
                </a:solidFill>
                <a:latin typeface="Arial"/>
              </a:rPr>
              <a:t>Pipipi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003640" y="5132520"/>
            <a:ext cx="3456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rial"/>
              </a:rPr>
              <a:t>When Driver seems not to aware the former vehicle, warning activat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935600" y="5877000"/>
            <a:ext cx="3370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rial"/>
              </a:rPr>
              <a:t>When the vehicle presumes to crash to former car, the vehicle activate the brak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"/>
          <p:cNvGrpSpPr/>
          <p:nvPr/>
        </p:nvGrpSpPr>
        <p:grpSpPr>
          <a:xfrm>
            <a:off x="539640" y="1555920"/>
            <a:ext cx="8137440" cy="3311280"/>
            <a:chOff x="539640" y="1555920"/>
            <a:chExt cx="8137440" cy="3311280"/>
          </a:xfrm>
        </p:grpSpPr>
        <p:sp>
          <p:nvSpPr>
            <p:cNvPr id="355" name=""/>
            <p:cNvSpPr/>
            <p:nvPr/>
          </p:nvSpPr>
          <p:spPr>
            <a:xfrm>
              <a:off x="539640" y="1555920"/>
              <a:ext cx="8137440" cy="3311280"/>
            </a:xfrm>
            <a:prstGeom prst="roundRect">
              <a:avLst>
                <a:gd name="adj" fmla="val 775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lvl="1" marL="1792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56" name="" descr=""/>
            <p:cNvPicPr/>
            <p:nvPr/>
          </p:nvPicPr>
          <p:blipFill>
            <a:blip r:embed="rId1"/>
            <a:stretch/>
          </p:blipFill>
          <p:spPr>
            <a:xfrm>
              <a:off x="5378760" y="1886040"/>
              <a:ext cx="2931480" cy="29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6111000" y="1754280"/>
              <a:ext cx="2022840" cy="54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ＭＳ Ｐゴシック"/>
                </a:rPr>
                <a:t>The estimated reduction volume by the vehicle spee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021160" y="3770280"/>
              <a:ext cx="331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0808"/>
                  </a:solidFill>
                  <a:latin typeface="Arial"/>
                </a:rPr>
                <a:t>km/h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084280" y="2381400"/>
              <a:ext cx="705960" cy="138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084280" y="2381400"/>
              <a:ext cx="705960" cy="13888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344560" y="2381400"/>
              <a:ext cx="234360" cy="1388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344560" y="2381400"/>
              <a:ext cx="234360" cy="138888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451120" y="2583000"/>
              <a:ext cx="234360" cy="117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449680" y="2583000"/>
              <a:ext cx="234000" cy="1179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951800" y="2978280"/>
              <a:ext cx="865800" cy="36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ＭＳ Ｐゴシック"/>
                </a:rPr>
                <a:t>86% reduc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935600" y="3915000"/>
              <a:ext cx="11376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ＭＳ Ｐゴシック"/>
                </a:rPr>
                <a:t>Number of fatal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ＭＳ Ｐゴシック"/>
                </a:rPr>
                <a:t>acciden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4791960" y="4002120"/>
              <a:ext cx="143640" cy="88560"/>
              <a:chOff x="4791960" y="4002120"/>
              <a:chExt cx="143640" cy="88560"/>
            </a:xfrm>
          </p:grpSpPr>
          <p:sp>
            <p:nvSpPr>
              <p:cNvPr id="368" name=""/>
              <p:cNvSpPr/>
              <p:nvPr/>
            </p:nvSpPr>
            <p:spPr>
              <a:xfrm>
                <a:off x="4791960" y="4002120"/>
                <a:ext cx="143640" cy="88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791960" y="4002120"/>
                <a:ext cx="143640" cy="88560"/>
              </a:xfrm>
              <a:prstGeom prst="rect">
                <a:avLst/>
              </a:prstGeom>
              <a:noFill/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6057360" y="3915000"/>
              <a:ext cx="22381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ＭＳ Ｐゴシック"/>
                </a:rPr>
                <a:t>Estimated Reduction volume of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ＭＳ Ｐゴシック"/>
                </a:rPr>
                <a:t>the number of fatal acciden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1" name=""/>
            <p:cNvGrpSpPr/>
            <p:nvPr/>
          </p:nvGrpSpPr>
          <p:grpSpPr>
            <a:xfrm>
              <a:off x="6037920" y="4033800"/>
              <a:ext cx="96480" cy="71280"/>
              <a:chOff x="6037920" y="4033800"/>
              <a:chExt cx="96480" cy="71280"/>
            </a:xfrm>
          </p:grpSpPr>
          <p:sp>
            <p:nvSpPr>
              <p:cNvPr id="372" name=""/>
              <p:cNvSpPr/>
              <p:nvPr/>
            </p:nvSpPr>
            <p:spPr>
              <a:xfrm>
                <a:off x="6037920" y="4033800"/>
                <a:ext cx="96480" cy="7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037920" y="4033800"/>
                <a:ext cx="96480" cy="71280"/>
              </a:xfrm>
              <a:prstGeom prst="rect">
                <a:avLst/>
              </a:prstGeom>
              <a:noFill/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4" name=""/>
            <p:cNvSpPr/>
            <p:nvPr/>
          </p:nvSpPr>
          <p:spPr>
            <a:xfrm>
              <a:off x="4937400" y="2108160"/>
              <a:ext cx="880560" cy="21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ＭＳ Ｐゴシック"/>
                </a:rPr>
                <a:t>Tot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111000" y="3368160"/>
              <a:ext cx="293760" cy="27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ＭＳ Ｐゴシック"/>
                </a:rPr>
                <a:t>100%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419520" y="3345840"/>
              <a:ext cx="293760" cy="27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ＭＳ Ｐゴシック"/>
                </a:rPr>
                <a:t>100%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844680" y="3418920"/>
              <a:ext cx="293760" cy="27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ＭＳ Ｐゴシック"/>
                </a:rPr>
                <a:t>100%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064280" y="3274560"/>
              <a:ext cx="294120" cy="27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ＭＳ Ｐゴシック"/>
                </a:rPr>
                <a:t>97.7%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284240" y="2986920"/>
              <a:ext cx="294120" cy="27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ＭＳ Ｐゴシック"/>
                </a:rPr>
                <a:t>87.5%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504200" y="3345840"/>
              <a:ext cx="293760" cy="27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ＭＳ Ｐゴシック"/>
                </a:rPr>
                <a:t>79.6%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796520" y="3129840"/>
              <a:ext cx="293760" cy="27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ＭＳ Ｐゴシック"/>
                </a:rPr>
                <a:t>73.2%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59240" y="1914480"/>
              <a:ext cx="384804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7928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514"/>
                  </a:solidFill>
                  <a:latin typeface="Arial"/>
                  <a:ea typeface="ＭＳ Ｐゴシック"/>
                </a:rPr>
                <a:t>MLIT estimates that the number of fatal accidents related heavy duty vehicle can be reduced about 90% when collision mitigation braking system on the heavy duty vehicles reduce speed around 20 km/h.</a:t>
              </a:r>
              <a:r>
                <a:rPr b="1" lang="en-US" sz="2000" spc="-1" strike="noStrike">
                  <a:solidFill>
                    <a:srgbClr val="333300"/>
                  </a:solidFill>
                  <a:latin typeface="Arial"/>
                  <a:ea typeface="ＭＳ Ｐゴシック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536400" y="5122800"/>
            <a:ext cx="8207640" cy="12520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spcBef>
                <a:spcPts val="125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ja-JP" sz="2000" spc="-1" strike="noStrike">
                <a:solidFill>
                  <a:srgbClr val="080808"/>
                </a:solidFill>
                <a:latin typeface="Arial"/>
                <a:ea typeface="ＭＳ Ｐゴシック"/>
              </a:rPr>
              <a:t>○</a:t>
            </a:r>
            <a:r>
              <a:rPr b="0" lang="ja-JP" sz="2000" spc="-1" strike="noStrike">
                <a:solidFill>
                  <a:srgbClr val="080808"/>
                </a:solidFill>
                <a:latin typeface="Arial"/>
                <a:ea typeface="ＭＳ Ｐゴシック"/>
              </a:rPr>
              <a:t>More than 55% of accidents are rear end collisions.</a:t>
            </a:r>
            <a:br>
              <a:rPr sz="2000"/>
            </a:br>
            <a:r>
              <a:rPr b="0" lang="ja-JP" sz="2000" spc="-1" strike="noStrike">
                <a:solidFill>
                  <a:srgbClr val="080808"/>
                </a:solidFill>
                <a:latin typeface="Arial"/>
                <a:ea typeface="ＭＳ Ｐゴシック"/>
              </a:rPr>
              <a:t>○The rate of fatality in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  <a:ea typeface="ＭＳ Ｐゴシック"/>
              </a:rPr>
              <a:t> </a:t>
            </a:r>
            <a:r>
              <a:rPr b="0" lang="ja-JP" sz="2000" spc="-1" strike="noStrike">
                <a:solidFill>
                  <a:srgbClr val="080808"/>
                </a:solidFill>
                <a:latin typeface="Arial"/>
                <a:ea typeface="ＭＳ Ｐゴシック"/>
              </a:rPr>
              <a:t>the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  <a:ea typeface="ＭＳ Ｐゴシック"/>
              </a:rPr>
              <a:t>vehicles</a:t>
            </a:r>
            <a:r>
              <a:rPr b="0" lang="ja-JP" sz="2000" spc="-1" strike="noStrike">
                <a:solidFill>
                  <a:srgbClr val="080808"/>
                </a:solidFill>
                <a:latin typeface="Arial"/>
                <a:ea typeface="ＭＳ Ｐゴシック"/>
              </a:rPr>
              <a:t> rear-hit by heavy duty vehicle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  <a:ea typeface="ＭＳ Ｐゴシック"/>
              </a:rPr>
              <a:t> is 12 times more severe than </a:t>
            </a:r>
            <a:r>
              <a:rPr b="0" lang="ja-JP" sz="2000" spc="-1" strike="noStrike">
                <a:solidFill>
                  <a:srgbClr val="080808"/>
                </a:solidFill>
                <a:latin typeface="Arial"/>
                <a:ea typeface="ＭＳ Ｐゴシック"/>
              </a:rPr>
              <a:t>the rate by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  <a:ea typeface="ＭＳ Ｐゴシック"/>
              </a:rPr>
              <a:t> passenger vehicle</a:t>
            </a:r>
            <a:r>
              <a:rPr b="0" lang="ja-JP" sz="2000" spc="-1" strike="noStrike">
                <a:solidFill>
                  <a:srgbClr val="080808"/>
                </a:solidFill>
                <a:latin typeface="Arial"/>
                <a:ea typeface="ＭＳ Ｐゴシック"/>
              </a:rPr>
              <a:t>s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  <a:ea typeface="ＭＳ Ｐゴシック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44600" y="4795920"/>
            <a:ext cx="3335400" cy="509400"/>
          </a:xfrm>
          <a:prstGeom prst="roundRect">
            <a:avLst>
              <a:gd name="adj" fmla="val 16667"/>
            </a:avLst>
          </a:prstGeom>
          <a:solidFill>
            <a:srgbClr val="ccff33"/>
          </a:solidFill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Social Necess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41440" y="274680"/>
            <a:ext cx="8145360" cy="1124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  <a:ea typeface="ＭＳ Ｐゴシック"/>
              </a:rPr>
              <a:t>It depends on the manufacture’s philosophy. </a:t>
            </a:r>
            <a:br>
              <a:rPr sz="2000"/>
            </a:br>
            <a:r>
              <a:rPr b="0" lang="en-US" sz="2000" spc="-1" strike="noStrike">
                <a:solidFill>
                  <a:srgbClr val="080808"/>
                </a:solidFill>
                <a:latin typeface="Arial"/>
                <a:ea typeface="ＭＳ Ｐゴシック"/>
              </a:rPr>
              <a:t>Ex)  Heavy duty vehicle equipped with the brake become to be sol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44600" y="44280"/>
            <a:ext cx="3335400" cy="509400"/>
          </a:xfrm>
          <a:prstGeom prst="roundRect">
            <a:avLst>
              <a:gd name="adj" fmla="val 16667"/>
            </a:avLst>
          </a:prstGeom>
          <a:solidFill>
            <a:srgbClr val="ccff33"/>
          </a:solidFill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Matured Techn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44600" y="1319040"/>
            <a:ext cx="3335400" cy="509400"/>
          </a:xfrm>
          <a:prstGeom prst="roundRect">
            <a:avLst>
              <a:gd name="adj" fmla="val 16667"/>
            </a:avLst>
          </a:prstGeom>
          <a:solidFill>
            <a:srgbClr val="ccff33"/>
          </a:solidFill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Effective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nclus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50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port Policy Council, which is advisory group of MLIT, revised the target of road safety in June 2006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inuous fatality reduction after 2010 is one of the new targ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archive the new target, the promotion of the active safety technology is necessa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ordingly, to promote the active safety technology, MLIT will start to give new subsidy for “collision damage mitigation brake” from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pril 2007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0" y="2276640"/>
            <a:ext cx="9144000" cy="19015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6085080" y="544500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LIT Jap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6300720" y="4365720"/>
            <a:ext cx="1023840" cy="105228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686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e1f618"/>
                </a:solidFill>
                <a:latin typeface="Bradley Hand ITC"/>
              </a:rPr>
              <a:t>Thanks for your attention!!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0T06:56:07Z</dcterms:created>
  <dc:creator>行政情報システム室</dc:creator>
  <dc:description/>
  <dc:language>en-US</dc:language>
  <cp:lastModifiedBy>Hubert</cp:lastModifiedBy>
  <dcterms:modified xsi:type="dcterms:W3CDTF">2007-02-02T10:45:34Z</dcterms:modified>
  <cp:revision>61</cp:revision>
  <dc:subject/>
  <dc:title>Advanced Safety  Vehicle Project the Fourth Phase   - communication technology             for avoiding accidents -  </dc:title>
</cp:coreProperties>
</file>