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E60-329E-4FE2-932D-3CE515E9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35280" y="620640"/>
            <a:ext cx="6851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851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35280" y="4097880"/>
            <a:ext cx="6851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9D88-A7DD-40D2-A0C9-6BF07B70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5280" y="620640"/>
            <a:ext cx="6851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3343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46000" y="1600200"/>
            <a:ext cx="3343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35280" y="4097880"/>
            <a:ext cx="3343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46000" y="4097880"/>
            <a:ext cx="3343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908-A5CE-4E67-A9E7-8CBCD16F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35280" y="620640"/>
            <a:ext cx="6851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2206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51880" y="1600200"/>
            <a:ext cx="2206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68840" y="1600200"/>
            <a:ext cx="2206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35280" y="4097880"/>
            <a:ext cx="2206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51880" y="4097880"/>
            <a:ext cx="2206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68840" y="4097880"/>
            <a:ext cx="2206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54D-1111-45E0-B36E-2ABD3C8F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5280" y="620640"/>
            <a:ext cx="6851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35280" y="1600200"/>
            <a:ext cx="685152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BBF4-D8EC-421E-A32E-7B129263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5280" y="620640"/>
            <a:ext cx="6851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85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481-1D59-464E-9270-EE384C5A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5280" y="620640"/>
            <a:ext cx="6851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33433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46000" y="1600200"/>
            <a:ext cx="33433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EB7A-A783-421E-A462-B04E803D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35280" y="620640"/>
            <a:ext cx="6851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8482-9B50-46DF-8CE8-499BCFC3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35280" y="620640"/>
            <a:ext cx="685152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96E-8EFB-479A-A55D-5173922F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35280" y="620640"/>
            <a:ext cx="6851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3343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6000" y="1600200"/>
            <a:ext cx="33433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35280" y="4097880"/>
            <a:ext cx="3343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5F2-DF03-4F53-ADF7-076EE535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35280" y="620640"/>
            <a:ext cx="6851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33433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6000" y="1600200"/>
            <a:ext cx="3343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0" y="4097880"/>
            <a:ext cx="3343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267-C5F2-4C70-854C-581ABB4D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35280" y="620640"/>
            <a:ext cx="6851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3343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0" y="1600200"/>
            <a:ext cx="33433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35280" y="4097880"/>
            <a:ext cx="68515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5928-D548-413E-8456-E796EB24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5770" r="574" b="14072"/>
          <a:stretch/>
        </p:blipFill>
        <p:spPr>
          <a:xfrm>
            <a:off x="5724360" y="0"/>
            <a:ext cx="3449880" cy="471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504" t="0" r="0" b="0"/>
          <a:stretch/>
        </p:blipFill>
        <p:spPr>
          <a:xfrm>
            <a:off x="-3240" y="0"/>
            <a:ext cx="5954760" cy="2055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476280"/>
            <a:ext cx="44654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35280" y="620640"/>
            <a:ext cx="6851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835280" y="1600200"/>
            <a:ext cx="685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07B2-3E28-4077-BA6B-A066C7E71C8B}" type="slidenum">
              <a:rPr b="0" lang="en-US" sz="9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619280" y="47628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8920" y="1382400"/>
            <a:ext cx="6838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SP- Additional Sidewall Protec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619280" y="3189240"/>
            <a:ext cx="615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esentation for GRRF Sixty-first Sess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ebruary 5-7, 2007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58080" y="469800"/>
            <a:ext cx="293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nformal document 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RF-61-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61st GRRF, 5 - 9 February 2007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genda item 6.4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PA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5108-2AB7-404C-9A0D-1B0D451A119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-12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579840" y="2597040"/>
            <a:ext cx="2424240" cy="2776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rot="9594600">
            <a:off x="5778000" y="3099600"/>
            <a:ext cx="136800" cy="84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1386400">
            <a:off x="5635800" y="3166560"/>
            <a:ext cx="282240" cy="719280"/>
          </a:xfrm>
          <a:custGeom>
            <a:avLst/>
            <a:gdLst/>
            <a:ahLst/>
            <a:rect l="l" t="t" r="r" b="b"/>
            <a:pathLst>
              <a:path w="218" h="637">
                <a:moveTo>
                  <a:pt x="0" y="0"/>
                </a:moveTo>
                <a:cubicBezTo>
                  <a:pt x="14" y="14"/>
                  <a:pt x="29" y="28"/>
                  <a:pt x="48" y="55"/>
                </a:cubicBezTo>
                <a:cubicBezTo>
                  <a:pt x="67" y="82"/>
                  <a:pt x="94" y="125"/>
                  <a:pt x="113" y="162"/>
                </a:cubicBezTo>
                <a:cubicBezTo>
                  <a:pt x="132" y="199"/>
                  <a:pt x="147" y="235"/>
                  <a:pt x="161" y="275"/>
                </a:cubicBezTo>
                <a:cubicBezTo>
                  <a:pt x="175" y="315"/>
                  <a:pt x="191" y="367"/>
                  <a:pt x="200" y="405"/>
                </a:cubicBezTo>
                <a:cubicBezTo>
                  <a:pt x="209" y="443"/>
                  <a:pt x="211" y="475"/>
                  <a:pt x="214" y="506"/>
                </a:cubicBezTo>
                <a:cubicBezTo>
                  <a:pt x="217" y="537"/>
                  <a:pt x="218" y="569"/>
                  <a:pt x="218" y="591"/>
                </a:cubicBezTo>
                <a:cubicBezTo>
                  <a:pt x="218" y="613"/>
                  <a:pt x="216" y="630"/>
                  <a:pt x="216" y="637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64000" y="3906720"/>
            <a:ext cx="2448000" cy="18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97800" y="3357720"/>
            <a:ext cx="1535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Max R54: 318 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R109: +1,5% = 323 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74840" y="3997440"/>
            <a:ext cx="153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ASP: Max R54  + 8 mm</a:t>
            </a:r>
            <a:br>
              <a:rPr sz="1000"/>
            </a:b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ASP: Max 326 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44160" y="3933720"/>
            <a:ext cx="1884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o additional reduction</a:t>
            </a:r>
            <a:br>
              <a:rPr sz="1200"/>
            </a:b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f dual spacing </a:t>
            </a:r>
            <a:br>
              <a:rPr sz="1200"/>
            </a:b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vs. amended ECE 1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35280" y="620640"/>
            <a:ext cx="68515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: 315/80R22.5</a:t>
            </a:r>
            <a:br>
              <a:rPr sz="2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mended ECE 109: Max R54 + 1,5 % = 323 mm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One side ASP only permissible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98720" y="2852640"/>
            <a:ext cx="1486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acing outward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The word A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Marking OUT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3080" y="2860560"/>
            <a:ext cx="134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acing inward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The word A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PAV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1F3-7742-4623-99C3-D5BB7103ED4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-12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5280" y="620640"/>
            <a:ext cx="6851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finition ASP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85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SP” (Additional Sidewall Protection) is an additional protective rubber layer applied to the sidewall of the casing for improving resistance against sidewall abrasion.”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rpose of ASP: 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…”enhancing safety and durability of tyres in urban use”….“to provide additional abrasion protection of the sidewall in aggressive urban usage”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PA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455-D869-481C-9451-A87194445E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-12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35280" y="399960"/>
            <a:ext cx="6851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ow does it work?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35280" y="1096560"/>
            <a:ext cx="685152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asing sidewall is inspected and buffed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RECURE: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MOLDCURE: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ushion is applied                 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re-cured ASP is applied       - Un-vulcanized wear rubber applied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3143160" cy="360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rot="9718800">
            <a:off x="5939640" y="2849040"/>
            <a:ext cx="214200" cy="10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9120" y="3095640"/>
            <a:ext cx="345960" cy="1011240"/>
          </a:xfrm>
          <a:custGeom>
            <a:avLst/>
            <a:gdLst/>
            <a:ahLst/>
            <a:rect l="l" t="t" r="r" b="b"/>
            <a:pathLst>
              <a:path w="218" h="637">
                <a:moveTo>
                  <a:pt x="0" y="0"/>
                </a:moveTo>
                <a:cubicBezTo>
                  <a:pt x="14" y="14"/>
                  <a:pt x="29" y="28"/>
                  <a:pt x="48" y="55"/>
                </a:cubicBezTo>
                <a:cubicBezTo>
                  <a:pt x="67" y="82"/>
                  <a:pt x="94" y="125"/>
                  <a:pt x="113" y="162"/>
                </a:cubicBezTo>
                <a:cubicBezTo>
                  <a:pt x="132" y="199"/>
                  <a:pt x="147" y="235"/>
                  <a:pt x="161" y="275"/>
                </a:cubicBezTo>
                <a:cubicBezTo>
                  <a:pt x="175" y="315"/>
                  <a:pt x="191" y="367"/>
                  <a:pt x="200" y="405"/>
                </a:cubicBezTo>
                <a:cubicBezTo>
                  <a:pt x="209" y="443"/>
                  <a:pt x="211" y="475"/>
                  <a:pt x="214" y="506"/>
                </a:cubicBezTo>
                <a:cubicBezTo>
                  <a:pt x="217" y="537"/>
                  <a:pt x="218" y="569"/>
                  <a:pt x="218" y="591"/>
                </a:cubicBezTo>
                <a:cubicBezTo>
                  <a:pt x="218" y="613"/>
                  <a:pt x="216" y="630"/>
                  <a:pt x="216" y="637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87520" y="4797360"/>
            <a:ext cx="2289960" cy="337320"/>
          </a:xfrm>
          <a:prstGeom prst="rect">
            <a:avLst/>
          </a:prstGeom>
          <a:noFill/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ushion-binding rub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292720" y="3429000"/>
            <a:ext cx="142920" cy="1295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25680" y="4168800"/>
            <a:ext cx="2062800" cy="337320"/>
          </a:xfrm>
          <a:prstGeom prst="rect">
            <a:avLst/>
          </a:prstGeom>
          <a:noFill/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SP- wearing rub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156000" y="3284280"/>
            <a:ext cx="863640" cy="865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PA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4BB7-A947-4441-B19D-8E5CCEC45B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-12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35280" y="620640"/>
            <a:ext cx="6851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cush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4033800" cy="302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PAV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A16F-EECB-46B5-8965-F10A2236717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-12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35280" y="620640"/>
            <a:ext cx="6851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ASP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192640" y="3544920"/>
            <a:ext cx="3672000" cy="275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PAV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C3E8-2D08-4E91-9832-1570D52EA55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-12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35280" y="620640"/>
            <a:ext cx="6851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SP ready for vulcaniz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4969080" cy="3727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459640" y="0"/>
            <a:ext cx="427320" cy="43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PAV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FAA-234C-44A2-96DA-CA0D7C6237F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-12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5280" y="620640"/>
            <a:ext cx="6851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“issue”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85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 tyres with overall max section width limited to +2% the application of ASP might exceed max overall section width of ECE 109 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15/80R22.5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15/70R22.5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3R22.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BIPAVER proposal only deal with tyres exceeding max ECE-R109 Overall section width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PA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B9B-CCAE-47F5-BE5E-E0AEAD08E7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-12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98480" y="2565360"/>
            <a:ext cx="3143520" cy="3600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9472200">
            <a:off x="4576680" y="3220560"/>
            <a:ext cx="114480" cy="10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35280" y="620640"/>
            <a:ext cx="6851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nal Produc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35280" y="1384200"/>
            <a:ext cx="6851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otal section width is Max 8 mm wider than max section width of a new original tire permitted by Reg. 54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1021000">
            <a:off x="4452840" y="3262320"/>
            <a:ext cx="243000" cy="1031760"/>
          </a:xfrm>
          <a:custGeom>
            <a:avLst/>
            <a:gdLst/>
            <a:ahLst/>
            <a:rect l="l" t="t" r="r" b="b"/>
            <a:pathLst>
              <a:path w="218" h="637">
                <a:moveTo>
                  <a:pt x="0" y="0"/>
                </a:moveTo>
                <a:cubicBezTo>
                  <a:pt x="14" y="14"/>
                  <a:pt x="29" y="28"/>
                  <a:pt x="48" y="55"/>
                </a:cubicBezTo>
                <a:cubicBezTo>
                  <a:pt x="67" y="82"/>
                  <a:pt x="94" y="125"/>
                  <a:pt x="113" y="162"/>
                </a:cubicBezTo>
                <a:cubicBezTo>
                  <a:pt x="132" y="199"/>
                  <a:pt x="147" y="235"/>
                  <a:pt x="161" y="275"/>
                </a:cubicBezTo>
                <a:cubicBezTo>
                  <a:pt x="175" y="315"/>
                  <a:pt x="191" y="367"/>
                  <a:pt x="200" y="405"/>
                </a:cubicBezTo>
                <a:cubicBezTo>
                  <a:pt x="209" y="443"/>
                  <a:pt x="211" y="475"/>
                  <a:pt x="214" y="506"/>
                </a:cubicBezTo>
                <a:cubicBezTo>
                  <a:pt x="217" y="537"/>
                  <a:pt x="218" y="569"/>
                  <a:pt x="218" y="591"/>
                </a:cubicBezTo>
                <a:cubicBezTo>
                  <a:pt x="218" y="613"/>
                  <a:pt x="216" y="630"/>
                  <a:pt x="216" y="637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579560" y="3254400"/>
            <a:ext cx="3538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995640" y="3605040"/>
            <a:ext cx="32724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91240" y="2781360"/>
            <a:ext cx="2926800" cy="33732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ditional thickness max 8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5960" y="4205160"/>
            <a:ext cx="3035160" cy="15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55920" y="3645000"/>
            <a:ext cx="3250080" cy="824040"/>
          </a:xfrm>
          <a:prstGeom prst="rect">
            <a:avLst/>
          </a:prstGeom>
          <a:noFill/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IPAVER proposal: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x Overall width up to max 8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PAV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7CFB-BF6B-42FA-866D-B23DC9C9F8C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-12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35280" y="620640"/>
            <a:ext cx="6851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: 315/80R22.5</a:t>
            </a:r>
            <a:br>
              <a:rPr sz="2800"/>
            </a:b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mended ECE 109: Max R54 + 1,5 % = 323 mm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97200" y="2060640"/>
            <a:ext cx="3143160" cy="3600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859120" y="3700440"/>
            <a:ext cx="3035160" cy="15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15040" y="3139920"/>
            <a:ext cx="182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Max R54: 318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109: +1,5% = 323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PAV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E85C-1D7C-4001-9827-378D922356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-12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0T12:48:15Z</dcterms:created>
  <dc:creator>Lennart Lindstrom</dc:creator>
  <dc:description/>
  <dc:language>en-US</dc:language>
  <cp:lastModifiedBy>Hubert</cp:lastModifiedBy>
  <dcterms:modified xsi:type="dcterms:W3CDTF">2007-01-31T14:29:21Z</dcterms:modified>
  <cp:revision>22</cp:revision>
  <dc:subject/>
  <dc:title>ASP- Additional Sidewall Protection</dc:title>
</cp:coreProperties>
</file>