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4BB-4877-4D11-8AF7-8FA19012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D30-2D8D-4A95-A248-6A09B8A6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341-EF7C-494C-BE0F-0CE91327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BBA-D5BF-42F4-B5B4-A7CF6B38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2CE-AECB-4925-AADB-8BB472B8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217-2A15-422E-9514-156FA189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6FB-99AC-41A0-B484-6D22B2CA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459-DFE9-4EF6-B1AA-F27FDEDF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90F-2095-461E-B8C2-76553DC5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E8B-6089-46B7-9281-6B2F07A6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10D-9390-49CF-BA57-ED72E099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6FA-67AF-41ED-86B1-53DB9BB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9492840"/>
            <a:ext cx="1685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9095-A3B8-4F39-8EB8-4341665D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52360" y="3781440"/>
          <a:ext cx="4581720" cy="46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3781440"/>
                    <a:ext cx="45817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23760" y="2971800"/>
            <a:ext cx="5934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１．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ical Example of Detecting Performance on Run Flat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3520" y="3941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１００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86040" y="4390920"/>
            <a:ext cx="257040" cy="209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440" y="4933800"/>
            <a:ext cx="23832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95120" y="351000"/>
          <a:ext cx="6354720" cy="669600"/>
        </p:xfrm>
        <a:graphic>
          <a:graphicData uri="http://schemas.openxmlformats.org/drawingml/2006/table">
            <a:tbl>
              <a:tblPr/>
              <a:tblGrid>
                <a:gridCol w="3611520"/>
                <a:gridCol w="274320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00360"/>
                          <a:tab algn="r" pos="5400720"/>
                          <a:tab algn="r" pos="6286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ransmitted by the expert from 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r" pos="45720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ＭＳ 明朝"/>
                        </a:rPr>
                        <a:t>Informal Document No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GRRF-61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r" pos="45720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61st GRRF, 5 - 9 February 2007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r" pos="45720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genda item 6.3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1479600" y="1501920"/>
            <a:ext cx="40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chnical information of Run Flat Warning 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egulation  No. 6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33400" y="1600200"/>
          <a:ext cx="333396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600200"/>
                    <a:ext cx="33339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04880" y="5734080"/>
          <a:ext cx="2895480" cy="284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4880" y="5734080"/>
                    <a:ext cx="2895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724200" y="5705640"/>
          <a:ext cx="2886120" cy="28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24200" y="5705640"/>
                    <a:ext cx="2886120" cy="28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85640" y="53352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２．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ical Example of Detecting Performance on System Malfun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4720" y="1190520"/>
            <a:ext cx="63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１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l Condition without Specific Electromagnetic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0120" y="5076720"/>
            <a:ext cx="58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２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der Electromagnetic Interference which exists in The Real Wor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0600" y="6132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１００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51200" y="6132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１００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8:28:43Z</dcterms:created>
  <dc:creator>トヨタ自動車株式会社</dc:creator>
  <dc:description/>
  <dc:language>en-US</dc:language>
  <cp:lastModifiedBy>Hubert</cp:lastModifiedBy>
  <dcterms:modified xsi:type="dcterms:W3CDTF">2007-01-19T09:07:06Z</dcterms:modified>
  <cp:revision>153</cp:revision>
  <dc:subject/>
  <dc:title>PowerPoint プレゼンテーション</dc:title>
</cp:coreProperties>
</file>