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comments/comment6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Keith Ashton" initials="KA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<Relationship Id="rId10" Type="http://schemas.openxmlformats.org/officeDocument/2006/relationships/commentAuthors" Target="commentAuthors.xml"/>
</Relationships>
</file>

<file path=ppt/comments/comment6.xml><?xml version="1.0" encoding="UTF-8" standalone="yes"?>
<p:cmLst xmlns:p="http://schemas.openxmlformats.org/presentationml/2006/main"><p:cm authorId="0" dt="2007-06-19T07:02:11.625000000" idx="1"><p:pos x="224" y="3294"/><p:text>
Degree of effect by each cause on the problem, and their inter-relationship and importance</p:text></p:cm><p:cm authorId="0" dt="2007-06-19T06:55:46.906000000" idx="2"><p:pos x="3742" y="346"/><p:text>Experienced in Germany, Poland and Netherlands</p:text></p:cm><p:cm authorId="0" dt="2007-06-19T06:56:13.140000000" idx="3"><p:pos x="3742" y="618"/><p:text>During period 2000-2005</p:text></p:cm><p:cm authorId="0" dt="2007-06-19T06:56:48.890000000" idx="4"><p:pos x="3754" y="871"/><p:text>Discomfort glare from H7 & HID headlamps</p:text></p:cm><p:cm authorId="0" dt="2007-06-19T06:57:12.703000000" idx="5"><p:pos x="3761" y="1284"/><p:text>M1,N1 only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DD0E-50C8-437E-979C-C727E9CBF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EBF2-6BD6-4A7B-A9BD-F6CE4A035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FB70-6CE5-4715-A411-7E85FFCAD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27B7-0FCA-45DD-B505-47AFD6762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98B5-39D2-4400-AAD7-3087F209E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488B-70AD-4BD2-A22D-6DE6A4C44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7B38-F4D2-499B-B61F-C6324F2DF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BE03-CF20-4BDC-8C7C-E7E3E23DA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3308-5577-46BC-BBF0-728AD2AF1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B2A7-026A-4A10-B600-B4E83732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4100-2258-4DC7-95CD-3D7E56CA4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D134-948C-40B6-973B-8B58E1D7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26FEF-E6A5-4281-B22B-0B48DF9E0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comments" Target="../comments/comment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8000" y="115920"/>
            <a:ext cx="8928000" cy="6626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2708280"/>
            <a:ext cx="5832720" cy="1942920"/>
          </a:xfrm>
          <a:prstGeom prst="rect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724360" y="6165720"/>
            <a:ext cx="28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19</a:t>
            </a:r>
            <a:r>
              <a:rPr b="1" i="1" lang="en-US" sz="2000" spc="-1" strike="noStrike" baseline="30000">
                <a:solidFill>
                  <a:srgbClr val="ff3300"/>
                </a:solidFill>
                <a:latin typeface="Arial"/>
              </a:rPr>
              <a:t>TH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 – 20</a:t>
            </a:r>
            <a:r>
              <a:rPr b="1" i="1" lang="en-US" sz="2000" spc="-1" strike="noStrike" baseline="30000">
                <a:solidFill>
                  <a:srgbClr val="ff3300"/>
                </a:solidFill>
                <a:latin typeface="Arial"/>
              </a:rPr>
              <a:t>TH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 June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08000" y="2852640"/>
            <a:ext cx="5761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GRE  IWG Operating Voltag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476280"/>
            <a:ext cx="266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rategic Plan &amp; Time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1659600">
            <a:off x="4932000" y="112500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498200">
            <a:off x="5508360" y="1197000"/>
            <a:ext cx="29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roposal  - Meeting 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467480" y="304920"/>
            <a:ext cx="12956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IG-2007-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228600"/>
            <a:ext cx="262872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GRE-OVIG-Working Paper No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07-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1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session of the GRE Inform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roup on Operating Voltage, 19-20 June 2007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08000" y="115920"/>
            <a:ext cx="8928000" cy="6626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58920" y="1125360"/>
            <a:ext cx="1584360" cy="520200"/>
          </a:xfrm>
          <a:prstGeom prst="rect">
            <a:avLst/>
          </a:prstGeom>
          <a:solidFill>
            <a:srgbClr val="00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oad Traffic Safety Probl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348000" y="1125360"/>
            <a:ext cx="2160720" cy="52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eadlamp glare &amp; lights-out at night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71640" y="260280"/>
            <a:ext cx="30243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58920" y="2133720"/>
            <a:ext cx="1584360" cy="520200"/>
          </a:xfrm>
          <a:prstGeom prst="rect">
            <a:avLst/>
          </a:prstGeom>
          <a:solidFill>
            <a:srgbClr val="00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erman – CVG 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58920" y="3141720"/>
            <a:ext cx="1584360" cy="520200"/>
          </a:xfrm>
          <a:prstGeom prst="rect">
            <a:avLst/>
          </a:prstGeom>
          <a:solidFill>
            <a:srgbClr val="00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ICA/CVG 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58920" y="5373720"/>
            <a:ext cx="1584360" cy="307080"/>
          </a:xfrm>
          <a:prstGeom prst="rect">
            <a:avLst/>
          </a:prstGeom>
          <a:solidFill>
            <a:srgbClr val="00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RE-57 Man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58920" y="4149720"/>
            <a:ext cx="1584360" cy="733320"/>
          </a:xfrm>
          <a:prstGeom prst="rect">
            <a:avLst/>
          </a:prstGeom>
          <a:solidFill>
            <a:srgbClr val="00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RE IWG “Operating Voltage” 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48000" y="2133720"/>
            <a:ext cx="2160720" cy="52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5x meetings held &amp; documents gener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8000" y="3141720"/>
            <a:ext cx="2160720" cy="52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ransitional meeting – CVG dissol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348000" y="4149720"/>
            <a:ext cx="2160720" cy="728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w TORs &amp; Rules of Proced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ECE/TRANS/WP29/GRE/2007/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348000" y="5445000"/>
            <a:ext cx="2160720" cy="413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ECE/TRANS/WP29/GRE/2007/3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dop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6084720" y="1268280"/>
            <a:ext cx="2016000" cy="360360"/>
            <a:chOff x="6084720" y="1268280"/>
            <a:chExt cx="2016000" cy="360360"/>
          </a:xfrm>
        </p:grpSpPr>
        <p:sp>
          <p:nvSpPr>
            <p:cNvPr id="63" name=""/>
            <p:cNvSpPr/>
            <p:nvPr/>
          </p:nvSpPr>
          <p:spPr>
            <a:xfrm>
              <a:off x="6084720" y="1268280"/>
              <a:ext cx="2016000" cy="36036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84720" y="1319040"/>
              <a:ext cx="201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Identified in German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65" name=""/>
          <p:cNvCxnSpPr>
            <a:stCxn id="51" idx="2"/>
            <a:endCxn id="54" idx="0"/>
          </p:cNvCxnSpPr>
          <p:nvPr/>
        </p:nvCxnSpPr>
        <p:spPr>
          <a:xfrm>
            <a:off x="2050560" y="1676160"/>
            <a:ext cx="1080" cy="44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4" idx="2"/>
            <a:endCxn id="55" idx="0"/>
          </p:cNvCxnSpPr>
          <p:nvPr/>
        </p:nvCxnSpPr>
        <p:spPr>
          <a:xfrm>
            <a:off x="2050560" y="2684160"/>
            <a:ext cx="1080" cy="44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55" idx="2"/>
            <a:endCxn id="57" idx="0"/>
          </p:cNvCxnSpPr>
          <p:nvPr/>
        </p:nvCxnSpPr>
        <p:spPr>
          <a:xfrm>
            <a:off x="2050560" y="3692160"/>
            <a:ext cx="1080" cy="44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57" idx="2"/>
            <a:endCxn id="56" idx="0"/>
          </p:cNvCxnSpPr>
          <p:nvPr/>
        </p:nvCxnSpPr>
        <p:spPr>
          <a:xfrm>
            <a:off x="2050560" y="4913280"/>
            <a:ext cx="1080" cy="450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2916360" y="1341360"/>
            <a:ext cx="360360" cy="144720"/>
          </a:xfrm>
          <a:prstGeom prst="rightArrow">
            <a:avLst>
              <a:gd name="adj1" fmla="val 50000"/>
              <a:gd name="adj2" fmla="val 6225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10800000">
            <a:off x="5579640" y="1341360"/>
            <a:ext cx="360360" cy="144720"/>
          </a:xfrm>
          <a:prstGeom prst="rightArrow">
            <a:avLst>
              <a:gd name="adj1" fmla="val 50000"/>
              <a:gd name="adj2" fmla="val 6225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916360" y="558972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916360" y="443700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916360" y="335772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916360" y="2349360"/>
            <a:ext cx="360360" cy="144720"/>
          </a:xfrm>
          <a:prstGeom prst="rightArrow">
            <a:avLst>
              <a:gd name="adj1" fmla="val 50000"/>
              <a:gd name="adj2" fmla="val 6225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5400000">
            <a:off x="1691280" y="6165000"/>
            <a:ext cx="647640" cy="360360"/>
          </a:xfrm>
          <a:custGeom>
            <a:avLst/>
            <a:gdLst>
              <a:gd name="textAreaLeft" fmla="*/ 101160 w 647640"/>
              <a:gd name="textAreaRight" fmla="*/ 567000 w 64764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156360" y="3645000"/>
            <a:ext cx="2015640" cy="647640"/>
            <a:chOff x="6156360" y="3645000"/>
            <a:chExt cx="2015640" cy="647640"/>
          </a:xfrm>
        </p:grpSpPr>
        <p:sp>
          <p:nvSpPr>
            <p:cNvPr id="77" name=""/>
            <p:cNvSpPr/>
            <p:nvPr/>
          </p:nvSpPr>
          <p:spPr>
            <a:xfrm>
              <a:off x="6156360" y="3645000"/>
              <a:ext cx="2015640" cy="64764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56360" y="3698280"/>
              <a:ext cx="2015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WP 29 Approve GRE IWG “Operating Voltage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9" name=""/>
          <p:cNvCxnSpPr>
            <a:stCxn id="77" idx="2"/>
            <a:endCxn id="60" idx="3"/>
          </p:cNvCxnSpPr>
          <p:nvPr/>
        </p:nvCxnSpPr>
        <p:spPr>
          <a:xfrm rot="5400000">
            <a:off x="6223680" y="3576600"/>
            <a:ext cx="224640" cy="1656360"/>
          </a:xfrm>
          <a:prstGeom prst="bentConnector2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9" idx="3"/>
            <a:endCxn id="77" idx="0"/>
          </p:cNvCxnSpPr>
          <p:nvPr/>
        </p:nvCxnSpPr>
        <p:spPr>
          <a:xfrm>
            <a:off x="5508360" y="3405240"/>
            <a:ext cx="1656360" cy="240480"/>
          </a:xfrm>
          <a:prstGeom prst="bentConnector2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08000" y="115920"/>
            <a:ext cx="8928000" cy="6626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771640" y="260280"/>
            <a:ext cx="30243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trategic Plan…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5400000">
            <a:off x="1475280" y="837360"/>
            <a:ext cx="792360" cy="358560"/>
          </a:xfrm>
          <a:custGeom>
            <a:avLst/>
            <a:gdLst>
              <a:gd name="textAreaLeft" fmla="*/ 123840 w 792360"/>
              <a:gd name="textAreaRight" fmla="*/ 693360 w 792360"/>
              <a:gd name="textAreaTop" fmla="*/ 89640 h 358560"/>
              <a:gd name="textAreaBottom" fmla="*/ 268920 h 35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16000" y="1484280"/>
            <a:ext cx="1584360" cy="733320"/>
          </a:xfrm>
          <a:prstGeom prst="rect">
            <a:avLst/>
          </a:prstGeom>
          <a:solidFill>
            <a:srgbClr val="ff99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efine “adverse safety” effect       (The Probl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16000" y="2852640"/>
            <a:ext cx="1584360" cy="733320"/>
          </a:xfrm>
          <a:prstGeom prst="rect">
            <a:avLst/>
          </a:prstGeom>
          <a:solidFill>
            <a:srgbClr val="ff99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etail assumed causes / conduct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51280" y="2349360"/>
            <a:ext cx="4465800" cy="201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95640" y="2852640"/>
            <a:ext cx="4176720" cy="246240"/>
          </a:xfrm>
          <a:prstGeom prst="rect">
            <a:avLst/>
          </a:prstGeom>
          <a:solidFill>
            <a:srgbClr val="00ff00"/>
          </a:solidFill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Voltage variance – component type approval vs vehicle type approv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95640" y="3213000"/>
            <a:ext cx="4176720" cy="246240"/>
          </a:xfrm>
          <a:prstGeom prst="rect">
            <a:avLst/>
          </a:prstGeom>
          <a:solidFill>
            <a:srgbClr val="00ff00"/>
          </a:solidFill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Light Source life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95640" y="3573360"/>
            <a:ext cx="4176720" cy="246240"/>
          </a:xfrm>
          <a:prstGeom prst="rect">
            <a:avLst/>
          </a:prstGeom>
          <a:solidFill>
            <a:srgbClr val="00ff00"/>
          </a:solidFill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Voltage interfa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95640" y="3933720"/>
            <a:ext cx="4176720" cy="246240"/>
          </a:xfrm>
          <a:prstGeom prst="rect">
            <a:avLst/>
          </a:prstGeom>
          <a:solidFill>
            <a:srgbClr val="00ff00"/>
          </a:solidFill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Other causes ? (dirt &amp; misaim causing glar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95640" y="2492280"/>
            <a:ext cx="4176720" cy="246240"/>
          </a:xfrm>
          <a:prstGeom prst="rect">
            <a:avLst/>
          </a:prstGeom>
          <a:solidFill>
            <a:srgbClr val="00ff00"/>
          </a:solidFill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Voltage variance – type approval vs in-serv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0800000">
            <a:off x="2771280" y="3141720"/>
            <a:ext cx="1008360" cy="216000"/>
          </a:xfrm>
          <a:prstGeom prst="rightArrow">
            <a:avLst>
              <a:gd name="adj1" fmla="val 50000"/>
              <a:gd name="adj2" fmla="val 11670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51280" y="1341360"/>
            <a:ext cx="3384360" cy="863640"/>
            <a:chOff x="3851280" y="1341360"/>
            <a:chExt cx="3384360" cy="863640"/>
          </a:xfrm>
        </p:grpSpPr>
        <p:sp>
          <p:nvSpPr>
            <p:cNvPr id="94" name=""/>
            <p:cNvSpPr/>
            <p:nvPr/>
          </p:nvSpPr>
          <p:spPr>
            <a:xfrm>
              <a:off x="3851280" y="1341360"/>
              <a:ext cx="3384360" cy="863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023360" y="1484280"/>
              <a:ext cx="3038400" cy="246240"/>
            </a:xfrm>
            <a:prstGeom prst="rect">
              <a:avLst/>
            </a:prstGeom>
            <a:solidFill>
              <a:srgbClr val="00ccff"/>
            </a:solidFill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Dipped Beam Headlamp gla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023360" y="1844640"/>
              <a:ext cx="3038400" cy="246240"/>
            </a:xfrm>
            <a:prstGeom prst="rect">
              <a:avLst/>
            </a:prstGeom>
            <a:solidFill>
              <a:srgbClr val="00ccff"/>
            </a:solidFill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Lights-out-at –night” – ( headlamp &amp;Signal Lamp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 rot="10800000">
            <a:off x="2771280" y="1700280"/>
            <a:ext cx="1008360" cy="216000"/>
          </a:xfrm>
          <a:prstGeom prst="rightArrow">
            <a:avLst>
              <a:gd name="adj1" fmla="val 50000"/>
              <a:gd name="adj2" fmla="val 11670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"/>
          <p:cNvCxnSpPr>
            <a:stCxn id="84" idx="2"/>
            <a:endCxn id="85" idx="0"/>
          </p:cNvCxnSpPr>
          <p:nvPr/>
        </p:nvCxnSpPr>
        <p:spPr>
          <a:xfrm>
            <a:off x="1907640" y="2247480"/>
            <a:ext cx="1080" cy="59436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"/>
          <p:cNvSpPr/>
          <p:nvPr/>
        </p:nvSpPr>
        <p:spPr>
          <a:xfrm rot="5400000">
            <a:off x="7633440" y="6128280"/>
            <a:ext cx="718920" cy="362160"/>
          </a:xfrm>
          <a:custGeom>
            <a:avLst/>
            <a:gdLst>
              <a:gd name="textAreaLeft" fmla="*/ 112320 w 718920"/>
              <a:gd name="textAreaRight" fmla="*/ 629280 w 718920"/>
              <a:gd name="textAreaTop" fmla="*/ 90360 h 362160"/>
              <a:gd name="textAreaBottom" fmla="*/ 271800 h 362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6920" y="5013360"/>
            <a:ext cx="2160720" cy="520200"/>
          </a:xfrm>
          <a:prstGeom prst="rect">
            <a:avLst/>
          </a:prstGeom>
          <a:solidFill>
            <a:srgbClr val="ff99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ause &amp; Solution Matrix + Rank (importan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59280" y="5157720"/>
            <a:ext cx="720720" cy="216000"/>
          </a:xfrm>
          <a:prstGeom prst="rightArrow">
            <a:avLst>
              <a:gd name="adj1" fmla="val 50000"/>
              <a:gd name="adj2" fmla="val 8341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51280" y="4581360"/>
            <a:ext cx="1368360" cy="2462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ss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219640" y="4581360"/>
            <a:ext cx="1297080" cy="2462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516720" y="4581360"/>
            <a:ext cx="504720" cy="2462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a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51280" y="4869000"/>
            <a:ext cx="1370160" cy="1008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219640" y="4869000"/>
            <a:ext cx="1295640" cy="1008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516720" y="4869000"/>
            <a:ext cx="504720" cy="1008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21440" y="4581360"/>
            <a:ext cx="1222560" cy="2462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21440" y="4869000"/>
            <a:ext cx="1222560" cy="100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6093000"/>
            <a:ext cx="1584360" cy="576000"/>
          </a:xfrm>
          <a:prstGeom prst="wedgeRoundRectCallout">
            <a:avLst>
              <a:gd name="adj1" fmla="val 37875"/>
              <a:gd name="adj2" fmla="val -113912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ranking to support proposals at GRE, as requi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85" idx="2"/>
            <a:endCxn id="100" idx="0"/>
          </p:cNvCxnSpPr>
          <p:nvPr/>
        </p:nvCxnSpPr>
        <p:spPr>
          <a:xfrm>
            <a:off x="1907640" y="3616200"/>
            <a:ext cx="1080" cy="1386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1258920" y="4076640"/>
            <a:ext cx="1297080" cy="520200"/>
          </a:xfrm>
          <a:prstGeom prst="rect">
            <a:avLst/>
          </a:prstGeom>
          <a:solidFill>
            <a:srgbClr val="ff99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ynthesis of resul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8000" y="115920"/>
            <a:ext cx="8928000" cy="6626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71640" y="260280"/>
            <a:ext cx="30243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trategic Plan…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5400000">
            <a:off x="1368360" y="583920"/>
            <a:ext cx="720720" cy="362160"/>
          </a:xfrm>
          <a:custGeom>
            <a:avLst/>
            <a:gdLst>
              <a:gd name="textAreaLeft" fmla="*/ 112320 w 720720"/>
              <a:gd name="textAreaRight" fmla="*/ 630720 w 720720"/>
              <a:gd name="textAreaTop" fmla="*/ 90360 h 362160"/>
              <a:gd name="textAreaBottom" fmla="*/ 271800 h 362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26920" y="1268280"/>
            <a:ext cx="1873440" cy="520200"/>
          </a:xfrm>
          <a:prstGeom prst="rect">
            <a:avLst/>
          </a:prstGeom>
          <a:solidFill>
            <a:srgbClr val="ff99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evelop Technical sol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427640" y="4292640"/>
            <a:ext cx="3168720" cy="459000"/>
          </a:xfrm>
          <a:prstGeom prst="rect">
            <a:avLst/>
          </a:prstGeom>
          <a:solidFill>
            <a:srgbClr val="00ffff"/>
          </a:solidFill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IWG review matrix                                     &amp; approve propos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5400000">
            <a:off x="6336360" y="5409360"/>
            <a:ext cx="1440000" cy="936720"/>
          </a:xfrm>
          <a:prstGeom prst="rightArrowCallout">
            <a:avLst>
              <a:gd name="adj1" fmla="val 25002"/>
              <a:gd name="adj2" fmla="val 25000"/>
              <a:gd name="adj3" fmla="val 25621"/>
              <a:gd name="adj4" fmla="val 6666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588000" y="5373720"/>
            <a:ext cx="93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ubmit to    ISO/I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843280" y="3141720"/>
            <a:ext cx="1439640" cy="550800"/>
          </a:xfrm>
          <a:prstGeom prst="rect">
            <a:avLst/>
          </a:prstGeom>
          <a:solidFill>
            <a:srgbClr val="ffff00"/>
          </a:solidFill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Transitional  Provisions       required YES / NO 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47640" y="2276640"/>
            <a:ext cx="1116360" cy="459000"/>
          </a:xfrm>
          <a:prstGeom prst="rect">
            <a:avLst/>
          </a:prstGeom>
          <a:solidFill>
            <a:srgbClr val="ff9900"/>
          </a:solidFill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ost &amp; Feas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16200000">
            <a:off x="1943640" y="1951200"/>
            <a:ext cx="358920" cy="144720"/>
          </a:xfrm>
          <a:prstGeom prst="rightArrow">
            <a:avLst>
              <a:gd name="adj1" fmla="val 50000"/>
              <a:gd name="adj2" fmla="val 6200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427640" y="1989000"/>
            <a:ext cx="2016000" cy="733320"/>
          </a:xfrm>
          <a:prstGeom prst="rect">
            <a:avLst/>
          </a:prstGeom>
          <a:solidFill>
            <a:srgbClr val="ff99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evelop supporting, </a:t>
            </a:r>
            <a:r>
              <a:rPr b="0" i="1" lang="en-US" sz="1400" spc="-1" strike="noStrike">
                <a:solidFill>
                  <a:srgbClr val="0000ff"/>
                </a:solidFill>
                <a:latin typeface="Arial"/>
              </a:rPr>
              <a:t>Regulation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update propos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86560" y="1989000"/>
            <a:ext cx="2016000" cy="733320"/>
          </a:xfrm>
          <a:prstGeom prst="rect">
            <a:avLst/>
          </a:prstGeom>
          <a:solidFill>
            <a:srgbClr val="ff99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evelop supporting </a:t>
            </a:r>
            <a:r>
              <a:rPr b="0" i="1" lang="en-US" sz="1400" spc="-1" strike="noStrike">
                <a:solidFill>
                  <a:srgbClr val="0000ff"/>
                </a:solidFill>
                <a:latin typeface="Arial"/>
              </a:rPr>
              <a:t>Standards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update propos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380360" y="3213000"/>
            <a:ext cx="1187280" cy="276480"/>
          </a:xfrm>
          <a:prstGeom prst="rect">
            <a:avLst/>
          </a:prstGeom>
          <a:solidFill>
            <a:srgbClr val="ff9900"/>
          </a:solidFill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Justif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5614920" y="288720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219640" y="3213000"/>
            <a:ext cx="1224000" cy="276480"/>
          </a:xfrm>
          <a:prstGeom prst="rect">
            <a:avLst/>
          </a:prstGeom>
          <a:solidFill>
            <a:srgbClr val="ff9900"/>
          </a:solidFill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Justif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16200000">
            <a:off x="7775640" y="288720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3"/>
            <a:endCxn id="123" idx="0"/>
          </p:cNvCxnSpPr>
          <p:nvPr/>
        </p:nvCxnSpPr>
        <p:spPr>
          <a:xfrm>
            <a:off x="2711160" y="1538280"/>
            <a:ext cx="2724840" cy="440640"/>
          </a:xfrm>
          <a:prstGeom prst="bentConnector2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6" idx="3"/>
            <a:endCxn id="124" idx="0"/>
          </p:cNvCxnSpPr>
          <p:nvPr/>
        </p:nvCxnSpPr>
        <p:spPr>
          <a:xfrm>
            <a:off x="2711520" y="1538280"/>
            <a:ext cx="4883400" cy="440640"/>
          </a:xfrm>
          <a:prstGeom prst="bentConnector2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3132000" y="1268280"/>
            <a:ext cx="1079640" cy="520200"/>
          </a:xfrm>
          <a:prstGeom prst="rect">
            <a:avLst/>
          </a:prstGeom>
          <a:solidFill>
            <a:srgbClr val="ff99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WG agre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932360" y="2781360"/>
            <a:ext cx="0" cy="15112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093080" y="2781360"/>
            <a:ext cx="0" cy="15112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20" idx="0"/>
            <a:endCxn id="123" idx="1"/>
          </p:cNvCxnSpPr>
          <p:nvPr/>
        </p:nvCxnSpPr>
        <p:spPr>
          <a:xfrm flipH="1" flipV="1" rot="5400000">
            <a:off x="3605760" y="2322720"/>
            <a:ext cx="769320" cy="853200"/>
          </a:xfrm>
          <a:prstGeom prst="bentConnector2">
            <a:avLst/>
          </a:prstGeom>
          <a:ln w="2232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 rot="5400000">
            <a:off x="4175280" y="5409360"/>
            <a:ext cx="1440000" cy="936360"/>
          </a:xfrm>
          <a:prstGeom prst="rightArrowCallout">
            <a:avLst>
              <a:gd name="adj1" fmla="val 25002"/>
              <a:gd name="adj2" fmla="val 25000"/>
              <a:gd name="adj3" fmla="val 25631"/>
              <a:gd name="adj4" fmla="val 6666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356000" y="5445000"/>
            <a:ext cx="100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Submit to G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32360" y="4797360"/>
            <a:ext cx="0" cy="3603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093080" y="4797360"/>
            <a:ext cx="0" cy="3603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87280" y="1844640"/>
            <a:ext cx="0" cy="3529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87280" y="5373720"/>
            <a:ext cx="32403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64000" y="5373720"/>
            <a:ext cx="1224000" cy="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68360" y="4005360"/>
            <a:ext cx="1222560" cy="2462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68360" y="4292640"/>
            <a:ext cx="1222560" cy="649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635280" y="4437000"/>
            <a:ext cx="647640" cy="144360"/>
          </a:xfrm>
          <a:prstGeom prst="leftRightArrow">
            <a:avLst>
              <a:gd name="adj1" fmla="val 50000"/>
              <a:gd name="adj2" fmla="val 8931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19280" y="5516640"/>
            <a:ext cx="1152360" cy="865080"/>
          </a:xfrm>
          <a:prstGeom prst="wedgeRoundRectCallout">
            <a:avLst>
              <a:gd name="adj1" fmla="val 65287"/>
              <a:gd name="adj2" fmla="val -15330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omplete matrix with solutions &amp; propos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08000" y="115920"/>
            <a:ext cx="8928000" cy="6626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771640" y="260280"/>
            <a:ext cx="30243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635280" y="119700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8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859280" y="11970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9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04000" y="11970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0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10800000">
            <a:off x="3779640" y="1484280"/>
            <a:ext cx="144360" cy="1461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10800000">
            <a:off x="610920" y="765000"/>
            <a:ext cx="144360" cy="1461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10800000">
            <a:off x="6948360" y="1484280"/>
            <a:ext cx="144720" cy="1461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10800000">
            <a:off x="5003640" y="1484280"/>
            <a:ext cx="144720" cy="1461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10800000">
            <a:off x="4066920" y="1484280"/>
            <a:ext cx="144360" cy="146160"/>
          </a:xfrm>
          <a:prstGeom prst="triangle">
            <a:avLst>
              <a:gd name="adj" fmla="val 50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10800000">
            <a:off x="4858920" y="1484280"/>
            <a:ext cx="144360" cy="146160"/>
          </a:xfrm>
          <a:prstGeom prst="triangle">
            <a:avLst>
              <a:gd name="adj" fmla="val 50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10800000">
            <a:off x="6011640" y="1484280"/>
            <a:ext cx="144360" cy="146160"/>
          </a:xfrm>
          <a:prstGeom prst="triangle">
            <a:avLst>
              <a:gd name="adj" fmla="val 50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0800000">
            <a:off x="7380000" y="1484280"/>
            <a:ext cx="144360" cy="146160"/>
          </a:xfrm>
          <a:prstGeom prst="triangle">
            <a:avLst>
              <a:gd name="adj" fmla="val 50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10800000">
            <a:off x="2771640" y="1484280"/>
            <a:ext cx="144720" cy="146160"/>
          </a:xfrm>
          <a:prstGeom prst="triangle">
            <a:avLst>
              <a:gd name="adj" fmla="val 50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10800000">
            <a:off x="610920" y="1052280"/>
            <a:ext cx="144360" cy="145800"/>
          </a:xfrm>
          <a:prstGeom prst="triangle">
            <a:avLst>
              <a:gd name="adj" fmla="val 50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71640" y="69228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71640" y="98100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P.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00360" y="2060640"/>
            <a:ext cx="10080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efine adverse safety effec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700360" y="2492280"/>
            <a:ext cx="1079640" cy="505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etail causes/conduct resear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916360" y="3933720"/>
            <a:ext cx="172692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Devel. Technical solu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92360" y="5084640"/>
            <a:ext cx="309564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evelop Regulation proposa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492360" y="5445000"/>
            <a:ext cx="309564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evelop Standards proposa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3640" y="3068640"/>
            <a:ext cx="1439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reate cause/effect matrix &amp; ran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43280" y="2492280"/>
            <a:ext cx="0" cy="165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588000" y="2492280"/>
            <a:ext cx="0" cy="31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0" y="1628640"/>
            <a:ext cx="3168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76720" y="1557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643280" y="220500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020000" y="1628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6588000" y="220500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87280" y="4149720"/>
            <a:ext cx="863640" cy="792000"/>
          </a:xfrm>
          <a:prstGeom prst="wedgeRoundRectCallout">
            <a:avLst>
              <a:gd name="adj1" fmla="val 121324"/>
              <a:gd name="adj2" fmla="val -66032"/>
              <a:gd name="adj3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ree Strategic Plan &amp; Timel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195640" y="5661000"/>
            <a:ext cx="1008000" cy="503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68360" y="5661000"/>
            <a:ext cx="86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WG     Mtg 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35280" y="4365720"/>
            <a:ext cx="1368360" cy="574560"/>
          </a:xfrm>
          <a:prstGeom prst="wedgeRoundRectCallout">
            <a:avLst>
              <a:gd name="adj1" fmla="val 21231"/>
              <a:gd name="adj2" fmla="val -85083"/>
              <a:gd name="adj3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Sign off technical solutions              ( cost &amp; feas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588000" y="486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" name=""/>
          <p:cNvCxnSpPr>
            <a:stCxn id="168" idx="3"/>
            <a:endCxn id="166" idx="3"/>
          </p:cNvCxnSpPr>
          <p:nvPr/>
        </p:nvCxnSpPr>
        <p:spPr>
          <a:xfrm>
            <a:off x="4643280" y="3250800"/>
            <a:ext cx="1945440" cy="1948320"/>
          </a:xfrm>
          <a:prstGeom prst="curvedConnector5">
            <a:avLst>
              <a:gd name="adj1" fmla="val 111752"/>
              <a:gd name="adj2" fmla="val 49990"/>
              <a:gd name="adj3" fmla="val 111752"/>
            </a:avLst>
          </a:prstGeom>
          <a:ln w="1260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182" name=""/>
          <p:cNvGrpSpPr/>
          <p:nvPr/>
        </p:nvGrpSpPr>
        <p:grpSpPr>
          <a:xfrm>
            <a:off x="6012000" y="3573360"/>
            <a:ext cx="1439640" cy="718920"/>
            <a:chOff x="6012000" y="3573360"/>
            <a:chExt cx="1439640" cy="718920"/>
          </a:xfrm>
        </p:grpSpPr>
        <p:sp>
          <p:nvSpPr>
            <p:cNvPr id="183" name=""/>
            <p:cNvSpPr/>
            <p:nvPr/>
          </p:nvSpPr>
          <p:spPr>
            <a:xfrm>
              <a:off x="6012000" y="3573360"/>
              <a:ext cx="1439640" cy="718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56360" y="3715920"/>
              <a:ext cx="1294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se ranking in GRE sess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3492360" y="3573360"/>
            <a:ext cx="1152720" cy="231120"/>
          </a:xfrm>
          <a:prstGeom prst="rect">
            <a:avLst/>
          </a:prstGeom>
          <a:solidFill>
            <a:srgbClr val="ccffcc"/>
          </a:solidFill>
          <a:ln w="22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WG WIP Repo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643280" y="981000"/>
            <a:ext cx="0" cy="54723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580000" y="3213000"/>
            <a:ext cx="1944720" cy="1368360"/>
          </a:xfrm>
          <a:prstGeom prst="cloudCallout">
            <a:avLst>
              <a:gd name="adj1" fmla="val -97185"/>
              <a:gd name="adj2" fmla="val -7865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RE Target Date for all propos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00360" y="1268280"/>
            <a:ext cx="0" cy="4392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87280" y="1628640"/>
            <a:ext cx="331344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08000" y="115920"/>
            <a:ext cx="8928000" cy="6626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403280" y="333360"/>
            <a:ext cx="1584360" cy="520200"/>
          </a:xfrm>
          <a:prstGeom prst="rect">
            <a:avLst/>
          </a:prstGeom>
          <a:solidFill>
            <a:srgbClr val="ffff00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ad Traffic Probl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403280" y="1413000"/>
            <a:ext cx="1584360" cy="520200"/>
          </a:xfrm>
          <a:prstGeom prst="rect">
            <a:avLst/>
          </a:prstGeom>
          <a:solidFill>
            <a:srgbClr val="ffff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verse Safety Eff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24000" y="3357720"/>
            <a:ext cx="3816360" cy="307080"/>
            <a:chOff x="324000" y="3357720"/>
            <a:chExt cx="3816360" cy="307080"/>
          </a:xfrm>
        </p:grpSpPr>
        <p:sp>
          <p:nvSpPr>
            <p:cNvPr id="194" name=""/>
            <p:cNvSpPr/>
            <p:nvPr/>
          </p:nvSpPr>
          <p:spPr>
            <a:xfrm>
              <a:off x="324000" y="3357720"/>
              <a:ext cx="1225440" cy="307080"/>
            </a:xfrm>
            <a:prstGeom prst="rect">
              <a:avLst/>
            </a:prstGeom>
            <a:solidFill>
              <a:srgbClr val="ff99cc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us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619280" y="3357720"/>
              <a:ext cx="1225440" cy="307080"/>
            </a:xfrm>
            <a:prstGeom prst="rect">
              <a:avLst/>
            </a:prstGeom>
            <a:solidFill>
              <a:srgbClr val="ff99cc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use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916360" y="3357720"/>
              <a:ext cx="1224000" cy="307080"/>
            </a:xfrm>
            <a:prstGeom prst="rect">
              <a:avLst/>
            </a:prstGeom>
            <a:solidFill>
              <a:srgbClr val="ff99cc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u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4572000" y="549360"/>
            <a:ext cx="1368360" cy="30708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981000"/>
            <a:ext cx="1368360" cy="30708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0" y="1413000"/>
            <a:ext cx="1368360" cy="52020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chnical 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0" y="2060640"/>
            <a:ext cx="1368360" cy="52020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Veh. Cats. Affec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4000" y="5229360"/>
            <a:ext cx="3816360" cy="307080"/>
          </a:xfrm>
          <a:prstGeom prst="rect">
            <a:avLst/>
          </a:prstGeom>
          <a:solidFill>
            <a:srgbClr val="ff99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nking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24000" y="5877000"/>
            <a:ext cx="3816360" cy="307080"/>
            <a:chOff x="324000" y="5877000"/>
            <a:chExt cx="3816360" cy="307080"/>
          </a:xfrm>
        </p:grpSpPr>
        <p:sp>
          <p:nvSpPr>
            <p:cNvPr id="203" name=""/>
            <p:cNvSpPr/>
            <p:nvPr/>
          </p:nvSpPr>
          <p:spPr>
            <a:xfrm>
              <a:off x="324000" y="5877000"/>
              <a:ext cx="1223640" cy="307080"/>
            </a:xfrm>
            <a:prstGeom prst="rect">
              <a:avLst/>
            </a:prstGeom>
            <a:solidFill>
              <a:srgbClr val="00ff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olution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619280" y="5877000"/>
              <a:ext cx="1224000" cy="307080"/>
            </a:xfrm>
            <a:prstGeom prst="rect">
              <a:avLst/>
            </a:prstGeom>
            <a:solidFill>
              <a:srgbClr val="00ff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olution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916360" y="5877000"/>
              <a:ext cx="1224000" cy="307080"/>
            </a:xfrm>
            <a:prstGeom prst="rect">
              <a:avLst/>
            </a:prstGeom>
            <a:solidFill>
              <a:srgbClr val="00ff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olution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4932360" y="3860640"/>
            <a:ext cx="3889440" cy="1224000"/>
            <a:chOff x="4932360" y="3860640"/>
            <a:chExt cx="3889440" cy="1224000"/>
          </a:xfrm>
        </p:grpSpPr>
        <p:sp>
          <p:nvSpPr>
            <p:cNvPr id="207" name=""/>
            <p:cNvSpPr/>
            <p:nvPr/>
          </p:nvSpPr>
          <p:spPr>
            <a:xfrm>
              <a:off x="4932360" y="3860640"/>
              <a:ext cx="1081080" cy="2764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bl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932360" y="4221000"/>
              <a:ext cx="1081080" cy="863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013440" y="4221000"/>
              <a:ext cx="1079640" cy="863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013440" y="3860640"/>
              <a:ext cx="1081080" cy="2764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u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93080" y="4221000"/>
              <a:ext cx="647640" cy="863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740720" y="4221000"/>
              <a:ext cx="1079640" cy="863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093080" y="3860640"/>
              <a:ext cx="647640" cy="2764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740720" y="3860640"/>
              <a:ext cx="1081080" cy="2764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ol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013440" y="4437000"/>
              <a:ext cx="280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013440" y="4724280"/>
              <a:ext cx="280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900000" y="3068640"/>
            <a:ext cx="56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516720" y="306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00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49236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2" name=""/>
          <p:cNvCxnSpPr>
            <a:stCxn id="192" idx="3"/>
            <a:endCxn id="197" idx="1"/>
          </p:cNvCxnSpPr>
          <p:nvPr/>
        </p:nvCxnSpPr>
        <p:spPr>
          <a:xfrm flipV="1">
            <a:off x="2998440" y="712440"/>
            <a:ext cx="1562760" cy="9705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3" name=""/>
          <p:cNvCxnSpPr>
            <a:stCxn id="192" idx="3"/>
            <a:endCxn id="198" idx="1"/>
          </p:cNvCxnSpPr>
          <p:nvPr/>
        </p:nvCxnSpPr>
        <p:spPr>
          <a:xfrm flipV="1">
            <a:off x="2998440" y="1143720"/>
            <a:ext cx="1562760" cy="5389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4" name=""/>
          <p:cNvCxnSpPr>
            <a:endCxn id="200" idx="1"/>
          </p:cNvCxnSpPr>
          <p:nvPr/>
        </p:nvCxnSpPr>
        <p:spPr>
          <a:xfrm>
            <a:off x="2987640" y="1700280"/>
            <a:ext cx="1573920" cy="630720"/>
          </a:xfrm>
          <a:prstGeom prst="bentConnector3">
            <a:avLst>
              <a:gd name="adj1" fmla="val 503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5" name=""/>
          <p:cNvCxnSpPr>
            <a:stCxn id="192" idx="3"/>
            <a:endCxn id="199" idx="1"/>
          </p:cNvCxnSpPr>
          <p:nvPr/>
        </p:nvCxnSpPr>
        <p:spPr>
          <a:xfrm>
            <a:off x="2998440" y="1682280"/>
            <a:ext cx="15627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6" name=""/>
          <p:cNvSpPr/>
          <p:nvPr/>
        </p:nvSpPr>
        <p:spPr>
          <a:xfrm>
            <a:off x="4140360" y="537372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00000" y="6453360"/>
            <a:ext cx="73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7380360" y="5084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8244000" y="5084640"/>
            <a:ext cx="0" cy="136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00000" y="3716280"/>
            <a:ext cx="0" cy="15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195640" y="364500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492360" y="364500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00000" y="623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492360" y="623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195640" y="623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195640" y="191628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195640" y="907920"/>
            <a:ext cx="0" cy="505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00000" y="5589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492360" y="5589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195640" y="5589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3T14:39:44Z</dcterms:created>
  <dc:creator>Keith Ashton</dc:creator>
  <dc:description/>
  <dc:language>en-US</dc:language>
  <cp:lastModifiedBy>Gianotti</cp:lastModifiedBy>
  <dcterms:modified xsi:type="dcterms:W3CDTF">2007-09-19T09:35:53Z</dcterms:modified>
  <cp:revision>17</cp:revision>
  <dc:subject/>
  <dc:title>Slide 1</dc:title>
</cp:coreProperties>
</file>