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eith Ashton" initials="KA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6.xml><?xml version="1.0" encoding="UTF-8" standalone="yes"?>
<p:cmLst xmlns:p="http://schemas.openxmlformats.org/presentationml/2006/main"><p:cm authorId="0" dt="2007-06-19T07:02:11.625000000" idx="1"><p:pos x="224" y="3294"/><p:text>
Degree of effect by each cause on the problem, and their inter-relationship and importance</p:text></p:cm><p:cm authorId="0" dt="2007-06-19T06:55:46.906000000" idx="2"><p:pos x="3742" y="346"/><p:text>Experienced in Germany, Poland and Netherlands</p:text></p:cm><p:cm authorId="0" dt="2007-06-19T06:56:13.140000000" idx="3"><p:pos x="3742" y="618"/><p:text>During period 2000-2005</p:text></p:cm><p:cm authorId="0" dt="2007-06-19T06:56:48.890000000" idx="4"><p:pos x="3754" y="871"/><p:text>Discomfort glare from H7 & HID headlamps</p:text></p:cm><p:cm authorId="0" dt="2007-06-19T06:57:12.703000000" idx="5"><p:pos x="3761" y="1284"/><p:text>M1,N1 only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6E1-EF36-4074-8B31-A433A7DE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429-F48A-4B4E-A92A-80B0BEA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323-0D23-4767-B4C0-0DEEF659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E58-F00F-4ECE-ABC5-7F17D4CF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A5D-8313-49DD-B470-764ED152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64E-3241-4CE5-B60C-283DFE3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448-EE2E-4A29-9E09-50CC60E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DA7-09D7-4D87-93B5-60861700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14C-0C03-4F00-8CD6-9DB15FC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064-FFE9-4959-8343-B0E2E86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B4F-79F5-4078-AE2D-A4EBEC80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33B-E2E8-4918-8F4D-B62B63D3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515-3918-425F-AA86-D90E7315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2708280"/>
            <a:ext cx="5832720" cy="1942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616572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– 20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Jun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85264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RE  IWG Operating Volt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47628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rategic Plan &amp;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59600">
            <a:off x="4932000" y="112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498200">
            <a:off x="5508360" y="119700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posal  - Meeting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0492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IG-2007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28600"/>
            <a:ext cx="2628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RE-OVIG-Working Paper N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-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ession of the GRE Inf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 on Operating Voltage, 19-20 June 200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12536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ad Traffic Safety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12536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dlamp glare &amp; lights-out at nigh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213372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rman – CV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314172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ICA/CV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5373720"/>
            <a:ext cx="1584360" cy="30708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-57 Man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149720"/>
            <a:ext cx="1584360" cy="73332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RE IWG “Operating Voltage” 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213372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x meetings held &amp; documents 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14172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nsitional meeting – CVG dis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4149720"/>
            <a:ext cx="2160720" cy="728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w TORs &amp; Rules of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E/TRANS/WP29/GRE/2007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5445000"/>
            <a:ext cx="2160720" cy="41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CE/TRANS/WP29/GRE/2007/3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84720" y="1268280"/>
            <a:ext cx="2016000" cy="360360"/>
            <a:chOff x="6084720" y="1268280"/>
            <a:chExt cx="2016000" cy="360360"/>
          </a:xfrm>
        </p:grpSpPr>
        <p:sp>
          <p:nvSpPr>
            <p:cNvPr id="63" name=""/>
            <p:cNvSpPr/>
            <p:nvPr/>
          </p:nvSpPr>
          <p:spPr>
            <a:xfrm>
              <a:off x="6084720" y="1268280"/>
              <a:ext cx="2016000" cy="360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4720" y="131904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dentified in Germ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" name=""/>
          <p:cNvCxnSpPr>
            <a:stCxn id="51" idx="2"/>
            <a:endCxn id="54" idx="0"/>
          </p:cNvCxnSpPr>
          <p:nvPr/>
        </p:nvCxnSpPr>
        <p:spPr>
          <a:xfrm>
            <a:off x="2050560" y="1676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>
            <a:off x="2050560" y="2684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7" idx="0"/>
          </p:cNvCxnSpPr>
          <p:nvPr/>
        </p:nvCxnSpPr>
        <p:spPr>
          <a:xfrm>
            <a:off x="2050560" y="3692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7" idx="2"/>
            <a:endCxn id="56" idx="0"/>
          </p:cNvCxnSpPr>
          <p:nvPr/>
        </p:nvCxnSpPr>
        <p:spPr>
          <a:xfrm>
            <a:off x="2050560" y="4913280"/>
            <a:ext cx="1080" cy="45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916360" y="1341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5579640" y="1341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58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4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357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2349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691280" y="6165000"/>
            <a:ext cx="647640" cy="360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56360" y="3645000"/>
            <a:ext cx="2015640" cy="647640"/>
            <a:chOff x="6156360" y="3645000"/>
            <a:chExt cx="2015640" cy="647640"/>
          </a:xfrm>
        </p:grpSpPr>
        <p:sp>
          <p:nvSpPr>
            <p:cNvPr id="77" name=""/>
            <p:cNvSpPr/>
            <p:nvPr/>
          </p:nvSpPr>
          <p:spPr>
            <a:xfrm>
              <a:off x="6156360" y="3645000"/>
              <a:ext cx="2015640" cy="647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6360" y="36982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P 29 Approve GRE IWG “Operating Voltage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"/>
          <p:cNvCxnSpPr>
            <a:stCxn id="77" idx="2"/>
            <a:endCxn id="60" idx="3"/>
          </p:cNvCxnSpPr>
          <p:nvPr/>
        </p:nvCxnSpPr>
        <p:spPr>
          <a:xfrm rot="5400000">
            <a:off x="6223680" y="3576600"/>
            <a:ext cx="224640" cy="1656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9" idx="3"/>
            <a:endCxn id="77" idx="0"/>
          </p:cNvCxnSpPr>
          <p:nvPr/>
        </p:nvCxnSpPr>
        <p:spPr>
          <a:xfrm>
            <a:off x="5508360" y="3405240"/>
            <a:ext cx="1656360" cy="2404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ategic Plan…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1475280" y="837360"/>
            <a:ext cx="792360" cy="358560"/>
          </a:xfrm>
          <a:custGeom>
            <a:avLst/>
            <a:gdLst>
              <a:gd name="textAreaLeft" fmla="*/ 123840 w 792360"/>
              <a:gd name="textAreaRight" fmla="*/ 693360 w 792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484280"/>
            <a:ext cx="158436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fine “adverse safety” effect       (The Probl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2852640"/>
            <a:ext cx="158436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tail assumed causes / conduc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2349360"/>
            <a:ext cx="4465800" cy="201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285264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Voltage variance – component type approval vs vehicle type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321300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ight Source lif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357336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oltage 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3372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ther causes ? (dirt &amp; misaim causing gla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249228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Voltage variance – type approval vs in-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2771280" y="3141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51280" y="1341360"/>
            <a:ext cx="3384360" cy="863640"/>
            <a:chOff x="3851280" y="1341360"/>
            <a:chExt cx="3384360" cy="863640"/>
          </a:xfrm>
        </p:grpSpPr>
        <p:sp>
          <p:nvSpPr>
            <p:cNvPr id="94" name=""/>
            <p:cNvSpPr/>
            <p:nvPr/>
          </p:nvSpPr>
          <p:spPr>
            <a:xfrm>
              <a:off x="3851280" y="1341360"/>
              <a:ext cx="3384360" cy="8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23360" y="1484280"/>
              <a:ext cx="3038400" cy="24624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ipped Beam Headlamp gl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3360" y="1844640"/>
              <a:ext cx="3038400" cy="24624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Lights-out-at –night” – ( headlamp &amp;Signal Lam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0800000">
            <a:off x="2771280" y="170028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>
            <a:off x="1907640" y="2247480"/>
            <a:ext cx="1080" cy="594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 rot="5400000">
            <a:off x="7633440" y="6128280"/>
            <a:ext cx="718920" cy="362160"/>
          </a:xfrm>
          <a:custGeom>
            <a:avLst/>
            <a:gdLst>
              <a:gd name="textAreaLeft" fmla="*/ 112320 w 718920"/>
              <a:gd name="textAreaRight" fmla="*/ 629280 w 71892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013360"/>
            <a:ext cx="216072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use &amp; Solution Matrix + Rank (impor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515772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581360"/>
            <a:ext cx="13683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581360"/>
            <a:ext cx="129708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4581360"/>
            <a:ext cx="50472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4869000"/>
            <a:ext cx="13701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869000"/>
            <a:ext cx="129564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869000"/>
            <a:ext cx="50472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21440" y="4581360"/>
            <a:ext cx="12225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1440" y="4869000"/>
            <a:ext cx="122256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6093000"/>
            <a:ext cx="1584360" cy="576000"/>
          </a:xfrm>
          <a:prstGeom prst="wedgeRoundRectCallout">
            <a:avLst>
              <a:gd name="adj1" fmla="val 37875"/>
              <a:gd name="adj2" fmla="val -1139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ranking to support proposals at GRE, as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5" idx="2"/>
            <a:endCxn id="100" idx="0"/>
          </p:cNvCxnSpPr>
          <p:nvPr/>
        </p:nvCxnSpPr>
        <p:spPr>
          <a:xfrm>
            <a:off x="1907640" y="3616200"/>
            <a:ext cx="1080" cy="13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258920" y="4076640"/>
            <a:ext cx="129708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thesis of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ategic Plan…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368360" y="583920"/>
            <a:ext cx="720720" cy="3621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268280"/>
            <a:ext cx="187344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Technical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4292640"/>
            <a:ext cx="3168720" cy="4590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WG review matrix                                     &amp; approve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336360" y="5409360"/>
            <a:ext cx="1440000" cy="936720"/>
          </a:xfrm>
          <a:prstGeom prst="rightArrowCallout">
            <a:avLst>
              <a:gd name="adj1" fmla="val 25002"/>
              <a:gd name="adj2" fmla="val 25000"/>
              <a:gd name="adj3" fmla="val 25621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537372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bmit to    ISO/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3141720"/>
            <a:ext cx="1439640" cy="5508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itional  Provisions       required YES / NO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276640"/>
            <a:ext cx="1116360" cy="4590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st &amp; Fea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943640" y="1951200"/>
            <a:ext cx="358920" cy="144720"/>
          </a:xfrm>
          <a:prstGeom prst="rightArrow">
            <a:avLst>
              <a:gd name="adj1" fmla="val 50000"/>
              <a:gd name="adj2" fmla="val 620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989000"/>
            <a:ext cx="201600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supporting,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Regul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pdat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6560" y="1989000"/>
            <a:ext cx="201600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supporting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tandard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pdat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213000"/>
            <a:ext cx="1187280" cy="276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614920" y="28872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213000"/>
            <a:ext cx="1224000" cy="276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775640" y="28872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3"/>
            <a:endCxn id="123" idx="0"/>
          </p:cNvCxnSpPr>
          <p:nvPr/>
        </p:nvCxnSpPr>
        <p:spPr>
          <a:xfrm>
            <a:off x="2711160" y="1538280"/>
            <a:ext cx="2724840" cy="44064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3"/>
            <a:endCxn id="124" idx="0"/>
          </p:cNvCxnSpPr>
          <p:nvPr/>
        </p:nvCxnSpPr>
        <p:spPr>
          <a:xfrm>
            <a:off x="2711520" y="1538280"/>
            <a:ext cx="4883400" cy="44064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132000" y="1268280"/>
            <a:ext cx="107964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WG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278136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278136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0" idx="0"/>
            <a:endCxn id="123" idx="1"/>
          </p:cNvCxnSpPr>
          <p:nvPr/>
        </p:nvCxnSpPr>
        <p:spPr>
          <a:xfrm flipH="1" flipV="1" rot="5400000">
            <a:off x="3605760" y="2322720"/>
            <a:ext cx="769320" cy="853200"/>
          </a:xfrm>
          <a:prstGeom prst="bentConnector2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 rot="5400000">
            <a:off x="4175280" y="5409360"/>
            <a:ext cx="1440000" cy="936360"/>
          </a:xfrm>
          <a:prstGeom prst="rightArrowCallout">
            <a:avLst>
              <a:gd name="adj1" fmla="val 25002"/>
              <a:gd name="adj2" fmla="val 25000"/>
              <a:gd name="adj3" fmla="val 25631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544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ubmit to G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844640"/>
            <a:ext cx="0" cy="352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373720"/>
            <a:ext cx="324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537372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005360"/>
            <a:ext cx="12225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292640"/>
            <a:ext cx="122256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443700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5516640"/>
            <a:ext cx="1152360" cy="865080"/>
          </a:xfrm>
          <a:prstGeom prst="wedgeRoundRectCallout">
            <a:avLst>
              <a:gd name="adj1" fmla="val 65287"/>
              <a:gd name="adj2" fmla="val -15330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lete matrix with solutions &amp;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19700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11970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9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11970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377964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610920" y="76500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694836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500364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406692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485892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601164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738000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277164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610920" y="1052280"/>
            <a:ext cx="144360" cy="1458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692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98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P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060640"/>
            <a:ext cx="10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ine adverse safety eff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92280"/>
            <a:ext cx="1079640" cy="50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tail causes/conduct rese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933720"/>
            <a:ext cx="17269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vel. Technical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5084640"/>
            <a:ext cx="309564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Regulation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5445000"/>
            <a:ext cx="309564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Standards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3068640"/>
            <a:ext cx="143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eate cause/effect matrix &amp; ra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2492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628640"/>
            <a:ext cx="3168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643280" y="2205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88000" y="2205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149720"/>
            <a:ext cx="863640" cy="792000"/>
          </a:xfrm>
          <a:prstGeom prst="wedgeRoundRectCallout">
            <a:avLst>
              <a:gd name="adj1" fmla="val 121324"/>
              <a:gd name="adj2" fmla="val -6603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ree Strategic Plan &amp;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661000"/>
            <a:ext cx="1008000" cy="503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5661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WG     Mtg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4365720"/>
            <a:ext cx="1368360" cy="574560"/>
          </a:xfrm>
          <a:prstGeom prst="wedgeRoundRectCallout">
            <a:avLst>
              <a:gd name="adj1" fmla="val 21231"/>
              <a:gd name="adj2" fmla="val -85083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ign off technical solutions              ( cost &amp; fea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8" idx="3"/>
            <a:endCxn id="166" idx="3"/>
          </p:cNvCxnSpPr>
          <p:nvPr/>
        </p:nvCxnSpPr>
        <p:spPr>
          <a:xfrm>
            <a:off x="4643280" y="3250800"/>
            <a:ext cx="1945440" cy="1948320"/>
          </a:xfrm>
          <a:prstGeom prst="curvedConnector5">
            <a:avLst>
              <a:gd name="adj1" fmla="val 111752"/>
              <a:gd name="adj2" fmla="val 49990"/>
              <a:gd name="adj3" fmla="val 111752"/>
            </a:avLst>
          </a:prstGeom>
          <a:ln w="1260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6012000" y="3573360"/>
            <a:ext cx="1439640" cy="718920"/>
            <a:chOff x="6012000" y="3573360"/>
            <a:chExt cx="1439640" cy="718920"/>
          </a:xfrm>
        </p:grpSpPr>
        <p:sp>
          <p:nvSpPr>
            <p:cNvPr id="183" name=""/>
            <p:cNvSpPr/>
            <p:nvPr/>
          </p:nvSpPr>
          <p:spPr>
            <a:xfrm>
              <a:off x="6012000" y="3573360"/>
              <a:ext cx="1439640" cy="71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6360" y="3715920"/>
              <a:ext cx="129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 ranking in GRE s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492360" y="3573360"/>
            <a:ext cx="1152720" cy="23112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WG WIP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981000"/>
            <a:ext cx="0" cy="5472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3213000"/>
            <a:ext cx="1944720" cy="1368360"/>
          </a:xfrm>
          <a:prstGeom prst="cloudCallout">
            <a:avLst>
              <a:gd name="adj1" fmla="val -97185"/>
              <a:gd name="adj2" fmla="val -78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 Target Date for all 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1268280"/>
            <a:ext cx="0" cy="439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628640"/>
            <a:ext cx="3313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333360"/>
            <a:ext cx="1584360" cy="520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d Traffic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413000"/>
            <a:ext cx="1584360" cy="5202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erse Safety 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4000" y="3357720"/>
            <a:ext cx="3816360" cy="307080"/>
            <a:chOff x="324000" y="3357720"/>
            <a:chExt cx="3816360" cy="307080"/>
          </a:xfrm>
        </p:grpSpPr>
        <p:sp>
          <p:nvSpPr>
            <p:cNvPr id="194" name=""/>
            <p:cNvSpPr/>
            <p:nvPr/>
          </p:nvSpPr>
          <p:spPr>
            <a:xfrm>
              <a:off x="324000" y="3357720"/>
              <a:ext cx="122544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19280" y="3357720"/>
              <a:ext cx="122544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16360" y="3357720"/>
              <a:ext cx="122400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0" y="549360"/>
            <a:ext cx="1368360" cy="307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981000"/>
            <a:ext cx="1368360" cy="307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413000"/>
            <a:ext cx="1368360" cy="520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060640"/>
            <a:ext cx="1368360" cy="520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h. Cats. Aff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229360"/>
            <a:ext cx="3816360" cy="30708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king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4000" y="5877000"/>
            <a:ext cx="3816360" cy="307080"/>
            <a:chOff x="324000" y="5877000"/>
            <a:chExt cx="3816360" cy="307080"/>
          </a:xfrm>
        </p:grpSpPr>
        <p:sp>
          <p:nvSpPr>
            <p:cNvPr id="203" name=""/>
            <p:cNvSpPr/>
            <p:nvPr/>
          </p:nvSpPr>
          <p:spPr>
            <a:xfrm>
              <a:off x="324000" y="5877000"/>
              <a:ext cx="122364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9280" y="5877000"/>
              <a:ext cx="122400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16360" y="5877000"/>
              <a:ext cx="122400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932360" y="3860640"/>
            <a:ext cx="3889440" cy="1224000"/>
            <a:chOff x="4932360" y="3860640"/>
            <a:chExt cx="3889440" cy="1224000"/>
          </a:xfrm>
        </p:grpSpPr>
        <p:sp>
          <p:nvSpPr>
            <p:cNvPr id="207" name=""/>
            <p:cNvSpPr/>
            <p:nvPr/>
          </p:nvSpPr>
          <p:spPr>
            <a:xfrm>
              <a:off x="493236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4221000"/>
              <a:ext cx="108108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3440" y="4221000"/>
              <a:ext cx="1079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344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3080" y="4221000"/>
              <a:ext cx="647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40720" y="4221000"/>
              <a:ext cx="1079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93080" y="3860640"/>
              <a:ext cx="64764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072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3440" y="44370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3440" y="4724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00000" y="3068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672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192" idx="3"/>
            <a:endCxn id="197" idx="1"/>
          </p:cNvCxnSpPr>
          <p:nvPr/>
        </p:nvCxnSpPr>
        <p:spPr>
          <a:xfrm flipV="1">
            <a:off x="2998440" y="712440"/>
            <a:ext cx="1562760" cy="97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92" idx="3"/>
            <a:endCxn id="198" idx="1"/>
          </p:cNvCxnSpPr>
          <p:nvPr/>
        </p:nvCxnSpPr>
        <p:spPr>
          <a:xfrm flipV="1">
            <a:off x="2998440" y="1143720"/>
            <a:ext cx="1562760" cy="53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endCxn id="200" idx="1"/>
          </p:cNvCxnSpPr>
          <p:nvPr/>
        </p:nvCxnSpPr>
        <p:spPr>
          <a:xfrm>
            <a:off x="2987640" y="1700280"/>
            <a:ext cx="1573920" cy="630720"/>
          </a:xfrm>
          <a:prstGeom prst="bentConnector3">
            <a:avLst>
              <a:gd name="adj1" fmla="val 50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192" idx="3"/>
            <a:endCxn id="199" idx="1"/>
          </p:cNvCxnSpPr>
          <p:nvPr/>
        </p:nvCxnSpPr>
        <p:spPr>
          <a:xfrm>
            <a:off x="2998440" y="1682280"/>
            <a:ext cx="1562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140360" y="537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645336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380360" y="50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244000" y="5084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3716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64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364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191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90792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4:39:44Z</dcterms:created>
  <dc:creator>Keith Ashton</dc:creator>
  <dc:description/>
  <dc:language>en-US</dc:language>
  <cp:lastModifiedBy>Gianotti</cp:lastModifiedBy>
  <dcterms:modified xsi:type="dcterms:W3CDTF">2007-09-19T09:35:53Z</dcterms:modified>
  <cp:revision>17</cp:revision>
  <dc:subject/>
  <dc:title>Slide 1</dc:title>
</cp:coreProperties>
</file>