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71F-C7E6-4F81-A584-50424707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660-2E36-4DA6-85C9-DADE9292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ED6-B41C-4CEA-B309-47C35BE7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EEC-C2EA-4A4E-9B70-B7922C08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829-06A5-4B9B-8B7B-DBD010F1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36B-8713-4834-90ED-540AEC4B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4781-C7A6-4CF5-8D08-0BA9D263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41FB-FC06-4071-8D0B-616C58C1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07C-DD18-4FB8-8451-99F56967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5D9-83E5-4CD0-B63F-9156B837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372-4435-4C3E-A3CE-89C173E6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8BA-E99E-495E-A921-2EDEF510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8960-8DEA-4D59-97BD-02C05E1EF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ght 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IEC delegation to G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OVIG, 19,20 June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24480" y="228600"/>
            <a:ext cx="26290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GRE-OVIG-Working Paper No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session of the GRE Info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oup on Operating Voltage, 19-20 June 2007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sign of Light 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un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s of 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operating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ed performanc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voidable comprom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oltage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voltage Head Lighting: 13,2V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voltage Signalling: 13,5V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other regions mostly 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voltage 13,5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 light source control gear (balla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trol gear (balla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7. 1. 2. "Electronic light source control gear" means one or more compone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tween supply and light 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ntrol voltage and/ or electrical current of the light sourc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1. 2. " Ballast ": Specific electrical supply for the gas-discharge light sour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9056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82600"/>
            <a:ext cx="7315200" cy="6045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19920" y="685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G-2006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9056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685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G-2006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8588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ed performanc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operating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2:39:38Z</dcterms:created>
  <dc:creator>Ad de Visser</dc:creator>
  <dc:description/>
  <dc:language>en-US</dc:language>
  <cp:lastModifiedBy>Gianotti</cp:lastModifiedBy>
  <dcterms:modified xsi:type="dcterms:W3CDTF">2007-09-19T09:21:46Z</dcterms:modified>
  <cp:revision>12</cp:revision>
  <dc:subject/>
  <dc:title>Light Sources</dc:title>
</cp:coreProperties>
</file>