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919D-229D-4E5D-BA12-852A4172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454-F3F3-4AD9-90D1-0FACB43A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2A2-D769-4C75-989C-92C74503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9E7-14B0-48CD-B647-7425F0A9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9E2B-E964-4A77-B604-45A96071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8C14-062F-421F-AD40-1C606634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63B0-5217-4A9F-949B-17CAA6E0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28C-9984-4ADB-A768-53A75AD9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A691-2B53-4F28-A891-9CBCC162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0F8-2CBD-46B8-8985-0FD07151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78BC-8130-4FD5-A86D-F4304C3F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EBD3-EECE-4124-A308-136344A5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2C12-AD53-4474-BFF4-F83D69389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ght 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IEC delegation to G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OVIG, 19,20 June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324480" y="228600"/>
            <a:ext cx="26290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GRE-OVIG-Working Paper No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session of the GRE Inform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oup on Operating Voltage, 19-20 June 2007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sign of Light 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un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of phy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operating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ed performance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voidable comprom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oltage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voltage Head Lighting: 13,2V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voltage Signalling: 13,5V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other regions mostly 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voltage 13,5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 light source control gear (balla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trol gear (balla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7. 1. 2. "Electronic light source control gear" means one or more compone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tween supply and light 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ntrol voltage and/ or electrical current of the light sourc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1. 2. " Ballast ": Specific electrical supply for the gas-discharge light sou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9056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82600"/>
            <a:ext cx="7315200" cy="6045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19920" y="685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G-2006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9056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685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G-2006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8588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ed performance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operating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2:39:38Z</dcterms:created>
  <dc:creator>Ad de Visser</dc:creator>
  <dc:description/>
  <dc:language>en-US</dc:language>
  <cp:lastModifiedBy>Gianotti</cp:lastModifiedBy>
  <dcterms:modified xsi:type="dcterms:W3CDTF">2007-09-19T09:21:46Z</dcterms:modified>
  <cp:revision>12</cp:revision>
  <dc:subject/>
  <dc:title>Light Sources</dc:title>
</cp:coreProperties>
</file>