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685800" y="5486400"/>
          <a:ext cx="8001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5486400"/>
                    <a:ext cx="8001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392400" y="5838840"/>
            <a:ext cx="23587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News Gothic"/>
              </a:rPr>
              <a:t>VROM, The Hague, Sep 2007, Page </a:t>
            </a:r>
            <a:fld id="{C27B3767-17E9-496D-A9CA-3D07C7FD7B7A}" type="slidenum">
              <a:rPr b="0" lang="en-US" sz="800" spc="-1" strike="noStrike">
                <a:solidFill>
                  <a:srgbClr val="000000"/>
                </a:solidFill>
                <a:latin typeface="News 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ews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ws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News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News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News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News Gothic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News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ews Gothic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News Gothic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ews Gothic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ews Gothic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19920"/>
            <a:ext cx="2910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echnical Background</a:t>
            </a:r>
            <a:endParaRPr b="0" lang="en-US" sz="2000" spc="-1" strike="noStrike">
              <a:solidFill>
                <a:srgbClr val="000000"/>
              </a:solidFill>
              <a:latin typeface="News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ternative Drives</a:t>
            </a:r>
            <a:endParaRPr b="0" lang="en-US" sz="18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89000"/>
            <a:ext cx="813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 Gothic"/>
              </a:rPr>
              <a:t>Proper Flow Chart for Alternative Drives</a:t>
            </a:r>
            <a:endParaRPr b="0" lang="en-US" sz="24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836640"/>
            <a:ext cx="8137440" cy="431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ke vehicle setup; carry out acceleration test; determine L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"/>
              </a:rPr>
              <a:t>acc</a:t>
            </a:r>
            <a:endParaRPr b="0" lang="en-US" sz="1600" spc="-1" strike="noStrike">
              <a:solidFill>
                <a:srgbClr val="000000"/>
              </a:solidFill>
              <a:latin typeface="News Gothic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28720" y="1268280"/>
            <a:ext cx="2014560" cy="1225800"/>
            <a:chOff x="828720" y="1268280"/>
            <a:chExt cx="2014560" cy="1225800"/>
          </a:xfrm>
        </p:grpSpPr>
        <p:sp>
          <p:nvSpPr>
            <p:cNvPr id="45" name=""/>
            <p:cNvSpPr/>
            <p:nvPr/>
          </p:nvSpPr>
          <p:spPr>
            <a:xfrm>
              <a:off x="828720" y="1628640"/>
              <a:ext cx="2014560" cy="865440"/>
            </a:xfrm>
            <a:prstGeom prst="flowChartDecis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de-DE" sz="1800" spc="-1" strike="noStrike" baseline="-25000">
                  <a:solidFill>
                    <a:srgbClr val="000000"/>
                  </a:solidFill>
                  <a:latin typeface="Arial"/>
                </a:rPr>
                <a:t>test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= a</a:t>
              </a:r>
              <a:r>
                <a:rPr b="1" lang="de-DE" sz="1800" spc="-1" strike="noStrike" baseline="-25000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8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35280" y="126828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3274920" y="3575160"/>
            <a:ext cx="2374920" cy="1079280"/>
            <a:chOff x="3274920" y="3575160"/>
            <a:chExt cx="2374920" cy="1079280"/>
          </a:xfrm>
        </p:grpSpPr>
        <p:sp>
          <p:nvSpPr>
            <p:cNvPr id="48" name=""/>
            <p:cNvSpPr/>
            <p:nvPr/>
          </p:nvSpPr>
          <p:spPr>
            <a:xfrm>
              <a:off x="3274920" y="3935520"/>
              <a:ext cx="2374920" cy="718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kp = 1- a</a:t>
              </a:r>
              <a:r>
                <a:rPr b="1" lang="de-DE" sz="1600" spc="-1" strike="noStrike" baseline="-25000">
                  <a:solidFill>
                    <a:srgbClr val="000000"/>
                  </a:solidFill>
                  <a:latin typeface="Arial"/>
                </a:rPr>
                <a:t>urban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/a</a:t>
              </a:r>
              <a:r>
                <a:rPr b="1" lang="de-DE" sz="1600" spc="-1" strike="noStrike" baseline="-25000">
                  <a:solidFill>
                    <a:srgbClr val="000000"/>
                  </a:solidFill>
                  <a:latin typeface="Arial"/>
                </a:rPr>
                <a:t>test</a:t>
              </a:r>
              <a:endParaRPr b="0" lang="en-US" sz="16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27640" y="357516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274920" y="4656240"/>
            <a:ext cx="2374920" cy="1079280"/>
            <a:chOff x="3274920" y="4656240"/>
            <a:chExt cx="2374920" cy="1079280"/>
          </a:xfrm>
        </p:grpSpPr>
        <p:sp>
          <p:nvSpPr>
            <p:cNvPr id="51" name=""/>
            <p:cNvSpPr/>
            <p:nvPr/>
          </p:nvSpPr>
          <p:spPr>
            <a:xfrm>
              <a:off x="3274920" y="5016600"/>
              <a:ext cx="2374920" cy="718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Calculate L</a:t>
              </a:r>
              <a:r>
                <a:rPr b="1" lang="de-DE" sz="1600" spc="-1" strike="noStrike" baseline="-25000">
                  <a:solidFill>
                    <a:srgbClr val="000000"/>
                  </a:solidFill>
                  <a:latin typeface="Arial"/>
                </a:rPr>
                <a:t>urban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using k</a:t>
              </a:r>
              <a:r>
                <a:rPr b="1" lang="de-DE" sz="16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factor</a:t>
              </a:r>
              <a:endParaRPr b="0" lang="en-US" sz="16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27640" y="465624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419640" y="1270080"/>
            <a:ext cx="2016000" cy="1224000"/>
            <a:chOff x="3419640" y="1270080"/>
            <a:chExt cx="2016000" cy="1224000"/>
          </a:xfrm>
        </p:grpSpPr>
        <p:sp>
          <p:nvSpPr>
            <p:cNvPr id="54" name=""/>
            <p:cNvSpPr/>
            <p:nvPr/>
          </p:nvSpPr>
          <p:spPr>
            <a:xfrm>
              <a:off x="3419640" y="1628640"/>
              <a:ext cx="2016000" cy="865440"/>
            </a:xfrm>
            <a:prstGeom prst="flowChartDecis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de-DE" sz="1600" spc="-1" strike="noStrike" baseline="-25000">
                  <a:solidFill>
                    <a:srgbClr val="000000"/>
                  </a:solidFill>
                  <a:latin typeface="Arial"/>
                </a:rPr>
                <a:t>test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&gt; a</a:t>
              </a:r>
              <a:r>
                <a:rPr b="1" lang="de-DE" sz="1600" spc="-1" strike="noStrike" baseline="-25000">
                  <a:solidFill>
                    <a:srgbClr val="000000"/>
                  </a:solidFill>
                  <a:latin typeface="Arial"/>
                </a:rPr>
                <a:t>aurban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News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de-DE" sz="1600" spc="-1" strike="noStrike" baseline="-25000">
                  <a:solidFill>
                    <a:srgbClr val="000000"/>
                  </a:solidFill>
                  <a:latin typeface="Arial"/>
                </a:rPr>
                <a:t>test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&lt; 2 m/s²</a:t>
              </a:r>
              <a:endParaRPr b="0" lang="en-US" sz="16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27640" y="127008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516720" y="1270080"/>
            <a:ext cx="2016000" cy="1224000"/>
            <a:chOff x="6516720" y="1270080"/>
            <a:chExt cx="2016000" cy="1224000"/>
          </a:xfrm>
        </p:grpSpPr>
        <p:sp>
          <p:nvSpPr>
            <p:cNvPr id="57" name=""/>
            <p:cNvSpPr/>
            <p:nvPr/>
          </p:nvSpPr>
          <p:spPr>
            <a:xfrm>
              <a:off x="6516720" y="1628640"/>
              <a:ext cx="2016000" cy="865440"/>
            </a:xfrm>
            <a:prstGeom prst="flowChartDecis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de-DE" sz="1800" spc="-1" strike="noStrike" baseline="-25000">
                  <a:solidFill>
                    <a:srgbClr val="000000"/>
                  </a:solidFill>
                  <a:latin typeface="Arial"/>
                </a:rPr>
                <a:t>test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&gt; 2 m/s²</a:t>
              </a:r>
              <a:endParaRPr b="0" lang="en-US" sz="18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524720" y="127008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11280" y="2492280"/>
            <a:ext cx="2374920" cy="3240360"/>
            <a:chOff x="611280" y="2492280"/>
            <a:chExt cx="2374920" cy="3240360"/>
          </a:xfrm>
        </p:grpSpPr>
        <p:sp>
          <p:nvSpPr>
            <p:cNvPr id="60" name=""/>
            <p:cNvSpPr/>
            <p:nvPr/>
          </p:nvSpPr>
          <p:spPr>
            <a:xfrm>
              <a:off x="611280" y="5013360"/>
              <a:ext cx="2374920" cy="719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de-DE" sz="1600" spc="-1" strike="noStrike" baseline="-25000">
                  <a:solidFill>
                    <a:srgbClr val="000000"/>
                  </a:solidFill>
                  <a:latin typeface="Arial"/>
                </a:rPr>
                <a:t>urban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= L</a:t>
              </a:r>
              <a:r>
                <a:rPr b="1" lang="de-DE" sz="1600" spc="-1" strike="noStrike" baseline="-25000">
                  <a:solidFill>
                    <a:srgbClr val="000000"/>
                  </a:solidFill>
                  <a:latin typeface="Arial"/>
                </a:rPr>
                <a:t>acc</a:t>
              </a:r>
              <a:endParaRPr b="0" lang="en-US" sz="16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35280" y="2494080"/>
              <a:ext cx="0" cy="25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36000" y="2492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274920" y="2492280"/>
            <a:ext cx="2374920" cy="1081080"/>
            <a:chOff x="3274920" y="2492280"/>
            <a:chExt cx="2374920" cy="1081080"/>
          </a:xfrm>
        </p:grpSpPr>
        <p:sp>
          <p:nvSpPr>
            <p:cNvPr id="64" name=""/>
            <p:cNvSpPr/>
            <p:nvPr/>
          </p:nvSpPr>
          <p:spPr>
            <a:xfrm>
              <a:off x="3274920" y="2854440"/>
              <a:ext cx="2374920" cy="718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Make cruise-by test;</a:t>
              </a:r>
              <a:endParaRPr b="0" lang="en-US" sz="1600" spc="-1" strike="noStrike">
                <a:solidFill>
                  <a:srgbClr val="000000"/>
                </a:solidFill>
                <a:latin typeface="News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termine L</a:t>
              </a:r>
              <a:r>
                <a:rPr b="1" lang="de-DE" sz="1600" spc="-1" strike="noStrike" baseline="-25000">
                  <a:solidFill>
                    <a:srgbClr val="000000"/>
                  </a:solidFill>
                  <a:latin typeface="Arial"/>
                </a:rPr>
                <a:t>crs</a:t>
              </a:r>
              <a:endParaRPr b="0" lang="en-US" sz="16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27640" y="249408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28360" y="2492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651640" y="2492280"/>
            <a:ext cx="3097080" cy="1082880"/>
            <a:chOff x="5651640" y="2492280"/>
            <a:chExt cx="3097080" cy="1082880"/>
          </a:xfrm>
        </p:grpSpPr>
        <p:sp>
          <p:nvSpPr>
            <p:cNvPr id="68" name=""/>
            <p:cNvSpPr/>
            <p:nvPr/>
          </p:nvSpPr>
          <p:spPr>
            <a:xfrm>
              <a:off x="6373800" y="2855880"/>
              <a:ext cx="2374920" cy="719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If possible choose </a:t>
              </a:r>
              <a:br>
                <a:rPr sz="1600"/>
              </a:b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ifferent setup</a:t>
              </a:r>
              <a:endParaRPr b="0" lang="en-US" sz="16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24720" y="249552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5651640" y="321300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25440" y="2492280"/>
              <a:ext cx="48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News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1T10:29:39Z</dcterms:created>
  <dc:creator>Netzwerkanwender</dc:creator>
  <dc:description/>
  <dc:language>en-US</dc:language>
  <cp:lastModifiedBy>hbietenb</cp:lastModifiedBy>
  <cp:lastPrinted>2001-02-28T08:39:10Z</cp:lastPrinted>
  <dcterms:modified xsi:type="dcterms:W3CDTF">2007-09-20T10:37:16Z</dcterms:modified>
  <cp:revision>121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49292536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>GRB Informal Group ASEP - Documents from 8th meeting</vt:lpwstr>
  </property>
  <property fmtid="{D5CDD505-2E9C-101B-9397-08002B2CF9AE}" pid="6" name="_NewReviewCycle">
    <vt:lpwstr/>
  </property>
</Properties>
</file>