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D93-0BE8-44F8-862C-49F4FC32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9C1-CCB9-4825-A69C-198BB80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A62-8F36-4553-8BC9-9BA1C7F1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95E-81CC-40BD-8033-F78927E3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568-DCA4-4C61-A516-01D03B7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BCE-8A7B-44C5-AA66-E22EA39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A46-980B-440F-932C-6DD05CAF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5B8-DF9A-440F-A269-93FFAE3B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366-1674-49A7-88F9-FA69F071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F57-E62F-44D9-A05E-5675F527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BE0-2DE4-4A9F-9446-F1239727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BDF-30F9-40FE-9E16-288E8836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1D6-9FC3-4127-BC88-682820F3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tentative calculations on the potential difference due to correction of tyre noise contribution in AS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B IG ASEP sept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d by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e noise conform 2001/43 (80 km/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e noise in Annex 3 @ 54 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ulsion noise i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ar in Annex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P limit+margin = 74 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ulsion noise i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ar in ASEP (6 dB/1000 r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oise i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rrection for tyre noise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correction for tyre noise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max tyre li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HRL proposal max tyre li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HRL proposal &lt;245 m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noise PC ty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 PC ty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noise PC ty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effect of separation of tyre noise in Annex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for typical tyres the effect of separation of tyre noise is &lt; 1 dB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857240"/>
            <a:ext cx="7127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6:47:31Z</dcterms:created>
  <dc:creator>Erik de Graaff</dc:creator>
  <dc:description/>
  <dc:language>en-US</dc:language>
  <cp:lastModifiedBy>Erik de Graaff</cp:lastModifiedBy>
  <dcterms:modified xsi:type="dcterms:W3CDTF">2007-09-20T07:39:09Z</dcterms:modified>
  <cp:revision>3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0419594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