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122-E920-4315-AB10-3118B421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908-022D-42E7-B086-6B2C87B9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F61-B49F-456F-999D-F649C9B4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31A-82F8-4561-B8E9-69D8E328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2A8-E187-4F41-92F7-442A7D12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BDE-1A64-4E96-8D03-11632494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B8C-1392-466D-B9DC-75464B2D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5DA-4C2E-4B6D-8447-B59328F5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E6E-E7BE-4278-8B83-39EFDC5D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640-CBC8-4149-9022-0878351E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4EE-DF4F-41B0-8972-489ED40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4A2-C01C-4E40-B397-2EB6BCF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BF50-72E2-41D5-A956-F7618B6B1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tentative calculations on the potential difference due to correction of tyre noise contribution in AS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B IG ASEP sept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d by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e noise conform 2001/43 (80 km/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e noise in Annex 3 @ 54 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ulsion noise i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ar in Annex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P limit+margin = 74 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ulsion noise i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ar in ASEP (6 dB/1000 r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oise i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rrection for tyre noise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correction for tyre noise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max tyre li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HRL proposal max tyre li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HRL proposal &lt;245 m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noise PC ty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 PC ty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noise PC ty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effect of separation of tyre noise in Annex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for typical tyres the effect of separation of tyre noise is &lt; 1 dB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857240"/>
            <a:ext cx="7127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6:47:31Z</dcterms:created>
  <dc:creator>Erik de Graaff</dc:creator>
  <dc:description/>
  <dc:language>en-US</dc:language>
  <cp:lastModifiedBy>Erik de Graaff</cp:lastModifiedBy>
  <dcterms:modified xsi:type="dcterms:W3CDTF">2007-09-20T07:39:09Z</dcterms:modified>
  <cp:revision>3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0419594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