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12.png" ContentType="image/png"/>
  <Override PartName="/ppt/media/image7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BB74-C537-48E1-9010-A8D6099C0C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本としてこだわるのは、エンジン回転数ベース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の基準ライン。ここは譲れな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スロープの引き方は、車両個別に回帰することは、試験負荷が現実的であればテクニカルには反対はないが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とする絶対値規制との組み合わせでは、考えにく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V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エンジン回転数がふれないので、回帰線を求められない。（精度が不十分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タイヤ騒音補正は、必要性を吟味したい。できる限り、追加の工数負荷は避けた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って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/F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V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）ベースに改良を加えて行きた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か測定値ベースか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から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E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インフォーマル会議までには日本としての結論を出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本としてこだわるのは、エンジン回転数ベース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の基準ライン。ここは譲れな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スロープの引き方は、車両個別に回帰することは、試験負荷が現実的であればテクニカルには反対はないが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ただし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とする絶対値規制との組み合わせでは、考えにく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V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エンジン回転数がふれないので、回帰線を求められない。（精度が不十分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タイヤ騒音補正は、必要性を吟味したい。できる限り、追加の工数負荷は避けた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従って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/F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V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）ベースに改良を加えて行きた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ex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規制値ベースか測定値ベースか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日から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E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インフォーマル会議までには日本としての結論を出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454-4616-4864-B75D-68B53603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4A4-C5DC-4171-B1A1-D4AE1CA8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7D7-DF58-4262-AD8C-B134B33A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036-1162-4F51-8B62-B276A494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979-CEC0-4D51-BD07-4857FBD4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19C-A47E-4A43-9AAC-D18C92D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66B-CA90-4450-9BBD-23EB58B2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612-0E1B-4E7B-ACC2-791742F8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3C2-7F34-46E5-B11E-7A9DA13F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80C-E810-405B-92A6-7FBE5795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9FE-BE7D-4CB8-8352-AB491DB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9F7-EA60-4D8C-81BD-182F3D63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4432-27CE-4815-B5B9-19B2EC336C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NissanAG-Bold"/>
              </a:rPr>
              <a:t>ASEP Test Resul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タイトル 7"/>
          <p:cNvSpPr/>
          <p:nvPr/>
        </p:nvSpPr>
        <p:spPr>
          <a:xfrm>
            <a:off x="826920" y="2060640"/>
            <a:ext cx="77724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NissanAG-Bold"/>
              </a:rPr>
              <a:t>CVT &amp; Hybrid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タイトル 7"/>
          <p:cNvSpPr/>
          <p:nvPr/>
        </p:nvSpPr>
        <p:spPr>
          <a:xfrm>
            <a:off x="755640" y="4508640"/>
            <a:ext cx="77058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NissanAG-Bold"/>
              </a:rPr>
              <a:t>GRB informal meeting #8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NissanAG-Bold"/>
              </a:rPr>
              <a:t>19-21 September 2007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NissanAG-Bold"/>
              </a:rPr>
              <a:t>J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1879560"/>
            <a:ext cx="4429080" cy="3841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06920" y="1892160"/>
            <a:ext cx="4429080" cy="3841920"/>
          </a:xfrm>
          <a:prstGeom prst="rect">
            <a:avLst/>
          </a:prstGeom>
          <a:ln w="0">
            <a:noFill/>
          </a:ln>
        </p:spPr>
      </p:pic>
      <p:sp>
        <p:nvSpPr>
          <p:cNvPr id="95" name="タイトル 7"/>
          <p:cNvSpPr/>
          <p:nvPr/>
        </p:nvSpPr>
        <p:spPr>
          <a:xfrm>
            <a:off x="75564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results for a Hybrid veh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mments</a:t>
            </a:r>
            <a:r>
              <a:rPr b="1" lang="ja-JP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for Hybrid vehi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1280" y="1879560"/>
            <a:ext cx="8208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) Difference between sound level in different degrees of battery charge is sm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2) When the engine operates, hybrid vehicles can be dealt with an internal combustion engine and a CVT vehicle. (Hybrid vehicles have CV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26828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proposed met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1280" y="2276280"/>
            <a:ext cx="83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1) Germany/F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　・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D/F-1: Anchor point =&gt; measured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　・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D/F-2: Anchor point =&gt; Annex3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2) The Nether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　・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L-1</a:t>
            </a: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：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ixed acceleration rate of a_wot in Annex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　・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L-2: measured acceleration rate at each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3) OICA</a:t>
            </a:r>
            <a:r>
              <a:rPr b="1" lang="ja-JP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792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ison of Propose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1040" y="3900600"/>
            <a:ext cx="4429080" cy="2768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429080" cy="2768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06920" y="1243080"/>
            <a:ext cx="4429080" cy="2809800"/>
          </a:xfrm>
          <a:prstGeom prst="rect">
            <a:avLst/>
          </a:prstGeom>
          <a:ln w="0">
            <a:noFill/>
          </a:ln>
        </p:spPr>
      </p:pic>
      <p:sp>
        <p:nvSpPr>
          <p:cNvPr id="104" name="タイトル 7"/>
          <p:cNvSpPr/>
          <p:nvPr/>
        </p:nvSpPr>
        <p:spPr>
          <a:xfrm>
            <a:off x="539640" y="71280"/>
            <a:ext cx="82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SEP Test Results  (Vehicle A:  D-r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149720"/>
            <a:ext cx="421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limit in Annex3 = 72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5373720"/>
            <a:ext cx="29527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1/02:           69.4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nex3;  66.9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429080" cy="276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35640" y="1125360"/>
            <a:ext cx="4429080" cy="27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4429080" cy="2768760"/>
          </a:xfrm>
          <a:prstGeom prst="rect">
            <a:avLst/>
          </a:prstGeom>
          <a:ln w="0">
            <a:noFill/>
          </a:ln>
        </p:spPr>
      </p:pic>
      <p:sp>
        <p:nvSpPr>
          <p:cNvPr id="110" name="タイトル 7"/>
          <p:cNvSpPr/>
          <p:nvPr/>
        </p:nvSpPr>
        <p:spPr>
          <a:xfrm>
            <a:off x="539640" y="71280"/>
            <a:ext cx="82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SEP Test Results  (Vehicle B:  D-r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4437000"/>
            <a:ext cx="29527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1/02:           69.5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nex3;  67.4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429080" cy="2768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400356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35640" y="1316160"/>
            <a:ext cx="4429080" cy="2809800"/>
          </a:xfrm>
          <a:prstGeom prst="rect">
            <a:avLst/>
          </a:prstGeom>
          <a:ln w="0">
            <a:noFill/>
          </a:ln>
        </p:spPr>
      </p:pic>
      <p:sp>
        <p:nvSpPr>
          <p:cNvPr id="115" name="タイトル 7"/>
          <p:cNvSpPr/>
          <p:nvPr/>
        </p:nvSpPr>
        <p:spPr>
          <a:xfrm>
            <a:off x="539640" y="71280"/>
            <a:ext cx="82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SEP Test Results  (Vehicle C:  D-r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4724280"/>
            <a:ext cx="29527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1/02:           71.0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nex3;  68.9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テキスト ボックス 19"/>
          <p:cNvSpPr/>
          <p:nvPr/>
        </p:nvSpPr>
        <p:spPr>
          <a:xfrm>
            <a:off x="4557600" y="765000"/>
            <a:ext cx="39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range (battery : 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429080" cy="2768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37960" y="3860640"/>
            <a:ext cx="4429440" cy="2768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06920" y="1197000"/>
            <a:ext cx="4429080" cy="2768400"/>
          </a:xfrm>
          <a:prstGeom prst="rect">
            <a:avLst/>
          </a:prstGeom>
          <a:ln w="0">
            <a:noFill/>
          </a:ln>
        </p:spPr>
      </p:pic>
      <p:sp>
        <p:nvSpPr>
          <p:cNvPr id="121" name="タイトル 7"/>
          <p:cNvSpPr/>
          <p:nvPr/>
        </p:nvSpPr>
        <p:spPr>
          <a:xfrm>
            <a:off x="539640" y="71280"/>
            <a:ext cx="82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SEP Test Results  (Vehicle D  Hybri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4797360"/>
            <a:ext cx="29527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1/02:           73.5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nex3;  69.0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197000"/>
            <a:ext cx="12970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1197000"/>
            <a:ext cx="8636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1197000"/>
            <a:ext cx="13683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3280" y="1197000"/>
            <a:ext cx="1441440" cy="36828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133720"/>
            <a:ext cx="1368360" cy="18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mit of Anne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365720"/>
            <a:ext cx="1354320" cy="18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st data of Anne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3440" y="2276640"/>
            <a:ext cx="151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/F (TU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3440" y="3213000"/>
            <a:ext cx="1511280" cy="64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/F (U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3440" y="4221000"/>
            <a:ext cx="1511280" cy="64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3440" y="5516640"/>
            <a:ext cx="1511280" cy="647640"/>
          </a:xfrm>
          <a:prstGeom prst="rect">
            <a:avLst/>
          </a:pr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2205000"/>
            <a:ext cx="1008000" cy="266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5157720"/>
            <a:ext cx="100800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-dual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2133720"/>
            <a:ext cx="1008000" cy="259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5157720"/>
            <a:ext cx="115272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10800000">
            <a:off x="4573440" y="2133720"/>
            <a:ext cx="719280" cy="22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1197000"/>
            <a:ext cx="792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ethods and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1197000"/>
            <a:ext cx="136836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ment uncertai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6560" y="5157720"/>
            <a:ext cx="86508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of M/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765000"/>
            <a:ext cx="68407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04000" y="5877000"/>
            <a:ext cx="720720" cy="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2565360"/>
            <a:ext cx="604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3284640"/>
            <a:ext cx="1655640" cy="100800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76360" y="3645000"/>
            <a:ext cx="1655640" cy="107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5734080"/>
            <a:ext cx="15829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4292640"/>
            <a:ext cx="2016000" cy="158436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197000"/>
            <a:ext cx="12970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197000"/>
            <a:ext cx="8636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197000"/>
            <a:ext cx="13683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3280" y="1197000"/>
            <a:ext cx="1441440" cy="36828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2133720"/>
            <a:ext cx="1368360" cy="187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mit of Anne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365720"/>
            <a:ext cx="1354320" cy="187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st data of Anne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53440" y="2276640"/>
            <a:ext cx="151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/F (TU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3440" y="3213000"/>
            <a:ext cx="1511280" cy="64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/F (UT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3440" y="4221000"/>
            <a:ext cx="1511280" cy="64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5516640"/>
            <a:ext cx="1511280" cy="647640"/>
          </a:xfrm>
          <a:prstGeom prst="rect">
            <a:avLst/>
          </a:prstGeom>
          <a:solidFill>
            <a:srgbClr val="6666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7080" y="3573360"/>
            <a:ext cx="381636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4508640"/>
            <a:ext cx="720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924360" y="4581360"/>
            <a:ext cx="1871640" cy="115272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2205000"/>
            <a:ext cx="1008000" cy="266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5157720"/>
            <a:ext cx="100800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-dual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133720"/>
            <a:ext cx="1008000" cy="259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5157720"/>
            <a:ext cx="115272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rot="10800000">
            <a:off x="4573440" y="2133720"/>
            <a:ext cx="719280" cy="22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1197000"/>
            <a:ext cx="792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1197000"/>
            <a:ext cx="136836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ment uncertai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6560" y="5157720"/>
            <a:ext cx="86508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of M/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765000"/>
            <a:ext cx="684072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ethods and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00000" y="1557360"/>
            <a:ext cx="77774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There are a lot of  combinations of components  for ASEP meth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Each component should be discussed in order to decide a  method.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Among them, most Japanese</a:t>
            </a:r>
            <a:r>
              <a:rPr b="1" lang="ja-JP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ncerns are engine speed base and limit line related to the Annex3 lim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60280"/>
            <a:ext cx="2879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s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0" y="0"/>
            <a:ext cx="3556080" cy="76500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19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Vehi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9360" y="2222640"/>
            <a:ext cx="8569440" cy="408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V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テキスト ボックス 19"/>
          <p:cNvSpPr/>
          <p:nvPr/>
        </p:nvSpPr>
        <p:spPr>
          <a:xfrm>
            <a:off x="2071800" y="207180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Vehicle C :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al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0" y="0"/>
            <a:ext cx="3556080" cy="76500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タイトル 7"/>
          <p:cNvSpPr/>
          <p:nvPr/>
        </p:nvSpPr>
        <p:spPr>
          <a:xfrm>
            <a:off x="250920" y="836640"/>
            <a:ext cx="88200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Tyre noise calculation is not necessary for one gear test.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2) Tyre noise calculation is not necessary at least for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 Annex3 limit base. There is no significant difference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 between with and without tyre noise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68360" y="2678040"/>
            <a:ext cx="6589800" cy="4179960"/>
          </a:xfrm>
          <a:prstGeom prst="rect">
            <a:avLst/>
          </a:prstGeom>
          <a:ln w="0">
            <a:noFill/>
          </a:ln>
        </p:spPr>
      </p:pic>
      <p:sp>
        <p:nvSpPr>
          <p:cNvPr id="179" name="テキスト ボックス 19"/>
          <p:cNvSpPr/>
          <p:nvPr/>
        </p:nvSpPr>
        <p:spPr>
          <a:xfrm>
            <a:off x="395280" y="378936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hicle A :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-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テキスト ボックス 19"/>
          <p:cNvSpPr/>
          <p:nvPr/>
        </p:nvSpPr>
        <p:spPr>
          <a:xfrm>
            <a:off x="1352520" y="13413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hicle A :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a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5252760"/>
          </a:xfrm>
          <a:prstGeom prst="rect">
            <a:avLst/>
          </a:prstGeom>
          <a:ln w="0">
            <a:noFill/>
          </a:ln>
        </p:spPr>
      </p:pic>
      <p:sp>
        <p:nvSpPr>
          <p:cNvPr id="182" name="タイトル 7"/>
          <p:cNvSpPr/>
          <p:nvPr/>
        </p:nvSpPr>
        <p:spPr>
          <a:xfrm>
            <a:off x="611280" y="18900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influence of tyre noise calculation on D/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テキスト ボックス 19"/>
          <p:cNvSpPr/>
          <p:nvPr/>
        </p:nvSpPr>
        <p:spPr>
          <a:xfrm>
            <a:off x="1547640" y="13413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hicle A :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a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8360" y="1442880"/>
            <a:ext cx="8351640" cy="5299200"/>
          </a:xfrm>
          <a:prstGeom prst="rect">
            <a:avLst/>
          </a:prstGeom>
          <a:ln w="0">
            <a:noFill/>
          </a:ln>
        </p:spPr>
      </p:pic>
      <p:sp>
        <p:nvSpPr>
          <p:cNvPr id="185" name="タイトル 7"/>
          <p:cNvSpPr/>
          <p:nvPr/>
        </p:nvSpPr>
        <p:spPr>
          <a:xfrm>
            <a:off x="611280" y="18900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influence of tyre noise calculation on D/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80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Both N_Lmax and N_bb can be used, since the correlation between N_Lmax and N_bb is good.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Using N_bb is better due to simplify test equip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テキスト ボックス 19"/>
          <p:cNvSpPr/>
          <p:nvPr/>
        </p:nvSpPr>
        <p:spPr>
          <a:xfrm>
            <a:off x="1042920" y="2925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hicl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19"/>
          <p:cNvSpPr/>
          <p:nvPr/>
        </p:nvSpPr>
        <p:spPr>
          <a:xfrm>
            <a:off x="3959280" y="2925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hic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19"/>
          <p:cNvSpPr/>
          <p:nvPr/>
        </p:nvSpPr>
        <p:spPr>
          <a:xfrm>
            <a:off x="6877080" y="2925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hic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37120" y="3328920"/>
            <a:ext cx="3027600" cy="2835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6200" y="3328920"/>
            <a:ext cx="3027600" cy="2835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22560" y="3330720"/>
            <a:ext cx="3027240" cy="283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920" y="0"/>
            <a:ext cx="3556080" cy="76500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V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nex3 test already covers almost  the maximum engine  speed in Annex1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ybrid vehicles can be dealt with an internal  combustion eng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Tes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Should take the limit line according to Annex3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an skip tyre noise calculation at least on Annex3 limit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an use recorded engine speed at B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792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29080" cy="3841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1914480"/>
            <a:ext cx="4429080" cy="3687840"/>
          </a:xfrm>
          <a:prstGeom prst="rect">
            <a:avLst/>
          </a:prstGeom>
          <a:ln w="0">
            <a:noFill/>
          </a:ln>
        </p:spPr>
      </p:pic>
      <p:sp>
        <p:nvSpPr>
          <p:cNvPr id="56" name="タイトル 7"/>
          <p:cNvSpPr/>
          <p:nvPr/>
        </p:nvSpPr>
        <p:spPr>
          <a:xfrm>
            <a:off x="642960" y="142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results for CVT vehicles</a:t>
            </a:r>
            <a:r>
              <a:rPr b="1" lang="ja-JP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Vehicle 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2920" y="1747800"/>
            <a:ext cx="4429080" cy="384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64000" y="1773360"/>
            <a:ext cx="4429080" cy="3841560"/>
          </a:xfrm>
          <a:prstGeom prst="rect">
            <a:avLst/>
          </a:prstGeom>
          <a:ln w="0">
            <a:noFill/>
          </a:ln>
        </p:spPr>
      </p:pic>
      <p:sp>
        <p:nvSpPr>
          <p:cNvPr id="59" name="タイトル 7"/>
          <p:cNvSpPr/>
          <p:nvPr/>
        </p:nvSpPr>
        <p:spPr>
          <a:xfrm>
            <a:off x="8589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results for CVT vehicles</a:t>
            </a:r>
            <a:r>
              <a:rPr b="1" lang="ja-JP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Vehicle 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674720"/>
            <a:ext cx="4429080" cy="3841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64000" y="1674720"/>
            <a:ext cx="4429080" cy="3841920"/>
          </a:xfrm>
          <a:prstGeom prst="rect">
            <a:avLst/>
          </a:prstGeom>
          <a:ln w="0">
            <a:noFill/>
          </a:ln>
        </p:spPr>
      </p:pic>
      <p:sp>
        <p:nvSpPr>
          <p:cNvPr id="62" name="タイトル 7"/>
          <p:cNvSpPr/>
          <p:nvPr/>
        </p:nvSpPr>
        <p:spPr>
          <a:xfrm>
            <a:off x="642960" y="142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est results for CVT vehicles</a:t>
            </a:r>
            <a:r>
              <a:rPr b="1" lang="ja-JP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(Vehicle 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omments for CVT vehi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9214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1) Annex3 test already covers almost  the maximum engine speed in Annex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2) In case of CVT vehicle, range of change for engine speed is small, even if different vehicle speeds are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3) Therefore, CVT vehicles can be excepted for AS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76360" y="1628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 Veh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497800" cy="2966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e1dec9"/>
              </a:gs>
              <a:gs pos="50000">
                <a:srgbClr val="ffffff"/>
              </a:gs>
              <a:gs pos="100000">
                <a:srgbClr val="e1d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ybrid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ybrid Systems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816360" cy="3237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396072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765000"/>
            <a:ext cx="3024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es Hybri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765000"/>
            <a:ext cx="30258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 hybri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869000"/>
            <a:ext cx="39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30ff5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030ff5"/>
                </a:solidFill>
                <a:uFillTx/>
                <a:latin typeface="Arial"/>
              </a:rPr>
              <a:t>series hybrid</a:t>
            </a: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 uses its engine to generate </a:t>
            </a:r>
            <a:r>
              <a:rPr b="1" lang="en-US" sz="1800" spc="-1" strike="noStrike">
                <a:solidFill>
                  <a:srgbClr val="f32705"/>
                </a:solidFill>
                <a:latin typeface="Arial"/>
              </a:rPr>
              <a:t>electricity for the motor to drive the whe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2705"/>
                </a:solidFill>
                <a:latin typeface="Arial"/>
              </a:rPr>
              <a:t>The engine operation is independent of driver’s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4869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30ff5"/>
                </a:solidFill>
                <a:uFillTx/>
                <a:latin typeface="Arial"/>
              </a:rPr>
              <a:t>A parallel hybrid</a:t>
            </a: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 us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gine as the main power source</a:t>
            </a: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, with the motor used only to provide assistance during accel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2852640"/>
            <a:ext cx="578160" cy="1447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1341360"/>
            <a:ext cx="433440" cy="142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6360" y="1341360"/>
            <a:ext cx="433440" cy="142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3284640"/>
            <a:ext cx="187200" cy="28728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77160" y="3284640"/>
            <a:ext cx="187200" cy="28728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284640"/>
            <a:ext cx="187200" cy="28728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3280" y="3884760"/>
            <a:ext cx="4427640" cy="2712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14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ybrid Systems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1095480"/>
            <a:ext cx="4103640" cy="29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16360" y="3160800"/>
            <a:ext cx="41767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of engine and motor operation in hybri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728640"/>
            <a:ext cx="40338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es/Parallel hybri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581360"/>
            <a:ext cx="41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In </a:t>
            </a:r>
            <a:r>
              <a:rPr b="1" lang="en-US" sz="1800" spc="-1" strike="noStrike">
                <a:solidFill>
                  <a:srgbClr val="030ff5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030ff5"/>
                </a:solidFill>
                <a:uFillTx/>
                <a:latin typeface="Arial"/>
              </a:rPr>
              <a:t>series/parallel hybrid</a:t>
            </a:r>
            <a:r>
              <a:rPr b="1" lang="en-US" sz="1800" spc="-1" strike="noStrike">
                <a:solidFill>
                  <a:srgbClr val="030ff5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444444"/>
                </a:solidFill>
                <a:latin typeface="Arial"/>
              </a:rPr>
              <a:t> a power split device divides the power from the engine, so the ratio of power going directly to the wheels and to the generator is continuously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71280" y="1557360"/>
            <a:ext cx="57636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1700280"/>
            <a:ext cx="1871640" cy="4597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hicle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1268280"/>
            <a:ext cx="433440" cy="142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2565360"/>
            <a:ext cx="216000" cy="358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3068640"/>
            <a:ext cx="216000" cy="35892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3141720"/>
            <a:ext cx="187200" cy="287280"/>
          </a:xfrm>
          <a:prstGeom prst="rect">
            <a:avLst/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1:25:48Z</dcterms:created>
  <dc:creator>JARI</dc:creator>
  <dc:description/>
  <dc:language>en-US</dc:language>
  <cp:lastModifiedBy>N125748</cp:lastModifiedBy>
  <dcterms:modified xsi:type="dcterms:W3CDTF">2007-09-19T06:56:35Z</dcterms:modified>
  <cp:revision>81</cp:revision>
  <dc:subject/>
  <dc:title>ハイブリッド車の試験結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6576535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