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EAC7-9200-4641-9141-7CC7B4569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AB53-F49C-4DD6-A375-4F1919F5D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466F-EE56-49F9-8494-D69D395B4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A50A-CD04-495A-9AD6-FC622A4A1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3105-C6E1-40EA-B7F8-2FF500667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6BEA-D23C-4776-AFE7-16769DA5B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3CAE-6AD8-41F7-B64C-70D910A37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AC40-01AE-4004-80E1-0D698F096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75D2-A6D3-4458-81A4-B075ACE35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42CF-D868-4EB5-B608-EF6E12DF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67D0-CE8B-423F-A79C-CB7C53AE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DA98-9F42-4746-ADF5-D9D77D38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F339A-4ACF-4F27-9778-E73DEE0AC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tional ASEP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B IG ASEP sept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the Nether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ivery va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ed as delivery van; also available is MPV/minib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VW = 2770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MR = 52,3 kW/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speed manual gear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rail Die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= 3800 1/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51.02 = 78,9 dB(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ivery Va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61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ivery Va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61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ivery Va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1174680"/>
            <a:ext cx="9144000" cy="56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ivery Va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61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ivery Va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1225440"/>
            <a:ext cx="9144000" cy="561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ivery Va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methods: vehicle appro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brid passenger car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d hybri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rol engine (70 kW; S= 6000 1/m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 engine/generator (15 kW) + Battery 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ustion engine always in operation during dr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start stop system of engine during stand st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(WOT) acceleration both engines coop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MR = 52,3 kW/t (combustion engine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VT gear box (Drive and Spor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51.02 = 69,1 dB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brid passenger car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24000" y="1697040"/>
            <a:ext cx="84088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brid passenger car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5280" y="1652760"/>
            <a:ext cx="8481960" cy="52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hi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delivery v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hybrid passenger c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brid passenger car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98280" y="1112760"/>
            <a:ext cx="924228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brid passenger car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-130320" y="1166760"/>
            <a:ext cx="9274320" cy="56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brid passenger car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-272880" y="1079640"/>
            <a:ext cx="941688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brid passenger car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L and OICA: appr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F/J and UBA no limit lines available due to CVT; judge every point separate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broad engine speed range compared to other CVT veh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power of a hybrid vehic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influence of the available capacity of the batter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ble acceleration between AA’ and PP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PP’-BB’ for calculation of accel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leration dependent on history before A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deal with pre-accel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deal with upper engine speed boarder (82%); this boarder line is passed during WOT accel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brid passenger car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l hybri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rol engine (57 kW; S= 5000 1/m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 engine/generator (50 kW) + Battery 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slow acceleration and cruising pure electric driving possible (depending on battery stat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(WOT) acceleration both engines coop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start stop system of engine during stand st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MR = 38,8 kW/t (combustion engine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VT gear box (Drive and Hil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brid passenger car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nd level measurements yet to 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ing experien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ring acceleration phase no difference between Drive and Hill program (only during deceleration ph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jectively much more narrow engine speed at acceleration than Hybri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T acceleration: always cooperation of two eng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PMR? Available power dependent on battery stat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EP measurements; subjectively significant delay at depressing the accel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example at slow speed: approach in electric mode; at depressing the accelerator, the combustion engine has to be switched on and the CVT has to change gear rati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to deal with these delay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ctical detail: harder to get an engine speed signal (need to drive to get the combustion engine runn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ivery va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rived from passenger c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VW = 1760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MR = 36,6 kW/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speed manual gear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rect Diesel; no tur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= 4600 1/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51.02 = 75,4 dB(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ivery Va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61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ivery Va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61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ivery Va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1174680"/>
            <a:ext cx="9144000" cy="56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ivery Va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225440"/>
            <a:ext cx="9144000" cy="561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ivery Va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225440"/>
            <a:ext cx="9144000" cy="561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ivery Va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/F/J, UBA, OICA: appro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 disapproved in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ear &gt; 50 km/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to decreasing acceleration above 75% of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12:09:52Z</dcterms:created>
  <dc:creator>Erik de Graaff</dc:creator>
  <dc:description/>
  <dc:language>en-US</dc:language>
  <cp:lastModifiedBy>Erik de Graaff</cp:lastModifiedBy>
  <dcterms:modified xsi:type="dcterms:W3CDTF">2007-09-20T07:48:19Z</dcterms:modified>
  <cp:revision>6</cp:revision>
  <dc:subject/>
  <dc:title>Additional ASEP dat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52898125</vt:r8>
  </property>
  <property fmtid="{D5CDD505-2E9C-101B-9397-08002B2CF9AE}" pid="3" name="_AuthorEmail">
    <vt:lpwstr>hbietenb@ford.com</vt:lpwstr>
  </property>
  <property fmtid="{D5CDD505-2E9C-101B-9397-08002B2CF9AE}" pid="4" name="_AuthorEmailDisplayName">
    <vt:lpwstr>Bietenbeck, Hanns-Peter  (H.P.)</vt:lpwstr>
  </property>
  <property fmtid="{D5CDD505-2E9C-101B-9397-08002B2CF9AE}" pid="5" name="_EmailSubject">
    <vt:lpwstr>GRB Informal Group ASEP - Documents from 8th meeting</vt:lpwstr>
  </property>
  <property fmtid="{D5CDD505-2E9C-101B-9397-08002B2CF9AE}" pid="6" name="_NewReviewCycle">
    <vt:lpwstr/>
  </property>
</Properties>
</file>