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33DA-4FBB-419D-AE49-460E4077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129F-2301-412F-BA2F-A812611B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E64-BBC3-4457-84F7-4EF2C02C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D832-D309-4847-B3D9-B46D30E9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4E4-7218-4AA5-94C5-DD0E898A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3A5-FA1C-4ED5-92CA-B7422A9D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C36-D377-4A47-9615-FBEA2CFF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D88D-EE23-4B2B-BF4C-605CBAEE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0131-12F7-4E6C-AA97-C5607711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42D-67A5-4F21-A4BE-07E8522D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489-8646-4360-8F11-E1FF1715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4A4-D235-413F-9651-6B65CAA0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143A-976F-4FE4-8105-0963A23CA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ASEP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B IG ASEP sept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as delivery van; also available is MPV/mini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VW = 2770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R = 52,3 kW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speed manual gear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rail Die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= 3800 1/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51.02 = 78,9 dB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174680"/>
            <a:ext cx="914400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225440"/>
            <a:ext cx="914400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thods: vehicle appr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 passenger ca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d hybr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rol engine (70 kW; S= 6000 1/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engine/generator (15 kW) + Battery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ustion engine always in operation during 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start stop system of engine during stand st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(WOT) acceleration both engines coop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MR = 52,3 kW/t (combustion engine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T gear box (Drive and Spor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51.02 = 69,1 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 passenger ca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1697040"/>
            <a:ext cx="84088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 passenger ca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1652760"/>
            <a:ext cx="848196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delivery v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hybrid passenger c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 passenger ca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8280" y="1112760"/>
            <a:ext cx="92422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 passenger ca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130320" y="1166760"/>
            <a:ext cx="927432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 passenger ca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272880" y="1079640"/>
            <a:ext cx="941688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 passenger ca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L and OICA: ap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/J and UBA no limit lines available due to CVT; judge every point separate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broad engine speed range compared to other CVT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ower of a hybrid vehi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influence of the available capacity of the batte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ble acceleration between AA’ and PP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P’-BB’ for calculation of acce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ion dependent on history before A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eal with pre-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eal with upper engine speed boarder (82%); this boarder line is passed during WOT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 passenger ca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hybr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rol engine (57 kW; S= 5000 1/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engine/generator (50 kW) + Battery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low acceleration and cruising pure electric driving possible (depending on battery stat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(WOT) acceleration both engines coop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start stop system of engine during stand st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MR = 38,8 kW/t (combustion engine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T gear box (Drive and Hi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 passenger ca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level measurements yet to 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ing experie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acceleration phase no difference between Drive and Hill program (only during deceleration ph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ively much more narrow engine speed at acceleration than Hybri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T acceleration: always cooperation of two eng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PMR? Available power dependent on battery stat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P measurements; subjectively significant delay at depressing the accel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xample at slow speed: approach in electric mode; at depressing the accelerator, the combustion engine has to be switched on and the CVT has to change gear rati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deal with these del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detail: harder to get an engine speed signal (need to drive to get the combustion engine run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ived from passenger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VW = 1760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R = 36,6 kW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speed manual gear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rect Diesel; no tur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= 4600 1/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51.02 = 75,4 dB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174680"/>
            <a:ext cx="914400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225440"/>
            <a:ext cx="914400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25440"/>
            <a:ext cx="914400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/F/J, UBA, OICA: appr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 disapproved i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ar &gt; 50 k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decreasing acceleration above 75% of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2:09:52Z</dcterms:created>
  <dc:creator>Erik de Graaff</dc:creator>
  <dc:description/>
  <dc:language>en-US</dc:language>
  <cp:lastModifiedBy>Erik de Graaff</cp:lastModifiedBy>
  <dcterms:modified xsi:type="dcterms:W3CDTF">2007-09-20T07:48:19Z</dcterms:modified>
  <cp:revision>6</cp:revision>
  <dc:subject/>
  <dc:title>Additional ASEP da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52898125</vt:r8>
  </property>
  <property fmtid="{D5CDD505-2E9C-101B-9397-08002B2CF9AE}" pid="3" name="_AuthorEmail">
    <vt:lpwstr>hbietenb@ford.com</vt:lpwstr>
  </property>
  <property fmtid="{D5CDD505-2E9C-101B-9397-08002B2CF9AE}" pid="4" name="_AuthorEmailDisplayName">
    <vt:lpwstr>Bietenbeck, Hanns-Peter  (H.P.)</vt:lpwstr>
  </property>
  <property fmtid="{D5CDD505-2E9C-101B-9397-08002B2CF9AE}" pid="5" name="_EmailSubject">
    <vt:lpwstr>GRB Informal Group ASEP - Documents from 8th meeting</vt:lpwstr>
  </property>
  <property fmtid="{D5CDD505-2E9C-101B-9397-08002B2CF9AE}" pid="6" name="_NewReviewCycle">
    <vt:lpwstr/>
  </property>
</Properties>
</file>