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A96-6BAC-4F14-829E-49261E66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C49-FACB-47B4-8F9B-C5D8C9BF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8BF-D82E-4E11-9C35-0784962E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21B-4D0E-482F-AFB6-610C9AD5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9EF-B944-425D-8AA7-267C297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0F1-0608-42F4-9C8F-86188CE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E50-179F-4255-A13B-C80A4CA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B2A-0A12-4B79-907C-0CE0BBC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E37-BA71-4B47-BD14-DC5DBBE2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252-97DF-4917-BAA9-954B8D7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07-CB95-4D74-B704-6D11B15F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49A-5F43-4154-A73A-363A29E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E24-C7C6-43F8-A9A9-65A7DC3A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 CLEPA Cost 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SEP 8th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19 - 21 SEP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 of Annex 3 rev 02 is 3x higher than Annex 3 rev 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 of Annex 3 rev 02 + Annex 10 is 5x higher than Annex 3 rev 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stprice (value) of an exhaust component is approx. 100 x lower compared to a complete veh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onomical carrying capacity of exhaust system products is much 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nex 3 rev 02 &amp; Annex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absolute costs for testing will become problematic for the viability of the exhaust component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Annex 10 costs can only be justified if tests have to be executed in very exceptional cases , in case added value of annex 10 can be clearly demons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6:56:53Z</dcterms:created>
  <dc:creator>valgaer</dc:creator>
  <dc:description/>
  <dc:language>en-US</dc:language>
  <cp:lastModifiedBy>valgaer</cp:lastModifiedBy>
  <dcterms:modified xsi:type="dcterms:W3CDTF">2007-09-19T07:35:39Z</dcterms:modified>
  <cp:revision>4</cp:revision>
  <dc:subject/>
  <dc:title>Annex 3 rev 02 &amp; Annex 10 CLEPA Cost estim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8171077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