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031B-3743-42E9-AF63-B93E53F2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48CF-FBCE-4000-965D-D186A50E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2E5F-001E-48A0-B155-53A0A948E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759F-3B0D-4F99-ABAD-97BDCD13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AEB1-837A-478F-B729-642A8B62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FB80-1F17-43F0-B004-B1DDE229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CCA5-A71E-472F-9F42-D4DF1EA3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9ED9-AD59-42AC-BB79-E73F8411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5765-767B-4EE9-8668-21FDAFBA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4A9D-9EBD-4072-A080-ACD93AC1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316F-F1F4-4461-900F-E662EA0D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DB66-57E5-418C-BF8F-EA38DF62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1F04-DEB7-4614-829C-EF81347FD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nnex 3 rev 02 &amp; Annex 10 CLEPA Cost est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SEP 8th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19 - 21 SEP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nnex 3 rev 02 &amp; Annex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st of Annex 3 rev 02 is 3x higher than Annex 3 rev 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st of Annex 3 rev 02 + Annex 10 is 5x higher than Annex 3 rev 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stprice (value) of an exhaust component is approx. 100 x lower compared to a complete veh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conomical carrying capacity of exhaust system products is much l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nnex 3 rev 02 &amp; Annex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he absolute costs for testing will become problematic for the viability of the exhaust component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he Annex 10 costs can only be justified if tests have to be executed in very exceptional cases , in case added value of annex 10 can be clearly demonstr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6:56:53Z</dcterms:created>
  <dc:creator>valgaer</dc:creator>
  <dc:description/>
  <dc:language>en-US</dc:language>
  <cp:lastModifiedBy>valgaer</cp:lastModifiedBy>
  <dcterms:modified xsi:type="dcterms:W3CDTF">2007-09-19T07:35:39Z</dcterms:modified>
  <cp:revision>4</cp:revision>
  <dc:subject/>
  <dc:title>Annex 3 rev 02 &amp; Annex 10 CLEPA Cost estim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48171077</vt:r8>
  </property>
  <property fmtid="{D5CDD505-2E9C-101B-9397-08002B2CF9AE}" pid="3" name="_AuthorEmail">
    <vt:lpwstr>hbietenb@ford.com</vt:lpwstr>
  </property>
  <property fmtid="{D5CDD505-2E9C-101B-9397-08002B2CF9AE}" pid="4" name="_AuthorEmailDisplayName">
    <vt:lpwstr>Bietenbeck, Hanns-Peter  (H.P.)</vt:lpwstr>
  </property>
  <property fmtid="{D5CDD505-2E9C-101B-9397-08002B2CF9AE}" pid="5" name="_EmailSubject">
    <vt:lpwstr>GRB Informal Group ASEP - Documents from 8th meeting</vt:lpwstr>
  </property>
  <property fmtid="{D5CDD505-2E9C-101B-9397-08002B2CF9AE}" pid="6" name="_NewReviewCycle">
    <vt:lpwstr/>
  </property>
</Properties>
</file>