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CFF8-A9F4-4E7A-8752-3326092E2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22D2-D66D-409A-8CD3-2F0705F58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EAE3-D5FA-481E-A5BE-8FCC58B6A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172F-87E8-4850-B99D-2317F892D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5BDE-11D4-454B-A3B7-E8664C674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5EF7-BA63-4174-82F5-20E4464A8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87AC-A873-465C-B9A0-7B011D16D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A4A7-C658-45EC-9A20-63E47179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A4DE-FA2F-47FC-8BA2-2B7DF32E1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4342-F2D9-4237-86B5-7800C13E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6B8D-08AA-4490-AA58-B8FA52E0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7F8D-549A-4CAB-AE6E-FDEC90A7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BE4E3-422C-4E9D-8C7A-26D7CDAED5E9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2637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B – ASEP – 08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iteria to compare proposal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-1800" y="-25560"/>
            <a:ext cx="367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Den Hagg – September 200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80" y="-25560"/>
            <a:ext cx="14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os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700280"/>
            <a:ext cx="86425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/D proposal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GRBIG-ASEP-05-01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F/D proposal with D improvement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B-IG-ASEP-07-006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F/D proposal with F improvement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B-IG-ASEP-07-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F/D proposal with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 for a limit derived anchor point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B-IG-ASEP-07-009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hairman proposal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B-IG-ASEP-07-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OICA proposal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GRBIG-ASEP-05-003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9040" y="907920"/>
            <a:ext cx="526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check 6 proposals or improvement of proposal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203640" y="6070680"/>
            <a:ext cx="2736720" cy="22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3203640" y="3429000"/>
            <a:ext cx="0" cy="266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937120" y="60930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ngine spe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pe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c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39640" y="3284640"/>
            <a:ext cx="72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hic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203640" y="494172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1840" y="928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16360" y="4941720"/>
            <a:ext cx="0" cy="107964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43280" y="4870440"/>
            <a:ext cx="144720" cy="142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19640" y="4510080"/>
            <a:ext cx="14436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77120" y="4437000"/>
            <a:ext cx="16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99"/>
                </a:solidFill>
                <a:latin typeface="Arial"/>
              </a:rPr>
              <a:t>Vehicle Measur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360" y="-25560"/>
            <a:ext cx="224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s conce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291280" y="386064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576400" y="4076640"/>
            <a:ext cx="139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99"/>
                </a:solidFill>
                <a:latin typeface="Arial"/>
              </a:rPr>
              <a:t>Vehicle behavi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219640" y="4149720"/>
            <a:ext cx="144360" cy="216000"/>
          </a:xfrm>
          <a:prstGeom prst="diamond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1268280"/>
            <a:ext cx="8424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One Reference point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 ref (x ref) is derived from annex 3 result and/or limit (and additional elements as L tyre and PM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 ref 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 re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nd/o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 re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nd/o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ref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e derived from Annex 3 result and/or additional el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One noise vehicle behaviour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 limit (N, V, a) is derived from L ref (x ref) by applying a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a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le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413080" y="47242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L r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84000" y="616572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x re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19640" y="3718080"/>
            <a:ext cx="14436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80360" y="3645000"/>
            <a:ext cx="103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 limit Gear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55280" y="3836880"/>
            <a:ext cx="86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ol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1600" y="836640"/>
            <a:ext cx="472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concept is based on the same construction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179280" y="1484280"/>
          <a:ext cx="8713800" cy="4819680"/>
        </p:xfrm>
        <a:graphic>
          <a:graphicData uri="http://schemas.openxmlformats.org/drawingml/2006/table">
            <a:tbl>
              <a:tblPr/>
              <a:tblGrid>
                <a:gridCol w="2928960"/>
                <a:gridCol w="1893960"/>
                <a:gridCol w="1593720"/>
                <a:gridCol w="1149480"/>
                <a:gridCol w="1147680"/>
              </a:tblGrid>
              <a:tr h="57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ENCE POI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 ref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re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re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re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/D propos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 wot 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wot 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wot 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/D proposal with D improv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 wot i limi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ived from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 urban limit &amp; L tyre &amp; PM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 urb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kp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/D proposal with F improv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 wot 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wot 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wot 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/D proposal with option for a limit derived anchor poi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 wot i limi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ived from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 urban limit L urban &amp; L wot 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 F/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 F/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irman propos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 urban lim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kp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urb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ICA propos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 wot 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wot 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-1080" y="-25560"/>
            <a:ext cx="217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ference poi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6880" y="836640"/>
            <a:ext cx="848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eference point is based on Annex 3 result and/or limit and additional statistical results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-360" y="-25560"/>
            <a:ext cx="309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ehicle noise behavi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95280" y="1557360"/>
          <a:ext cx="8135640" cy="4924440"/>
        </p:xfrm>
        <a:graphic>
          <a:graphicData uri="http://schemas.openxmlformats.org/drawingml/2006/table">
            <a:tbl>
              <a:tblPr/>
              <a:tblGrid>
                <a:gridCol w="2336760"/>
                <a:gridCol w="1390680"/>
                <a:gridCol w="1272960"/>
                <a:gridCol w="954000"/>
                <a:gridCol w="879480"/>
                <a:gridCol w="130176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MIT CONCEP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ope behavio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ence poi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mit plot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r rat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/D propos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hicle phys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ical engine phys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hicle (annexe 3 deriv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by poi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m Tyre noi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/D proposal with D improv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hicle phys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ical engine phys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istical with tyre noise corre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by poi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m Tyre noi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/D proposal with F improv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hicle phys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ical engine phys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hic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 for each gear rat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m Tyre noi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/D proposal with option for a limit derived anchor poi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hicle phys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ical engine phys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hicle with additionnaltolerance for silent vehic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 F/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m Tyre noi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irman propos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istic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istic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istic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by poi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m accele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ICA propos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ar vehicle f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vidual vehicle phys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hic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325080" y="981000"/>
            <a:ext cx="820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vehicle noise behaviour is based on differents approach from individual to statistics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-2880" y="0"/>
            <a:ext cx="381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certainties and disper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9400" y="981000"/>
            <a:ext cx="467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choose the method, we need to study 2 poi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258920" y="5565600"/>
            <a:ext cx="2736720" cy="22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258920" y="2923920"/>
            <a:ext cx="0" cy="26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4920" y="2779560"/>
            <a:ext cx="72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hic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258920" y="443700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4437000"/>
            <a:ext cx="0" cy="107964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698920" y="4365720"/>
            <a:ext cx="144360" cy="142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8360" y="42195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L r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339640" y="566100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x re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03640" y="333360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85440" y="3262320"/>
            <a:ext cx="57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 lim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770200" y="4148280"/>
            <a:ext cx="0" cy="647640"/>
          </a:xfrm>
          <a:prstGeom prst="line">
            <a:avLst/>
          </a:prstGeom>
          <a:ln w="1908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76720" y="2973240"/>
            <a:ext cx="0" cy="865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508720" y="5565600"/>
            <a:ext cx="2736720" cy="22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5508720" y="2923920"/>
            <a:ext cx="0" cy="26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44720" y="2779560"/>
            <a:ext cx="72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hic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6480" y="1557360"/>
            <a:ext cx="3935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uncertainties to determi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reference point and vehicle noise behavi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760280" y="1700280"/>
            <a:ext cx="429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pread of  “normal” vehicles compared to the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1480" y="3429000"/>
            <a:ext cx="16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ehicle measur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368400" y="5877000"/>
            <a:ext cx="139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ehicle behavi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12000" y="5877000"/>
            <a:ext cx="144360" cy="216000"/>
          </a:xfrm>
          <a:prstGeom prst="diamond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77080" y="3500280"/>
            <a:ext cx="144360" cy="1429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77080" y="4365720"/>
            <a:ext cx="144360" cy="215640"/>
          </a:xfrm>
          <a:prstGeom prst="diamond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77080" y="4005360"/>
            <a:ext cx="144360" cy="21564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77080" y="3141720"/>
            <a:ext cx="144360" cy="216000"/>
          </a:xfrm>
          <a:prstGeom prst="diamond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07640" y="306864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roposal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07640" y="393372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roposal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07640" y="436572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roposal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250920" y="1341360"/>
          <a:ext cx="8642160" cy="4679640"/>
        </p:xfrm>
        <a:graphic>
          <a:graphicData uri="http://schemas.openxmlformats.org/drawingml/2006/table">
            <a:tbl>
              <a:tblPr/>
              <a:tblGrid>
                <a:gridCol w="1079280"/>
                <a:gridCol w="1081080"/>
                <a:gridCol w="1081080"/>
                <a:gridCol w="1081080"/>
                <a:gridCol w="1081080"/>
                <a:gridCol w="1078200"/>
                <a:gridCol w="1081080"/>
                <a:gridCol w="1079280"/>
              </a:tblGrid>
              <a:tr h="74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/D propos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/D proposal with F improv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/D proposal with option for a limit derived anchor poi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/D proposal with D improv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irman propos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OICA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propos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Uncertainties 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influents Facto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Reference poi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 wot 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N wot i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V wot 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s F/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s F/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 ty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 wot 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N wot i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imit line or poi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 ty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N wo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V w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 tyre 50 kp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N wot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V wo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 F/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 F/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 w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V w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 w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N w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Dispersion 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Influents facto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Reference point and slo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Engine noise slope vs engine spee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Engine and vehicle noise  noise slop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s F/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Engine noise slope N urb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Vehicle noise slope vs speed and accel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 urb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ress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lerance between vehicle noise behaviour and limi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[2] 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[1] 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s F/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[1] 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[ ] 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[2] 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+ 1.5 dB / 1000 rp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dditional tolerance on Reference poi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 wot limit from L urban limit and L w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 wot limit from L urban lim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 urban lim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330480" y="836640"/>
            <a:ext cx="510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luent factors must be check and study one by one :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5040" y="0"/>
            <a:ext cx="522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certainties, dispersions and toler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0080" y="6237360"/>
            <a:ext cx="681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tolerance will be adjust to discriminate “normal” vehicles to “abnormal” vehicl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720" y="0"/>
            <a:ext cx="170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0840" y="1197000"/>
            <a:ext cx="80596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ll proposals using an ASEP limit linked with L urban lim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ASEP is a function of L urban limit and additional data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proposals can be link with L urban limit not to discriminate silent vehi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method present uncertainties on ASEP li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following points need to be checked to compare proposal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Uncertainties on the li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 Spread of normal vehicle compare to each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Tolerance necessary to discriminate “normal” to “abnormal” vehi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5T09:36:58Z</dcterms:created>
  <dc:creator>pardo</dc:creator>
  <dc:description/>
  <dc:language>en-US</dc:language>
  <cp:lastModifiedBy>hbietenb</cp:lastModifiedBy>
  <dcterms:modified xsi:type="dcterms:W3CDTF">2007-09-20T13:00:32Z</dcterms:modified>
  <cp:revision>152</cp:revision>
  <dc:subject/>
  <dc:title>Diapositiv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37549596</vt:r8>
  </property>
  <property fmtid="{D5CDD505-2E9C-101B-9397-08002B2CF9AE}" pid="3" name="_AuthorEmail">
    <vt:lpwstr>hbietenb@ford.com</vt:lpwstr>
  </property>
  <property fmtid="{D5CDD505-2E9C-101B-9397-08002B2CF9AE}" pid="4" name="_AuthorEmailDisplayName">
    <vt:lpwstr>Bietenbeck, Hanns-Peter  (H.P.)</vt:lpwstr>
  </property>
  <property fmtid="{D5CDD505-2E9C-101B-9397-08002B2CF9AE}" pid="5" name="_EmailSubject">
    <vt:lpwstr>GRB Informal Group ASEP - Documents from 8th meeting</vt:lpwstr>
  </property>
  <property fmtid="{D5CDD505-2E9C-101B-9397-08002B2CF9AE}" pid="6" name="_NewReviewCycle">
    <vt:lpwstr/>
  </property>
</Properties>
</file>