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E9D-DB49-40FA-82CB-1A0E5DD8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3F0-0EEF-48F1-9CEC-FB14F88B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BA0-03E9-451E-83F0-1A19C6D6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1E2-4ABE-4E9C-A941-4B633FAD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464-B45E-44D5-BB7D-43931460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CF3-4A03-4020-8F8C-7056D398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268-813F-4DAD-9B1F-64A4E27B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F9F-E6E7-4B32-A48B-31F45C13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2E9-4204-45B1-AB47-65EDC90B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321-D7F6-4852-97A7-959C8A97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B0F-78EF-4B22-973B-9354EBA1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1DA-BF1E-423D-8CFA-23E994E9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777F-83A5-45B7-AE38-FCDB65800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EP GRB 08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yre influence in vehicle n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5400" y="0"/>
            <a:ext cx="52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 Haag – 19 th to 21 th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B4C-9B16-4654-BCE7-DD26A2DD4E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080" y="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re noise contribution and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960" y="836640"/>
            <a:ext cx="70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variations between tyre noise and L wot i : from 2 dB to 1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321440" cy="239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17800" y="1652760"/>
            <a:ext cx="408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ifference depends of vehicle design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ngi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y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ar rat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4332240" cy="269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05000" y="4389480"/>
            <a:ext cx="376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fluence introduce a gap betwe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noise in gear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vehicle noise in gear i-1 or i-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23736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nfluence may be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5440" y="364500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EA Data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94E-25B8-4BD6-955A-7BD756F074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2195640" y="36432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03640" y="2852280"/>
            <a:ext cx="1297080" cy="5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708360" y="3213000"/>
            <a:ext cx="129528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440" y="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 using F/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24000" y="4940280"/>
            <a:ext cx="3960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24000" y="2060280"/>
            <a:ext cx="0" cy="28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6200" y="48690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gine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840" y="19890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3573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7160" y="2492280"/>
            <a:ext cx="269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hicle noise expected (N ; 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7800" y="2997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L wo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124000" y="32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314172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42480" y="836640"/>
            <a:ext cx="64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valuate this influence, vehicle noise behaviour is stud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simple and realistic vehicle nois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by F/D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40600" y="5373720"/>
            <a:ext cx="43657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F/D Model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 vehicle (N, v) = L engine (N)  « + »  L tyre (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 tyre = L_tyre (v ref)+ a*log (v/v ref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 engine = L engine (N ref) + b (N – N ref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 rot="10540200">
            <a:off x="2520000" y="3694680"/>
            <a:ext cx="533160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07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0710"/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21080" y="35002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L tyre 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4005360"/>
            <a:ext cx="0" cy="1008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124000" y="400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720" y="25653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Arial"/>
              </a:rPr>
              <a:t>Ge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720" y="2997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Gear i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932280"/>
            <a:ext cx="14436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337-8366-42C7-B15A-DE99C5B488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557360"/>
            <a:ext cx="3240000" cy="286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Vehicle simulated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ar i-n : 15 kph/1000 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ar i : 30 kph/1000 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wot i = 74 dB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Tyr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tyre 50 kph  = 72 dB(A) or 64 dB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 = 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Engin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 = 5 dB/1000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" y="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3000" y="4653000"/>
            <a:ext cx="321804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t 3000 rpm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 wot i – L tyre = 3 dB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 veh gear i – L veh Gear i-n = 5,9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 wot i – L tyre = 10 dB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 veh gear i – L veh Gear i-n = 0,9 d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332240" cy="269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367960" y="836640"/>
            <a:ext cx="2541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wot i – L tyre = 2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00720" y="4005360"/>
            <a:ext cx="4319280" cy="26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5368320" y="3860640"/>
            <a:ext cx="266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wot i – L tyre = 1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836640"/>
            <a:ext cx="3241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High difference of gear rat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High tyre noise s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F5C-8963-496A-A425-357BC0FA8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43214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356000" y="1055520"/>
            <a:ext cx="4321440" cy="26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50920" y="1628640"/>
            <a:ext cx="3240000" cy="286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Vehicle simulated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ar i-n : 15 kph/1000 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ar i : 20 kph/1000 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wot i = 74 dB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Tyr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tyre 50 kph  = 72 dB(A) or 64 dB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 =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Engin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 = 5 dB/1000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000" y="4724280"/>
            <a:ext cx="321804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t 3000 rpm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 wot i – L tyre = 3 dB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 veh gear i – L veh Gear i-n = 2,1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 wot i – L tyre = 10 dB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 veh gear i – L veh Gear i-n = 0,3 d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2680" y="839880"/>
            <a:ext cx="2541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wot i – L tyre = 2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41400" y="3936960"/>
            <a:ext cx="266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wot i – L tyre = 1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836640"/>
            <a:ext cx="3241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ow difference of gear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ow tyre noise slpo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" y="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10D-7B7D-44B8-AF41-8438BD0A8F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80" y="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7560" y="1197000"/>
            <a:ext cx="87058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p between vehicle noise in gear i and gear i –n can go up to 5 dB depending to vehicle desig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ake account of the influence of tyre noise in vehicle noise, different approaches have been tested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ing combination with speed or engine speed and acceleration or gear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 between tyre influence and acceleration or gear ratios depen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each vehicle desig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ing tyre noise influence as F/D propos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alternatives can be chos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ing Tyre noise into the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 precise approache to take into account this g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Not using Tyre noise into the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ve a  larger tolerance for vehicle which have high tyre noise or low engine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AE6-F2DC-485B-A4E4-DCAF5BEAAC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9:36:58Z</dcterms:created>
  <dc:creator>pardo</dc:creator>
  <dc:description/>
  <dc:language>en-US</dc:language>
  <cp:lastModifiedBy>Nelly Enonler</cp:lastModifiedBy>
  <dcterms:modified xsi:type="dcterms:W3CDTF">2007-11-30T15:08:50Z</dcterms:modified>
  <cp:revision>111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