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BC5-F4C4-40E5-8F50-1D68B47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496-D336-4177-90C7-E3D1518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AF1-19FA-47D2-950C-436C6444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EA9-122D-4D98-8C59-FE287C33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A7C-5E5A-4AD1-B4E3-144AE1C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21C-B566-4426-8BCF-6AEA6CA5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F4A-49B5-415E-8363-2FE2542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12C-7667-4317-B752-5063242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E65-09A2-4B1D-82A9-73E79ED4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D0F-E711-4E74-840A-21B195E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E12-B326-464D-9D28-73126E6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A38-79FF-41A6-92DE-A089D90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68F-4AA5-4C90-B30B-E99C45DCB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EP GRB 08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yre influence in vehicle n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5400" y="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 Haag – 19 th to 21 th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86D-B51B-4219-8735-3AE335068C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080" y="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re noise contribution and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960" y="836640"/>
            <a:ext cx="70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variations between tyre noise and L wot i : from 2 dB to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321440" cy="239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17800" y="1652760"/>
            <a:ext cx="408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fference depends of vehicle desig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ng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y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ar rat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4332240" cy="26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05000" y="4389480"/>
            <a:ext cx="376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fluence introduce a gap betwe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hicle noise in gear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vehicle noise in gear i-1 or i-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23736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nfluence may b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5440" y="364500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EA Data 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8F4-3A0C-4F35-BD13-56517FBB7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2195640" y="36432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03640" y="2852280"/>
            <a:ext cx="1297080" cy="5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08360" y="3213000"/>
            <a:ext cx="129528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using F/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4940280"/>
            <a:ext cx="3960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24000" y="2060280"/>
            <a:ext cx="0" cy="28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6200" y="48690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840" y="19890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3573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7160" y="2492280"/>
            <a:ext cx="26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hicle noise expected (N ; 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7800" y="2997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L wo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24000" y="32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3141720"/>
            <a:ext cx="144360" cy="14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1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42480" y="836640"/>
            <a:ext cx="64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valuate this influence, vehicle noise behaviour is stud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simple and realistic vehicle nois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by F/D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40600" y="5373720"/>
            <a:ext cx="43657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/D Model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vehicle (N, v) = L engine (N)  « + »  L tyre 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tyre = L_tyre (v ref)+ a*log (v/v re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 engine = L engine (N ref) + b (N – N ref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540200">
            <a:off x="2520000" y="3694680"/>
            <a:ext cx="533160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07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0710"/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21080" y="3500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L tyre 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005360"/>
            <a:ext cx="0" cy="1008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124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720" y="25653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Arial"/>
              </a:rPr>
              <a:t>Ge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720" y="2997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Gear i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93228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349-4277-4905-909C-57387565D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557360"/>
            <a:ext cx="3240000" cy="286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Vehicle simulated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-n : 15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 : 30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i = 7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Tyr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tyre 50 kph  = 72 dB(A) or 6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 5 dB/1000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" y="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000" y="4653000"/>
            <a:ext cx="32180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t 3000 rpm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3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5,9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10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0,9 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332240" cy="269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367960" y="836640"/>
            <a:ext cx="2541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319280" cy="26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368320" y="3860640"/>
            <a:ext cx="266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836640"/>
            <a:ext cx="3241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High difference of gear rat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High tyre noise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4CE-42F0-41A9-AC55-839B42CC1B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32144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56000" y="1055520"/>
            <a:ext cx="4321440" cy="26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50920" y="1628640"/>
            <a:ext cx="3240000" cy="286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Vehicle simulated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-n : 15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ear i : 20 kph/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i = 7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Tyr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tyre 50 kph  = 72 dB(A) or 64 dB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= 5 dB/1000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4724280"/>
            <a:ext cx="321804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t 3000 rpm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3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2,1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 wot i – L tyre = 10 dB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 veh gear i – L veh Gear i-n = 0,3 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2680" y="839880"/>
            <a:ext cx="2541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41400" y="3936960"/>
            <a:ext cx="266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wot i – L tyre = 1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836640"/>
            <a:ext cx="3241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ow difference of gear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ow tyre noise slpo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" y="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B3A-4E7D-4E64-97B4-F9D7551FA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" y="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7560" y="1197000"/>
            <a:ext cx="87058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 between vehicle noise in gear i and gear i –n can go up to 5 dB depending to vehicle desig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ake account of the influence of tyre noise in vehicle noise, different approaches have been tested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combination with speed or engine speed and acceleration or gear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 between tyre influence and acceleration or gear ratios depen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each vehicle desi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tyre noise influence as F/D propos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alternatives can be chos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ing Tyre noise into th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precise approache to take into account this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Not using Tyre noise into th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 a  larger tolerance for vehicle which have high tyre noise or low engine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233-5A7B-4D98-9CD9-7419C51633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9:36:58Z</dcterms:created>
  <dc:creator>pardo</dc:creator>
  <dc:description/>
  <dc:language>en-US</dc:language>
  <cp:lastModifiedBy>Nelly Enonler</cp:lastModifiedBy>
  <dcterms:modified xsi:type="dcterms:W3CDTF">2007-11-30T15:08:50Z</dcterms:modified>
  <cp:revision>111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