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666413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9263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5120" y="4413240"/>
            <a:ext cx="9263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5120" y="44132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71720" y="44132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57120" y="21146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89480" y="21146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5120" y="44132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57120" y="44132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89480" y="4413240"/>
            <a:ext cx="29826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5120" y="2114640"/>
            <a:ext cx="9263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9263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762156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5120" y="44132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71720" y="44132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51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71720" y="2114640"/>
            <a:ext cx="4520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5120" y="4413240"/>
            <a:ext cx="92631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indent="0"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5120" y="2114640"/>
            <a:ext cx="926316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buClr>
                <a:srgbClr val="00cc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buClr>
                <a:srgbClr val="00cc00"/>
              </a:buClr>
              <a:buFont typeface="Wingdings" charset="2"/>
              <a:buChar char="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2" marL="1343160" indent="-233640">
              <a:buClr>
                <a:srgbClr val="00cc00"/>
              </a:buClr>
              <a:buSzPct val="80000"/>
              <a:buFont typeface="Arial"/>
              <a:buChar char="o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3" marL="1778040" indent="-235080">
              <a:buClr>
                <a:srgbClr val="00cc00"/>
              </a:buClr>
              <a:buSzPct val="90000"/>
              <a:buFont typeface="Arial"/>
              <a:buChar char="–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4" marL="2209680" indent="-231480">
              <a:buClr>
                <a:srgbClr val="00cc00"/>
              </a:buClr>
              <a:buSzPct val="6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5" marL="2209680" indent="-231480">
              <a:buClr>
                <a:srgbClr val="000000"/>
              </a:buClr>
              <a:buSzPct val="6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6" marL="2209680" indent="-231480">
              <a:buClr>
                <a:srgbClr val="000000"/>
              </a:buClr>
              <a:buSzPct val="6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10960" y="6904080"/>
            <a:ext cx="298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156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7162920"/>
            <a:ext cx="409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0" bIns="122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0920"/>
                <a:tab algn="l" pos="8775720"/>
                <a:tab algn="l" pos="9872640"/>
                <a:tab algn="l" pos="109695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FM, Institute for Vehicle Technology and Mo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304920" y="762120"/>
            <a:ext cx="1005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95960" y="731520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23FB-05B6-42F8-9059-ED62A28FD80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43360" y="3462480"/>
            <a:ext cx="10668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9078840" y="6762600"/>
            <a:ext cx="1390680" cy="657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545760" y="739152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Mobilitä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Revision of ECE R41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41040" y="1145880"/>
            <a:ext cx="88599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SEP Concept for Motorcycles</a:t>
            </a: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8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By Heinz Steven</a:t>
            </a: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  <a:p>
            <a:pPr marL="303120"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20.02.2007</a:t>
            </a:r>
            <a:endParaRPr b="1" lang="en-US" sz="1600" spc="-1" strike="noStrike">
              <a:solidFill>
                <a:srgbClr val="00cc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09400" y="929880"/>
            <a:ext cx="9793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heck the noise emission behaviour of a motorcycle for driving conditions that occur in real world traffic but are not covered by the ISO 362-2 test(s) (not to exceed concept). This should especially include driving conditions on rural roads. 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he checks should make sure that the noise emission behaviour of the motorcycle under these conditions does not deviate significantly from what one would expect from the ISO 362-2 results.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Aim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09400" y="929880"/>
            <a:ext cx="10009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170028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ehicle speeds between 20 km/h (v_AA’) and 80 km/h (v_BB’)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170028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ngine speeds at BB’ up to 0.85*(s – n_idle) + n_idle for pmr &lt;= 66,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170028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up to 3,4105*pmr-0,3315* (s – n_idle) + n_idle,  for pmr &gt; 66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70028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70028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with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 – rated engine speed in min-1,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70028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_idle – idling speed in min-1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70028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mr = P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in kW/(m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in kg +75)*1000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70028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70028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mr is the power to mass ratio index. This is the rated power of the vehicle (P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) in kW di-vided by the kerb mass of the vehicle (m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) in kg + 75 (to account for the mass of the driver) and multiplied by 1000.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ASEP test area limitations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ASEP test area limitations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9760" y="857160"/>
            <a:ext cx="96487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ASEP test area limitations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680" y="857160"/>
            <a:ext cx="10009080" cy="62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9400" y="929880"/>
            <a:ext cx="9793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The reference point is L_wot_i, the wot test result from ISO 362-2 in gear i and n_PP_i, the corresponding engine speed at PP’.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For engine speeds within the test area but other than n_PP_i a slope has to be defined in order to take into account that the the noise emission increases with engine speed.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The slope might be different for engine speeds below and above n_PP_i.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5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In addition to that it may be necessary to consider an additional tolerance value of x dB.  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Reference Point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Example for an ASEP limit curve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8120" y="857160"/>
            <a:ext cx="9720360" cy="6051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25000" y="1001880"/>
            <a:ext cx="0" cy="5329080"/>
          </a:xfrm>
          <a:prstGeom prst="line">
            <a:avLst/>
          </a:prstGeom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94480" y="4386240"/>
            <a:ext cx="439236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ference point, 3000  min</a:t>
            </a:r>
            <a:r>
              <a:rPr b="1" lang="de-DE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, 74 dB(A), (tolerance to be add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8120" y="2009880"/>
            <a:ext cx="16560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_max AS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09400" y="929880"/>
            <a:ext cx="9793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he data of the ECE R41 test campaign in 2006 do not allow the definition of a complete ASEP test. Additional data has to be collected in order to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fine the appropriate ASEP limit curve (slope; tolerance),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-40320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30000"/>
              <a:buFont typeface="Wingdings" charset="2"/>
              <a:buChar char=""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dentify the appropriate PMR threshold value below which it may be not necessary to apply ASEP tests.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-303120">
              <a:spcBef>
                <a:spcPts val="601"/>
              </a:spcBef>
              <a:spcAft>
                <a:spcPts val="601"/>
              </a:spcAft>
              <a:buClr>
                <a:srgbClr val="008000"/>
              </a:buClr>
              <a:buSzPct val="130000"/>
              <a:buFont typeface="Arial"/>
              <a:buChar char="•"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 test protocol was developed by the R41 task force that defines 3 different driving conditions (vehicle and engine speeds and gear selection) to be used for test campaigns.</a:t>
            </a: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lvl="1" marL="907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  <a:p>
            <a:pPr marL="303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1" lang="en-US" sz="2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Tests to be done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25400" y="3594240"/>
            <a:ext cx="9288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47520" anchor="t">
            <a:normAutofit/>
          </a:bodyPr>
          <a:p>
            <a:pPr marL="30312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Thank You   </a:t>
            </a:r>
            <a:endParaRPr b="1" lang="en-US" sz="20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3400" y="234360"/>
            <a:ext cx="10009080" cy="480240"/>
          </a:xfrm>
          <a:prstGeom prst="rect">
            <a:avLst/>
          </a:prstGeom>
          <a:noFill/>
          <a:ln w="0">
            <a:noFill/>
          </a:ln>
        </p:spPr>
        <p:txBody>
          <a:bodyPr lIns="243000" rIns="2430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Revision of ECE R41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0:44:36Z</dcterms:created>
  <dc:creator>Heinz Steven</dc:creator>
  <dc:description/>
  <cp:keywords/>
  <dc:language>en-US</dc:language>
  <cp:lastModifiedBy>Heinz Steven</cp:lastModifiedBy>
  <cp:lastPrinted>1997-03-27T18:20:28Z</cp:lastPrinted>
  <dcterms:modified xsi:type="dcterms:W3CDTF">2007-02-20T08:32:39Z</dcterms:modified>
  <cp:revision>81</cp:revision>
  <dc:subject/>
  <dc:title>Motorcycle Noise Emission</dc:title>
</cp:coreProperties>
</file>