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666413" cy="7621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62156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5120" y="2114640"/>
            <a:ext cx="926316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25120" y="4413240"/>
            <a:ext cx="926316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62156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25120" y="2114640"/>
            <a:ext cx="452016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571720" y="2114640"/>
            <a:ext cx="452016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25120" y="4413240"/>
            <a:ext cx="452016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571720" y="4413240"/>
            <a:ext cx="452016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62156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5120" y="2114640"/>
            <a:ext cx="298260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57120" y="2114640"/>
            <a:ext cx="298260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089480" y="2114640"/>
            <a:ext cx="298260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25120" y="4413240"/>
            <a:ext cx="298260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57120" y="4413240"/>
            <a:ext cx="298260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089480" y="4413240"/>
            <a:ext cx="298260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62156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25120" y="2114640"/>
            <a:ext cx="926316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62156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5120" y="2114640"/>
            <a:ext cx="926316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62156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25120" y="2114640"/>
            <a:ext cx="452016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571720" y="2114640"/>
            <a:ext cx="452016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62156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151920"/>
            <a:ext cx="7621560" cy="22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62156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5120" y="2114640"/>
            <a:ext cx="452016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71720" y="2114640"/>
            <a:ext cx="452016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25120" y="4413240"/>
            <a:ext cx="452016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62156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5120" y="2114640"/>
            <a:ext cx="452016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71720" y="2114640"/>
            <a:ext cx="452016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571720" y="4413240"/>
            <a:ext cx="452016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62156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5120" y="2114640"/>
            <a:ext cx="452016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71720" y="2114640"/>
            <a:ext cx="452016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25120" y="4413240"/>
            <a:ext cx="926316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25120" y="2114640"/>
            <a:ext cx="926316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marL="303120" indent="-303120">
              <a:buClr>
                <a:srgbClr val="00cc00"/>
              </a:buClr>
              <a:buSzPct val="150000"/>
              <a:buFont typeface="Arial"/>
              <a:buChar char="•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  <a:p>
            <a:pPr lvl="1" marL="907920" indent="-403200">
              <a:buClr>
                <a:srgbClr val="00cc00"/>
              </a:buClr>
              <a:buFont typeface="Wingdings" charset="2"/>
              <a:buChar char="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  <a:p>
            <a:pPr lvl="2" marL="1343160" indent="-233640">
              <a:buClr>
                <a:srgbClr val="00cc00"/>
              </a:buClr>
              <a:buSzPct val="80000"/>
              <a:buFont typeface="Arial"/>
              <a:buChar char="o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  <a:p>
            <a:pPr lvl="3" marL="1778040" indent="-235080">
              <a:buClr>
                <a:srgbClr val="00cc00"/>
              </a:buClr>
              <a:buSzPct val="90000"/>
              <a:buFont typeface="Arial"/>
              <a:buChar char="–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  <a:p>
            <a:pPr lvl="4" marL="2209680" indent="-231480">
              <a:buClr>
                <a:srgbClr val="00cc00"/>
              </a:buClr>
              <a:buSzPct val="60000"/>
              <a:buFont typeface="Arial"/>
              <a:buChar char="•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  <a:p>
            <a:pPr lvl="5" marL="2209680" indent="-231480">
              <a:buClr>
                <a:srgbClr val="000000"/>
              </a:buClr>
              <a:buSzPct val="60000"/>
              <a:buFont typeface="Arial"/>
              <a:buChar char="•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  <a:p>
            <a:pPr lvl="6" marL="2209680" indent="-231480">
              <a:buClr>
                <a:srgbClr val="000000"/>
              </a:buClr>
              <a:buSzPct val="60000"/>
              <a:buFont typeface="Arial"/>
              <a:buChar char="•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110960" y="6904080"/>
            <a:ext cx="298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6840" y="151920"/>
            <a:ext cx="762156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7162920"/>
            <a:ext cx="4092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0" bIns="122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0920"/>
                <a:tab algn="l" pos="8775720"/>
                <a:tab algn="l" pos="9872640"/>
                <a:tab algn="l" pos="1096956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IFM, Institute for Vehicle Technology and Mobi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H="1">
            <a:off x="304920" y="762120"/>
            <a:ext cx="1005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295960" y="731520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F430C-CBD6-4087-9922-3A1C6AE2627C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743360" y="3462480"/>
            <a:ext cx="10668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9078840" y="6762600"/>
            <a:ext cx="1390680" cy="6573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9545760" y="7391520"/>
            <a:ext cx="100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Mobilitä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93400" y="234360"/>
            <a:ext cx="1000908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Arial"/>
              </a:rPr>
              <a:t>Revision of ECE R41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41040" y="1145880"/>
            <a:ext cx="8859960" cy="561636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800" spc="-1" strike="noStrike">
              <a:solidFill>
                <a:srgbClr val="00cc00"/>
              </a:solidFill>
              <a:latin typeface="Arial"/>
            </a:endParaRPr>
          </a:p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800" spc="-1" strike="noStrike">
              <a:solidFill>
                <a:srgbClr val="00cc00"/>
              </a:solidFill>
              <a:latin typeface="Arial"/>
            </a:endParaRPr>
          </a:p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ASEP Concept for Motorcycles</a:t>
            </a:r>
            <a:endParaRPr b="1" lang="en-US" sz="2800" spc="-1" strike="noStrike">
              <a:solidFill>
                <a:srgbClr val="00cc00"/>
              </a:solidFill>
              <a:latin typeface="Arial"/>
            </a:endParaRPr>
          </a:p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800" spc="-1" strike="noStrike">
              <a:solidFill>
                <a:srgbClr val="00cc00"/>
              </a:solidFill>
              <a:latin typeface="Arial"/>
            </a:endParaRPr>
          </a:p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800" spc="-1" strike="noStrike">
              <a:solidFill>
                <a:srgbClr val="00cc00"/>
              </a:solidFill>
              <a:latin typeface="Arial"/>
            </a:endParaRPr>
          </a:p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1600" spc="-1" strike="noStrike">
              <a:solidFill>
                <a:srgbClr val="00cc00"/>
              </a:solidFill>
              <a:latin typeface="Arial"/>
            </a:endParaRPr>
          </a:p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1600" spc="-1" strike="noStrike">
              <a:solidFill>
                <a:srgbClr val="00cc00"/>
              </a:solidFill>
              <a:latin typeface="Arial"/>
            </a:endParaRPr>
          </a:p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1600" spc="-1" strike="noStrike">
              <a:solidFill>
                <a:srgbClr val="00cc00"/>
              </a:solidFill>
              <a:latin typeface="Arial"/>
            </a:endParaRPr>
          </a:p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1600" spc="-1" strike="noStrike">
              <a:solidFill>
                <a:srgbClr val="00cc00"/>
              </a:solidFill>
              <a:latin typeface="Arial"/>
            </a:endParaRPr>
          </a:p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GB" sz="1600" spc="-1" strike="noStrike">
                <a:solidFill>
                  <a:srgbClr val="008000"/>
                </a:solidFill>
                <a:latin typeface="Arial"/>
              </a:rPr>
              <a:t>By Heinz Steven</a:t>
            </a:r>
            <a:endParaRPr b="1" lang="en-US" sz="1600" spc="-1" strike="noStrike">
              <a:solidFill>
                <a:srgbClr val="00cc00"/>
              </a:solidFill>
              <a:latin typeface="Arial"/>
            </a:endParaRPr>
          </a:p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1600" spc="-1" strike="noStrike">
              <a:solidFill>
                <a:srgbClr val="00cc00"/>
              </a:solidFill>
              <a:latin typeface="Arial"/>
            </a:endParaRPr>
          </a:p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1600" spc="-1" strike="noStrike">
              <a:solidFill>
                <a:srgbClr val="00cc00"/>
              </a:solidFill>
              <a:latin typeface="Arial"/>
            </a:endParaRPr>
          </a:p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1600" spc="-1" strike="noStrike">
              <a:solidFill>
                <a:srgbClr val="00cc00"/>
              </a:solidFill>
              <a:latin typeface="Arial"/>
            </a:endParaRPr>
          </a:p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1600" spc="-1" strike="noStrike">
              <a:solidFill>
                <a:srgbClr val="00cc00"/>
              </a:solidFill>
              <a:latin typeface="Arial"/>
            </a:endParaRPr>
          </a:p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GB" sz="1600" spc="-1" strike="noStrike">
                <a:solidFill>
                  <a:srgbClr val="008000"/>
                </a:solidFill>
                <a:latin typeface="Arial"/>
              </a:rPr>
              <a:t>20.02.2007</a:t>
            </a:r>
            <a:endParaRPr b="1" lang="en-US" sz="1600" spc="-1" strike="noStrike">
              <a:solidFill>
                <a:srgbClr val="00cc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09400" y="929880"/>
            <a:ext cx="9793080" cy="583236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marL="303120" indent="-303120">
              <a:spcBef>
                <a:spcPts val="601"/>
              </a:spcBef>
              <a:spcAft>
                <a:spcPts val="601"/>
              </a:spcAft>
              <a:buClr>
                <a:srgbClr val="008000"/>
              </a:buClr>
              <a:buSzPct val="130000"/>
              <a:buFont typeface="Arial"/>
              <a:buChar char="•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Check the noise emission behaviour of a motorcycle for driving conditions that occur in real world traffic but are not covered by the ISO 362-2 test(s) (not to exceed concept). This should especially include driving conditions on rural roads. </a:t>
            </a: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  <a:p>
            <a:pPr marL="303120" indent="-303120">
              <a:spcBef>
                <a:spcPts val="601"/>
              </a:spcBef>
              <a:spcAft>
                <a:spcPts val="601"/>
              </a:spcAft>
              <a:buClr>
                <a:srgbClr val="008000"/>
              </a:buClr>
              <a:buSzPct val="130000"/>
              <a:buFont typeface="Arial"/>
              <a:buChar char="•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The checks should make sure that the noise emission behaviour of the motorcycle under these conditions does not deviate significantly from what one would expect from the ISO 362-2 results.</a:t>
            </a: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93400" y="234360"/>
            <a:ext cx="1000908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Arial"/>
              </a:rPr>
              <a:t>Aim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09400" y="929880"/>
            <a:ext cx="10009080" cy="583236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marL="303120" indent="-303120">
              <a:spcBef>
                <a:spcPts val="601"/>
              </a:spcBef>
              <a:spcAft>
                <a:spcPts val="601"/>
              </a:spcAft>
              <a:buClr>
                <a:srgbClr val="008000"/>
              </a:buClr>
              <a:buSzPct val="130000"/>
              <a:buFont typeface="Arial"/>
              <a:buChar char="•"/>
              <a:tabLst>
                <a:tab algn="l" pos="170028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Vehicle speeds between 20 km/h (v_AA’) and 80 km/h (v_BB’)</a:t>
            </a: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  <a:p>
            <a:pPr marL="303120" indent="-303120">
              <a:spcBef>
                <a:spcPts val="601"/>
              </a:spcBef>
              <a:spcAft>
                <a:spcPts val="601"/>
              </a:spcAft>
              <a:buClr>
                <a:srgbClr val="008000"/>
              </a:buClr>
              <a:buSzPct val="130000"/>
              <a:buFont typeface="Arial"/>
              <a:buChar char="•"/>
              <a:tabLst>
                <a:tab algn="l" pos="170028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Engine speeds at BB’ up to 0.85*(s – n_idle) + n_idle for pmr &lt;= 66,</a:t>
            </a: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  <a:p>
            <a:pPr marL="303120" indent="-303120">
              <a:spcBef>
                <a:spcPts val="601"/>
              </a:spcBef>
              <a:spcAft>
                <a:spcPts val="601"/>
              </a:spcAft>
              <a:buClr>
                <a:srgbClr val="008000"/>
              </a:buClr>
              <a:buSzPct val="130000"/>
              <a:buFont typeface="Arial"/>
              <a:buChar char="•"/>
              <a:tabLst>
                <a:tab algn="l" pos="170028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up to 3,4105*pmr-0,3315* (s – n_idle) + n_idle,  for pmr &gt; 66</a:t>
            </a: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  <a:p>
            <a:pPr marL="3031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70028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  <a:p>
            <a:pPr marL="3031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70028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with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s – rated engine speed in min-1,</a:t>
            </a: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  <a:p>
            <a:pPr marL="3031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70028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n_idle – idling speed in min-1</a:t>
            </a: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  <a:p>
            <a:pPr marL="3031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70028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pmr = P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in kW/(m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in kg +75)*1000</a:t>
            </a: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  <a:p>
            <a:pPr marL="3031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70028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  <a:p>
            <a:pPr marL="3031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70028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pmr is the power to mass ratio index. This is the rated power of the vehicle (P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) in kW di-vided by the kerb mass of the vehicle (m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) in kg + 75 (to account for the mass of the driver) and multiplied by 1000.</a:t>
            </a: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293400" y="234360"/>
            <a:ext cx="1000908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Arial"/>
              </a:rPr>
              <a:t>ASEP test area limitations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3400" y="234360"/>
            <a:ext cx="1000908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Arial"/>
              </a:rPr>
              <a:t>ASEP test area limitations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09760" y="857160"/>
            <a:ext cx="9648720" cy="60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93400" y="234360"/>
            <a:ext cx="1000908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Arial"/>
              </a:rPr>
              <a:t>ASEP test area limitations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0680" y="857160"/>
            <a:ext cx="10009080" cy="62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09400" y="929880"/>
            <a:ext cx="9793080" cy="583236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marL="303120" indent="-303120">
              <a:spcBef>
                <a:spcPts val="601"/>
              </a:spcBef>
              <a:spcAft>
                <a:spcPts val="601"/>
              </a:spcAft>
              <a:buClr>
                <a:srgbClr val="008000"/>
              </a:buClr>
              <a:buSzPct val="150000"/>
              <a:buFont typeface="Arial"/>
              <a:buChar char="•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Arial"/>
              </a:rPr>
              <a:t>The reference point is L_wot_i, the wot test result from ISO 362-2 in gear i and n_PP_i, the corresponding engine speed at PP’.</a:t>
            </a: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  <a:p>
            <a:pPr marL="303120" indent="-303120">
              <a:spcBef>
                <a:spcPts val="601"/>
              </a:spcBef>
              <a:spcAft>
                <a:spcPts val="601"/>
              </a:spcAft>
              <a:buClr>
                <a:srgbClr val="008000"/>
              </a:buClr>
              <a:buSzPct val="150000"/>
              <a:buFont typeface="Arial"/>
              <a:buChar char="•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Arial"/>
              </a:rPr>
              <a:t>For engine speeds within the test area but other than n_PP_i a slope has to be defined in order to take into account that the the noise emission increases with engine speed.</a:t>
            </a: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  <a:p>
            <a:pPr marL="303120" indent="-303120">
              <a:spcBef>
                <a:spcPts val="601"/>
              </a:spcBef>
              <a:spcAft>
                <a:spcPts val="601"/>
              </a:spcAft>
              <a:buClr>
                <a:srgbClr val="008000"/>
              </a:buClr>
              <a:buSzPct val="150000"/>
              <a:buFont typeface="Arial"/>
              <a:buChar char="•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Arial"/>
              </a:rPr>
              <a:t>The slope might be different for engine speeds below and above n_PP_i.</a:t>
            </a: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  <a:p>
            <a:pPr marL="303120" indent="-303120">
              <a:spcBef>
                <a:spcPts val="601"/>
              </a:spcBef>
              <a:spcAft>
                <a:spcPts val="601"/>
              </a:spcAft>
              <a:buClr>
                <a:srgbClr val="008000"/>
              </a:buClr>
              <a:buSzPct val="150000"/>
              <a:buFont typeface="Arial"/>
              <a:buChar char="•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Arial"/>
              </a:rPr>
              <a:t>In addition to that it may be necessary to consider an additional tolerance value of x dB.  </a:t>
            </a: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293400" y="234360"/>
            <a:ext cx="1000908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Arial"/>
              </a:rPr>
              <a:t>Reference Point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93400" y="234360"/>
            <a:ext cx="1000908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Arial"/>
              </a:rPr>
              <a:t>Example for an ASEP limit curve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38120" y="857160"/>
            <a:ext cx="9720360" cy="6051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8325000" y="1001880"/>
            <a:ext cx="0" cy="5329080"/>
          </a:xfrm>
          <a:prstGeom prst="line">
            <a:avLst/>
          </a:prstGeom>
          <a:ln w="316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94480" y="4386240"/>
            <a:ext cx="4392360" cy="58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ference point, 3000  min</a:t>
            </a:r>
            <a:r>
              <a:rPr b="1" lang="de-DE" sz="1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, 74 dB(A), (tolerance to be add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58120" y="2009880"/>
            <a:ext cx="1656000" cy="33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_max AS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509400" y="929880"/>
            <a:ext cx="9793080" cy="583236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marL="303120" indent="-303120">
              <a:spcBef>
                <a:spcPts val="601"/>
              </a:spcBef>
              <a:spcAft>
                <a:spcPts val="601"/>
              </a:spcAft>
              <a:buClr>
                <a:srgbClr val="008000"/>
              </a:buClr>
              <a:buSzPct val="130000"/>
              <a:buFont typeface="Arial"/>
              <a:buChar char="•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The data of the ECE R41 test campaign in 2006 do not allow the definition of a complete ASEP test. Additional data has to be collected in order to</a:t>
            </a: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  <a:p>
            <a:pPr lvl="1" marL="907920" indent="-403200">
              <a:spcBef>
                <a:spcPts val="601"/>
              </a:spcBef>
              <a:spcAft>
                <a:spcPts val="601"/>
              </a:spcAft>
              <a:buClr>
                <a:srgbClr val="008000"/>
              </a:buClr>
              <a:buSzPct val="130000"/>
              <a:buFont typeface="Wingdings" charset="2"/>
              <a:buChar char=""/>
              <a:tabLst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define the appropriate ASEP limit curve (slope; tolerance),</a:t>
            </a: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  <a:p>
            <a:pPr lvl="1" marL="907920" indent="-403200">
              <a:spcBef>
                <a:spcPts val="601"/>
              </a:spcBef>
              <a:spcAft>
                <a:spcPts val="601"/>
              </a:spcAft>
              <a:buClr>
                <a:srgbClr val="008000"/>
              </a:buClr>
              <a:buSzPct val="130000"/>
              <a:buFont typeface="Wingdings" charset="2"/>
              <a:buChar char=""/>
              <a:tabLst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identify the appropriate PMR threshold value below which it may be not necessary to apply ASEP tests.</a:t>
            </a: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  <a:p>
            <a:pPr marL="303120" indent="-303120">
              <a:spcBef>
                <a:spcPts val="601"/>
              </a:spcBef>
              <a:spcAft>
                <a:spcPts val="601"/>
              </a:spcAft>
              <a:buClr>
                <a:srgbClr val="008000"/>
              </a:buClr>
              <a:buSzPct val="130000"/>
              <a:buFont typeface="Arial"/>
              <a:buChar char="•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A test protocol was developed by the R41 task force that defines 3 different driving conditions (vehicle and engine speeds and gear selection) to be used for test campaigns.</a:t>
            </a: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  <a:p>
            <a:pPr lvl="1" marL="9079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  <a:p>
            <a:pPr marL="3031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293400" y="234360"/>
            <a:ext cx="1000908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Arial"/>
              </a:rPr>
              <a:t>Tests to be done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725400" y="3594240"/>
            <a:ext cx="928872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marL="30312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Thank You   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3400" y="234360"/>
            <a:ext cx="1000908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Arial"/>
              </a:rPr>
              <a:t>Revision of ECE R41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4T10:44:36Z</dcterms:created>
  <dc:creator>Heinz Steven</dc:creator>
  <dc:description/>
  <cp:keywords/>
  <dc:language>en-US</dc:language>
  <cp:lastModifiedBy>Heinz Steven</cp:lastModifiedBy>
  <cp:lastPrinted>1997-03-27T18:20:28Z</cp:lastPrinted>
  <dcterms:modified xsi:type="dcterms:W3CDTF">2007-02-20T08:32:39Z</dcterms:modified>
  <cp:revision>81</cp:revision>
  <dc:subject/>
  <dc:title>Motorcycle Noise Emission</dc:title>
</cp:coreProperties>
</file>