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F720-3EF6-4E6C-A08A-D3418D816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BA53-F6E7-47A1-9C61-ABF96AE2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7F28-6F18-452D-A026-BD4648EDF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C8DB-DE5B-4046-8364-CC9450DA7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299E-DA14-44C5-A1CA-80B62716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5137-57CE-4A4A-B1C2-65FB1E5C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4AFE-7E1A-48E2-9D12-E4151962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0877-75D8-4306-A5E2-7BCD8963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7E99-575F-4E8D-A2B0-00139B75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CE96-713E-4A21-9C20-6AF58FB7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C6AB-164E-40BA-88B1-FF2BD97B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FB55-4034-430F-972B-D58B3520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6F69-8C25-4555-9BE0-0B12D64A2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676160"/>
            <a:ext cx="896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0000"/>
                </a:solidFill>
                <a:latin typeface="Arial"/>
              </a:rPr>
              <a:t>FRONTAL COLLISION OF B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27672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ormation learned from the ECBOS Summary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380880"/>
            <a:ext cx="30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05520" y="43434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r MATOLCSY Máty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0"/>
            <a:ext cx="4572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formal document No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SG-90-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RSG, 24-28 April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 item 1.4.7.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80880"/>
            <a:ext cx="434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tted by the expert from Hung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181440" y="-360"/>
            <a:ext cx="93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cc0000"/>
                </a:solidFill>
                <a:latin typeface="Arial"/>
              </a:rPr>
              <a:t>DRIVER/PASSENGER (D/P) INJURY RA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496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8000"/>
                </a:solidFill>
                <a:latin typeface="Arial"/>
              </a:rPr>
              <a:t>Comparison between ECBOS data and earlier estima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42100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5040">
              <a:spcBef>
                <a:spcPts val="2276"/>
              </a:spcBef>
              <a:tabLst>
                <a:tab algn="l" pos="0"/>
                <a:tab algn="l" pos="712800"/>
                <a:tab algn="l" pos="3949560"/>
                <a:tab algn="l" pos="574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220500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92440"/>
                <a:tab algn="l" pos="2871720"/>
                <a:tab algn="l" pos="3584520"/>
                <a:tab algn="l" pos="5386320"/>
                <a:tab algn="l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16000" y="1844640"/>
          <a:ext cx="8820000" cy="3710160"/>
        </p:xfrm>
        <a:graphic>
          <a:graphicData uri="http://schemas.openxmlformats.org/drawingml/2006/table">
            <a:tbl>
              <a:tblPr/>
              <a:tblGrid>
                <a:gridCol w="3060720"/>
                <a:gridCol w="1989000"/>
                <a:gridCol w="1920960"/>
                <a:gridCol w="1849320"/>
              </a:tblGrid>
              <a:tr h="85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/P fatality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/P serious injury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/P injury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BOS min.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BOS max.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BOS aver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: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ese data (1992-9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man data (197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 data (1971-9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nish data (1984-8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: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: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: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: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: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: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250920" y="609300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Arial"/>
              </a:rPr>
              <a:t>All types of bus accidents are consi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181440" y="-360"/>
            <a:ext cx="93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cc0000"/>
                </a:solidFill>
                <a:latin typeface="Arial"/>
              </a:rPr>
              <a:t>DRIVER/PASSENGER (D/P) INJURY RA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496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8000"/>
                </a:solidFill>
                <a:latin typeface="Arial"/>
              </a:rPr>
              <a:t>Japanese data (1992-94) for D/P casualty rat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42100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5040">
              <a:spcBef>
                <a:spcPts val="2276"/>
              </a:spcBef>
              <a:tabLst>
                <a:tab algn="l" pos="0"/>
                <a:tab algn="l" pos="712800"/>
                <a:tab algn="l" pos="3949560"/>
                <a:tab algn="l" pos="574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220500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92440"/>
                <a:tab algn="l" pos="2871720"/>
                <a:tab algn="l" pos="3584520"/>
                <a:tab algn="l" pos="5386320"/>
                <a:tab algn="l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4076640"/>
            <a:ext cx="88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00"/>
                </a:solidFill>
                <a:latin typeface="Arial"/>
              </a:rPr>
              <a:t>In frontal collisions the estimated ranges for D/P casualty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162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00"/>
                </a:solidFill>
                <a:latin typeface="Arial"/>
              </a:rPr>
              <a:t>fatality</a:t>
            </a:r>
            <a:r>
              <a:rPr b="0" lang="en-GB" sz="24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3300"/>
                </a:solidFill>
                <a:latin typeface="Arial"/>
              </a:rPr>
              <a:t>(10 </a:t>
            </a:r>
            <a:r>
              <a:rPr b="0" lang="en-GB" sz="2400" spc="-1" strike="noStrike">
                <a:solidFill>
                  <a:srgbClr val="993300"/>
                </a:solidFill>
                <a:latin typeface="Arial"/>
                <a:ea typeface="Arial"/>
              </a:rPr>
              <a:t>~ 100) 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162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00"/>
                </a:solidFill>
                <a:latin typeface="Arial"/>
                <a:ea typeface="Arial"/>
              </a:rPr>
              <a:t>serious injury</a:t>
            </a:r>
            <a:r>
              <a:rPr b="0" lang="en-GB" sz="24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993300"/>
                </a:solidFill>
                <a:latin typeface="Arial"/>
                <a:ea typeface="Arial"/>
              </a:rPr>
              <a:t>    (6 ~ 20) 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162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00"/>
                </a:solidFill>
                <a:latin typeface="Arial"/>
                <a:ea typeface="Arial"/>
              </a:rPr>
              <a:t>slight injury</a:t>
            </a:r>
            <a:r>
              <a:rPr b="0" lang="en-GB" sz="24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993300"/>
                </a:solidFill>
                <a:latin typeface="Arial"/>
                <a:ea typeface="Arial"/>
              </a:rPr>
              <a:t>      (3 ~ 6) 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95280" y="1989000"/>
          <a:ext cx="8424720" cy="1787760"/>
        </p:xfrm>
        <a:graphic>
          <a:graphicData uri="http://schemas.openxmlformats.org/drawingml/2006/table">
            <a:tbl>
              <a:tblPr/>
              <a:tblGrid>
                <a:gridCol w="2664000"/>
                <a:gridCol w="2952720"/>
                <a:gridCol w="280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ual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all bus accid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frontal collis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ta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ious inju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ight inju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: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: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: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: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: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: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181440" y="-360"/>
            <a:ext cx="93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cc0000"/>
                </a:solidFill>
                <a:latin typeface="Arial"/>
              </a:rPr>
              <a:t>CONCLUSIONS, PROPOSALS OF THE ECBO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49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75960" indent="-75960">
              <a:lnSpc>
                <a:spcPct val="8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3pt seat belt in (correct restraining of childr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5960" indent="-75960">
              <a:lnSpc>
                <a:spcPct val="8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eat regulations (R14, R8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5960" indent="-75960">
              <a:lnSpc>
                <a:spcPct val="8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cify deceleration pulse for M2 veh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5960" indent="-75960">
              <a:lnSpc>
                <a:spcPct val="8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ect driver / co-driver in frontal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5960" indent="-75960">
              <a:lnSpc>
                <a:spcPct val="8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rove compatibility between buses and other veh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cc0000"/>
                </a:solidFill>
                <a:latin typeface="Arial"/>
              </a:rPr>
              <a:t>PROPOSAL OF AN EXPERT GROUP</a:t>
            </a:r>
            <a:r>
              <a:rPr b="0" lang="hu-HU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cc0000"/>
                </a:solidFill>
                <a:latin typeface="Arial"/>
              </a:rPr>
              <a:t>(MADRID MEET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578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This table was presented in the inform.doc. GRSG-87-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2133720"/>
            <a:ext cx="864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08000" y="2205000"/>
          <a:ext cx="8893080" cy="2778120"/>
        </p:xfrm>
        <a:graphic>
          <a:graphicData uri="http://schemas.openxmlformats.org/drawingml/2006/table">
            <a:tbl>
              <a:tblPr/>
              <a:tblGrid>
                <a:gridCol w="371520"/>
                <a:gridCol w="2444760"/>
                <a:gridCol w="1360440"/>
                <a:gridCol w="1224000"/>
                <a:gridCol w="1225440"/>
                <a:gridCol w="1008000"/>
                <a:gridCol w="12589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ject of regulatory 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ed ECE reg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ed E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re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onsible W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po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or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ation of needed 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ength of bus seats and their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horag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eral safety of buses (all kin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rnal proj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fety belt ancho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uctural integr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derrun prot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mit of decel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tibility and agress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.80/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.17/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.1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/Rev.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.61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.14/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.16/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.107/Rev.1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.93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/676-03/20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/85/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/115-96/38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/541-00/3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/85/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/114/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S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S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S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S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S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468360" y="5013360"/>
            <a:ext cx="849636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ymbo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 =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irst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 =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econd step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*  =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t could be an independent new regulation, to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 =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hort work, less than 2 years, it does not need further study and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 =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edium size work, 2-4 years, it needs certain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 =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ong term work, more then 4 years, further study, analysis, international discussion is nee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GENERAL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49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8000"/>
                </a:solidFill>
                <a:latin typeface="Arial"/>
              </a:rPr>
              <a:t>The accident analysis (statistics) of ECBOS project cov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2205000"/>
            <a:ext cx="8424720" cy="33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2332080"/>
                <a:tab algn="l" pos="3949560"/>
                <a:tab algn="l" pos="574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 years period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994-199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332080"/>
                <a:tab algn="l" pos="3949560"/>
                <a:tab algn="l" pos="574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2332080"/>
                <a:tab algn="l" pos="3949560"/>
                <a:tab algn="l" pos="574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 EU countries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rman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2332080"/>
                <a:tab algn="l" pos="3949560"/>
                <a:tab algn="l" pos="574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stri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al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2332080"/>
                <a:tab algn="l" pos="3949560"/>
                <a:tab algn="l" pos="574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w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2332080"/>
                <a:tab algn="l" pos="3949560"/>
                <a:tab algn="l" pos="574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2332080"/>
                <a:tab algn="l" pos="3949560"/>
                <a:tab algn="l" pos="574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s categories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M2(above 16 passengers)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2332080"/>
                <a:tab algn="l" pos="3949560"/>
                <a:tab algn="l" pos="574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no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milarly in the 8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GENERAL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49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Types of accid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16360" y="1773360"/>
            <a:ext cx="604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2332080"/>
                <a:tab algn="l" pos="3949560"/>
                <a:tab algn="l" pos="574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87640" y="1989000"/>
            <a:ext cx="6048360" cy="41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ntal coll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ntal acc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l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ertu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s runs out of road / turns off the 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de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r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 acc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n collision acc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known type of acc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GENERAL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3137040"/>
                <a:tab algn="l" pos="6456240"/>
                <a:tab algn="l" pos="67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The statistics are based on</a:t>
            </a:r>
            <a:r>
              <a:rPr b="0" lang="en-GB" sz="23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8 EU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575"/>
              </a:spcBef>
              <a:buNone/>
              <a:tabLst>
                <a:tab algn="l" pos="0"/>
                <a:tab algn="l" pos="3137040"/>
                <a:tab algn="l" pos="6456240"/>
                <a:tab algn="l" pos="6729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575"/>
              </a:spcBef>
              <a:buNone/>
              <a:tabLst>
                <a:tab algn="l" pos="0"/>
                <a:tab algn="l" pos="3137040"/>
                <a:tab algn="l" pos="6456240"/>
                <a:tab algn="l" pos="67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 whole community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25 EU countr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575"/>
              </a:spcBef>
              <a:buNone/>
              <a:tabLst>
                <a:tab algn="l" pos="0"/>
                <a:tab algn="l" pos="3137040"/>
                <a:tab algn="l" pos="6456240"/>
                <a:tab algn="l" pos="6729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575"/>
              </a:spcBef>
              <a:buNone/>
              <a:tabLst>
                <a:tab algn="l" pos="0"/>
                <a:tab algn="l" pos="3137040"/>
                <a:tab algn="l" pos="6456240"/>
                <a:tab algn="l" pos="67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Whole Europe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43 countr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575"/>
              </a:spcBef>
              <a:buNone/>
              <a:tabLst>
                <a:tab algn="l" pos="0"/>
                <a:tab algn="l" pos="3137040"/>
                <a:tab algn="l" pos="6456240"/>
                <a:tab algn="l" pos="6729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575"/>
              </a:spcBef>
              <a:buNone/>
              <a:tabLst>
                <a:tab algn="l" pos="0"/>
                <a:tab algn="l" pos="3137040"/>
                <a:tab algn="l" pos="6456240"/>
                <a:tab algn="l" pos="67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ntracting parties of 1958 Geneva Agreement 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43 countries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575"/>
              </a:spcBef>
              <a:buNone/>
              <a:tabLst>
                <a:tab algn="l" pos="0"/>
                <a:tab algn="l" pos="3137040"/>
                <a:tab algn="l" pos="6456240"/>
                <a:tab algn="l" pos="67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ntracting parties of R107 bus regulation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35 countr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575"/>
              </a:spcBef>
              <a:buNone/>
              <a:tabLst>
                <a:tab algn="l" pos="0"/>
                <a:tab algn="l" pos="3137040"/>
                <a:tab algn="l" pos="6456240"/>
                <a:tab algn="l" pos="6729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575"/>
              </a:spcBef>
              <a:buNone/>
              <a:tabLst>
                <a:tab algn="l" pos="0"/>
                <a:tab algn="l" pos="3137040"/>
                <a:tab algn="l" pos="6456240"/>
                <a:tab algn="l" pos="67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ntracting parties of R.66 roof strength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regulation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32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1773360"/>
            <a:ext cx="604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2332080"/>
                <a:tab algn="l" pos="3949560"/>
                <a:tab algn="l" pos="574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Arial"/>
              </a:rPr>
              <a:t>GENERAL INFORM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849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Definitions used for casua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16360" y="1773360"/>
            <a:ext cx="604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2332080"/>
                <a:tab algn="l" pos="3949560"/>
                <a:tab algn="l" pos="574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557360"/>
            <a:ext cx="8675640" cy="52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804960"/>
                <a:tab algn="l" pos="322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50021"/>
                </a:solidFill>
                <a:latin typeface="Arial"/>
              </a:rPr>
              <a:t>Fat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accident / at the sc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804960"/>
                <a:tab algn="l" pos="322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1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804960"/>
                <a:tab algn="l" pos="322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6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804960"/>
                <a:tab algn="l" pos="322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7 da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804960"/>
                <a:tab algn="l" pos="322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30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804960"/>
                <a:tab algn="l" pos="322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50021"/>
                </a:solidFill>
                <a:latin typeface="Arial"/>
              </a:rPr>
              <a:t>Serious injur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spitalized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804960"/>
                <a:tab algn="l" pos="322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than 1 day in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804960"/>
                <a:tab algn="l" pos="322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than 3 days in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804960"/>
                <a:tab algn="l" pos="322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than 6 days in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804960"/>
                <a:tab algn="l" pos="322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50021"/>
                </a:solidFill>
                <a:latin typeface="Arial"/>
              </a:rPr>
              <a:t>Slight injur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ryone who needs medical treatment, but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need for hospitalization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804960"/>
                <a:tab algn="l" pos="322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50021"/>
                </a:solidFill>
                <a:latin typeface="Arial"/>
              </a:rPr>
              <a:t>Injury without specific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used in 3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804960"/>
                <a:tab algn="l" pos="322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804960"/>
                <a:tab algn="l" pos="322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*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the number of slight injuries is generally underreported in polic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ort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ys ECBO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500" spc="-1" strike="noStrike">
                <a:solidFill>
                  <a:srgbClr val="cc0000"/>
                </a:solidFill>
                <a:latin typeface="Arial"/>
              </a:rPr>
              <a:t>INJURY RATIOS IN FRONTAL COLLIS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1773360"/>
            <a:ext cx="604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2332080"/>
                <a:tab algn="l" pos="3949560"/>
                <a:tab algn="l" pos="574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8360" y="1125360"/>
          <a:ext cx="8229600" cy="3959280"/>
        </p:xfrm>
        <a:graphic>
          <a:graphicData uri="http://schemas.openxmlformats.org/drawingml/2006/table">
            <a:tbl>
              <a:tblPr/>
              <a:tblGrid>
                <a:gridCol w="1511280"/>
                <a:gridCol w="2521080"/>
                <a:gridCol w="1871640"/>
                <a:gridCol w="2325600"/>
              </a:tblGrid>
              <a:tr h="121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ntal accident casualties compared to all bus accident casual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talities related to all casualties in frontal acci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ntal accidents fatalities compared to all fatalities in bus acci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ria </a:t>
                      </a:r>
                      <a:r>
                        <a:rPr b="0" lang="en-GB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herla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e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1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0 %</a:t>
                      </a: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,7 %</a:t>
                      </a: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(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6 %</a:t>
                      </a: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(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0 %</a:t>
                      </a: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(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7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7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,3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ma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35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detailed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detailed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539640" y="5229360"/>
            <a:ext cx="8604360" cy="16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1079640"/>
                <a:tab algn="l" pos="134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emarks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1) The ratio of unknown / not specified accidents is high, 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1079640"/>
                <a:tab algn="l" pos="134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)  The „frontal impact” is emphasized instead of „frontal acciden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1079640"/>
                <a:tab algn="l" pos="134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3)  On city road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on rural roads this figure is 46,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1079640"/>
                <a:tab algn="l" pos="134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4)  Without frontal collisions against fixed obstacles (only against vehicl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1079640"/>
                <a:tab algn="l" pos="134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5)  Only collisions with other vehicles are counted. „Single vehicle accidents” (e.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1079640"/>
                <a:tab algn="l" pos="134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ntal collision with rigid objects, rollover) cover 31,4% of the total casualt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81440" y="-360"/>
            <a:ext cx="93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cc0000"/>
                </a:solidFill>
                <a:latin typeface="Arial"/>
              </a:rPr>
              <a:t>DRIVER/PASSENGER (D/P) INJURY RA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49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8000"/>
                </a:solidFill>
                <a:latin typeface="Arial"/>
              </a:rPr>
              <a:t>Assumptions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773360"/>
            <a:ext cx="9144000" cy="44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>
              <a:spcBef>
                <a:spcPts val="1500"/>
              </a:spcBef>
              <a:buClr>
                <a:srgbClr val="333399"/>
              </a:buClr>
              <a:buFont typeface="Arial"/>
              <a:buAutoNum type="alphaLcParenR"/>
              <a:tabLst>
                <a:tab algn="l" pos="2332080"/>
                <a:tab algn="l" pos="3949560"/>
                <a:tab algn="l" pos="574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D/P injury probability (IP) in different accident sit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52440" indent="-36036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2332080"/>
                <a:tab algn="l" pos="3949560"/>
                <a:tab algn="l" pos="574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n frontal impact the </a:t>
            </a:r>
            <a:r>
              <a:rPr b="1" lang="en-GB" sz="2100" spc="-1" strike="noStrike">
                <a:solidFill>
                  <a:srgbClr val="000066"/>
                </a:solidFill>
                <a:latin typeface="Arial"/>
              </a:rPr>
              <a:t>driver has higher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IP than the passeng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52440" indent="-36036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2332080"/>
                <a:tab algn="l" pos="3949560"/>
                <a:tab algn="l" pos="574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n side impact the </a:t>
            </a:r>
            <a:r>
              <a:rPr b="1" lang="en-GB" sz="2100" spc="-1" strike="noStrike">
                <a:solidFill>
                  <a:srgbClr val="000066"/>
                </a:solidFill>
                <a:latin typeface="Arial"/>
              </a:rPr>
              <a:t>driver has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100" spc="-1" strike="noStrike">
                <a:solidFill>
                  <a:srgbClr val="000066"/>
                </a:solidFill>
                <a:latin typeface="Arial"/>
              </a:rPr>
              <a:t>lower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IP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52440" indent="-36036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2332080"/>
                <a:tab algn="l" pos="3949560"/>
                <a:tab algn="l" pos="574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n rear impact the </a:t>
            </a:r>
            <a:r>
              <a:rPr b="1" lang="en-GB" sz="2100" spc="-1" strike="noStrike">
                <a:solidFill>
                  <a:srgbClr val="000066"/>
                </a:solidFill>
                <a:latin typeface="Arial"/>
              </a:rPr>
              <a:t>driver has lower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I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52440" indent="-36036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2332080"/>
                <a:tab algn="l" pos="3949560"/>
                <a:tab algn="l" pos="574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n rollover </a:t>
            </a:r>
            <a:r>
              <a:rPr b="1" lang="en-GB" sz="2100" spc="-1" strike="noStrike">
                <a:solidFill>
                  <a:srgbClr val="000066"/>
                </a:solidFill>
                <a:latin typeface="Arial"/>
              </a:rPr>
              <a:t>they have equal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I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52440" indent="-36036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2332080"/>
                <a:tab algn="l" pos="3949560"/>
                <a:tab algn="l" pos="574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n non impact type accidents the </a:t>
            </a:r>
            <a:r>
              <a:rPr b="1" lang="en-GB" sz="2100" spc="-1" strike="noStrike">
                <a:solidFill>
                  <a:srgbClr val="000066"/>
                </a:solidFill>
                <a:latin typeface="Arial"/>
              </a:rPr>
              <a:t>driver has lower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I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52440" indent="-36036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2332080"/>
                <a:tab algn="l" pos="3949560"/>
                <a:tab algn="l" pos="574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spcBef>
                <a:spcPts val="1749"/>
              </a:spcBef>
              <a:tabLst>
                <a:tab algn="l" pos="0"/>
                <a:tab algn="l" pos="2332080"/>
                <a:tab algn="l" pos="3949560"/>
                <a:tab algn="l" pos="574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Only the frontal impact is more dangerous for the driver than for the passen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181440" y="-360"/>
            <a:ext cx="93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cc0000"/>
                </a:solidFill>
                <a:latin typeface="Arial"/>
              </a:rPr>
              <a:t>DRIVER/PASSENGER (D/P) INJURY RA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9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8000"/>
                </a:solidFill>
                <a:latin typeface="Arial"/>
              </a:rPr>
              <a:t>Assumptions</a:t>
            </a:r>
            <a:r>
              <a:rPr b="0" lang="hu-HU" sz="33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3300" spc="-1" strike="noStrike">
                <a:solidFill>
                  <a:srgbClr val="008000"/>
                </a:solidFill>
                <a:latin typeface="Arial"/>
              </a:rPr>
              <a:t>(cont</a:t>
            </a:r>
            <a:r>
              <a:rPr b="0" lang="hu-HU" sz="3300" spc="-1" strike="noStrike">
                <a:solidFill>
                  <a:srgbClr val="008000"/>
                </a:solidFill>
                <a:latin typeface="Arial"/>
              </a:rPr>
              <a:t>.)</a:t>
            </a:r>
            <a:r>
              <a:rPr b="0" lang="en-GB" sz="3300" spc="-1" strike="noStrike">
                <a:solidFill>
                  <a:srgbClr val="008000"/>
                </a:solidFill>
                <a:latin typeface="Arial"/>
              </a:rPr>
              <a:t>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421000"/>
            <a:ext cx="914400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5040">
              <a:spcBef>
                <a:spcPts val="1950"/>
              </a:spcBef>
              <a:buClr>
                <a:srgbClr val="333399"/>
              </a:buClr>
              <a:buFont typeface="Arial"/>
              <a:buAutoNum type="alphaLcParenR" startAt="2"/>
              <a:tabLst>
                <a:tab algn="l" pos="987480"/>
                <a:tab algn="l" pos="3949560"/>
                <a:tab algn="l" pos="574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he average passenger capacity of a bus is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5040">
              <a:spcBef>
                <a:spcPts val="1950"/>
              </a:spcBef>
              <a:buClr>
                <a:srgbClr val="333399"/>
              </a:buClr>
              <a:buFont typeface="Arial"/>
              <a:buAutoNum type="alphaLcParenR" startAt="2"/>
              <a:tabLst>
                <a:tab algn="l" pos="987480"/>
                <a:tab algn="l" pos="3949560"/>
                <a:tab algn="l" pos="574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he buses are fully loaded in the acc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5040">
              <a:spcBef>
                <a:spcPts val="1950"/>
              </a:spcBef>
              <a:buClr>
                <a:srgbClr val="333399"/>
              </a:buClr>
              <a:buFont typeface="Arial"/>
              <a:buAutoNum type="alphaLcParenR" startAt="2"/>
              <a:tabLst>
                <a:tab algn="l" pos="987480"/>
                <a:tab algn="l" pos="3949560"/>
                <a:tab algn="l" pos="574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he IP is equal for all passengers in frontal coll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5040">
              <a:spcBef>
                <a:spcPts val="1950"/>
              </a:spcBef>
              <a:buClr>
                <a:srgbClr val="333399"/>
              </a:buClr>
              <a:buFont typeface="Arial"/>
              <a:buAutoNum type="alphaLcParenR" startAt="2"/>
              <a:tabLst>
                <a:tab algn="l" pos="987480"/>
                <a:tab algn="l" pos="3949560"/>
                <a:tab algn="l" pos="574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5040">
              <a:spcBef>
                <a:spcPts val="1749"/>
              </a:spcBef>
              <a:tabLst>
                <a:tab algn="l" pos="0"/>
                <a:tab algn="l" pos="987480"/>
                <a:tab algn="l" pos="3949560"/>
                <a:tab algn="l" pos="574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These assumptions contain simplifications, but they help to recognise general tend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181440" y="-360"/>
            <a:ext cx="93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cc0000"/>
                </a:solidFill>
                <a:latin typeface="Arial"/>
              </a:rPr>
              <a:t>DRIVER/PASSENGER (D/P) INJURY RA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9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8000"/>
                </a:solidFill>
                <a:latin typeface="Arial"/>
              </a:rPr>
              <a:t>From the ECBOS statistic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2100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5040">
              <a:spcBef>
                <a:spcPts val="2276"/>
              </a:spcBef>
              <a:tabLst>
                <a:tab algn="l" pos="0"/>
                <a:tab algn="l" pos="712800"/>
                <a:tab algn="l" pos="3949560"/>
                <a:tab algn="l" pos="574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2205000"/>
            <a:ext cx="89647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92440"/>
                <a:tab algn="l" pos="2871720"/>
                <a:tab algn="l" pos="3584520"/>
                <a:tab algn="l" pos="5386320"/>
                <a:tab algn="l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/P fatality r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/P injury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92440"/>
                <a:tab algn="l" pos="2871720"/>
                <a:tab algn="l" pos="3584520"/>
                <a:tab algn="l" pos="5386320"/>
                <a:tab algn="l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str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(3/29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10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: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08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92440"/>
                <a:tab algn="l" pos="2871720"/>
                <a:tab algn="l" pos="3584520"/>
                <a:tab algn="l" pos="5386320"/>
                <a:tab algn="l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ance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(16/98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16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8: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13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7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92440"/>
                <a:tab algn="l" pos="2871720"/>
                <a:tab algn="l" pos="3584520"/>
                <a:tab algn="l" pos="5386320"/>
                <a:tab algn="l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rmany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hu-HU" sz="1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0/75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27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3: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11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92440"/>
                <a:tab algn="l" pos="2871720"/>
                <a:tab algn="l" pos="3584520"/>
                <a:tab algn="l" pos="5386320"/>
                <a:tab algn="l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K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(6/93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06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: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09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92440"/>
                <a:tab algn="l" pos="2871720"/>
                <a:tab algn="l" pos="3584520"/>
                <a:tab algn="l" pos="5386320"/>
                <a:tab algn="l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al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(30/74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41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0: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16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8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92440"/>
                <a:tab algn="l" pos="2871720"/>
                <a:tab algn="l" pos="3584520"/>
                <a:tab algn="l" pos="5386320"/>
                <a:tab algn="l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(1/8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12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: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18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9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92440"/>
                <a:tab algn="l" pos="2871720"/>
                <a:tab algn="l" pos="3584520"/>
                <a:tab algn="l" pos="5386320"/>
                <a:tab algn="l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ain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(24/176)</a:t>
            </a:r>
            <a:r>
              <a:rPr b="0" lang="hu-H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14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7: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09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: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92440"/>
                <a:tab algn="l" pos="2871720"/>
                <a:tab algn="l" pos="3584520"/>
                <a:tab algn="l" pos="5386320"/>
                <a:tab algn="l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weden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333399"/>
                </a:solidFill>
                <a:latin typeface="Arial"/>
              </a:rPr>
              <a:t>(4/10)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,40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20:1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,40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20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92440"/>
                <a:tab algn="l" pos="2871720"/>
                <a:tab algn="l" pos="3584520"/>
                <a:tab algn="l" pos="5386320"/>
                <a:tab algn="l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92440"/>
                <a:tab algn="l" pos="2871720"/>
                <a:tab algn="l" pos="3584520"/>
                <a:tab algn="l" pos="5386320"/>
                <a:tab algn="l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verag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333399"/>
                </a:solidFill>
                <a:latin typeface="Arial"/>
              </a:rPr>
              <a:t>104/563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,18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9:1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,16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8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616572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3:13:41Z</dcterms:created>
  <dc:creator>Eri</dc:creator>
  <dc:description/>
  <dc:language>en-US</dc:language>
  <cp:lastModifiedBy>Dzintars</cp:lastModifiedBy>
  <dcterms:modified xsi:type="dcterms:W3CDTF">2006-04-25T16:52:01Z</dcterms:modified>
  <cp:revision>11</cp:revision>
  <dc:subject/>
  <dc:title>FRONTAL COLLISION OF BUSES</dc:title>
</cp:coreProperties>
</file>