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445-ABFD-481D-B1F7-98A6F67A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96D-6DC7-49A7-8763-E695669A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E9AE-44C3-4DEA-AD67-BC62B1A5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D99-0445-4951-8262-17945821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C52-EC3B-4297-A7A7-06E9B135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96EC-AA2C-4363-9804-A9770E15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38A-F117-489E-96F3-78B51970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2E90-0B2F-4EAD-A029-512AAE72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3BD-4D86-4DB2-BD18-A00E2065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C4D-6A99-4F76-AC67-3929B55A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48F5-2EE4-484B-921C-5C5D9C9D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89B-1189-462E-85DC-0FEB6A35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7668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1-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S-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h e   E u r o p e a n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 y r e   a n d   R i m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6CD2-CE54-4BFB-81AB-024D867B18AE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New Categories of Agricultural Tyres 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‘IF’  : Improved Flexion Tyre 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‘VF’ : Very High Flexion Tyre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nd UN/ECE Regulation No.10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569440" y="17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400536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6264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62800" y="6138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304920"/>
            <a:ext cx="2971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 N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GRRF-51-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59th GRRF, 30 January - 3 February 2006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genda item 5.5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66E6-FCAF-4006-AAD6-05B23EC927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F’  : Improved Flexion Tyre 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‘VF’ : Very High Flexion Tyre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Objectives of these concepts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569440" y="17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58560" y="2276640"/>
            <a:ext cx="8785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ver the user’s needs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k at low pressure in the fields to reduce the soi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un on the road without adjusting the inflation pres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ing on th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6600" y="6264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62800" y="6138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E52-685A-4307-8E23-54E862F1A9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569440" y="17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9640" y="2276280"/>
            <a:ext cx="85330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re resistant carcass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 corresponding standard ty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e at higher defl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without any adjustment of the inflation pressure in the field and on the 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6600" y="6264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62800" y="6138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F’  : Improved Flexion Tyre 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‘VF’ : Very High Flexion Tyre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Main features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A1CC-C6FB-4DBC-B454-1FEA81136A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569440" y="17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39640" y="2636640"/>
            <a:ext cx="565164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ar Service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erating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ad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6600" y="6264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62800" y="6138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F’  : Improved Flexion Tyre 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‘VF’ : Very High Flexion Tyre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echnical Challenges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482-8D81-4F0E-9752-2AD4BF76C0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569440" y="17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6600" y="6264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62800" y="6138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7383600" cy="3695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020000" y="4076640"/>
            <a:ext cx="1584360" cy="1008000"/>
          </a:xfrm>
          <a:prstGeom prst="leftArrow">
            <a:avLst>
              <a:gd name="adj1" fmla="val 50000"/>
              <a:gd name="adj2" fmla="val 392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80360" y="4221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urrent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308720" y="2852640"/>
            <a:ext cx="1655640" cy="1152360"/>
            <a:chOff x="7308720" y="2852640"/>
            <a:chExt cx="1655640" cy="1152360"/>
          </a:xfrm>
        </p:grpSpPr>
        <p:sp>
          <p:nvSpPr>
            <p:cNvPr id="70" name=""/>
            <p:cNvSpPr/>
            <p:nvPr/>
          </p:nvSpPr>
          <p:spPr>
            <a:xfrm>
              <a:off x="7308720" y="2852640"/>
              <a:ext cx="1655640" cy="1152360"/>
            </a:xfrm>
            <a:prstGeom prst="leftArrow">
              <a:avLst>
                <a:gd name="adj1" fmla="val 50000"/>
                <a:gd name="adj2" fmla="val 35918"/>
              </a:avLst>
            </a:prstGeom>
            <a:solidFill>
              <a:srgbClr val="fea0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9560" y="3183120"/>
              <a:ext cx="1504800" cy="368280"/>
            </a:xfrm>
            <a:prstGeom prst="rect">
              <a:avLst/>
            </a:prstGeom>
            <a:solidFill>
              <a:srgbClr val="fea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&amp;V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F’  : Improved Flexion Tyre 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‘VF’ : Very High Flexion Tyre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How does it work?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C22-8628-47BE-AFA0-5C22C5311F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5" presetSubtype="10" repeatCount="1000">
                                  <p:stCondLst>
                                    <p:cond delay="15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569440" y="17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6600" y="6264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048360" cy="4121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04000" y="2276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F :+ 4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32720" y="2781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IF : +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386064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11640" y="386064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386064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6000" y="386064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F’  : Improved Flexion Tyre 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‘VF’ : Very High Flexion Tyre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Load/pressure relationship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ADF-3101-44CF-B970-F66AE9C7EC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569440" y="17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55640" y="2637000"/>
            <a:ext cx="75614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ow soil comp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mproved crop yield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mproved wet and dry 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ime and fuel s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mproved ride comf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afety through road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6600" y="6264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62800" y="6138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F’  : Improved Flexion Tyre 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‘VF’ : Very High Flexion Tyre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enefits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DFA-C36B-4F09-9BAB-ACB179DB4C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893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F’ and ‘VF’ Tyres</a:t>
            </a:r>
            <a:br>
              <a:rPr sz="3200"/>
            </a:b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Proposed amendment of UN/ECE Regulation 106</a:t>
            </a:r>
            <a:br>
              <a:rPr sz="2800"/>
            </a:b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(Document Trans/WP29/GRRF/2005/15/Rev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69440" y="17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55280" y="2349000"/>
            <a:ext cx="7777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initions ‘IF’ and ‘VF’ ty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’ or ‘VF’ before the nominal section 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 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710/70 R 4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F 710/70 R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 variation of load depending on the sp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&gt;  Table in annex 7 is not appli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6600" y="6264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62800" y="6138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174-71CD-429C-96BB-67626C5C5F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1267920"/>
            <a:ext cx="88930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New Categories of  Tyres 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‘IF’  : Improved Flexion Tyre 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‘VF’ : Very High Flexion Tyre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nd UN/ECE Regulation 10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569440" y="17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71640" y="3789360"/>
            <a:ext cx="770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ank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 you have 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6600" y="6264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62800" y="6138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C55-3117-4608-9F45-227AE039A7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12:02:21Z</dcterms:created>
  <dc:creator>ETRTO</dc:creator>
  <dc:description/>
  <dc:language>en-US</dc:language>
  <cp:lastModifiedBy>Hubert</cp:lastModifiedBy>
  <dcterms:modified xsi:type="dcterms:W3CDTF">2006-01-30T17:15:43Z</dcterms:modified>
  <cp:revision>103</cp:revision>
  <dc:subject/>
  <dc:title>TITRE</dc:title>
</cp:coreProperties>
</file>