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9.wmf" ContentType="image/x-wmf"/>
  <Override PartName="/ppt/media/image10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83390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3600" y="3647520"/>
            <a:ext cx="83390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36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68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83120" y="83304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2640" y="83304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63600" y="364752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83120" y="364752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2640" y="364752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3600" y="833040"/>
            <a:ext cx="83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11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83390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73080" y="-12960"/>
            <a:ext cx="584676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1199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36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63600" y="833040"/>
            <a:ext cx="83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11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68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3600" y="3647520"/>
            <a:ext cx="83390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83390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3600" y="3647520"/>
            <a:ext cx="83390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36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68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3120" y="83304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2640" y="83304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3600" y="364752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3120" y="364752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2640" y="364752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63600" y="833040"/>
            <a:ext cx="8339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11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83390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83390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73080" y="-12960"/>
            <a:ext cx="584676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1199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636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368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63600" y="3647520"/>
            <a:ext cx="83390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83390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3600" y="3647520"/>
            <a:ext cx="83390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636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368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83120" y="83304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2640" y="83304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63600" y="364752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83120" y="364752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2640" y="3647520"/>
            <a:ext cx="268488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773080" y="-12960"/>
            <a:ext cx="584676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1199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636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800" y="364752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36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6800" y="833040"/>
            <a:ext cx="40694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3600" y="3647520"/>
            <a:ext cx="8339040" cy="2570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indent="0">
              <a:lnSpc>
                <a:spcPct val="88000"/>
              </a:lnSpc>
              <a:spcBef>
                <a:spcPts val="11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093080" y="6219720"/>
            <a:ext cx="1823760" cy="324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87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5769000"/>
          </a:xfrm>
          <a:prstGeom prst="rect">
            <a:avLst/>
          </a:prstGeom>
          <a:solidFill>
            <a:srgbClr val="ded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2600"/>
          </a:xfrm>
          <a:prstGeom prst="rect">
            <a:avLst/>
          </a:prstGeom>
          <a:gradFill rotWithShape="0">
            <a:gsLst>
              <a:gs pos="0">
                <a:srgbClr val="666567"/>
              </a:gs>
              <a:gs pos="50000">
                <a:srgbClr val="dedde0"/>
              </a:gs>
              <a:gs pos="100000">
                <a:srgbClr val="666567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50920" y="982800"/>
            <a:ext cx="864216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5769000"/>
            <a:ext cx="9144000" cy="17928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7690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93080" y="6219720"/>
            <a:ext cx="1823760" cy="32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7920" y="597852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8532720" y="5702400"/>
            <a:ext cx="596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73DD-0F38-4B6D-A6B0-4D790FF5E695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363600" y="833040"/>
            <a:ext cx="83390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marL="276120" indent="-276120">
              <a:lnSpc>
                <a:spcPct val="88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20680">
              <a:lnSpc>
                <a:spcPct val="88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6640" indent="-223920">
              <a:lnSpc>
                <a:spcPct val="88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»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92200" indent="-164880">
              <a:lnSpc>
                <a:spcPct val="88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6800" indent="-166680">
              <a:lnSpc>
                <a:spcPct val="88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6800" indent="-166680">
              <a:lnSpc>
                <a:spcPct val="88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6800" indent="-166680">
              <a:lnSpc>
                <a:spcPct val="88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500" spc="-1" strike="noStrike">
                <a:solidFill>
                  <a:srgbClr val="fe0606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90960" y="6470640"/>
            <a:ext cx="4805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fe060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21200" y="6473880"/>
            <a:ext cx="73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CDAAAC-01F1-41F6-86C9-6983636AB3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674640"/>
            <a:ext cx="68961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0" r="58341" b="0"/>
          <a:stretch/>
        </p:blipFill>
        <p:spPr>
          <a:xfrm>
            <a:off x="255600" y="289080"/>
            <a:ext cx="1508040" cy="54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5400" y="3444840"/>
            <a:ext cx="70866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4800" spc="-1" strike="noStrike">
                <a:solidFill>
                  <a:srgbClr val="fe0606"/>
                </a:solidFill>
                <a:latin typeface="Arial"/>
              </a:rPr>
              <a:t>5th meeting of GRB Informal Group ‘ASEP’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e0606"/>
                </a:solidFill>
                <a:latin typeface="Arial"/>
              </a:rPr>
              <a:t>Potentials of exhaust systems with valves</a:t>
            </a:r>
            <a:endParaRPr b="0" lang="en-US" sz="48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360" y="6005520"/>
            <a:ext cx="43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ilip Dö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248560" y="2598840"/>
            <a:ext cx="444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6520" y="1892160"/>
            <a:ext cx="8907480" cy="3862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31960" y="-12960"/>
            <a:ext cx="6888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500" spc="-1" strike="noStrike">
                <a:solidFill>
                  <a:srgbClr val="fe0606"/>
                </a:solidFill>
                <a:latin typeface="Arial"/>
              </a:rPr>
              <a:t>Valves in exhaust systems : general overview of possible acoustical efficiency improvements</a:t>
            </a: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51080" y="3201840"/>
            <a:ext cx="2671560" cy="1687680"/>
          </a:xfrm>
          <a:custGeom>
            <a:avLst/>
            <a:gdLst/>
            <a:ahLst/>
            <a:rect l="l" t="t" r="r" b="b"/>
            <a:pathLst>
              <a:path w="1683" h="1063">
                <a:moveTo>
                  <a:pt x="0" y="1063"/>
                </a:moveTo>
                <a:cubicBezTo>
                  <a:pt x="135" y="1042"/>
                  <a:pt x="270" y="1022"/>
                  <a:pt x="434" y="966"/>
                </a:cubicBezTo>
                <a:cubicBezTo>
                  <a:pt x="598" y="910"/>
                  <a:pt x="816" y="822"/>
                  <a:pt x="983" y="726"/>
                </a:cubicBezTo>
                <a:cubicBezTo>
                  <a:pt x="1150" y="630"/>
                  <a:pt x="1318" y="511"/>
                  <a:pt x="1435" y="390"/>
                </a:cubicBezTo>
                <a:cubicBezTo>
                  <a:pt x="1552" y="269"/>
                  <a:pt x="1640" y="93"/>
                  <a:pt x="1683" y="0"/>
                </a:cubicBezTo>
              </a:path>
            </a:pathLst>
          </a:custGeom>
          <a:noFill/>
          <a:ln w="28440">
            <a:solidFill>
              <a:srgbClr val="fe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91200" y="2892600"/>
            <a:ext cx="1420560" cy="1996920"/>
          </a:xfrm>
          <a:custGeom>
            <a:avLst/>
            <a:gdLst/>
            <a:ahLst/>
            <a:rect l="l" t="t" r="r" b="b"/>
            <a:pathLst>
              <a:path w="895" h="1258">
                <a:moveTo>
                  <a:pt x="0" y="0"/>
                </a:moveTo>
                <a:cubicBezTo>
                  <a:pt x="13" y="157"/>
                  <a:pt x="27" y="315"/>
                  <a:pt x="71" y="452"/>
                </a:cubicBezTo>
                <a:cubicBezTo>
                  <a:pt x="115" y="589"/>
                  <a:pt x="175" y="707"/>
                  <a:pt x="266" y="824"/>
                </a:cubicBezTo>
                <a:cubicBezTo>
                  <a:pt x="357" y="941"/>
                  <a:pt x="515" y="1080"/>
                  <a:pt x="620" y="1152"/>
                </a:cubicBezTo>
                <a:cubicBezTo>
                  <a:pt x="725" y="1224"/>
                  <a:pt x="856" y="1242"/>
                  <a:pt x="895" y="1258"/>
                </a:cubicBezTo>
              </a:path>
            </a:pathLst>
          </a:custGeom>
          <a:noFill/>
          <a:ln w="28440">
            <a:solidFill>
              <a:srgbClr val="fe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94560" y="5315040"/>
            <a:ext cx="24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30640" y="1330200"/>
            <a:ext cx="24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530064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03760" y="1917720"/>
            <a:ext cx="24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14680" y="2514600"/>
            <a:ext cx="928800" cy="1000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616360" y="2530440"/>
            <a:ext cx="871560" cy="1100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24920" y="2324160"/>
            <a:ext cx="202788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Passive exhaus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646600" y="3160800"/>
            <a:ext cx="843120" cy="1028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1800" y="3059280"/>
            <a:ext cx="800280" cy="885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29960" y="2882880"/>
            <a:ext cx="233244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e0606"/>
                </a:solidFill>
                <a:latin typeface="Arial"/>
              </a:rPr>
              <a:t>Exhaust systems with a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4640" y="2325600"/>
            <a:ext cx="224100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Passive exhaust systems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6520" y="2884320"/>
            <a:ext cx="233244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e0606"/>
                </a:solidFill>
                <a:latin typeface="Arial"/>
              </a:rPr>
              <a:t>Exhaust systems with a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63600" y="833040"/>
            <a:ext cx="833904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marL="276120" indent="-276120">
              <a:lnSpc>
                <a:spcPct val="88000"/>
              </a:lnSpc>
              <a:spcBef>
                <a:spcPts val="104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lve closed at low exhaust gas volum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lnSpc>
                <a:spcPct val="88000"/>
              </a:lnSpc>
              <a:spcBef>
                <a:spcPts val="104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lve opens automatically at high exhaust gas volum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BE" sz="2500" spc="-1" strike="noStrike">
                <a:solidFill>
                  <a:srgbClr val="fe0606"/>
                </a:solidFill>
                <a:latin typeface="Arial"/>
              </a:rPr>
              <a:t>Example of a silencer equiped with an auto-actuated valve</a:t>
            </a: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71880" y="1554120"/>
            <a:ext cx="318600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676600" y="2457360"/>
            <a:ext cx="625320" cy="453240"/>
            <a:chOff x="2676600" y="2457360"/>
            <a:chExt cx="625320" cy="453240"/>
          </a:xfrm>
        </p:grpSpPr>
        <p:grpSp>
          <p:nvGrpSpPr>
            <p:cNvPr id="146" name=""/>
            <p:cNvGrpSpPr/>
            <p:nvPr/>
          </p:nvGrpSpPr>
          <p:grpSpPr>
            <a:xfrm>
              <a:off x="2676600" y="2457360"/>
              <a:ext cx="625320" cy="453240"/>
              <a:chOff x="2676600" y="2457360"/>
              <a:chExt cx="625320" cy="453240"/>
            </a:xfrm>
          </p:grpSpPr>
          <p:sp>
            <p:nvSpPr>
              <p:cNvPr id="147" name=""/>
              <p:cNvSpPr/>
              <p:nvPr/>
            </p:nvSpPr>
            <p:spPr>
              <a:xfrm>
                <a:off x="2676600" y="2457360"/>
                <a:ext cx="625320" cy="45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676600" y="2910600"/>
                <a:ext cx="62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676600" y="2457360"/>
              <a:ext cx="62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306600" y="245592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186000" y="2644920"/>
            <a:ext cx="244440" cy="75960"/>
            <a:chOff x="3186000" y="2644920"/>
            <a:chExt cx="244440" cy="75960"/>
          </a:xfrm>
        </p:grpSpPr>
        <p:grpSp>
          <p:nvGrpSpPr>
            <p:cNvPr id="152" name=""/>
            <p:cNvGrpSpPr/>
            <p:nvPr/>
          </p:nvGrpSpPr>
          <p:grpSpPr>
            <a:xfrm>
              <a:off x="3186000" y="2644920"/>
              <a:ext cx="244440" cy="75960"/>
              <a:chOff x="3186000" y="2644920"/>
              <a:chExt cx="244440" cy="75960"/>
            </a:xfrm>
          </p:grpSpPr>
          <p:sp>
            <p:nvSpPr>
              <p:cNvPr id="153" name=""/>
              <p:cNvSpPr/>
              <p:nvPr/>
            </p:nvSpPr>
            <p:spPr>
              <a:xfrm>
                <a:off x="3186000" y="2644920"/>
                <a:ext cx="244440" cy="7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186000" y="2720880"/>
                <a:ext cx="24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186000" y="264492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005280" y="2682720"/>
            <a:ext cx="78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7920" y="2532240"/>
            <a:ext cx="0" cy="30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3200" y="246708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4480" y="1541520"/>
            <a:ext cx="0" cy="16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22840" y="2182680"/>
            <a:ext cx="3186000" cy="258840"/>
            <a:chOff x="3822840" y="2182680"/>
            <a:chExt cx="3186000" cy="258840"/>
          </a:xfrm>
        </p:grpSpPr>
        <p:grpSp>
          <p:nvGrpSpPr>
            <p:cNvPr id="161" name=""/>
            <p:cNvGrpSpPr/>
            <p:nvPr/>
          </p:nvGrpSpPr>
          <p:grpSpPr>
            <a:xfrm>
              <a:off x="3822840" y="2182680"/>
              <a:ext cx="3186000" cy="258840"/>
              <a:chOff x="3822840" y="2182680"/>
              <a:chExt cx="3186000" cy="258840"/>
            </a:xfrm>
          </p:grpSpPr>
          <p:sp>
            <p:nvSpPr>
              <p:cNvPr id="162" name=""/>
              <p:cNvSpPr/>
              <p:nvPr/>
            </p:nvSpPr>
            <p:spPr>
              <a:xfrm>
                <a:off x="3822840" y="2182680"/>
                <a:ext cx="318600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822840" y="2441520"/>
                <a:ext cx="31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3822840" y="2182680"/>
              <a:ext cx="31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822840" y="2554200"/>
            <a:ext cx="3186000" cy="258840"/>
            <a:chOff x="3822840" y="2554200"/>
            <a:chExt cx="3186000" cy="258840"/>
          </a:xfrm>
        </p:grpSpPr>
        <p:grpSp>
          <p:nvGrpSpPr>
            <p:cNvPr id="166" name=""/>
            <p:cNvGrpSpPr/>
            <p:nvPr/>
          </p:nvGrpSpPr>
          <p:grpSpPr>
            <a:xfrm>
              <a:off x="3822840" y="2554200"/>
              <a:ext cx="3186000" cy="258840"/>
              <a:chOff x="3822840" y="2554200"/>
              <a:chExt cx="3186000" cy="258840"/>
            </a:xfrm>
          </p:grpSpPr>
          <p:sp>
            <p:nvSpPr>
              <p:cNvPr id="167" name=""/>
              <p:cNvSpPr/>
              <p:nvPr/>
            </p:nvSpPr>
            <p:spPr>
              <a:xfrm>
                <a:off x="3822840" y="2554200"/>
                <a:ext cx="318600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22840" y="2813040"/>
                <a:ext cx="31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822840" y="2554200"/>
              <a:ext cx="31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921120" y="1627200"/>
            <a:ext cx="117360" cy="115920"/>
            <a:chOff x="3921120" y="1627200"/>
            <a:chExt cx="117360" cy="115920"/>
          </a:xfrm>
        </p:grpSpPr>
        <p:grpSp>
          <p:nvGrpSpPr>
            <p:cNvPr id="171" name=""/>
            <p:cNvGrpSpPr/>
            <p:nvPr/>
          </p:nvGrpSpPr>
          <p:grpSpPr>
            <a:xfrm>
              <a:off x="3921120" y="1627200"/>
              <a:ext cx="117360" cy="115920"/>
              <a:chOff x="3921120" y="1627200"/>
              <a:chExt cx="117360" cy="115920"/>
            </a:xfrm>
          </p:grpSpPr>
          <p:sp>
            <p:nvSpPr>
              <p:cNvPr id="172" name=""/>
              <p:cNvSpPr/>
              <p:nvPr/>
            </p:nvSpPr>
            <p:spPr>
              <a:xfrm>
                <a:off x="3921120" y="1627200"/>
                <a:ext cx="117360" cy="11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21120" y="174312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921120" y="16272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933720" y="2960640"/>
            <a:ext cx="117720" cy="115920"/>
            <a:chOff x="3933720" y="2960640"/>
            <a:chExt cx="117720" cy="115920"/>
          </a:xfrm>
        </p:grpSpPr>
        <p:grpSp>
          <p:nvGrpSpPr>
            <p:cNvPr id="176" name=""/>
            <p:cNvGrpSpPr/>
            <p:nvPr/>
          </p:nvGrpSpPr>
          <p:grpSpPr>
            <a:xfrm>
              <a:off x="3933720" y="2960640"/>
              <a:ext cx="117720" cy="115920"/>
              <a:chOff x="3933720" y="2960640"/>
              <a:chExt cx="117720" cy="115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933720" y="2960640"/>
                <a:ext cx="117720" cy="11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33720" y="3076560"/>
                <a:ext cx="11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3933720" y="296064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095720" y="1679400"/>
            <a:ext cx="341280" cy="260640"/>
          </a:xfrm>
          <a:custGeom>
            <a:avLst/>
            <a:gdLst/>
            <a:ahLst/>
            <a:rect l="l" t="t" r="r" b="b"/>
            <a:pathLst>
              <a:path w="215" h="189">
                <a:moveTo>
                  <a:pt x="0" y="184"/>
                </a:moveTo>
                <a:cubicBezTo>
                  <a:pt x="26" y="186"/>
                  <a:pt x="52" y="189"/>
                  <a:pt x="82" y="184"/>
                </a:cubicBezTo>
                <a:cubicBezTo>
                  <a:pt x="112" y="179"/>
                  <a:pt x="159" y="169"/>
                  <a:pt x="181" y="151"/>
                </a:cubicBezTo>
                <a:cubicBezTo>
                  <a:pt x="203" y="133"/>
                  <a:pt x="215" y="99"/>
                  <a:pt x="214" y="77"/>
                </a:cubicBezTo>
                <a:cubicBezTo>
                  <a:pt x="213" y="55"/>
                  <a:pt x="195" y="31"/>
                  <a:pt x="173" y="19"/>
                </a:cubicBezTo>
                <a:cubicBezTo>
                  <a:pt x="151" y="7"/>
                  <a:pt x="111" y="6"/>
                  <a:pt x="82" y="3"/>
                </a:cubicBezTo>
                <a:cubicBezTo>
                  <a:pt x="53" y="0"/>
                  <a:pt x="26" y="1"/>
                  <a:pt x="0" y="3"/>
                </a:cubicBezTo>
              </a:path>
            </a:pathLst>
          </a:custGeom>
          <a:noFill/>
          <a:ln w="38160">
            <a:solidFill>
              <a:srgbClr val="fe060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6840" y="2305080"/>
            <a:ext cx="601920" cy="0"/>
          </a:xfrm>
          <a:prstGeom prst="line">
            <a:avLst/>
          </a:prstGeom>
          <a:ln w="38160">
            <a:solidFill>
              <a:srgbClr val="f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33680" y="1660680"/>
            <a:ext cx="576360" cy="631800"/>
          </a:xfrm>
          <a:custGeom>
            <a:avLst/>
            <a:gdLst/>
            <a:ahLst/>
            <a:rect l="l" t="t" r="r" b="b"/>
            <a:pathLst>
              <a:path w="363" h="439">
                <a:moveTo>
                  <a:pt x="289" y="7"/>
                </a:moveTo>
                <a:cubicBezTo>
                  <a:pt x="266" y="3"/>
                  <a:pt x="243" y="0"/>
                  <a:pt x="207" y="7"/>
                </a:cubicBezTo>
                <a:cubicBezTo>
                  <a:pt x="171" y="14"/>
                  <a:pt x="107" y="25"/>
                  <a:pt x="75" y="48"/>
                </a:cubicBezTo>
                <a:cubicBezTo>
                  <a:pt x="43" y="71"/>
                  <a:pt x="29" y="100"/>
                  <a:pt x="18" y="147"/>
                </a:cubicBezTo>
                <a:cubicBezTo>
                  <a:pt x="7" y="194"/>
                  <a:pt x="0" y="284"/>
                  <a:pt x="9" y="328"/>
                </a:cubicBezTo>
                <a:cubicBezTo>
                  <a:pt x="18" y="372"/>
                  <a:pt x="38" y="392"/>
                  <a:pt x="75" y="410"/>
                </a:cubicBezTo>
                <a:cubicBezTo>
                  <a:pt x="112" y="428"/>
                  <a:pt x="184" y="431"/>
                  <a:pt x="232" y="435"/>
                </a:cubicBezTo>
                <a:cubicBezTo>
                  <a:pt x="280" y="439"/>
                  <a:pt x="321" y="437"/>
                  <a:pt x="363" y="435"/>
                </a:cubicBezTo>
              </a:path>
            </a:pathLst>
          </a:custGeom>
          <a:noFill/>
          <a:ln w="38160">
            <a:solidFill>
              <a:srgbClr val="fe060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368360" y="1797120"/>
            <a:ext cx="2808360" cy="228600"/>
            <a:chOff x="1368360" y="1797120"/>
            <a:chExt cx="2808360" cy="228600"/>
          </a:xfrm>
        </p:grpSpPr>
        <p:grpSp>
          <p:nvGrpSpPr>
            <p:cNvPr id="184" name=""/>
            <p:cNvGrpSpPr/>
            <p:nvPr/>
          </p:nvGrpSpPr>
          <p:grpSpPr>
            <a:xfrm>
              <a:off x="1368360" y="1797120"/>
              <a:ext cx="2808360" cy="228600"/>
              <a:chOff x="1368360" y="1797120"/>
              <a:chExt cx="2808360" cy="228600"/>
            </a:xfrm>
          </p:grpSpPr>
          <p:sp>
            <p:nvSpPr>
              <p:cNvPr id="185" name=""/>
              <p:cNvSpPr/>
              <p:nvPr/>
            </p:nvSpPr>
            <p:spPr>
              <a:xfrm>
                <a:off x="1368360" y="1797120"/>
                <a:ext cx="28083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68360" y="2025720"/>
                <a:ext cx="28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1368360" y="179712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079800" y="2000160"/>
            <a:ext cx="101520" cy="493920"/>
            <a:chOff x="3079800" y="2000160"/>
            <a:chExt cx="101520" cy="493920"/>
          </a:xfrm>
        </p:grpSpPr>
        <p:grpSp>
          <p:nvGrpSpPr>
            <p:cNvPr id="189" name=""/>
            <p:cNvGrpSpPr/>
            <p:nvPr/>
          </p:nvGrpSpPr>
          <p:grpSpPr>
            <a:xfrm>
              <a:off x="3079800" y="2000160"/>
              <a:ext cx="101520" cy="493920"/>
              <a:chOff x="3079800" y="2000160"/>
              <a:chExt cx="101520" cy="493920"/>
            </a:xfrm>
          </p:grpSpPr>
          <p:sp>
            <p:nvSpPr>
              <p:cNvPr id="190" name=""/>
              <p:cNvSpPr/>
              <p:nvPr/>
            </p:nvSpPr>
            <p:spPr>
              <a:xfrm rot="5400000">
                <a:off x="2883600" y="2196360"/>
                <a:ext cx="493920" cy="10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79800" y="2000160"/>
                <a:ext cx="0" cy="49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3181320" y="2000160"/>
              <a:ext cx="0" cy="49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66840" y="1893960"/>
            <a:ext cx="601560" cy="0"/>
          </a:xfrm>
          <a:prstGeom prst="line">
            <a:avLst/>
          </a:prstGeom>
          <a:ln w="38160">
            <a:solidFill>
              <a:srgbClr val="f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71880" y="4424400"/>
            <a:ext cx="318600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676600" y="5327640"/>
            <a:ext cx="625320" cy="453240"/>
            <a:chOff x="2676600" y="5327640"/>
            <a:chExt cx="625320" cy="453240"/>
          </a:xfrm>
        </p:grpSpPr>
        <p:grpSp>
          <p:nvGrpSpPr>
            <p:cNvPr id="196" name=""/>
            <p:cNvGrpSpPr/>
            <p:nvPr/>
          </p:nvGrpSpPr>
          <p:grpSpPr>
            <a:xfrm>
              <a:off x="2676600" y="5327640"/>
              <a:ext cx="625320" cy="453240"/>
              <a:chOff x="2676600" y="5327640"/>
              <a:chExt cx="625320" cy="453240"/>
            </a:xfrm>
          </p:grpSpPr>
          <p:sp>
            <p:nvSpPr>
              <p:cNvPr id="197" name=""/>
              <p:cNvSpPr/>
              <p:nvPr/>
            </p:nvSpPr>
            <p:spPr>
              <a:xfrm>
                <a:off x="2676600" y="5327640"/>
                <a:ext cx="625320" cy="45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76600" y="5780880"/>
                <a:ext cx="62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2676600" y="5327640"/>
              <a:ext cx="62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306600" y="5326200"/>
            <a:ext cx="0" cy="44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186000" y="5514840"/>
            <a:ext cx="244440" cy="76320"/>
            <a:chOff x="3186000" y="5514840"/>
            <a:chExt cx="244440" cy="76320"/>
          </a:xfrm>
        </p:grpSpPr>
        <p:grpSp>
          <p:nvGrpSpPr>
            <p:cNvPr id="202" name=""/>
            <p:cNvGrpSpPr/>
            <p:nvPr/>
          </p:nvGrpSpPr>
          <p:grpSpPr>
            <a:xfrm>
              <a:off x="3186000" y="5514840"/>
              <a:ext cx="244440" cy="76320"/>
              <a:chOff x="3186000" y="5514840"/>
              <a:chExt cx="244440" cy="76320"/>
            </a:xfrm>
          </p:grpSpPr>
          <p:sp>
            <p:nvSpPr>
              <p:cNvPr id="203" name=""/>
              <p:cNvSpPr/>
              <p:nvPr/>
            </p:nvSpPr>
            <p:spPr>
              <a:xfrm>
                <a:off x="3186000" y="5514840"/>
                <a:ext cx="24444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86000" y="5591160"/>
                <a:ext cx="24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3186000" y="551484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700360" y="5553000"/>
            <a:ext cx="78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83000" y="5402160"/>
            <a:ext cx="0" cy="30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08280" y="5337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84480" y="4411800"/>
            <a:ext cx="0" cy="16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822840" y="5052960"/>
            <a:ext cx="3186000" cy="258840"/>
            <a:chOff x="3822840" y="5052960"/>
            <a:chExt cx="3186000" cy="258840"/>
          </a:xfrm>
        </p:grpSpPr>
        <p:grpSp>
          <p:nvGrpSpPr>
            <p:cNvPr id="211" name=""/>
            <p:cNvGrpSpPr/>
            <p:nvPr/>
          </p:nvGrpSpPr>
          <p:grpSpPr>
            <a:xfrm>
              <a:off x="3822840" y="5052960"/>
              <a:ext cx="3186000" cy="258840"/>
              <a:chOff x="3822840" y="5052960"/>
              <a:chExt cx="3186000" cy="258840"/>
            </a:xfrm>
          </p:grpSpPr>
          <p:sp>
            <p:nvSpPr>
              <p:cNvPr id="212" name=""/>
              <p:cNvSpPr/>
              <p:nvPr/>
            </p:nvSpPr>
            <p:spPr>
              <a:xfrm>
                <a:off x="3822840" y="5052960"/>
                <a:ext cx="318600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22840" y="5311800"/>
                <a:ext cx="31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3822840" y="5052960"/>
              <a:ext cx="31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822840" y="5424480"/>
            <a:ext cx="3186000" cy="258840"/>
            <a:chOff x="3822840" y="5424480"/>
            <a:chExt cx="3186000" cy="258840"/>
          </a:xfrm>
        </p:grpSpPr>
        <p:grpSp>
          <p:nvGrpSpPr>
            <p:cNvPr id="216" name=""/>
            <p:cNvGrpSpPr/>
            <p:nvPr/>
          </p:nvGrpSpPr>
          <p:grpSpPr>
            <a:xfrm>
              <a:off x="3822840" y="5424480"/>
              <a:ext cx="3186000" cy="258840"/>
              <a:chOff x="3822840" y="5424480"/>
              <a:chExt cx="3186000" cy="258840"/>
            </a:xfrm>
          </p:grpSpPr>
          <p:sp>
            <p:nvSpPr>
              <p:cNvPr id="217" name=""/>
              <p:cNvSpPr/>
              <p:nvPr/>
            </p:nvSpPr>
            <p:spPr>
              <a:xfrm>
                <a:off x="3822840" y="5424480"/>
                <a:ext cx="318600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22840" y="5683320"/>
                <a:ext cx="31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3822840" y="5424480"/>
              <a:ext cx="31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21120" y="4497480"/>
            <a:ext cx="117360" cy="115920"/>
            <a:chOff x="3921120" y="4497480"/>
            <a:chExt cx="117360" cy="115920"/>
          </a:xfrm>
        </p:grpSpPr>
        <p:grpSp>
          <p:nvGrpSpPr>
            <p:cNvPr id="221" name=""/>
            <p:cNvGrpSpPr/>
            <p:nvPr/>
          </p:nvGrpSpPr>
          <p:grpSpPr>
            <a:xfrm>
              <a:off x="3921120" y="4497480"/>
              <a:ext cx="117360" cy="115920"/>
              <a:chOff x="3921120" y="4497480"/>
              <a:chExt cx="117360" cy="115920"/>
            </a:xfrm>
          </p:grpSpPr>
          <p:sp>
            <p:nvSpPr>
              <p:cNvPr id="222" name=""/>
              <p:cNvSpPr/>
              <p:nvPr/>
            </p:nvSpPr>
            <p:spPr>
              <a:xfrm>
                <a:off x="3921120" y="4497480"/>
                <a:ext cx="117360" cy="11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921120" y="461340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3921120" y="44974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933720" y="5830920"/>
            <a:ext cx="117720" cy="115920"/>
            <a:chOff x="3933720" y="5830920"/>
            <a:chExt cx="117720" cy="115920"/>
          </a:xfrm>
        </p:grpSpPr>
        <p:grpSp>
          <p:nvGrpSpPr>
            <p:cNvPr id="226" name=""/>
            <p:cNvGrpSpPr/>
            <p:nvPr/>
          </p:nvGrpSpPr>
          <p:grpSpPr>
            <a:xfrm>
              <a:off x="3933720" y="5830920"/>
              <a:ext cx="117720" cy="115920"/>
              <a:chOff x="3933720" y="5830920"/>
              <a:chExt cx="117720" cy="115920"/>
            </a:xfrm>
          </p:grpSpPr>
          <p:sp>
            <p:nvSpPr>
              <p:cNvPr id="227" name=""/>
              <p:cNvSpPr/>
              <p:nvPr/>
            </p:nvSpPr>
            <p:spPr>
              <a:xfrm>
                <a:off x="3933720" y="5830920"/>
                <a:ext cx="117720" cy="11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33720" y="5946840"/>
                <a:ext cx="11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933720" y="583092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095720" y="4549680"/>
            <a:ext cx="341280" cy="260280"/>
          </a:xfrm>
          <a:custGeom>
            <a:avLst/>
            <a:gdLst/>
            <a:ahLst/>
            <a:rect l="l" t="t" r="r" b="b"/>
            <a:pathLst>
              <a:path w="215" h="189">
                <a:moveTo>
                  <a:pt x="0" y="184"/>
                </a:moveTo>
                <a:cubicBezTo>
                  <a:pt x="26" y="186"/>
                  <a:pt x="52" y="189"/>
                  <a:pt x="82" y="184"/>
                </a:cubicBezTo>
                <a:cubicBezTo>
                  <a:pt x="112" y="179"/>
                  <a:pt x="159" y="169"/>
                  <a:pt x="181" y="151"/>
                </a:cubicBezTo>
                <a:cubicBezTo>
                  <a:pt x="203" y="133"/>
                  <a:pt x="215" y="99"/>
                  <a:pt x="214" y="77"/>
                </a:cubicBezTo>
                <a:cubicBezTo>
                  <a:pt x="213" y="55"/>
                  <a:pt x="195" y="31"/>
                  <a:pt x="173" y="19"/>
                </a:cubicBezTo>
                <a:cubicBezTo>
                  <a:pt x="151" y="7"/>
                  <a:pt x="111" y="6"/>
                  <a:pt x="82" y="3"/>
                </a:cubicBezTo>
                <a:cubicBezTo>
                  <a:pt x="53" y="0"/>
                  <a:pt x="26" y="1"/>
                  <a:pt x="0" y="3"/>
                </a:cubicBezTo>
              </a:path>
            </a:pathLst>
          </a:custGeom>
          <a:noFill/>
          <a:ln w="38160">
            <a:solidFill>
              <a:srgbClr val="fe060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76840" y="5175360"/>
            <a:ext cx="601920" cy="0"/>
          </a:xfrm>
          <a:prstGeom prst="line">
            <a:avLst/>
          </a:prstGeom>
          <a:ln w="38160">
            <a:solidFill>
              <a:srgbClr val="f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24400" y="4530600"/>
            <a:ext cx="485640" cy="631800"/>
          </a:xfrm>
          <a:custGeom>
            <a:avLst/>
            <a:gdLst/>
            <a:ahLst/>
            <a:rect l="l" t="t" r="r" b="b"/>
            <a:pathLst>
              <a:path w="363" h="439">
                <a:moveTo>
                  <a:pt x="289" y="7"/>
                </a:moveTo>
                <a:cubicBezTo>
                  <a:pt x="266" y="3"/>
                  <a:pt x="243" y="0"/>
                  <a:pt x="207" y="7"/>
                </a:cubicBezTo>
                <a:cubicBezTo>
                  <a:pt x="171" y="14"/>
                  <a:pt x="107" y="25"/>
                  <a:pt x="75" y="48"/>
                </a:cubicBezTo>
                <a:cubicBezTo>
                  <a:pt x="43" y="71"/>
                  <a:pt x="29" y="100"/>
                  <a:pt x="18" y="147"/>
                </a:cubicBezTo>
                <a:cubicBezTo>
                  <a:pt x="7" y="194"/>
                  <a:pt x="0" y="284"/>
                  <a:pt x="9" y="328"/>
                </a:cubicBezTo>
                <a:cubicBezTo>
                  <a:pt x="18" y="372"/>
                  <a:pt x="38" y="392"/>
                  <a:pt x="75" y="410"/>
                </a:cubicBezTo>
                <a:cubicBezTo>
                  <a:pt x="112" y="428"/>
                  <a:pt x="184" y="431"/>
                  <a:pt x="232" y="435"/>
                </a:cubicBezTo>
                <a:cubicBezTo>
                  <a:pt x="280" y="439"/>
                  <a:pt x="321" y="437"/>
                  <a:pt x="363" y="435"/>
                </a:cubicBezTo>
              </a:path>
            </a:pathLst>
          </a:custGeom>
          <a:noFill/>
          <a:ln w="38160">
            <a:solidFill>
              <a:srgbClr val="fe060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03520" y="4530600"/>
            <a:ext cx="506520" cy="1049400"/>
          </a:xfrm>
          <a:custGeom>
            <a:avLst/>
            <a:gdLst/>
            <a:ahLst/>
            <a:rect l="l" t="t" r="r" b="b"/>
            <a:pathLst>
              <a:path w="363" h="439">
                <a:moveTo>
                  <a:pt x="289" y="7"/>
                </a:moveTo>
                <a:cubicBezTo>
                  <a:pt x="266" y="3"/>
                  <a:pt x="243" y="0"/>
                  <a:pt x="207" y="7"/>
                </a:cubicBezTo>
                <a:cubicBezTo>
                  <a:pt x="171" y="14"/>
                  <a:pt x="107" y="25"/>
                  <a:pt x="75" y="48"/>
                </a:cubicBezTo>
                <a:cubicBezTo>
                  <a:pt x="43" y="71"/>
                  <a:pt x="29" y="100"/>
                  <a:pt x="18" y="147"/>
                </a:cubicBezTo>
                <a:cubicBezTo>
                  <a:pt x="7" y="194"/>
                  <a:pt x="0" y="284"/>
                  <a:pt x="9" y="328"/>
                </a:cubicBezTo>
                <a:cubicBezTo>
                  <a:pt x="18" y="372"/>
                  <a:pt x="38" y="392"/>
                  <a:pt x="75" y="410"/>
                </a:cubicBezTo>
                <a:cubicBezTo>
                  <a:pt x="112" y="428"/>
                  <a:pt x="184" y="431"/>
                  <a:pt x="232" y="435"/>
                </a:cubicBezTo>
                <a:cubicBezTo>
                  <a:pt x="280" y="439"/>
                  <a:pt x="321" y="437"/>
                  <a:pt x="363" y="435"/>
                </a:cubicBezTo>
              </a:path>
            </a:pathLst>
          </a:custGeom>
          <a:noFill/>
          <a:ln w="38160">
            <a:solidFill>
              <a:srgbClr val="fe060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68360" y="4667400"/>
            <a:ext cx="2808360" cy="228600"/>
            <a:chOff x="1368360" y="4667400"/>
            <a:chExt cx="2808360" cy="228600"/>
          </a:xfrm>
        </p:grpSpPr>
        <p:grpSp>
          <p:nvGrpSpPr>
            <p:cNvPr id="235" name=""/>
            <p:cNvGrpSpPr/>
            <p:nvPr/>
          </p:nvGrpSpPr>
          <p:grpSpPr>
            <a:xfrm>
              <a:off x="1368360" y="4667400"/>
              <a:ext cx="2808360" cy="228600"/>
              <a:chOff x="1368360" y="4667400"/>
              <a:chExt cx="2808360" cy="228600"/>
            </a:xfrm>
          </p:grpSpPr>
          <p:sp>
            <p:nvSpPr>
              <p:cNvPr id="236" name=""/>
              <p:cNvSpPr/>
              <p:nvPr/>
            </p:nvSpPr>
            <p:spPr>
              <a:xfrm>
                <a:off x="1368360" y="4667400"/>
                <a:ext cx="28083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68360" y="4896000"/>
                <a:ext cx="28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368360" y="466740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079800" y="4870440"/>
            <a:ext cx="101520" cy="493560"/>
            <a:chOff x="3079800" y="4870440"/>
            <a:chExt cx="101520" cy="493560"/>
          </a:xfrm>
        </p:grpSpPr>
        <p:grpSp>
          <p:nvGrpSpPr>
            <p:cNvPr id="240" name=""/>
            <p:cNvGrpSpPr/>
            <p:nvPr/>
          </p:nvGrpSpPr>
          <p:grpSpPr>
            <a:xfrm>
              <a:off x="3079800" y="4870440"/>
              <a:ext cx="101520" cy="493560"/>
              <a:chOff x="3079800" y="4870440"/>
              <a:chExt cx="101520" cy="493560"/>
            </a:xfrm>
          </p:grpSpPr>
          <p:sp>
            <p:nvSpPr>
              <p:cNvPr id="241" name=""/>
              <p:cNvSpPr/>
              <p:nvPr/>
            </p:nvSpPr>
            <p:spPr>
              <a:xfrm rot="5400000">
                <a:off x="2883600" y="5066280"/>
                <a:ext cx="493560" cy="10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79800" y="4870440"/>
                <a:ext cx="0" cy="49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3181320" y="4870440"/>
              <a:ext cx="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266840" y="4764240"/>
            <a:ext cx="601560" cy="0"/>
          </a:xfrm>
          <a:prstGeom prst="line">
            <a:avLst/>
          </a:prstGeom>
          <a:ln w="38160">
            <a:solidFill>
              <a:srgbClr val="f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95920" y="5573880"/>
            <a:ext cx="601920" cy="0"/>
          </a:xfrm>
          <a:prstGeom prst="line">
            <a:avLst/>
          </a:prstGeom>
          <a:ln w="38160">
            <a:solidFill>
              <a:srgbClr val="f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81240" y="2481120"/>
            <a:ext cx="824040" cy="387360"/>
          </a:xfrm>
          <a:custGeom>
            <a:avLst/>
            <a:gdLst/>
            <a:ahLst/>
            <a:rect l="l" t="t" r="r" b="b"/>
            <a:pathLst>
              <a:path w="519" h="244">
                <a:moveTo>
                  <a:pt x="0" y="223"/>
                </a:moveTo>
                <a:cubicBezTo>
                  <a:pt x="10" y="111"/>
                  <a:pt x="21" y="0"/>
                  <a:pt x="33" y="0"/>
                </a:cubicBezTo>
                <a:cubicBezTo>
                  <a:pt x="45" y="0"/>
                  <a:pt x="59" y="222"/>
                  <a:pt x="74" y="223"/>
                </a:cubicBezTo>
                <a:cubicBezTo>
                  <a:pt x="89" y="224"/>
                  <a:pt x="109" y="9"/>
                  <a:pt x="124" y="9"/>
                </a:cubicBezTo>
                <a:cubicBezTo>
                  <a:pt x="139" y="9"/>
                  <a:pt x="150" y="220"/>
                  <a:pt x="165" y="223"/>
                </a:cubicBezTo>
                <a:cubicBezTo>
                  <a:pt x="180" y="226"/>
                  <a:pt x="199" y="25"/>
                  <a:pt x="214" y="25"/>
                </a:cubicBezTo>
                <a:cubicBezTo>
                  <a:pt x="229" y="25"/>
                  <a:pt x="241" y="226"/>
                  <a:pt x="255" y="223"/>
                </a:cubicBezTo>
                <a:cubicBezTo>
                  <a:pt x="269" y="220"/>
                  <a:pt x="282" y="9"/>
                  <a:pt x="296" y="9"/>
                </a:cubicBezTo>
                <a:cubicBezTo>
                  <a:pt x="310" y="9"/>
                  <a:pt x="324" y="222"/>
                  <a:pt x="338" y="223"/>
                </a:cubicBezTo>
                <a:cubicBezTo>
                  <a:pt x="352" y="224"/>
                  <a:pt x="365" y="17"/>
                  <a:pt x="379" y="17"/>
                </a:cubicBezTo>
                <a:cubicBezTo>
                  <a:pt x="393" y="17"/>
                  <a:pt x="408" y="222"/>
                  <a:pt x="420" y="223"/>
                </a:cubicBezTo>
                <a:cubicBezTo>
                  <a:pt x="432" y="224"/>
                  <a:pt x="441" y="25"/>
                  <a:pt x="453" y="25"/>
                </a:cubicBezTo>
                <a:cubicBezTo>
                  <a:pt x="465" y="25"/>
                  <a:pt x="483" y="202"/>
                  <a:pt x="494" y="223"/>
                </a:cubicBezTo>
                <a:cubicBezTo>
                  <a:pt x="505" y="244"/>
                  <a:pt x="512" y="196"/>
                  <a:pt x="519" y="14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81240" y="5351400"/>
            <a:ext cx="509400" cy="387360"/>
          </a:xfrm>
          <a:custGeom>
            <a:avLst/>
            <a:gdLst/>
            <a:ahLst/>
            <a:rect l="l" t="t" r="r" b="b"/>
            <a:pathLst>
              <a:path w="519" h="244">
                <a:moveTo>
                  <a:pt x="0" y="223"/>
                </a:moveTo>
                <a:cubicBezTo>
                  <a:pt x="10" y="111"/>
                  <a:pt x="21" y="0"/>
                  <a:pt x="33" y="0"/>
                </a:cubicBezTo>
                <a:cubicBezTo>
                  <a:pt x="45" y="0"/>
                  <a:pt x="59" y="222"/>
                  <a:pt x="74" y="223"/>
                </a:cubicBezTo>
                <a:cubicBezTo>
                  <a:pt x="89" y="224"/>
                  <a:pt x="109" y="9"/>
                  <a:pt x="124" y="9"/>
                </a:cubicBezTo>
                <a:cubicBezTo>
                  <a:pt x="139" y="9"/>
                  <a:pt x="150" y="220"/>
                  <a:pt x="165" y="223"/>
                </a:cubicBezTo>
                <a:cubicBezTo>
                  <a:pt x="180" y="226"/>
                  <a:pt x="199" y="25"/>
                  <a:pt x="214" y="25"/>
                </a:cubicBezTo>
                <a:cubicBezTo>
                  <a:pt x="229" y="25"/>
                  <a:pt x="241" y="226"/>
                  <a:pt x="255" y="223"/>
                </a:cubicBezTo>
                <a:cubicBezTo>
                  <a:pt x="269" y="220"/>
                  <a:pt x="282" y="9"/>
                  <a:pt x="296" y="9"/>
                </a:cubicBezTo>
                <a:cubicBezTo>
                  <a:pt x="310" y="9"/>
                  <a:pt x="324" y="222"/>
                  <a:pt x="338" y="223"/>
                </a:cubicBezTo>
                <a:cubicBezTo>
                  <a:pt x="352" y="224"/>
                  <a:pt x="365" y="17"/>
                  <a:pt x="379" y="17"/>
                </a:cubicBezTo>
                <a:cubicBezTo>
                  <a:pt x="393" y="17"/>
                  <a:pt x="408" y="222"/>
                  <a:pt x="420" y="223"/>
                </a:cubicBezTo>
                <a:cubicBezTo>
                  <a:pt x="432" y="224"/>
                  <a:pt x="441" y="25"/>
                  <a:pt x="453" y="25"/>
                </a:cubicBezTo>
                <a:cubicBezTo>
                  <a:pt x="465" y="25"/>
                  <a:pt x="483" y="202"/>
                  <a:pt x="494" y="223"/>
                </a:cubicBezTo>
                <a:cubicBezTo>
                  <a:pt x="505" y="244"/>
                  <a:pt x="512" y="196"/>
                  <a:pt x="519" y="14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57240" y="2309760"/>
            <a:ext cx="7716960" cy="36640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195360" y="-360"/>
            <a:ext cx="5475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NL" sz="2100" spc="-1" strike="noStrike">
                <a:solidFill>
                  <a:srgbClr val="fe0606"/>
                </a:solidFill>
                <a:latin typeface="Arial"/>
              </a:rPr>
              <a:t>Example 1: FLOW NOISE REDUCTION</a:t>
            </a:r>
            <a:br>
              <a:rPr sz="2100"/>
            </a:br>
            <a:r>
              <a:rPr b="0" lang="nl-NL" sz="2100" spc="-1" strike="noStrike">
                <a:solidFill>
                  <a:srgbClr val="fe0606"/>
                </a:solidFill>
                <a:latin typeface="Arial"/>
              </a:rPr>
              <a:t>(engine noise and backpressure unchanged)</a:t>
            </a:r>
            <a:endParaRPr b="0" lang="en-US" sz="21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035920" y="2765520"/>
            <a:ext cx="0" cy="56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25200" y="3421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e0606"/>
                </a:solidFill>
                <a:latin typeface="Arial"/>
              </a:rPr>
              <a:t>6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802480" y="1695600"/>
            <a:ext cx="822240" cy="229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7800" y="3143160"/>
            <a:ext cx="399960" cy="814320"/>
          </a:xfrm>
          <a:prstGeom prst="downArrow">
            <a:avLst>
              <a:gd name="adj1" fmla="val 50000"/>
              <a:gd name="adj2" fmla="val 50900"/>
            </a:avLst>
          </a:prstGeom>
          <a:solidFill>
            <a:srgbClr val="fe060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18360" y="2565360"/>
            <a:ext cx="363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lve open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401800" y="1073160"/>
            <a:ext cx="1086120" cy="27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7040" y="866880"/>
            <a:ext cx="194256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Passive exhaus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1720" y="1425600"/>
            <a:ext cx="224712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e0606"/>
                </a:solidFill>
                <a:latin typeface="Arial"/>
              </a:rPr>
              <a:t>Exhaust system with a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-1317240" y="3764160"/>
            <a:ext cx="41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PL [dB(A) at 50c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56520" y="5897520"/>
            <a:ext cx="39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gine speed [rp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61800" y="2095560"/>
            <a:ext cx="8286840" cy="393552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NL" sz="2100" spc="-1" strike="noStrike">
                <a:solidFill>
                  <a:srgbClr val="fe0606"/>
                </a:solidFill>
                <a:latin typeface="Arial"/>
              </a:rPr>
              <a:t>Example 2: ENGINE NOISE REDUCTION</a:t>
            </a:r>
            <a:br>
              <a:rPr sz="2100"/>
            </a:br>
            <a:r>
              <a:rPr b="0" lang="nl-NL" sz="2100" spc="-1" strike="noStrike">
                <a:solidFill>
                  <a:srgbClr val="fe0606"/>
                </a:solidFill>
                <a:latin typeface="Arial"/>
              </a:rPr>
              <a:t>(flow noise and backpressure unchanged)</a:t>
            </a:r>
            <a:endParaRPr b="0" lang="en-US" sz="21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1400" y="1967040"/>
            <a:ext cx="1236600" cy="3063600"/>
          </a:xfrm>
          <a:prstGeom prst="line">
            <a:avLst/>
          </a:prstGeom>
          <a:ln w="28440">
            <a:solidFill>
              <a:srgbClr val="f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51360" y="3316320"/>
            <a:ext cx="399960" cy="814320"/>
          </a:xfrm>
          <a:prstGeom prst="downArrow">
            <a:avLst>
              <a:gd name="adj1" fmla="val 50000"/>
              <a:gd name="adj2" fmla="val 50900"/>
            </a:avLst>
          </a:prstGeom>
          <a:solidFill>
            <a:srgbClr val="fe060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28160" y="2705040"/>
            <a:ext cx="363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lve open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873080" y="1359000"/>
            <a:ext cx="1400400" cy="3357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23440" y="1152360"/>
            <a:ext cx="194256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000000"/>
                </a:solidFill>
                <a:latin typeface="Arial"/>
              </a:rPr>
              <a:t>Passive exhaus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28480" y="1711440"/>
            <a:ext cx="2247120" cy="27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e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e0606"/>
                </a:solidFill>
                <a:latin typeface="Arial"/>
              </a:rPr>
              <a:t>Exhaust system with a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-1731600" y="3764160"/>
            <a:ext cx="41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PL [dB(A) at 50c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42160" y="5897520"/>
            <a:ext cx="39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gine speed [rp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46120" y="-12960"/>
            <a:ext cx="807408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43080"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100" spc="-1" strike="noStrike">
                <a:solidFill>
                  <a:srgbClr val="fe0606"/>
                </a:solidFill>
                <a:latin typeface="Arial"/>
              </a:rPr>
              <a:t>Example of an exhaust system equipped with an auto-actuated valve and with BY-PASS OF THE REAR SILENCER</a:t>
            </a:r>
            <a:endParaRPr b="0" lang="en-US" sz="21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7160" y="3141720"/>
            <a:ext cx="3144960" cy="12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38480" y="2955960"/>
            <a:ext cx="3546720" cy="12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3254400"/>
            <a:ext cx="3546720" cy="12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413240" y="3249360"/>
            <a:ext cx="401760" cy="209520"/>
            <a:chOff x="4413240" y="3249360"/>
            <a:chExt cx="401760" cy="209520"/>
          </a:xfrm>
        </p:grpSpPr>
        <p:sp>
          <p:nvSpPr>
            <p:cNvPr id="275" name=""/>
            <p:cNvSpPr/>
            <p:nvPr/>
          </p:nvSpPr>
          <p:spPr>
            <a:xfrm>
              <a:off x="4413600" y="3251520"/>
              <a:ext cx="401400" cy="207360"/>
            </a:xfrm>
            <a:prstGeom prst="rect">
              <a:avLst/>
            </a:prstGeom>
            <a:solidFill>
              <a:srgbClr val="ddde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15040" y="3251160"/>
              <a:ext cx="396360" cy="20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413240" y="3249360"/>
              <a:ext cx="3902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V="1">
            <a:off x="4502160" y="3503160"/>
            <a:ext cx="96840" cy="63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73600" y="4025880"/>
            <a:ext cx="52452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l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y-passing the rear sile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t high rp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01800" y="3051000"/>
            <a:ext cx="345960" cy="30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46360" y="3051000"/>
            <a:ext cx="345960" cy="30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40080" y="2887560"/>
            <a:ext cx="885960" cy="611280"/>
          </a:xfrm>
          <a:prstGeom prst="rect">
            <a:avLst/>
          </a:prstGeom>
          <a:solidFill>
            <a:srgbClr val="ddde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40320" y="2730600"/>
            <a:ext cx="1038240" cy="444240"/>
          </a:xfrm>
          <a:prstGeom prst="rect">
            <a:avLst/>
          </a:prstGeom>
          <a:solidFill>
            <a:srgbClr val="ddde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9840" y="4098960"/>
            <a:ext cx="26301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ataly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onve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1042560" y="3429000"/>
            <a:ext cx="142920" cy="72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530360" y="3387600"/>
            <a:ext cx="342720" cy="74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34160" y="1628640"/>
            <a:ext cx="30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ront sile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64960" y="1515960"/>
            <a:ext cx="29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Rear sile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59120" y="2158920"/>
            <a:ext cx="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75280" y="2003400"/>
            <a:ext cx="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1738440"/>
            <a:ext cx="9144000" cy="47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15960" y="-12960"/>
            <a:ext cx="71042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43080"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BE" sz="2500" spc="-1" strike="noStrike">
                <a:solidFill>
                  <a:srgbClr val="fe0606"/>
                </a:solidFill>
                <a:latin typeface="Arial"/>
              </a:rPr>
              <a:t>View on the measured prototype exhaust system</a:t>
            </a: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4038" t="35583" r="3814" b="25725"/>
          <a:stretch/>
        </p:blipFill>
        <p:spPr>
          <a:xfrm>
            <a:off x="357120" y="1854360"/>
            <a:ext cx="8437680" cy="9414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V="1">
            <a:off x="1407960" y="2370240"/>
            <a:ext cx="1182960" cy="179856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965400" y="2529000"/>
            <a:ext cx="725760" cy="159840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427880" y="2494080"/>
            <a:ext cx="122400" cy="175248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326200" y="2521080"/>
            <a:ext cx="812520" cy="251928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70600" y="2119320"/>
            <a:ext cx="403200" cy="415800"/>
          </a:xfrm>
          <a:prstGeom prst="ellipse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73680" y="4954680"/>
            <a:ext cx="52452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ffff"/>
                </a:solidFill>
                <a:latin typeface="Arial"/>
              </a:rPr>
              <a:t>Val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ffff"/>
                </a:solidFill>
                <a:latin typeface="Arial"/>
              </a:rPr>
              <a:t>by-passing the rear sile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ffff"/>
                </a:solidFill>
                <a:latin typeface="Arial"/>
              </a:rPr>
              <a:t>at high rp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9840" y="4098960"/>
            <a:ext cx="26301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ffff"/>
                </a:solidFill>
                <a:latin typeface="Arial"/>
              </a:rPr>
              <a:t>Cataly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66ffff"/>
                </a:solidFill>
                <a:latin typeface="Arial"/>
              </a:rPr>
              <a:t>conve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19920" y="4071960"/>
            <a:ext cx="30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ffff"/>
                </a:solidFill>
                <a:latin typeface="Arial"/>
              </a:rPr>
              <a:t>Front sile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19360" y="4130640"/>
            <a:ext cx="29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66ffff"/>
                </a:solidFill>
                <a:latin typeface="Arial"/>
              </a:rPr>
              <a:t>Rear sile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649080" y="2114280"/>
            <a:ext cx="417240" cy="2012760"/>
          </a:xfrm>
          <a:prstGeom prst="line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43080"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BE" sz="2500" spc="-1" strike="noStrike">
                <a:solidFill>
                  <a:srgbClr val="fe0606"/>
                </a:solidFill>
                <a:latin typeface="Arial"/>
              </a:rPr>
              <a:t>Test results</a:t>
            </a: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760" y="5021280"/>
            <a:ext cx="9558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82680" y="5640480"/>
            <a:ext cx="95580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370240" y="4716360"/>
            <a:ext cx="2840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y pass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y pass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1217520"/>
            <a:ext cx="9143640" cy="3525480"/>
            <a:chOff x="0" y="1217520"/>
            <a:chExt cx="9143640" cy="3525480"/>
          </a:xfrm>
        </p:grpSpPr>
        <p:pic>
          <p:nvPicPr>
            <p:cNvPr id="309" name="" descr=""/>
            <p:cNvPicPr/>
            <p:nvPr/>
          </p:nvPicPr>
          <p:blipFill>
            <a:blip r:embed="rId1"/>
            <a:srcRect l="0" t="17659" r="0" b="59071"/>
            <a:stretch/>
          </p:blipFill>
          <p:spPr>
            <a:xfrm>
              <a:off x="0" y="1217520"/>
              <a:ext cx="9143640" cy="35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712040" y="2086920"/>
              <a:ext cx="15480" cy="124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60000" y="1426320"/>
              <a:ext cx="27784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800" spc="-1" strike="noStrike">
                  <a:solidFill>
                    <a:srgbClr val="000000"/>
                  </a:solidFill>
                  <a:latin typeface="Arial"/>
                </a:rPr>
                <a:t>Switch poi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773080" y="-12960"/>
            <a:ext cx="5846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43080" indent="0" algn="r">
              <a:lnSpc>
                <a:spcPct val="85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BE" sz="2500" spc="-1" strike="noStrike">
                <a:solidFill>
                  <a:srgbClr val="fe0606"/>
                </a:solidFill>
                <a:latin typeface="Arial"/>
              </a:rPr>
              <a:t>Test results</a:t>
            </a:r>
            <a:endParaRPr b="0" lang="en-US" sz="2500" spc="-1" strike="noStrike">
              <a:solidFill>
                <a:srgbClr val="fe060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3240" y="833040"/>
            <a:ext cx="8278920" cy="5388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280" bIns="44280" anchor="t">
            <a:normAutofit/>
          </a:bodyPr>
          <a:p>
            <a:pPr marL="276120" indent="-276120">
              <a:lnSpc>
                <a:spcPct val="88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ampbell diagram: colours indicate sound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rcRect l="8456" t="6674" r="9134" b="1570"/>
          <a:stretch/>
        </p:blipFill>
        <p:spPr>
          <a:xfrm>
            <a:off x="5276880" y="2392200"/>
            <a:ext cx="3481200" cy="3340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rcRect l="9134" t="6674" r="9472" b="1961"/>
          <a:stretch/>
        </p:blipFill>
        <p:spPr>
          <a:xfrm>
            <a:off x="973080" y="2376360"/>
            <a:ext cx="3438720" cy="33260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058040" y="5897520"/>
            <a:ext cx="31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requency [Hz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-1713600" y="3765240"/>
            <a:ext cx="39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gine speed [rp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33360" y="1495440"/>
            <a:ext cx="73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by pass closed                      by pass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60280" y="5884920"/>
            <a:ext cx="31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requency [Hz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70560" y="2155680"/>
            <a:ext cx="141696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dB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57040" y="2157480"/>
            <a:ext cx="141696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dB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1000" y="2158920"/>
            <a:ext cx="131796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0000" y="5689440"/>
            <a:ext cx="43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0                                                  5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80800" y="5691240"/>
            <a:ext cx="43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0                                                  5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6:12:53Z</dcterms:created>
  <dc:creator>Filip Dörge</dc:creator>
  <dc:description/>
  <dc:language>en-US</dc:language>
  <cp:lastModifiedBy>Filip Dörge</cp:lastModifiedBy>
  <dcterms:modified xsi:type="dcterms:W3CDTF">2006-11-09T13:59:30Z</dcterms:modified>
  <cp:revision>67</cp:revision>
  <dc:subject/>
  <dc:title>Acous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09510051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IG ASEP - Documents from 5th meeting</vt:lpwstr>
  </property>
  <property fmtid="{D5CDD505-2E9C-101B-9397-08002B2CF9AE}" pid="6" name="_NewReviewCycle">
    <vt:lpwstr/>
  </property>
</Properties>
</file>