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93080" y="6219720"/>
            <a:ext cx="1823760" cy="32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5769000"/>
          </a:xfrm>
          <a:prstGeom prst="rect">
            <a:avLst/>
          </a:prstGeom>
          <a:solidFill>
            <a:srgbClr val="ded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66567"/>
              </a:gs>
              <a:gs pos="50000">
                <a:srgbClr val="dedde0"/>
              </a:gs>
              <a:gs pos="100000">
                <a:srgbClr val="66656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769000"/>
            <a:ext cx="9144000" cy="1792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690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6219720"/>
            <a:ext cx="1823760" cy="3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920" y="59785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AF0-E1E6-4E90-9187-5D1A8687E0A8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06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2392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1648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6800" indent="-1666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6800" indent="-166680">
              <a:lnSpc>
                <a:spcPct val="88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6800" indent="-166680">
              <a:lnSpc>
                <a:spcPct val="88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500" spc="-1" strike="noStrike">
                <a:solidFill>
                  <a:srgbClr val="fe0606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0960" y="6470640"/>
            <a:ext cx="480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fe060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21200" y="6473880"/>
            <a:ext cx="73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BDE08D-A79B-4C25-92BD-841D44350D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674640"/>
            <a:ext cx="6896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58341" b="0"/>
          <a:stretch/>
        </p:blipFill>
        <p:spPr>
          <a:xfrm>
            <a:off x="255600" y="289080"/>
            <a:ext cx="150804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5400" y="344484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4800" spc="-1" strike="noStrike">
                <a:solidFill>
                  <a:srgbClr val="fe0606"/>
                </a:solidFill>
                <a:latin typeface="Arial"/>
              </a:rPr>
              <a:t>5th meeting of GRB Informal Group ‘ASEP’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e0606"/>
                </a:solidFill>
                <a:latin typeface="Arial"/>
              </a:rPr>
              <a:t>Potentials of exhaust systems with valves</a:t>
            </a:r>
            <a:endParaRPr b="0" lang="en-US" sz="48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360" y="6005520"/>
            <a:ext cx="43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lip Dö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48560" y="2598840"/>
            <a:ext cx="44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520" y="1892160"/>
            <a:ext cx="8907480" cy="386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-12960"/>
            <a:ext cx="6888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500" spc="-1" strike="noStrike">
                <a:solidFill>
                  <a:srgbClr val="fe0606"/>
                </a:solidFill>
                <a:latin typeface="Arial"/>
              </a:rPr>
              <a:t>Valves in exhaust systems : general overview of possible acoustical efficiency improvemen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1080" y="3201840"/>
            <a:ext cx="2671560" cy="1687680"/>
          </a:xfrm>
          <a:custGeom>
            <a:avLst/>
            <a:gdLst/>
            <a:ahLst/>
            <a:rect l="l" t="t" r="r" b="b"/>
            <a:pathLst>
              <a:path w="1683" h="1063">
                <a:moveTo>
                  <a:pt x="0" y="1063"/>
                </a:moveTo>
                <a:cubicBezTo>
                  <a:pt x="135" y="1042"/>
                  <a:pt x="270" y="1022"/>
                  <a:pt x="434" y="966"/>
                </a:cubicBezTo>
                <a:cubicBezTo>
                  <a:pt x="598" y="910"/>
                  <a:pt x="816" y="822"/>
                  <a:pt x="983" y="726"/>
                </a:cubicBezTo>
                <a:cubicBezTo>
                  <a:pt x="1150" y="630"/>
                  <a:pt x="1318" y="511"/>
                  <a:pt x="1435" y="390"/>
                </a:cubicBezTo>
                <a:cubicBezTo>
                  <a:pt x="1552" y="269"/>
                  <a:pt x="1640" y="93"/>
                  <a:pt x="1683" y="0"/>
                </a:cubicBezTo>
              </a:path>
            </a:pathLst>
          </a:custGeom>
          <a:noFill/>
          <a:ln w="2844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1200" y="2892600"/>
            <a:ext cx="1420560" cy="1996920"/>
          </a:xfrm>
          <a:custGeom>
            <a:avLst/>
            <a:gdLst/>
            <a:ahLst/>
            <a:rect l="l" t="t" r="r" b="b"/>
            <a:pathLst>
              <a:path w="895" h="1258">
                <a:moveTo>
                  <a:pt x="0" y="0"/>
                </a:moveTo>
                <a:cubicBezTo>
                  <a:pt x="13" y="157"/>
                  <a:pt x="27" y="315"/>
                  <a:pt x="71" y="452"/>
                </a:cubicBezTo>
                <a:cubicBezTo>
                  <a:pt x="115" y="589"/>
                  <a:pt x="175" y="707"/>
                  <a:pt x="266" y="824"/>
                </a:cubicBezTo>
                <a:cubicBezTo>
                  <a:pt x="357" y="941"/>
                  <a:pt x="515" y="1080"/>
                  <a:pt x="620" y="1152"/>
                </a:cubicBezTo>
                <a:cubicBezTo>
                  <a:pt x="725" y="1224"/>
                  <a:pt x="856" y="1242"/>
                  <a:pt x="895" y="1258"/>
                </a:cubicBezTo>
              </a:path>
            </a:pathLst>
          </a:custGeom>
          <a:noFill/>
          <a:ln w="2844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4560" y="531504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0640" y="133020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530064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191772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14680" y="2514600"/>
            <a:ext cx="92880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616360" y="2530440"/>
            <a:ext cx="871560" cy="110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24920" y="2324160"/>
            <a:ext cx="202788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646600" y="3160800"/>
            <a:ext cx="843120" cy="1028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1800" y="3059280"/>
            <a:ext cx="800280" cy="885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29960" y="2882880"/>
            <a:ext cx="233244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s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640" y="2325600"/>
            <a:ext cx="224100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520" y="2884320"/>
            <a:ext cx="233244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s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closed at low exhaust gas volum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88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automatically at high exhaust gas volum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Example of a silencer equiped with an auto-actuated valve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1880" y="1554120"/>
            <a:ext cx="318600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676600" y="2457360"/>
            <a:ext cx="625320" cy="453240"/>
            <a:chOff x="2676600" y="2457360"/>
            <a:chExt cx="625320" cy="453240"/>
          </a:xfrm>
        </p:grpSpPr>
        <p:grpSp>
          <p:nvGrpSpPr>
            <p:cNvPr id="146" name=""/>
            <p:cNvGrpSpPr/>
            <p:nvPr/>
          </p:nvGrpSpPr>
          <p:grpSpPr>
            <a:xfrm>
              <a:off x="2676600" y="2457360"/>
              <a:ext cx="625320" cy="453240"/>
              <a:chOff x="2676600" y="2457360"/>
              <a:chExt cx="625320" cy="45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2676600" y="2457360"/>
                <a:ext cx="625320" cy="45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76600" y="2910600"/>
                <a:ext cx="62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76600" y="245736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306600" y="245592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86000" y="2644920"/>
            <a:ext cx="244440" cy="75960"/>
            <a:chOff x="3186000" y="2644920"/>
            <a:chExt cx="244440" cy="75960"/>
          </a:xfrm>
        </p:grpSpPr>
        <p:grpSp>
          <p:nvGrpSpPr>
            <p:cNvPr id="152" name=""/>
            <p:cNvGrpSpPr/>
            <p:nvPr/>
          </p:nvGrpSpPr>
          <p:grpSpPr>
            <a:xfrm>
              <a:off x="3186000" y="2644920"/>
              <a:ext cx="244440" cy="75960"/>
              <a:chOff x="3186000" y="2644920"/>
              <a:chExt cx="244440" cy="75960"/>
            </a:xfrm>
          </p:grpSpPr>
          <p:sp>
            <p:nvSpPr>
              <p:cNvPr id="153" name=""/>
              <p:cNvSpPr/>
              <p:nvPr/>
            </p:nvSpPr>
            <p:spPr>
              <a:xfrm>
                <a:off x="3186000" y="2644920"/>
                <a:ext cx="24444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86000" y="272088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186000" y="264492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005280" y="2682720"/>
            <a:ext cx="78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7920" y="2532240"/>
            <a:ext cx="0" cy="30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3200" y="24670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4480" y="154152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22840" y="2182680"/>
            <a:ext cx="3186000" cy="258840"/>
            <a:chOff x="3822840" y="2182680"/>
            <a:chExt cx="3186000" cy="258840"/>
          </a:xfrm>
        </p:grpSpPr>
        <p:grpSp>
          <p:nvGrpSpPr>
            <p:cNvPr id="161" name=""/>
            <p:cNvGrpSpPr/>
            <p:nvPr/>
          </p:nvGrpSpPr>
          <p:grpSpPr>
            <a:xfrm>
              <a:off x="3822840" y="2182680"/>
              <a:ext cx="3186000" cy="258840"/>
              <a:chOff x="3822840" y="2182680"/>
              <a:chExt cx="3186000" cy="258840"/>
            </a:xfrm>
          </p:grpSpPr>
          <p:sp>
            <p:nvSpPr>
              <p:cNvPr id="162" name=""/>
              <p:cNvSpPr/>
              <p:nvPr/>
            </p:nvSpPr>
            <p:spPr>
              <a:xfrm>
                <a:off x="3822840" y="218268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22840" y="244152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822840" y="21826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22840" y="2554200"/>
            <a:ext cx="3186000" cy="258840"/>
            <a:chOff x="3822840" y="2554200"/>
            <a:chExt cx="3186000" cy="258840"/>
          </a:xfrm>
        </p:grpSpPr>
        <p:grpSp>
          <p:nvGrpSpPr>
            <p:cNvPr id="166" name=""/>
            <p:cNvGrpSpPr/>
            <p:nvPr/>
          </p:nvGrpSpPr>
          <p:grpSpPr>
            <a:xfrm>
              <a:off x="3822840" y="2554200"/>
              <a:ext cx="3186000" cy="258840"/>
              <a:chOff x="3822840" y="2554200"/>
              <a:chExt cx="3186000" cy="258840"/>
            </a:xfrm>
          </p:grpSpPr>
          <p:sp>
            <p:nvSpPr>
              <p:cNvPr id="167" name=""/>
              <p:cNvSpPr/>
              <p:nvPr/>
            </p:nvSpPr>
            <p:spPr>
              <a:xfrm>
                <a:off x="3822840" y="255420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22840" y="281304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822840" y="255420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21120" y="1627200"/>
            <a:ext cx="117360" cy="115920"/>
            <a:chOff x="3921120" y="1627200"/>
            <a:chExt cx="117360" cy="115920"/>
          </a:xfrm>
        </p:grpSpPr>
        <p:grpSp>
          <p:nvGrpSpPr>
            <p:cNvPr id="171" name=""/>
            <p:cNvGrpSpPr/>
            <p:nvPr/>
          </p:nvGrpSpPr>
          <p:grpSpPr>
            <a:xfrm>
              <a:off x="3921120" y="1627200"/>
              <a:ext cx="117360" cy="115920"/>
              <a:chOff x="3921120" y="1627200"/>
              <a:chExt cx="117360" cy="11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3921120" y="1627200"/>
                <a:ext cx="1173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21120" y="17431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21120" y="16272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33720" y="2960640"/>
            <a:ext cx="117720" cy="115920"/>
            <a:chOff x="3933720" y="2960640"/>
            <a:chExt cx="117720" cy="115920"/>
          </a:xfrm>
        </p:grpSpPr>
        <p:grpSp>
          <p:nvGrpSpPr>
            <p:cNvPr id="176" name=""/>
            <p:cNvGrpSpPr/>
            <p:nvPr/>
          </p:nvGrpSpPr>
          <p:grpSpPr>
            <a:xfrm>
              <a:off x="3933720" y="2960640"/>
              <a:ext cx="117720" cy="115920"/>
              <a:chOff x="3933720" y="2960640"/>
              <a:chExt cx="117720" cy="115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33720" y="2960640"/>
                <a:ext cx="11772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33720" y="3076560"/>
                <a:ext cx="1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933720" y="29606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095720" y="1679400"/>
            <a:ext cx="341280" cy="26064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184"/>
                </a:moveTo>
                <a:cubicBezTo>
                  <a:pt x="26" y="186"/>
                  <a:pt x="52" y="189"/>
                  <a:pt x="82" y="184"/>
                </a:cubicBezTo>
                <a:cubicBezTo>
                  <a:pt x="112" y="179"/>
                  <a:pt x="159" y="169"/>
                  <a:pt x="181" y="151"/>
                </a:cubicBezTo>
                <a:cubicBezTo>
                  <a:pt x="203" y="133"/>
                  <a:pt x="215" y="99"/>
                  <a:pt x="214" y="77"/>
                </a:cubicBezTo>
                <a:cubicBezTo>
                  <a:pt x="213" y="55"/>
                  <a:pt x="195" y="31"/>
                  <a:pt x="173" y="19"/>
                </a:cubicBezTo>
                <a:cubicBezTo>
                  <a:pt x="151" y="7"/>
                  <a:pt x="111" y="6"/>
                  <a:pt x="82" y="3"/>
                </a:cubicBezTo>
                <a:cubicBezTo>
                  <a:pt x="53" y="0"/>
                  <a:pt x="26" y="1"/>
                  <a:pt x="0" y="3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6840" y="230508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3680" y="1660680"/>
            <a:ext cx="576360" cy="6318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68360" y="1797120"/>
            <a:ext cx="2808360" cy="228600"/>
            <a:chOff x="1368360" y="1797120"/>
            <a:chExt cx="2808360" cy="228600"/>
          </a:xfrm>
        </p:grpSpPr>
        <p:grpSp>
          <p:nvGrpSpPr>
            <p:cNvPr id="184" name=""/>
            <p:cNvGrpSpPr/>
            <p:nvPr/>
          </p:nvGrpSpPr>
          <p:grpSpPr>
            <a:xfrm>
              <a:off x="1368360" y="1797120"/>
              <a:ext cx="2808360" cy="228600"/>
              <a:chOff x="1368360" y="1797120"/>
              <a:chExt cx="2808360" cy="228600"/>
            </a:xfrm>
          </p:grpSpPr>
          <p:sp>
            <p:nvSpPr>
              <p:cNvPr id="185" name=""/>
              <p:cNvSpPr/>
              <p:nvPr/>
            </p:nvSpPr>
            <p:spPr>
              <a:xfrm>
                <a:off x="1368360" y="1797120"/>
                <a:ext cx="2808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68360" y="202572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368360" y="17971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079800" y="2000160"/>
            <a:ext cx="101520" cy="493920"/>
            <a:chOff x="3079800" y="2000160"/>
            <a:chExt cx="101520" cy="493920"/>
          </a:xfrm>
        </p:grpSpPr>
        <p:grpSp>
          <p:nvGrpSpPr>
            <p:cNvPr id="189" name=""/>
            <p:cNvGrpSpPr/>
            <p:nvPr/>
          </p:nvGrpSpPr>
          <p:grpSpPr>
            <a:xfrm>
              <a:off x="3079800" y="2000160"/>
              <a:ext cx="101520" cy="493920"/>
              <a:chOff x="3079800" y="2000160"/>
              <a:chExt cx="101520" cy="493920"/>
            </a:xfrm>
          </p:grpSpPr>
          <p:sp>
            <p:nvSpPr>
              <p:cNvPr id="190" name=""/>
              <p:cNvSpPr/>
              <p:nvPr/>
            </p:nvSpPr>
            <p:spPr>
              <a:xfrm rot="5400000">
                <a:off x="2883600" y="2196360"/>
                <a:ext cx="493920" cy="1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79800" y="200016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181320" y="200016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66840" y="1893960"/>
            <a:ext cx="60156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1880" y="4424400"/>
            <a:ext cx="318600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76600" y="5327640"/>
            <a:ext cx="625320" cy="453240"/>
            <a:chOff x="2676600" y="5327640"/>
            <a:chExt cx="625320" cy="453240"/>
          </a:xfrm>
        </p:grpSpPr>
        <p:grpSp>
          <p:nvGrpSpPr>
            <p:cNvPr id="196" name=""/>
            <p:cNvGrpSpPr/>
            <p:nvPr/>
          </p:nvGrpSpPr>
          <p:grpSpPr>
            <a:xfrm>
              <a:off x="2676600" y="5327640"/>
              <a:ext cx="625320" cy="453240"/>
              <a:chOff x="2676600" y="5327640"/>
              <a:chExt cx="625320" cy="453240"/>
            </a:xfrm>
          </p:grpSpPr>
          <p:sp>
            <p:nvSpPr>
              <p:cNvPr id="197" name=""/>
              <p:cNvSpPr/>
              <p:nvPr/>
            </p:nvSpPr>
            <p:spPr>
              <a:xfrm>
                <a:off x="2676600" y="5327640"/>
                <a:ext cx="625320" cy="45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76600" y="5780880"/>
                <a:ext cx="62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676600" y="532764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06600" y="532620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86000" y="5514840"/>
            <a:ext cx="244440" cy="76320"/>
            <a:chOff x="3186000" y="5514840"/>
            <a:chExt cx="244440" cy="76320"/>
          </a:xfrm>
        </p:grpSpPr>
        <p:grpSp>
          <p:nvGrpSpPr>
            <p:cNvPr id="202" name=""/>
            <p:cNvGrpSpPr/>
            <p:nvPr/>
          </p:nvGrpSpPr>
          <p:grpSpPr>
            <a:xfrm>
              <a:off x="3186000" y="5514840"/>
              <a:ext cx="244440" cy="76320"/>
              <a:chOff x="3186000" y="5514840"/>
              <a:chExt cx="244440" cy="76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186000" y="5514840"/>
                <a:ext cx="24444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6000" y="559116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186000" y="551484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700360" y="5553000"/>
            <a:ext cx="78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3000" y="54021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8280" y="5337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4480" y="441180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22840" y="5052960"/>
            <a:ext cx="3186000" cy="258840"/>
            <a:chOff x="3822840" y="5052960"/>
            <a:chExt cx="3186000" cy="258840"/>
          </a:xfrm>
        </p:grpSpPr>
        <p:grpSp>
          <p:nvGrpSpPr>
            <p:cNvPr id="211" name=""/>
            <p:cNvGrpSpPr/>
            <p:nvPr/>
          </p:nvGrpSpPr>
          <p:grpSpPr>
            <a:xfrm>
              <a:off x="3822840" y="5052960"/>
              <a:ext cx="3186000" cy="258840"/>
              <a:chOff x="3822840" y="5052960"/>
              <a:chExt cx="3186000" cy="258840"/>
            </a:xfrm>
          </p:grpSpPr>
          <p:sp>
            <p:nvSpPr>
              <p:cNvPr id="212" name=""/>
              <p:cNvSpPr/>
              <p:nvPr/>
            </p:nvSpPr>
            <p:spPr>
              <a:xfrm>
                <a:off x="3822840" y="505296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22840" y="531180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822840" y="505296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822840" y="5424480"/>
            <a:ext cx="3186000" cy="258840"/>
            <a:chOff x="3822840" y="5424480"/>
            <a:chExt cx="3186000" cy="258840"/>
          </a:xfrm>
        </p:grpSpPr>
        <p:grpSp>
          <p:nvGrpSpPr>
            <p:cNvPr id="216" name=""/>
            <p:cNvGrpSpPr/>
            <p:nvPr/>
          </p:nvGrpSpPr>
          <p:grpSpPr>
            <a:xfrm>
              <a:off x="3822840" y="5424480"/>
              <a:ext cx="3186000" cy="258840"/>
              <a:chOff x="3822840" y="5424480"/>
              <a:chExt cx="3186000" cy="258840"/>
            </a:xfrm>
          </p:grpSpPr>
          <p:sp>
            <p:nvSpPr>
              <p:cNvPr id="217" name=""/>
              <p:cNvSpPr/>
              <p:nvPr/>
            </p:nvSpPr>
            <p:spPr>
              <a:xfrm>
                <a:off x="3822840" y="542448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2840" y="568332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822840" y="54244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21120" y="4497480"/>
            <a:ext cx="117360" cy="115920"/>
            <a:chOff x="3921120" y="4497480"/>
            <a:chExt cx="117360" cy="115920"/>
          </a:xfrm>
        </p:grpSpPr>
        <p:grpSp>
          <p:nvGrpSpPr>
            <p:cNvPr id="221" name=""/>
            <p:cNvGrpSpPr/>
            <p:nvPr/>
          </p:nvGrpSpPr>
          <p:grpSpPr>
            <a:xfrm>
              <a:off x="3921120" y="4497480"/>
              <a:ext cx="117360" cy="115920"/>
              <a:chOff x="3921120" y="4497480"/>
              <a:chExt cx="117360" cy="115920"/>
            </a:xfrm>
          </p:grpSpPr>
          <p:sp>
            <p:nvSpPr>
              <p:cNvPr id="222" name=""/>
              <p:cNvSpPr/>
              <p:nvPr/>
            </p:nvSpPr>
            <p:spPr>
              <a:xfrm>
                <a:off x="3921120" y="4497480"/>
                <a:ext cx="1173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21120" y="461340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921120" y="4497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933720" y="5830920"/>
            <a:ext cx="117720" cy="115920"/>
            <a:chOff x="3933720" y="5830920"/>
            <a:chExt cx="117720" cy="115920"/>
          </a:xfrm>
        </p:grpSpPr>
        <p:grpSp>
          <p:nvGrpSpPr>
            <p:cNvPr id="226" name=""/>
            <p:cNvGrpSpPr/>
            <p:nvPr/>
          </p:nvGrpSpPr>
          <p:grpSpPr>
            <a:xfrm>
              <a:off x="3933720" y="5830920"/>
              <a:ext cx="117720" cy="115920"/>
              <a:chOff x="3933720" y="5830920"/>
              <a:chExt cx="117720" cy="115920"/>
            </a:xfrm>
          </p:grpSpPr>
          <p:sp>
            <p:nvSpPr>
              <p:cNvPr id="227" name=""/>
              <p:cNvSpPr/>
              <p:nvPr/>
            </p:nvSpPr>
            <p:spPr>
              <a:xfrm>
                <a:off x="3933720" y="5830920"/>
                <a:ext cx="11772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33720" y="5946840"/>
                <a:ext cx="1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933720" y="58309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95720" y="4549680"/>
            <a:ext cx="341280" cy="26028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184"/>
                </a:moveTo>
                <a:cubicBezTo>
                  <a:pt x="26" y="186"/>
                  <a:pt x="52" y="189"/>
                  <a:pt x="82" y="184"/>
                </a:cubicBezTo>
                <a:cubicBezTo>
                  <a:pt x="112" y="179"/>
                  <a:pt x="159" y="169"/>
                  <a:pt x="181" y="151"/>
                </a:cubicBezTo>
                <a:cubicBezTo>
                  <a:pt x="203" y="133"/>
                  <a:pt x="215" y="99"/>
                  <a:pt x="214" y="77"/>
                </a:cubicBezTo>
                <a:cubicBezTo>
                  <a:pt x="213" y="55"/>
                  <a:pt x="195" y="31"/>
                  <a:pt x="173" y="19"/>
                </a:cubicBezTo>
                <a:cubicBezTo>
                  <a:pt x="151" y="7"/>
                  <a:pt x="111" y="6"/>
                  <a:pt x="82" y="3"/>
                </a:cubicBezTo>
                <a:cubicBezTo>
                  <a:pt x="53" y="0"/>
                  <a:pt x="26" y="1"/>
                  <a:pt x="0" y="3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76840" y="517536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24400" y="4530600"/>
            <a:ext cx="485640" cy="6318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3520" y="4530600"/>
            <a:ext cx="506520" cy="10494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68360" y="4667400"/>
            <a:ext cx="2808360" cy="228600"/>
            <a:chOff x="1368360" y="4667400"/>
            <a:chExt cx="2808360" cy="228600"/>
          </a:xfrm>
        </p:grpSpPr>
        <p:grpSp>
          <p:nvGrpSpPr>
            <p:cNvPr id="235" name=""/>
            <p:cNvGrpSpPr/>
            <p:nvPr/>
          </p:nvGrpSpPr>
          <p:grpSpPr>
            <a:xfrm>
              <a:off x="1368360" y="4667400"/>
              <a:ext cx="2808360" cy="228600"/>
              <a:chOff x="1368360" y="4667400"/>
              <a:chExt cx="2808360" cy="228600"/>
            </a:xfrm>
          </p:grpSpPr>
          <p:sp>
            <p:nvSpPr>
              <p:cNvPr id="236" name=""/>
              <p:cNvSpPr/>
              <p:nvPr/>
            </p:nvSpPr>
            <p:spPr>
              <a:xfrm>
                <a:off x="1368360" y="4667400"/>
                <a:ext cx="2808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68360" y="489600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368360" y="46674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79800" y="4870440"/>
            <a:ext cx="101520" cy="493560"/>
            <a:chOff x="3079800" y="4870440"/>
            <a:chExt cx="101520" cy="493560"/>
          </a:xfrm>
        </p:grpSpPr>
        <p:grpSp>
          <p:nvGrpSpPr>
            <p:cNvPr id="240" name=""/>
            <p:cNvGrpSpPr/>
            <p:nvPr/>
          </p:nvGrpSpPr>
          <p:grpSpPr>
            <a:xfrm>
              <a:off x="3079800" y="4870440"/>
              <a:ext cx="101520" cy="493560"/>
              <a:chOff x="3079800" y="4870440"/>
              <a:chExt cx="101520" cy="493560"/>
            </a:xfrm>
          </p:grpSpPr>
          <p:sp>
            <p:nvSpPr>
              <p:cNvPr id="241" name=""/>
              <p:cNvSpPr/>
              <p:nvPr/>
            </p:nvSpPr>
            <p:spPr>
              <a:xfrm rot="5400000">
                <a:off x="2883600" y="5066280"/>
                <a:ext cx="493560" cy="1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79800" y="4870440"/>
                <a:ext cx="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181320" y="48704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266840" y="4764240"/>
            <a:ext cx="60156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95920" y="557388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81240" y="2481120"/>
            <a:ext cx="824040" cy="387360"/>
          </a:xfrm>
          <a:custGeom>
            <a:avLst/>
            <a:gdLst/>
            <a:ahLst/>
            <a:rect l="l" t="t" r="r" b="b"/>
            <a:pathLst>
              <a:path w="519" h="244">
                <a:moveTo>
                  <a:pt x="0" y="223"/>
                </a:moveTo>
                <a:cubicBezTo>
                  <a:pt x="10" y="111"/>
                  <a:pt x="21" y="0"/>
                  <a:pt x="33" y="0"/>
                </a:cubicBezTo>
                <a:cubicBezTo>
                  <a:pt x="45" y="0"/>
                  <a:pt x="59" y="222"/>
                  <a:pt x="74" y="223"/>
                </a:cubicBezTo>
                <a:cubicBezTo>
                  <a:pt x="89" y="224"/>
                  <a:pt x="109" y="9"/>
                  <a:pt x="124" y="9"/>
                </a:cubicBezTo>
                <a:cubicBezTo>
                  <a:pt x="139" y="9"/>
                  <a:pt x="150" y="220"/>
                  <a:pt x="165" y="223"/>
                </a:cubicBezTo>
                <a:cubicBezTo>
                  <a:pt x="180" y="226"/>
                  <a:pt x="199" y="25"/>
                  <a:pt x="214" y="25"/>
                </a:cubicBezTo>
                <a:cubicBezTo>
                  <a:pt x="229" y="25"/>
                  <a:pt x="241" y="226"/>
                  <a:pt x="255" y="223"/>
                </a:cubicBezTo>
                <a:cubicBezTo>
                  <a:pt x="269" y="220"/>
                  <a:pt x="282" y="9"/>
                  <a:pt x="296" y="9"/>
                </a:cubicBezTo>
                <a:cubicBezTo>
                  <a:pt x="310" y="9"/>
                  <a:pt x="324" y="222"/>
                  <a:pt x="338" y="223"/>
                </a:cubicBezTo>
                <a:cubicBezTo>
                  <a:pt x="352" y="224"/>
                  <a:pt x="365" y="17"/>
                  <a:pt x="379" y="17"/>
                </a:cubicBezTo>
                <a:cubicBezTo>
                  <a:pt x="393" y="17"/>
                  <a:pt x="408" y="222"/>
                  <a:pt x="420" y="223"/>
                </a:cubicBezTo>
                <a:cubicBezTo>
                  <a:pt x="432" y="224"/>
                  <a:pt x="441" y="25"/>
                  <a:pt x="453" y="25"/>
                </a:cubicBezTo>
                <a:cubicBezTo>
                  <a:pt x="465" y="25"/>
                  <a:pt x="483" y="202"/>
                  <a:pt x="494" y="223"/>
                </a:cubicBezTo>
                <a:cubicBezTo>
                  <a:pt x="505" y="244"/>
                  <a:pt x="512" y="196"/>
                  <a:pt x="519" y="1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81240" y="5351400"/>
            <a:ext cx="509400" cy="387360"/>
          </a:xfrm>
          <a:custGeom>
            <a:avLst/>
            <a:gdLst/>
            <a:ahLst/>
            <a:rect l="l" t="t" r="r" b="b"/>
            <a:pathLst>
              <a:path w="519" h="244">
                <a:moveTo>
                  <a:pt x="0" y="223"/>
                </a:moveTo>
                <a:cubicBezTo>
                  <a:pt x="10" y="111"/>
                  <a:pt x="21" y="0"/>
                  <a:pt x="33" y="0"/>
                </a:cubicBezTo>
                <a:cubicBezTo>
                  <a:pt x="45" y="0"/>
                  <a:pt x="59" y="222"/>
                  <a:pt x="74" y="223"/>
                </a:cubicBezTo>
                <a:cubicBezTo>
                  <a:pt x="89" y="224"/>
                  <a:pt x="109" y="9"/>
                  <a:pt x="124" y="9"/>
                </a:cubicBezTo>
                <a:cubicBezTo>
                  <a:pt x="139" y="9"/>
                  <a:pt x="150" y="220"/>
                  <a:pt x="165" y="223"/>
                </a:cubicBezTo>
                <a:cubicBezTo>
                  <a:pt x="180" y="226"/>
                  <a:pt x="199" y="25"/>
                  <a:pt x="214" y="25"/>
                </a:cubicBezTo>
                <a:cubicBezTo>
                  <a:pt x="229" y="25"/>
                  <a:pt x="241" y="226"/>
                  <a:pt x="255" y="223"/>
                </a:cubicBezTo>
                <a:cubicBezTo>
                  <a:pt x="269" y="220"/>
                  <a:pt x="282" y="9"/>
                  <a:pt x="296" y="9"/>
                </a:cubicBezTo>
                <a:cubicBezTo>
                  <a:pt x="310" y="9"/>
                  <a:pt x="324" y="222"/>
                  <a:pt x="338" y="223"/>
                </a:cubicBezTo>
                <a:cubicBezTo>
                  <a:pt x="352" y="224"/>
                  <a:pt x="365" y="17"/>
                  <a:pt x="379" y="17"/>
                </a:cubicBezTo>
                <a:cubicBezTo>
                  <a:pt x="393" y="17"/>
                  <a:pt x="408" y="222"/>
                  <a:pt x="420" y="223"/>
                </a:cubicBezTo>
                <a:cubicBezTo>
                  <a:pt x="432" y="224"/>
                  <a:pt x="441" y="25"/>
                  <a:pt x="453" y="25"/>
                </a:cubicBezTo>
                <a:cubicBezTo>
                  <a:pt x="465" y="25"/>
                  <a:pt x="483" y="202"/>
                  <a:pt x="494" y="223"/>
                </a:cubicBezTo>
                <a:cubicBezTo>
                  <a:pt x="505" y="244"/>
                  <a:pt x="512" y="196"/>
                  <a:pt x="519" y="1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57240" y="2309760"/>
            <a:ext cx="7716960" cy="3664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95360" y="-360"/>
            <a:ext cx="5475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Example 1: FLOW NOISE REDUCTION</a:t>
            </a:r>
            <a:br>
              <a:rPr sz="2100"/>
            </a:b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(engine noise and backpressure unchanged)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35920" y="2765520"/>
            <a:ext cx="0" cy="56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25200" y="3421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e0606"/>
                </a:solidFill>
                <a:latin typeface="Arial"/>
              </a:rPr>
              <a:t>6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802480" y="1695600"/>
            <a:ext cx="822240" cy="22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3143160"/>
            <a:ext cx="399960" cy="814320"/>
          </a:xfrm>
          <a:prstGeom prst="downArrow">
            <a:avLst>
              <a:gd name="adj1" fmla="val 50000"/>
              <a:gd name="adj2" fmla="val 50900"/>
            </a:avLst>
          </a:prstGeom>
          <a:solidFill>
            <a:srgbClr val="fe060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18360" y="2565360"/>
            <a:ext cx="363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01800" y="1073160"/>
            <a:ext cx="1086120" cy="27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7040" y="866880"/>
            <a:ext cx="1942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1720" y="1425600"/>
            <a:ext cx="224712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-1317240" y="3764160"/>
            <a:ext cx="41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L [dB(A) at 50c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56520" y="589752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61800" y="2095560"/>
            <a:ext cx="8286840" cy="39355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Example 2: ENGINE NOISE REDUCTION</a:t>
            </a:r>
            <a:br>
              <a:rPr sz="2100"/>
            </a:b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(flow noise and backpressure unchanged)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1400" y="1967040"/>
            <a:ext cx="1236600" cy="3063600"/>
          </a:xfrm>
          <a:prstGeom prst="line">
            <a:avLst/>
          </a:prstGeom>
          <a:ln w="2844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1360" y="3316320"/>
            <a:ext cx="399960" cy="814320"/>
          </a:xfrm>
          <a:prstGeom prst="downArrow">
            <a:avLst>
              <a:gd name="adj1" fmla="val 50000"/>
              <a:gd name="adj2" fmla="val 50900"/>
            </a:avLst>
          </a:prstGeom>
          <a:solidFill>
            <a:srgbClr val="fe060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28160" y="2705040"/>
            <a:ext cx="363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73080" y="1359000"/>
            <a:ext cx="1400400" cy="335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23440" y="1152360"/>
            <a:ext cx="1942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28480" y="1711440"/>
            <a:ext cx="224712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1731600" y="3764160"/>
            <a:ext cx="41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L [dB(A) at 50c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2160" y="589752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46120" y="-12960"/>
            <a:ext cx="80740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100" spc="-1" strike="noStrike">
                <a:solidFill>
                  <a:srgbClr val="fe0606"/>
                </a:solidFill>
                <a:latin typeface="Arial"/>
              </a:rPr>
              <a:t>Example of an exhaust system equipped with an auto-actuated valve and with BY-PASS OF THE REAR SILENCER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7160" y="3141720"/>
            <a:ext cx="314496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2955960"/>
            <a:ext cx="354672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3254400"/>
            <a:ext cx="354672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413240" y="3249360"/>
            <a:ext cx="401760" cy="209520"/>
            <a:chOff x="4413240" y="3249360"/>
            <a:chExt cx="401760" cy="209520"/>
          </a:xfrm>
        </p:grpSpPr>
        <p:sp>
          <p:nvSpPr>
            <p:cNvPr id="275" name=""/>
            <p:cNvSpPr/>
            <p:nvPr/>
          </p:nvSpPr>
          <p:spPr>
            <a:xfrm>
              <a:off x="4413600" y="3251520"/>
              <a:ext cx="401400" cy="207360"/>
            </a:xfrm>
            <a:prstGeom prst="rect">
              <a:avLst/>
            </a:prstGeom>
            <a:solidFill>
              <a:srgbClr val="ddde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5040" y="3251160"/>
              <a:ext cx="39636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13240" y="3249360"/>
              <a:ext cx="390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V="1">
            <a:off x="4502160" y="3503160"/>
            <a:ext cx="9684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0" y="4025880"/>
            <a:ext cx="5245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-passing the 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t high rp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1800" y="3051000"/>
            <a:ext cx="345960" cy="30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46360" y="3051000"/>
            <a:ext cx="345960" cy="3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40080" y="2887560"/>
            <a:ext cx="885960" cy="611280"/>
          </a:xfrm>
          <a:prstGeom prst="rect">
            <a:avLst/>
          </a:prstGeom>
          <a:solidFill>
            <a:srgbClr val="ddde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40320" y="2730600"/>
            <a:ext cx="1038240" cy="444240"/>
          </a:xfrm>
          <a:prstGeom prst="rect">
            <a:avLst/>
          </a:prstGeom>
          <a:solidFill>
            <a:srgbClr val="ddde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9840" y="4098960"/>
            <a:ext cx="2630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at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042560" y="3429000"/>
            <a:ext cx="14292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530360" y="3387600"/>
            <a:ext cx="34272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34160" y="162864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ont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64960" y="151596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59120" y="2158920"/>
            <a:ext cx="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75280" y="2003400"/>
            <a:ext cx="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738440"/>
            <a:ext cx="9144000" cy="47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5960" y="-12960"/>
            <a:ext cx="7104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View on the measured prototype exhaust system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4038" t="35583" r="3814" b="25725"/>
          <a:stretch/>
        </p:blipFill>
        <p:spPr>
          <a:xfrm>
            <a:off x="357120" y="1854360"/>
            <a:ext cx="8437680" cy="941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1407960" y="2370240"/>
            <a:ext cx="1182960" cy="179856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65400" y="2529000"/>
            <a:ext cx="725760" cy="159840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27880" y="2494080"/>
            <a:ext cx="122400" cy="175248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326200" y="2521080"/>
            <a:ext cx="812520" cy="251928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70600" y="2119320"/>
            <a:ext cx="403200" cy="41580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73680" y="4954680"/>
            <a:ext cx="5245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Va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by-passing the 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at high rp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9840" y="4098960"/>
            <a:ext cx="2630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Cat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9920" y="407196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Front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9360" y="413064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49080" y="2114280"/>
            <a:ext cx="417240" cy="201276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Test resul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760" y="5021280"/>
            <a:ext cx="9558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82680" y="5640480"/>
            <a:ext cx="9558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70240" y="4716360"/>
            <a:ext cx="2840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1217520"/>
            <a:ext cx="9143640" cy="3525480"/>
            <a:chOff x="0" y="1217520"/>
            <a:chExt cx="9143640" cy="352548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0" t="17659" r="0" b="59071"/>
            <a:stretch/>
          </p:blipFill>
          <p:spPr>
            <a:xfrm>
              <a:off x="0" y="1217520"/>
              <a:ext cx="9143640" cy="35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712040" y="2086920"/>
              <a:ext cx="15480" cy="12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60000" y="1426320"/>
              <a:ext cx="2778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>
                  <a:solidFill>
                    <a:srgbClr val="000000"/>
                  </a:solidFill>
                  <a:latin typeface="Arial"/>
                </a:rPr>
                <a:t>Switch po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Test resul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3240" y="833040"/>
            <a:ext cx="827892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mpbell diagram: colours indicate sound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8456" t="6674" r="9134" b="1570"/>
          <a:stretch/>
        </p:blipFill>
        <p:spPr>
          <a:xfrm>
            <a:off x="5276880" y="2392200"/>
            <a:ext cx="3481200" cy="3340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rcRect l="9134" t="6674" r="9472" b="1961"/>
          <a:stretch/>
        </p:blipFill>
        <p:spPr>
          <a:xfrm>
            <a:off x="973080" y="2376360"/>
            <a:ext cx="3438720" cy="3326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058040" y="589752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cy [H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1713600" y="376524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3360" y="1495440"/>
            <a:ext cx="73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closed                      by pas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60280" y="588492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cy [H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0560" y="2155680"/>
            <a:ext cx="1416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dB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7040" y="2157480"/>
            <a:ext cx="1416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dB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000" y="2158920"/>
            <a:ext cx="1317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00" y="5689440"/>
            <a:ext cx="43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0                                                  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0800" y="5691240"/>
            <a:ext cx="43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0                                                  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2:53Z</dcterms:created>
  <dc:creator>Filip Dörge</dc:creator>
  <dc:description/>
  <dc:language>en-US</dc:language>
  <cp:lastModifiedBy>Filip Dörge</cp:lastModifiedBy>
  <dcterms:modified xsi:type="dcterms:W3CDTF">2006-11-09T13:59:30Z</dcterms:modified>
  <cp:revision>67</cp:revision>
  <dc:subject/>
  <dc:title>Acou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9510051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G ASEP - Documents from 5th meeting</vt:lpwstr>
  </property>
  <property fmtid="{D5CDD505-2E9C-101B-9397-08002B2CF9AE}" pid="6" name="_NewReviewCycle">
    <vt:lpwstr/>
  </property>
</Properties>
</file>