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9CC-DED5-4CA7-A06C-8299F5F6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066-A3FB-4DBE-A3B2-AE1CD0BE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920-F24E-44AC-9B5C-7F147AC4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E4A-7189-4E6C-B93D-AE613529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F69-1A30-492C-97B5-8924D08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725-CC3C-455B-9D18-763E266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2AD-E752-452A-B0BF-5E16A54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E08-D60D-4F10-8E76-687971C9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38D-BD19-4F2B-B6DE-8F1BB952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516-845D-422B-9DDE-0882F9A2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BD6-94C4-420D-AE61-87ED2EE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D79-6B1C-4707-8E6C-2D13008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1599-D792-45A9-8F7B-A6CEB07321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ditional Sound Emission Provis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posal from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914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BIG-ASEP-02-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7360"/>
            <a:ext cx="786744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test method of ECE51 represents the actual behaviour of today's cars in urban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this new procedure does not cover almost all realistic behaviours in urban traffic (higher engine sp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vehicles under normal driving conditions does not differ significantly from a "normal behaviour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hat is a "normal behaviour“ and how can we identify 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" y="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ackgr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052640"/>
            <a:ext cx="7704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Non linear » noise causes can be identify on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ake system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witches,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haust system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trolled valves, adaptive software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yre/road doesn’t make « non linear »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ONLY need to be studying IN CASE OF DO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60" y="0"/>
            <a:ext cx="25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rmal behaviou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9040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200" y="981000"/>
            <a:ext cx="720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made on full throttle condition on ISO 10 844 test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gine noise is given by : L engine = Lvehicle – L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mit is given by the homologation point and Engine noise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520" y="0"/>
            <a:ext cx="57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al approach and ASEP limit curv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5435640" cy="424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2924280"/>
            <a:ext cx="39308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Homologation point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 Engine nois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 wot rep eng = Lwot rep – L tyre(50 km/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gine sp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L90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 1,650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MR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</a:rPr>
              <a:t>-0,3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Engine noise behaviour :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5 dB / 1000 r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imit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,00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× (N –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 + L 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wot rep eng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+ x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7760" y="765000"/>
            <a:ext cx="8514000" cy="66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Cycle Emission need to cover high engine speed and urban traffic behaviour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 speed from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ed from 20 to 70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ion under a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Cycle Emission shall ident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 non linear » noi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re noise must to be significa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er than Engine 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ar ratio is chosen in this r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500720" cy="449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5400" y="0"/>
            <a:ext cx="649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 curve of engine speed, speed and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720" y="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ctical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160" y="1000080"/>
            <a:ext cx="60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ractical approaches to determine Engine nois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9440" cy="2938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24000" y="5084640"/>
            <a:ext cx="3887640" cy="110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Pass by to cover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N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Coast down to qualify Tyre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3888000" cy="110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Pass by to adj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ot(7.5m) to Lwot(2.5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Pass by to cover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N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Coast down to qualify Tyre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3889080" cy="2921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479600" y="162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ver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6320" y="16286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o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080" y="0"/>
            <a:ext cx="53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xplicit criteria and informations on th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0960" y="932040"/>
            <a:ext cx="6129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ly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based 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listic behaviours in urban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high engine speed and urban speed and accele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echnology neutral 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definitive choose of g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able / reprodu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ness for purpose : To identify « non linear »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lative limit based on Annexe 3 : L wot r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4149720"/>
            <a:ext cx="3529080" cy="230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selection :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y speed : from 20 to 7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acceleration : No target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imum engine speed : to be 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t speed :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 open thro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itple test conditions :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 speed range : 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L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N 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ng to “doubt”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 load Only few passes need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3:03:26Z</dcterms:created>
  <dc:creator>pardo</dc:creator>
  <dc:description/>
  <dc:language>en-US</dc:language>
  <cp:lastModifiedBy>Enonler2</cp:lastModifiedBy>
  <dcterms:modified xsi:type="dcterms:W3CDTF">2006-01-12T09:19:27Z</dcterms:modified>
  <cp:revision>47</cp:revision>
  <dc:subject/>
  <dc:title>Official propos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9650923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/>
  </property>
</Properties>
</file>