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FB5-2621-4FE1-8046-128A2A19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265-FB86-4AB6-8D1B-E825B849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F87-80CE-425E-8216-1EA551C5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8BA-1BA7-4B49-B64E-172EA36C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CD0-7A13-453B-92BA-4B2B9827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613-7C34-4105-BD0B-E589D9D1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C9C1-796D-4BD7-891E-D410279D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A80-E2C3-460A-9874-2307488A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4D1-DF89-4B5F-85FA-79777550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7BD-3322-49CA-B52E-D945F428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B12-77A2-4FEC-B8B5-848DE89C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043-46F0-46B6-B1C6-971C2446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A33B-0A04-4595-A1FA-BAAFFB2D257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ditional Sound Emission Provision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posal from 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62720" y="9144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BIG-ASEP-02-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557360"/>
            <a:ext cx="7867440" cy="36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test method of ECE51 represents the actual behaviour of today's cars in urban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is new procedure does not cover almost all realistic behaviours in urban traffic (higher engine sp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vehicles under normal driving conditions does not differ significantly from a "normal behaviour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what is a "normal behaviour“ and how can we identify i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" y="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ackgro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1052640"/>
            <a:ext cx="77040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 Non linear » noise causes can be identify on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ake system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witches,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haust system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trolled valves, adaptive software,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re/road doesn’t make « non linear »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 ONLY need to be studying IN CASE OF DOU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60" y="0"/>
            <a:ext cx="25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rmal behaviou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590400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200" y="981000"/>
            <a:ext cx="7206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made on full throttle condition on ISO 10 844 test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gine noise is given by : L engine = Lvehicle – Lty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mit is given by the homologation point and Engine noise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2520" y="0"/>
            <a:ext cx="57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mental approach and ASEP limit curv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5435640" cy="4248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2924280"/>
            <a:ext cx="39308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Homologation point :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Engine nois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 wot rep eng = Lwot rep – L tyre(50 km/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gine spe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L90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 1,650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MR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</a:rPr>
              <a:t>-0,3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Engine noise behaviour :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5 dB / 1000 r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Limit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,00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× (N –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L90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+ L 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wot rep eng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+ x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7760" y="765000"/>
            <a:ext cx="8514000" cy="66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 Cycle Emission need to cover high engine speed and urban traffic behaviour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 speed from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N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ed from 20 to 70 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ion under a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 Cycle Emission shall identif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 non linear » nois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re noise must to be significan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er than Engine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ar ratio is chosen in this r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500720" cy="4499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5400" y="0"/>
            <a:ext cx="649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 curve of engine speed, speed and acce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720" y="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ctical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160" y="1000080"/>
            <a:ext cx="60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practical approaches to determine Engine nois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889440" cy="2938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24000" y="5084640"/>
            <a:ext cx="3887640" cy="110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 Pass by to cover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9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N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 Coast down to qualify Tyre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5084640"/>
            <a:ext cx="3888000" cy="110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Pass by to adju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wot(7.5m) to Lwot(2.5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Pass by to cover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9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N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 Coast down to qualify Tyre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3889080" cy="2921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479600" y="16286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veral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6320" y="162864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inuous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080" y="0"/>
            <a:ext cx="538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xplicit criteria and informations on the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0960" y="932040"/>
            <a:ext cx="6129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ly appli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based 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alistic behaviours in urban traf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high engine speed and urban speed and accele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echnology neutral 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definitive choose of g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able / reprodu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tness for purpose : To identify « non linear »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lative limit based on Annexe 3 : L wot r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4149720"/>
            <a:ext cx="3529080" cy="230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ar selection :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ry speed : from 20 to 7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acceleration : No target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ximum engine speed : to be de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it speed :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de open thro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itple test conditions :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ine speed range : 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L9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o N 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ing to “doubt”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 load Only few passes need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3:03:26Z</dcterms:created>
  <dc:creator>pardo</dc:creator>
  <dc:description/>
  <dc:language>en-US</dc:language>
  <cp:lastModifiedBy>Enonler2</cp:lastModifiedBy>
  <dcterms:modified xsi:type="dcterms:W3CDTF">2006-01-12T09:19:27Z</dcterms:modified>
  <cp:revision>47</cp:revision>
  <dc:subject/>
  <dc:title>Official proposi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99650923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/>
  </property>
</Properties>
</file>