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65E4-F5F3-4220-ADC3-A3A7A88EFD1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4E7D-145E-4090-AFDD-EDE88871D25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1B33-7B6B-4C3B-A59C-119059BE517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4115-9850-4BA4-AC03-9E94463C00E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D8E5-A9B4-43C8-A79D-BC355DD1F83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5D8B-40FC-48C8-BF8C-46422766A9C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4C06-54F1-45D3-8501-6C590DB8BF1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79640" y="86832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784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18FD-8A58-4DBD-9CE1-A8C0F42A096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77840" y="86508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7560" y="4719240"/>
            <a:ext cx="4978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858B-2689-476C-91A7-AA2C2C4BD90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7FC9-0A43-4DD0-9FED-AC3C4C16228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AFAB-ACAC-4A4F-848D-7F8F955B544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D84-13C9-49DB-8B94-1A5CDDF6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280" y="856800"/>
            <a:ext cx="777420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74280" y="1563480"/>
            <a:ext cx="777420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73D-39EE-41A7-B726-5775633A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4280" y="85680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8040" y="85680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280" y="156348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8040" y="156348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01E4-6FA2-4EF6-B4FA-1D57B247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280" y="856800"/>
            <a:ext cx="25030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03000" y="856800"/>
            <a:ext cx="25030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31360" y="856800"/>
            <a:ext cx="25030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74280" y="1563480"/>
            <a:ext cx="25030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03000" y="1563480"/>
            <a:ext cx="25030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31360" y="1563480"/>
            <a:ext cx="25030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098-AD92-4894-BBAE-D92BE8DE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74280" y="856800"/>
            <a:ext cx="7774200" cy="135252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4280" y="856800"/>
            <a:ext cx="77742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4280" y="856800"/>
            <a:ext cx="379368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040" y="856800"/>
            <a:ext cx="379368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74640" y="371160"/>
            <a:ext cx="7772400" cy="268632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4280" y="85680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8040" y="856800"/>
            <a:ext cx="379368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4280" y="156348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74280" y="856800"/>
            <a:ext cx="7774200" cy="135252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0B0-4A1B-4458-8217-F059D013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4280" y="856800"/>
            <a:ext cx="379368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85680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8040" y="156348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4280" y="85680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8040" y="85680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4280" y="1563480"/>
            <a:ext cx="777420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4280" y="856800"/>
            <a:ext cx="777420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4280" y="1563480"/>
            <a:ext cx="777420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4280" y="85680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8040" y="85680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4280" y="156348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8040" y="156348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280" y="856800"/>
            <a:ext cx="25030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3000" y="856800"/>
            <a:ext cx="25030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1360" y="856800"/>
            <a:ext cx="25030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74280" y="1563480"/>
            <a:ext cx="25030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3000" y="1563480"/>
            <a:ext cx="25030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1360" y="1563480"/>
            <a:ext cx="25030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4280" y="856800"/>
            <a:ext cx="77742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734-A74B-4FF5-A2B9-A6E2F6C0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4280" y="856800"/>
            <a:ext cx="379368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856800"/>
            <a:ext cx="379368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0F3-CDCC-401D-AC09-E377E1CB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834-943D-466B-8FDA-2C20E568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74640" y="371160"/>
            <a:ext cx="7772400" cy="268632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F75-453B-4E8C-AEEF-94D3574D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4280" y="85680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8040" y="856800"/>
            <a:ext cx="379368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4280" y="156348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1B1-B9DD-49FC-A5F0-213FC7B3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4280" y="856800"/>
            <a:ext cx="379368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8040" y="85680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8040" y="156348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7AE-6DCD-43CD-AAC5-03F233B8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280" y="85680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8040" y="856800"/>
            <a:ext cx="379368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280" y="1563480"/>
            <a:ext cx="7774200" cy="6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58E-B1B7-4ADE-ABF2-BADE1E27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59680"/>
            <a:ext cx="9144000" cy="59688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44440"/>
            <a:ext cx="9144000" cy="5400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60280" y="176040"/>
            <a:ext cx="7405560" cy="78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60280" y="1365120"/>
            <a:ext cx="7305480" cy="457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87200">
              <a:lnSpc>
                <a:spcPts val="3300"/>
              </a:lnSpc>
              <a:buClr>
                <a:srgbClr val="a28c5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189000">
              <a:lnSpc>
                <a:spcPts val="3300"/>
              </a:lnSpc>
              <a:buClr>
                <a:srgbClr val="a28c5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9400">
              <a:lnSpc>
                <a:spcPts val="3300"/>
              </a:lnSpc>
              <a:buClr>
                <a:srgbClr val="a28c58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33440">
              <a:lnSpc>
                <a:spcPts val="3300"/>
              </a:lnSpc>
              <a:buClr>
                <a:srgbClr val="a28c5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33440">
              <a:lnSpc>
                <a:spcPts val="33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33440">
              <a:lnSpc>
                <a:spcPts val="33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705720" y="6324480"/>
            <a:ext cx="180792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neva, Sept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09320" y="6324120"/>
            <a:ext cx="34578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w noise road surfaces in the Netherl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686440" y="6399360"/>
            <a:ext cx="291960" cy="32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BD3B-A0F4-4262-B8F0-962072A79E0E}" type="slidenum">
              <a:rPr b="1" lang="nl-NL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2920" y="380880"/>
            <a:ext cx="799920" cy="698760"/>
          </a:xfrm>
          <a:custGeom>
            <a:avLst/>
            <a:gdLst/>
            <a:ahLst/>
            <a:rect l="l" t="t" r="r" b="b"/>
            <a:pathLst>
              <a:path w="2340" h="2040">
                <a:moveTo>
                  <a:pt x="2013" y="1109"/>
                </a:moveTo>
                <a:lnTo>
                  <a:pt x="0" y="1109"/>
                </a:lnTo>
                <a:lnTo>
                  <a:pt x="0" y="931"/>
                </a:lnTo>
                <a:lnTo>
                  <a:pt x="2013" y="931"/>
                </a:lnTo>
                <a:lnTo>
                  <a:pt x="1082" y="0"/>
                </a:lnTo>
                <a:lnTo>
                  <a:pt x="1321" y="0"/>
                </a:lnTo>
                <a:lnTo>
                  <a:pt x="2340" y="1020"/>
                </a:lnTo>
                <a:lnTo>
                  <a:pt x="1321" y="2040"/>
                </a:lnTo>
                <a:lnTo>
                  <a:pt x="1082" y="2040"/>
                </a:lnTo>
                <a:lnTo>
                  <a:pt x="2013" y="1109"/>
                </a:lnTo>
                <a:close/>
              </a:path>
            </a:pathLst>
          </a:custGeom>
          <a:solidFill>
            <a:srgbClr val="a28c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2360" y="6434280"/>
            <a:ext cx="241200" cy="241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142920" y="6407280"/>
            <a:ext cx="1920960" cy="29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221940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72120" y="2967120"/>
            <a:ext cx="2908440" cy="2536920"/>
          </a:xfrm>
          <a:custGeom>
            <a:avLst/>
            <a:gdLst/>
            <a:ahLst/>
            <a:rect l="l" t="t" r="r" b="b"/>
            <a:pathLst>
              <a:path w="1316" h="1148">
                <a:moveTo>
                  <a:pt x="1132" y="624"/>
                </a:moveTo>
                <a:lnTo>
                  <a:pt x="0" y="624"/>
                </a:lnTo>
                <a:lnTo>
                  <a:pt x="0" y="524"/>
                </a:lnTo>
                <a:lnTo>
                  <a:pt x="1132" y="524"/>
                </a:lnTo>
                <a:lnTo>
                  <a:pt x="609" y="0"/>
                </a:lnTo>
                <a:lnTo>
                  <a:pt x="743" y="0"/>
                </a:lnTo>
                <a:lnTo>
                  <a:pt x="1316" y="574"/>
                </a:lnTo>
                <a:lnTo>
                  <a:pt x="743" y="1148"/>
                </a:lnTo>
                <a:lnTo>
                  <a:pt x="609" y="1148"/>
                </a:lnTo>
                <a:lnTo>
                  <a:pt x="1132" y="624"/>
                </a:lnTo>
                <a:close/>
              </a:path>
            </a:pathLst>
          </a:custGeom>
          <a:solidFill>
            <a:srgbClr val="d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64320" y="6531120"/>
            <a:ext cx="1427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1A41-919D-43A6-B2CE-7F5A39159B57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33920" y="6324480"/>
            <a:ext cx="3457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920" y="6405480"/>
            <a:ext cx="1920960" cy="295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0" algn="ctr"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9960" algn="ctr">
              <a:lnSpc>
                <a:spcPts val="3300"/>
              </a:lnSpc>
              <a:buClr>
                <a:srgbClr val="a28c5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9400" algn="ctr">
              <a:lnSpc>
                <a:spcPts val="2200"/>
              </a:lnSpc>
              <a:spcBef>
                <a:spcPts val="400"/>
              </a:spcBef>
              <a:buClr>
                <a:srgbClr val="a28c58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33440" algn="ctr">
              <a:lnSpc>
                <a:spcPts val="2200"/>
              </a:lnSpc>
              <a:spcBef>
                <a:spcPts val="400"/>
              </a:spcBef>
              <a:buClr>
                <a:srgbClr val="a28c5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33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33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5486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Arial"/>
              </a:rPr>
              <a:t>Application of Low Noise Road surfaces in the Netherlands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996600"/>
                </a:solidFill>
                <a:latin typeface="Arial"/>
              </a:rPr>
              <a:t>Excellent results but not enough to meet the legal targ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pared by the Netherland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or GRB 44 Sept 2006 Gene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0"/>
            <a:ext cx="4114800" cy="1036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l document 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B-44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4th GRB, 4-6 September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.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60280" y="176040"/>
            <a:ext cx="7405560" cy="78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Arial"/>
              </a:rPr>
              <a:t>new types of silent Road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60280" y="1365120"/>
            <a:ext cx="7305480" cy="9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: application of semi porous thin layers (very smooth surface te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47640" y="3357720"/>
            <a:ext cx="2840040" cy="2555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148360" y="3429000"/>
            <a:ext cx="3305160" cy="409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619280" y="24922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d39933"/>
                </a:solidFill>
                <a:latin typeface="Arial"/>
              </a:rPr>
              <a:t>Two-layered Porous Asp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2565360"/>
            <a:ext cx="25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d39933"/>
                </a:solidFill>
                <a:latin typeface="Arial"/>
              </a:rPr>
              <a:t>Thin Layer (semi poro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52320" y="43920"/>
            <a:ext cx="5019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Noise reducing Asphalt Layer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58920" y="1197000"/>
          <a:ext cx="721512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97000"/>
                    <a:ext cx="721512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4CB-E687-4DE8-998B-779A9F1EEA4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9B0BC-B6BC-4F9A-966A-39EC8AAF19CD}" type="datetime1">
              <a:rPr lang="en-US"/>
              <a:t>07/29/26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60280" y="176040"/>
            <a:ext cx="7405560" cy="78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History of low noise road surfaces in the Netherland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36520" y="1484280"/>
            <a:ext cx="8906760" cy="4785840"/>
            <a:chOff x="236520" y="1484280"/>
            <a:chExt cx="8906760" cy="478584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304920" y="1484280"/>
              <a:ext cx="8838360" cy="47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 rot="16200000">
              <a:off x="-1589760" y="3361320"/>
              <a:ext cx="4343760" cy="69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Number of registe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ow noise road surface produc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140360" y="2565360"/>
            <a:ext cx="2736720" cy="1008000"/>
          </a:xfrm>
          <a:prstGeom prst="wedgeEllipseCallout">
            <a:avLst>
              <a:gd name="adj1" fmla="val 37875"/>
              <a:gd name="adj2" fmla="val 102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1: Stimulation program Min En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1341360"/>
            <a:ext cx="3600360" cy="935280"/>
          </a:xfrm>
          <a:prstGeom prst="wedgeEllipseCallout">
            <a:avLst>
              <a:gd name="adj1" fmla="val 41712"/>
              <a:gd name="adj2" fmla="val 109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4: Innovation pro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 Env + Min Tran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3500280"/>
            <a:ext cx="2737080" cy="1008360"/>
          </a:xfrm>
          <a:prstGeom prst="wedgeEllipseCallout">
            <a:avLst>
              <a:gd name="adj1" fmla="val 51101"/>
              <a:gd name="adj2" fmla="val 829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8: Type approval system Min En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B99-2974-44D0-8E76-F0F7C3E5035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EAFE4-67E7-4632-95D9-CA15E780A9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395280" y="1413000"/>
            <a:ext cx="8255160" cy="4995720"/>
            <a:chOff x="395280" y="1413000"/>
            <a:chExt cx="8255160" cy="4995720"/>
          </a:xfrm>
        </p:grpSpPr>
        <p:graphicFrame>
          <p:nvGraphicFramePr>
            <p:cNvPr id="159" name=""/>
            <p:cNvGraphicFramePr/>
            <p:nvPr/>
          </p:nvGraphicFramePr>
          <p:xfrm>
            <a:off x="395280" y="1413000"/>
            <a:ext cx="8255160" cy="49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1413000"/>
                      <a:ext cx="8255160" cy="49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>
              <a:off x="597960" y="3225960"/>
              <a:ext cx="1595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0 = refer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38440" y="3781440"/>
              <a:ext cx="447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-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5440" y="4435560"/>
              <a:ext cx="447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-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65440" y="5083200"/>
              <a:ext cx="447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65440" y="5732640"/>
              <a:ext cx="1133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- 8 dB(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54440" y="2916360"/>
              <a:ext cx="1031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50 km/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10880" y="2922480"/>
              <a:ext cx="1157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20 km/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48000" y="3213000"/>
              <a:ext cx="180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0520" y="28717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spe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60280" y="176040"/>
            <a:ext cx="7405560" cy="78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roa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for light vehicles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083600">
            <a:off x="2052360" y="3716280"/>
            <a:ext cx="4680000" cy="1871640"/>
          </a:xfrm>
          <a:prstGeom prst="ellipse">
            <a:avLst/>
          </a:prstGeom>
          <a:noFill/>
          <a:ln w="38160">
            <a:solidFill>
              <a:srgbClr val="b1533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060-C164-4039-92FA-75E9C3AEA5C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503EC-D511-4A02-B320-D38787AF4C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Arial"/>
              </a:rPr>
              <a:t>Status low noise surfaces in the Netherlands 2006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5720" y="1341360"/>
            <a:ext cx="5067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780000" y="1341360"/>
            <a:ext cx="5206680" cy="4735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166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4000"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gh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0% single layer por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% double layer por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lots on thin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uble layer = standard in high noise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03C-FDA5-4AD3-8815-86C9FC0A230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AEBF8-D56C-444A-AC33-2C876A21C9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60280" y="176040"/>
            <a:ext cx="7405560" cy="78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Arial"/>
              </a:rPr>
              <a:t>Can we sit back and relax now?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1413000"/>
            <a:ext cx="8043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habitants of EU15 exposed to road traffic noise (data from 200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2421000"/>
            <a:ext cx="73911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&gt;55 dB(A) &gt;65 dB(A) &gt;75dB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centage of populatio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32%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13%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umber of inhabitants (mln)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12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49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581360"/>
            <a:ext cx="820872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: N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cessary reduction is much bigger than the 5 dB we get from road su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60280" y="176040"/>
            <a:ext cx="7405560" cy="78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pread in vehicle noise levels build up of two components: road surface effect, tyre/vehicle eff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7159680" cy="48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1CD-02EE-4604-8C6B-B2E41433D37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04FB5-959D-48E4-91B4-760F826DF30F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60640" y="176040"/>
            <a:ext cx="7659360" cy="78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at if we do not achieve the vehicle/tire targets?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60280" y="1365120"/>
            <a:ext cx="7305480" cy="457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targets are often not reach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l situations will enforce more often drastic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87200">
              <a:lnSpc>
                <a:spcPts val="3300"/>
              </a:lnSpc>
              <a:buClr>
                <a:srgbClr val="a28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stic reduced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87200">
              <a:lnSpc>
                <a:spcPts val="3300"/>
              </a:lnSpc>
              <a:buClr>
                <a:srgbClr val="a28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ll tu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87200">
              <a:lnSpc>
                <a:spcPts val="3300"/>
              </a:lnSpc>
              <a:buClr>
                <a:srgbClr val="a28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 vehicle 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cost for society is much higher than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878-D247-4FDD-B3A0-AD1F202695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6AB08-F35C-4731-AC8A-F3EC9B4C0043}" type="datetime1">
              <a:rPr lang="en-US"/>
              <a:t>07/29/26</a:t>
            </a:fld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4640" y="371160"/>
            <a:ext cx="7772400" cy="57924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74280" y="856800"/>
            <a:ext cx="7774200" cy="1352520"/>
          </a:xfrm>
          <a:prstGeom prst="rect">
            <a:avLst/>
          </a:prstGeom>
          <a:solidFill>
            <a:srgbClr val="a28c58"/>
          </a:solidFill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60280" y="176040"/>
            <a:ext cx="7405560" cy="78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y should we reduce noise?     Noise = Health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26920" y="1628640"/>
          <a:ext cx="7371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628640"/>
                    <a:ext cx="7371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664640" y="1184400"/>
            <a:ext cx="40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Y= Disability Adjusted Life Ye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0CC-E781-4711-A3DB-10A824A522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5D6D6-AA99-472C-A57B-C8C8784A1015}" type="datetime1">
              <a:rPr lang="en-US"/>
              <a:t>07/29/26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0280" y="176040"/>
            <a:ext cx="7405560" cy="78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Noise abat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0640" y="1365120"/>
            <a:ext cx="7983360" cy="457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aw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evels of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ntional way: barriers and ins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growth of traffic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controllable rise of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L: 4 bln EURO for national infrastructure al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studies: source abatement is most effective and most cost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x 1 bln EU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A2D-8E76-48E6-8F84-9DF11C3484C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859AD-0720-47B1-BC2D-86ED59590E8A}" type="datetime1">
              <a:rPr lang="en-US"/>
              <a:t>07/29/26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60280" y="176040"/>
            <a:ext cx="7405560" cy="78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Verdana"/>
              </a:rPr>
              <a:t>Sources of road traffic nois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08280" y="1459080"/>
            <a:ext cx="6000480" cy="344772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1404000" y="2546280"/>
            <a:ext cx="1230480" cy="1163520"/>
            <a:chOff x="1404000" y="2546280"/>
            <a:chExt cx="1230480" cy="1163520"/>
          </a:xfrm>
        </p:grpSpPr>
        <p:sp>
          <p:nvSpPr>
            <p:cNvPr id="110" name=""/>
            <p:cNvSpPr/>
            <p:nvPr/>
          </p:nvSpPr>
          <p:spPr>
            <a:xfrm>
              <a:off x="2197080" y="3031920"/>
              <a:ext cx="403200" cy="677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4000" y="2546280"/>
              <a:ext cx="12304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2400" spc="-1" strike="noStrike">
                  <a:solidFill>
                    <a:srgbClr val="000000"/>
                  </a:solidFill>
                  <a:latin typeface="Verdana"/>
                </a:rPr>
                <a:t>eng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55480" y="3156120"/>
            <a:ext cx="2427120" cy="1218600"/>
            <a:chOff x="555480" y="3156120"/>
            <a:chExt cx="2427120" cy="1218600"/>
          </a:xfrm>
        </p:grpSpPr>
        <p:sp>
          <p:nvSpPr>
            <p:cNvPr id="113" name=""/>
            <p:cNvSpPr/>
            <p:nvPr/>
          </p:nvSpPr>
          <p:spPr>
            <a:xfrm>
              <a:off x="555480" y="3156120"/>
              <a:ext cx="1163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a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6560" y="3511440"/>
              <a:ext cx="1346040" cy="863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127400" y="3819600"/>
            <a:ext cx="3300480" cy="1321560"/>
            <a:chOff x="4127400" y="3819600"/>
            <a:chExt cx="3300480" cy="1321560"/>
          </a:xfrm>
        </p:grpSpPr>
        <p:sp>
          <p:nvSpPr>
            <p:cNvPr id="116" name=""/>
            <p:cNvSpPr/>
            <p:nvPr/>
          </p:nvSpPr>
          <p:spPr>
            <a:xfrm flipV="1">
              <a:off x="5811840" y="3819600"/>
              <a:ext cx="1616040" cy="863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475240" y="4065120"/>
              <a:ext cx="66600" cy="617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4127400" y="4312800"/>
              <a:ext cx="87624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59080" y="4719600"/>
              <a:ext cx="14086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2400" spc="-1" strike="noStrike">
                  <a:solidFill>
                    <a:srgbClr val="000000"/>
                  </a:solidFill>
                  <a:latin typeface="Verdana"/>
                </a:rPr>
                <a:t>exhau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493280" y="4620960"/>
            <a:ext cx="1624320" cy="1013760"/>
            <a:chOff x="1493280" y="4620960"/>
            <a:chExt cx="1624320" cy="1013760"/>
          </a:xfrm>
        </p:grpSpPr>
        <p:sp>
          <p:nvSpPr>
            <p:cNvPr id="121" name=""/>
            <p:cNvSpPr/>
            <p:nvPr/>
          </p:nvSpPr>
          <p:spPr>
            <a:xfrm>
              <a:off x="1493280" y="5213160"/>
              <a:ext cx="14407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2400" spc="-1" strike="noStrike">
                  <a:solidFill>
                    <a:srgbClr val="000000"/>
                  </a:solidFill>
                  <a:latin typeface="Verdana"/>
                </a:rPr>
                <a:t>gearb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781360" y="4620960"/>
              <a:ext cx="336240" cy="555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851280" y="4292640"/>
            <a:ext cx="4270680" cy="1286640"/>
            <a:chOff x="3851280" y="4292640"/>
            <a:chExt cx="4270680" cy="1286640"/>
          </a:xfrm>
        </p:grpSpPr>
        <p:sp>
          <p:nvSpPr>
            <p:cNvPr id="124" name=""/>
            <p:cNvSpPr/>
            <p:nvPr/>
          </p:nvSpPr>
          <p:spPr>
            <a:xfrm>
              <a:off x="5248440" y="5157720"/>
              <a:ext cx="28735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2400" spc="-1" strike="noStrike">
                  <a:solidFill>
                    <a:srgbClr val="ff6600"/>
                  </a:solidFill>
                  <a:latin typeface="Verdana"/>
                </a:rPr>
                <a:t>tyre/road cont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46760" y="4292640"/>
              <a:ext cx="244080" cy="7891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851280" y="5005440"/>
              <a:ext cx="1179360" cy="262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022480" y="1989000"/>
            <a:ext cx="1671120" cy="641520"/>
            <a:chOff x="2022480" y="1989000"/>
            <a:chExt cx="1671120" cy="641520"/>
          </a:xfrm>
        </p:grpSpPr>
        <p:sp>
          <p:nvSpPr>
            <p:cNvPr id="128" name=""/>
            <p:cNvSpPr/>
            <p:nvPr/>
          </p:nvSpPr>
          <p:spPr>
            <a:xfrm>
              <a:off x="2022480" y="1989000"/>
              <a:ext cx="9316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Verdana"/>
                </a:rPr>
                <a:t>wi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85760" y="2322360"/>
              <a:ext cx="807840" cy="308160"/>
            </a:xfrm>
            <a:prstGeom prst="line">
              <a:avLst/>
            </a:prstGeom>
            <a:ln w="50760">
              <a:solidFill>
                <a:srgbClr val="00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A21-A973-481D-AD1A-9B90231912A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58D13-D756-4A6D-A0E9-5EBF76792B98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60280" y="176040"/>
            <a:ext cx="7405560" cy="78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urce related noise abatement in the road secto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60280" y="1365120"/>
            <a:ext cx="7305480" cy="457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473040" indent="-187200">
              <a:lnSpc>
                <a:spcPts val="3300"/>
              </a:lnSpc>
              <a:buClr>
                <a:srgbClr val="a28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noise abatement at the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189000">
              <a:lnSpc>
                <a:spcPts val="3300"/>
              </a:lnSpc>
              <a:buClr>
                <a:srgbClr val="a28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s (power train and wind no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189000">
              <a:lnSpc>
                <a:spcPts val="3300"/>
              </a:lnSpc>
              <a:buClr>
                <a:srgbClr val="a28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189000">
              <a:lnSpc>
                <a:spcPts val="3300"/>
              </a:lnSpc>
              <a:buClr>
                <a:srgbClr val="a28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 su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0">
              <a:lnSpc>
                <a:spcPts val="33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87200">
              <a:lnSpc>
                <a:spcPts val="3300"/>
              </a:lnSpc>
              <a:buClr>
                <a:srgbClr val="a28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rect noise abatement at the sou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189000">
              <a:lnSpc>
                <a:spcPts val="3300"/>
              </a:lnSpc>
              <a:buClr>
                <a:srgbClr val="a28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n &amp; infrastructure pla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189000">
              <a:lnSpc>
                <a:spcPts val="3300"/>
              </a:lnSpc>
              <a:buClr>
                <a:srgbClr val="a28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49400">
              <a:lnSpc>
                <a:spcPts val="2200"/>
              </a:lnSpc>
              <a:spcBef>
                <a:spcPts val="400"/>
              </a:spcBef>
              <a:buClr>
                <a:srgbClr val="a28c58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 &amp; Driving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9400">
              <a:lnSpc>
                <a:spcPts val="2200"/>
              </a:lnSpc>
              <a:spcBef>
                <a:spcPts val="400"/>
              </a:spcBef>
              <a:buClr>
                <a:srgbClr val="a28c58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ion of vehicles allowed in areas or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940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FF5-830C-45A4-8EEE-497B8148F64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9D237-21A8-4288-B8CF-DA89611238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60280" y="176040"/>
            <a:ext cx="7405560" cy="78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60280" y="1365120"/>
            <a:ext cx="7305480" cy="457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473040" indent="-187200">
              <a:lnSpc>
                <a:spcPts val="3300"/>
              </a:lnSpc>
              <a:buClr>
                <a:srgbClr val="a28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hicle Noise limits: EU and UN/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87200">
              <a:lnSpc>
                <a:spcPts val="3300"/>
              </a:lnSpc>
              <a:buClr>
                <a:srgbClr val="a28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re Noise limits: EU and UN/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87200">
              <a:lnSpc>
                <a:spcPts val="3300"/>
              </a:lnSpc>
              <a:buClr>
                <a:srgbClr val="a28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ad surfaces: national or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AAB-FB00-4523-A8E4-476E4F0F2F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380AA-C33B-422A-B1F8-C5EC846A28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60280" y="176040"/>
            <a:ext cx="7405560" cy="78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tential of traffic noise reduction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ngine, tyre and road surfac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84240" y="1728720"/>
            <a:ext cx="8159760" cy="483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554-EB60-476D-993F-4CF2B082D4D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9EA2F-92C3-4A3F-8919-DADB08D8F6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60280" y="176040"/>
            <a:ext cx="7405560" cy="78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rous asphalt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1365120"/>
            <a:ext cx="7993080" cy="9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ce 1940? reduction of splash &amp; spray on airport runway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ce 1980: application as low noise road surface (-3 dB at 120 km/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400720" cy="38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79B-2D68-46FD-89AD-08DD913D6AB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BC662-F156-4A28-BA97-4826DBC220BA}" type="datetime1">
              <a:rPr lang="en-US"/>
              <a:t>07/29/26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60280" y="176040"/>
            <a:ext cx="7405560" cy="78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coustic optimisation of porous asphal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30584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0: Two layered porous asphalt with improved surface te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869080" cy="398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BF7-B64D-461D-A618-E2A6B802A4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F738A-4D32-4A70-8760-C471CA118F7A}" type="datetime1">
              <a:rPr lang="en-US"/>
              <a:t>07/29/26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12:29:12Z</dcterms:created>
  <dc:creator>KORTBEEK</dc:creator>
  <dc:description/>
  <dc:language>en-US</dc:language>
  <cp:lastModifiedBy>Dzintars</cp:lastModifiedBy>
  <dcterms:modified xsi:type="dcterms:W3CDTF">2006-09-05T15:42:15Z</dcterms:modified>
  <cp:revision>63</cp:revision>
  <dc:subject/>
  <dc:title>Reducing noise pollution from cars </dc:title>
</cp:coreProperties>
</file>