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66413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5120" y="44132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717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5712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08948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512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5712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08948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762156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717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buClr>
                <a:srgbClr val="00cc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buClr>
                <a:srgbClr val="00cc00"/>
              </a:buClr>
              <a:buFont typeface="Wingdings" charset="2"/>
              <a:buChar char="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2" marL="1343160" indent="-233640">
              <a:buClr>
                <a:srgbClr val="00cc00"/>
              </a:buClr>
              <a:buSzPct val="80000"/>
              <a:buFont typeface="Arial"/>
              <a:buChar char="o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3" marL="1778040" indent="-235080">
              <a:buClr>
                <a:srgbClr val="00cc00"/>
              </a:buClr>
              <a:buSzPct val="90000"/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4" marL="2209680" indent="-231480">
              <a:buClr>
                <a:srgbClr val="00cc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5" marL="2209680" indent="-231480">
              <a:buClr>
                <a:srgbClr val="0000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6" marL="2209680" indent="-231480">
              <a:buClr>
                <a:srgbClr val="0000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10960" y="6904080"/>
            <a:ext cx="29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7162920"/>
            <a:ext cx="373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0" bIns="122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0920"/>
                <a:tab algn="l" pos="8775720"/>
                <a:tab algn="l" pos="9872640"/>
                <a:tab algn="l" pos="109695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FM, Institute for Vehicle Technology and Mo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95960" y="731520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B09B-372B-4505-B772-64DF955CB7E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743360" y="3462480"/>
            <a:ext cx="10668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078840" y="6762600"/>
            <a:ext cx="1390680" cy="657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545760" y="73915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obilitä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571320"/>
            <a:ext cx="6172200" cy="3434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d by the expert from Germany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756432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 fontScale="71000"/>
          </a:bodyPr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e French/German ASEP proposal</a:t>
            </a: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214920"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05.09.2006</a:t>
            </a: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"/>
            <a:ext cx="42670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B-44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4th GRB, 4-6 Septemb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2.1.3.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53760" y="1001520"/>
            <a:ext cx="95756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 fontScale="96000"/>
          </a:bodyPr>
          <a:p>
            <a:pPr marL="290880" indent="-290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_tyre = L_tyre_ref + a * log(v/v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lvl="1" marL="871560" indent="-387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_tyre_ref = L_tyre(v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lvl="1" marL="871560" indent="-387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= 50 km/h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marL="2908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700" spc="-1" strike="noStrike">
              <a:solidFill>
                <a:srgbClr val="00cc00"/>
              </a:solidFill>
              <a:latin typeface="Arial"/>
            </a:endParaRPr>
          </a:p>
          <a:p>
            <a:pPr marL="290880" indent="-290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_prop = L_prop_ref  + b * (n – n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lvl="1" marL="871560" indent="-387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_prop_ref = L_prop(n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lvl="1" marL="871560" indent="-387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is determined by engine speed in gear i of Annex 3 at 50 km/h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lvl="1" marL="871560" indent="-387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_prop_ref is determined by L_wot of annex 3 in gear i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lvl="1" marL="871560" indent="-387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 = 6/1000, if n &gt; n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lvl="1" marL="871560" indent="-387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 = 3/1000, if n &lt; n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lvl="1" marL="8715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700" spc="-1" strike="noStrike">
              <a:solidFill>
                <a:srgbClr val="00cc00"/>
              </a:solidFill>
              <a:latin typeface="Arial"/>
            </a:endParaRPr>
          </a:p>
          <a:p>
            <a:pPr marL="290880" indent="-290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prop_ref is calculated using the following equation: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lvl="1" marL="871560" indent="-387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30000"/>
              <a:buFont typeface="Wingdings" charset="2"/>
              <a:buChar char="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prop_ref = 10*log(10^(0.1*L_wot_i) – 10^(0.1*Lroll_50))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lvl="1" marL="871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800" spc="-1" strike="noStrike">
              <a:solidFill>
                <a:srgbClr val="00cc00"/>
              </a:solidFill>
              <a:latin typeface="Arial"/>
            </a:endParaRPr>
          </a:p>
          <a:p>
            <a:pPr marL="290880" indent="-290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_ASEP_F (v, n) = 10 * log(10 </a:t>
            </a:r>
            <a:r>
              <a:rPr b="1" lang="en-US" sz="1800" spc="-1" strike="noStrike" baseline="30000">
                <a:solidFill>
                  <a:srgbClr val="008000"/>
                </a:solidFill>
                <a:latin typeface="Arial"/>
              </a:rPr>
              <a:t>(0.1 * (L_prop_ref  + b * (n – n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1800" spc="-1" strike="noStrike" baseline="30000">
                <a:solidFill>
                  <a:srgbClr val="008000"/>
                </a:solidFill>
                <a:latin typeface="Arial"/>
              </a:rPr>
              <a:t>))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+ 10</a:t>
            </a:r>
            <a:r>
              <a:rPr b="1" lang="en-US" sz="1800" spc="-1" strike="noStrike" baseline="30000">
                <a:solidFill>
                  <a:srgbClr val="008000"/>
                </a:solidFill>
                <a:latin typeface="Arial"/>
              </a:rPr>
              <a:t>^(0.1 * L_tyre_ref + a * log(v/v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1800" spc="-1" strike="noStrike" baseline="30000">
                <a:solidFill>
                  <a:srgbClr val="008000"/>
                </a:solidFill>
                <a:latin typeface="Arial"/>
              </a:rPr>
              <a:t>))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marL="2908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+ 2 dB(A)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marL="2908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t is an open question whether n and v should be related to the microphone plane PP’, to Lmax or to the end of the test track BB’.</a:t>
            </a: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  <a:p>
            <a:pPr marL="2908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2598840"/>
                <a:tab algn="l" pos="314172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8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he Noise model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est track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25760" y="138240"/>
            <a:ext cx="4846680" cy="74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sults for vehicles with manual transmission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040" y="857160"/>
            <a:ext cx="1008216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Propulsion noise limit curv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8120" y="785880"/>
            <a:ext cx="97916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Exampl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680" y="785880"/>
            <a:ext cx="10009080" cy="62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25400" y="929880"/>
            <a:ext cx="92887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80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ehicle speeds between 20 km/h (v_AA’) and 70 km/h (v_BB’)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ngine speeds at BB’ up to 2,6*pmr</a:t>
            </a:r>
            <a:r>
              <a:rPr b="1" lang="en-US" sz="2000" spc="-1" strike="noStrike" baseline="30000">
                <a:solidFill>
                  <a:srgbClr val="008000"/>
                </a:solidFill>
                <a:latin typeface="Arial"/>
              </a:rPr>
              <a:t>-0,29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* (s – n_idle) + n_idle,  but not more than 0,9* (s – n_idle) + n_idle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 – rated engine speed in min-1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_idle – idling speed in min-1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mr = Pn in kW/(m0 in kg +75)*1000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mr is the power to mass ratio index. This is the rated power of the vehicle (Pn) in kW di-vided by the kerb mass of the vehicle (m0) in kg + 75 (to account for the mass of the driver) and multiplied by 1000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est area limitation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Engine speed limitation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3200" y="735120"/>
            <a:ext cx="986472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GRB 0906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6120" y="3809880"/>
            <a:ext cx="73468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ank you for your patience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0:44:36Z</dcterms:created>
  <dc:creator>Heinz Steven</dc:creator>
  <dc:description/>
  <dc:language>en-US</dc:language>
  <cp:lastModifiedBy>Dzintars</cp:lastModifiedBy>
  <cp:lastPrinted>1997-03-27T18:20:28Z</cp:lastPrinted>
  <dcterms:modified xsi:type="dcterms:W3CDTF">2006-09-05T15:34:11Z</dcterms:modified>
  <cp:revision>114</cp:revision>
  <dc:subject/>
  <dc:title>Motorcycle Noise Emission</dc:title>
</cp:coreProperties>
</file>