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83400" cy="10033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688E-C1BD-40CB-B01C-88A885AA7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71E0-3639-4141-9F0E-AB33D2906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5AC6-F0AE-4EFC-BDA8-7E537B66C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0686-5ED2-490D-8DCF-54D419D53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EBD9-2D54-4468-8484-97BFC7201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9627-D858-424D-9C38-A67AEE725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19BF-1BC6-4021-873D-062F83E45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CAEF-8F1F-46A4-83DE-1A633C91D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4C7E-4CDA-4E95-9E33-52100DDE5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6C68-3273-43BB-B460-173E941D2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D64D-A376-4BA9-9F8D-F5CE47022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4F02-F1E7-474C-9B3B-17932A45B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8E4C1-0A35-402E-9E57-A0B1923F22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2074680" y="340992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-2880" y="228600"/>
            <a:ext cx="505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Vehicle noise behavior - French con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2073240" y="5353200"/>
            <a:ext cx="39607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2073240" y="2473200"/>
            <a:ext cx="0" cy="288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12120" y="542592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hicle sp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6840" y="218592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hicle no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34720" y="355284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(N_i ; v_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160880" y="333684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0320" y="2978280"/>
            <a:ext cx="348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0000"/>
                </a:solidFill>
                <a:latin typeface="Arial"/>
              </a:rPr>
              <a:t>Vehicle noise simulated (N ; 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2840" y="3265560"/>
            <a:ext cx="349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Vehicle noise measured (N ; 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67040" y="37702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ff00"/>
                </a:solidFill>
                <a:latin typeface="Arial"/>
              </a:rPr>
              <a:t>L wo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5760" y="3193920"/>
            <a:ext cx="18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L wot measu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5760" y="297828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L wot simu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073240" y="398628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075040" y="319392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513240" y="3914640"/>
            <a:ext cx="144360" cy="142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1840" y="928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79440" y="914400"/>
            <a:ext cx="4028760" cy="11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odel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 tyre = L_tyre (v ref)+ a*log (v/v ref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 engine expecting = L engine (N ref) + b (N – N ref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 vehicle (N, v) = L engine expecting (N)  « + »  L tyre (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 limit = L vehicle (N, v) +2 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 rot="10540200">
            <a:off x="2469960" y="4107960"/>
            <a:ext cx="5330520" cy="201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01071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01071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170320" y="39132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333399"/>
                </a:solidFill>
                <a:latin typeface="Arial"/>
              </a:rPr>
              <a:t>L tyre (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84520" y="40575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650680" y="405756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≥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84520" y="4417920"/>
            <a:ext cx="0" cy="100800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92520" y="4057560"/>
            <a:ext cx="1447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936880" y="4562640"/>
            <a:ext cx="144360" cy="142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13640" y="4129200"/>
            <a:ext cx="1541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00"/>
                </a:solidFill>
                <a:latin typeface="Arial"/>
              </a:rPr>
              <a:t>Homologation poi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00"/>
                </a:solidFill>
                <a:latin typeface="Arial"/>
              </a:rPr>
              <a:t>from Annex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21960" y="2328840"/>
            <a:ext cx="13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limit (N ; 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160880" y="247320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33960" y="26179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94160" y="2565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60880" y="3121200"/>
            <a:ext cx="144360" cy="21564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35280" y="6093000"/>
            <a:ext cx="144360" cy="142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14520" y="5950080"/>
            <a:ext cx="24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0000"/>
                </a:solidFill>
                <a:latin typeface="Arial"/>
              </a:rPr>
              <a:t>ASEP Measu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2640" y="1219320"/>
            <a:ext cx="314784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ritique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iqué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uit pneumatique incomplet (effet coup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0"/>
            <a:ext cx="419076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formal document N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B-44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4th GRB, 4-6 September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da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.2.1.3.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-5760" y="-25560"/>
            <a:ext cx="80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Vehicle noise behavior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rench concept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: Construction of the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085840" y="3573000"/>
            <a:ext cx="39610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085840" y="1628280"/>
            <a:ext cx="0" cy="194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824720" y="364644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hicle sp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0720" y="141300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ehicle no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9720" y="2039760"/>
            <a:ext cx="170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ff00"/>
                </a:solidFill>
                <a:latin typeface="Arial"/>
              </a:rPr>
              <a:t>L wot i (N ref, v ref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2085840" y="220680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25840" y="2135160"/>
            <a:ext cx="144360" cy="142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31840" y="1720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97120" y="2276640"/>
            <a:ext cx="0" cy="136980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05480" y="2278080"/>
            <a:ext cx="14436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949480" y="2782800"/>
            <a:ext cx="1447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765840" y="3138480"/>
            <a:ext cx="1447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980040" y="3116160"/>
            <a:ext cx="20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33399"/>
                </a:solidFill>
                <a:latin typeface="Arial"/>
              </a:rPr>
              <a:t>Tyre noise measu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67640" y="2779560"/>
            <a:ext cx="144360" cy="142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910560" y="2708280"/>
            <a:ext cx="2233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ff00"/>
                </a:solidFill>
                <a:latin typeface="Arial"/>
              </a:rPr>
              <a:t>L wot i homologation poi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ff00"/>
                </a:solidFill>
                <a:latin typeface="Arial"/>
              </a:rPr>
              <a:t>from Annex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6200" y="4581360"/>
            <a:ext cx="7905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37120" y="371628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V re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638160" y="141300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Measu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23240" y="4365720"/>
            <a:ext cx="268452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Tyre noise model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 tyre = L_tyre (v ref)+ a*log (v/v ref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4581360"/>
            <a:ext cx="129528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41480" y="4653000"/>
            <a:ext cx="1226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égres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arithmique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92280" y="443700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a et L tyre (v ref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46200" y="5516640"/>
            <a:ext cx="7905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21440" y="5373720"/>
            <a:ext cx="36327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 engine (N ref)  = L wot i (Nref) « - » L tyre ( v ref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35640" y="5516640"/>
            <a:ext cx="144144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026120" y="5373720"/>
            <a:ext cx="177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L engine (N ref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1280" y="4292640"/>
            <a:ext cx="13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easurements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08000" y="5229360"/>
            <a:ext cx="13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easurements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-6840" y="-25560"/>
            <a:ext cx="823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Vehicle noise behavior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rench concept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: Model Application for (N, 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79640" y="2637000"/>
            <a:ext cx="3075120" cy="18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1957320" y="1143000"/>
            <a:ext cx="22320" cy="1494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719960" y="278136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hicle sp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92920" y="92700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yre no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86480" y="3429000"/>
            <a:ext cx="398016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odel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 engine expecting = L engine (N ref) + b (N – N ref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 rot="10540200">
            <a:off x="2376360" y="1389960"/>
            <a:ext cx="5330520" cy="201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01071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010710"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076360" y="1195560"/>
            <a:ext cx="127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L tyre (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52720" y="1557360"/>
            <a:ext cx="0" cy="107964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052720" y="5734080"/>
            <a:ext cx="3074760" cy="1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2030400" y="4240080"/>
            <a:ext cx="22320" cy="1494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5600" y="5805360"/>
            <a:ext cx="157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ngine sp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9040" y="407664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ngine no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64000" y="4076640"/>
            <a:ext cx="276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L engine expecting (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780000" y="1486080"/>
            <a:ext cx="144360" cy="142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58880" y="620640"/>
            <a:ext cx="283716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odel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 tyre = L_tyre (v ref)+ a*log (v/v ref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2349360"/>
            <a:ext cx="144360" cy="142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20280" y="2278080"/>
            <a:ext cx="27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ff0000"/>
                </a:solidFill>
                <a:latin typeface="Arial"/>
              </a:rPr>
              <a:t>Tyre noise calculation at 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709800" y="270972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188720" y="1413000"/>
            <a:ext cx="7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0000"/>
                </a:solidFill>
                <a:latin typeface="Arial"/>
              </a:rPr>
              <a:t>L tyre (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979280" y="1557360"/>
            <a:ext cx="1873080" cy="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629080" y="4220640"/>
            <a:ext cx="2665080" cy="792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25800" y="4653000"/>
            <a:ext cx="0" cy="107964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52720" y="4581360"/>
            <a:ext cx="144720" cy="142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052360" y="4653000"/>
            <a:ext cx="1873080" cy="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09800" y="58053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46600" y="4510080"/>
            <a:ext cx="172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0000"/>
                </a:solidFill>
                <a:latin typeface="Arial"/>
              </a:rPr>
              <a:t>L engine expecting (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146560" y="5084640"/>
            <a:ext cx="144720" cy="142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70480" y="5013360"/>
            <a:ext cx="28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ff0000"/>
                </a:solidFill>
                <a:latin typeface="Arial"/>
              </a:rPr>
              <a:t>Engine noise expecting at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20532000">
            <a:off x="2771280" y="4292640"/>
            <a:ext cx="17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00000"/>
                </a:solidFill>
                <a:latin typeface="Arial"/>
              </a:rPr>
              <a:t>Slope 5 or 6 dB / 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91560" y="6237360"/>
            <a:ext cx="593244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odel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 vehicle (N, v) = L engine expecting (N)  « + »  L tyre (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332000" y="6453360"/>
            <a:ext cx="7905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56000" y="4941720"/>
            <a:ext cx="144360" cy="142920"/>
          </a:xfrm>
          <a:prstGeom prst="ellipse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148360" y="5373720"/>
            <a:ext cx="144360" cy="142920"/>
          </a:xfrm>
          <a:prstGeom prst="ellipse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69760" y="5300640"/>
            <a:ext cx="166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ff00"/>
                </a:solidFill>
                <a:latin typeface="Arial"/>
              </a:rPr>
              <a:t>L engine (N ref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356000" y="1413000"/>
            <a:ext cx="1447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98920" y="1943280"/>
            <a:ext cx="144360" cy="142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794200" y="2082960"/>
            <a:ext cx="144720" cy="142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17040" y="2011320"/>
            <a:ext cx="268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99"/>
                </a:solidFill>
                <a:latin typeface="Arial"/>
              </a:rPr>
              <a:t>Tyre noise measu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1T12:07:47Z</dcterms:created>
  <dc:creator>pardo</dc:creator>
  <dc:description/>
  <dc:language>en-US</dc:language>
  <cp:lastModifiedBy>Dzintars</cp:lastModifiedBy>
  <dcterms:modified xsi:type="dcterms:W3CDTF">2006-09-05T15:21:30Z</dcterms:modified>
  <cp:revision>17</cp:revision>
  <dc:subject/>
  <dc:title>Diapositive 1</dc:title>
</cp:coreProperties>
</file>