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621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57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8948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5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57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8948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762156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buClr>
                <a:srgbClr val="00cc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buClr>
                <a:srgbClr val="00cc00"/>
              </a:buClr>
              <a:buFont typeface="Wingdings" charset="2"/>
              <a:buChar char="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2" marL="1343160" indent="-233640">
              <a:buClr>
                <a:srgbClr val="00cc00"/>
              </a:buClr>
              <a:buSzPct val="80000"/>
              <a:buFont typeface="Arial"/>
              <a:buChar char="o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3" marL="1778040" indent="-235080">
              <a:buClr>
                <a:srgbClr val="00cc00"/>
              </a:buClr>
              <a:buSzPct val="90000"/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4" marL="2209680" indent="-231480">
              <a:buClr>
                <a:srgbClr val="00cc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5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6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10960" y="6904080"/>
            <a:ext cx="29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7162920"/>
            <a:ext cx="409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0" bIns="12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0920"/>
                <a:tab algn="l" pos="8775720"/>
                <a:tab algn="l" pos="9872640"/>
                <a:tab algn="l" pos="109695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M, Institute for Vehicle Technology and Mo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304920" y="762120"/>
            <a:ext cx="1005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95960" y="731520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6DF8-9FA8-42E3-BC51-DBA8198E9AD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43360" y="3462480"/>
            <a:ext cx="10668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9078840" y="6762600"/>
            <a:ext cx="1390680" cy="657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545760" y="73915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obilitä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vision of 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41040" y="1145880"/>
            <a:ext cx="88599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First analysis of the Informal GRB R41 TF database</a:t>
            </a: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y Heinz Steven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23.10.2006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4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09080" cy="622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5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9400" y="785880"/>
            <a:ext cx="10225080" cy="63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6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3760" y="785880"/>
            <a:ext cx="1000908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7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3760" y="714240"/>
            <a:ext cx="10080720" cy="62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8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9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714240"/>
            <a:ext cx="1037448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0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9400" y="714240"/>
            <a:ext cx="10225080" cy="63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1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2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3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0680" y="785880"/>
            <a:ext cx="1008216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44 vehicles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1 from Japan,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5 from ACEM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1 from INDIA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2 from USSMA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5 from BASt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No results from INDIA for current ECE R41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tailed results (single measurements) for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ECE R41 from Japan and ACEM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SO 362-2 from Japan and ACEM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ASEP from Japan, ACEM, INDIA, USSMA,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oadside enforcement from Japan, ACEM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e following tables show the technical data of the vehicle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ontent and structur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4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0680" y="857160"/>
            <a:ext cx="10009080" cy="622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5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0680" y="785880"/>
            <a:ext cx="1008216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e following figures contain comparisons of the results for different methods.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omparison of result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L_urban versus L_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6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5040" y="857160"/>
            <a:ext cx="9864720" cy="61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L_urban, L_ECE R41 versus power to mass ratio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7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99378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ISO 362-2: Lwot versus Lcs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8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9400" y="785880"/>
            <a:ext cx="10225080" cy="63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L_ASEP, L_enforcement versus Lwot (ISO 362-2)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9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153800" cy="63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5400" y="929880"/>
            <a:ext cx="9288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or 14 vehicles of the TUEV Nord motorcycle database (derived within UBA projects) and 9 vehicles of the 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Informal GRB R41 TF database the slopes of the linear regression lines of Lmax versus engine speed and versus normalised engine speed ((n – n_idle)/(s – n_idle)) were calculated for each side of the vehicle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The results show an influence of rated engine speed as demonstrated in the following figure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The slopes decrease with increasing rated_speed for the absolute engine speeds and increase with increasing rated speed for the normalised speed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Tolerance bands can be determined that could be used for ASEP requirement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Slope of Lmax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3760" y="272160"/>
            <a:ext cx="10153440" cy="40428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lopes of the linear regression lines of Lmax versus engine spe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20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5040" y="857160"/>
            <a:ext cx="9864720" cy="61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3760" y="272160"/>
            <a:ext cx="10153440" cy="40428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lopes of the linear regression lines of Lmax versus engine spe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21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3760" y="714240"/>
            <a:ext cx="10080720" cy="62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chnical data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Table 1a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5040" y="1936800"/>
            <a:ext cx="993780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5400" y="929880"/>
            <a:ext cx="9288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ithin a project for the UBA TUEV Nord tested some motorcycles with original and replacement silencers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ome of the replacement silencers showed noise emissions that were similar to the original equipment but could be easily modified so that the noise emission was increased between 7 and 13 dB(A). This modification makes the silencer illegal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owever, an advanced silencer whose noise emission up to engine speeds that are covered by ISO 362-2 are similar to the original equipment but switches to the illegal mode at higher engine speeds would no longer be illegal without ASEP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e following figure shows an example based on measurement results.  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Example for ASEP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3760" y="272160"/>
            <a:ext cx="10153440" cy="40428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ple for the necessity for ASEP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18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22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9400" y="785880"/>
            <a:ext cx="1000908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25400" y="3594240"/>
            <a:ext cx="9288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ank You  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vision of 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chnical data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Table 1b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040" y="1722600"/>
            <a:ext cx="9864720" cy="31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chnical data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Table 1c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040" y="1577880"/>
            <a:ext cx="98647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e following figures show the detailed results for all methods versus engine speed per vehicle.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sult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1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3760" y="785880"/>
            <a:ext cx="10080720" cy="62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2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680" y="714240"/>
            <a:ext cx="10082160" cy="627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Detailed results versus engine speed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02480" y="6978600"/>
            <a:ext cx="172872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gure 3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3760" y="785880"/>
            <a:ext cx="9864720" cy="613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0:44:36Z</dcterms:created>
  <dc:creator>Heinz Steven</dc:creator>
  <dc:description/>
  <dc:language>en-US</dc:language>
  <cp:lastModifiedBy>Enonler2</cp:lastModifiedBy>
  <cp:lastPrinted>1997-03-27T18:20:28Z</cp:lastPrinted>
  <dcterms:modified xsi:type="dcterms:W3CDTF">2007-02-14T08:58:19Z</dcterms:modified>
  <cp:revision>79</cp:revision>
  <dc:subject/>
  <dc:title>Motorcycle Noise Emission</dc:title>
</cp:coreProperties>
</file>