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0666413" cy="76215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9263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5120" y="4413240"/>
            <a:ext cx="9263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5120" y="44132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71720" y="44132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57120" y="21146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89480" y="21146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5120" y="44132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57120" y="44132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89480" y="44132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5120" y="2114640"/>
            <a:ext cx="9263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9263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762156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5120" y="44132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71720" y="44132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5120" y="4413240"/>
            <a:ext cx="9263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5120" y="2114640"/>
            <a:ext cx="9263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-303120">
              <a:buClr>
                <a:srgbClr val="00cc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buClr>
                <a:srgbClr val="00cc00"/>
              </a:buClr>
              <a:buFont typeface="Wingdings" charset="2"/>
              <a:buChar char="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2" marL="1343160" indent="-233640">
              <a:buClr>
                <a:srgbClr val="00cc00"/>
              </a:buClr>
              <a:buSzPct val="80000"/>
              <a:buFont typeface="Arial"/>
              <a:buChar char="o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3" marL="1778040" indent="-235080">
              <a:buClr>
                <a:srgbClr val="00cc00"/>
              </a:buClr>
              <a:buSzPct val="90000"/>
              <a:buFont typeface="Arial"/>
              <a:buChar char="–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4" marL="2209680" indent="-231480">
              <a:buClr>
                <a:srgbClr val="00cc00"/>
              </a:buClr>
              <a:buSzPct val="6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5" marL="2209680" indent="-231480">
              <a:buClr>
                <a:srgbClr val="000000"/>
              </a:buClr>
              <a:buSzPct val="6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6" marL="2209680" indent="-231480">
              <a:buClr>
                <a:srgbClr val="000000"/>
              </a:buClr>
              <a:buSzPct val="6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10960" y="6904080"/>
            <a:ext cx="298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7162920"/>
            <a:ext cx="4092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0" bIns="122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0920"/>
                <a:tab algn="l" pos="8775720"/>
                <a:tab algn="l" pos="9872640"/>
                <a:tab algn="l" pos="109695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FM, Institute for Vehicle Technology and Mo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304920" y="762120"/>
            <a:ext cx="1005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95960" y="731520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3485-7F9F-407F-8873-BCF0BB66608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43360" y="3462480"/>
            <a:ext cx="10668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9078840" y="6762600"/>
            <a:ext cx="1390680" cy="657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545760" y="739152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Mobilitä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Revision of ECE R41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41040" y="1145880"/>
            <a:ext cx="88599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First analysis of the Informal GRB R41 TF database</a:t>
            </a: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By Heinz Steven</a:t>
            </a: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23.10.2006</a:t>
            </a: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4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0680" y="714240"/>
            <a:ext cx="10009080" cy="622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5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9400" y="785880"/>
            <a:ext cx="10225080" cy="63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6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93760" y="785880"/>
            <a:ext cx="10009080" cy="62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7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93760" y="714240"/>
            <a:ext cx="10080720" cy="62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8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0680" y="714240"/>
            <a:ext cx="10082160" cy="627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9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714240"/>
            <a:ext cx="1037448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10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9400" y="714240"/>
            <a:ext cx="10225080" cy="635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11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0680" y="714240"/>
            <a:ext cx="10082160" cy="627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12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0680" y="714240"/>
            <a:ext cx="10082160" cy="627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13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0680" y="785880"/>
            <a:ext cx="10082160" cy="62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09400" y="929880"/>
            <a:ext cx="9793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44 vehicles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1 from Japan, 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5 from ACEM,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1 from INDIA,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2 from USSMA,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5 from BASt 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No results from INDIA for current ECE R41,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Detailed results (single measurements) for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ECE R41 from Japan and ACEM,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ISO 362-2 from Japan and ACEM,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ASEP from Japan, ACEM, INDIA, USSMA,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Roadside enforcement from Japan, ACEM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The following tables show the technical data of the vehicles.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Content and structure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14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0680" y="857160"/>
            <a:ext cx="10009080" cy="622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15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0680" y="785880"/>
            <a:ext cx="10082160" cy="62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09400" y="929880"/>
            <a:ext cx="9793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The following figures contain comparisons of the results for different methods. 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03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Comparison of results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L_urban versus L_ECE R41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18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16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65040" y="857160"/>
            <a:ext cx="9864720" cy="613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L_urban, L_ECE R41 versus power to mass ratio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18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17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0680" y="714240"/>
            <a:ext cx="9937800" cy="618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900" spc="-1" strike="noStrike">
                <a:solidFill>
                  <a:srgbClr val="000099"/>
                </a:solidFill>
                <a:latin typeface="Arial"/>
              </a:rPr>
              <a:t>ISO 362-2: Lwot versus Lcst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18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18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9400" y="785880"/>
            <a:ext cx="10225080" cy="63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900" spc="-1" strike="noStrike">
                <a:solidFill>
                  <a:srgbClr val="000099"/>
                </a:solidFill>
                <a:latin typeface="Arial"/>
              </a:rPr>
              <a:t>L_ASEP, L_enforcement versus Lwot (ISO 362-2)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18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19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0680" y="714240"/>
            <a:ext cx="10153800" cy="63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25400" y="929880"/>
            <a:ext cx="928872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or 14 vehicles of the TUEV Nord motorcycle database (derived within UBA projects) and 9 vehicles of the </a:t>
            </a: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Informal GRB R41 TF database the slopes of the linear regression lines of Lmax versus engine speed and versus normalised engine speed ((n – n_idle)/(s – n_idle)) were calculated for each side of the vehicle.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The results show an influence of rated engine speed as demonstrated in the following figures.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The slopes decrease with increasing rated_speed for the absolute engine speeds and increase with increasing rated speed for the normalised speeds.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Tolerance bands can be determined that could be used for ASEP requirements.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900" spc="-1" strike="noStrike">
                <a:solidFill>
                  <a:srgbClr val="000099"/>
                </a:solidFill>
                <a:latin typeface="Arial"/>
              </a:rPr>
              <a:t>Slope of Lmax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3760" y="272160"/>
            <a:ext cx="10153440" cy="40428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lopes of the linear regression lines of Lmax versus engine speed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918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20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65040" y="857160"/>
            <a:ext cx="9864720" cy="613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3760" y="272160"/>
            <a:ext cx="10153440" cy="40428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lopes of the linear regression lines of Lmax versus engine speed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18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21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3760" y="714240"/>
            <a:ext cx="10080720" cy="62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Technical data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Table 1a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65040" y="1936800"/>
            <a:ext cx="9937800" cy="37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25400" y="929880"/>
            <a:ext cx="928872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Within a project for the UBA TUEV Nord tested some motorcycles with original and replacement silencers.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Some of the replacement silencers showed noise emissions that were similar to the original equipment but could be easily modified so that the noise emission was increased between 7 and 13 dB(A). This modification makes the silencer illegal.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owever, an advanced silencer whose noise emission up to engine speeds that are covered by ISO 362-2 are similar to the original equipment but switches to the illegal mode at higher engine speeds would no longer be illegal without ASEP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The following figure shows an example based on measurement results.   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Example for ASEP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3760" y="272160"/>
            <a:ext cx="10153440" cy="40428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ample for the necessity for ASEP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918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22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9400" y="785880"/>
            <a:ext cx="10009080" cy="62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25400" y="3594240"/>
            <a:ext cx="9288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Thank You   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Revision of ECE R41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Technical data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Table 1b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5040" y="1722600"/>
            <a:ext cx="9864720" cy="31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Technical data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Table 1c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65040" y="1577880"/>
            <a:ext cx="9864720" cy="35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09400" y="929880"/>
            <a:ext cx="9793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The following figures show the detailed results for all methods versus engine speed per vehicle.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Results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1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3760" y="785880"/>
            <a:ext cx="10080720" cy="62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2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0680" y="714240"/>
            <a:ext cx="10082160" cy="627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3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3760" y="785880"/>
            <a:ext cx="9864720" cy="613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0:44:36Z</dcterms:created>
  <dc:creator>Heinz Steven</dc:creator>
  <dc:description/>
  <dc:language>en-US</dc:language>
  <cp:lastModifiedBy>Enonler2</cp:lastModifiedBy>
  <cp:lastPrinted>1997-03-27T18:20:28Z</cp:lastPrinted>
  <dcterms:modified xsi:type="dcterms:W3CDTF">2007-02-14T08:58:19Z</dcterms:modified>
  <cp:revision>79</cp:revision>
  <dc:subject/>
  <dc:title>Motorcycle Noise Emission</dc:title>
</cp:coreProperties>
</file>