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31.wmf" ContentType="image/x-wmf"/>
  <Override PartName="/ppt/media/image27.wmf" ContentType="image/x-wmf"/>
  <Override PartName="/ppt/media/image26.wmf" ContentType="image/x-wmf"/>
  <Override PartName="/ppt/media/image10.wmf" ContentType="image/x-wmf"/>
  <Override PartName="/ppt/media/image25.png" ContentType="image/png"/>
  <Override PartName="/ppt/media/image32.png" ContentType="image/png"/>
  <Override PartName="/ppt/media/image2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0.wmf" ContentType="image/x-wmf"/>
  <Override PartName="/ppt/media/image5.wmf" ContentType="image/x-wmf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E6B5-4703-41A3-95AA-C54D4F2F1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096A-2D3A-4B65-AADB-37823379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4FF3-A54F-4AC3-8E70-CDF5F2F4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225E-473E-4B1B-AB50-616406E91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B62F-8C34-447C-8622-9A46AA76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A218-FBE0-4B97-A166-B01632D4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7520-A497-4BD4-B56A-30E804C5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0EC2-7D1F-4332-A44D-DE5B4768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2906-B6DF-41BD-AE1A-C7B5E338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2E87-3E07-40F2-9609-98944681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2EE8-AF7F-4B4D-BBBF-7EA7F78D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3DB5-DCF1-44A9-B1C7-BF7DF113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22A2-6D0E-4551-AE10-04EED918A596}" type="slidenum"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1.wmf"/><Relationship Id="rId22" Type="http://schemas.openxmlformats.org/officeDocument/2006/relationships/image" Target="../media/image22.wmf"/><Relationship Id="rId23" Type="http://schemas.openxmlformats.org/officeDocument/2006/relationships/image" Target="../media/image23.wmf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wmf"/><Relationship Id="rId27" Type="http://schemas.openxmlformats.org/officeDocument/2006/relationships/image" Target="../media/image27.wmf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19.png"/><Relationship Id="rId31" Type="http://schemas.openxmlformats.org/officeDocument/2006/relationships/image" Target="../media/image28.png"/><Relationship Id="rId32" Type="http://schemas.openxmlformats.org/officeDocument/2006/relationships/image" Target="../media/image30.wmf"/><Relationship Id="rId33" Type="http://schemas.openxmlformats.org/officeDocument/2006/relationships/image" Target="../media/image31.wmf"/><Relationship Id="rId34" Type="http://schemas.openxmlformats.org/officeDocument/2006/relationships/image" Target="../media/image5.wmf"/><Relationship Id="rId35" Type="http://schemas.openxmlformats.org/officeDocument/2006/relationships/image" Target="../media/image6.wmf"/><Relationship Id="rId36" Type="http://schemas.openxmlformats.org/officeDocument/2006/relationships/image" Target="../media/image19.png"/><Relationship Id="rId37" Type="http://schemas.openxmlformats.org/officeDocument/2006/relationships/image" Target="../media/image20.wmf"/><Relationship Id="rId38" Type="http://schemas.openxmlformats.org/officeDocument/2006/relationships/image" Target="../media/image21.wmf"/><Relationship Id="rId39" Type="http://schemas.openxmlformats.org/officeDocument/2006/relationships/image" Target="../media/image22.wmf"/><Relationship Id="rId40" Type="http://schemas.openxmlformats.org/officeDocument/2006/relationships/image" Target="../media/image23.wmf"/><Relationship Id="rId41" Type="http://schemas.openxmlformats.org/officeDocument/2006/relationships/image" Target="../media/image32.png"/><Relationship Id="rId42" Type="http://schemas.openxmlformats.org/officeDocument/2006/relationships/image" Target="../media/image32.png"/><Relationship Id="rId43" Type="http://schemas.openxmlformats.org/officeDocument/2006/relationships/image" Target="../media/image14.png"/><Relationship Id="rId44" Type="http://schemas.openxmlformats.org/officeDocument/2006/relationships/image" Target="../media/image17.png"/><Relationship Id="rId45" Type="http://schemas.openxmlformats.org/officeDocument/2006/relationships/image" Target="../media/image13.png"/><Relationship Id="rId46" Type="http://schemas.openxmlformats.org/officeDocument/2006/relationships/image" Target="../media/image10.wmf"/><Relationship Id="rId47" Type="http://schemas.openxmlformats.org/officeDocument/2006/relationships/image" Target="../media/image28.png"/><Relationship Id="rId48" Type="http://schemas.openxmlformats.org/officeDocument/2006/relationships/image" Target="../media/image28.png"/><Relationship Id="rId49" Type="http://schemas.openxmlformats.org/officeDocument/2006/relationships/image" Target="../media/image33.png"/><Relationship Id="rId50" Type="http://schemas.openxmlformats.org/officeDocument/2006/relationships/image" Target="../media/image33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image" Target="../media/image28.png"/><Relationship Id="rId54" Type="http://schemas.openxmlformats.org/officeDocument/2006/relationships/image" Target="../media/image28.png"/><Relationship Id="rId55" Type="http://schemas.openxmlformats.org/officeDocument/2006/relationships/image" Target="../media/image20.wmf"/><Relationship Id="rId56" Type="http://schemas.openxmlformats.org/officeDocument/2006/relationships/image" Target="../media/image21.wmf"/><Relationship Id="rId57" Type="http://schemas.openxmlformats.org/officeDocument/2006/relationships/image" Target="../media/image22.wmf"/><Relationship Id="rId58" Type="http://schemas.openxmlformats.org/officeDocument/2006/relationships/image" Target="../media/image23.wmf"/><Relationship Id="rId59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R41WG database</a:t>
            </a:r>
            <a:br>
              <a:rPr sz="4000"/>
            </a:b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-</a:t>
            </a:r>
            <a:br>
              <a:rPr sz="4000"/>
            </a:b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IMMA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Material for discussion at data expert meeting on 22 November 2006 in Ann Arbor, 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6237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Geneva, November 8th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9" name=""/>
          <p:cNvGraphicFramePr/>
          <p:nvPr/>
        </p:nvGraphicFramePr>
        <p:xfrm>
          <a:off x="457200" y="1560600"/>
          <a:ext cx="8229600" cy="30207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imit 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(d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ver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 of vehi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74 - 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0" name=""/>
          <p:cNvSpPr/>
          <p:nvPr/>
        </p:nvSpPr>
        <p:spPr>
          <a:xfrm>
            <a:off x="684360" y="54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867280" y="5516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tal : 1 veh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"/>
          <p:cNvGraphicFramePr/>
          <p:nvPr/>
        </p:nvGraphicFramePr>
        <p:xfrm>
          <a:off x="457200" y="1560600"/>
          <a:ext cx="8229600" cy="3597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imit 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(d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ver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 of vehi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84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84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76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69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3" name=""/>
          <p:cNvSpPr/>
          <p:nvPr/>
        </p:nvSpPr>
        <p:spPr>
          <a:xfrm>
            <a:off x="684360" y="54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724360" y="5373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tal : 13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5" name=""/>
          <p:cNvGraphicFramePr/>
          <p:nvPr/>
        </p:nvGraphicFramePr>
        <p:xfrm>
          <a:off x="457200" y="1560600"/>
          <a:ext cx="8229600" cy="36687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imit 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(d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ver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 of vehi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93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87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78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75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6" name=""/>
          <p:cNvSpPr/>
          <p:nvPr/>
        </p:nvSpPr>
        <p:spPr>
          <a:xfrm>
            <a:off x="684360" y="54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651640" y="544500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tal : 33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"/>
          <p:cNvGrpSpPr/>
          <p:nvPr/>
        </p:nvGrpSpPr>
        <p:grpSpPr>
          <a:xfrm>
            <a:off x="454680" y="476280"/>
            <a:ext cx="8257680" cy="5500440"/>
            <a:chOff x="454680" y="476280"/>
            <a:chExt cx="8257680" cy="5500440"/>
          </a:xfrm>
        </p:grpSpPr>
        <p:sp>
          <p:nvSpPr>
            <p:cNvPr id="669" name=""/>
            <p:cNvSpPr/>
            <p:nvPr/>
          </p:nvSpPr>
          <p:spPr>
            <a:xfrm>
              <a:off x="611280" y="476280"/>
              <a:ext cx="46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CE41-03 vs ISO362-2 (A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95320" y="5853240"/>
              <a:ext cx="7554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95320" y="5510160"/>
              <a:ext cx="7554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95320" y="5167440"/>
              <a:ext cx="7554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95320" y="4808520"/>
              <a:ext cx="7554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95320" y="4465800"/>
              <a:ext cx="7554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95320" y="4121280"/>
              <a:ext cx="7554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95320" y="3778200"/>
              <a:ext cx="7554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95320" y="3076560"/>
              <a:ext cx="7554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95320" y="2733840"/>
              <a:ext cx="7554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95320" y="2389320"/>
              <a:ext cx="7554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95320" y="2046240"/>
              <a:ext cx="7554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95320" y="1687680"/>
              <a:ext cx="7554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95320" y="1344600"/>
              <a:ext cx="7554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95320" y="1001880"/>
              <a:ext cx="7554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941400" y="3435480"/>
              <a:ext cx="58680" cy="18208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104840" y="3435480"/>
              <a:ext cx="60480" cy="13428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268280" y="3435480"/>
              <a:ext cx="60480" cy="12985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433520" y="3435480"/>
              <a:ext cx="58680" cy="14335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596960" y="3435480"/>
              <a:ext cx="60480" cy="13730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62200" y="3435480"/>
              <a:ext cx="58680" cy="21492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925640" y="3435480"/>
              <a:ext cx="60480" cy="6109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090880" y="2987640"/>
              <a:ext cx="58680" cy="4478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54320" y="3435480"/>
              <a:ext cx="60120" cy="11048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419200" y="3435480"/>
              <a:ext cx="59040" cy="1332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583000" y="3435480"/>
              <a:ext cx="60120" cy="16412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746440" y="3435480"/>
              <a:ext cx="60120" cy="9396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911320" y="3435480"/>
              <a:ext cx="60480" cy="50616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075120" y="3435480"/>
              <a:ext cx="60120" cy="10746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240000" y="3435480"/>
              <a:ext cx="58680" cy="8348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403440" y="3435480"/>
              <a:ext cx="60480" cy="144756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568680" y="3435480"/>
              <a:ext cx="58680" cy="4316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732120" y="3435480"/>
              <a:ext cx="60480" cy="14176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897360" y="3435480"/>
              <a:ext cx="58680" cy="11188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060800" y="3435480"/>
              <a:ext cx="60480" cy="5968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224240" y="3435480"/>
              <a:ext cx="60480" cy="8953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552920" y="3435480"/>
              <a:ext cx="60480" cy="6570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718160" y="3435480"/>
              <a:ext cx="58680" cy="158256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881600" y="3435480"/>
              <a:ext cx="60120" cy="6109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046840" y="3435480"/>
              <a:ext cx="58680" cy="1936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210280" y="3435480"/>
              <a:ext cx="60120" cy="5522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375160" y="3435480"/>
              <a:ext cx="58680" cy="19256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538960" y="3435480"/>
              <a:ext cx="60120" cy="3427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703840" y="3435480"/>
              <a:ext cx="58680" cy="92556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280" y="2523960"/>
              <a:ext cx="60480" cy="9115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031080" y="3435480"/>
              <a:ext cx="60120" cy="14778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195960" y="3435480"/>
              <a:ext cx="60480" cy="12682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359400" y="3435480"/>
              <a:ext cx="60480" cy="16570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524640" y="3435480"/>
              <a:ext cx="58680" cy="6858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688080" y="3435480"/>
              <a:ext cx="60480" cy="13428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853320" y="3435480"/>
              <a:ext cx="58680" cy="119376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16760" y="3435480"/>
              <a:ext cx="60480" cy="10000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182000" y="2897280"/>
              <a:ext cx="58680" cy="5382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45440" y="3435480"/>
              <a:ext cx="60120" cy="2826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508880" y="3151080"/>
              <a:ext cx="60480" cy="2844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674120" y="3435480"/>
              <a:ext cx="60120" cy="50616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837560" y="3360600"/>
              <a:ext cx="60120" cy="748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002440" y="3435480"/>
              <a:ext cx="59040" cy="6714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166240" y="3435480"/>
              <a:ext cx="60120" cy="4032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331120" y="2554200"/>
              <a:ext cx="58680" cy="8812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95320" y="1001880"/>
              <a:ext cx="1440" cy="4851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95320" y="585324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95320" y="577836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95320" y="571968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95320" y="564516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95320" y="557064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95320" y="551016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95320" y="543564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95320" y="537516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95320" y="530064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95320" y="522612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95320" y="516744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95320" y="509256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95320" y="501804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95320" y="495792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95320" y="488304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95320" y="480852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95320" y="474804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95320" y="467352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95320" y="459900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95320" y="454032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95320" y="446580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95320" y="440532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95320" y="433080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95320" y="425592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95320" y="419580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95320" y="412128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95320" y="404640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95320" y="398772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95320" y="391320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95320" y="383868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95320" y="377820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95320" y="370368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95320" y="362916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95320" y="356868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95320" y="349416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95320" y="343548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95320" y="336060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95320" y="328608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95320" y="322596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95320" y="315108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95320" y="307656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95320" y="301608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95320" y="294156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95320" y="286704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95320" y="280836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95320" y="273384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95320" y="265896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95320" y="259884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95320" y="252396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95320" y="246384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95320" y="238932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95320" y="231444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95320" y="225576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95320" y="218124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895320" y="210672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95320" y="204624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95320" y="197172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95320" y="189720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95320" y="183672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95320" y="176220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95320" y="168768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95320" y="162864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95320" y="155412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95320" y="147960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95320" y="141912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95320" y="134460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95320" y="128412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95320" y="1209600"/>
              <a:ext cx="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95320" y="113508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95320" y="107640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95320" y="100188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95320" y="585324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95320" y="551016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95320" y="516744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95320" y="48085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95320" y="44658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95320" y="41212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95320" y="377820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95320" y="34354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95320" y="30765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95320" y="273384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95320" y="23893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95320" y="204624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95320" y="16876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95320" y="13446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95320" y="10018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95320" y="3435480"/>
              <a:ext cx="7554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89532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106056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122400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138924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155268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1717560" y="33894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188136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204480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2209680" y="33894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237348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2538360" y="33894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2701800" y="33894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286704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3030480" y="33894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319572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335916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3522600" y="33894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368784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385128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401652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417996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4344840" y="33894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V="1">
              <a:off x="450864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4673520" y="33894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flipV="1">
              <a:off x="4836960" y="33894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500220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5165640" y="33894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5329080" y="33894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549432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5657760" y="33894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582300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598644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615168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631512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6480000" y="33894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664380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680724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697248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713592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7300800" y="33894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flipV="1">
              <a:off x="746460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7629480" y="33894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7792920" y="33894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795816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8121600" y="33894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828684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8450280" y="33894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54680" y="5778360"/>
              <a:ext cx="287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-7.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54680" y="5435640"/>
              <a:ext cx="287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-6.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54680" y="5092560"/>
              <a:ext cx="287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-5.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54680" y="4734000"/>
              <a:ext cx="287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-4.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54680" y="4390920"/>
              <a:ext cx="287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-3.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54680" y="4046400"/>
              <a:ext cx="287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-2.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4680" y="3703680"/>
              <a:ext cx="287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-1.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29200" y="336060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0.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29200" y="300204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.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29200" y="265896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.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29200" y="231444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.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29200" y="197172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.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29200" y="161280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5.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29200" y="127008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.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29200" y="92700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.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935280" y="358452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262160" y="358452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90840" y="358452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19520" y="358452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248200" y="358452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526120" y="358452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4800" y="358452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183480" y="358452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510360" y="358452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839040" y="358452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9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67720" y="358452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496400" y="358452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824720" y="358452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153400" y="358452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482080" y="358452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9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810760" y="358452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139440" y="358452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467760" y="358452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795000" y="358452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123680" y="358452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9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452360" y="358452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780680" y="358452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109360" y="358452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80920" y="4226040"/>
              <a:ext cx="7569360" cy="15840"/>
            </a:xfrm>
            <a:custGeom>
              <a:avLst/>
              <a:gdLst/>
              <a:ahLst/>
              <a:rect l="l" t="t" r="r" b="b"/>
              <a:pathLst>
                <a:path w="8112" h="16">
                  <a:moveTo>
                    <a:pt x="8" y="0"/>
                  </a:moveTo>
                  <a:lnTo>
                    <a:pt x="56" y="0"/>
                  </a:lnTo>
                  <a:cubicBezTo>
                    <a:pt x="61" y="0"/>
                    <a:pt x="64" y="4"/>
                    <a:pt x="64" y="8"/>
                  </a:cubicBezTo>
                  <a:cubicBezTo>
                    <a:pt x="64" y="13"/>
                    <a:pt x="61" y="16"/>
                    <a:pt x="56" y="16"/>
                  </a:cubicBezTo>
                  <a:lnTo>
                    <a:pt x="8" y="16"/>
                  </a:lnTo>
                  <a:cubicBezTo>
                    <a:pt x="4" y="16"/>
                    <a:pt x="0" y="13"/>
                    <a:pt x="0" y="8"/>
                  </a:cubicBezTo>
                  <a:cubicBezTo>
                    <a:pt x="0" y="4"/>
                    <a:pt x="4" y="0"/>
                    <a:pt x="8" y="0"/>
                  </a:cubicBezTo>
                  <a:close/>
                  <a:moveTo>
                    <a:pt x="120" y="0"/>
                  </a:moveTo>
                  <a:lnTo>
                    <a:pt x="168" y="0"/>
                  </a:lnTo>
                  <a:cubicBezTo>
                    <a:pt x="173" y="0"/>
                    <a:pt x="176" y="4"/>
                    <a:pt x="176" y="8"/>
                  </a:cubicBezTo>
                  <a:cubicBezTo>
                    <a:pt x="176" y="13"/>
                    <a:pt x="173" y="16"/>
                    <a:pt x="168" y="16"/>
                  </a:cubicBezTo>
                  <a:lnTo>
                    <a:pt x="120" y="16"/>
                  </a:lnTo>
                  <a:cubicBezTo>
                    <a:pt x="116" y="16"/>
                    <a:pt x="112" y="13"/>
                    <a:pt x="112" y="8"/>
                  </a:cubicBezTo>
                  <a:cubicBezTo>
                    <a:pt x="112" y="4"/>
                    <a:pt x="116" y="0"/>
                    <a:pt x="120" y="0"/>
                  </a:cubicBezTo>
                  <a:close/>
                  <a:moveTo>
                    <a:pt x="232" y="0"/>
                  </a:moveTo>
                  <a:lnTo>
                    <a:pt x="280" y="0"/>
                  </a:lnTo>
                  <a:cubicBezTo>
                    <a:pt x="285" y="0"/>
                    <a:pt x="288" y="4"/>
                    <a:pt x="288" y="8"/>
                  </a:cubicBezTo>
                  <a:cubicBezTo>
                    <a:pt x="288" y="13"/>
                    <a:pt x="285" y="16"/>
                    <a:pt x="280" y="16"/>
                  </a:cubicBezTo>
                  <a:lnTo>
                    <a:pt x="232" y="16"/>
                  </a:lnTo>
                  <a:cubicBezTo>
                    <a:pt x="228" y="16"/>
                    <a:pt x="224" y="13"/>
                    <a:pt x="224" y="8"/>
                  </a:cubicBezTo>
                  <a:cubicBezTo>
                    <a:pt x="224" y="4"/>
                    <a:pt x="228" y="0"/>
                    <a:pt x="232" y="0"/>
                  </a:cubicBezTo>
                  <a:close/>
                  <a:moveTo>
                    <a:pt x="344" y="0"/>
                  </a:moveTo>
                  <a:lnTo>
                    <a:pt x="392" y="0"/>
                  </a:lnTo>
                  <a:cubicBezTo>
                    <a:pt x="397" y="0"/>
                    <a:pt x="400" y="4"/>
                    <a:pt x="400" y="8"/>
                  </a:cubicBezTo>
                  <a:cubicBezTo>
                    <a:pt x="400" y="13"/>
                    <a:pt x="397" y="16"/>
                    <a:pt x="392" y="16"/>
                  </a:cubicBezTo>
                  <a:lnTo>
                    <a:pt x="344" y="16"/>
                  </a:lnTo>
                  <a:cubicBezTo>
                    <a:pt x="340" y="16"/>
                    <a:pt x="336" y="13"/>
                    <a:pt x="336" y="8"/>
                  </a:cubicBezTo>
                  <a:cubicBezTo>
                    <a:pt x="336" y="4"/>
                    <a:pt x="340" y="0"/>
                    <a:pt x="344" y="0"/>
                  </a:cubicBezTo>
                  <a:close/>
                  <a:moveTo>
                    <a:pt x="456" y="0"/>
                  </a:moveTo>
                  <a:lnTo>
                    <a:pt x="504" y="0"/>
                  </a:lnTo>
                  <a:cubicBezTo>
                    <a:pt x="509" y="0"/>
                    <a:pt x="512" y="4"/>
                    <a:pt x="512" y="8"/>
                  </a:cubicBezTo>
                  <a:cubicBezTo>
                    <a:pt x="512" y="13"/>
                    <a:pt x="509" y="16"/>
                    <a:pt x="504" y="16"/>
                  </a:cubicBezTo>
                  <a:lnTo>
                    <a:pt x="456" y="16"/>
                  </a:lnTo>
                  <a:cubicBezTo>
                    <a:pt x="452" y="16"/>
                    <a:pt x="448" y="13"/>
                    <a:pt x="448" y="8"/>
                  </a:cubicBezTo>
                  <a:cubicBezTo>
                    <a:pt x="448" y="4"/>
                    <a:pt x="452" y="0"/>
                    <a:pt x="456" y="0"/>
                  </a:cubicBezTo>
                  <a:close/>
                  <a:moveTo>
                    <a:pt x="568" y="0"/>
                  </a:moveTo>
                  <a:lnTo>
                    <a:pt x="616" y="0"/>
                  </a:lnTo>
                  <a:cubicBezTo>
                    <a:pt x="621" y="0"/>
                    <a:pt x="624" y="4"/>
                    <a:pt x="624" y="8"/>
                  </a:cubicBezTo>
                  <a:cubicBezTo>
                    <a:pt x="624" y="13"/>
                    <a:pt x="621" y="16"/>
                    <a:pt x="616" y="16"/>
                  </a:cubicBezTo>
                  <a:lnTo>
                    <a:pt x="568" y="16"/>
                  </a:lnTo>
                  <a:cubicBezTo>
                    <a:pt x="564" y="16"/>
                    <a:pt x="560" y="13"/>
                    <a:pt x="560" y="8"/>
                  </a:cubicBezTo>
                  <a:cubicBezTo>
                    <a:pt x="560" y="4"/>
                    <a:pt x="564" y="0"/>
                    <a:pt x="568" y="0"/>
                  </a:cubicBezTo>
                  <a:close/>
                  <a:moveTo>
                    <a:pt x="680" y="0"/>
                  </a:moveTo>
                  <a:lnTo>
                    <a:pt x="728" y="0"/>
                  </a:lnTo>
                  <a:cubicBezTo>
                    <a:pt x="733" y="0"/>
                    <a:pt x="736" y="4"/>
                    <a:pt x="736" y="8"/>
                  </a:cubicBezTo>
                  <a:cubicBezTo>
                    <a:pt x="736" y="13"/>
                    <a:pt x="733" y="16"/>
                    <a:pt x="728" y="16"/>
                  </a:cubicBezTo>
                  <a:lnTo>
                    <a:pt x="680" y="16"/>
                  </a:lnTo>
                  <a:cubicBezTo>
                    <a:pt x="676" y="16"/>
                    <a:pt x="672" y="13"/>
                    <a:pt x="672" y="8"/>
                  </a:cubicBezTo>
                  <a:cubicBezTo>
                    <a:pt x="672" y="4"/>
                    <a:pt x="676" y="0"/>
                    <a:pt x="680" y="0"/>
                  </a:cubicBezTo>
                  <a:close/>
                  <a:moveTo>
                    <a:pt x="792" y="0"/>
                  </a:moveTo>
                  <a:lnTo>
                    <a:pt x="840" y="0"/>
                  </a:lnTo>
                  <a:cubicBezTo>
                    <a:pt x="845" y="0"/>
                    <a:pt x="848" y="4"/>
                    <a:pt x="848" y="8"/>
                  </a:cubicBezTo>
                  <a:cubicBezTo>
                    <a:pt x="848" y="13"/>
                    <a:pt x="845" y="16"/>
                    <a:pt x="840" y="16"/>
                  </a:cubicBezTo>
                  <a:lnTo>
                    <a:pt x="792" y="16"/>
                  </a:lnTo>
                  <a:cubicBezTo>
                    <a:pt x="788" y="16"/>
                    <a:pt x="784" y="13"/>
                    <a:pt x="784" y="8"/>
                  </a:cubicBezTo>
                  <a:cubicBezTo>
                    <a:pt x="784" y="4"/>
                    <a:pt x="788" y="0"/>
                    <a:pt x="792" y="0"/>
                  </a:cubicBezTo>
                  <a:close/>
                  <a:moveTo>
                    <a:pt x="904" y="0"/>
                  </a:moveTo>
                  <a:lnTo>
                    <a:pt x="952" y="0"/>
                  </a:lnTo>
                  <a:cubicBezTo>
                    <a:pt x="957" y="0"/>
                    <a:pt x="960" y="4"/>
                    <a:pt x="960" y="8"/>
                  </a:cubicBezTo>
                  <a:cubicBezTo>
                    <a:pt x="960" y="13"/>
                    <a:pt x="957" y="16"/>
                    <a:pt x="952" y="16"/>
                  </a:cubicBezTo>
                  <a:lnTo>
                    <a:pt x="904" y="16"/>
                  </a:lnTo>
                  <a:cubicBezTo>
                    <a:pt x="900" y="16"/>
                    <a:pt x="896" y="13"/>
                    <a:pt x="896" y="8"/>
                  </a:cubicBezTo>
                  <a:cubicBezTo>
                    <a:pt x="896" y="4"/>
                    <a:pt x="900" y="0"/>
                    <a:pt x="904" y="0"/>
                  </a:cubicBezTo>
                  <a:close/>
                  <a:moveTo>
                    <a:pt x="1016" y="0"/>
                  </a:moveTo>
                  <a:lnTo>
                    <a:pt x="1064" y="0"/>
                  </a:lnTo>
                  <a:cubicBezTo>
                    <a:pt x="1069" y="0"/>
                    <a:pt x="1072" y="4"/>
                    <a:pt x="1072" y="8"/>
                  </a:cubicBezTo>
                  <a:cubicBezTo>
                    <a:pt x="1072" y="13"/>
                    <a:pt x="1069" y="16"/>
                    <a:pt x="1064" y="16"/>
                  </a:cubicBezTo>
                  <a:lnTo>
                    <a:pt x="1016" y="16"/>
                  </a:lnTo>
                  <a:cubicBezTo>
                    <a:pt x="1012" y="16"/>
                    <a:pt x="1008" y="13"/>
                    <a:pt x="1008" y="8"/>
                  </a:cubicBezTo>
                  <a:cubicBezTo>
                    <a:pt x="1008" y="4"/>
                    <a:pt x="1012" y="0"/>
                    <a:pt x="1016" y="0"/>
                  </a:cubicBezTo>
                  <a:close/>
                  <a:moveTo>
                    <a:pt x="1128" y="0"/>
                  </a:moveTo>
                  <a:lnTo>
                    <a:pt x="1176" y="0"/>
                  </a:lnTo>
                  <a:cubicBezTo>
                    <a:pt x="1181" y="0"/>
                    <a:pt x="1184" y="4"/>
                    <a:pt x="1184" y="8"/>
                  </a:cubicBezTo>
                  <a:cubicBezTo>
                    <a:pt x="1184" y="13"/>
                    <a:pt x="1181" y="16"/>
                    <a:pt x="1176" y="16"/>
                  </a:cubicBezTo>
                  <a:lnTo>
                    <a:pt x="1128" y="16"/>
                  </a:lnTo>
                  <a:cubicBezTo>
                    <a:pt x="1124" y="16"/>
                    <a:pt x="1120" y="13"/>
                    <a:pt x="1120" y="8"/>
                  </a:cubicBezTo>
                  <a:cubicBezTo>
                    <a:pt x="1120" y="4"/>
                    <a:pt x="1124" y="0"/>
                    <a:pt x="1128" y="0"/>
                  </a:cubicBezTo>
                  <a:close/>
                  <a:moveTo>
                    <a:pt x="1240" y="0"/>
                  </a:moveTo>
                  <a:lnTo>
                    <a:pt x="1288" y="0"/>
                  </a:lnTo>
                  <a:cubicBezTo>
                    <a:pt x="1293" y="0"/>
                    <a:pt x="1296" y="4"/>
                    <a:pt x="1296" y="8"/>
                  </a:cubicBezTo>
                  <a:cubicBezTo>
                    <a:pt x="1296" y="13"/>
                    <a:pt x="1293" y="16"/>
                    <a:pt x="1288" y="16"/>
                  </a:cubicBezTo>
                  <a:lnTo>
                    <a:pt x="1240" y="16"/>
                  </a:lnTo>
                  <a:cubicBezTo>
                    <a:pt x="1236" y="16"/>
                    <a:pt x="1232" y="13"/>
                    <a:pt x="1232" y="8"/>
                  </a:cubicBezTo>
                  <a:cubicBezTo>
                    <a:pt x="1232" y="4"/>
                    <a:pt x="1236" y="0"/>
                    <a:pt x="1240" y="0"/>
                  </a:cubicBezTo>
                  <a:close/>
                  <a:moveTo>
                    <a:pt x="1352" y="0"/>
                  </a:moveTo>
                  <a:lnTo>
                    <a:pt x="1400" y="0"/>
                  </a:lnTo>
                  <a:cubicBezTo>
                    <a:pt x="1405" y="0"/>
                    <a:pt x="1408" y="4"/>
                    <a:pt x="1408" y="8"/>
                  </a:cubicBezTo>
                  <a:cubicBezTo>
                    <a:pt x="1408" y="13"/>
                    <a:pt x="1405" y="16"/>
                    <a:pt x="1400" y="16"/>
                  </a:cubicBezTo>
                  <a:lnTo>
                    <a:pt x="1352" y="16"/>
                  </a:lnTo>
                  <a:cubicBezTo>
                    <a:pt x="1348" y="16"/>
                    <a:pt x="1344" y="13"/>
                    <a:pt x="1344" y="8"/>
                  </a:cubicBezTo>
                  <a:cubicBezTo>
                    <a:pt x="1344" y="4"/>
                    <a:pt x="1348" y="0"/>
                    <a:pt x="1352" y="0"/>
                  </a:cubicBezTo>
                  <a:close/>
                  <a:moveTo>
                    <a:pt x="1464" y="0"/>
                  </a:moveTo>
                  <a:lnTo>
                    <a:pt x="1512" y="0"/>
                  </a:lnTo>
                  <a:cubicBezTo>
                    <a:pt x="1517" y="0"/>
                    <a:pt x="1520" y="4"/>
                    <a:pt x="1520" y="8"/>
                  </a:cubicBezTo>
                  <a:cubicBezTo>
                    <a:pt x="1520" y="13"/>
                    <a:pt x="1517" y="16"/>
                    <a:pt x="1512" y="16"/>
                  </a:cubicBezTo>
                  <a:lnTo>
                    <a:pt x="1464" y="16"/>
                  </a:lnTo>
                  <a:cubicBezTo>
                    <a:pt x="1460" y="16"/>
                    <a:pt x="1456" y="13"/>
                    <a:pt x="1456" y="8"/>
                  </a:cubicBezTo>
                  <a:cubicBezTo>
                    <a:pt x="1456" y="4"/>
                    <a:pt x="1460" y="0"/>
                    <a:pt x="1464" y="0"/>
                  </a:cubicBezTo>
                  <a:close/>
                  <a:moveTo>
                    <a:pt x="1576" y="0"/>
                  </a:moveTo>
                  <a:lnTo>
                    <a:pt x="1624" y="0"/>
                  </a:lnTo>
                  <a:cubicBezTo>
                    <a:pt x="1629" y="0"/>
                    <a:pt x="1632" y="4"/>
                    <a:pt x="1632" y="8"/>
                  </a:cubicBezTo>
                  <a:cubicBezTo>
                    <a:pt x="1632" y="13"/>
                    <a:pt x="1629" y="16"/>
                    <a:pt x="1624" y="16"/>
                  </a:cubicBezTo>
                  <a:lnTo>
                    <a:pt x="1576" y="16"/>
                  </a:lnTo>
                  <a:cubicBezTo>
                    <a:pt x="1572" y="16"/>
                    <a:pt x="1568" y="13"/>
                    <a:pt x="1568" y="8"/>
                  </a:cubicBezTo>
                  <a:cubicBezTo>
                    <a:pt x="1568" y="4"/>
                    <a:pt x="1572" y="0"/>
                    <a:pt x="1576" y="0"/>
                  </a:cubicBezTo>
                  <a:close/>
                  <a:moveTo>
                    <a:pt x="1688" y="0"/>
                  </a:moveTo>
                  <a:lnTo>
                    <a:pt x="1736" y="0"/>
                  </a:lnTo>
                  <a:cubicBezTo>
                    <a:pt x="1741" y="0"/>
                    <a:pt x="1744" y="4"/>
                    <a:pt x="1744" y="8"/>
                  </a:cubicBezTo>
                  <a:cubicBezTo>
                    <a:pt x="1744" y="13"/>
                    <a:pt x="1741" y="16"/>
                    <a:pt x="1736" y="16"/>
                  </a:cubicBezTo>
                  <a:lnTo>
                    <a:pt x="1688" y="16"/>
                  </a:lnTo>
                  <a:cubicBezTo>
                    <a:pt x="1684" y="16"/>
                    <a:pt x="1680" y="13"/>
                    <a:pt x="1680" y="8"/>
                  </a:cubicBezTo>
                  <a:cubicBezTo>
                    <a:pt x="1680" y="4"/>
                    <a:pt x="1684" y="0"/>
                    <a:pt x="1688" y="0"/>
                  </a:cubicBezTo>
                  <a:close/>
                  <a:moveTo>
                    <a:pt x="1800" y="0"/>
                  </a:moveTo>
                  <a:lnTo>
                    <a:pt x="1848" y="0"/>
                  </a:lnTo>
                  <a:cubicBezTo>
                    <a:pt x="1853" y="0"/>
                    <a:pt x="1856" y="4"/>
                    <a:pt x="1856" y="8"/>
                  </a:cubicBezTo>
                  <a:cubicBezTo>
                    <a:pt x="1856" y="13"/>
                    <a:pt x="1853" y="16"/>
                    <a:pt x="1848" y="16"/>
                  </a:cubicBezTo>
                  <a:lnTo>
                    <a:pt x="1800" y="16"/>
                  </a:lnTo>
                  <a:cubicBezTo>
                    <a:pt x="1796" y="16"/>
                    <a:pt x="1792" y="13"/>
                    <a:pt x="1792" y="8"/>
                  </a:cubicBezTo>
                  <a:cubicBezTo>
                    <a:pt x="1792" y="4"/>
                    <a:pt x="1796" y="0"/>
                    <a:pt x="1800" y="0"/>
                  </a:cubicBezTo>
                  <a:close/>
                  <a:moveTo>
                    <a:pt x="1912" y="0"/>
                  </a:moveTo>
                  <a:lnTo>
                    <a:pt x="1960" y="0"/>
                  </a:lnTo>
                  <a:cubicBezTo>
                    <a:pt x="1965" y="0"/>
                    <a:pt x="1968" y="4"/>
                    <a:pt x="1968" y="8"/>
                  </a:cubicBezTo>
                  <a:cubicBezTo>
                    <a:pt x="1968" y="13"/>
                    <a:pt x="1965" y="16"/>
                    <a:pt x="1960" y="16"/>
                  </a:cubicBezTo>
                  <a:lnTo>
                    <a:pt x="1912" y="16"/>
                  </a:lnTo>
                  <a:cubicBezTo>
                    <a:pt x="1908" y="16"/>
                    <a:pt x="1904" y="13"/>
                    <a:pt x="1904" y="8"/>
                  </a:cubicBezTo>
                  <a:cubicBezTo>
                    <a:pt x="1904" y="4"/>
                    <a:pt x="1908" y="0"/>
                    <a:pt x="1912" y="0"/>
                  </a:cubicBezTo>
                  <a:close/>
                  <a:moveTo>
                    <a:pt x="2024" y="0"/>
                  </a:moveTo>
                  <a:lnTo>
                    <a:pt x="2072" y="0"/>
                  </a:lnTo>
                  <a:cubicBezTo>
                    <a:pt x="2077" y="0"/>
                    <a:pt x="2080" y="4"/>
                    <a:pt x="2080" y="8"/>
                  </a:cubicBezTo>
                  <a:cubicBezTo>
                    <a:pt x="2080" y="13"/>
                    <a:pt x="2077" y="16"/>
                    <a:pt x="2072" y="16"/>
                  </a:cubicBezTo>
                  <a:lnTo>
                    <a:pt x="2024" y="16"/>
                  </a:lnTo>
                  <a:cubicBezTo>
                    <a:pt x="2020" y="16"/>
                    <a:pt x="2016" y="13"/>
                    <a:pt x="2016" y="8"/>
                  </a:cubicBezTo>
                  <a:cubicBezTo>
                    <a:pt x="2016" y="4"/>
                    <a:pt x="2020" y="0"/>
                    <a:pt x="2024" y="0"/>
                  </a:cubicBezTo>
                  <a:close/>
                  <a:moveTo>
                    <a:pt x="2136" y="0"/>
                  </a:moveTo>
                  <a:lnTo>
                    <a:pt x="2184" y="0"/>
                  </a:lnTo>
                  <a:cubicBezTo>
                    <a:pt x="2189" y="0"/>
                    <a:pt x="2192" y="4"/>
                    <a:pt x="2192" y="8"/>
                  </a:cubicBezTo>
                  <a:cubicBezTo>
                    <a:pt x="2192" y="13"/>
                    <a:pt x="2189" y="16"/>
                    <a:pt x="2184" y="16"/>
                  </a:cubicBezTo>
                  <a:lnTo>
                    <a:pt x="2136" y="16"/>
                  </a:lnTo>
                  <a:cubicBezTo>
                    <a:pt x="2132" y="16"/>
                    <a:pt x="2128" y="13"/>
                    <a:pt x="2128" y="8"/>
                  </a:cubicBezTo>
                  <a:cubicBezTo>
                    <a:pt x="2128" y="4"/>
                    <a:pt x="2132" y="0"/>
                    <a:pt x="2136" y="0"/>
                  </a:cubicBezTo>
                  <a:close/>
                  <a:moveTo>
                    <a:pt x="2248" y="0"/>
                  </a:moveTo>
                  <a:lnTo>
                    <a:pt x="2296" y="0"/>
                  </a:lnTo>
                  <a:cubicBezTo>
                    <a:pt x="2301" y="0"/>
                    <a:pt x="2304" y="4"/>
                    <a:pt x="2304" y="8"/>
                  </a:cubicBezTo>
                  <a:cubicBezTo>
                    <a:pt x="2304" y="13"/>
                    <a:pt x="2301" y="16"/>
                    <a:pt x="2296" y="16"/>
                  </a:cubicBezTo>
                  <a:lnTo>
                    <a:pt x="2248" y="16"/>
                  </a:lnTo>
                  <a:cubicBezTo>
                    <a:pt x="2244" y="16"/>
                    <a:pt x="2240" y="13"/>
                    <a:pt x="2240" y="8"/>
                  </a:cubicBezTo>
                  <a:cubicBezTo>
                    <a:pt x="2240" y="4"/>
                    <a:pt x="2244" y="0"/>
                    <a:pt x="2248" y="0"/>
                  </a:cubicBezTo>
                  <a:close/>
                  <a:moveTo>
                    <a:pt x="2360" y="0"/>
                  </a:moveTo>
                  <a:lnTo>
                    <a:pt x="2408" y="0"/>
                  </a:lnTo>
                  <a:cubicBezTo>
                    <a:pt x="2413" y="0"/>
                    <a:pt x="2416" y="4"/>
                    <a:pt x="2416" y="8"/>
                  </a:cubicBezTo>
                  <a:cubicBezTo>
                    <a:pt x="2416" y="13"/>
                    <a:pt x="2413" y="16"/>
                    <a:pt x="2408" y="16"/>
                  </a:cubicBezTo>
                  <a:lnTo>
                    <a:pt x="2360" y="16"/>
                  </a:lnTo>
                  <a:cubicBezTo>
                    <a:pt x="2356" y="16"/>
                    <a:pt x="2352" y="13"/>
                    <a:pt x="2352" y="8"/>
                  </a:cubicBezTo>
                  <a:cubicBezTo>
                    <a:pt x="2352" y="4"/>
                    <a:pt x="2356" y="0"/>
                    <a:pt x="2360" y="0"/>
                  </a:cubicBezTo>
                  <a:close/>
                  <a:moveTo>
                    <a:pt x="2472" y="0"/>
                  </a:moveTo>
                  <a:lnTo>
                    <a:pt x="2520" y="0"/>
                  </a:lnTo>
                  <a:cubicBezTo>
                    <a:pt x="2525" y="0"/>
                    <a:pt x="2528" y="4"/>
                    <a:pt x="2528" y="8"/>
                  </a:cubicBezTo>
                  <a:cubicBezTo>
                    <a:pt x="2528" y="13"/>
                    <a:pt x="2525" y="16"/>
                    <a:pt x="2520" y="16"/>
                  </a:cubicBezTo>
                  <a:lnTo>
                    <a:pt x="2472" y="16"/>
                  </a:lnTo>
                  <a:cubicBezTo>
                    <a:pt x="2468" y="16"/>
                    <a:pt x="2464" y="13"/>
                    <a:pt x="2464" y="8"/>
                  </a:cubicBezTo>
                  <a:cubicBezTo>
                    <a:pt x="2464" y="4"/>
                    <a:pt x="2468" y="0"/>
                    <a:pt x="2472" y="0"/>
                  </a:cubicBezTo>
                  <a:close/>
                  <a:moveTo>
                    <a:pt x="2584" y="0"/>
                  </a:moveTo>
                  <a:lnTo>
                    <a:pt x="2632" y="0"/>
                  </a:lnTo>
                  <a:cubicBezTo>
                    <a:pt x="2637" y="0"/>
                    <a:pt x="2640" y="4"/>
                    <a:pt x="2640" y="8"/>
                  </a:cubicBezTo>
                  <a:cubicBezTo>
                    <a:pt x="2640" y="13"/>
                    <a:pt x="2637" y="16"/>
                    <a:pt x="2632" y="16"/>
                  </a:cubicBezTo>
                  <a:lnTo>
                    <a:pt x="2584" y="16"/>
                  </a:lnTo>
                  <a:cubicBezTo>
                    <a:pt x="2580" y="16"/>
                    <a:pt x="2576" y="13"/>
                    <a:pt x="2576" y="8"/>
                  </a:cubicBezTo>
                  <a:cubicBezTo>
                    <a:pt x="2576" y="4"/>
                    <a:pt x="2580" y="0"/>
                    <a:pt x="2584" y="0"/>
                  </a:cubicBezTo>
                  <a:close/>
                  <a:moveTo>
                    <a:pt x="2696" y="0"/>
                  </a:moveTo>
                  <a:lnTo>
                    <a:pt x="2744" y="0"/>
                  </a:lnTo>
                  <a:cubicBezTo>
                    <a:pt x="2749" y="0"/>
                    <a:pt x="2752" y="4"/>
                    <a:pt x="2752" y="8"/>
                  </a:cubicBezTo>
                  <a:cubicBezTo>
                    <a:pt x="2752" y="13"/>
                    <a:pt x="2749" y="16"/>
                    <a:pt x="2744" y="16"/>
                  </a:cubicBezTo>
                  <a:lnTo>
                    <a:pt x="2696" y="16"/>
                  </a:lnTo>
                  <a:cubicBezTo>
                    <a:pt x="2692" y="16"/>
                    <a:pt x="2688" y="13"/>
                    <a:pt x="2688" y="8"/>
                  </a:cubicBezTo>
                  <a:cubicBezTo>
                    <a:pt x="2688" y="4"/>
                    <a:pt x="2692" y="0"/>
                    <a:pt x="2696" y="0"/>
                  </a:cubicBezTo>
                  <a:close/>
                  <a:moveTo>
                    <a:pt x="2808" y="0"/>
                  </a:moveTo>
                  <a:lnTo>
                    <a:pt x="2856" y="0"/>
                  </a:lnTo>
                  <a:cubicBezTo>
                    <a:pt x="2861" y="0"/>
                    <a:pt x="2864" y="4"/>
                    <a:pt x="2864" y="8"/>
                  </a:cubicBezTo>
                  <a:cubicBezTo>
                    <a:pt x="2864" y="13"/>
                    <a:pt x="2861" y="16"/>
                    <a:pt x="2856" y="16"/>
                  </a:cubicBezTo>
                  <a:lnTo>
                    <a:pt x="2808" y="16"/>
                  </a:lnTo>
                  <a:cubicBezTo>
                    <a:pt x="2804" y="16"/>
                    <a:pt x="2800" y="13"/>
                    <a:pt x="2800" y="8"/>
                  </a:cubicBezTo>
                  <a:cubicBezTo>
                    <a:pt x="2800" y="4"/>
                    <a:pt x="2804" y="0"/>
                    <a:pt x="2808" y="0"/>
                  </a:cubicBezTo>
                  <a:close/>
                  <a:moveTo>
                    <a:pt x="2920" y="0"/>
                  </a:moveTo>
                  <a:lnTo>
                    <a:pt x="2968" y="0"/>
                  </a:lnTo>
                  <a:cubicBezTo>
                    <a:pt x="2973" y="0"/>
                    <a:pt x="2976" y="4"/>
                    <a:pt x="2976" y="8"/>
                  </a:cubicBezTo>
                  <a:cubicBezTo>
                    <a:pt x="2976" y="13"/>
                    <a:pt x="2973" y="16"/>
                    <a:pt x="2968" y="16"/>
                  </a:cubicBezTo>
                  <a:lnTo>
                    <a:pt x="2920" y="16"/>
                  </a:lnTo>
                  <a:cubicBezTo>
                    <a:pt x="2916" y="16"/>
                    <a:pt x="2912" y="13"/>
                    <a:pt x="2912" y="8"/>
                  </a:cubicBezTo>
                  <a:cubicBezTo>
                    <a:pt x="2912" y="4"/>
                    <a:pt x="2916" y="0"/>
                    <a:pt x="2920" y="0"/>
                  </a:cubicBezTo>
                  <a:close/>
                  <a:moveTo>
                    <a:pt x="3032" y="0"/>
                  </a:moveTo>
                  <a:lnTo>
                    <a:pt x="3080" y="0"/>
                  </a:lnTo>
                  <a:cubicBezTo>
                    <a:pt x="3085" y="0"/>
                    <a:pt x="3088" y="4"/>
                    <a:pt x="3088" y="8"/>
                  </a:cubicBezTo>
                  <a:cubicBezTo>
                    <a:pt x="3088" y="13"/>
                    <a:pt x="3085" y="16"/>
                    <a:pt x="3080" y="16"/>
                  </a:cubicBezTo>
                  <a:lnTo>
                    <a:pt x="3032" y="16"/>
                  </a:lnTo>
                  <a:cubicBezTo>
                    <a:pt x="3028" y="16"/>
                    <a:pt x="3024" y="13"/>
                    <a:pt x="3024" y="8"/>
                  </a:cubicBezTo>
                  <a:cubicBezTo>
                    <a:pt x="3024" y="4"/>
                    <a:pt x="3028" y="0"/>
                    <a:pt x="3032" y="0"/>
                  </a:cubicBezTo>
                  <a:close/>
                  <a:moveTo>
                    <a:pt x="3144" y="0"/>
                  </a:moveTo>
                  <a:lnTo>
                    <a:pt x="3192" y="0"/>
                  </a:lnTo>
                  <a:cubicBezTo>
                    <a:pt x="3197" y="0"/>
                    <a:pt x="3200" y="4"/>
                    <a:pt x="3200" y="8"/>
                  </a:cubicBezTo>
                  <a:cubicBezTo>
                    <a:pt x="3200" y="13"/>
                    <a:pt x="3197" y="16"/>
                    <a:pt x="3192" y="16"/>
                  </a:cubicBezTo>
                  <a:lnTo>
                    <a:pt x="3144" y="16"/>
                  </a:lnTo>
                  <a:cubicBezTo>
                    <a:pt x="3140" y="16"/>
                    <a:pt x="3136" y="13"/>
                    <a:pt x="3136" y="8"/>
                  </a:cubicBezTo>
                  <a:cubicBezTo>
                    <a:pt x="3136" y="4"/>
                    <a:pt x="3140" y="0"/>
                    <a:pt x="3144" y="0"/>
                  </a:cubicBezTo>
                  <a:close/>
                  <a:moveTo>
                    <a:pt x="3256" y="0"/>
                  </a:moveTo>
                  <a:lnTo>
                    <a:pt x="3304" y="0"/>
                  </a:lnTo>
                  <a:cubicBezTo>
                    <a:pt x="3309" y="0"/>
                    <a:pt x="3312" y="4"/>
                    <a:pt x="3312" y="8"/>
                  </a:cubicBezTo>
                  <a:cubicBezTo>
                    <a:pt x="3312" y="13"/>
                    <a:pt x="3309" y="16"/>
                    <a:pt x="3304" y="16"/>
                  </a:cubicBezTo>
                  <a:lnTo>
                    <a:pt x="3256" y="16"/>
                  </a:lnTo>
                  <a:cubicBezTo>
                    <a:pt x="3252" y="16"/>
                    <a:pt x="3248" y="13"/>
                    <a:pt x="3248" y="8"/>
                  </a:cubicBezTo>
                  <a:cubicBezTo>
                    <a:pt x="3248" y="4"/>
                    <a:pt x="3252" y="0"/>
                    <a:pt x="3256" y="0"/>
                  </a:cubicBezTo>
                  <a:close/>
                  <a:moveTo>
                    <a:pt x="3368" y="0"/>
                  </a:moveTo>
                  <a:lnTo>
                    <a:pt x="3416" y="0"/>
                  </a:lnTo>
                  <a:cubicBezTo>
                    <a:pt x="3421" y="0"/>
                    <a:pt x="3424" y="4"/>
                    <a:pt x="3424" y="8"/>
                  </a:cubicBezTo>
                  <a:cubicBezTo>
                    <a:pt x="3424" y="13"/>
                    <a:pt x="3421" y="16"/>
                    <a:pt x="3416" y="16"/>
                  </a:cubicBezTo>
                  <a:lnTo>
                    <a:pt x="3368" y="16"/>
                  </a:lnTo>
                  <a:cubicBezTo>
                    <a:pt x="3364" y="16"/>
                    <a:pt x="3360" y="13"/>
                    <a:pt x="3360" y="8"/>
                  </a:cubicBezTo>
                  <a:cubicBezTo>
                    <a:pt x="3360" y="4"/>
                    <a:pt x="3364" y="0"/>
                    <a:pt x="3368" y="0"/>
                  </a:cubicBezTo>
                  <a:close/>
                  <a:moveTo>
                    <a:pt x="3480" y="0"/>
                  </a:moveTo>
                  <a:lnTo>
                    <a:pt x="3528" y="0"/>
                  </a:lnTo>
                  <a:cubicBezTo>
                    <a:pt x="3533" y="0"/>
                    <a:pt x="3536" y="4"/>
                    <a:pt x="3536" y="8"/>
                  </a:cubicBezTo>
                  <a:cubicBezTo>
                    <a:pt x="3536" y="13"/>
                    <a:pt x="3533" y="16"/>
                    <a:pt x="3528" y="16"/>
                  </a:cubicBezTo>
                  <a:lnTo>
                    <a:pt x="3480" y="16"/>
                  </a:lnTo>
                  <a:cubicBezTo>
                    <a:pt x="3476" y="16"/>
                    <a:pt x="3472" y="13"/>
                    <a:pt x="3472" y="8"/>
                  </a:cubicBezTo>
                  <a:cubicBezTo>
                    <a:pt x="3472" y="4"/>
                    <a:pt x="3476" y="0"/>
                    <a:pt x="3480" y="0"/>
                  </a:cubicBezTo>
                  <a:close/>
                  <a:moveTo>
                    <a:pt x="3592" y="0"/>
                  </a:moveTo>
                  <a:lnTo>
                    <a:pt x="3640" y="0"/>
                  </a:lnTo>
                  <a:cubicBezTo>
                    <a:pt x="3645" y="0"/>
                    <a:pt x="3648" y="4"/>
                    <a:pt x="3648" y="8"/>
                  </a:cubicBezTo>
                  <a:cubicBezTo>
                    <a:pt x="3648" y="13"/>
                    <a:pt x="3645" y="16"/>
                    <a:pt x="3640" y="16"/>
                  </a:cubicBezTo>
                  <a:lnTo>
                    <a:pt x="3592" y="16"/>
                  </a:lnTo>
                  <a:cubicBezTo>
                    <a:pt x="3588" y="16"/>
                    <a:pt x="3584" y="13"/>
                    <a:pt x="3584" y="8"/>
                  </a:cubicBezTo>
                  <a:cubicBezTo>
                    <a:pt x="3584" y="4"/>
                    <a:pt x="3588" y="0"/>
                    <a:pt x="3592" y="0"/>
                  </a:cubicBezTo>
                  <a:close/>
                  <a:moveTo>
                    <a:pt x="3704" y="0"/>
                  </a:moveTo>
                  <a:lnTo>
                    <a:pt x="3752" y="0"/>
                  </a:lnTo>
                  <a:cubicBezTo>
                    <a:pt x="3757" y="0"/>
                    <a:pt x="3760" y="4"/>
                    <a:pt x="3760" y="8"/>
                  </a:cubicBezTo>
                  <a:cubicBezTo>
                    <a:pt x="3760" y="13"/>
                    <a:pt x="3757" y="16"/>
                    <a:pt x="3752" y="16"/>
                  </a:cubicBezTo>
                  <a:lnTo>
                    <a:pt x="3704" y="16"/>
                  </a:lnTo>
                  <a:cubicBezTo>
                    <a:pt x="3700" y="16"/>
                    <a:pt x="3696" y="13"/>
                    <a:pt x="3696" y="8"/>
                  </a:cubicBezTo>
                  <a:cubicBezTo>
                    <a:pt x="3696" y="4"/>
                    <a:pt x="3700" y="0"/>
                    <a:pt x="3704" y="0"/>
                  </a:cubicBezTo>
                  <a:close/>
                  <a:moveTo>
                    <a:pt x="3816" y="0"/>
                  </a:moveTo>
                  <a:lnTo>
                    <a:pt x="3864" y="0"/>
                  </a:lnTo>
                  <a:cubicBezTo>
                    <a:pt x="3869" y="0"/>
                    <a:pt x="3872" y="4"/>
                    <a:pt x="3872" y="8"/>
                  </a:cubicBezTo>
                  <a:cubicBezTo>
                    <a:pt x="3872" y="13"/>
                    <a:pt x="3869" y="16"/>
                    <a:pt x="3864" y="16"/>
                  </a:cubicBezTo>
                  <a:lnTo>
                    <a:pt x="3816" y="16"/>
                  </a:lnTo>
                  <a:cubicBezTo>
                    <a:pt x="3812" y="16"/>
                    <a:pt x="3808" y="13"/>
                    <a:pt x="3808" y="8"/>
                  </a:cubicBezTo>
                  <a:cubicBezTo>
                    <a:pt x="3808" y="4"/>
                    <a:pt x="3812" y="0"/>
                    <a:pt x="3816" y="0"/>
                  </a:cubicBezTo>
                  <a:close/>
                  <a:moveTo>
                    <a:pt x="3928" y="0"/>
                  </a:moveTo>
                  <a:lnTo>
                    <a:pt x="3976" y="0"/>
                  </a:lnTo>
                  <a:cubicBezTo>
                    <a:pt x="3981" y="0"/>
                    <a:pt x="3984" y="4"/>
                    <a:pt x="3984" y="8"/>
                  </a:cubicBezTo>
                  <a:cubicBezTo>
                    <a:pt x="3984" y="13"/>
                    <a:pt x="3981" y="16"/>
                    <a:pt x="3976" y="16"/>
                  </a:cubicBezTo>
                  <a:lnTo>
                    <a:pt x="3928" y="16"/>
                  </a:lnTo>
                  <a:cubicBezTo>
                    <a:pt x="3924" y="16"/>
                    <a:pt x="3920" y="13"/>
                    <a:pt x="3920" y="8"/>
                  </a:cubicBezTo>
                  <a:cubicBezTo>
                    <a:pt x="3920" y="4"/>
                    <a:pt x="3924" y="0"/>
                    <a:pt x="3928" y="0"/>
                  </a:cubicBezTo>
                  <a:close/>
                  <a:moveTo>
                    <a:pt x="4040" y="0"/>
                  </a:moveTo>
                  <a:lnTo>
                    <a:pt x="4088" y="0"/>
                  </a:lnTo>
                  <a:cubicBezTo>
                    <a:pt x="4093" y="0"/>
                    <a:pt x="4096" y="4"/>
                    <a:pt x="4096" y="8"/>
                  </a:cubicBezTo>
                  <a:cubicBezTo>
                    <a:pt x="4096" y="13"/>
                    <a:pt x="4093" y="16"/>
                    <a:pt x="4088" y="16"/>
                  </a:cubicBezTo>
                  <a:lnTo>
                    <a:pt x="4040" y="16"/>
                  </a:lnTo>
                  <a:cubicBezTo>
                    <a:pt x="4036" y="16"/>
                    <a:pt x="4032" y="13"/>
                    <a:pt x="4032" y="8"/>
                  </a:cubicBezTo>
                  <a:cubicBezTo>
                    <a:pt x="4032" y="4"/>
                    <a:pt x="4036" y="0"/>
                    <a:pt x="4040" y="0"/>
                  </a:cubicBezTo>
                  <a:close/>
                  <a:moveTo>
                    <a:pt x="4152" y="0"/>
                  </a:moveTo>
                  <a:lnTo>
                    <a:pt x="4200" y="0"/>
                  </a:lnTo>
                  <a:cubicBezTo>
                    <a:pt x="4205" y="0"/>
                    <a:pt x="4208" y="4"/>
                    <a:pt x="4208" y="8"/>
                  </a:cubicBezTo>
                  <a:cubicBezTo>
                    <a:pt x="4208" y="13"/>
                    <a:pt x="4205" y="16"/>
                    <a:pt x="4200" y="16"/>
                  </a:cubicBezTo>
                  <a:lnTo>
                    <a:pt x="4152" y="16"/>
                  </a:lnTo>
                  <a:cubicBezTo>
                    <a:pt x="4148" y="16"/>
                    <a:pt x="4144" y="13"/>
                    <a:pt x="4144" y="8"/>
                  </a:cubicBezTo>
                  <a:cubicBezTo>
                    <a:pt x="4144" y="4"/>
                    <a:pt x="4148" y="0"/>
                    <a:pt x="4152" y="0"/>
                  </a:cubicBezTo>
                  <a:close/>
                  <a:moveTo>
                    <a:pt x="4264" y="0"/>
                  </a:moveTo>
                  <a:lnTo>
                    <a:pt x="4312" y="0"/>
                  </a:lnTo>
                  <a:cubicBezTo>
                    <a:pt x="4317" y="0"/>
                    <a:pt x="4320" y="4"/>
                    <a:pt x="4320" y="8"/>
                  </a:cubicBezTo>
                  <a:cubicBezTo>
                    <a:pt x="4320" y="13"/>
                    <a:pt x="4317" y="16"/>
                    <a:pt x="4312" y="16"/>
                  </a:cubicBezTo>
                  <a:lnTo>
                    <a:pt x="4264" y="16"/>
                  </a:lnTo>
                  <a:cubicBezTo>
                    <a:pt x="4260" y="16"/>
                    <a:pt x="4256" y="13"/>
                    <a:pt x="4256" y="8"/>
                  </a:cubicBezTo>
                  <a:cubicBezTo>
                    <a:pt x="4256" y="4"/>
                    <a:pt x="4260" y="0"/>
                    <a:pt x="4264" y="0"/>
                  </a:cubicBezTo>
                  <a:close/>
                  <a:moveTo>
                    <a:pt x="4376" y="0"/>
                  </a:moveTo>
                  <a:lnTo>
                    <a:pt x="4424" y="0"/>
                  </a:lnTo>
                  <a:cubicBezTo>
                    <a:pt x="4429" y="0"/>
                    <a:pt x="4432" y="4"/>
                    <a:pt x="4432" y="8"/>
                  </a:cubicBezTo>
                  <a:cubicBezTo>
                    <a:pt x="4432" y="13"/>
                    <a:pt x="4429" y="16"/>
                    <a:pt x="4424" y="16"/>
                  </a:cubicBezTo>
                  <a:lnTo>
                    <a:pt x="4376" y="16"/>
                  </a:lnTo>
                  <a:cubicBezTo>
                    <a:pt x="4372" y="16"/>
                    <a:pt x="4368" y="13"/>
                    <a:pt x="4368" y="8"/>
                  </a:cubicBezTo>
                  <a:cubicBezTo>
                    <a:pt x="4368" y="4"/>
                    <a:pt x="4372" y="0"/>
                    <a:pt x="4376" y="0"/>
                  </a:cubicBezTo>
                  <a:close/>
                  <a:moveTo>
                    <a:pt x="4488" y="0"/>
                  </a:moveTo>
                  <a:lnTo>
                    <a:pt x="4536" y="0"/>
                  </a:lnTo>
                  <a:cubicBezTo>
                    <a:pt x="4541" y="0"/>
                    <a:pt x="4544" y="4"/>
                    <a:pt x="4544" y="8"/>
                  </a:cubicBezTo>
                  <a:cubicBezTo>
                    <a:pt x="4544" y="13"/>
                    <a:pt x="4541" y="16"/>
                    <a:pt x="4536" y="16"/>
                  </a:cubicBezTo>
                  <a:lnTo>
                    <a:pt x="4488" y="16"/>
                  </a:lnTo>
                  <a:cubicBezTo>
                    <a:pt x="4484" y="16"/>
                    <a:pt x="4480" y="13"/>
                    <a:pt x="4480" y="8"/>
                  </a:cubicBezTo>
                  <a:cubicBezTo>
                    <a:pt x="4480" y="4"/>
                    <a:pt x="4484" y="0"/>
                    <a:pt x="4488" y="0"/>
                  </a:cubicBezTo>
                  <a:close/>
                  <a:moveTo>
                    <a:pt x="4600" y="0"/>
                  </a:moveTo>
                  <a:lnTo>
                    <a:pt x="4648" y="0"/>
                  </a:lnTo>
                  <a:cubicBezTo>
                    <a:pt x="4653" y="0"/>
                    <a:pt x="4656" y="4"/>
                    <a:pt x="4656" y="8"/>
                  </a:cubicBezTo>
                  <a:cubicBezTo>
                    <a:pt x="4656" y="13"/>
                    <a:pt x="4653" y="16"/>
                    <a:pt x="4648" y="16"/>
                  </a:cubicBezTo>
                  <a:lnTo>
                    <a:pt x="4600" y="16"/>
                  </a:lnTo>
                  <a:cubicBezTo>
                    <a:pt x="4596" y="16"/>
                    <a:pt x="4592" y="13"/>
                    <a:pt x="4592" y="8"/>
                  </a:cubicBezTo>
                  <a:cubicBezTo>
                    <a:pt x="4592" y="4"/>
                    <a:pt x="4596" y="0"/>
                    <a:pt x="4600" y="0"/>
                  </a:cubicBezTo>
                  <a:close/>
                  <a:moveTo>
                    <a:pt x="4712" y="0"/>
                  </a:moveTo>
                  <a:lnTo>
                    <a:pt x="4760" y="0"/>
                  </a:lnTo>
                  <a:cubicBezTo>
                    <a:pt x="4765" y="0"/>
                    <a:pt x="4768" y="4"/>
                    <a:pt x="4768" y="8"/>
                  </a:cubicBezTo>
                  <a:cubicBezTo>
                    <a:pt x="4768" y="13"/>
                    <a:pt x="4765" y="16"/>
                    <a:pt x="4760" y="16"/>
                  </a:cubicBezTo>
                  <a:lnTo>
                    <a:pt x="4712" y="16"/>
                  </a:lnTo>
                  <a:cubicBezTo>
                    <a:pt x="4708" y="16"/>
                    <a:pt x="4704" y="13"/>
                    <a:pt x="4704" y="8"/>
                  </a:cubicBezTo>
                  <a:cubicBezTo>
                    <a:pt x="4704" y="4"/>
                    <a:pt x="4708" y="0"/>
                    <a:pt x="4712" y="0"/>
                  </a:cubicBezTo>
                  <a:close/>
                  <a:moveTo>
                    <a:pt x="4824" y="0"/>
                  </a:moveTo>
                  <a:lnTo>
                    <a:pt x="4872" y="0"/>
                  </a:lnTo>
                  <a:cubicBezTo>
                    <a:pt x="4877" y="0"/>
                    <a:pt x="4880" y="4"/>
                    <a:pt x="4880" y="8"/>
                  </a:cubicBezTo>
                  <a:cubicBezTo>
                    <a:pt x="4880" y="13"/>
                    <a:pt x="4877" y="16"/>
                    <a:pt x="4872" y="16"/>
                  </a:cubicBezTo>
                  <a:lnTo>
                    <a:pt x="4824" y="16"/>
                  </a:lnTo>
                  <a:cubicBezTo>
                    <a:pt x="4820" y="16"/>
                    <a:pt x="4816" y="13"/>
                    <a:pt x="4816" y="8"/>
                  </a:cubicBezTo>
                  <a:cubicBezTo>
                    <a:pt x="4816" y="4"/>
                    <a:pt x="4820" y="0"/>
                    <a:pt x="4824" y="0"/>
                  </a:cubicBezTo>
                  <a:close/>
                  <a:moveTo>
                    <a:pt x="4936" y="0"/>
                  </a:moveTo>
                  <a:lnTo>
                    <a:pt x="4984" y="0"/>
                  </a:lnTo>
                  <a:cubicBezTo>
                    <a:pt x="4989" y="0"/>
                    <a:pt x="4992" y="4"/>
                    <a:pt x="4992" y="8"/>
                  </a:cubicBezTo>
                  <a:cubicBezTo>
                    <a:pt x="4992" y="13"/>
                    <a:pt x="4989" y="16"/>
                    <a:pt x="4984" y="16"/>
                  </a:cubicBezTo>
                  <a:lnTo>
                    <a:pt x="4936" y="16"/>
                  </a:lnTo>
                  <a:cubicBezTo>
                    <a:pt x="4932" y="16"/>
                    <a:pt x="4928" y="13"/>
                    <a:pt x="4928" y="8"/>
                  </a:cubicBezTo>
                  <a:cubicBezTo>
                    <a:pt x="4928" y="4"/>
                    <a:pt x="4932" y="0"/>
                    <a:pt x="4936" y="0"/>
                  </a:cubicBezTo>
                  <a:close/>
                  <a:moveTo>
                    <a:pt x="5048" y="0"/>
                  </a:moveTo>
                  <a:lnTo>
                    <a:pt x="5096" y="0"/>
                  </a:lnTo>
                  <a:cubicBezTo>
                    <a:pt x="5101" y="0"/>
                    <a:pt x="5104" y="4"/>
                    <a:pt x="5104" y="8"/>
                  </a:cubicBezTo>
                  <a:cubicBezTo>
                    <a:pt x="5104" y="13"/>
                    <a:pt x="5101" y="16"/>
                    <a:pt x="5096" y="16"/>
                  </a:cubicBezTo>
                  <a:lnTo>
                    <a:pt x="5048" y="16"/>
                  </a:lnTo>
                  <a:cubicBezTo>
                    <a:pt x="5044" y="16"/>
                    <a:pt x="5040" y="13"/>
                    <a:pt x="5040" y="8"/>
                  </a:cubicBezTo>
                  <a:cubicBezTo>
                    <a:pt x="5040" y="4"/>
                    <a:pt x="5044" y="0"/>
                    <a:pt x="5048" y="0"/>
                  </a:cubicBezTo>
                  <a:close/>
                  <a:moveTo>
                    <a:pt x="5160" y="0"/>
                  </a:moveTo>
                  <a:lnTo>
                    <a:pt x="5208" y="0"/>
                  </a:lnTo>
                  <a:cubicBezTo>
                    <a:pt x="5213" y="0"/>
                    <a:pt x="5216" y="4"/>
                    <a:pt x="5216" y="8"/>
                  </a:cubicBezTo>
                  <a:cubicBezTo>
                    <a:pt x="5216" y="13"/>
                    <a:pt x="5213" y="16"/>
                    <a:pt x="5208" y="16"/>
                  </a:cubicBezTo>
                  <a:lnTo>
                    <a:pt x="5160" y="16"/>
                  </a:lnTo>
                  <a:cubicBezTo>
                    <a:pt x="5156" y="16"/>
                    <a:pt x="5152" y="13"/>
                    <a:pt x="5152" y="8"/>
                  </a:cubicBezTo>
                  <a:cubicBezTo>
                    <a:pt x="5152" y="4"/>
                    <a:pt x="5156" y="0"/>
                    <a:pt x="5160" y="0"/>
                  </a:cubicBezTo>
                  <a:close/>
                  <a:moveTo>
                    <a:pt x="5272" y="0"/>
                  </a:moveTo>
                  <a:lnTo>
                    <a:pt x="5320" y="0"/>
                  </a:lnTo>
                  <a:cubicBezTo>
                    <a:pt x="5325" y="0"/>
                    <a:pt x="5328" y="4"/>
                    <a:pt x="5328" y="8"/>
                  </a:cubicBezTo>
                  <a:cubicBezTo>
                    <a:pt x="5328" y="13"/>
                    <a:pt x="5325" y="16"/>
                    <a:pt x="5320" y="16"/>
                  </a:cubicBezTo>
                  <a:lnTo>
                    <a:pt x="5272" y="16"/>
                  </a:lnTo>
                  <a:cubicBezTo>
                    <a:pt x="5268" y="16"/>
                    <a:pt x="5264" y="13"/>
                    <a:pt x="5264" y="8"/>
                  </a:cubicBezTo>
                  <a:cubicBezTo>
                    <a:pt x="5264" y="4"/>
                    <a:pt x="5268" y="0"/>
                    <a:pt x="5272" y="0"/>
                  </a:cubicBezTo>
                  <a:close/>
                  <a:moveTo>
                    <a:pt x="5384" y="0"/>
                  </a:moveTo>
                  <a:lnTo>
                    <a:pt x="5432" y="0"/>
                  </a:lnTo>
                  <a:cubicBezTo>
                    <a:pt x="5437" y="0"/>
                    <a:pt x="5440" y="4"/>
                    <a:pt x="5440" y="8"/>
                  </a:cubicBezTo>
                  <a:cubicBezTo>
                    <a:pt x="5440" y="13"/>
                    <a:pt x="5437" y="16"/>
                    <a:pt x="5432" y="16"/>
                  </a:cubicBezTo>
                  <a:lnTo>
                    <a:pt x="5384" y="16"/>
                  </a:lnTo>
                  <a:cubicBezTo>
                    <a:pt x="5380" y="16"/>
                    <a:pt x="5376" y="13"/>
                    <a:pt x="5376" y="8"/>
                  </a:cubicBezTo>
                  <a:cubicBezTo>
                    <a:pt x="5376" y="4"/>
                    <a:pt x="5380" y="0"/>
                    <a:pt x="5384" y="0"/>
                  </a:cubicBezTo>
                  <a:close/>
                  <a:moveTo>
                    <a:pt x="5496" y="0"/>
                  </a:moveTo>
                  <a:lnTo>
                    <a:pt x="5544" y="0"/>
                  </a:lnTo>
                  <a:cubicBezTo>
                    <a:pt x="5549" y="0"/>
                    <a:pt x="5552" y="4"/>
                    <a:pt x="5552" y="8"/>
                  </a:cubicBezTo>
                  <a:cubicBezTo>
                    <a:pt x="5552" y="13"/>
                    <a:pt x="5549" y="16"/>
                    <a:pt x="5544" y="16"/>
                  </a:cubicBezTo>
                  <a:lnTo>
                    <a:pt x="5496" y="16"/>
                  </a:lnTo>
                  <a:cubicBezTo>
                    <a:pt x="5492" y="16"/>
                    <a:pt x="5488" y="13"/>
                    <a:pt x="5488" y="8"/>
                  </a:cubicBezTo>
                  <a:cubicBezTo>
                    <a:pt x="5488" y="4"/>
                    <a:pt x="5492" y="0"/>
                    <a:pt x="5496" y="0"/>
                  </a:cubicBezTo>
                  <a:close/>
                  <a:moveTo>
                    <a:pt x="5608" y="0"/>
                  </a:moveTo>
                  <a:lnTo>
                    <a:pt x="5656" y="0"/>
                  </a:lnTo>
                  <a:cubicBezTo>
                    <a:pt x="5661" y="0"/>
                    <a:pt x="5664" y="4"/>
                    <a:pt x="5664" y="8"/>
                  </a:cubicBezTo>
                  <a:cubicBezTo>
                    <a:pt x="5664" y="13"/>
                    <a:pt x="5661" y="16"/>
                    <a:pt x="5656" y="16"/>
                  </a:cubicBezTo>
                  <a:lnTo>
                    <a:pt x="5608" y="16"/>
                  </a:lnTo>
                  <a:cubicBezTo>
                    <a:pt x="5604" y="16"/>
                    <a:pt x="5600" y="13"/>
                    <a:pt x="5600" y="8"/>
                  </a:cubicBezTo>
                  <a:cubicBezTo>
                    <a:pt x="5600" y="4"/>
                    <a:pt x="5604" y="0"/>
                    <a:pt x="5608" y="0"/>
                  </a:cubicBezTo>
                  <a:close/>
                  <a:moveTo>
                    <a:pt x="5720" y="0"/>
                  </a:moveTo>
                  <a:lnTo>
                    <a:pt x="5768" y="0"/>
                  </a:lnTo>
                  <a:cubicBezTo>
                    <a:pt x="5773" y="0"/>
                    <a:pt x="5776" y="4"/>
                    <a:pt x="5776" y="8"/>
                  </a:cubicBezTo>
                  <a:cubicBezTo>
                    <a:pt x="5776" y="13"/>
                    <a:pt x="5773" y="16"/>
                    <a:pt x="5768" y="16"/>
                  </a:cubicBezTo>
                  <a:lnTo>
                    <a:pt x="5720" y="16"/>
                  </a:lnTo>
                  <a:cubicBezTo>
                    <a:pt x="5716" y="16"/>
                    <a:pt x="5712" y="13"/>
                    <a:pt x="5712" y="8"/>
                  </a:cubicBezTo>
                  <a:cubicBezTo>
                    <a:pt x="5712" y="4"/>
                    <a:pt x="5716" y="0"/>
                    <a:pt x="5720" y="0"/>
                  </a:cubicBezTo>
                  <a:close/>
                  <a:moveTo>
                    <a:pt x="5832" y="0"/>
                  </a:moveTo>
                  <a:lnTo>
                    <a:pt x="5880" y="0"/>
                  </a:lnTo>
                  <a:cubicBezTo>
                    <a:pt x="5885" y="0"/>
                    <a:pt x="5888" y="4"/>
                    <a:pt x="5888" y="8"/>
                  </a:cubicBezTo>
                  <a:cubicBezTo>
                    <a:pt x="5888" y="13"/>
                    <a:pt x="5885" y="16"/>
                    <a:pt x="5880" y="16"/>
                  </a:cubicBezTo>
                  <a:lnTo>
                    <a:pt x="5832" y="16"/>
                  </a:lnTo>
                  <a:cubicBezTo>
                    <a:pt x="5828" y="16"/>
                    <a:pt x="5824" y="13"/>
                    <a:pt x="5824" y="8"/>
                  </a:cubicBezTo>
                  <a:cubicBezTo>
                    <a:pt x="5824" y="4"/>
                    <a:pt x="5828" y="0"/>
                    <a:pt x="5832" y="0"/>
                  </a:cubicBezTo>
                  <a:close/>
                  <a:moveTo>
                    <a:pt x="5944" y="0"/>
                  </a:moveTo>
                  <a:lnTo>
                    <a:pt x="5992" y="0"/>
                  </a:lnTo>
                  <a:cubicBezTo>
                    <a:pt x="5997" y="0"/>
                    <a:pt x="6000" y="4"/>
                    <a:pt x="6000" y="8"/>
                  </a:cubicBezTo>
                  <a:cubicBezTo>
                    <a:pt x="6000" y="13"/>
                    <a:pt x="5997" y="16"/>
                    <a:pt x="5992" y="16"/>
                  </a:cubicBezTo>
                  <a:lnTo>
                    <a:pt x="5944" y="16"/>
                  </a:lnTo>
                  <a:cubicBezTo>
                    <a:pt x="5940" y="16"/>
                    <a:pt x="5936" y="13"/>
                    <a:pt x="5936" y="8"/>
                  </a:cubicBezTo>
                  <a:cubicBezTo>
                    <a:pt x="5936" y="4"/>
                    <a:pt x="5940" y="0"/>
                    <a:pt x="5944" y="0"/>
                  </a:cubicBezTo>
                  <a:close/>
                  <a:moveTo>
                    <a:pt x="6056" y="0"/>
                  </a:moveTo>
                  <a:lnTo>
                    <a:pt x="6104" y="0"/>
                  </a:lnTo>
                  <a:cubicBezTo>
                    <a:pt x="6109" y="0"/>
                    <a:pt x="6112" y="4"/>
                    <a:pt x="6112" y="8"/>
                  </a:cubicBezTo>
                  <a:cubicBezTo>
                    <a:pt x="6112" y="13"/>
                    <a:pt x="6109" y="16"/>
                    <a:pt x="6104" y="16"/>
                  </a:cubicBezTo>
                  <a:lnTo>
                    <a:pt x="6056" y="16"/>
                  </a:lnTo>
                  <a:cubicBezTo>
                    <a:pt x="6052" y="16"/>
                    <a:pt x="6048" y="13"/>
                    <a:pt x="6048" y="8"/>
                  </a:cubicBezTo>
                  <a:cubicBezTo>
                    <a:pt x="6048" y="4"/>
                    <a:pt x="6052" y="0"/>
                    <a:pt x="6056" y="0"/>
                  </a:cubicBezTo>
                  <a:close/>
                  <a:moveTo>
                    <a:pt x="6168" y="0"/>
                  </a:moveTo>
                  <a:lnTo>
                    <a:pt x="6216" y="0"/>
                  </a:lnTo>
                  <a:cubicBezTo>
                    <a:pt x="6221" y="0"/>
                    <a:pt x="6224" y="4"/>
                    <a:pt x="6224" y="8"/>
                  </a:cubicBezTo>
                  <a:cubicBezTo>
                    <a:pt x="6224" y="13"/>
                    <a:pt x="6221" y="16"/>
                    <a:pt x="6216" y="16"/>
                  </a:cubicBezTo>
                  <a:lnTo>
                    <a:pt x="6168" y="16"/>
                  </a:lnTo>
                  <a:cubicBezTo>
                    <a:pt x="6164" y="16"/>
                    <a:pt x="6160" y="13"/>
                    <a:pt x="6160" y="8"/>
                  </a:cubicBezTo>
                  <a:cubicBezTo>
                    <a:pt x="6160" y="4"/>
                    <a:pt x="6164" y="0"/>
                    <a:pt x="6168" y="0"/>
                  </a:cubicBezTo>
                  <a:close/>
                  <a:moveTo>
                    <a:pt x="6280" y="0"/>
                  </a:moveTo>
                  <a:lnTo>
                    <a:pt x="6328" y="0"/>
                  </a:lnTo>
                  <a:cubicBezTo>
                    <a:pt x="6333" y="0"/>
                    <a:pt x="6336" y="4"/>
                    <a:pt x="6336" y="8"/>
                  </a:cubicBezTo>
                  <a:cubicBezTo>
                    <a:pt x="6336" y="13"/>
                    <a:pt x="6333" y="16"/>
                    <a:pt x="6328" y="16"/>
                  </a:cubicBezTo>
                  <a:lnTo>
                    <a:pt x="6280" y="16"/>
                  </a:lnTo>
                  <a:cubicBezTo>
                    <a:pt x="6276" y="16"/>
                    <a:pt x="6272" y="13"/>
                    <a:pt x="6272" y="8"/>
                  </a:cubicBezTo>
                  <a:cubicBezTo>
                    <a:pt x="6272" y="4"/>
                    <a:pt x="6276" y="0"/>
                    <a:pt x="6280" y="0"/>
                  </a:cubicBezTo>
                  <a:close/>
                  <a:moveTo>
                    <a:pt x="6392" y="0"/>
                  </a:moveTo>
                  <a:lnTo>
                    <a:pt x="6440" y="0"/>
                  </a:lnTo>
                  <a:cubicBezTo>
                    <a:pt x="6445" y="0"/>
                    <a:pt x="6448" y="4"/>
                    <a:pt x="6448" y="8"/>
                  </a:cubicBezTo>
                  <a:cubicBezTo>
                    <a:pt x="6448" y="13"/>
                    <a:pt x="6445" y="16"/>
                    <a:pt x="6440" y="16"/>
                  </a:cubicBezTo>
                  <a:lnTo>
                    <a:pt x="6392" y="16"/>
                  </a:lnTo>
                  <a:cubicBezTo>
                    <a:pt x="6388" y="16"/>
                    <a:pt x="6384" y="13"/>
                    <a:pt x="6384" y="8"/>
                  </a:cubicBezTo>
                  <a:cubicBezTo>
                    <a:pt x="6384" y="4"/>
                    <a:pt x="6388" y="0"/>
                    <a:pt x="6392" y="0"/>
                  </a:cubicBezTo>
                  <a:close/>
                  <a:moveTo>
                    <a:pt x="6504" y="0"/>
                  </a:moveTo>
                  <a:lnTo>
                    <a:pt x="6552" y="0"/>
                  </a:lnTo>
                  <a:cubicBezTo>
                    <a:pt x="6557" y="0"/>
                    <a:pt x="6560" y="4"/>
                    <a:pt x="6560" y="8"/>
                  </a:cubicBezTo>
                  <a:cubicBezTo>
                    <a:pt x="6560" y="13"/>
                    <a:pt x="6557" y="16"/>
                    <a:pt x="6552" y="16"/>
                  </a:cubicBezTo>
                  <a:lnTo>
                    <a:pt x="6504" y="16"/>
                  </a:lnTo>
                  <a:cubicBezTo>
                    <a:pt x="6500" y="16"/>
                    <a:pt x="6496" y="13"/>
                    <a:pt x="6496" y="8"/>
                  </a:cubicBezTo>
                  <a:cubicBezTo>
                    <a:pt x="6496" y="4"/>
                    <a:pt x="6500" y="0"/>
                    <a:pt x="6504" y="0"/>
                  </a:cubicBezTo>
                  <a:close/>
                  <a:moveTo>
                    <a:pt x="6616" y="0"/>
                  </a:moveTo>
                  <a:lnTo>
                    <a:pt x="6664" y="0"/>
                  </a:lnTo>
                  <a:cubicBezTo>
                    <a:pt x="6669" y="0"/>
                    <a:pt x="6672" y="4"/>
                    <a:pt x="6672" y="8"/>
                  </a:cubicBezTo>
                  <a:cubicBezTo>
                    <a:pt x="6672" y="13"/>
                    <a:pt x="6669" y="16"/>
                    <a:pt x="6664" y="16"/>
                  </a:cubicBezTo>
                  <a:lnTo>
                    <a:pt x="6616" y="16"/>
                  </a:lnTo>
                  <a:cubicBezTo>
                    <a:pt x="6612" y="16"/>
                    <a:pt x="6608" y="13"/>
                    <a:pt x="6608" y="8"/>
                  </a:cubicBezTo>
                  <a:cubicBezTo>
                    <a:pt x="6608" y="4"/>
                    <a:pt x="6612" y="0"/>
                    <a:pt x="6616" y="0"/>
                  </a:cubicBezTo>
                  <a:close/>
                  <a:moveTo>
                    <a:pt x="6728" y="0"/>
                  </a:moveTo>
                  <a:lnTo>
                    <a:pt x="6776" y="0"/>
                  </a:lnTo>
                  <a:cubicBezTo>
                    <a:pt x="6781" y="0"/>
                    <a:pt x="6784" y="4"/>
                    <a:pt x="6784" y="8"/>
                  </a:cubicBezTo>
                  <a:cubicBezTo>
                    <a:pt x="6784" y="13"/>
                    <a:pt x="6781" y="16"/>
                    <a:pt x="6776" y="16"/>
                  </a:cubicBezTo>
                  <a:lnTo>
                    <a:pt x="6728" y="16"/>
                  </a:lnTo>
                  <a:cubicBezTo>
                    <a:pt x="6724" y="16"/>
                    <a:pt x="6720" y="13"/>
                    <a:pt x="6720" y="8"/>
                  </a:cubicBezTo>
                  <a:cubicBezTo>
                    <a:pt x="6720" y="4"/>
                    <a:pt x="6724" y="0"/>
                    <a:pt x="6728" y="0"/>
                  </a:cubicBezTo>
                  <a:close/>
                  <a:moveTo>
                    <a:pt x="6840" y="0"/>
                  </a:moveTo>
                  <a:lnTo>
                    <a:pt x="6888" y="0"/>
                  </a:lnTo>
                  <a:cubicBezTo>
                    <a:pt x="6893" y="0"/>
                    <a:pt x="6896" y="4"/>
                    <a:pt x="6896" y="8"/>
                  </a:cubicBezTo>
                  <a:cubicBezTo>
                    <a:pt x="6896" y="13"/>
                    <a:pt x="6893" y="16"/>
                    <a:pt x="6888" y="16"/>
                  </a:cubicBezTo>
                  <a:lnTo>
                    <a:pt x="6840" y="16"/>
                  </a:lnTo>
                  <a:cubicBezTo>
                    <a:pt x="6836" y="16"/>
                    <a:pt x="6832" y="13"/>
                    <a:pt x="6832" y="8"/>
                  </a:cubicBezTo>
                  <a:cubicBezTo>
                    <a:pt x="6832" y="4"/>
                    <a:pt x="6836" y="0"/>
                    <a:pt x="6840" y="0"/>
                  </a:cubicBezTo>
                  <a:close/>
                  <a:moveTo>
                    <a:pt x="6952" y="0"/>
                  </a:moveTo>
                  <a:lnTo>
                    <a:pt x="7000" y="0"/>
                  </a:lnTo>
                  <a:cubicBezTo>
                    <a:pt x="7005" y="0"/>
                    <a:pt x="7008" y="4"/>
                    <a:pt x="7008" y="8"/>
                  </a:cubicBezTo>
                  <a:cubicBezTo>
                    <a:pt x="7008" y="13"/>
                    <a:pt x="7005" y="16"/>
                    <a:pt x="7000" y="16"/>
                  </a:cubicBezTo>
                  <a:lnTo>
                    <a:pt x="6952" y="16"/>
                  </a:lnTo>
                  <a:cubicBezTo>
                    <a:pt x="6948" y="16"/>
                    <a:pt x="6944" y="13"/>
                    <a:pt x="6944" y="8"/>
                  </a:cubicBezTo>
                  <a:cubicBezTo>
                    <a:pt x="6944" y="4"/>
                    <a:pt x="6948" y="0"/>
                    <a:pt x="6952" y="0"/>
                  </a:cubicBezTo>
                  <a:close/>
                  <a:moveTo>
                    <a:pt x="7064" y="0"/>
                  </a:moveTo>
                  <a:lnTo>
                    <a:pt x="7112" y="0"/>
                  </a:lnTo>
                  <a:cubicBezTo>
                    <a:pt x="7117" y="0"/>
                    <a:pt x="7120" y="4"/>
                    <a:pt x="7120" y="8"/>
                  </a:cubicBezTo>
                  <a:cubicBezTo>
                    <a:pt x="7120" y="13"/>
                    <a:pt x="7117" y="16"/>
                    <a:pt x="7112" y="16"/>
                  </a:cubicBezTo>
                  <a:lnTo>
                    <a:pt x="7064" y="16"/>
                  </a:lnTo>
                  <a:cubicBezTo>
                    <a:pt x="7060" y="16"/>
                    <a:pt x="7056" y="13"/>
                    <a:pt x="7056" y="8"/>
                  </a:cubicBezTo>
                  <a:cubicBezTo>
                    <a:pt x="7056" y="4"/>
                    <a:pt x="7060" y="0"/>
                    <a:pt x="7064" y="0"/>
                  </a:cubicBezTo>
                  <a:close/>
                  <a:moveTo>
                    <a:pt x="7176" y="0"/>
                  </a:moveTo>
                  <a:lnTo>
                    <a:pt x="7224" y="0"/>
                  </a:lnTo>
                  <a:cubicBezTo>
                    <a:pt x="7229" y="0"/>
                    <a:pt x="7232" y="4"/>
                    <a:pt x="7232" y="8"/>
                  </a:cubicBezTo>
                  <a:cubicBezTo>
                    <a:pt x="7232" y="13"/>
                    <a:pt x="7229" y="16"/>
                    <a:pt x="7224" y="16"/>
                  </a:cubicBezTo>
                  <a:lnTo>
                    <a:pt x="7176" y="16"/>
                  </a:lnTo>
                  <a:cubicBezTo>
                    <a:pt x="7172" y="16"/>
                    <a:pt x="7168" y="13"/>
                    <a:pt x="7168" y="8"/>
                  </a:cubicBezTo>
                  <a:cubicBezTo>
                    <a:pt x="7168" y="4"/>
                    <a:pt x="7172" y="0"/>
                    <a:pt x="7176" y="0"/>
                  </a:cubicBezTo>
                  <a:close/>
                  <a:moveTo>
                    <a:pt x="7288" y="0"/>
                  </a:moveTo>
                  <a:lnTo>
                    <a:pt x="7336" y="0"/>
                  </a:lnTo>
                  <a:cubicBezTo>
                    <a:pt x="7341" y="0"/>
                    <a:pt x="7344" y="4"/>
                    <a:pt x="7344" y="8"/>
                  </a:cubicBezTo>
                  <a:cubicBezTo>
                    <a:pt x="7344" y="13"/>
                    <a:pt x="7341" y="16"/>
                    <a:pt x="7336" y="16"/>
                  </a:cubicBezTo>
                  <a:lnTo>
                    <a:pt x="7288" y="16"/>
                  </a:lnTo>
                  <a:cubicBezTo>
                    <a:pt x="7284" y="16"/>
                    <a:pt x="7280" y="13"/>
                    <a:pt x="7280" y="8"/>
                  </a:cubicBezTo>
                  <a:cubicBezTo>
                    <a:pt x="7280" y="4"/>
                    <a:pt x="7284" y="0"/>
                    <a:pt x="7288" y="0"/>
                  </a:cubicBezTo>
                  <a:close/>
                  <a:moveTo>
                    <a:pt x="7400" y="0"/>
                  </a:moveTo>
                  <a:lnTo>
                    <a:pt x="7448" y="0"/>
                  </a:lnTo>
                  <a:cubicBezTo>
                    <a:pt x="7453" y="0"/>
                    <a:pt x="7456" y="4"/>
                    <a:pt x="7456" y="8"/>
                  </a:cubicBezTo>
                  <a:cubicBezTo>
                    <a:pt x="7456" y="13"/>
                    <a:pt x="7453" y="16"/>
                    <a:pt x="7448" y="16"/>
                  </a:cubicBezTo>
                  <a:lnTo>
                    <a:pt x="7400" y="16"/>
                  </a:lnTo>
                  <a:cubicBezTo>
                    <a:pt x="7396" y="16"/>
                    <a:pt x="7392" y="13"/>
                    <a:pt x="7392" y="8"/>
                  </a:cubicBezTo>
                  <a:cubicBezTo>
                    <a:pt x="7392" y="4"/>
                    <a:pt x="7396" y="0"/>
                    <a:pt x="7400" y="0"/>
                  </a:cubicBezTo>
                  <a:close/>
                  <a:moveTo>
                    <a:pt x="7512" y="0"/>
                  </a:moveTo>
                  <a:lnTo>
                    <a:pt x="7560" y="0"/>
                  </a:lnTo>
                  <a:cubicBezTo>
                    <a:pt x="7565" y="0"/>
                    <a:pt x="7568" y="4"/>
                    <a:pt x="7568" y="8"/>
                  </a:cubicBezTo>
                  <a:cubicBezTo>
                    <a:pt x="7568" y="13"/>
                    <a:pt x="7565" y="16"/>
                    <a:pt x="7560" y="16"/>
                  </a:cubicBezTo>
                  <a:lnTo>
                    <a:pt x="7512" y="16"/>
                  </a:lnTo>
                  <a:cubicBezTo>
                    <a:pt x="7508" y="16"/>
                    <a:pt x="7504" y="13"/>
                    <a:pt x="7504" y="8"/>
                  </a:cubicBezTo>
                  <a:cubicBezTo>
                    <a:pt x="7504" y="4"/>
                    <a:pt x="7508" y="0"/>
                    <a:pt x="7512" y="0"/>
                  </a:cubicBezTo>
                  <a:close/>
                  <a:moveTo>
                    <a:pt x="7624" y="0"/>
                  </a:moveTo>
                  <a:lnTo>
                    <a:pt x="7672" y="0"/>
                  </a:lnTo>
                  <a:cubicBezTo>
                    <a:pt x="7677" y="0"/>
                    <a:pt x="7680" y="4"/>
                    <a:pt x="7680" y="8"/>
                  </a:cubicBezTo>
                  <a:cubicBezTo>
                    <a:pt x="7680" y="13"/>
                    <a:pt x="7677" y="16"/>
                    <a:pt x="7672" y="16"/>
                  </a:cubicBezTo>
                  <a:lnTo>
                    <a:pt x="7624" y="16"/>
                  </a:lnTo>
                  <a:cubicBezTo>
                    <a:pt x="7620" y="16"/>
                    <a:pt x="7616" y="13"/>
                    <a:pt x="7616" y="8"/>
                  </a:cubicBezTo>
                  <a:cubicBezTo>
                    <a:pt x="7616" y="4"/>
                    <a:pt x="7620" y="0"/>
                    <a:pt x="7624" y="0"/>
                  </a:cubicBezTo>
                  <a:close/>
                  <a:moveTo>
                    <a:pt x="7736" y="0"/>
                  </a:moveTo>
                  <a:lnTo>
                    <a:pt x="7784" y="0"/>
                  </a:lnTo>
                  <a:cubicBezTo>
                    <a:pt x="7789" y="0"/>
                    <a:pt x="7792" y="4"/>
                    <a:pt x="7792" y="8"/>
                  </a:cubicBezTo>
                  <a:cubicBezTo>
                    <a:pt x="7792" y="13"/>
                    <a:pt x="7789" y="16"/>
                    <a:pt x="7784" y="16"/>
                  </a:cubicBezTo>
                  <a:lnTo>
                    <a:pt x="7736" y="16"/>
                  </a:lnTo>
                  <a:cubicBezTo>
                    <a:pt x="7732" y="16"/>
                    <a:pt x="7728" y="13"/>
                    <a:pt x="7728" y="8"/>
                  </a:cubicBezTo>
                  <a:cubicBezTo>
                    <a:pt x="7728" y="4"/>
                    <a:pt x="7732" y="0"/>
                    <a:pt x="7736" y="0"/>
                  </a:cubicBezTo>
                  <a:close/>
                  <a:moveTo>
                    <a:pt x="7848" y="0"/>
                  </a:moveTo>
                  <a:lnTo>
                    <a:pt x="7896" y="0"/>
                  </a:lnTo>
                  <a:cubicBezTo>
                    <a:pt x="7901" y="0"/>
                    <a:pt x="7904" y="4"/>
                    <a:pt x="7904" y="8"/>
                  </a:cubicBezTo>
                  <a:cubicBezTo>
                    <a:pt x="7904" y="13"/>
                    <a:pt x="7901" y="16"/>
                    <a:pt x="7896" y="16"/>
                  </a:cubicBezTo>
                  <a:lnTo>
                    <a:pt x="7848" y="16"/>
                  </a:lnTo>
                  <a:cubicBezTo>
                    <a:pt x="7844" y="16"/>
                    <a:pt x="7840" y="13"/>
                    <a:pt x="7840" y="8"/>
                  </a:cubicBezTo>
                  <a:cubicBezTo>
                    <a:pt x="7840" y="4"/>
                    <a:pt x="7844" y="0"/>
                    <a:pt x="7848" y="0"/>
                  </a:cubicBezTo>
                  <a:close/>
                  <a:moveTo>
                    <a:pt x="7960" y="0"/>
                  </a:moveTo>
                  <a:lnTo>
                    <a:pt x="8008" y="0"/>
                  </a:lnTo>
                  <a:cubicBezTo>
                    <a:pt x="8013" y="0"/>
                    <a:pt x="8016" y="4"/>
                    <a:pt x="8016" y="8"/>
                  </a:cubicBezTo>
                  <a:cubicBezTo>
                    <a:pt x="8016" y="13"/>
                    <a:pt x="8013" y="16"/>
                    <a:pt x="8008" y="16"/>
                  </a:cubicBezTo>
                  <a:lnTo>
                    <a:pt x="7960" y="16"/>
                  </a:lnTo>
                  <a:cubicBezTo>
                    <a:pt x="7956" y="16"/>
                    <a:pt x="7952" y="13"/>
                    <a:pt x="7952" y="8"/>
                  </a:cubicBezTo>
                  <a:cubicBezTo>
                    <a:pt x="7952" y="4"/>
                    <a:pt x="7956" y="0"/>
                    <a:pt x="7960" y="0"/>
                  </a:cubicBezTo>
                  <a:close/>
                  <a:moveTo>
                    <a:pt x="8072" y="0"/>
                  </a:moveTo>
                  <a:lnTo>
                    <a:pt x="8104" y="0"/>
                  </a:lnTo>
                  <a:cubicBezTo>
                    <a:pt x="8109" y="0"/>
                    <a:pt x="8112" y="4"/>
                    <a:pt x="8112" y="8"/>
                  </a:cubicBezTo>
                  <a:cubicBezTo>
                    <a:pt x="8112" y="13"/>
                    <a:pt x="8109" y="16"/>
                    <a:pt x="8104" y="16"/>
                  </a:cubicBezTo>
                  <a:lnTo>
                    <a:pt x="8072" y="16"/>
                  </a:lnTo>
                  <a:cubicBezTo>
                    <a:pt x="8068" y="16"/>
                    <a:pt x="8064" y="13"/>
                    <a:pt x="8064" y="8"/>
                  </a:cubicBezTo>
                  <a:cubicBezTo>
                    <a:pt x="8064" y="4"/>
                    <a:pt x="8068" y="0"/>
                    <a:pt x="8072" y="0"/>
                  </a:cubicBezTo>
                  <a:close/>
                </a:path>
              </a:pathLst>
            </a:custGeom>
            <a:solidFill>
              <a:srgbClr val="000000"/>
            </a:solidFill>
            <a:ln w="1440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732720" y="4797360"/>
              <a:ext cx="19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ＭＳ Ｐゴシック"/>
                </a:rPr>
                <a:t>Average:-2.3 d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4" name=""/>
          <p:cNvGrpSpPr/>
          <p:nvPr/>
        </p:nvGrpSpPr>
        <p:grpSpPr>
          <a:xfrm>
            <a:off x="904320" y="476280"/>
            <a:ext cx="7385760" cy="5305680"/>
            <a:chOff x="904320" y="476280"/>
            <a:chExt cx="7385760" cy="5305680"/>
          </a:xfrm>
        </p:grpSpPr>
        <p:sp>
          <p:nvSpPr>
            <p:cNvPr id="905" name=""/>
            <p:cNvSpPr/>
            <p:nvPr/>
          </p:nvSpPr>
          <p:spPr>
            <a:xfrm>
              <a:off x="1042920" y="476280"/>
              <a:ext cx="460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CE41-03 vs ISO362-2 (Class I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311120" y="5668920"/>
              <a:ext cx="6977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311120" y="5351400"/>
              <a:ext cx="6977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311120" y="5033880"/>
              <a:ext cx="6977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311120" y="4703760"/>
              <a:ext cx="6977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311120" y="4386240"/>
              <a:ext cx="6977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311120" y="4068720"/>
              <a:ext cx="6977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311120" y="3753000"/>
              <a:ext cx="6977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311120" y="3103560"/>
              <a:ext cx="6977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311120" y="2787480"/>
              <a:ext cx="6977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311120" y="2470320"/>
              <a:ext cx="6977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311120" y="2152800"/>
              <a:ext cx="6977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311120" y="1822320"/>
              <a:ext cx="6977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311120" y="1504800"/>
              <a:ext cx="6977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311120" y="1187280"/>
              <a:ext cx="6977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311120" y="1187280"/>
              <a:ext cx="6977160" cy="44816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06680" y="2938320"/>
              <a:ext cx="2786040" cy="49716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311120" y="1187280"/>
              <a:ext cx="1800" cy="4481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311120" y="566892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311120" y="535140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311120" y="503388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311120" y="470376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311120" y="438624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311120" y="406872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311120" y="375300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311120" y="343548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311120" y="310356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311120" y="278748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311120" y="247032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311120" y="215280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311120" y="182232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311120" y="150480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311120" y="118728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311120" y="3435480"/>
              <a:ext cx="6977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1311120" y="339372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8288280" y="339372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904320" y="559908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-7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904320" y="528156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-6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904320" y="496584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-5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904320" y="463392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-4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904320" y="431784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-3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904320" y="400068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-2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904320" y="368316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-1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973440" y="336564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0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973440" y="303516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973440" y="271764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973440" y="240192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973440" y="208440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973440" y="175248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5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973440" y="143676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973440" y="1119240"/>
              <a:ext cx="21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752360" y="3573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7" name=""/>
          <p:cNvSpPr/>
          <p:nvPr/>
        </p:nvSpPr>
        <p:spPr>
          <a:xfrm>
            <a:off x="4500720" y="213372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Average:+1.5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332000" y="2924280"/>
            <a:ext cx="6985080" cy="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395280" y="4046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E41-03 vs ISO362-2 (Class 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239840" y="5791320"/>
            <a:ext cx="736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239840" y="5456160"/>
            <a:ext cx="7362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239840" y="5122800"/>
            <a:ext cx="7362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239840" y="4773600"/>
            <a:ext cx="736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239840" y="4438800"/>
            <a:ext cx="736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239840" y="4103640"/>
            <a:ext cx="7362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239840" y="3768840"/>
            <a:ext cx="736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239840" y="3086280"/>
            <a:ext cx="736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239840" y="2751120"/>
            <a:ext cx="736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239840" y="2416320"/>
            <a:ext cx="736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239840" y="2081160"/>
            <a:ext cx="7362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239840" y="1731960"/>
            <a:ext cx="736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239840" y="1398600"/>
            <a:ext cx="736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239840" y="1063800"/>
            <a:ext cx="736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239840" y="1063800"/>
            <a:ext cx="7362720" cy="472752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400040" y="3435480"/>
            <a:ext cx="231840" cy="140940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967040" y="3435480"/>
            <a:ext cx="233280" cy="42048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535120" y="3435480"/>
            <a:ext cx="231840" cy="138096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3102120" y="3435480"/>
            <a:ext cx="233280" cy="109044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670200" y="3435480"/>
            <a:ext cx="231840" cy="58104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4237200" y="3435480"/>
            <a:ext cx="233280" cy="87156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4803840" y="2548080"/>
            <a:ext cx="218880" cy="88740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357880" y="3157560"/>
            <a:ext cx="231840" cy="27792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924520" y="3435480"/>
            <a:ext cx="233280" cy="49356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492960" y="3362400"/>
            <a:ext cx="231840" cy="7308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059600" y="3435480"/>
            <a:ext cx="233280" cy="65376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7628040" y="3435480"/>
            <a:ext cx="231840" cy="39204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8194680" y="2576520"/>
            <a:ext cx="233280" cy="85896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239840" y="1063800"/>
            <a:ext cx="1440" cy="472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239840" y="5791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1239840" y="5718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239840" y="5661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239840" y="558792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239840" y="55148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1239840" y="5456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1239840" y="5384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1239840" y="5326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1239840" y="52531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239840" y="5180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239840" y="51228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239840" y="504972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239840" y="49766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239840" y="4917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239840" y="48448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239840" y="47736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239840" y="47149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239840" y="46418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239840" y="45687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239840" y="451152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239840" y="4438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239840" y="43797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239840" y="4307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239840" y="42354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239840" y="41767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239840" y="41036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1239840" y="40305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1239840" y="3973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239840" y="39006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239840" y="38275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239840" y="37688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239840" y="36972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239840" y="362412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239840" y="35654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239840" y="34923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239840" y="3435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239840" y="33624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239840" y="3289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239840" y="32306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239840" y="31575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239840" y="30862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239840" y="30272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239840" y="2954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239840" y="28814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239840" y="28242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239840" y="27511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1239840" y="2678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239840" y="26193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1239840" y="25480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239840" y="24890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1239840" y="2416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1239840" y="23432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239840" y="22860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239840" y="221292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239840" y="21398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239840" y="20811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239840" y="20098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1239840" y="1936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239840" y="18781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239840" y="18050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239840" y="17319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239840" y="167472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1239840" y="160164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239840" y="15289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239840" y="14698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239840" y="13986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239840" y="13399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239840" y="126684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239840" y="11937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1239840" y="113652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1239840" y="10638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239840" y="579132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239840" y="545616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239840" y="512280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1239840" y="477360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239840" y="443880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1239840" y="410364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239840" y="376884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1239840" y="343548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239840" y="308628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1239840" y="275112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1239840" y="241632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1239840" y="208116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1239840" y="17319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239840" y="139860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239840" y="106380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1239840" y="3435480"/>
            <a:ext cx="736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1239840" y="33908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1806480" y="339084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2374920" y="33908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2941560" y="339084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3510000" y="33908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 flipV="1">
            <a:off x="4076640" y="339084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4645080" y="33908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V="1">
            <a:off x="5197320" y="339084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5764320" y="33908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6332400" y="339084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6899400" y="33908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7467480" y="339084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8034480" y="33908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8602560" y="339084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810360" y="5718240"/>
            <a:ext cx="28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-7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810360" y="5384880"/>
            <a:ext cx="28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-6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810360" y="5049720"/>
            <a:ext cx="28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-5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810360" y="4700520"/>
            <a:ext cx="28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-4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810360" y="4365720"/>
            <a:ext cx="28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-3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810360" y="4030560"/>
            <a:ext cx="28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-2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810360" y="3697200"/>
            <a:ext cx="28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-1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883080" y="3362400"/>
            <a:ext cx="23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0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883080" y="3013200"/>
            <a:ext cx="23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1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883080" y="2678040"/>
            <a:ext cx="23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2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883080" y="2343240"/>
            <a:ext cx="23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3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883080" y="2009880"/>
            <a:ext cx="23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4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883080" y="1660680"/>
            <a:ext cx="23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5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883080" y="1325520"/>
            <a:ext cx="23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6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883080" y="990720"/>
            <a:ext cx="23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7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467000" y="35798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033640" y="35798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600640" y="35798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168720" y="35798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735720" y="35798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4303800" y="35798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4870800" y="35798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438880" y="35798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6005880" y="35798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523560" y="357984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7092000" y="357984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7658640" y="357984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8226720" y="357984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1211400" y="3813120"/>
            <a:ext cx="7391160" cy="14400"/>
          </a:xfrm>
          <a:custGeom>
            <a:avLst/>
            <a:gdLst/>
            <a:ahLst/>
            <a:rect l="l" t="t" r="r" b="b"/>
            <a:pathLst>
              <a:path w="8128" h="16">
                <a:moveTo>
                  <a:pt x="8" y="0"/>
                </a:moveTo>
                <a:lnTo>
                  <a:pt x="56" y="0"/>
                </a:lnTo>
                <a:cubicBezTo>
                  <a:pt x="61" y="0"/>
                  <a:pt x="64" y="4"/>
                  <a:pt x="64" y="8"/>
                </a:cubicBezTo>
                <a:cubicBezTo>
                  <a:pt x="64" y="13"/>
                  <a:pt x="61" y="16"/>
                  <a:pt x="56" y="16"/>
                </a:cubicBezTo>
                <a:lnTo>
                  <a:pt x="8" y="16"/>
                </a:lnTo>
                <a:cubicBezTo>
                  <a:pt x="4" y="16"/>
                  <a:pt x="0" y="13"/>
                  <a:pt x="0" y="8"/>
                </a:cubicBezTo>
                <a:cubicBezTo>
                  <a:pt x="0" y="4"/>
                  <a:pt x="4" y="0"/>
                  <a:pt x="8" y="0"/>
                </a:cubicBezTo>
                <a:close/>
                <a:moveTo>
                  <a:pt x="120" y="0"/>
                </a:moveTo>
                <a:lnTo>
                  <a:pt x="168" y="0"/>
                </a:lnTo>
                <a:cubicBezTo>
                  <a:pt x="173" y="0"/>
                  <a:pt x="176" y="4"/>
                  <a:pt x="176" y="8"/>
                </a:cubicBezTo>
                <a:cubicBezTo>
                  <a:pt x="176" y="13"/>
                  <a:pt x="173" y="16"/>
                  <a:pt x="168" y="16"/>
                </a:cubicBezTo>
                <a:lnTo>
                  <a:pt x="120" y="16"/>
                </a:lnTo>
                <a:cubicBezTo>
                  <a:pt x="116" y="16"/>
                  <a:pt x="112" y="13"/>
                  <a:pt x="112" y="8"/>
                </a:cubicBezTo>
                <a:cubicBezTo>
                  <a:pt x="112" y="4"/>
                  <a:pt x="116" y="0"/>
                  <a:pt x="120" y="0"/>
                </a:cubicBezTo>
                <a:close/>
                <a:moveTo>
                  <a:pt x="232" y="0"/>
                </a:moveTo>
                <a:lnTo>
                  <a:pt x="280" y="0"/>
                </a:lnTo>
                <a:cubicBezTo>
                  <a:pt x="285" y="0"/>
                  <a:pt x="288" y="4"/>
                  <a:pt x="288" y="8"/>
                </a:cubicBezTo>
                <a:cubicBezTo>
                  <a:pt x="288" y="13"/>
                  <a:pt x="285" y="16"/>
                  <a:pt x="280" y="16"/>
                </a:cubicBezTo>
                <a:lnTo>
                  <a:pt x="232" y="16"/>
                </a:lnTo>
                <a:cubicBezTo>
                  <a:pt x="228" y="16"/>
                  <a:pt x="224" y="13"/>
                  <a:pt x="224" y="8"/>
                </a:cubicBezTo>
                <a:cubicBezTo>
                  <a:pt x="224" y="4"/>
                  <a:pt x="228" y="0"/>
                  <a:pt x="232" y="0"/>
                </a:cubicBezTo>
                <a:close/>
                <a:moveTo>
                  <a:pt x="344" y="0"/>
                </a:moveTo>
                <a:lnTo>
                  <a:pt x="392" y="0"/>
                </a:lnTo>
                <a:cubicBezTo>
                  <a:pt x="397" y="0"/>
                  <a:pt x="400" y="4"/>
                  <a:pt x="400" y="8"/>
                </a:cubicBezTo>
                <a:cubicBezTo>
                  <a:pt x="400" y="13"/>
                  <a:pt x="397" y="16"/>
                  <a:pt x="392" y="16"/>
                </a:cubicBezTo>
                <a:lnTo>
                  <a:pt x="344" y="16"/>
                </a:lnTo>
                <a:cubicBezTo>
                  <a:pt x="340" y="16"/>
                  <a:pt x="336" y="13"/>
                  <a:pt x="336" y="8"/>
                </a:cubicBezTo>
                <a:cubicBezTo>
                  <a:pt x="336" y="4"/>
                  <a:pt x="340" y="0"/>
                  <a:pt x="344" y="0"/>
                </a:cubicBezTo>
                <a:close/>
                <a:moveTo>
                  <a:pt x="456" y="0"/>
                </a:moveTo>
                <a:lnTo>
                  <a:pt x="504" y="0"/>
                </a:lnTo>
                <a:cubicBezTo>
                  <a:pt x="509" y="0"/>
                  <a:pt x="512" y="4"/>
                  <a:pt x="512" y="8"/>
                </a:cubicBezTo>
                <a:cubicBezTo>
                  <a:pt x="512" y="13"/>
                  <a:pt x="509" y="16"/>
                  <a:pt x="504" y="16"/>
                </a:cubicBezTo>
                <a:lnTo>
                  <a:pt x="456" y="16"/>
                </a:lnTo>
                <a:cubicBezTo>
                  <a:pt x="452" y="16"/>
                  <a:pt x="448" y="13"/>
                  <a:pt x="448" y="8"/>
                </a:cubicBezTo>
                <a:cubicBezTo>
                  <a:pt x="448" y="4"/>
                  <a:pt x="452" y="0"/>
                  <a:pt x="456" y="0"/>
                </a:cubicBezTo>
                <a:close/>
                <a:moveTo>
                  <a:pt x="568" y="0"/>
                </a:moveTo>
                <a:lnTo>
                  <a:pt x="616" y="0"/>
                </a:lnTo>
                <a:cubicBezTo>
                  <a:pt x="621" y="0"/>
                  <a:pt x="624" y="4"/>
                  <a:pt x="624" y="8"/>
                </a:cubicBezTo>
                <a:cubicBezTo>
                  <a:pt x="624" y="13"/>
                  <a:pt x="621" y="16"/>
                  <a:pt x="616" y="16"/>
                </a:cubicBezTo>
                <a:lnTo>
                  <a:pt x="568" y="16"/>
                </a:lnTo>
                <a:cubicBezTo>
                  <a:pt x="564" y="16"/>
                  <a:pt x="560" y="13"/>
                  <a:pt x="560" y="8"/>
                </a:cubicBezTo>
                <a:cubicBezTo>
                  <a:pt x="560" y="4"/>
                  <a:pt x="564" y="0"/>
                  <a:pt x="568" y="0"/>
                </a:cubicBezTo>
                <a:close/>
                <a:moveTo>
                  <a:pt x="680" y="0"/>
                </a:moveTo>
                <a:lnTo>
                  <a:pt x="728" y="0"/>
                </a:lnTo>
                <a:cubicBezTo>
                  <a:pt x="733" y="0"/>
                  <a:pt x="736" y="4"/>
                  <a:pt x="736" y="8"/>
                </a:cubicBezTo>
                <a:cubicBezTo>
                  <a:pt x="736" y="13"/>
                  <a:pt x="733" y="16"/>
                  <a:pt x="728" y="16"/>
                </a:cubicBezTo>
                <a:lnTo>
                  <a:pt x="680" y="16"/>
                </a:lnTo>
                <a:cubicBezTo>
                  <a:pt x="676" y="16"/>
                  <a:pt x="672" y="13"/>
                  <a:pt x="672" y="8"/>
                </a:cubicBezTo>
                <a:cubicBezTo>
                  <a:pt x="672" y="4"/>
                  <a:pt x="676" y="0"/>
                  <a:pt x="680" y="0"/>
                </a:cubicBezTo>
                <a:close/>
                <a:moveTo>
                  <a:pt x="792" y="0"/>
                </a:moveTo>
                <a:lnTo>
                  <a:pt x="840" y="0"/>
                </a:lnTo>
                <a:cubicBezTo>
                  <a:pt x="845" y="0"/>
                  <a:pt x="848" y="4"/>
                  <a:pt x="848" y="8"/>
                </a:cubicBezTo>
                <a:cubicBezTo>
                  <a:pt x="848" y="13"/>
                  <a:pt x="845" y="16"/>
                  <a:pt x="840" y="16"/>
                </a:cubicBezTo>
                <a:lnTo>
                  <a:pt x="792" y="16"/>
                </a:lnTo>
                <a:cubicBezTo>
                  <a:pt x="788" y="16"/>
                  <a:pt x="784" y="13"/>
                  <a:pt x="784" y="8"/>
                </a:cubicBezTo>
                <a:cubicBezTo>
                  <a:pt x="784" y="4"/>
                  <a:pt x="788" y="0"/>
                  <a:pt x="792" y="0"/>
                </a:cubicBezTo>
                <a:close/>
                <a:moveTo>
                  <a:pt x="904" y="0"/>
                </a:moveTo>
                <a:lnTo>
                  <a:pt x="952" y="0"/>
                </a:lnTo>
                <a:cubicBezTo>
                  <a:pt x="957" y="0"/>
                  <a:pt x="960" y="4"/>
                  <a:pt x="960" y="8"/>
                </a:cubicBezTo>
                <a:cubicBezTo>
                  <a:pt x="960" y="13"/>
                  <a:pt x="957" y="16"/>
                  <a:pt x="952" y="16"/>
                </a:cubicBezTo>
                <a:lnTo>
                  <a:pt x="904" y="16"/>
                </a:lnTo>
                <a:cubicBezTo>
                  <a:pt x="900" y="16"/>
                  <a:pt x="896" y="13"/>
                  <a:pt x="896" y="8"/>
                </a:cubicBezTo>
                <a:cubicBezTo>
                  <a:pt x="896" y="4"/>
                  <a:pt x="900" y="0"/>
                  <a:pt x="904" y="0"/>
                </a:cubicBezTo>
                <a:close/>
                <a:moveTo>
                  <a:pt x="1016" y="0"/>
                </a:moveTo>
                <a:lnTo>
                  <a:pt x="1064" y="0"/>
                </a:lnTo>
                <a:cubicBezTo>
                  <a:pt x="1069" y="0"/>
                  <a:pt x="1072" y="4"/>
                  <a:pt x="1072" y="8"/>
                </a:cubicBezTo>
                <a:cubicBezTo>
                  <a:pt x="1072" y="13"/>
                  <a:pt x="1069" y="16"/>
                  <a:pt x="1064" y="16"/>
                </a:cubicBezTo>
                <a:lnTo>
                  <a:pt x="1016" y="16"/>
                </a:lnTo>
                <a:cubicBezTo>
                  <a:pt x="1012" y="16"/>
                  <a:pt x="1008" y="13"/>
                  <a:pt x="1008" y="8"/>
                </a:cubicBezTo>
                <a:cubicBezTo>
                  <a:pt x="1008" y="4"/>
                  <a:pt x="1012" y="0"/>
                  <a:pt x="1016" y="0"/>
                </a:cubicBezTo>
                <a:close/>
                <a:moveTo>
                  <a:pt x="1128" y="0"/>
                </a:moveTo>
                <a:lnTo>
                  <a:pt x="1176" y="0"/>
                </a:lnTo>
                <a:cubicBezTo>
                  <a:pt x="1181" y="0"/>
                  <a:pt x="1184" y="4"/>
                  <a:pt x="1184" y="8"/>
                </a:cubicBezTo>
                <a:cubicBezTo>
                  <a:pt x="1184" y="13"/>
                  <a:pt x="1181" y="16"/>
                  <a:pt x="1176" y="16"/>
                </a:cubicBezTo>
                <a:lnTo>
                  <a:pt x="1128" y="16"/>
                </a:lnTo>
                <a:cubicBezTo>
                  <a:pt x="1124" y="16"/>
                  <a:pt x="1120" y="13"/>
                  <a:pt x="1120" y="8"/>
                </a:cubicBezTo>
                <a:cubicBezTo>
                  <a:pt x="1120" y="4"/>
                  <a:pt x="1124" y="0"/>
                  <a:pt x="1128" y="0"/>
                </a:cubicBezTo>
                <a:close/>
                <a:moveTo>
                  <a:pt x="1240" y="0"/>
                </a:moveTo>
                <a:lnTo>
                  <a:pt x="1288" y="0"/>
                </a:lnTo>
                <a:cubicBezTo>
                  <a:pt x="1293" y="0"/>
                  <a:pt x="1296" y="4"/>
                  <a:pt x="1296" y="8"/>
                </a:cubicBezTo>
                <a:cubicBezTo>
                  <a:pt x="1296" y="13"/>
                  <a:pt x="1293" y="16"/>
                  <a:pt x="1288" y="16"/>
                </a:cubicBezTo>
                <a:lnTo>
                  <a:pt x="1240" y="16"/>
                </a:lnTo>
                <a:cubicBezTo>
                  <a:pt x="1236" y="16"/>
                  <a:pt x="1232" y="13"/>
                  <a:pt x="1232" y="8"/>
                </a:cubicBezTo>
                <a:cubicBezTo>
                  <a:pt x="1232" y="4"/>
                  <a:pt x="1236" y="0"/>
                  <a:pt x="1240" y="0"/>
                </a:cubicBezTo>
                <a:close/>
                <a:moveTo>
                  <a:pt x="1352" y="0"/>
                </a:moveTo>
                <a:lnTo>
                  <a:pt x="1400" y="0"/>
                </a:lnTo>
                <a:cubicBezTo>
                  <a:pt x="1405" y="0"/>
                  <a:pt x="1408" y="4"/>
                  <a:pt x="1408" y="8"/>
                </a:cubicBezTo>
                <a:cubicBezTo>
                  <a:pt x="1408" y="13"/>
                  <a:pt x="1405" y="16"/>
                  <a:pt x="1400" y="16"/>
                </a:cubicBezTo>
                <a:lnTo>
                  <a:pt x="1352" y="16"/>
                </a:lnTo>
                <a:cubicBezTo>
                  <a:pt x="1348" y="16"/>
                  <a:pt x="1344" y="13"/>
                  <a:pt x="1344" y="8"/>
                </a:cubicBezTo>
                <a:cubicBezTo>
                  <a:pt x="1344" y="4"/>
                  <a:pt x="1348" y="0"/>
                  <a:pt x="1352" y="0"/>
                </a:cubicBezTo>
                <a:close/>
                <a:moveTo>
                  <a:pt x="1464" y="0"/>
                </a:moveTo>
                <a:lnTo>
                  <a:pt x="1512" y="0"/>
                </a:lnTo>
                <a:cubicBezTo>
                  <a:pt x="1517" y="0"/>
                  <a:pt x="1520" y="4"/>
                  <a:pt x="1520" y="8"/>
                </a:cubicBezTo>
                <a:cubicBezTo>
                  <a:pt x="1520" y="13"/>
                  <a:pt x="1517" y="16"/>
                  <a:pt x="1512" y="16"/>
                </a:cubicBezTo>
                <a:lnTo>
                  <a:pt x="1464" y="16"/>
                </a:lnTo>
                <a:cubicBezTo>
                  <a:pt x="1460" y="16"/>
                  <a:pt x="1456" y="13"/>
                  <a:pt x="1456" y="8"/>
                </a:cubicBezTo>
                <a:cubicBezTo>
                  <a:pt x="1456" y="4"/>
                  <a:pt x="1460" y="0"/>
                  <a:pt x="1464" y="0"/>
                </a:cubicBezTo>
                <a:close/>
                <a:moveTo>
                  <a:pt x="1576" y="0"/>
                </a:moveTo>
                <a:lnTo>
                  <a:pt x="1624" y="0"/>
                </a:lnTo>
                <a:cubicBezTo>
                  <a:pt x="1629" y="0"/>
                  <a:pt x="1632" y="4"/>
                  <a:pt x="1632" y="8"/>
                </a:cubicBezTo>
                <a:cubicBezTo>
                  <a:pt x="1632" y="13"/>
                  <a:pt x="1629" y="16"/>
                  <a:pt x="1624" y="16"/>
                </a:cubicBezTo>
                <a:lnTo>
                  <a:pt x="1576" y="16"/>
                </a:lnTo>
                <a:cubicBezTo>
                  <a:pt x="1572" y="16"/>
                  <a:pt x="1568" y="13"/>
                  <a:pt x="1568" y="8"/>
                </a:cubicBezTo>
                <a:cubicBezTo>
                  <a:pt x="1568" y="4"/>
                  <a:pt x="1572" y="0"/>
                  <a:pt x="1576" y="0"/>
                </a:cubicBezTo>
                <a:close/>
                <a:moveTo>
                  <a:pt x="1688" y="0"/>
                </a:moveTo>
                <a:lnTo>
                  <a:pt x="1736" y="0"/>
                </a:lnTo>
                <a:cubicBezTo>
                  <a:pt x="1741" y="0"/>
                  <a:pt x="1744" y="4"/>
                  <a:pt x="1744" y="8"/>
                </a:cubicBezTo>
                <a:cubicBezTo>
                  <a:pt x="1744" y="13"/>
                  <a:pt x="1741" y="16"/>
                  <a:pt x="1736" y="16"/>
                </a:cubicBezTo>
                <a:lnTo>
                  <a:pt x="1688" y="16"/>
                </a:lnTo>
                <a:cubicBezTo>
                  <a:pt x="1684" y="16"/>
                  <a:pt x="1680" y="13"/>
                  <a:pt x="1680" y="8"/>
                </a:cubicBezTo>
                <a:cubicBezTo>
                  <a:pt x="1680" y="4"/>
                  <a:pt x="1684" y="0"/>
                  <a:pt x="1688" y="0"/>
                </a:cubicBezTo>
                <a:close/>
                <a:moveTo>
                  <a:pt x="1800" y="0"/>
                </a:moveTo>
                <a:lnTo>
                  <a:pt x="1848" y="0"/>
                </a:lnTo>
                <a:cubicBezTo>
                  <a:pt x="1853" y="0"/>
                  <a:pt x="1856" y="4"/>
                  <a:pt x="1856" y="8"/>
                </a:cubicBezTo>
                <a:cubicBezTo>
                  <a:pt x="1856" y="13"/>
                  <a:pt x="1853" y="16"/>
                  <a:pt x="1848" y="16"/>
                </a:cubicBezTo>
                <a:lnTo>
                  <a:pt x="1800" y="16"/>
                </a:lnTo>
                <a:cubicBezTo>
                  <a:pt x="1796" y="16"/>
                  <a:pt x="1792" y="13"/>
                  <a:pt x="1792" y="8"/>
                </a:cubicBezTo>
                <a:cubicBezTo>
                  <a:pt x="1792" y="4"/>
                  <a:pt x="1796" y="0"/>
                  <a:pt x="1800" y="0"/>
                </a:cubicBezTo>
                <a:close/>
                <a:moveTo>
                  <a:pt x="1912" y="0"/>
                </a:moveTo>
                <a:lnTo>
                  <a:pt x="1960" y="0"/>
                </a:lnTo>
                <a:cubicBezTo>
                  <a:pt x="1965" y="0"/>
                  <a:pt x="1968" y="4"/>
                  <a:pt x="1968" y="8"/>
                </a:cubicBezTo>
                <a:cubicBezTo>
                  <a:pt x="1968" y="13"/>
                  <a:pt x="1965" y="16"/>
                  <a:pt x="1960" y="16"/>
                </a:cubicBezTo>
                <a:lnTo>
                  <a:pt x="1912" y="16"/>
                </a:lnTo>
                <a:cubicBezTo>
                  <a:pt x="1908" y="16"/>
                  <a:pt x="1904" y="13"/>
                  <a:pt x="1904" y="8"/>
                </a:cubicBezTo>
                <a:cubicBezTo>
                  <a:pt x="1904" y="4"/>
                  <a:pt x="1908" y="0"/>
                  <a:pt x="1912" y="0"/>
                </a:cubicBezTo>
                <a:close/>
                <a:moveTo>
                  <a:pt x="2024" y="0"/>
                </a:moveTo>
                <a:lnTo>
                  <a:pt x="2072" y="0"/>
                </a:lnTo>
                <a:cubicBezTo>
                  <a:pt x="2077" y="0"/>
                  <a:pt x="2080" y="4"/>
                  <a:pt x="2080" y="8"/>
                </a:cubicBezTo>
                <a:cubicBezTo>
                  <a:pt x="2080" y="13"/>
                  <a:pt x="2077" y="16"/>
                  <a:pt x="2072" y="16"/>
                </a:cubicBezTo>
                <a:lnTo>
                  <a:pt x="2024" y="16"/>
                </a:lnTo>
                <a:cubicBezTo>
                  <a:pt x="2020" y="16"/>
                  <a:pt x="2016" y="13"/>
                  <a:pt x="2016" y="8"/>
                </a:cubicBezTo>
                <a:cubicBezTo>
                  <a:pt x="2016" y="4"/>
                  <a:pt x="2020" y="0"/>
                  <a:pt x="2024" y="0"/>
                </a:cubicBezTo>
                <a:close/>
                <a:moveTo>
                  <a:pt x="2136" y="0"/>
                </a:moveTo>
                <a:lnTo>
                  <a:pt x="2184" y="0"/>
                </a:lnTo>
                <a:cubicBezTo>
                  <a:pt x="2189" y="0"/>
                  <a:pt x="2192" y="4"/>
                  <a:pt x="2192" y="8"/>
                </a:cubicBezTo>
                <a:cubicBezTo>
                  <a:pt x="2192" y="13"/>
                  <a:pt x="2189" y="16"/>
                  <a:pt x="2184" y="16"/>
                </a:cubicBezTo>
                <a:lnTo>
                  <a:pt x="2136" y="16"/>
                </a:lnTo>
                <a:cubicBezTo>
                  <a:pt x="2132" y="16"/>
                  <a:pt x="2128" y="13"/>
                  <a:pt x="2128" y="8"/>
                </a:cubicBezTo>
                <a:cubicBezTo>
                  <a:pt x="2128" y="4"/>
                  <a:pt x="2132" y="0"/>
                  <a:pt x="2136" y="0"/>
                </a:cubicBezTo>
                <a:close/>
                <a:moveTo>
                  <a:pt x="2248" y="0"/>
                </a:moveTo>
                <a:lnTo>
                  <a:pt x="2296" y="0"/>
                </a:lnTo>
                <a:cubicBezTo>
                  <a:pt x="2301" y="0"/>
                  <a:pt x="2304" y="4"/>
                  <a:pt x="2304" y="8"/>
                </a:cubicBezTo>
                <a:cubicBezTo>
                  <a:pt x="2304" y="13"/>
                  <a:pt x="2301" y="16"/>
                  <a:pt x="2296" y="16"/>
                </a:cubicBezTo>
                <a:lnTo>
                  <a:pt x="2248" y="16"/>
                </a:lnTo>
                <a:cubicBezTo>
                  <a:pt x="2244" y="16"/>
                  <a:pt x="2240" y="13"/>
                  <a:pt x="2240" y="8"/>
                </a:cubicBezTo>
                <a:cubicBezTo>
                  <a:pt x="2240" y="4"/>
                  <a:pt x="2244" y="0"/>
                  <a:pt x="2248" y="0"/>
                </a:cubicBezTo>
                <a:close/>
                <a:moveTo>
                  <a:pt x="2360" y="0"/>
                </a:moveTo>
                <a:lnTo>
                  <a:pt x="2408" y="0"/>
                </a:lnTo>
                <a:cubicBezTo>
                  <a:pt x="2413" y="0"/>
                  <a:pt x="2416" y="4"/>
                  <a:pt x="2416" y="8"/>
                </a:cubicBezTo>
                <a:cubicBezTo>
                  <a:pt x="2416" y="13"/>
                  <a:pt x="2413" y="16"/>
                  <a:pt x="2408" y="16"/>
                </a:cubicBezTo>
                <a:lnTo>
                  <a:pt x="2360" y="16"/>
                </a:lnTo>
                <a:cubicBezTo>
                  <a:pt x="2356" y="16"/>
                  <a:pt x="2352" y="13"/>
                  <a:pt x="2352" y="8"/>
                </a:cubicBezTo>
                <a:cubicBezTo>
                  <a:pt x="2352" y="4"/>
                  <a:pt x="2356" y="0"/>
                  <a:pt x="2360" y="0"/>
                </a:cubicBezTo>
                <a:close/>
                <a:moveTo>
                  <a:pt x="2472" y="0"/>
                </a:moveTo>
                <a:lnTo>
                  <a:pt x="2520" y="0"/>
                </a:lnTo>
                <a:cubicBezTo>
                  <a:pt x="2525" y="0"/>
                  <a:pt x="2528" y="4"/>
                  <a:pt x="2528" y="8"/>
                </a:cubicBezTo>
                <a:cubicBezTo>
                  <a:pt x="2528" y="13"/>
                  <a:pt x="2525" y="16"/>
                  <a:pt x="2520" y="16"/>
                </a:cubicBezTo>
                <a:lnTo>
                  <a:pt x="2472" y="16"/>
                </a:lnTo>
                <a:cubicBezTo>
                  <a:pt x="2468" y="16"/>
                  <a:pt x="2464" y="13"/>
                  <a:pt x="2464" y="8"/>
                </a:cubicBezTo>
                <a:cubicBezTo>
                  <a:pt x="2464" y="4"/>
                  <a:pt x="2468" y="0"/>
                  <a:pt x="2472" y="0"/>
                </a:cubicBezTo>
                <a:close/>
                <a:moveTo>
                  <a:pt x="2584" y="0"/>
                </a:moveTo>
                <a:lnTo>
                  <a:pt x="2632" y="0"/>
                </a:lnTo>
                <a:cubicBezTo>
                  <a:pt x="2637" y="0"/>
                  <a:pt x="2640" y="4"/>
                  <a:pt x="2640" y="8"/>
                </a:cubicBezTo>
                <a:cubicBezTo>
                  <a:pt x="2640" y="13"/>
                  <a:pt x="2637" y="16"/>
                  <a:pt x="2632" y="16"/>
                </a:cubicBezTo>
                <a:lnTo>
                  <a:pt x="2584" y="16"/>
                </a:lnTo>
                <a:cubicBezTo>
                  <a:pt x="2580" y="16"/>
                  <a:pt x="2576" y="13"/>
                  <a:pt x="2576" y="8"/>
                </a:cubicBezTo>
                <a:cubicBezTo>
                  <a:pt x="2576" y="4"/>
                  <a:pt x="2580" y="0"/>
                  <a:pt x="2584" y="0"/>
                </a:cubicBezTo>
                <a:close/>
                <a:moveTo>
                  <a:pt x="2696" y="0"/>
                </a:moveTo>
                <a:lnTo>
                  <a:pt x="2744" y="0"/>
                </a:lnTo>
                <a:cubicBezTo>
                  <a:pt x="2749" y="0"/>
                  <a:pt x="2752" y="4"/>
                  <a:pt x="2752" y="8"/>
                </a:cubicBezTo>
                <a:cubicBezTo>
                  <a:pt x="2752" y="13"/>
                  <a:pt x="2749" y="16"/>
                  <a:pt x="2744" y="16"/>
                </a:cubicBezTo>
                <a:lnTo>
                  <a:pt x="2696" y="16"/>
                </a:lnTo>
                <a:cubicBezTo>
                  <a:pt x="2692" y="16"/>
                  <a:pt x="2688" y="13"/>
                  <a:pt x="2688" y="8"/>
                </a:cubicBezTo>
                <a:cubicBezTo>
                  <a:pt x="2688" y="4"/>
                  <a:pt x="2692" y="0"/>
                  <a:pt x="2696" y="0"/>
                </a:cubicBezTo>
                <a:close/>
                <a:moveTo>
                  <a:pt x="2808" y="0"/>
                </a:moveTo>
                <a:lnTo>
                  <a:pt x="2856" y="0"/>
                </a:lnTo>
                <a:cubicBezTo>
                  <a:pt x="2861" y="0"/>
                  <a:pt x="2864" y="4"/>
                  <a:pt x="2864" y="8"/>
                </a:cubicBezTo>
                <a:cubicBezTo>
                  <a:pt x="2864" y="13"/>
                  <a:pt x="2861" y="16"/>
                  <a:pt x="2856" y="16"/>
                </a:cubicBezTo>
                <a:lnTo>
                  <a:pt x="2808" y="16"/>
                </a:lnTo>
                <a:cubicBezTo>
                  <a:pt x="2804" y="16"/>
                  <a:pt x="2800" y="13"/>
                  <a:pt x="2800" y="8"/>
                </a:cubicBezTo>
                <a:cubicBezTo>
                  <a:pt x="2800" y="4"/>
                  <a:pt x="2804" y="0"/>
                  <a:pt x="2808" y="0"/>
                </a:cubicBezTo>
                <a:close/>
                <a:moveTo>
                  <a:pt x="2920" y="0"/>
                </a:moveTo>
                <a:lnTo>
                  <a:pt x="2968" y="0"/>
                </a:lnTo>
                <a:cubicBezTo>
                  <a:pt x="2973" y="0"/>
                  <a:pt x="2976" y="4"/>
                  <a:pt x="2976" y="8"/>
                </a:cubicBezTo>
                <a:cubicBezTo>
                  <a:pt x="2976" y="13"/>
                  <a:pt x="2973" y="16"/>
                  <a:pt x="2968" y="16"/>
                </a:cubicBezTo>
                <a:lnTo>
                  <a:pt x="2920" y="16"/>
                </a:lnTo>
                <a:cubicBezTo>
                  <a:pt x="2916" y="16"/>
                  <a:pt x="2912" y="13"/>
                  <a:pt x="2912" y="8"/>
                </a:cubicBezTo>
                <a:cubicBezTo>
                  <a:pt x="2912" y="4"/>
                  <a:pt x="2916" y="0"/>
                  <a:pt x="2920" y="0"/>
                </a:cubicBezTo>
                <a:close/>
                <a:moveTo>
                  <a:pt x="3032" y="0"/>
                </a:moveTo>
                <a:lnTo>
                  <a:pt x="3080" y="0"/>
                </a:lnTo>
                <a:cubicBezTo>
                  <a:pt x="3085" y="0"/>
                  <a:pt x="3088" y="4"/>
                  <a:pt x="3088" y="8"/>
                </a:cubicBezTo>
                <a:cubicBezTo>
                  <a:pt x="3088" y="13"/>
                  <a:pt x="3085" y="16"/>
                  <a:pt x="3080" y="16"/>
                </a:cubicBezTo>
                <a:lnTo>
                  <a:pt x="3032" y="16"/>
                </a:lnTo>
                <a:cubicBezTo>
                  <a:pt x="3028" y="16"/>
                  <a:pt x="3024" y="13"/>
                  <a:pt x="3024" y="8"/>
                </a:cubicBezTo>
                <a:cubicBezTo>
                  <a:pt x="3024" y="4"/>
                  <a:pt x="3028" y="0"/>
                  <a:pt x="3032" y="0"/>
                </a:cubicBezTo>
                <a:close/>
                <a:moveTo>
                  <a:pt x="3144" y="0"/>
                </a:moveTo>
                <a:lnTo>
                  <a:pt x="3192" y="0"/>
                </a:lnTo>
                <a:cubicBezTo>
                  <a:pt x="3197" y="0"/>
                  <a:pt x="3200" y="4"/>
                  <a:pt x="3200" y="8"/>
                </a:cubicBezTo>
                <a:cubicBezTo>
                  <a:pt x="3200" y="13"/>
                  <a:pt x="3197" y="16"/>
                  <a:pt x="3192" y="16"/>
                </a:cubicBezTo>
                <a:lnTo>
                  <a:pt x="3144" y="16"/>
                </a:lnTo>
                <a:cubicBezTo>
                  <a:pt x="3140" y="16"/>
                  <a:pt x="3136" y="13"/>
                  <a:pt x="3136" y="8"/>
                </a:cubicBezTo>
                <a:cubicBezTo>
                  <a:pt x="3136" y="4"/>
                  <a:pt x="3140" y="0"/>
                  <a:pt x="3144" y="0"/>
                </a:cubicBezTo>
                <a:close/>
                <a:moveTo>
                  <a:pt x="3256" y="0"/>
                </a:moveTo>
                <a:lnTo>
                  <a:pt x="3304" y="0"/>
                </a:lnTo>
                <a:cubicBezTo>
                  <a:pt x="3309" y="0"/>
                  <a:pt x="3312" y="4"/>
                  <a:pt x="3312" y="8"/>
                </a:cubicBezTo>
                <a:cubicBezTo>
                  <a:pt x="3312" y="13"/>
                  <a:pt x="3309" y="16"/>
                  <a:pt x="3304" y="16"/>
                </a:cubicBezTo>
                <a:lnTo>
                  <a:pt x="3256" y="16"/>
                </a:lnTo>
                <a:cubicBezTo>
                  <a:pt x="3252" y="16"/>
                  <a:pt x="3248" y="13"/>
                  <a:pt x="3248" y="8"/>
                </a:cubicBezTo>
                <a:cubicBezTo>
                  <a:pt x="3248" y="4"/>
                  <a:pt x="3252" y="0"/>
                  <a:pt x="3256" y="0"/>
                </a:cubicBezTo>
                <a:close/>
                <a:moveTo>
                  <a:pt x="3368" y="0"/>
                </a:moveTo>
                <a:lnTo>
                  <a:pt x="3416" y="0"/>
                </a:lnTo>
                <a:cubicBezTo>
                  <a:pt x="3421" y="0"/>
                  <a:pt x="3424" y="4"/>
                  <a:pt x="3424" y="8"/>
                </a:cubicBezTo>
                <a:cubicBezTo>
                  <a:pt x="3424" y="13"/>
                  <a:pt x="3421" y="16"/>
                  <a:pt x="3416" y="16"/>
                </a:cubicBezTo>
                <a:lnTo>
                  <a:pt x="3368" y="16"/>
                </a:lnTo>
                <a:cubicBezTo>
                  <a:pt x="3364" y="16"/>
                  <a:pt x="3360" y="13"/>
                  <a:pt x="3360" y="8"/>
                </a:cubicBezTo>
                <a:cubicBezTo>
                  <a:pt x="3360" y="4"/>
                  <a:pt x="3364" y="0"/>
                  <a:pt x="3368" y="0"/>
                </a:cubicBezTo>
                <a:close/>
                <a:moveTo>
                  <a:pt x="3480" y="0"/>
                </a:moveTo>
                <a:lnTo>
                  <a:pt x="3528" y="0"/>
                </a:lnTo>
                <a:cubicBezTo>
                  <a:pt x="3533" y="0"/>
                  <a:pt x="3536" y="4"/>
                  <a:pt x="3536" y="8"/>
                </a:cubicBezTo>
                <a:cubicBezTo>
                  <a:pt x="3536" y="13"/>
                  <a:pt x="3533" y="16"/>
                  <a:pt x="3528" y="16"/>
                </a:cubicBezTo>
                <a:lnTo>
                  <a:pt x="3480" y="16"/>
                </a:lnTo>
                <a:cubicBezTo>
                  <a:pt x="3476" y="16"/>
                  <a:pt x="3472" y="13"/>
                  <a:pt x="3472" y="8"/>
                </a:cubicBezTo>
                <a:cubicBezTo>
                  <a:pt x="3472" y="4"/>
                  <a:pt x="3476" y="0"/>
                  <a:pt x="3480" y="0"/>
                </a:cubicBezTo>
                <a:close/>
                <a:moveTo>
                  <a:pt x="3592" y="0"/>
                </a:moveTo>
                <a:lnTo>
                  <a:pt x="3640" y="0"/>
                </a:lnTo>
                <a:cubicBezTo>
                  <a:pt x="3645" y="0"/>
                  <a:pt x="3648" y="4"/>
                  <a:pt x="3648" y="8"/>
                </a:cubicBezTo>
                <a:cubicBezTo>
                  <a:pt x="3648" y="13"/>
                  <a:pt x="3645" y="16"/>
                  <a:pt x="3640" y="16"/>
                </a:cubicBezTo>
                <a:lnTo>
                  <a:pt x="3592" y="16"/>
                </a:lnTo>
                <a:cubicBezTo>
                  <a:pt x="3588" y="16"/>
                  <a:pt x="3584" y="13"/>
                  <a:pt x="3584" y="8"/>
                </a:cubicBezTo>
                <a:cubicBezTo>
                  <a:pt x="3584" y="4"/>
                  <a:pt x="3588" y="0"/>
                  <a:pt x="3592" y="0"/>
                </a:cubicBezTo>
                <a:close/>
                <a:moveTo>
                  <a:pt x="3704" y="0"/>
                </a:moveTo>
                <a:lnTo>
                  <a:pt x="3752" y="0"/>
                </a:lnTo>
                <a:cubicBezTo>
                  <a:pt x="3757" y="0"/>
                  <a:pt x="3760" y="4"/>
                  <a:pt x="3760" y="8"/>
                </a:cubicBezTo>
                <a:cubicBezTo>
                  <a:pt x="3760" y="13"/>
                  <a:pt x="3757" y="16"/>
                  <a:pt x="3752" y="16"/>
                </a:cubicBezTo>
                <a:lnTo>
                  <a:pt x="3704" y="16"/>
                </a:lnTo>
                <a:cubicBezTo>
                  <a:pt x="3700" y="16"/>
                  <a:pt x="3696" y="13"/>
                  <a:pt x="3696" y="8"/>
                </a:cubicBezTo>
                <a:cubicBezTo>
                  <a:pt x="3696" y="4"/>
                  <a:pt x="3700" y="0"/>
                  <a:pt x="3704" y="0"/>
                </a:cubicBezTo>
                <a:close/>
                <a:moveTo>
                  <a:pt x="3816" y="0"/>
                </a:moveTo>
                <a:lnTo>
                  <a:pt x="3864" y="0"/>
                </a:lnTo>
                <a:cubicBezTo>
                  <a:pt x="3869" y="0"/>
                  <a:pt x="3872" y="4"/>
                  <a:pt x="3872" y="8"/>
                </a:cubicBezTo>
                <a:cubicBezTo>
                  <a:pt x="3872" y="13"/>
                  <a:pt x="3869" y="16"/>
                  <a:pt x="3864" y="16"/>
                </a:cubicBezTo>
                <a:lnTo>
                  <a:pt x="3816" y="16"/>
                </a:lnTo>
                <a:cubicBezTo>
                  <a:pt x="3812" y="16"/>
                  <a:pt x="3808" y="13"/>
                  <a:pt x="3808" y="8"/>
                </a:cubicBezTo>
                <a:cubicBezTo>
                  <a:pt x="3808" y="4"/>
                  <a:pt x="3812" y="0"/>
                  <a:pt x="3816" y="0"/>
                </a:cubicBezTo>
                <a:close/>
                <a:moveTo>
                  <a:pt x="3928" y="0"/>
                </a:moveTo>
                <a:lnTo>
                  <a:pt x="3976" y="0"/>
                </a:lnTo>
                <a:cubicBezTo>
                  <a:pt x="3981" y="0"/>
                  <a:pt x="3984" y="4"/>
                  <a:pt x="3984" y="8"/>
                </a:cubicBezTo>
                <a:cubicBezTo>
                  <a:pt x="3984" y="13"/>
                  <a:pt x="3981" y="16"/>
                  <a:pt x="3976" y="16"/>
                </a:cubicBezTo>
                <a:lnTo>
                  <a:pt x="3928" y="16"/>
                </a:lnTo>
                <a:cubicBezTo>
                  <a:pt x="3924" y="16"/>
                  <a:pt x="3920" y="13"/>
                  <a:pt x="3920" y="8"/>
                </a:cubicBezTo>
                <a:cubicBezTo>
                  <a:pt x="3920" y="4"/>
                  <a:pt x="3924" y="0"/>
                  <a:pt x="3928" y="0"/>
                </a:cubicBezTo>
                <a:close/>
                <a:moveTo>
                  <a:pt x="4040" y="0"/>
                </a:moveTo>
                <a:lnTo>
                  <a:pt x="4088" y="0"/>
                </a:lnTo>
                <a:cubicBezTo>
                  <a:pt x="4093" y="0"/>
                  <a:pt x="4096" y="4"/>
                  <a:pt x="4096" y="8"/>
                </a:cubicBezTo>
                <a:cubicBezTo>
                  <a:pt x="4096" y="13"/>
                  <a:pt x="4093" y="16"/>
                  <a:pt x="4088" y="16"/>
                </a:cubicBezTo>
                <a:lnTo>
                  <a:pt x="4040" y="16"/>
                </a:lnTo>
                <a:cubicBezTo>
                  <a:pt x="4036" y="16"/>
                  <a:pt x="4032" y="13"/>
                  <a:pt x="4032" y="8"/>
                </a:cubicBezTo>
                <a:cubicBezTo>
                  <a:pt x="4032" y="4"/>
                  <a:pt x="4036" y="0"/>
                  <a:pt x="4040" y="0"/>
                </a:cubicBezTo>
                <a:close/>
                <a:moveTo>
                  <a:pt x="4152" y="0"/>
                </a:moveTo>
                <a:lnTo>
                  <a:pt x="4200" y="0"/>
                </a:lnTo>
                <a:cubicBezTo>
                  <a:pt x="4205" y="0"/>
                  <a:pt x="4208" y="4"/>
                  <a:pt x="4208" y="8"/>
                </a:cubicBezTo>
                <a:cubicBezTo>
                  <a:pt x="4208" y="13"/>
                  <a:pt x="4205" y="16"/>
                  <a:pt x="4200" y="16"/>
                </a:cubicBezTo>
                <a:lnTo>
                  <a:pt x="4152" y="16"/>
                </a:lnTo>
                <a:cubicBezTo>
                  <a:pt x="4148" y="16"/>
                  <a:pt x="4144" y="13"/>
                  <a:pt x="4144" y="8"/>
                </a:cubicBezTo>
                <a:cubicBezTo>
                  <a:pt x="4144" y="4"/>
                  <a:pt x="4148" y="0"/>
                  <a:pt x="4152" y="0"/>
                </a:cubicBezTo>
                <a:close/>
                <a:moveTo>
                  <a:pt x="4264" y="0"/>
                </a:moveTo>
                <a:lnTo>
                  <a:pt x="4312" y="0"/>
                </a:lnTo>
                <a:cubicBezTo>
                  <a:pt x="4317" y="0"/>
                  <a:pt x="4320" y="4"/>
                  <a:pt x="4320" y="8"/>
                </a:cubicBezTo>
                <a:cubicBezTo>
                  <a:pt x="4320" y="13"/>
                  <a:pt x="4317" y="16"/>
                  <a:pt x="4312" y="16"/>
                </a:cubicBezTo>
                <a:lnTo>
                  <a:pt x="4264" y="16"/>
                </a:lnTo>
                <a:cubicBezTo>
                  <a:pt x="4260" y="16"/>
                  <a:pt x="4256" y="13"/>
                  <a:pt x="4256" y="8"/>
                </a:cubicBezTo>
                <a:cubicBezTo>
                  <a:pt x="4256" y="4"/>
                  <a:pt x="4260" y="0"/>
                  <a:pt x="4264" y="0"/>
                </a:cubicBezTo>
                <a:close/>
                <a:moveTo>
                  <a:pt x="4376" y="0"/>
                </a:moveTo>
                <a:lnTo>
                  <a:pt x="4424" y="0"/>
                </a:lnTo>
                <a:cubicBezTo>
                  <a:pt x="4429" y="0"/>
                  <a:pt x="4432" y="4"/>
                  <a:pt x="4432" y="8"/>
                </a:cubicBezTo>
                <a:cubicBezTo>
                  <a:pt x="4432" y="13"/>
                  <a:pt x="4429" y="16"/>
                  <a:pt x="4424" y="16"/>
                </a:cubicBezTo>
                <a:lnTo>
                  <a:pt x="4376" y="16"/>
                </a:lnTo>
                <a:cubicBezTo>
                  <a:pt x="4372" y="16"/>
                  <a:pt x="4368" y="13"/>
                  <a:pt x="4368" y="8"/>
                </a:cubicBezTo>
                <a:cubicBezTo>
                  <a:pt x="4368" y="4"/>
                  <a:pt x="4372" y="0"/>
                  <a:pt x="4376" y="0"/>
                </a:cubicBezTo>
                <a:close/>
                <a:moveTo>
                  <a:pt x="4488" y="0"/>
                </a:moveTo>
                <a:lnTo>
                  <a:pt x="4536" y="0"/>
                </a:lnTo>
                <a:cubicBezTo>
                  <a:pt x="4541" y="0"/>
                  <a:pt x="4544" y="4"/>
                  <a:pt x="4544" y="8"/>
                </a:cubicBezTo>
                <a:cubicBezTo>
                  <a:pt x="4544" y="13"/>
                  <a:pt x="4541" y="16"/>
                  <a:pt x="4536" y="16"/>
                </a:cubicBezTo>
                <a:lnTo>
                  <a:pt x="4488" y="16"/>
                </a:lnTo>
                <a:cubicBezTo>
                  <a:pt x="4484" y="16"/>
                  <a:pt x="4480" y="13"/>
                  <a:pt x="4480" y="8"/>
                </a:cubicBezTo>
                <a:cubicBezTo>
                  <a:pt x="4480" y="4"/>
                  <a:pt x="4484" y="0"/>
                  <a:pt x="4488" y="0"/>
                </a:cubicBezTo>
                <a:close/>
                <a:moveTo>
                  <a:pt x="4600" y="0"/>
                </a:moveTo>
                <a:lnTo>
                  <a:pt x="4648" y="0"/>
                </a:lnTo>
                <a:cubicBezTo>
                  <a:pt x="4653" y="0"/>
                  <a:pt x="4656" y="4"/>
                  <a:pt x="4656" y="8"/>
                </a:cubicBezTo>
                <a:cubicBezTo>
                  <a:pt x="4656" y="13"/>
                  <a:pt x="4653" y="16"/>
                  <a:pt x="4648" y="16"/>
                </a:cubicBezTo>
                <a:lnTo>
                  <a:pt x="4600" y="16"/>
                </a:lnTo>
                <a:cubicBezTo>
                  <a:pt x="4596" y="16"/>
                  <a:pt x="4592" y="13"/>
                  <a:pt x="4592" y="8"/>
                </a:cubicBezTo>
                <a:cubicBezTo>
                  <a:pt x="4592" y="4"/>
                  <a:pt x="4596" y="0"/>
                  <a:pt x="4600" y="0"/>
                </a:cubicBezTo>
                <a:close/>
                <a:moveTo>
                  <a:pt x="4712" y="0"/>
                </a:moveTo>
                <a:lnTo>
                  <a:pt x="4760" y="0"/>
                </a:lnTo>
                <a:cubicBezTo>
                  <a:pt x="4765" y="0"/>
                  <a:pt x="4768" y="4"/>
                  <a:pt x="4768" y="8"/>
                </a:cubicBezTo>
                <a:cubicBezTo>
                  <a:pt x="4768" y="13"/>
                  <a:pt x="4765" y="16"/>
                  <a:pt x="4760" y="16"/>
                </a:cubicBezTo>
                <a:lnTo>
                  <a:pt x="4712" y="16"/>
                </a:lnTo>
                <a:cubicBezTo>
                  <a:pt x="4708" y="16"/>
                  <a:pt x="4704" y="13"/>
                  <a:pt x="4704" y="8"/>
                </a:cubicBezTo>
                <a:cubicBezTo>
                  <a:pt x="4704" y="4"/>
                  <a:pt x="4708" y="0"/>
                  <a:pt x="4712" y="0"/>
                </a:cubicBezTo>
                <a:close/>
                <a:moveTo>
                  <a:pt x="4824" y="0"/>
                </a:moveTo>
                <a:lnTo>
                  <a:pt x="4872" y="0"/>
                </a:lnTo>
                <a:cubicBezTo>
                  <a:pt x="4877" y="0"/>
                  <a:pt x="4880" y="4"/>
                  <a:pt x="4880" y="8"/>
                </a:cubicBezTo>
                <a:cubicBezTo>
                  <a:pt x="4880" y="13"/>
                  <a:pt x="4877" y="16"/>
                  <a:pt x="4872" y="16"/>
                </a:cubicBezTo>
                <a:lnTo>
                  <a:pt x="4824" y="16"/>
                </a:lnTo>
                <a:cubicBezTo>
                  <a:pt x="4820" y="16"/>
                  <a:pt x="4816" y="13"/>
                  <a:pt x="4816" y="8"/>
                </a:cubicBezTo>
                <a:cubicBezTo>
                  <a:pt x="4816" y="4"/>
                  <a:pt x="4820" y="0"/>
                  <a:pt x="4824" y="0"/>
                </a:cubicBezTo>
                <a:close/>
                <a:moveTo>
                  <a:pt x="4936" y="0"/>
                </a:moveTo>
                <a:lnTo>
                  <a:pt x="4984" y="0"/>
                </a:lnTo>
                <a:cubicBezTo>
                  <a:pt x="4989" y="0"/>
                  <a:pt x="4992" y="4"/>
                  <a:pt x="4992" y="8"/>
                </a:cubicBezTo>
                <a:cubicBezTo>
                  <a:pt x="4992" y="13"/>
                  <a:pt x="4989" y="16"/>
                  <a:pt x="4984" y="16"/>
                </a:cubicBezTo>
                <a:lnTo>
                  <a:pt x="4936" y="16"/>
                </a:lnTo>
                <a:cubicBezTo>
                  <a:pt x="4932" y="16"/>
                  <a:pt x="4928" y="13"/>
                  <a:pt x="4928" y="8"/>
                </a:cubicBezTo>
                <a:cubicBezTo>
                  <a:pt x="4928" y="4"/>
                  <a:pt x="4932" y="0"/>
                  <a:pt x="4936" y="0"/>
                </a:cubicBezTo>
                <a:close/>
                <a:moveTo>
                  <a:pt x="5048" y="0"/>
                </a:moveTo>
                <a:lnTo>
                  <a:pt x="5096" y="0"/>
                </a:lnTo>
                <a:cubicBezTo>
                  <a:pt x="5101" y="0"/>
                  <a:pt x="5104" y="4"/>
                  <a:pt x="5104" y="8"/>
                </a:cubicBezTo>
                <a:cubicBezTo>
                  <a:pt x="5104" y="13"/>
                  <a:pt x="5101" y="16"/>
                  <a:pt x="5096" y="16"/>
                </a:cubicBezTo>
                <a:lnTo>
                  <a:pt x="5048" y="16"/>
                </a:lnTo>
                <a:cubicBezTo>
                  <a:pt x="5044" y="16"/>
                  <a:pt x="5040" y="13"/>
                  <a:pt x="5040" y="8"/>
                </a:cubicBezTo>
                <a:cubicBezTo>
                  <a:pt x="5040" y="4"/>
                  <a:pt x="5044" y="0"/>
                  <a:pt x="5048" y="0"/>
                </a:cubicBezTo>
                <a:close/>
                <a:moveTo>
                  <a:pt x="5160" y="0"/>
                </a:moveTo>
                <a:lnTo>
                  <a:pt x="5208" y="0"/>
                </a:lnTo>
                <a:cubicBezTo>
                  <a:pt x="5213" y="0"/>
                  <a:pt x="5216" y="4"/>
                  <a:pt x="5216" y="8"/>
                </a:cubicBezTo>
                <a:cubicBezTo>
                  <a:pt x="5216" y="13"/>
                  <a:pt x="5213" y="16"/>
                  <a:pt x="5208" y="16"/>
                </a:cubicBezTo>
                <a:lnTo>
                  <a:pt x="5160" y="16"/>
                </a:lnTo>
                <a:cubicBezTo>
                  <a:pt x="5156" y="16"/>
                  <a:pt x="5152" y="13"/>
                  <a:pt x="5152" y="8"/>
                </a:cubicBezTo>
                <a:cubicBezTo>
                  <a:pt x="5152" y="4"/>
                  <a:pt x="5156" y="0"/>
                  <a:pt x="5160" y="0"/>
                </a:cubicBezTo>
                <a:close/>
                <a:moveTo>
                  <a:pt x="5272" y="0"/>
                </a:moveTo>
                <a:lnTo>
                  <a:pt x="5320" y="0"/>
                </a:lnTo>
                <a:cubicBezTo>
                  <a:pt x="5325" y="0"/>
                  <a:pt x="5328" y="4"/>
                  <a:pt x="5328" y="8"/>
                </a:cubicBezTo>
                <a:cubicBezTo>
                  <a:pt x="5328" y="13"/>
                  <a:pt x="5325" y="16"/>
                  <a:pt x="5320" y="16"/>
                </a:cubicBezTo>
                <a:lnTo>
                  <a:pt x="5272" y="16"/>
                </a:lnTo>
                <a:cubicBezTo>
                  <a:pt x="5268" y="16"/>
                  <a:pt x="5264" y="13"/>
                  <a:pt x="5264" y="8"/>
                </a:cubicBezTo>
                <a:cubicBezTo>
                  <a:pt x="5264" y="4"/>
                  <a:pt x="5268" y="0"/>
                  <a:pt x="5272" y="0"/>
                </a:cubicBezTo>
                <a:close/>
                <a:moveTo>
                  <a:pt x="5384" y="0"/>
                </a:moveTo>
                <a:lnTo>
                  <a:pt x="5432" y="0"/>
                </a:lnTo>
                <a:cubicBezTo>
                  <a:pt x="5437" y="0"/>
                  <a:pt x="5440" y="4"/>
                  <a:pt x="5440" y="8"/>
                </a:cubicBezTo>
                <a:cubicBezTo>
                  <a:pt x="5440" y="13"/>
                  <a:pt x="5437" y="16"/>
                  <a:pt x="5432" y="16"/>
                </a:cubicBezTo>
                <a:lnTo>
                  <a:pt x="5384" y="16"/>
                </a:lnTo>
                <a:cubicBezTo>
                  <a:pt x="5380" y="16"/>
                  <a:pt x="5376" y="13"/>
                  <a:pt x="5376" y="8"/>
                </a:cubicBezTo>
                <a:cubicBezTo>
                  <a:pt x="5376" y="4"/>
                  <a:pt x="5380" y="0"/>
                  <a:pt x="5384" y="0"/>
                </a:cubicBezTo>
                <a:close/>
                <a:moveTo>
                  <a:pt x="5496" y="0"/>
                </a:moveTo>
                <a:lnTo>
                  <a:pt x="5544" y="0"/>
                </a:lnTo>
                <a:cubicBezTo>
                  <a:pt x="5549" y="0"/>
                  <a:pt x="5552" y="4"/>
                  <a:pt x="5552" y="8"/>
                </a:cubicBezTo>
                <a:cubicBezTo>
                  <a:pt x="5552" y="13"/>
                  <a:pt x="5549" y="16"/>
                  <a:pt x="5544" y="16"/>
                </a:cubicBezTo>
                <a:lnTo>
                  <a:pt x="5496" y="16"/>
                </a:lnTo>
                <a:cubicBezTo>
                  <a:pt x="5492" y="16"/>
                  <a:pt x="5488" y="13"/>
                  <a:pt x="5488" y="8"/>
                </a:cubicBezTo>
                <a:cubicBezTo>
                  <a:pt x="5488" y="4"/>
                  <a:pt x="5492" y="0"/>
                  <a:pt x="5496" y="0"/>
                </a:cubicBezTo>
                <a:close/>
                <a:moveTo>
                  <a:pt x="5608" y="0"/>
                </a:moveTo>
                <a:lnTo>
                  <a:pt x="5656" y="0"/>
                </a:lnTo>
                <a:cubicBezTo>
                  <a:pt x="5661" y="0"/>
                  <a:pt x="5664" y="4"/>
                  <a:pt x="5664" y="8"/>
                </a:cubicBezTo>
                <a:cubicBezTo>
                  <a:pt x="5664" y="13"/>
                  <a:pt x="5661" y="16"/>
                  <a:pt x="5656" y="16"/>
                </a:cubicBezTo>
                <a:lnTo>
                  <a:pt x="5608" y="16"/>
                </a:lnTo>
                <a:cubicBezTo>
                  <a:pt x="5604" y="16"/>
                  <a:pt x="5600" y="13"/>
                  <a:pt x="5600" y="8"/>
                </a:cubicBezTo>
                <a:cubicBezTo>
                  <a:pt x="5600" y="4"/>
                  <a:pt x="5604" y="0"/>
                  <a:pt x="5608" y="0"/>
                </a:cubicBezTo>
                <a:close/>
                <a:moveTo>
                  <a:pt x="5720" y="0"/>
                </a:moveTo>
                <a:lnTo>
                  <a:pt x="5768" y="0"/>
                </a:lnTo>
                <a:cubicBezTo>
                  <a:pt x="5773" y="0"/>
                  <a:pt x="5776" y="4"/>
                  <a:pt x="5776" y="8"/>
                </a:cubicBezTo>
                <a:cubicBezTo>
                  <a:pt x="5776" y="13"/>
                  <a:pt x="5773" y="16"/>
                  <a:pt x="5768" y="16"/>
                </a:cubicBezTo>
                <a:lnTo>
                  <a:pt x="5720" y="16"/>
                </a:lnTo>
                <a:cubicBezTo>
                  <a:pt x="5716" y="16"/>
                  <a:pt x="5712" y="13"/>
                  <a:pt x="5712" y="8"/>
                </a:cubicBezTo>
                <a:cubicBezTo>
                  <a:pt x="5712" y="4"/>
                  <a:pt x="5716" y="0"/>
                  <a:pt x="5720" y="0"/>
                </a:cubicBezTo>
                <a:close/>
                <a:moveTo>
                  <a:pt x="5832" y="0"/>
                </a:moveTo>
                <a:lnTo>
                  <a:pt x="5880" y="0"/>
                </a:lnTo>
                <a:cubicBezTo>
                  <a:pt x="5885" y="0"/>
                  <a:pt x="5888" y="4"/>
                  <a:pt x="5888" y="8"/>
                </a:cubicBezTo>
                <a:cubicBezTo>
                  <a:pt x="5888" y="13"/>
                  <a:pt x="5885" y="16"/>
                  <a:pt x="5880" y="16"/>
                </a:cubicBezTo>
                <a:lnTo>
                  <a:pt x="5832" y="16"/>
                </a:lnTo>
                <a:cubicBezTo>
                  <a:pt x="5828" y="16"/>
                  <a:pt x="5824" y="13"/>
                  <a:pt x="5824" y="8"/>
                </a:cubicBezTo>
                <a:cubicBezTo>
                  <a:pt x="5824" y="4"/>
                  <a:pt x="5828" y="0"/>
                  <a:pt x="5832" y="0"/>
                </a:cubicBezTo>
                <a:close/>
                <a:moveTo>
                  <a:pt x="5944" y="0"/>
                </a:moveTo>
                <a:lnTo>
                  <a:pt x="5992" y="0"/>
                </a:lnTo>
                <a:cubicBezTo>
                  <a:pt x="5997" y="0"/>
                  <a:pt x="6000" y="4"/>
                  <a:pt x="6000" y="8"/>
                </a:cubicBezTo>
                <a:cubicBezTo>
                  <a:pt x="6000" y="13"/>
                  <a:pt x="5997" y="16"/>
                  <a:pt x="5992" y="16"/>
                </a:cubicBezTo>
                <a:lnTo>
                  <a:pt x="5944" y="16"/>
                </a:lnTo>
                <a:cubicBezTo>
                  <a:pt x="5940" y="16"/>
                  <a:pt x="5936" y="13"/>
                  <a:pt x="5936" y="8"/>
                </a:cubicBezTo>
                <a:cubicBezTo>
                  <a:pt x="5936" y="4"/>
                  <a:pt x="5940" y="0"/>
                  <a:pt x="5944" y="0"/>
                </a:cubicBezTo>
                <a:close/>
                <a:moveTo>
                  <a:pt x="6056" y="0"/>
                </a:moveTo>
                <a:lnTo>
                  <a:pt x="6104" y="0"/>
                </a:lnTo>
                <a:cubicBezTo>
                  <a:pt x="6109" y="0"/>
                  <a:pt x="6112" y="4"/>
                  <a:pt x="6112" y="8"/>
                </a:cubicBezTo>
                <a:cubicBezTo>
                  <a:pt x="6112" y="13"/>
                  <a:pt x="6109" y="16"/>
                  <a:pt x="6104" y="16"/>
                </a:cubicBezTo>
                <a:lnTo>
                  <a:pt x="6056" y="16"/>
                </a:lnTo>
                <a:cubicBezTo>
                  <a:pt x="6052" y="16"/>
                  <a:pt x="6048" y="13"/>
                  <a:pt x="6048" y="8"/>
                </a:cubicBezTo>
                <a:cubicBezTo>
                  <a:pt x="6048" y="4"/>
                  <a:pt x="6052" y="0"/>
                  <a:pt x="6056" y="0"/>
                </a:cubicBezTo>
                <a:close/>
                <a:moveTo>
                  <a:pt x="6168" y="0"/>
                </a:moveTo>
                <a:lnTo>
                  <a:pt x="6216" y="0"/>
                </a:lnTo>
                <a:cubicBezTo>
                  <a:pt x="6221" y="0"/>
                  <a:pt x="6224" y="4"/>
                  <a:pt x="6224" y="8"/>
                </a:cubicBezTo>
                <a:cubicBezTo>
                  <a:pt x="6224" y="13"/>
                  <a:pt x="6221" y="16"/>
                  <a:pt x="6216" y="16"/>
                </a:cubicBezTo>
                <a:lnTo>
                  <a:pt x="6168" y="16"/>
                </a:lnTo>
                <a:cubicBezTo>
                  <a:pt x="6164" y="16"/>
                  <a:pt x="6160" y="13"/>
                  <a:pt x="6160" y="8"/>
                </a:cubicBezTo>
                <a:cubicBezTo>
                  <a:pt x="6160" y="4"/>
                  <a:pt x="6164" y="0"/>
                  <a:pt x="6168" y="0"/>
                </a:cubicBezTo>
                <a:close/>
                <a:moveTo>
                  <a:pt x="6280" y="0"/>
                </a:moveTo>
                <a:lnTo>
                  <a:pt x="6328" y="0"/>
                </a:lnTo>
                <a:cubicBezTo>
                  <a:pt x="6333" y="0"/>
                  <a:pt x="6336" y="4"/>
                  <a:pt x="6336" y="8"/>
                </a:cubicBezTo>
                <a:cubicBezTo>
                  <a:pt x="6336" y="13"/>
                  <a:pt x="6333" y="16"/>
                  <a:pt x="6328" y="16"/>
                </a:cubicBezTo>
                <a:lnTo>
                  <a:pt x="6280" y="16"/>
                </a:lnTo>
                <a:cubicBezTo>
                  <a:pt x="6276" y="16"/>
                  <a:pt x="6272" y="13"/>
                  <a:pt x="6272" y="8"/>
                </a:cubicBezTo>
                <a:cubicBezTo>
                  <a:pt x="6272" y="4"/>
                  <a:pt x="6276" y="0"/>
                  <a:pt x="6280" y="0"/>
                </a:cubicBezTo>
                <a:close/>
                <a:moveTo>
                  <a:pt x="6392" y="0"/>
                </a:moveTo>
                <a:lnTo>
                  <a:pt x="6440" y="0"/>
                </a:lnTo>
                <a:cubicBezTo>
                  <a:pt x="6445" y="0"/>
                  <a:pt x="6448" y="4"/>
                  <a:pt x="6448" y="8"/>
                </a:cubicBezTo>
                <a:cubicBezTo>
                  <a:pt x="6448" y="13"/>
                  <a:pt x="6445" y="16"/>
                  <a:pt x="6440" y="16"/>
                </a:cubicBezTo>
                <a:lnTo>
                  <a:pt x="6392" y="16"/>
                </a:lnTo>
                <a:cubicBezTo>
                  <a:pt x="6388" y="16"/>
                  <a:pt x="6384" y="13"/>
                  <a:pt x="6384" y="8"/>
                </a:cubicBezTo>
                <a:cubicBezTo>
                  <a:pt x="6384" y="4"/>
                  <a:pt x="6388" y="0"/>
                  <a:pt x="6392" y="0"/>
                </a:cubicBezTo>
                <a:close/>
                <a:moveTo>
                  <a:pt x="6504" y="0"/>
                </a:moveTo>
                <a:lnTo>
                  <a:pt x="6552" y="0"/>
                </a:lnTo>
                <a:cubicBezTo>
                  <a:pt x="6557" y="0"/>
                  <a:pt x="6560" y="4"/>
                  <a:pt x="6560" y="8"/>
                </a:cubicBezTo>
                <a:cubicBezTo>
                  <a:pt x="6560" y="13"/>
                  <a:pt x="6557" y="16"/>
                  <a:pt x="6552" y="16"/>
                </a:cubicBezTo>
                <a:lnTo>
                  <a:pt x="6504" y="16"/>
                </a:lnTo>
                <a:cubicBezTo>
                  <a:pt x="6500" y="16"/>
                  <a:pt x="6496" y="13"/>
                  <a:pt x="6496" y="8"/>
                </a:cubicBezTo>
                <a:cubicBezTo>
                  <a:pt x="6496" y="4"/>
                  <a:pt x="6500" y="0"/>
                  <a:pt x="6504" y="0"/>
                </a:cubicBezTo>
                <a:close/>
                <a:moveTo>
                  <a:pt x="6616" y="0"/>
                </a:moveTo>
                <a:lnTo>
                  <a:pt x="6664" y="0"/>
                </a:lnTo>
                <a:cubicBezTo>
                  <a:pt x="6669" y="0"/>
                  <a:pt x="6672" y="4"/>
                  <a:pt x="6672" y="8"/>
                </a:cubicBezTo>
                <a:cubicBezTo>
                  <a:pt x="6672" y="13"/>
                  <a:pt x="6669" y="16"/>
                  <a:pt x="6664" y="16"/>
                </a:cubicBezTo>
                <a:lnTo>
                  <a:pt x="6616" y="16"/>
                </a:lnTo>
                <a:cubicBezTo>
                  <a:pt x="6612" y="16"/>
                  <a:pt x="6608" y="13"/>
                  <a:pt x="6608" y="8"/>
                </a:cubicBezTo>
                <a:cubicBezTo>
                  <a:pt x="6608" y="4"/>
                  <a:pt x="6612" y="0"/>
                  <a:pt x="6616" y="0"/>
                </a:cubicBezTo>
                <a:close/>
                <a:moveTo>
                  <a:pt x="6728" y="0"/>
                </a:moveTo>
                <a:lnTo>
                  <a:pt x="6776" y="0"/>
                </a:lnTo>
                <a:cubicBezTo>
                  <a:pt x="6781" y="0"/>
                  <a:pt x="6784" y="4"/>
                  <a:pt x="6784" y="8"/>
                </a:cubicBezTo>
                <a:cubicBezTo>
                  <a:pt x="6784" y="13"/>
                  <a:pt x="6781" y="16"/>
                  <a:pt x="6776" y="16"/>
                </a:cubicBezTo>
                <a:lnTo>
                  <a:pt x="6728" y="16"/>
                </a:lnTo>
                <a:cubicBezTo>
                  <a:pt x="6724" y="16"/>
                  <a:pt x="6720" y="13"/>
                  <a:pt x="6720" y="8"/>
                </a:cubicBezTo>
                <a:cubicBezTo>
                  <a:pt x="6720" y="4"/>
                  <a:pt x="6724" y="0"/>
                  <a:pt x="6728" y="0"/>
                </a:cubicBezTo>
                <a:close/>
                <a:moveTo>
                  <a:pt x="6840" y="0"/>
                </a:moveTo>
                <a:lnTo>
                  <a:pt x="6888" y="0"/>
                </a:lnTo>
                <a:cubicBezTo>
                  <a:pt x="6893" y="0"/>
                  <a:pt x="6896" y="4"/>
                  <a:pt x="6896" y="8"/>
                </a:cubicBezTo>
                <a:cubicBezTo>
                  <a:pt x="6896" y="13"/>
                  <a:pt x="6893" y="16"/>
                  <a:pt x="6888" y="16"/>
                </a:cubicBezTo>
                <a:lnTo>
                  <a:pt x="6840" y="16"/>
                </a:lnTo>
                <a:cubicBezTo>
                  <a:pt x="6836" y="16"/>
                  <a:pt x="6832" y="13"/>
                  <a:pt x="6832" y="8"/>
                </a:cubicBezTo>
                <a:cubicBezTo>
                  <a:pt x="6832" y="4"/>
                  <a:pt x="6836" y="0"/>
                  <a:pt x="6840" y="0"/>
                </a:cubicBezTo>
                <a:close/>
                <a:moveTo>
                  <a:pt x="6952" y="0"/>
                </a:moveTo>
                <a:lnTo>
                  <a:pt x="7000" y="0"/>
                </a:lnTo>
                <a:cubicBezTo>
                  <a:pt x="7005" y="0"/>
                  <a:pt x="7008" y="4"/>
                  <a:pt x="7008" y="8"/>
                </a:cubicBezTo>
                <a:cubicBezTo>
                  <a:pt x="7008" y="13"/>
                  <a:pt x="7005" y="16"/>
                  <a:pt x="7000" y="16"/>
                </a:cubicBezTo>
                <a:lnTo>
                  <a:pt x="6952" y="16"/>
                </a:lnTo>
                <a:cubicBezTo>
                  <a:pt x="6948" y="16"/>
                  <a:pt x="6944" y="13"/>
                  <a:pt x="6944" y="8"/>
                </a:cubicBezTo>
                <a:cubicBezTo>
                  <a:pt x="6944" y="4"/>
                  <a:pt x="6948" y="0"/>
                  <a:pt x="6952" y="0"/>
                </a:cubicBezTo>
                <a:close/>
                <a:moveTo>
                  <a:pt x="7064" y="0"/>
                </a:moveTo>
                <a:lnTo>
                  <a:pt x="7112" y="0"/>
                </a:lnTo>
                <a:cubicBezTo>
                  <a:pt x="7117" y="0"/>
                  <a:pt x="7120" y="4"/>
                  <a:pt x="7120" y="8"/>
                </a:cubicBezTo>
                <a:cubicBezTo>
                  <a:pt x="7120" y="13"/>
                  <a:pt x="7117" y="16"/>
                  <a:pt x="7112" y="16"/>
                </a:cubicBezTo>
                <a:lnTo>
                  <a:pt x="7064" y="16"/>
                </a:lnTo>
                <a:cubicBezTo>
                  <a:pt x="7060" y="16"/>
                  <a:pt x="7056" y="13"/>
                  <a:pt x="7056" y="8"/>
                </a:cubicBezTo>
                <a:cubicBezTo>
                  <a:pt x="7056" y="4"/>
                  <a:pt x="7060" y="0"/>
                  <a:pt x="7064" y="0"/>
                </a:cubicBezTo>
                <a:close/>
                <a:moveTo>
                  <a:pt x="7176" y="0"/>
                </a:moveTo>
                <a:lnTo>
                  <a:pt x="7224" y="0"/>
                </a:lnTo>
                <a:cubicBezTo>
                  <a:pt x="7229" y="0"/>
                  <a:pt x="7232" y="4"/>
                  <a:pt x="7232" y="8"/>
                </a:cubicBezTo>
                <a:cubicBezTo>
                  <a:pt x="7232" y="13"/>
                  <a:pt x="7229" y="16"/>
                  <a:pt x="7224" y="16"/>
                </a:cubicBezTo>
                <a:lnTo>
                  <a:pt x="7176" y="16"/>
                </a:lnTo>
                <a:cubicBezTo>
                  <a:pt x="7172" y="16"/>
                  <a:pt x="7168" y="13"/>
                  <a:pt x="7168" y="8"/>
                </a:cubicBezTo>
                <a:cubicBezTo>
                  <a:pt x="7168" y="4"/>
                  <a:pt x="7172" y="0"/>
                  <a:pt x="7176" y="0"/>
                </a:cubicBezTo>
                <a:close/>
                <a:moveTo>
                  <a:pt x="7288" y="0"/>
                </a:moveTo>
                <a:lnTo>
                  <a:pt x="7336" y="0"/>
                </a:lnTo>
                <a:cubicBezTo>
                  <a:pt x="7341" y="0"/>
                  <a:pt x="7344" y="4"/>
                  <a:pt x="7344" y="8"/>
                </a:cubicBezTo>
                <a:cubicBezTo>
                  <a:pt x="7344" y="13"/>
                  <a:pt x="7341" y="16"/>
                  <a:pt x="7336" y="16"/>
                </a:cubicBezTo>
                <a:lnTo>
                  <a:pt x="7288" y="16"/>
                </a:lnTo>
                <a:cubicBezTo>
                  <a:pt x="7284" y="16"/>
                  <a:pt x="7280" y="13"/>
                  <a:pt x="7280" y="8"/>
                </a:cubicBezTo>
                <a:cubicBezTo>
                  <a:pt x="7280" y="4"/>
                  <a:pt x="7284" y="0"/>
                  <a:pt x="7288" y="0"/>
                </a:cubicBezTo>
                <a:close/>
                <a:moveTo>
                  <a:pt x="7400" y="0"/>
                </a:moveTo>
                <a:lnTo>
                  <a:pt x="7448" y="0"/>
                </a:lnTo>
                <a:cubicBezTo>
                  <a:pt x="7453" y="0"/>
                  <a:pt x="7456" y="4"/>
                  <a:pt x="7456" y="8"/>
                </a:cubicBezTo>
                <a:cubicBezTo>
                  <a:pt x="7456" y="13"/>
                  <a:pt x="7453" y="16"/>
                  <a:pt x="7448" y="16"/>
                </a:cubicBezTo>
                <a:lnTo>
                  <a:pt x="7400" y="16"/>
                </a:lnTo>
                <a:cubicBezTo>
                  <a:pt x="7396" y="16"/>
                  <a:pt x="7392" y="13"/>
                  <a:pt x="7392" y="8"/>
                </a:cubicBezTo>
                <a:cubicBezTo>
                  <a:pt x="7392" y="4"/>
                  <a:pt x="7396" y="0"/>
                  <a:pt x="7400" y="0"/>
                </a:cubicBezTo>
                <a:close/>
                <a:moveTo>
                  <a:pt x="7512" y="0"/>
                </a:moveTo>
                <a:lnTo>
                  <a:pt x="7560" y="0"/>
                </a:lnTo>
                <a:cubicBezTo>
                  <a:pt x="7565" y="0"/>
                  <a:pt x="7568" y="4"/>
                  <a:pt x="7568" y="8"/>
                </a:cubicBezTo>
                <a:cubicBezTo>
                  <a:pt x="7568" y="13"/>
                  <a:pt x="7565" y="16"/>
                  <a:pt x="7560" y="16"/>
                </a:cubicBezTo>
                <a:lnTo>
                  <a:pt x="7512" y="16"/>
                </a:lnTo>
                <a:cubicBezTo>
                  <a:pt x="7508" y="16"/>
                  <a:pt x="7504" y="13"/>
                  <a:pt x="7504" y="8"/>
                </a:cubicBezTo>
                <a:cubicBezTo>
                  <a:pt x="7504" y="4"/>
                  <a:pt x="7508" y="0"/>
                  <a:pt x="7512" y="0"/>
                </a:cubicBezTo>
                <a:close/>
                <a:moveTo>
                  <a:pt x="7624" y="0"/>
                </a:moveTo>
                <a:lnTo>
                  <a:pt x="7672" y="0"/>
                </a:lnTo>
                <a:cubicBezTo>
                  <a:pt x="7677" y="0"/>
                  <a:pt x="7680" y="4"/>
                  <a:pt x="7680" y="8"/>
                </a:cubicBezTo>
                <a:cubicBezTo>
                  <a:pt x="7680" y="13"/>
                  <a:pt x="7677" y="16"/>
                  <a:pt x="7672" y="16"/>
                </a:cubicBezTo>
                <a:lnTo>
                  <a:pt x="7624" y="16"/>
                </a:lnTo>
                <a:cubicBezTo>
                  <a:pt x="7620" y="16"/>
                  <a:pt x="7616" y="13"/>
                  <a:pt x="7616" y="8"/>
                </a:cubicBezTo>
                <a:cubicBezTo>
                  <a:pt x="7616" y="4"/>
                  <a:pt x="7620" y="0"/>
                  <a:pt x="7624" y="0"/>
                </a:cubicBezTo>
                <a:close/>
                <a:moveTo>
                  <a:pt x="7736" y="0"/>
                </a:moveTo>
                <a:lnTo>
                  <a:pt x="7784" y="0"/>
                </a:lnTo>
                <a:cubicBezTo>
                  <a:pt x="7789" y="0"/>
                  <a:pt x="7792" y="4"/>
                  <a:pt x="7792" y="8"/>
                </a:cubicBezTo>
                <a:cubicBezTo>
                  <a:pt x="7792" y="13"/>
                  <a:pt x="7789" y="16"/>
                  <a:pt x="7784" y="16"/>
                </a:cubicBezTo>
                <a:lnTo>
                  <a:pt x="7736" y="16"/>
                </a:lnTo>
                <a:cubicBezTo>
                  <a:pt x="7732" y="16"/>
                  <a:pt x="7728" y="13"/>
                  <a:pt x="7728" y="8"/>
                </a:cubicBezTo>
                <a:cubicBezTo>
                  <a:pt x="7728" y="4"/>
                  <a:pt x="7732" y="0"/>
                  <a:pt x="7736" y="0"/>
                </a:cubicBezTo>
                <a:close/>
                <a:moveTo>
                  <a:pt x="7848" y="0"/>
                </a:moveTo>
                <a:lnTo>
                  <a:pt x="7896" y="0"/>
                </a:lnTo>
                <a:cubicBezTo>
                  <a:pt x="7901" y="0"/>
                  <a:pt x="7904" y="4"/>
                  <a:pt x="7904" y="8"/>
                </a:cubicBezTo>
                <a:cubicBezTo>
                  <a:pt x="7904" y="13"/>
                  <a:pt x="7901" y="16"/>
                  <a:pt x="7896" y="16"/>
                </a:cubicBezTo>
                <a:lnTo>
                  <a:pt x="7848" y="16"/>
                </a:lnTo>
                <a:cubicBezTo>
                  <a:pt x="7844" y="16"/>
                  <a:pt x="7840" y="13"/>
                  <a:pt x="7840" y="8"/>
                </a:cubicBezTo>
                <a:cubicBezTo>
                  <a:pt x="7840" y="4"/>
                  <a:pt x="7844" y="0"/>
                  <a:pt x="7848" y="0"/>
                </a:cubicBezTo>
                <a:close/>
                <a:moveTo>
                  <a:pt x="7960" y="0"/>
                </a:moveTo>
                <a:lnTo>
                  <a:pt x="8008" y="0"/>
                </a:lnTo>
                <a:cubicBezTo>
                  <a:pt x="8013" y="0"/>
                  <a:pt x="8016" y="4"/>
                  <a:pt x="8016" y="8"/>
                </a:cubicBezTo>
                <a:cubicBezTo>
                  <a:pt x="8016" y="13"/>
                  <a:pt x="8013" y="16"/>
                  <a:pt x="8008" y="16"/>
                </a:cubicBezTo>
                <a:lnTo>
                  <a:pt x="7960" y="16"/>
                </a:lnTo>
                <a:cubicBezTo>
                  <a:pt x="7956" y="16"/>
                  <a:pt x="7952" y="13"/>
                  <a:pt x="7952" y="8"/>
                </a:cubicBezTo>
                <a:cubicBezTo>
                  <a:pt x="7952" y="4"/>
                  <a:pt x="7956" y="0"/>
                  <a:pt x="7960" y="0"/>
                </a:cubicBezTo>
                <a:close/>
                <a:moveTo>
                  <a:pt x="8072" y="0"/>
                </a:moveTo>
                <a:lnTo>
                  <a:pt x="8120" y="0"/>
                </a:lnTo>
                <a:cubicBezTo>
                  <a:pt x="8125" y="0"/>
                  <a:pt x="8128" y="4"/>
                  <a:pt x="8128" y="8"/>
                </a:cubicBezTo>
                <a:cubicBezTo>
                  <a:pt x="8128" y="13"/>
                  <a:pt x="8125" y="16"/>
                  <a:pt x="8120" y="16"/>
                </a:cubicBezTo>
                <a:lnTo>
                  <a:pt x="8072" y="16"/>
                </a:lnTo>
                <a:cubicBezTo>
                  <a:pt x="8068" y="16"/>
                  <a:pt x="8064" y="13"/>
                  <a:pt x="8064" y="8"/>
                </a:cubicBezTo>
                <a:cubicBezTo>
                  <a:pt x="8064" y="4"/>
                  <a:pt x="8068" y="0"/>
                  <a:pt x="8072" y="0"/>
                </a:cubicBezTo>
                <a:close/>
              </a:path>
            </a:pathLst>
          </a:custGeom>
          <a:solidFill>
            <a:srgbClr val="000000"/>
          </a:solidFill>
          <a:ln w="14400">
            <a:solidFill>
              <a:srgbClr val="ff33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859280" y="407664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Average:-1.2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/>
          <p:nvPr/>
        </p:nvSpPr>
        <p:spPr>
          <a:xfrm>
            <a:off x="468360" y="4046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E41-03 vs ISO362-2 (Class 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179360" y="5959440"/>
            <a:ext cx="731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1179360" y="5627520"/>
            <a:ext cx="731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1179360" y="5294160"/>
            <a:ext cx="731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1179360" y="4948200"/>
            <a:ext cx="731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1179360" y="4616280"/>
            <a:ext cx="731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1179360" y="4282920"/>
            <a:ext cx="731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1179360" y="3951360"/>
            <a:ext cx="731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1179360" y="3271680"/>
            <a:ext cx="731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1179360" y="2940120"/>
            <a:ext cx="731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179360" y="2608200"/>
            <a:ext cx="731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179360" y="2274840"/>
            <a:ext cx="731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179360" y="1928880"/>
            <a:ext cx="731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1179360" y="1596960"/>
            <a:ext cx="731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1179360" y="1263600"/>
            <a:ext cx="731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179360" y="1263600"/>
            <a:ext cx="7317000" cy="46958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236600" y="3619440"/>
            <a:ext cx="101520" cy="176220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1468440" y="3619440"/>
            <a:ext cx="101520" cy="130032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700280" y="3619440"/>
            <a:ext cx="87120" cy="125568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917720" y="3619440"/>
            <a:ext cx="100080" cy="138600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2147760" y="3619440"/>
            <a:ext cx="101880" cy="132876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2379600" y="3619440"/>
            <a:ext cx="101520" cy="207972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2611440" y="3619440"/>
            <a:ext cx="100080" cy="59220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2841480" y="3186000"/>
            <a:ext cx="101880" cy="43344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073320" y="3619440"/>
            <a:ext cx="87480" cy="106848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290760" y="3619440"/>
            <a:ext cx="101880" cy="13032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521160" y="3619440"/>
            <a:ext cx="101520" cy="158904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753000" y="3619440"/>
            <a:ext cx="101520" cy="90972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984480" y="3619440"/>
            <a:ext cx="101880" cy="49068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4216320" y="3619440"/>
            <a:ext cx="85680" cy="104004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432320" y="3619440"/>
            <a:ext cx="101520" cy="80820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896000" y="3619440"/>
            <a:ext cx="99720" cy="63504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5126040" y="3619440"/>
            <a:ext cx="101520" cy="153036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5357880" y="3619440"/>
            <a:ext cx="87120" cy="59220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575320" y="3619440"/>
            <a:ext cx="101520" cy="18756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5805360" y="3619440"/>
            <a:ext cx="101880" cy="53352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6037200" y="3619440"/>
            <a:ext cx="101520" cy="186372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6269040" y="3619440"/>
            <a:ext cx="101520" cy="33192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6500880" y="3619440"/>
            <a:ext cx="100080" cy="89532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6730920" y="3619440"/>
            <a:ext cx="87480" cy="143028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6948360" y="3619440"/>
            <a:ext cx="101880" cy="122724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7180200" y="3619440"/>
            <a:ext cx="100080" cy="160344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7410600" y="3619440"/>
            <a:ext cx="101520" cy="66348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7642080" y="3619440"/>
            <a:ext cx="101880" cy="130032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7873920" y="3619440"/>
            <a:ext cx="87480" cy="115560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8089920" y="3619440"/>
            <a:ext cx="101520" cy="96696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8321760" y="3619440"/>
            <a:ext cx="101520" cy="27468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179360" y="1263600"/>
            <a:ext cx="1800" cy="469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179360" y="59594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179360" y="58863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179360" y="5829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1179360" y="5756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1179360" y="56847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1179360" y="562752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1179360" y="5554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1179360" y="54975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1179360" y="5424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1179360" y="53532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1179360" y="5294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1179360" y="5222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1179360" y="5149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1179360" y="5092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1179360" y="50198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1179360" y="49482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1179360" y="4889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1179360" y="4818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1179360" y="47451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1179360" y="46879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1179360" y="4616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1179360" y="4557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1179360" y="4486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1179360" y="4413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1179360" y="43560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1179360" y="428292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1179360" y="42116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1179360" y="41529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1179360" y="408132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1179360" y="40086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1179360" y="39513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179360" y="38782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1179360" y="380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1179360" y="37497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1179360" y="36766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1179360" y="36194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1179360" y="35463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179360" y="34750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1179360" y="34164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179360" y="33447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179360" y="32716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1179360" y="32148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1179360" y="31417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1179360" y="30700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179360" y="30114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1179360" y="29401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1179360" y="28670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1179360" y="28098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1179360" y="27385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1179360" y="26798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1179360" y="26082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1179360" y="253512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179360" y="24782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179360" y="24051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179360" y="233352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179360" y="22748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179360" y="220356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179360" y="21304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179360" y="20732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179360" y="20001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179360" y="19288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179360" y="187164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79360" y="17985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179360" y="17272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179360" y="16686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179360" y="15969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179360" y="15382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1179360" y="146700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1179360" y="13939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179360" y="133668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1179360" y="126360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1179360" y="595944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1179360" y="562752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179360" y="529416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179360" y="494820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179360" y="461628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179360" y="428292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1179360" y="39513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179360" y="361944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179360" y="327168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1179360" y="294012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179360" y="260820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179360" y="227484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1179360" y="192888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179360" y="159696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1179360" y="126360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1179360" y="3619440"/>
            <a:ext cx="731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1179360" y="357480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1411200" y="357480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1641600" y="3574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1859040" y="3574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2090880" y="3574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 flipV="1">
            <a:off x="2322360" y="357480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 flipV="1">
            <a:off x="2552760" y="3574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2784600" y="3574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3016080" y="357480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3232080" y="357480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 flipV="1">
            <a:off x="3463920" y="3574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3695760" y="3574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3925800" y="357480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4157640" y="3574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4375080" y="357480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4606920" y="3574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4836960" y="357480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5068800" y="357480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5300640" y="3574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5516640" y="3574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5748480" y="3574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5979960" y="357480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6210360" y="3574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6442200" y="3574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6673680" y="357480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 flipV="1">
            <a:off x="6891480" y="3574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V="1">
            <a:off x="7121520" y="3574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7353360" y="3574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7585200" y="3574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 flipV="1">
            <a:off x="7815240" y="3574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8032680" y="357480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8264520" y="3574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 flipV="1">
            <a:off x="8496360" y="35748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753120" y="5886360"/>
            <a:ext cx="28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-7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753120" y="5554800"/>
            <a:ext cx="28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-6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753120" y="5222880"/>
            <a:ext cx="28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-5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753120" y="4875120"/>
            <a:ext cx="28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-4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753120" y="4543560"/>
            <a:ext cx="28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-3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753120" y="4211640"/>
            <a:ext cx="28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-2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753120" y="3878280"/>
            <a:ext cx="28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-1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824400" y="3546360"/>
            <a:ext cx="23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0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824400" y="3200400"/>
            <a:ext cx="23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1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824400" y="2867040"/>
            <a:ext cx="23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2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824400" y="2535120"/>
            <a:ext cx="23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3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824400" y="2203560"/>
            <a:ext cx="23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4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824400" y="1855800"/>
            <a:ext cx="23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5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824400" y="1523880"/>
            <a:ext cx="23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6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824400" y="1192320"/>
            <a:ext cx="23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7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1246320" y="376380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708560" y="376380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2156040" y="376380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619720" y="376380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3067200" y="376380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3480120" y="37638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3943800" y="37638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4391640" y="37638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1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4853520" y="37638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5316840" y="37638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5764680" y="37638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2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228360" y="37638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2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6675840" y="37638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2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7137720" y="37638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2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7601400" y="37638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2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8049240" y="37638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S P????"/>
                <a:ea typeface="MS P????"/>
              </a:rPr>
              <a:t>3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165320" y="4572000"/>
            <a:ext cx="7315200" cy="14400"/>
          </a:xfrm>
          <a:custGeom>
            <a:avLst/>
            <a:gdLst/>
            <a:ahLst/>
            <a:rect l="l" t="t" r="r" b="b"/>
            <a:pathLst>
              <a:path w="8096" h="16">
                <a:moveTo>
                  <a:pt x="8" y="0"/>
                </a:moveTo>
                <a:lnTo>
                  <a:pt x="56" y="0"/>
                </a:lnTo>
                <a:cubicBezTo>
                  <a:pt x="61" y="0"/>
                  <a:pt x="64" y="4"/>
                  <a:pt x="64" y="8"/>
                </a:cubicBezTo>
                <a:cubicBezTo>
                  <a:pt x="64" y="13"/>
                  <a:pt x="61" y="16"/>
                  <a:pt x="56" y="16"/>
                </a:cubicBezTo>
                <a:lnTo>
                  <a:pt x="8" y="16"/>
                </a:lnTo>
                <a:cubicBezTo>
                  <a:pt x="4" y="16"/>
                  <a:pt x="0" y="13"/>
                  <a:pt x="0" y="8"/>
                </a:cubicBezTo>
                <a:cubicBezTo>
                  <a:pt x="0" y="4"/>
                  <a:pt x="4" y="0"/>
                  <a:pt x="8" y="0"/>
                </a:cubicBezTo>
                <a:close/>
                <a:moveTo>
                  <a:pt x="120" y="0"/>
                </a:moveTo>
                <a:lnTo>
                  <a:pt x="168" y="0"/>
                </a:lnTo>
                <a:cubicBezTo>
                  <a:pt x="173" y="0"/>
                  <a:pt x="176" y="4"/>
                  <a:pt x="176" y="8"/>
                </a:cubicBezTo>
                <a:cubicBezTo>
                  <a:pt x="176" y="13"/>
                  <a:pt x="173" y="16"/>
                  <a:pt x="168" y="16"/>
                </a:cubicBezTo>
                <a:lnTo>
                  <a:pt x="120" y="16"/>
                </a:lnTo>
                <a:cubicBezTo>
                  <a:pt x="116" y="16"/>
                  <a:pt x="112" y="13"/>
                  <a:pt x="112" y="8"/>
                </a:cubicBezTo>
                <a:cubicBezTo>
                  <a:pt x="112" y="4"/>
                  <a:pt x="116" y="0"/>
                  <a:pt x="120" y="0"/>
                </a:cubicBezTo>
                <a:close/>
                <a:moveTo>
                  <a:pt x="232" y="0"/>
                </a:moveTo>
                <a:lnTo>
                  <a:pt x="280" y="0"/>
                </a:lnTo>
                <a:cubicBezTo>
                  <a:pt x="285" y="0"/>
                  <a:pt x="288" y="4"/>
                  <a:pt x="288" y="8"/>
                </a:cubicBezTo>
                <a:cubicBezTo>
                  <a:pt x="288" y="13"/>
                  <a:pt x="285" y="16"/>
                  <a:pt x="280" y="16"/>
                </a:cubicBezTo>
                <a:lnTo>
                  <a:pt x="232" y="16"/>
                </a:lnTo>
                <a:cubicBezTo>
                  <a:pt x="228" y="16"/>
                  <a:pt x="224" y="13"/>
                  <a:pt x="224" y="8"/>
                </a:cubicBezTo>
                <a:cubicBezTo>
                  <a:pt x="224" y="4"/>
                  <a:pt x="228" y="0"/>
                  <a:pt x="232" y="0"/>
                </a:cubicBezTo>
                <a:close/>
                <a:moveTo>
                  <a:pt x="344" y="0"/>
                </a:moveTo>
                <a:lnTo>
                  <a:pt x="392" y="0"/>
                </a:lnTo>
                <a:cubicBezTo>
                  <a:pt x="397" y="0"/>
                  <a:pt x="400" y="4"/>
                  <a:pt x="400" y="8"/>
                </a:cubicBezTo>
                <a:cubicBezTo>
                  <a:pt x="400" y="13"/>
                  <a:pt x="397" y="16"/>
                  <a:pt x="392" y="16"/>
                </a:cubicBezTo>
                <a:lnTo>
                  <a:pt x="344" y="16"/>
                </a:lnTo>
                <a:cubicBezTo>
                  <a:pt x="340" y="16"/>
                  <a:pt x="336" y="13"/>
                  <a:pt x="336" y="8"/>
                </a:cubicBezTo>
                <a:cubicBezTo>
                  <a:pt x="336" y="4"/>
                  <a:pt x="340" y="0"/>
                  <a:pt x="344" y="0"/>
                </a:cubicBezTo>
                <a:close/>
                <a:moveTo>
                  <a:pt x="456" y="0"/>
                </a:moveTo>
                <a:lnTo>
                  <a:pt x="504" y="0"/>
                </a:lnTo>
                <a:cubicBezTo>
                  <a:pt x="509" y="0"/>
                  <a:pt x="512" y="4"/>
                  <a:pt x="512" y="8"/>
                </a:cubicBezTo>
                <a:cubicBezTo>
                  <a:pt x="512" y="13"/>
                  <a:pt x="509" y="16"/>
                  <a:pt x="504" y="16"/>
                </a:cubicBezTo>
                <a:lnTo>
                  <a:pt x="456" y="16"/>
                </a:lnTo>
                <a:cubicBezTo>
                  <a:pt x="452" y="16"/>
                  <a:pt x="448" y="13"/>
                  <a:pt x="448" y="8"/>
                </a:cubicBezTo>
                <a:cubicBezTo>
                  <a:pt x="448" y="4"/>
                  <a:pt x="452" y="0"/>
                  <a:pt x="456" y="0"/>
                </a:cubicBezTo>
                <a:close/>
                <a:moveTo>
                  <a:pt x="568" y="0"/>
                </a:moveTo>
                <a:lnTo>
                  <a:pt x="616" y="0"/>
                </a:lnTo>
                <a:cubicBezTo>
                  <a:pt x="621" y="0"/>
                  <a:pt x="624" y="4"/>
                  <a:pt x="624" y="8"/>
                </a:cubicBezTo>
                <a:cubicBezTo>
                  <a:pt x="624" y="13"/>
                  <a:pt x="621" y="16"/>
                  <a:pt x="616" y="16"/>
                </a:cubicBezTo>
                <a:lnTo>
                  <a:pt x="568" y="16"/>
                </a:lnTo>
                <a:cubicBezTo>
                  <a:pt x="564" y="16"/>
                  <a:pt x="560" y="13"/>
                  <a:pt x="560" y="8"/>
                </a:cubicBezTo>
                <a:cubicBezTo>
                  <a:pt x="560" y="4"/>
                  <a:pt x="564" y="0"/>
                  <a:pt x="568" y="0"/>
                </a:cubicBezTo>
                <a:close/>
                <a:moveTo>
                  <a:pt x="680" y="0"/>
                </a:moveTo>
                <a:lnTo>
                  <a:pt x="728" y="0"/>
                </a:lnTo>
                <a:cubicBezTo>
                  <a:pt x="733" y="0"/>
                  <a:pt x="736" y="4"/>
                  <a:pt x="736" y="8"/>
                </a:cubicBezTo>
                <a:cubicBezTo>
                  <a:pt x="736" y="13"/>
                  <a:pt x="733" y="16"/>
                  <a:pt x="728" y="16"/>
                </a:cubicBezTo>
                <a:lnTo>
                  <a:pt x="680" y="16"/>
                </a:lnTo>
                <a:cubicBezTo>
                  <a:pt x="676" y="16"/>
                  <a:pt x="672" y="13"/>
                  <a:pt x="672" y="8"/>
                </a:cubicBezTo>
                <a:cubicBezTo>
                  <a:pt x="672" y="4"/>
                  <a:pt x="676" y="0"/>
                  <a:pt x="680" y="0"/>
                </a:cubicBezTo>
                <a:close/>
                <a:moveTo>
                  <a:pt x="792" y="0"/>
                </a:moveTo>
                <a:lnTo>
                  <a:pt x="840" y="0"/>
                </a:lnTo>
                <a:cubicBezTo>
                  <a:pt x="845" y="0"/>
                  <a:pt x="848" y="4"/>
                  <a:pt x="848" y="8"/>
                </a:cubicBezTo>
                <a:cubicBezTo>
                  <a:pt x="848" y="13"/>
                  <a:pt x="845" y="16"/>
                  <a:pt x="840" y="16"/>
                </a:cubicBezTo>
                <a:lnTo>
                  <a:pt x="792" y="16"/>
                </a:lnTo>
                <a:cubicBezTo>
                  <a:pt x="788" y="16"/>
                  <a:pt x="784" y="13"/>
                  <a:pt x="784" y="8"/>
                </a:cubicBezTo>
                <a:cubicBezTo>
                  <a:pt x="784" y="4"/>
                  <a:pt x="788" y="0"/>
                  <a:pt x="792" y="0"/>
                </a:cubicBezTo>
                <a:close/>
                <a:moveTo>
                  <a:pt x="904" y="0"/>
                </a:moveTo>
                <a:lnTo>
                  <a:pt x="952" y="0"/>
                </a:lnTo>
                <a:cubicBezTo>
                  <a:pt x="957" y="0"/>
                  <a:pt x="960" y="4"/>
                  <a:pt x="960" y="8"/>
                </a:cubicBezTo>
                <a:cubicBezTo>
                  <a:pt x="960" y="13"/>
                  <a:pt x="957" y="16"/>
                  <a:pt x="952" y="16"/>
                </a:cubicBezTo>
                <a:lnTo>
                  <a:pt x="904" y="16"/>
                </a:lnTo>
                <a:cubicBezTo>
                  <a:pt x="900" y="16"/>
                  <a:pt x="896" y="13"/>
                  <a:pt x="896" y="8"/>
                </a:cubicBezTo>
                <a:cubicBezTo>
                  <a:pt x="896" y="4"/>
                  <a:pt x="900" y="0"/>
                  <a:pt x="904" y="0"/>
                </a:cubicBezTo>
                <a:close/>
                <a:moveTo>
                  <a:pt x="1016" y="0"/>
                </a:moveTo>
                <a:lnTo>
                  <a:pt x="1064" y="0"/>
                </a:lnTo>
                <a:cubicBezTo>
                  <a:pt x="1069" y="0"/>
                  <a:pt x="1072" y="4"/>
                  <a:pt x="1072" y="8"/>
                </a:cubicBezTo>
                <a:cubicBezTo>
                  <a:pt x="1072" y="13"/>
                  <a:pt x="1069" y="16"/>
                  <a:pt x="1064" y="16"/>
                </a:cubicBezTo>
                <a:lnTo>
                  <a:pt x="1016" y="16"/>
                </a:lnTo>
                <a:cubicBezTo>
                  <a:pt x="1012" y="16"/>
                  <a:pt x="1008" y="13"/>
                  <a:pt x="1008" y="8"/>
                </a:cubicBezTo>
                <a:cubicBezTo>
                  <a:pt x="1008" y="4"/>
                  <a:pt x="1012" y="0"/>
                  <a:pt x="1016" y="0"/>
                </a:cubicBezTo>
                <a:close/>
                <a:moveTo>
                  <a:pt x="1128" y="0"/>
                </a:moveTo>
                <a:lnTo>
                  <a:pt x="1176" y="0"/>
                </a:lnTo>
                <a:cubicBezTo>
                  <a:pt x="1181" y="0"/>
                  <a:pt x="1184" y="4"/>
                  <a:pt x="1184" y="8"/>
                </a:cubicBezTo>
                <a:cubicBezTo>
                  <a:pt x="1184" y="13"/>
                  <a:pt x="1181" y="16"/>
                  <a:pt x="1176" y="16"/>
                </a:cubicBezTo>
                <a:lnTo>
                  <a:pt x="1128" y="16"/>
                </a:lnTo>
                <a:cubicBezTo>
                  <a:pt x="1124" y="16"/>
                  <a:pt x="1120" y="13"/>
                  <a:pt x="1120" y="8"/>
                </a:cubicBezTo>
                <a:cubicBezTo>
                  <a:pt x="1120" y="4"/>
                  <a:pt x="1124" y="0"/>
                  <a:pt x="1128" y="0"/>
                </a:cubicBezTo>
                <a:close/>
                <a:moveTo>
                  <a:pt x="1240" y="0"/>
                </a:moveTo>
                <a:lnTo>
                  <a:pt x="1288" y="0"/>
                </a:lnTo>
                <a:cubicBezTo>
                  <a:pt x="1293" y="0"/>
                  <a:pt x="1296" y="4"/>
                  <a:pt x="1296" y="8"/>
                </a:cubicBezTo>
                <a:cubicBezTo>
                  <a:pt x="1296" y="13"/>
                  <a:pt x="1293" y="16"/>
                  <a:pt x="1288" y="16"/>
                </a:cubicBezTo>
                <a:lnTo>
                  <a:pt x="1240" y="16"/>
                </a:lnTo>
                <a:cubicBezTo>
                  <a:pt x="1236" y="16"/>
                  <a:pt x="1232" y="13"/>
                  <a:pt x="1232" y="8"/>
                </a:cubicBezTo>
                <a:cubicBezTo>
                  <a:pt x="1232" y="4"/>
                  <a:pt x="1236" y="0"/>
                  <a:pt x="1240" y="0"/>
                </a:cubicBezTo>
                <a:close/>
                <a:moveTo>
                  <a:pt x="1352" y="0"/>
                </a:moveTo>
                <a:lnTo>
                  <a:pt x="1400" y="0"/>
                </a:lnTo>
                <a:cubicBezTo>
                  <a:pt x="1405" y="0"/>
                  <a:pt x="1408" y="4"/>
                  <a:pt x="1408" y="8"/>
                </a:cubicBezTo>
                <a:cubicBezTo>
                  <a:pt x="1408" y="13"/>
                  <a:pt x="1405" y="16"/>
                  <a:pt x="1400" y="16"/>
                </a:cubicBezTo>
                <a:lnTo>
                  <a:pt x="1352" y="16"/>
                </a:lnTo>
                <a:cubicBezTo>
                  <a:pt x="1348" y="16"/>
                  <a:pt x="1344" y="13"/>
                  <a:pt x="1344" y="8"/>
                </a:cubicBezTo>
                <a:cubicBezTo>
                  <a:pt x="1344" y="4"/>
                  <a:pt x="1348" y="0"/>
                  <a:pt x="1352" y="0"/>
                </a:cubicBezTo>
                <a:close/>
                <a:moveTo>
                  <a:pt x="1464" y="0"/>
                </a:moveTo>
                <a:lnTo>
                  <a:pt x="1512" y="0"/>
                </a:lnTo>
                <a:cubicBezTo>
                  <a:pt x="1517" y="0"/>
                  <a:pt x="1520" y="4"/>
                  <a:pt x="1520" y="8"/>
                </a:cubicBezTo>
                <a:cubicBezTo>
                  <a:pt x="1520" y="13"/>
                  <a:pt x="1517" y="16"/>
                  <a:pt x="1512" y="16"/>
                </a:cubicBezTo>
                <a:lnTo>
                  <a:pt x="1464" y="16"/>
                </a:lnTo>
                <a:cubicBezTo>
                  <a:pt x="1460" y="16"/>
                  <a:pt x="1456" y="13"/>
                  <a:pt x="1456" y="8"/>
                </a:cubicBezTo>
                <a:cubicBezTo>
                  <a:pt x="1456" y="4"/>
                  <a:pt x="1460" y="0"/>
                  <a:pt x="1464" y="0"/>
                </a:cubicBezTo>
                <a:close/>
                <a:moveTo>
                  <a:pt x="1576" y="0"/>
                </a:moveTo>
                <a:lnTo>
                  <a:pt x="1624" y="0"/>
                </a:lnTo>
                <a:cubicBezTo>
                  <a:pt x="1629" y="0"/>
                  <a:pt x="1632" y="4"/>
                  <a:pt x="1632" y="8"/>
                </a:cubicBezTo>
                <a:cubicBezTo>
                  <a:pt x="1632" y="13"/>
                  <a:pt x="1629" y="16"/>
                  <a:pt x="1624" y="16"/>
                </a:cubicBezTo>
                <a:lnTo>
                  <a:pt x="1576" y="16"/>
                </a:lnTo>
                <a:cubicBezTo>
                  <a:pt x="1572" y="16"/>
                  <a:pt x="1568" y="13"/>
                  <a:pt x="1568" y="8"/>
                </a:cubicBezTo>
                <a:cubicBezTo>
                  <a:pt x="1568" y="4"/>
                  <a:pt x="1572" y="0"/>
                  <a:pt x="1576" y="0"/>
                </a:cubicBezTo>
                <a:close/>
                <a:moveTo>
                  <a:pt x="1688" y="0"/>
                </a:moveTo>
                <a:lnTo>
                  <a:pt x="1736" y="0"/>
                </a:lnTo>
                <a:cubicBezTo>
                  <a:pt x="1741" y="0"/>
                  <a:pt x="1744" y="4"/>
                  <a:pt x="1744" y="8"/>
                </a:cubicBezTo>
                <a:cubicBezTo>
                  <a:pt x="1744" y="13"/>
                  <a:pt x="1741" y="16"/>
                  <a:pt x="1736" y="16"/>
                </a:cubicBezTo>
                <a:lnTo>
                  <a:pt x="1688" y="16"/>
                </a:lnTo>
                <a:cubicBezTo>
                  <a:pt x="1684" y="16"/>
                  <a:pt x="1680" y="13"/>
                  <a:pt x="1680" y="8"/>
                </a:cubicBezTo>
                <a:cubicBezTo>
                  <a:pt x="1680" y="4"/>
                  <a:pt x="1684" y="0"/>
                  <a:pt x="1688" y="0"/>
                </a:cubicBezTo>
                <a:close/>
                <a:moveTo>
                  <a:pt x="1800" y="0"/>
                </a:moveTo>
                <a:lnTo>
                  <a:pt x="1848" y="0"/>
                </a:lnTo>
                <a:cubicBezTo>
                  <a:pt x="1853" y="0"/>
                  <a:pt x="1856" y="4"/>
                  <a:pt x="1856" y="8"/>
                </a:cubicBezTo>
                <a:cubicBezTo>
                  <a:pt x="1856" y="13"/>
                  <a:pt x="1853" y="16"/>
                  <a:pt x="1848" y="16"/>
                </a:cubicBezTo>
                <a:lnTo>
                  <a:pt x="1800" y="16"/>
                </a:lnTo>
                <a:cubicBezTo>
                  <a:pt x="1796" y="16"/>
                  <a:pt x="1792" y="13"/>
                  <a:pt x="1792" y="8"/>
                </a:cubicBezTo>
                <a:cubicBezTo>
                  <a:pt x="1792" y="4"/>
                  <a:pt x="1796" y="0"/>
                  <a:pt x="1800" y="0"/>
                </a:cubicBezTo>
                <a:close/>
                <a:moveTo>
                  <a:pt x="1912" y="0"/>
                </a:moveTo>
                <a:lnTo>
                  <a:pt x="1960" y="0"/>
                </a:lnTo>
                <a:cubicBezTo>
                  <a:pt x="1965" y="0"/>
                  <a:pt x="1968" y="4"/>
                  <a:pt x="1968" y="8"/>
                </a:cubicBezTo>
                <a:cubicBezTo>
                  <a:pt x="1968" y="13"/>
                  <a:pt x="1965" y="16"/>
                  <a:pt x="1960" y="16"/>
                </a:cubicBezTo>
                <a:lnTo>
                  <a:pt x="1912" y="16"/>
                </a:lnTo>
                <a:cubicBezTo>
                  <a:pt x="1908" y="16"/>
                  <a:pt x="1904" y="13"/>
                  <a:pt x="1904" y="8"/>
                </a:cubicBezTo>
                <a:cubicBezTo>
                  <a:pt x="1904" y="4"/>
                  <a:pt x="1908" y="0"/>
                  <a:pt x="1912" y="0"/>
                </a:cubicBezTo>
                <a:close/>
                <a:moveTo>
                  <a:pt x="2024" y="0"/>
                </a:moveTo>
                <a:lnTo>
                  <a:pt x="2072" y="0"/>
                </a:lnTo>
                <a:cubicBezTo>
                  <a:pt x="2077" y="0"/>
                  <a:pt x="2080" y="4"/>
                  <a:pt x="2080" y="8"/>
                </a:cubicBezTo>
                <a:cubicBezTo>
                  <a:pt x="2080" y="13"/>
                  <a:pt x="2077" y="16"/>
                  <a:pt x="2072" y="16"/>
                </a:cubicBezTo>
                <a:lnTo>
                  <a:pt x="2024" y="16"/>
                </a:lnTo>
                <a:cubicBezTo>
                  <a:pt x="2020" y="16"/>
                  <a:pt x="2016" y="13"/>
                  <a:pt x="2016" y="8"/>
                </a:cubicBezTo>
                <a:cubicBezTo>
                  <a:pt x="2016" y="4"/>
                  <a:pt x="2020" y="0"/>
                  <a:pt x="2024" y="0"/>
                </a:cubicBezTo>
                <a:close/>
                <a:moveTo>
                  <a:pt x="2136" y="0"/>
                </a:moveTo>
                <a:lnTo>
                  <a:pt x="2184" y="0"/>
                </a:lnTo>
                <a:cubicBezTo>
                  <a:pt x="2189" y="0"/>
                  <a:pt x="2192" y="4"/>
                  <a:pt x="2192" y="8"/>
                </a:cubicBezTo>
                <a:cubicBezTo>
                  <a:pt x="2192" y="13"/>
                  <a:pt x="2189" y="16"/>
                  <a:pt x="2184" y="16"/>
                </a:cubicBezTo>
                <a:lnTo>
                  <a:pt x="2136" y="16"/>
                </a:lnTo>
                <a:cubicBezTo>
                  <a:pt x="2132" y="16"/>
                  <a:pt x="2128" y="13"/>
                  <a:pt x="2128" y="8"/>
                </a:cubicBezTo>
                <a:cubicBezTo>
                  <a:pt x="2128" y="4"/>
                  <a:pt x="2132" y="0"/>
                  <a:pt x="2136" y="0"/>
                </a:cubicBezTo>
                <a:close/>
                <a:moveTo>
                  <a:pt x="2248" y="0"/>
                </a:moveTo>
                <a:lnTo>
                  <a:pt x="2296" y="0"/>
                </a:lnTo>
                <a:cubicBezTo>
                  <a:pt x="2301" y="0"/>
                  <a:pt x="2304" y="4"/>
                  <a:pt x="2304" y="8"/>
                </a:cubicBezTo>
                <a:cubicBezTo>
                  <a:pt x="2304" y="13"/>
                  <a:pt x="2301" y="16"/>
                  <a:pt x="2296" y="16"/>
                </a:cubicBezTo>
                <a:lnTo>
                  <a:pt x="2248" y="16"/>
                </a:lnTo>
                <a:cubicBezTo>
                  <a:pt x="2244" y="16"/>
                  <a:pt x="2240" y="13"/>
                  <a:pt x="2240" y="8"/>
                </a:cubicBezTo>
                <a:cubicBezTo>
                  <a:pt x="2240" y="4"/>
                  <a:pt x="2244" y="0"/>
                  <a:pt x="2248" y="0"/>
                </a:cubicBezTo>
                <a:close/>
                <a:moveTo>
                  <a:pt x="2360" y="0"/>
                </a:moveTo>
                <a:lnTo>
                  <a:pt x="2408" y="0"/>
                </a:lnTo>
                <a:cubicBezTo>
                  <a:pt x="2413" y="0"/>
                  <a:pt x="2416" y="4"/>
                  <a:pt x="2416" y="8"/>
                </a:cubicBezTo>
                <a:cubicBezTo>
                  <a:pt x="2416" y="13"/>
                  <a:pt x="2413" y="16"/>
                  <a:pt x="2408" y="16"/>
                </a:cubicBezTo>
                <a:lnTo>
                  <a:pt x="2360" y="16"/>
                </a:lnTo>
                <a:cubicBezTo>
                  <a:pt x="2356" y="16"/>
                  <a:pt x="2352" y="13"/>
                  <a:pt x="2352" y="8"/>
                </a:cubicBezTo>
                <a:cubicBezTo>
                  <a:pt x="2352" y="4"/>
                  <a:pt x="2356" y="0"/>
                  <a:pt x="2360" y="0"/>
                </a:cubicBezTo>
                <a:close/>
                <a:moveTo>
                  <a:pt x="2472" y="0"/>
                </a:moveTo>
                <a:lnTo>
                  <a:pt x="2520" y="0"/>
                </a:lnTo>
                <a:cubicBezTo>
                  <a:pt x="2525" y="0"/>
                  <a:pt x="2528" y="4"/>
                  <a:pt x="2528" y="8"/>
                </a:cubicBezTo>
                <a:cubicBezTo>
                  <a:pt x="2528" y="13"/>
                  <a:pt x="2525" y="16"/>
                  <a:pt x="2520" y="16"/>
                </a:cubicBezTo>
                <a:lnTo>
                  <a:pt x="2472" y="16"/>
                </a:lnTo>
                <a:cubicBezTo>
                  <a:pt x="2468" y="16"/>
                  <a:pt x="2464" y="13"/>
                  <a:pt x="2464" y="8"/>
                </a:cubicBezTo>
                <a:cubicBezTo>
                  <a:pt x="2464" y="4"/>
                  <a:pt x="2468" y="0"/>
                  <a:pt x="2472" y="0"/>
                </a:cubicBezTo>
                <a:close/>
                <a:moveTo>
                  <a:pt x="2584" y="0"/>
                </a:moveTo>
                <a:lnTo>
                  <a:pt x="2632" y="0"/>
                </a:lnTo>
                <a:cubicBezTo>
                  <a:pt x="2637" y="0"/>
                  <a:pt x="2640" y="4"/>
                  <a:pt x="2640" y="8"/>
                </a:cubicBezTo>
                <a:cubicBezTo>
                  <a:pt x="2640" y="13"/>
                  <a:pt x="2637" y="16"/>
                  <a:pt x="2632" y="16"/>
                </a:cubicBezTo>
                <a:lnTo>
                  <a:pt x="2584" y="16"/>
                </a:lnTo>
                <a:cubicBezTo>
                  <a:pt x="2580" y="16"/>
                  <a:pt x="2576" y="13"/>
                  <a:pt x="2576" y="8"/>
                </a:cubicBezTo>
                <a:cubicBezTo>
                  <a:pt x="2576" y="4"/>
                  <a:pt x="2580" y="0"/>
                  <a:pt x="2584" y="0"/>
                </a:cubicBezTo>
                <a:close/>
                <a:moveTo>
                  <a:pt x="2696" y="0"/>
                </a:moveTo>
                <a:lnTo>
                  <a:pt x="2744" y="0"/>
                </a:lnTo>
                <a:cubicBezTo>
                  <a:pt x="2749" y="0"/>
                  <a:pt x="2752" y="4"/>
                  <a:pt x="2752" y="8"/>
                </a:cubicBezTo>
                <a:cubicBezTo>
                  <a:pt x="2752" y="13"/>
                  <a:pt x="2749" y="16"/>
                  <a:pt x="2744" y="16"/>
                </a:cubicBezTo>
                <a:lnTo>
                  <a:pt x="2696" y="16"/>
                </a:lnTo>
                <a:cubicBezTo>
                  <a:pt x="2692" y="16"/>
                  <a:pt x="2688" y="13"/>
                  <a:pt x="2688" y="8"/>
                </a:cubicBezTo>
                <a:cubicBezTo>
                  <a:pt x="2688" y="4"/>
                  <a:pt x="2692" y="0"/>
                  <a:pt x="2696" y="0"/>
                </a:cubicBezTo>
                <a:close/>
                <a:moveTo>
                  <a:pt x="2808" y="0"/>
                </a:moveTo>
                <a:lnTo>
                  <a:pt x="2856" y="0"/>
                </a:lnTo>
                <a:cubicBezTo>
                  <a:pt x="2861" y="0"/>
                  <a:pt x="2864" y="4"/>
                  <a:pt x="2864" y="8"/>
                </a:cubicBezTo>
                <a:cubicBezTo>
                  <a:pt x="2864" y="13"/>
                  <a:pt x="2861" y="16"/>
                  <a:pt x="2856" y="16"/>
                </a:cubicBezTo>
                <a:lnTo>
                  <a:pt x="2808" y="16"/>
                </a:lnTo>
                <a:cubicBezTo>
                  <a:pt x="2804" y="16"/>
                  <a:pt x="2800" y="13"/>
                  <a:pt x="2800" y="8"/>
                </a:cubicBezTo>
                <a:cubicBezTo>
                  <a:pt x="2800" y="4"/>
                  <a:pt x="2804" y="0"/>
                  <a:pt x="2808" y="0"/>
                </a:cubicBezTo>
                <a:close/>
                <a:moveTo>
                  <a:pt x="2920" y="0"/>
                </a:moveTo>
                <a:lnTo>
                  <a:pt x="2968" y="0"/>
                </a:lnTo>
                <a:cubicBezTo>
                  <a:pt x="2973" y="0"/>
                  <a:pt x="2976" y="4"/>
                  <a:pt x="2976" y="8"/>
                </a:cubicBezTo>
                <a:cubicBezTo>
                  <a:pt x="2976" y="13"/>
                  <a:pt x="2973" y="16"/>
                  <a:pt x="2968" y="16"/>
                </a:cubicBezTo>
                <a:lnTo>
                  <a:pt x="2920" y="16"/>
                </a:lnTo>
                <a:cubicBezTo>
                  <a:pt x="2916" y="16"/>
                  <a:pt x="2912" y="13"/>
                  <a:pt x="2912" y="8"/>
                </a:cubicBezTo>
                <a:cubicBezTo>
                  <a:pt x="2912" y="4"/>
                  <a:pt x="2916" y="0"/>
                  <a:pt x="2920" y="0"/>
                </a:cubicBezTo>
                <a:close/>
                <a:moveTo>
                  <a:pt x="3032" y="0"/>
                </a:moveTo>
                <a:lnTo>
                  <a:pt x="3080" y="0"/>
                </a:lnTo>
                <a:cubicBezTo>
                  <a:pt x="3085" y="0"/>
                  <a:pt x="3088" y="4"/>
                  <a:pt x="3088" y="8"/>
                </a:cubicBezTo>
                <a:cubicBezTo>
                  <a:pt x="3088" y="13"/>
                  <a:pt x="3085" y="16"/>
                  <a:pt x="3080" y="16"/>
                </a:cubicBezTo>
                <a:lnTo>
                  <a:pt x="3032" y="16"/>
                </a:lnTo>
                <a:cubicBezTo>
                  <a:pt x="3028" y="16"/>
                  <a:pt x="3024" y="13"/>
                  <a:pt x="3024" y="8"/>
                </a:cubicBezTo>
                <a:cubicBezTo>
                  <a:pt x="3024" y="4"/>
                  <a:pt x="3028" y="0"/>
                  <a:pt x="3032" y="0"/>
                </a:cubicBezTo>
                <a:close/>
                <a:moveTo>
                  <a:pt x="3144" y="0"/>
                </a:moveTo>
                <a:lnTo>
                  <a:pt x="3192" y="0"/>
                </a:lnTo>
                <a:cubicBezTo>
                  <a:pt x="3197" y="0"/>
                  <a:pt x="3200" y="4"/>
                  <a:pt x="3200" y="8"/>
                </a:cubicBezTo>
                <a:cubicBezTo>
                  <a:pt x="3200" y="13"/>
                  <a:pt x="3197" y="16"/>
                  <a:pt x="3192" y="16"/>
                </a:cubicBezTo>
                <a:lnTo>
                  <a:pt x="3144" y="16"/>
                </a:lnTo>
                <a:cubicBezTo>
                  <a:pt x="3140" y="16"/>
                  <a:pt x="3136" y="13"/>
                  <a:pt x="3136" y="8"/>
                </a:cubicBezTo>
                <a:cubicBezTo>
                  <a:pt x="3136" y="4"/>
                  <a:pt x="3140" y="0"/>
                  <a:pt x="3144" y="0"/>
                </a:cubicBezTo>
                <a:close/>
                <a:moveTo>
                  <a:pt x="3256" y="0"/>
                </a:moveTo>
                <a:lnTo>
                  <a:pt x="3304" y="0"/>
                </a:lnTo>
                <a:cubicBezTo>
                  <a:pt x="3309" y="0"/>
                  <a:pt x="3312" y="4"/>
                  <a:pt x="3312" y="8"/>
                </a:cubicBezTo>
                <a:cubicBezTo>
                  <a:pt x="3312" y="13"/>
                  <a:pt x="3309" y="16"/>
                  <a:pt x="3304" y="16"/>
                </a:cubicBezTo>
                <a:lnTo>
                  <a:pt x="3256" y="16"/>
                </a:lnTo>
                <a:cubicBezTo>
                  <a:pt x="3252" y="16"/>
                  <a:pt x="3248" y="13"/>
                  <a:pt x="3248" y="8"/>
                </a:cubicBezTo>
                <a:cubicBezTo>
                  <a:pt x="3248" y="4"/>
                  <a:pt x="3252" y="0"/>
                  <a:pt x="3256" y="0"/>
                </a:cubicBezTo>
                <a:close/>
                <a:moveTo>
                  <a:pt x="3368" y="0"/>
                </a:moveTo>
                <a:lnTo>
                  <a:pt x="3416" y="0"/>
                </a:lnTo>
                <a:cubicBezTo>
                  <a:pt x="3421" y="0"/>
                  <a:pt x="3424" y="4"/>
                  <a:pt x="3424" y="8"/>
                </a:cubicBezTo>
                <a:cubicBezTo>
                  <a:pt x="3424" y="13"/>
                  <a:pt x="3421" y="16"/>
                  <a:pt x="3416" y="16"/>
                </a:cubicBezTo>
                <a:lnTo>
                  <a:pt x="3368" y="16"/>
                </a:lnTo>
                <a:cubicBezTo>
                  <a:pt x="3364" y="16"/>
                  <a:pt x="3360" y="13"/>
                  <a:pt x="3360" y="8"/>
                </a:cubicBezTo>
                <a:cubicBezTo>
                  <a:pt x="3360" y="4"/>
                  <a:pt x="3364" y="0"/>
                  <a:pt x="3368" y="0"/>
                </a:cubicBezTo>
                <a:close/>
                <a:moveTo>
                  <a:pt x="3480" y="0"/>
                </a:moveTo>
                <a:lnTo>
                  <a:pt x="3528" y="0"/>
                </a:lnTo>
                <a:cubicBezTo>
                  <a:pt x="3533" y="0"/>
                  <a:pt x="3536" y="4"/>
                  <a:pt x="3536" y="8"/>
                </a:cubicBezTo>
                <a:cubicBezTo>
                  <a:pt x="3536" y="13"/>
                  <a:pt x="3533" y="16"/>
                  <a:pt x="3528" y="16"/>
                </a:cubicBezTo>
                <a:lnTo>
                  <a:pt x="3480" y="16"/>
                </a:lnTo>
                <a:cubicBezTo>
                  <a:pt x="3476" y="16"/>
                  <a:pt x="3472" y="13"/>
                  <a:pt x="3472" y="8"/>
                </a:cubicBezTo>
                <a:cubicBezTo>
                  <a:pt x="3472" y="4"/>
                  <a:pt x="3476" y="0"/>
                  <a:pt x="3480" y="0"/>
                </a:cubicBezTo>
                <a:close/>
                <a:moveTo>
                  <a:pt x="3592" y="0"/>
                </a:moveTo>
                <a:lnTo>
                  <a:pt x="3640" y="0"/>
                </a:lnTo>
                <a:cubicBezTo>
                  <a:pt x="3645" y="0"/>
                  <a:pt x="3648" y="4"/>
                  <a:pt x="3648" y="8"/>
                </a:cubicBezTo>
                <a:cubicBezTo>
                  <a:pt x="3648" y="13"/>
                  <a:pt x="3645" y="16"/>
                  <a:pt x="3640" y="16"/>
                </a:cubicBezTo>
                <a:lnTo>
                  <a:pt x="3592" y="16"/>
                </a:lnTo>
                <a:cubicBezTo>
                  <a:pt x="3588" y="16"/>
                  <a:pt x="3584" y="13"/>
                  <a:pt x="3584" y="8"/>
                </a:cubicBezTo>
                <a:cubicBezTo>
                  <a:pt x="3584" y="4"/>
                  <a:pt x="3588" y="0"/>
                  <a:pt x="3592" y="0"/>
                </a:cubicBezTo>
                <a:close/>
                <a:moveTo>
                  <a:pt x="3704" y="0"/>
                </a:moveTo>
                <a:lnTo>
                  <a:pt x="3752" y="0"/>
                </a:lnTo>
                <a:cubicBezTo>
                  <a:pt x="3757" y="0"/>
                  <a:pt x="3760" y="4"/>
                  <a:pt x="3760" y="8"/>
                </a:cubicBezTo>
                <a:cubicBezTo>
                  <a:pt x="3760" y="13"/>
                  <a:pt x="3757" y="16"/>
                  <a:pt x="3752" y="16"/>
                </a:cubicBezTo>
                <a:lnTo>
                  <a:pt x="3704" y="16"/>
                </a:lnTo>
                <a:cubicBezTo>
                  <a:pt x="3700" y="16"/>
                  <a:pt x="3696" y="13"/>
                  <a:pt x="3696" y="8"/>
                </a:cubicBezTo>
                <a:cubicBezTo>
                  <a:pt x="3696" y="4"/>
                  <a:pt x="3700" y="0"/>
                  <a:pt x="3704" y="0"/>
                </a:cubicBezTo>
                <a:close/>
                <a:moveTo>
                  <a:pt x="3816" y="0"/>
                </a:moveTo>
                <a:lnTo>
                  <a:pt x="3864" y="0"/>
                </a:lnTo>
                <a:cubicBezTo>
                  <a:pt x="3869" y="0"/>
                  <a:pt x="3872" y="4"/>
                  <a:pt x="3872" y="8"/>
                </a:cubicBezTo>
                <a:cubicBezTo>
                  <a:pt x="3872" y="13"/>
                  <a:pt x="3869" y="16"/>
                  <a:pt x="3864" y="16"/>
                </a:cubicBezTo>
                <a:lnTo>
                  <a:pt x="3816" y="16"/>
                </a:lnTo>
                <a:cubicBezTo>
                  <a:pt x="3812" y="16"/>
                  <a:pt x="3808" y="13"/>
                  <a:pt x="3808" y="8"/>
                </a:cubicBezTo>
                <a:cubicBezTo>
                  <a:pt x="3808" y="4"/>
                  <a:pt x="3812" y="0"/>
                  <a:pt x="3816" y="0"/>
                </a:cubicBezTo>
                <a:close/>
                <a:moveTo>
                  <a:pt x="3928" y="0"/>
                </a:moveTo>
                <a:lnTo>
                  <a:pt x="3976" y="0"/>
                </a:lnTo>
                <a:cubicBezTo>
                  <a:pt x="3981" y="0"/>
                  <a:pt x="3984" y="4"/>
                  <a:pt x="3984" y="8"/>
                </a:cubicBezTo>
                <a:cubicBezTo>
                  <a:pt x="3984" y="13"/>
                  <a:pt x="3981" y="16"/>
                  <a:pt x="3976" y="16"/>
                </a:cubicBezTo>
                <a:lnTo>
                  <a:pt x="3928" y="16"/>
                </a:lnTo>
                <a:cubicBezTo>
                  <a:pt x="3924" y="16"/>
                  <a:pt x="3920" y="13"/>
                  <a:pt x="3920" y="8"/>
                </a:cubicBezTo>
                <a:cubicBezTo>
                  <a:pt x="3920" y="4"/>
                  <a:pt x="3924" y="0"/>
                  <a:pt x="3928" y="0"/>
                </a:cubicBezTo>
                <a:close/>
                <a:moveTo>
                  <a:pt x="4040" y="0"/>
                </a:moveTo>
                <a:lnTo>
                  <a:pt x="4088" y="0"/>
                </a:lnTo>
                <a:cubicBezTo>
                  <a:pt x="4093" y="0"/>
                  <a:pt x="4096" y="4"/>
                  <a:pt x="4096" y="8"/>
                </a:cubicBezTo>
                <a:cubicBezTo>
                  <a:pt x="4096" y="13"/>
                  <a:pt x="4093" y="16"/>
                  <a:pt x="4088" y="16"/>
                </a:cubicBezTo>
                <a:lnTo>
                  <a:pt x="4040" y="16"/>
                </a:lnTo>
                <a:cubicBezTo>
                  <a:pt x="4036" y="16"/>
                  <a:pt x="4032" y="13"/>
                  <a:pt x="4032" y="8"/>
                </a:cubicBezTo>
                <a:cubicBezTo>
                  <a:pt x="4032" y="4"/>
                  <a:pt x="4036" y="0"/>
                  <a:pt x="4040" y="0"/>
                </a:cubicBezTo>
                <a:close/>
                <a:moveTo>
                  <a:pt x="4152" y="0"/>
                </a:moveTo>
                <a:lnTo>
                  <a:pt x="4200" y="0"/>
                </a:lnTo>
                <a:cubicBezTo>
                  <a:pt x="4205" y="0"/>
                  <a:pt x="4208" y="4"/>
                  <a:pt x="4208" y="8"/>
                </a:cubicBezTo>
                <a:cubicBezTo>
                  <a:pt x="4208" y="13"/>
                  <a:pt x="4205" y="16"/>
                  <a:pt x="4200" y="16"/>
                </a:cubicBezTo>
                <a:lnTo>
                  <a:pt x="4152" y="16"/>
                </a:lnTo>
                <a:cubicBezTo>
                  <a:pt x="4148" y="16"/>
                  <a:pt x="4144" y="13"/>
                  <a:pt x="4144" y="8"/>
                </a:cubicBezTo>
                <a:cubicBezTo>
                  <a:pt x="4144" y="4"/>
                  <a:pt x="4148" y="0"/>
                  <a:pt x="4152" y="0"/>
                </a:cubicBezTo>
                <a:close/>
                <a:moveTo>
                  <a:pt x="4264" y="0"/>
                </a:moveTo>
                <a:lnTo>
                  <a:pt x="4312" y="0"/>
                </a:lnTo>
                <a:cubicBezTo>
                  <a:pt x="4317" y="0"/>
                  <a:pt x="4320" y="4"/>
                  <a:pt x="4320" y="8"/>
                </a:cubicBezTo>
                <a:cubicBezTo>
                  <a:pt x="4320" y="13"/>
                  <a:pt x="4317" y="16"/>
                  <a:pt x="4312" y="16"/>
                </a:cubicBezTo>
                <a:lnTo>
                  <a:pt x="4264" y="16"/>
                </a:lnTo>
                <a:cubicBezTo>
                  <a:pt x="4260" y="16"/>
                  <a:pt x="4256" y="13"/>
                  <a:pt x="4256" y="8"/>
                </a:cubicBezTo>
                <a:cubicBezTo>
                  <a:pt x="4256" y="4"/>
                  <a:pt x="4260" y="0"/>
                  <a:pt x="4264" y="0"/>
                </a:cubicBezTo>
                <a:close/>
                <a:moveTo>
                  <a:pt x="4376" y="0"/>
                </a:moveTo>
                <a:lnTo>
                  <a:pt x="4424" y="0"/>
                </a:lnTo>
                <a:cubicBezTo>
                  <a:pt x="4429" y="0"/>
                  <a:pt x="4432" y="4"/>
                  <a:pt x="4432" y="8"/>
                </a:cubicBezTo>
                <a:cubicBezTo>
                  <a:pt x="4432" y="13"/>
                  <a:pt x="4429" y="16"/>
                  <a:pt x="4424" y="16"/>
                </a:cubicBezTo>
                <a:lnTo>
                  <a:pt x="4376" y="16"/>
                </a:lnTo>
                <a:cubicBezTo>
                  <a:pt x="4372" y="16"/>
                  <a:pt x="4368" y="13"/>
                  <a:pt x="4368" y="8"/>
                </a:cubicBezTo>
                <a:cubicBezTo>
                  <a:pt x="4368" y="4"/>
                  <a:pt x="4372" y="0"/>
                  <a:pt x="4376" y="0"/>
                </a:cubicBezTo>
                <a:close/>
                <a:moveTo>
                  <a:pt x="4488" y="0"/>
                </a:moveTo>
                <a:lnTo>
                  <a:pt x="4536" y="0"/>
                </a:lnTo>
                <a:cubicBezTo>
                  <a:pt x="4541" y="0"/>
                  <a:pt x="4544" y="4"/>
                  <a:pt x="4544" y="8"/>
                </a:cubicBezTo>
                <a:cubicBezTo>
                  <a:pt x="4544" y="13"/>
                  <a:pt x="4541" y="16"/>
                  <a:pt x="4536" y="16"/>
                </a:cubicBezTo>
                <a:lnTo>
                  <a:pt x="4488" y="16"/>
                </a:lnTo>
                <a:cubicBezTo>
                  <a:pt x="4484" y="16"/>
                  <a:pt x="4480" y="13"/>
                  <a:pt x="4480" y="8"/>
                </a:cubicBezTo>
                <a:cubicBezTo>
                  <a:pt x="4480" y="4"/>
                  <a:pt x="4484" y="0"/>
                  <a:pt x="4488" y="0"/>
                </a:cubicBezTo>
                <a:close/>
                <a:moveTo>
                  <a:pt x="4600" y="0"/>
                </a:moveTo>
                <a:lnTo>
                  <a:pt x="4648" y="0"/>
                </a:lnTo>
                <a:cubicBezTo>
                  <a:pt x="4653" y="0"/>
                  <a:pt x="4656" y="4"/>
                  <a:pt x="4656" y="8"/>
                </a:cubicBezTo>
                <a:cubicBezTo>
                  <a:pt x="4656" y="13"/>
                  <a:pt x="4653" y="16"/>
                  <a:pt x="4648" y="16"/>
                </a:cubicBezTo>
                <a:lnTo>
                  <a:pt x="4600" y="16"/>
                </a:lnTo>
                <a:cubicBezTo>
                  <a:pt x="4596" y="16"/>
                  <a:pt x="4592" y="13"/>
                  <a:pt x="4592" y="8"/>
                </a:cubicBezTo>
                <a:cubicBezTo>
                  <a:pt x="4592" y="4"/>
                  <a:pt x="4596" y="0"/>
                  <a:pt x="4600" y="0"/>
                </a:cubicBezTo>
                <a:close/>
                <a:moveTo>
                  <a:pt x="4712" y="0"/>
                </a:moveTo>
                <a:lnTo>
                  <a:pt x="4760" y="0"/>
                </a:lnTo>
                <a:cubicBezTo>
                  <a:pt x="4765" y="0"/>
                  <a:pt x="4768" y="4"/>
                  <a:pt x="4768" y="8"/>
                </a:cubicBezTo>
                <a:cubicBezTo>
                  <a:pt x="4768" y="13"/>
                  <a:pt x="4765" y="16"/>
                  <a:pt x="4760" y="16"/>
                </a:cubicBezTo>
                <a:lnTo>
                  <a:pt x="4712" y="16"/>
                </a:lnTo>
                <a:cubicBezTo>
                  <a:pt x="4708" y="16"/>
                  <a:pt x="4704" y="13"/>
                  <a:pt x="4704" y="8"/>
                </a:cubicBezTo>
                <a:cubicBezTo>
                  <a:pt x="4704" y="4"/>
                  <a:pt x="4708" y="0"/>
                  <a:pt x="4712" y="0"/>
                </a:cubicBezTo>
                <a:close/>
                <a:moveTo>
                  <a:pt x="4824" y="0"/>
                </a:moveTo>
                <a:lnTo>
                  <a:pt x="4872" y="0"/>
                </a:lnTo>
                <a:cubicBezTo>
                  <a:pt x="4877" y="0"/>
                  <a:pt x="4880" y="4"/>
                  <a:pt x="4880" y="8"/>
                </a:cubicBezTo>
                <a:cubicBezTo>
                  <a:pt x="4880" y="13"/>
                  <a:pt x="4877" y="16"/>
                  <a:pt x="4872" y="16"/>
                </a:cubicBezTo>
                <a:lnTo>
                  <a:pt x="4824" y="16"/>
                </a:lnTo>
                <a:cubicBezTo>
                  <a:pt x="4820" y="16"/>
                  <a:pt x="4816" y="13"/>
                  <a:pt x="4816" y="8"/>
                </a:cubicBezTo>
                <a:cubicBezTo>
                  <a:pt x="4816" y="4"/>
                  <a:pt x="4820" y="0"/>
                  <a:pt x="4824" y="0"/>
                </a:cubicBezTo>
                <a:close/>
                <a:moveTo>
                  <a:pt x="4936" y="0"/>
                </a:moveTo>
                <a:lnTo>
                  <a:pt x="4984" y="0"/>
                </a:lnTo>
                <a:cubicBezTo>
                  <a:pt x="4989" y="0"/>
                  <a:pt x="4992" y="4"/>
                  <a:pt x="4992" y="8"/>
                </a:cubicBezTo>
                <a:cubicBezTo>
                  <a:pt x="4992" y="13"/>
                  <a:pt x="4989" y="16"/>
                  <a:pt x="4984" y="16"/>
                </a:cubicBezTo>
                <a:lnTo>
                  <a:pt x="4936" y="16"/>
                </a:lnTo>
                <a:cubicBezTo>
                  <a:pt x="4932" y="16"/>
                  <a:pt x="4928" y="13"/>
                  <a:pt x="4928" y="8"/>
                </a:cubicBezTo>
                <a:cubicBezTo>
                  <a:pt x="4928" y="4"/>
                  <a:pt x="4932" y="0"/>
                  <a:pt x="4936" y="0"/>
                </a:cubicBezTo>
                <a:close/>
                <a:moveTo>
                  <a:pt x="5048" y="0"/>
                </a:moveTo>
                <a:lnTo>
                  <a:pt x="5096" y="0"/>
                </a:lnTo>
                <a:cubicBezTo>
                  <a:pt x="5101" y="0"/>
                  <a:pt x="5104" y="4"/>
                  <a:pt x="5104" y="8"/>
                </a:cubicBezTo>
                <a:cubicBezTo>
                  <a:pt x="5104" y="13"/>
                  <a:pt x="5101" y="16"/>
                  <a:pt x="5096" y="16"/>
                </a:cubicBezTo>
                <a:lnTo>
                  <a:pt x="5048" y="16"/>
                </a:lnTo>
                <a:cubicBezTo>
                  <a:pt x="5044" y="16"/>
                  <a:pt x="5040" y="13"/>
                  <a:pt x="5040" y="8"/>
                </a:cubicBezTo>
                <a:cubicBezTo>
                  <a:pt x="5040" y="4"/>
                  <a:pt x="5044" y="0"/>
                  <a:pt x="5048" y="0"/>
                </a:cubicBezTo>
                <a:close/>
                <a:moveTo>
                  <a:pt x="5160" y="0"/>
                </a:moveTo>
                <a:lnTo>
                  <a:pt x="5208" y="0"/>
                </a:lnTo>
                <a:cubicBezTo>
                  <a:pt x="5213" y="0"/>
                  <a:pt x="5216" y="4"/>
                  <a:pt x="5216" y="8"/>
                </a:cubicBezTo>
                <a:cubicBezTo>
                  <a:pt x="5216" y="13"/>
                  <a:pt x="5213" y="16"/>
                  <a:pt x="5208" y="16"/>
                </a:cubicBezTo>
                <a:lnTo>
                  <a:pt x="5160" y="16"/>
                </a:lnTo>
                <a:cubicBezTo>
                  <a:pt x="5156" y="16"/>
                  <a:pt x="5152" y="13"/>
                  <a:pt x="5152" y="8"/>
                </a:cubicBezTo>
                <a:cubicBezTo>
                  <a:pt x="5152" y="4"/>
                  <a:pt x="5156" y="0"/>
                  <a:pt x="5160" y="0"/>
                </a:cubicBezTo>
                <a:close/>
                <a:moveTo>
                  <a:pt x="5272" y="0"/>
                </a:moveTo>
                <a:lnTo>
                  <a:pt x="5320" y="0"/>
                </a:lnTo>
                <a:cubicBezTo>
                  <a:pt x="5325" y="0"/>
                  <a:pt x="5328" y="4"/>
                  <a:pt x="5328" y="8"/>
                </a:cubicBezTo>
                <a:cubicBezTo>
                  <a:pt x="5328" y="13"/>
                  <a:pt x="5325" y="16"/>
                  <a:pt x="5320" y="16"/>
                </a:cubicBezTo>
                <a:lnTo>
                  <a:pt x="5272" y="16"/>
                </a:lnTo>
                <a:cubicBezTo>
                  <a:pt x="5268" y="16"/>
                  <a:pt x="5264" y="13"/>
                  <a:pt x="5264" y="8"/>
                </a:cubicBezTo>
                <a:cubicBezTo>
                  <a:pt x="5264" y="4"/>
                  <a:pt x="5268" y="0"/>
                  <a:pt x="5272" y="0"/>
                </a:cubicBezTo>
                <a:close/>
                <a:moveTo>
                  <a:pt x="5384" y="0"/>
                </a:moveTo>
                <a:lnTo>
                  <a:pt x="5432" y="0"/>
                </a:lnTo>
                <a:cubicBezTo>
                  <a:pt x="5437" y="0"/>
                  <a:pt x="5440" y="4"/>
                  <a:pt x="5440" y="8"/>
                </a:cubicBezTo>
                <a:cubicBezTo>
                  <a:pt x="5440" y="13"/>
                  <a:pt x="5437" y="16"/>
                  <a:pt x="5432" y="16"/>
                </a:cubicBezTo>
                <a:lnTo>
                  <a:pt x="5384" y="16"/>
                </a:lnTo>
                <a:cubicBezTo>
                  <a:pt x="5380" y="16"/>
                  <a:pt x="5376" y="13"/>
                  <a:pt x="5376" y="8"/>
                </a:cubicBezTo>
                <a:cubicBezTo>
                  <a:pt x="5376" y="4"/>
                  <a:pt x="5380" y="0"/>
                  <a:pt x="5384" y="0"/>
                </a:cubicBezTo>
                <a:close/>
                <a:moveTo>
                  <a:pt x="5496" y="0"/>
                </a:moveTo>
                <a:lnTo>
                  <a:pt x="5544" y="0"/>
                </a:lnTo>
                <a:cubicBezTo>
                  <a:pt x="5549" y="0"/>
                  <a:pt x="5552" y="4"/>
                  <a:pt x="5552" y="8"/>
                </a:cubicBezTo>
                <a:cubicBezTo>
                  <a:pt x="5552" y="13"/>
                  <a:pt x="5549" y="16"/>
                  <a:pt x="5544" y="16"/>
                </a:cubicBezTo>
                <a:lnTo>
                  <a:pt x="5496" y="16"/>
                </a:lnTo>
                <a:cubicBezTo>
                  <a:pt x="5492" y="16"/>
                  <a:pt x="5488" y="13"/>
                  <a:pt x="5488" y="8"/>
                </a:cubicBezTo>
                <a:cubicBezTo>
                  <a:pt x="5488" y="4"/>
                  <a:pt x="5492" y="0"/>
                  <a:pt x="5496" y="0"/>
                </a:cubicBezTo>
                <a:close/>
                <a:moveTo>
                  <a:pt x="5608" y="0"/>
                </a:moveTo>
                <a:lnTo>
                  <a:pt x="5656" y="0"/>
                </a:lnTo>
                <a:cubicBezTo>
                  <a:pt x="5661" y="0"/>
                  <a:pt x="5664" y="4"/>
                  <a:pt x="5664" y="8"/>
                </a:cubicBezTo>
                <a:cubicBezTo>
                  <a:pt x="5664" y="13"/>
                  <a:pt x="5661" y="16"/>
                  <a:pt x="5656" y="16"/>
                </a:cubicBezTo>
                <a:lnTo>
                  <a:pt x="5608" y="16"/>
                </a:lnTo>
                <a:cubicBezTo>
                  <a:pt x="5604" y="16"/>
                  <a:pt x="5600" y="13"/>
                  <a:pt x="5600" y="8"/>
                </a:cubicBezTo>
                <a:cubicBezTo>
                  <a:pt x="5600" y="4"/>
                  <a:pt x="5604" y="0"/>
                  <a:pt x="5608" y="0"/>
                </a:cubicBezTo>
                <a:close/>
                <a:moveTo>
                  <a:pt x="5720" y="0"/>
                </a:moveTo>
                <a:lnTo>
                  <a:pt x="5768" y="0"/>
                </a:lnTo>
                <a:cubicBezTo>
                  <a:pt x="5773" y="0"/>
                  <a:pt x="5776" y="4"/>
                  <a:pt x="5776" y="8"/>
                </a:cubicBezTo>
                <a:cubicBezTo>
                  <a:pt x="5776" y="13"/>
                  <a:pt x="5773" y="16"/>
                  <a:pt x="5768" y="16"/>
                </a:cubicBezTo>
                <a:lnTo>
                  <a:pt x="5720" y="16"/>
                </a:lnTo>
                <a:cubicBezTo>
                  <a:pt x="5716" y="16"/>
                  <a:pt x="5712" y="13"/>
                  <a:pt x="5712" y="8"/>
                </a:cubicBezTo>
                <a:cubicBezTo>
                  <a:pt x="5712" y="4"/>
                  <a:pt x="5716" y="0"/>
                  <a:pt x="5720" y="0"/>
                </a:cubicBezTo>
                <a:close/>
                <a:moveTo>
                  <a:pt x="5832" y="0"/>
                </a:moveTo>
                <a:lnTo>
                  <a:pt x="5880" y="0"/>
                </a:lnTo>
                <a:cubicBezTo>
                  <a:pt x="5885" y="0"/>
                  <a:pt x="5888" y="4"/>
                  <a:pt x="5888" y="8"/>
                </a:cubicBezTo>
                <a:cubicBezTo>
                  <a:pt x="5888" y="13"/>
                  <a:pt x="5885" y="16"/>
                  <a:pt x="5880" y="16"/>
                </a:cubicBezTo>
                <a:lnTo>
                  <a:pt x="5832" y="16"/>
                </a:lnTo>
                <a:cubicBezTo>
                  <a:pt x="5828" y="16"/>
                  <a:pt x="5824" y="13"/>
                  <a:pt x="5824" y="8"/>
                </a:cubicBezTo>
                <a:cubicBezTo>
                  <a:pt x="5824" y="4"/>
                  <a:pt x="5828" y="0"/>
                  <a:pt x="5832" y="0"/>
                </a:cubicBezTo>
                <a:close/>
                <a:moveTo>
                  <a:pt x="5944" y="0"/>
                </a:moveTo>
                <a:lnTo>
                  <a:pt x="5992" y="0"/>
                </a:lnTo>
                <a:cubicBezTo>
                  <a:pt x="5997" y="0"/>
                  <a:pt x="6000" y="4"/>
                  <a:pt x="6000" y="8"/>
                </a:cubicBezTo>
                <a:cubicBezTo>
                  <a:pt x="6000" y="13"/>
                  <a:pt x="5997" y="16"/>
                  <a:pt x="5992" y="16"/>
                </a:cubicBezTo>
                <a:lnTo>
                  <a:pt x="5944" y="16"/>
                </a:lnTo>
                <a:cubicBezTo>
                  <a:pt x="5940" y="16"/>
                  <a:pt x="5936" y="13"/>
                  <a:pt x="5936" y="8"/>
                </a:cubicBezTo>
                <a:cubicBezTo>
                  <a:pt x="5936" y="4"/>
                  <a:pt x="5940" y="0"/>
                  <a:pt x="5944" y="0"/>
                </a:cubicBezTo>
                <a:close/>
                <a:moveTo>
                  <a:pt x="6056" y="0"/>
                </a:moveTo>
                <a:lnTo>
                  <a:pt x="6104" y="0"/>
                </a:lnTo>
                <a:cubicBezTo>
                  <a:pt x="6109" y="0"/>
                  <a:pt x="6112" y="4"/>
                  <a:pt x="6112" y="8"/>
                </a:cubicBezTo>
                <a:cubicBezTo>
                  <a:pt x="6112" y="13"/>
                  <a:pt x="6109" y="16"/>
                  <a:pt x="6104" y="16"/>
                </a:cubicBezTo>
                <a:lnTo>
                  <a:pt x="6056" y="16"/>
                </a:lnTo>
                <a:cubicBezTo>
                  <a:pt x="6052" y="16"/>
                  <a:pt x="6048" y="13"/>
                  <a:pt x="6048" y="8"/>
                </a:cubicBezTo>
                <a:cubicBezTo>
                  <a:pt x="6048" y="4"/>
                  <a:pt x="6052" y="0"/>
                  <a:pt x="6056" y="0"/>
                </a:cubicBezTo>
                <a:close/>
                <a:moveTo>
                  <a:pt x="6168" y="0"/>
                </a:moveTo>
                <a:lnTo>
                  <a:pt x="6216" y="0"/>
                </a:lnTo>
                <a:cubicBezTo>
                  <a:pt x="6221" y="0"/>
                  <a:pt x="6224" y="4"/>
                  <a:pt x="6224" y="8"/>
                </a:cubicBezTo>
                <a:cubicBezTo>
                  <a:pt x="6224" y="13"/>
                  <a:pt x="6221" y="16"/>
                  <a:pt x="6216" y="16"/>
                </a:cubicBezTo>
                <a:lnTo>
                  <a:pt x="6168" y="16"/>
                </a:lnTo>
                <a:cubicBezTo>
                  <a:pt x="6164" y="16"/>
                  <a:pt x="6160" y="13"/>
                  <a:pt x="6160" y="8"/>
                </a:cubicBezTo>
                <a:cubicBezTo>
                  <a:pt x="6160" y="4"/>
                  <a:pt x="6164" y="0"/>
                  <a:pt x="6168" y="0"/>
                </a:cubicBezTo>
                <a:close/>
                <a:moveTo>
                  <a:pt x="6280" y="0"/>
                </a:moveTo>
                <a:lnTo>
                  <a:pt x="6328" y="0"/>
                </a:lnTo>
                <a:cubicBezTo>
                  <a:pt x="6333" y="0"/>
                  <a:pt x="6336" y="4"/>
                  <a:pt x="6336" y="8"/>
                </a:cubicBezTo>
                <a:cubicBezTo>
                  <a:pt x="6336" y="13"/>
                  <a:pt x="6333" y="16"/>
                  <a:pt x="6328" y="16"/>
                </a:cubicBezTo>
                <a:lnTo>
                  <a:pt x="6280" y="16"/>
                </a:lnTo>
                <a:cubicBezTo>
                  <a:pt x="6276" y="16"/>
                  <a:pt x="6272" y="13"/>
                  <a:pt x="6272" y="8"/>
                </a:cubicBezTo>
                <a:cubicBezTo>
                  <a:pt x="6272" y="4"/>
                  <a:pt x="6276" y="0"/>
                  <a:pt x="6280" y="0"/>
                </a:cubicBezTo>
                <a:close/>
                <a:moveTo>
                  <a:pt x="6392" y="0"/>
                </a:moveTo>
                <a:lnTo>
                  <a:pt x="6440" y="0"/>
                </a:lnTo>
                <a:cubicBezTo>
                  <a:pt x="6445" y="0"/>
                  <a:pt x="6448" y="4"/>
                  <a:pt x="6448" y="8"/>
                </a:cubicBezTo>
                <a:cubicBezTo>
                  <a:pt x="6448" y="13"/>
                  <a:pt x="6445" y="16"/>
                  <a:pt x="6440" y="16"/>
                </a:cubicBezTo>
                <a:lnTo>
                  <a:pt x="6392" y="16"/>
                </a:lnTo>
                <a:cubicBezTo>
                  <a:pt x="6388" y="16"/>
                  <a:pt x="6384" y="13"/>
                  <a:pt x="6384" y="8"/>
                </a:cubicBezTo>
                <a:cubicBezTo>
                  <a:pt x="6384" y="4"/>
                  <a:pt x="6388" y="0"/>
                  <a:pt x="6392" y="0"/>
                </a:cubicBezTo>
                <a:close/>
                <a:moveTo>
                  <a:pt x="6504" y="0"/>
                </a:moveTo>
                <a:lnTo>
                  <a:pt x="6552" y="0"/>
                </a:lnTo>
                <a:cubicBezTo>
                  <a:pt x="6557" y="0"/>
                  <a:pt x="6560" y="4"/>
                  <a:pt x="6560" y="8"/>
                </a:cubicBezTo>
                <a:cubicBezTo>
                  <a:pt x="6560" y="13"/>
                  <a:pt x="6557" y="16"/>
                  <a:pt x="6552" y="16"/>
                </a:cubicBezTo>
                <a:lnTo>
                  <a:pt x="6504" y="16"/>
                </a:lnTo>
                <a:cubicBezTo>
                  <a:pt x="6500" y="16"/>
                  <a:pt x="6496" y="13"/>
                  <a:pt x="6496" y="8"/>
                </a:cubicBezTo>
                <a:cubicBezTo>
                  <a:pt x="6496" y="4"/>
                  <a:pt x="6500" y="0"/>
                  <a:pt x="6504" y="0"/>
                </a:cubicBezTo>
                <a:close/>
                <a:moveTo>
                  <a:pt x="6616" y="0"/>
                </a:moveTo>
                <a:lnTo>
                  <a:pt x="6664" y="0"/>
                </a:lnTo>
                <a:cubicBezTo>
                  <a:pt x="6669" y="0"/>
                  <a:pt x="6672" y="4"/>
                  <a:pt x="6672" y="8"/>
                </a:cubicBezTo>
                <a:cubicBezTo>
                  <a:pt x="6672" y="13"/>
                  <a:pt x="6669" y="16"/>
                  <a:pt x="6664" y="16"/>
                </a:cubicBezTo>
                <a:lnTo>
                  <a:pt x="6616" y="16"/>
                </a:lnTo>
                <a:cubicBezTo>
                  <a:pt x="6612" y="16"/>
                  <a:pt x="6608" y="13"/>
                  <a:pt x="6608" y="8"/>
                </a:cubicBezTo>
                <a:cubicBezTo>
                  <a:pt x="6608" y="4"/>
                  <a:pt x="6612" y="0"/>
                  <a:pt x="6616" y="0"/>
                </a:cubicBezTo>
                <a:close/>
                <a:moveTo>
                  <a:pt x="6728" y="0"/>
                </a:moveTo>
                <a:lnTo>
                  <a:pt x="6776" y="0"/>
                </a:lnTo>
                <a:cubicBezTo>
                  <a:pt x="6781" y="0"/>
                  <a:pt x="6784" y="4"/>
                  <a:pt x="6784" y="8"/>
                </a:cubicBezTo>
                <a:cubicBezTo>
                  <a:pt x="6784" y="13"/>
                  <a:pt x="6781" y="16"/>
                  <a:pt x="6776" y="16"/>
                </a:cubicBezTo>
                <a:lnTo>
                  <a:pt x="6728" y="16"/>
                </a:lnTo>
                <a:cubicBezTo>
                  <a:pt x="6724" y="16"/>
                  <a:pt x="6720" y="13"/>
                  <a:pt x="6720" y="8"/>
                </a:cubicBezTo>
                <a:cubicBezTo>
                  <a:pt x="6720" y="4"/>
                  <a:pt x="6724" y="0"/>
                  <a:pt x="6728" y="0"/>
                </a:cubicBezTo>
                <a:close/>
                <a:moveTo>
                  <a:pt x="6840" y="0"/>
                </a:moveTo>
                <a:lnTo>
                  <a:pt x="6888" y="0"/>
                </a:lnTo>
                <a:cubicBezTo>
                  <a:pt x="6893" y="0"/>
                  <a:pt x="6896" y="4"/>
                  <a:pt x="6896" y="8"/>
                </a:cubicBezTo>
                <a:cubicBezTo>
                  <a:pt x="6896" y="13"/>
                  <a:pt x="6893" y="16"/>
                  <a:pt x="6888" y="16"/>
                </a:cubicBezTo>
                <a:lnTo>
                  <a:pt x="6840" y="16"/>
                </a:lnTo>
                <a:cubicBezTo>
                  <a:pt x="6836" y="16"/>
                  <a:pt x="6832" y="13"/>
                  <a:pt x="6832" y="8"/>
                </a:cubicBezTo>
                <a:cubicBezTo>
                  <a:pt x="6832" y="4"/>
                  <a:pt x="6836" y="0"/>
                  <a:pt x="6840" y="0"/>
                </a:cubicBezTo>
                <a:close/>
                <a:moveTo>
                  <a:pt x="6952" y="0"/>
                </a:moveTo>
                <a:lnTo>
                  <a:pt x="7000" y="0"/>
                </a:lnTo>
                <a:cubicBezTo>
                  <a:pt x="7005" y="0"/>
                  <a:pt x="7008" y="4"/>
                  <a:pt x="7008" y="8"/>
                </a:cubicBezTo>
                <a:cubicBezTo>
                  <a:pt x="7008" y="13"/>
                  <a:pt x="7005" y="16"/>
                  <a:pt x="7000" y="16"/>
                </a:cubicBezTo>
                <a:lnTo>
                  <a:pt x="6952" y="16"/>
                </a:lnTo>
                <a:cubicBezTo>
                  <a:pt x="6948" y="16"/>
                  <a:pt x="6944" y="13"/>
                  <a:pt x="6944" y="8"/>
                </a:cubicBezTo>
                <a:cubicBezTo>
                  <a:pt x="6944" y="4"/>
                  <a:pt x="6948" y="0"/>
                  <a:pt x="6952" y="0"/>
                </a:cubicBezTo>
                <a:close/>
                <a:moveTo>
                  <a:pt x="7064" y="0"/>
                </a:moveTo>
                <a:lnTo>
                  <a:pt x="7112" y="0"/>
                </a:lnTo>
                <a:cubicBezTo>
                  <a:pt x="7117" y="0"/>
                  <a:pt x="7120" y="4"/>
                  <a:pt x="7120" y="8"/>
                </a:cubicBezTo>
                <a:cubicBezTo>
                  <a:pt x="7120" y="13"/>
                  <a:pt x="7117" y="16"/>
                  <a:pt x="7112" y="16"/>
                </a:cubicBezTo>
                <a:lnTo>
                  <a:pt x="7064" y="16"/>
                </a:lnTo>
                <a:cubicBezTo>
                  <a:pt x="7060" y="16"/>
                  <a:pt x="7056" y="13"/>
                  <a:pt x="7056" y="8"/>
                </a:cubicBezTo>
                <a:cubicBezTo>
                  <a:pt x="7056" y="4"/>
                  <a:pt x="7060" y="0"/>
                  <a:pt x="7064" y="0"/>
                </a:cubicBezTo>
                <a:close/>
                <a:moveTo>
                  <a:pt x="7176" y="0"/>
                </a:moveTo>
                <a:lnTo>
                  <a:pt x="7224" y="0"/>
                </a:lnTo>
                <a:cubicBezTo>
                  <a:pt x="7229" y="0"/>
                  <a:pt x="7232" y="4"/>
                  <a:pt x="7232" y="8"/>
                </a:cubicBezTo>
                <a:cubicBezTo>
                  <a:pt x="7232" y="13"/>
                  <a:pt x="7229" y="16"/>
                  <a:pt x="7224" y="16"/>
                </a:cubicBezTo>
                <a:lnTo>
                  <a:pt x="7176" y="16"/>
                </a:lnTo>
                <a:cubicBezTo>
                  <a:pt x="7172" y="16"/>
                  <a:pt x="7168" y="13"/>
                  <a:pt x="7168" y="8"/>
                </a:cubicBezTo>
                <a:cubicBezTo>
                  <a:pt x="7168" y="4"/>
                  <a:pt x="7172" y="0"/>
                  <a:pt x="7176" y="0"/>
                </a:cubicBezTo>
                <a:close/>
                <a:moveTo>
                  <a:pt x="7288" y="0"/>
                </a:moveTo>
                <a:lnTo>
                  <a:pt x="7336" y="0"/>
                </a:lnTo>
                <a:cubicBezTo>
                  <a:pt x="7341" y="0"/>
                  <a:pt x="7344" y="4"/>
                  <a:pt x="7344" y="8"/>
                </a:cubicBezTo>
                <a:cubicBezTo>
                  <a:pt x="7344" y="13"/>
                  <a:pt x="7341" y="16"/>
                  <a:pt x="7336" y="16"/>
                </a:cubicBezTo>
                <a:lnTo>
                  <a:pt x="7288" y="16"/>
                </a:lnTo>
                <a:cubicBezTo>
                  <a:pt x="7284" y="16"/>
                  <a:pt x="7280" y="13"/>
                  <a:pt x="7280" y="8"/>
                </a:cubicBezTo>
                <a:cubicBezTo>
                  <a:pt x="7280" y="4"/>
                  <a:pt x="7284" y="0"/>
                  <a:pt x="7288" y="0"/>
                </a:cubicBezTo>
                <a:close/>
                <a:moveTo>
                  <a:pt x="7400" y="0"/>
                </a:moveTo>
                <a:lnTo>
                  <a:pt x="7448" y="0"/>
                </a:lnTo>
                <a:cubicBezTo>
                  <a:pt x="7453" y="0"/>
                  <a:pt x="7456" y="4"/>
                  <a:pt x="7456" y="8"/>
                </a:cubicBezTo>
                <a:cubicBezTo>
                  <a:pt x="7456" y="13"/>
                  <a:pt x="7453" y="16"/>
                  <a:pt x="7448" y="16"/>
                </a:cubicBezTo>
                <a:lnTo>
                  <a:pt x="7400" y="16"/>
                </a:lnTo>
                <a:cubicBezTo>
                  <a:pt x="7396" y="16"/>
                  <a:pt x="7392" y="13"/>
                  <a:pt x="7392" y="8"/>
                </a:cubicBezTo>
                <a:cubicBezTo>
                  <a:pt x="7392" y="4"/>
                  <a:pt x="7396" y="0"/>
                  <a:pt x="7400" y="0"/>
                </a:cubicBezTo>
                <a:close/>
                <a:moveTo>
                  <a:pt x="7512" y="0"/>
                </a:moveTo>
                <a:lnTo>
                  <a:pt x="7560" y="0"/>
                </a:lnTo>
                <a:cubicBezTo>
                  <a:pt x="7565" y="0"/>
                  <a:pt x="7568" y="4"/>
                  <a:pt x="7568" y="8"/>
                </a:cubicBezTo>
                <a:cubicBezTo>
                  <a:pt x="7568" y="13"/>
                  <a:pt x="7565" y="16"/>
                  <a:pt x="7560" y="16"/>
                </a:cubicBezTo>
                <a:lnTo>
                  <a:pt x="7512" y="16"/>
                </a:lnTo>
                <a:cubicBezTo>
                  <a:pt x="7508" y="16"/>
                  <a:pt x="7504" y="13"/>
                  <a:pt x="7504" y="8"/>
                </a:cubicBezTo>
                <a:cubicBezTo>
                  <a:pt x="7504" y="4"/>
                  <a:pt x="7508" y="0"/>
                  <a:pt x="7512" y="0"/>
                </a:cubicBezTo>
                <a:close/>
                <a:moveTo>
                  <a:pt x="7624" y="0"/>
                </a:moveTo>
                <a:lnTo>
                  <a:pt x="7672" y="0"/>
                </a:lnTo>
                <a:cubicBezTo>
                  <a:pt x="7677" y="0"/>
                  <a:pt x="7680" y="4"/>
                  <a:pt x="7680" y="8"/>
                </a:cubicBezTo>
                <a:cubicBezTo>
                  <a:pt x="7680" y="13"/>
                  <a:pt x="7677" y="16"/>
                  <a:pt x="7672" y="16"/>
                </a:cubicBezTo>
                <a:lnTo>
                  <a:pt x="7624" y="16"/>
                </a:lnTo>
                <a:cubicBezTo>
                  <a:pt x="7620" y="16"/>
                  <a:pt x="7616" y="13"/>
                  <a:pt x="7616" y="8"/>
                </a:cubicBezTo>
                <a:cubicBezTo>
                  <a:pt x="7616" y="4"/>
                  <a:pt x="7620" y="0"/>
                  <a:pt x="7624" y="0"/>
                </a:cubicBezTo>
                <a:close/>
                <a:moveTo>
                  <a:pt x="7736" y="0"/>
                </a:moveTo>
                <a:lnTo>
                  <a:pt x="7784" y="0"/>
                </a:lnTo>
                <a:cubicBezTo>
                  <a:pt x="7789" y="0"/>
                  <a:pt x="7792" y="4"/>
                  <a:pt x="7792" y="8"/>
                </a:cubicBezTo>
                <a:cubicBezTo>
                  <a:pt x="7792" y="13"/>
                  <a:pt x="7789" y="16"/>
                  <a:pt x="7784" y="16"/>
                </a:cubicBezTo>
                <a:lnTo>
                  <a:pt x="7736" y="16"/>
                </a:lnTo>
                <a:cubicBezTo>
                  <a:pt x="7732" y="16"/>
                  <a:pt x="7728" y="13"/>
                  <a:pt x="7728" y="8"/>
                </a:cubicBezTo>
                <a:cubicBezTo>
                  <a:pt x="7728" y="4"/>
                  <a:pt x="7732" y="0"/>
                  <a:pt x="7736" y="0"/>
                </a:cubicBezTo>
                <a:close/>
                <a:moveTo>
                  <a:pt x="7848" y="0"/>
                </a:moveTo>
                <a:lnTo>
                  <a:pt x="7896" y="0"/>
                </a:lnTo>
                <a:cubicBezTo>
                  <a:pt x="7901" y="0"/>
                  <a:pt x="7904" y="4"/>
                  <a:pt x="7904" y="8"/>
                </a:cubicBezTo>
                <a:cubicBezTo>
                  <a:pt x="7904" y="13"/>
                  <a:pt x="7901" y="16"/>
                  <a:pt x="7896" y="16"/>
                </a:cubicBezTo>
                <a:lnTo>
                  <a:pt x="7848" y="16"/>
                </a:lnTo>
                <a:cubicBezTo>
                  <a:pt x="7844" y="16"/>
                  <a:pt x="7840" y="13"/>
                  <a:pt x="7840" y="8"/>
                </a:cubicBezTo>
                <a:cubicBezTo>
                  <a:pt x="7840" y="4"/>
                  <a:pt x="7844" y="0"/>
                  <a:pt x="7848" y="0"/>
                </a:cubicBezTo>
                <a:close/>
                <a:moveTo>
                  <a:pt x="7960" y="0"/>
                </a:moveTo>
                <a:lnTo>
                  <a:pt x="8008" y="0"/>
                </a:lnTo>
                <a:cubicBezTo>
                  <a:pt x="8013" y="0"/>
                  <a:pt x="8016" y="4"/>
                  <a:pt x="8016" y="8"/>
                </a:cubicBezTo>
                <a:cubicBezTo>
                  <a:pt x="8016" y="13"/>
                  <a:pt x="8013" y="16"/>
                  <a:pt x="8008" y="16"/>
                </a:cubicBezTo>
                <a:lnTo>
                  <a:pt x="7960" y="16"/>
                </a:lnTo>
                <a:cubicBezTo>
                  <a:pt x="7956" y="16"/>
                  <a:pt x="7952" y="13"/>
                  <a:pt x="7952" y="8"/>
                </a:cubicBezTo>
                <a:cubicBezTo>
                  <a:pt x="7952" y="4"/>
                  <a:pt x="7956" y="0"/>
                  <a:pt x="7960" y="0"/>
                </a:cubicBezTo>
                <a:close/>
                <a:moveTo>
                  <a:pt x="8072" y="0"/>
                </a:moveTo>
                <a:lnTo>
                  <a:pt x="8088" y="0"/>
                </a:lnTo>
                <a:cubicBezTo>
                  <a:pt x="8093" y="0"/>
                  <a:pt x="8096" y="4"/>
                  <a:pt x="8096" y="8"/>
                </a:cubicBezTo>
                <a:cubicBezTo>
                  <a:pt x="8096" y="13"/>
                  <a:pt x="8093" y="16"/>
                  <a:pt x="8088" y="16"/>
                </a:cubicBezTo>
                <a:lnTo>
                  <a:pt x="8072" y="16"/>
                </a:lnTo>
                <a:cubicBezTo>
                  <a:pt x="8068" y="16"/>
                  <a:pt x="8064" y="13"/>
                  <a:pt x="8064" y="8"/>
                </a:cubicBezTo>
                <a:cubicBezTo>
                  <a:pt x="8064" y="4"/>
                  <a:pt x="8068" y="0"/>
                  <a:pt x="8072" y="0"/>
                </a:cubicBezTo>
                <a:close/>
              </a:path>
            </a:pathLst>
          </a:custGeom>
          <a:solidFill>
            <a:srgbClr val="000000"/>
          </a:solidFill>
          <a:ln w="14400">
            <a:solidFill>
              <a:srgbClr val="ff33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600360" y="529416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Average:-2.9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"/>
          <p:cNvSpPr/>
          <p:nvPr/>
        </p:nvSpPr>
        <p:spPr>
          <a:xfrm>
            <a:off x="5867280" y="623736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tal : 46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700360" y="33336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E41-03 vs ISO362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3" name=""/>
          <p:cNvGrpSpPr/>
          <p:nvPr/>
        </p:nvGrpSpPr>
        <p:grpSpPr>
          <a:xfrm>
            <a:off x="706320" y="1004760"/>
            <a:ext cx="7750440" cy="4902480"/>
            <a:chOff x="706320" y="1004760"/>
            <a:chExt cx="7750440" cy="4902480"/>
          </a:xfrm>
        </p:grpSpPr>
        <p:sp>
          <p:nvSpPr>
            <p:cNvPr id="1324" name=""/>
            <p:cNvSpPr/>
            <p:nvPr/>
          </p:nvSpPr>
          <p:spPr>
            <a:xfrm>
              <a:off x="1442880" y="4865760"/>
              <a:ext cx="6897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442880" y="4576680"/>
              <a:ext cx="6897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442880" y="4287960"/>
              <a:ext cx="6897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442880" y="3997440"/>
              <a:ext cx="6897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442880" y="3708360"/>
              <a:ext cx="6897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442880" y="3419640"/>
              <a:ext cx="6897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442880" y="3130560"/>
              <a:ext cx="6897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442880" y="2827440"/>
              <a:ext cx="6897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442880" y="2536920"/>
              <a:ext cx="6897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442880" y="2247840"/>
              <a:ext cx="6897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442880" y="1959120"/>
              <a:ext cx="6897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442880" y="1670040"/>
              <a:ext cx="6897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442880" y="1380960"/>
              <a:ext cx="6897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442880" y="1092240"/>
              <a:ext cx="6897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442880" y="1092240"/>
              <a:ext cx="6897960" cy="40622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442880" y="1092240"/>
              <a:ext cx="1800" cy="4062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442880" y="515448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442880" y="486576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442880" y="457668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442880" y="428796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442880" y="399744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442880" y="370836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442880" y="341964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442880" y="313056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442880" y="282744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442880" y="253692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442880" y="224784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442880" y="195912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442880" y="167004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442880" y="138096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442880" y="109224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442880" y="5154480"/>
              <a:ext cx="6897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V="1">
              <a:off x="1442880" y="509760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>
              <a:off x="1935000" y="509760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V="1">
              <a:off x="2427120" y="509760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V="1">
              <a:off x="2917800" y="509760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V="1">
              <a:off x="3409920" y="509760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V="1">
              <a:off x="3902040" y="509760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V="1">
              <a:off x="4392720" y="509760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V="1">
              <a:off x="4884840" y="509760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V="1">
              <a:off x="5391000" y="509760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5881680" y="509760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V="1">
              <a:off x="6373800" y="509760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>
              <a:off x="6865920" y="509760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V="1">
              <a:off x="7356600" y="509760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V="1">
              <a:off x="7848720" y="509760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V="1">
              <a:off x="8340840" y="509760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346720" y="4330800"/>
              <a:ext cx="87120" cy="8568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8" y="0"/>
                  </a:moveTo>
                  <a:lnTo>
                    <a:pt x="55" y="27"/>
                  </a:lnTo>
                  <a:lnTo>
                    <a:pt x="28" y="54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838840" y="3622680"/>
              <a:ext cx="87120" cy="8568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7" y="0"/>
                  </a:moveTo>
                  <a:lnTo>
                    <a:pt x="55" y="27"/>
                  </a:lnTo>
                  <a:lnTo>
                    <a:pt x="27" y="54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838840" y="35924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838840" y="3708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821640" y="3071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330960" y="401148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0"/>
                  </a:moveTo>
                  <a:lnTo>
                    <a:pt x="54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346720" y="33177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330960" y="1843200"/>
              <a:ext cx="85680" cy="87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0"/>
                  </a:moveTo>
                  <a:lnTo>
                    <a:pt x="54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330960" y="3144960"/>
              <a:ext cx="85680" cy="87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0"/>
                  </a:moveTo>
                  <a:lnTo>
                    <a:pt x="54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821640" y="2031840"/>
              <a:ext cx="87120" cy="8604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8" y="0"/>
                  </a:moveTo>
                  <a:lnTo>
                    <a:pt x="55" y="27"/>
                  </a:lnTo>
                  <a:lnTo>
                    <a:pt x="28" y="54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821640" y="3303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330960" y="300024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0"/>
                  </a:moveTo>
                  <a:lnTo>
                    <a:pt x="54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821640" y="2349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821640" y="2827440"/>
              <a:ext cx="87120" cy="8568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8" y="0"/>
                  </a:moveTo>
                  <a:lnTo>
                    <a:pt x="55" y="27"/>
                  </a:lnTo>
                  <a:lnTo>
                    <a:pt x="28" y="54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229440" y="2971800"/>
              <a:ext cx="87120" cy="8568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7" y="0"/>
                  </a:moveTo>
                  <a:lnTo>
                    <a:pt x="55" y="27"/>
                  </a:lnTo>
                  <a:lnTo>
                    <a:pt x="27" y="54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754520" y="43592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857760" y="4041720"/>
              <a:ext cx="87120" cy="8568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8" y="0"/>
                  </a:moveTo>
                  <a:lnTo>
                    <a:pt x="55" y="27"/>
                  </a:lnTo>
                  <a:lnTo>
                    <a:pt x="28" y="54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814920" y="48942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713040" y="4692600"/>
              <a:ext cx="87480" cy="8568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7" y="0"/>
                  </a:moveTo>
                  <a:lnTo>
                    <a:pt x="55" y="27"/>
                  </a:lnTo>
                  <a:lnTo>
                    <a:pt x="27" y="54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467160" y="440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670200" y="4532400"/>
              <a:ext cx="85680" cy="87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0"/>
                  </a:moveTo>
                  <a:lnTo>
                    <a:pt x="54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010280" y="181440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0"/>
                  </a:moveTo>
                  <a:lnTo>
                    <a:pt x="54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856040" y="36370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7" y="0"/>
                  </a:moveTo>
                  <a:lnTo>
                    <a:pt x="54" y="27"/>
                  </a:lnTo>
                  <a:lnTo>
                    <a:pt x="27" y="54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575400" y="34052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289480" y="3348000"/>
              <a:ext cx="87480" cy="8568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7" y="0"/>
                  </a:moveTo>
                  <a:lnTo>
                    <a:pt x="55" y="27"/>
                  </a:lnTo>
                  <a:lnTo>
                    <a:pt x="27" y="54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084720" y="2522520"/>
              <a:ext cx="8604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0"/>
                  </a:moveTo>
                  <a:lnTo>
                    <a:pt x="54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898880" y="3521160"/>
              <a:ext cx="87480" cy="8568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7" y="0"/>
                  </a:moveTo>
                  <a:lnTo>
                    <a:pt x="55" y="27"/>
                  </a:lnTo>
                  <a:lnTo>
                    <a:pt x="27" y="54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865920" y="35211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7" y="0"/>
                  </a:moveTo>
                  <a:lnTo>
                    <a:pt x="54" y="27"/>
                  </a:lnTo>
                  <a:lnTo>
                    <a:pt x="27" y="54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764400" y="223344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0"/>
                  </a:moveTo>
                  <a:lnTo>
                    <a:pt x="54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211880" y="24652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346720" y="2031840"/>
              <a:ext cx="87120" cy="8604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8" y="0"/>
                  </a:moveTo>
                  <a:lnTo>
                    <a:pt x="55" y="27"/>
                  </a:lnTo>
                  <a:lnTo>
                    <a:pt x="28" y="54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272280" y="3492360"/>
              <a:ext cx="87120" cy="8604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8" y="0"/>
                  </a:moveTo>
                  <a:lnTo>
                    <a:pt x="55" y="27"/>
                  </a:lnTo>
                  <a:lnTo>
                    <a:pt x="28" y="54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010280" y="2870280"/>
              <a:ext cx="85680" cy="87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0"/>
                  </a:moveTo>
                  <a:lnTo>
                    <a:pt x="54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330960" y="3606840"/>
              <a:ext cx="85680" cy="87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0"/>
                  </a:moveTo>
                  <a:lnTo>
                    <a:pt x="54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704000" y="1973160"/>
              <a:ext cx="8604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0"/>
                  </a:moveTo>
                  <a:lnTo>
                    <a:pt x="54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721560" y="31161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7" y="0"/>
                  </a:moveTo>
                  <a:lnTo>
                    <a:pt x="54" y="27"/>
                  </a:lnTo>
                  <a:lnTo>
                    <a:pt x="27" y="54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330960" y="321804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7" y="0"/>
                  </a:moveTo>
                  <a:lnTo>
                    <a:pt x="54" y="27"/>
                  </a:lnTo>
                  <a:lnTo>
                    <a:pt x="27" y="54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856040" y="392580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7" y="0"/>
                  </a:moveTo>
                  <a:lnTo>
                    <a:pt x="54" y="27"/>
                  </a:lnTo>
                  <a:lnTo>
                    <a:pt x="27" y="54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400040" y="46623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382840" y="47642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307040" y="317340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0"/>
                  </a:moveTo>
                  <a:lnTo>
                    <a:pt x="54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814920" y="41274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874960" y="4186080"/>
              <a:ext cx="87480" cy="8604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7" y="0"/>
                  </a:moveTo>
                  <a:lnTo>
                    <a:pt x="55" y="27"/>
                  </a:lnTo>
                  <a:lnTo>
                    <a:pt x="27" y="54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043600" y="35352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019320" y="448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043600" y="22334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V="1">
              <a:off x="1573200" y="5154120"/>
              <a:ext cx="1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023840" y="50673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023840" y="47782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023840" y="44895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023840" y="42004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023840" y="39117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023840" y="36226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023840" y="33321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023840" y="30430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023840" y="27399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023840" y="24512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023840" y="21621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023840" y="18730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023840" y="15825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023840" y="12938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023840" y="10047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328760" y="5327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819080" y="5327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311200" y="5327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801880" y="5327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294000" y="5327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786120" y="5327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276440" y="5327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768560" y="5327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275080" y="5327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767200" y="5327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257880" y="5327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750000" y="5327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242120" y="5327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732440" y="5327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8224560" y="5327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165560" y="5632560"/>
              <a:ext cx="1422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ECE41-03(d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rot="16200000">
              <a:off x="140760" y="2970720"/>
              <a:ext cx="1405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ISO362-2(d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V="1">
              <a:off x="1508040" y="1098360"/>
              <a:ext cx="6824880" cy="4019400"/>
            </a:xfrm>
            <a:prstGeom prst="line">
              <a:avLst/>
            </a:prstGeom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1" name=""/>
          <p:cNvGrpSpPr/>
          <p:nvPr/>
        </p:nvGrpSpPr>
        <p:grpSpPr>
          <a:xfrm>
            <a:off x="590400" y="260280"/>
            <a:ext cx="8158320" cy="5679360"/>
            <a:chOff x="590400" y="260280"/>
            <a:chExt cx="8158320" cy="5679360"/>
          </a:xfrm>
        </p:grpSpPr>
        <p:sp>
          <p:nvSpPr>
            <p:cNvPr id="1452" name=""/>
            <p:cNvSpPr/>
            <p:nvPr/>
          </p:nvSpPr>
          <p:spPr>
            <a:xfrm>
              <a:off x="1353960" y="4871880"/>
              <a:ext cx="588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353960" y="4578480"/>
              <a:ext cx="588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353960" y="4284720"/>
              <a:ext cx="588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353960" y="3992400"/>
              <a:ext cx="588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353960" y="3699000"/>
              <a:ext cx="588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353960" y="3405240"/>
              <a:ext cx="588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353960" y="3111480"/>
              <a:ext cx="588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353960" y="2817720"/>
              <a:ext cx="588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353960" y="2523960"/>
              <a:ext cx="588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353960" y="2230560"/>
              <a:ext cx="588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353960" y="1938240"/>
              <a:ext cx="588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353960" y="1644480"/>
              <a:ext cx="588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353960" y="1351080"/>
              <a:ext cx="588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353960" y="1057320"/>
              <a:ext cx="588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353960" y="1057320"/>
              <a:ext cx="5882040" cy="410832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353960" y="1057320"/>
              <a:ext cx="1800" cy="4108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353960" y="516564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353960" y="487188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353960" y="457848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353960" y="428472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353960" y="399240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353960" y="369900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353960" y="340524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353960" y="311148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353960" y="281772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353960" y="252396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353960" y="223056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353960" y="193824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353960" y="164448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353960" y="135108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353960" y="105732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353960" y="5165640"/>
              <a:ext cx="588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V="1">
              <a:off x="1353960" y="5106600"/>
              <a:ext cx="18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V="1">
              <a:off x="1771560" y="5106600"/>
              <a:ext cx="18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V="1">
              <a:off x="2189160" y="510660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V="1">
              <a:off x="2608200" y="5106600"/>
              <a:ext cx="18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V="1">
              <a:off x="3040200" y="510660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V="1">
              <a:off x="3459240" y="510660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V="1">
              <a:off x="3876840" y="510660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V="1">
              <a:off x="4294080" y="5106600"/>
              <a:ext cx="18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V="1">
              <a:off x="4711680" y="510660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V="1">
              <a:off x="5130720" y="5106600"/>
              <a:ext cx="18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V="1">
              <a:off x="5548320" y="510660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5981760" y="510660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V="1">
              <a:off x="6399360" y="510660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V="1">
              <a:off x="6816600" y="5106600"/>
              <a:ext cx="18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V="1">
              <a:off x="7236000" y="510660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667400" y="4329000"/>
              <a:ext cx="9036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28" y="0"/>
                  </a:moveTo>
                  <a:lnTo>
                    <a:pt x="57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086440" y="36259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086440" y="35956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086440" y="3699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937120" y="30528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504040" y="4021200"/>
              <a:ext cx="8856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667400" y="3301920"/>
              <a:ext cx="9036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28" y="0"/>
                  </a:moveTo>
                  <a:lnTo>
                    <a:pt x="57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504040" y="1820880"/>
              <a:ext cx="8856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504040" y="3125880"/>
              <a:ext cx="8856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937120" y="20113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937120" y="3301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504040" y="2979720"/>
              <a:ext cx="8856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937120" y="23335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937120" y="28177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429160" y="29494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160880" y="43592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413160" y="4035600"/>
              <a:ext cx="90360" cy="8856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29" y="0"/>
                  </a:moveTo>
                  <a:lnTo>
                    <a:pt x="57" y="28"/>
                  </a:lnTo>
                  <a:lnTo>
                    <a:pt x="29" y="56"/>
                  </a:lnTo>
                  <a:lnTo>
                    <a:pt x="0" y="28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368520" y="4902120"/>
              <a:ext cx="90720" cy="87480"/>
            </a:xfrm>
            <a:custGeom>
              <a:avLst/>
              <a:gdLst/>
              <a:ahLst/>
              <a:rect l="l" t="t" r="r" b="b"/>
              <a:pathLst>
                <a:path w="57" h="55">
                  <a:moveTo>
                    <a:pt x="28" y="0"/>
                  </a:moveTo>
                  <a:lnTo>
                    <a:pt x="57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279600" y="4695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070080" y="4402080"/>
              <a:ext cx="9072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28" y="0"/>
                  </a:moveTo>
                  <a:lnTo>
                    <a:pt x="57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235320" y="453564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100920" y="17906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249800" y="36259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727600" y="33908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622760" y="3332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294160" y="2509920"/>
              <a:ext cx="9072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28" y="0"/>
                  </a:moveTo>
                  <a:lnTo>
                    <a:pt x="57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294080" y="3508200"/>
              <a:ext cx="90720" cy="87480"/>
            </a:xfrm>
            <a:custGeom>
              <a:avLst/>
              <a:gdLst/>
              <a:ahLst/>
              <a:rect l="l" t="t" r="r" b="b"/>
              <a:pathLst>
                <a:path w="57" h="55">
                  <a:moveTo>
                    <a:pt x="28" y="0"/>
                  </a:moveTo>
                  <a:lnTo>
                    <a:pt x="57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965920" y="3508200"/>
              <a:ext cx="90360" cy="87480"/>
            </a:xfrm>
            <a:custGeom>
              <a:avLst/>
              <a:gdLst/>
              <a:ahLst/>
              <a:rect l="l" t="t" r="r" b="b"/>
              <a:pathLst>
                <a:path w="57" h="55">
                  <a:moveTo>
                    <a:pt x="29" y="0"/>
                  </a:moveTo>
                  <a:lnTo>
                    <a:pt x="57" y="27"/>
                  </a:lnTo>
                  <a:lnTo>
                    <a:pt x="29" y="55"/>
                  </a:lnTo>
                  <a:lnTo>
                    <a:pt x="0" y="2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891040" y="2216160"/>
              <a:ext cx="9072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29" y="0"/>
                  </a:moveTo>
                  <a:lnTo>
                    <a:pt x="57" y="28"/>
                  </a:lnTo>
                  <a:lnTo>
                    <a:pt x="29" y="56"/>
                  </a:lnTo>
                  <a:lnTo>
                    <a:pt x="0" y="28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264360" y="2451240"/>
              <a:ext cx="9036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29" y="0"/>
                  </a:moveTo>
                  <a:lnTo>
                    <a:pt x="57" y="28"/>
                  </a:lnTo>
                  <a:lnTo>
                    <a:pt x="29" y="56"/>
                  </a:lnTo>
                  <a:lnTo>
                    <a:pt x="0" y="28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667400" y="2011320"/>
              <a:ext cx="90360" cy="87480"/>
            </a:xfrm>
            <a:custGeom>
              <a:avLst/>
              <a:gdLst/>
              <a:ahLst/>
              <a:rect l="l" t="t" r="r" b="b"/>
              <a:pathLst>
                <a:path w="57" h="55">
                  <a:moveTo>
                    <a:pt x="28" y="0"/>
                  </a:moveTo>
                  <a:lnTo>
                    <a:pt x="57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473800" y="3478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100920" y="28623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504040" y="3595680"/>
              <a:ext cx="8856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683400" y="195264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846760" y="3097080"/>
              <a:ext cx="90360" cy="87480"/>
            </a:xfrm>
            <a:custGeom>
              <a:avLst/>
              <a:gdLst/>
              <a:ahLst/>
              <a:rect l="l" t="t" r="r" b="b"/>
              <a:pathLst>
                <a:path w="57" h="55">
                  <a:moveTo>
                    <a:pt x="28" y="0"/>
                  </a:moveTo>
                  <a:lnTo>
                    <a:pt x="57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504040" y="3214800"/>
              <a:ext cx="8856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249800" y="39178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309680" y="46674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144880" y="4768920"/>
              <a:ext cx="9036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28" y="0"/>
                  </a:moveTo>
                  <a:lnTo>
                    <a:pt x="57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787920" y="31561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368520" y="4124160"/>
              <a:ext cx="90720" cy="87480"/>
            </a:xfrm>
            <a:custGeom>
              <a:avLst/>
              <a:gdLst/>
              <a:ahLst/>
              <a:rect l="l" t="t" r="r" b="b"/>
              <a:pathLst>
                <a:path w="57" h="55">
                  <a:moveTo>
                    <a:pt x="28" y="0"/>
                  </a:moveTo>
                  <a:lnTo>
                    <a:pt x="57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562120" y="4183200"/>
              <a:ext cx="90720" cy="87120"/>
            </a:xfrm>
            <a:custGeom>
              <a:avLst/>
              <a:gdLst/>
              <a:ahLst/>
              <a:rect l="l" t="t" r="r" b="b"/>
              <a:pathLst>
                <a:path w="57" h="55">
                  <a:moveTo>
                    <a:pt x="29" y="0"/>
                  </a:moveTo>
                  <a:lnTo>
                    <a:pt x="57" y="27"/>
                  </a:lnTo>
                  <a:lnTo>
                    <a:pt x="29" y="55"/>
                  </a:lnTo>
                  <a:lnTo>
                    <a:pt x="0" y="2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413240" y="3522600"/>
              <a:ext cx="90360" cy="87480"/>
            </a:xfrm>
            <a:custGeom>
              <a:avLst/>
              <a:gdLst/>
              <a:ahLst/>
              <a:rect l="l" t="t" r="r" b="b"/>
              <a:pathLst>
                <a:path w="57" h="55">
                  <a:moveTo>
                    <a:pt x="29" y="0"/>
                  </a:moveTo>
                  <a:lnTo>
                    <a:pt x="57" y="28"/>
                  </a:lnTo>
                  <a:lnTo>
                    <a:pt x="29" y="55"/>
                  </a:lnTo>
                  <a:lnTo>
                    <a:pt x="0" y="28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697120" y="4491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413240" y="2216160"/>
              <a:ext cx="9036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29" y="0"/>
                  </a:moveTo>
                  <a:lnTo>
                    <a:pt x="57" y="28"/>
                  </a:lnTo>
                  <a:lnTo>
                    <a:pt x="29" y="56"/>
                  </a:lnTo>
                  <a:lnTo>
                    <a:pt x="0" y="28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249200" y="4608360"/>
              <a:ext cx="193680" cy="190800"/>
            </a:xfrm>
            <a:prstGeom prst="ellipse">
              <a:avLst/>
            </a:prstGeom>
            <a:noFill/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V="1">
              <a:off x="1473120" y="5165280"/>
              <a:ext cx="180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922320" y="50767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922320" y="47847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922320" y="44910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922320" y="41972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922320" y="39038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922320" y="36100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922320" y="33163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922320" y="30243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922320" y="27306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922320" y="24368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922320" y="21430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922320" y="18493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922320" y="15559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922320" y="12636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922320" y="9698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234800" y="53420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652400" y="53420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071440" y="53420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489040" y="53420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922480" y="53420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340080" y="53420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757680" y="53420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174920" y="53420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593960" y="53420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011560" y="53420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429160" y="53420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862600" y="53420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280200" y="53420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697440" y="53420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116480" y="53420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554280" y="5649840"/>
              <a:ext cx="1495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ECE41-03(dB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 rot="16200000">
              <a:off x="-3240" y="2931480"/>
              <a:ext cx="1477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ISO362-2(dB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534440" y="2759040"/>
              <a:ext cx="1133280" cy="1101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728120" y="2847960"/>
              <a:ext cx="8856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8024400" y="2817720"/>
              <a:ext cx="19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Al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728120" y="3083040"/>
              <a:ext cx="74520" cy="73080"/>
            </a:xfrm>
            <a:prstGeom prst="ellipse">
              <a:avLst/>
            </a:prstGeom>
            <a:noFill/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8036280" y="3052800"/>
              <a:ext cx="497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Class 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593120" y="3360600"/>
              <a:ext cx="3585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8109000" y="3517920"/>
              <a:ext cx="288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(All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V="1">
              <a:off x="1362240" y="1065240"/>
              <a:ext cx="5879880" cy="4092480"/>
            </a:xfrm>
            <a:prstGeom prst="line">
              <a:avLst/>
            </a:prstGeom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846600" y="3903840"/>
              <a:ext cx="15840" cy="1261800"/>
            </a:xfrm>
            <a:custGeom>
              <a:avLst/>
              <a:gdLst/>
              <a:ahLst/>
              <a:rect l="l" t="t" r="r" b="b"/>
              <a:pathLst>
                <a:path w="16" h="1376">
                  <a:moveTo>
                    <a:pt x="0" y="1368"/>
                  </a:moveTo>
                  <a:lnTo>
                    <a:pt x="0" y="1320"/>
                  </a:lnTo>
                  <a:cubicBezTo>
                    <a:pt x="0" y="1316"/>
                    <a:pt x="4" y="1312"/>
                    <a:pt x="8" y="1312"/>
                  </a:cubicBezTo>
                  <a:cubicBezTo>
                    <a:pt x="13" y="1312"/>
                    <a:pt x="16" y="1316"/>
                    <a:pt x="16" y="1320"/>
                  </a:cubicBezTo>
                  <a:lnTo>
                    <a:pt x="16" y="1368"/>
                  </a:lnTo>
                  <a:cubicBezTo>
                    <a:pt x="16" y="1373"/>
                    <a:pt x="13" y="1376"/>
                    <a:pt x="8" y="1376"/>
                  </a:cubicBezTo>
                  <a:cubicBezTo>
                    <a:pt x="4" y="1376"/>
                    <a:pt x="0" y="1373"/>
                    <a:pt x="0" y="1368"/>
                  </a:cubicBezTo>
                  <a:close/>
                  <a:moveTo>
                    <a:pt x="0" y="1256"/>
                  </a:moveTo>
                  <a:lnTo>
                    <a:pt x="0" y="1208"/>
                  </a:lnTo>
                  <a:cubicBezTo>
                    <a:pt x="0" y="1204"/>
                    <a:pt x="4" y="1200"/>
                    <a:pt x="8" y="1200"/>
                  </a:cubicBezTo>
                  <a:cubicBezTo>
                    <a:pt x="13" y="1200"/>
                    <a:pt x="16" y="1204"/>
                    <a:pt x="16" y="1208"/>
                  </a:cubicBezTo>
                  <a:lnTo>
                    <a:pt x="16" y="1256"/>
                  </a:lnTo>
                  <a:cubicBezTo>
                    <a:pt x="16" y="1261"/>
                    <a:pt x="13" y="1264"/>
                    <a:pt x="8" y="1264"/>
                  </a:cubicBezTo>
                  <a:cubicBezTo>
                    <a:pt x="4" y="1264"/>
                    <a:pt x="0" y="1261"/>
                    <a:pt x="0" y="1256"/>
                  </a:cubicBezTo>
                  <a:close/>
                  <a:moveTo>
                    <a:pt x="0" y="1144"/>
                  </a:moveTo>
                  <a:lnTo>
                    <a:pt x="0" y="1096"/>
                  </a:lnTo>
                  <a:cubicBezTo>
                    <a:pt x="0" y="1092"/>
                    <a:pt x="4" y="1088"/>
                    <a:pt x="8" y="1088"/>
                  </a:cubicBezTo>
                  <a:cubicBezTo>
                    <a:pt x="13" y="1088"/>
                    <a:pt x="16" y="1092"/>
                    <a:pt x="16" y="1096"/>
                  </a:cubicBezTo>
                  <a:lnTo>
                    <a:pt x="16" y="1144"/>
                  </a:lnTo>
                  <a:cubicBezTo>
                    <a:pt x="16" y="1149"/>
                    <a:pt x="13" y="1152"/>
                    <a:pt x="8" y="1152"/>
                  </a:cubicBezTo>
                  <a:cubicBezTo>
                    <a:pt x="4" y="1152"/>
                    <a:pt x="0" y="1149"/>
                    <a:pt x="0" y="1144"/>
                  </a:cubicBezTo>
                  <a:close/>
                  <a:moveTo>
                    <a:pt x="0" y="1032"/>
                  </a:moveTo>
                  <a:lnTo>
                    <a:pt x="0" y="984"/>
                  </a:lnTo>
                  <a:cubicBezTo>
                    <a:pt x="0" y="980"/>
                    <a:pt x="4" y="976"/>
                    <a:pt x="8" y="976"/>
                  </a:cubicBezTo>
                  <a:cubicBezTo>
                    <a:pt x="13" y="976"/>
                    <a:pt x="16" y="980"/>
                    <a:pt x="16" y="984"/>
                  </a:cubicBezTo>
                  <a:lnTo>
                    <a:pt x="16" y="1032"/>
                  </a:lnTo>
                  <a:cubicBezTo>
                    <a:pt x="16" y="1037"/>
                    <a:pt x="13" y="1040"/>
                    <a:pt x="8" y="1040"/>
                  </a:cubicBezTo>
                  <a:cubicBezTo>
                    <a:pt x="4" y="1040"/>
                    <a:pt x="0" y="1037"/>
                    <a:pt x="0" y="1032"/>
                  </a:cubicBezTo>
                  <a:close/>
                  <a:moveTo>
                    <a:pt x="0" y="920"/>
                  </a:moveTo>
                  <a:lnTo>
                    <a:pt x="0" y="872"/>
                  </a:lnTo>
                  <a:cubicBezTo>
                    <a:pt x="0" y="868"/>
                    <a:pt x="4" y="864"/>
                    <a:pt x="8" y="864"/>
                  </a:cubicBezTo>
                  <a:cubicBezTo>
                    <a:pt x="13" y="864"/>
                    <a:pt x="16" y="868"/>
                    <a:pt x="16" y="872"/>
                  </a:cubicBezTo>
                  <a:lnTo>
                    <a:pt x="16" y="920"/>
                  </a:lnTo>
                  <a:cubicBezTo>
                    <a:pt x="16" y="925"/>
                    <a:pt x="13" y="928"/>
                    <a:pt x="8" y="928"/>
                  </a:cubicBezTo>
                  <a:cubicBezTo>
                    <a:pt x="4" y="928"/>
                    <a:pt x="0" y="925"/>
                    <a:pt x="0" y="920"/>
                  </a:cubicBezTo>
                  <a:close/>
                  <a:moveTo>
                    <a:pt x="0" y="808"/>
                  </a:moveTo>
                  <a:lnTo>
                    <a:pt x="0" y="760"/>
                  </a:lnTo>
                  <a:cubicBezTo>
                    <a:pt x="0" y="756"/>
                    <a:pt x="4" y="752"/>
                    <a:pt x="8" y="752"/>
                  </a:cubicBezTo>
                  <a:cubicBezTo>
                    <a:pt x="13" y="752"/>
                    <a:pt x="16" y="756"/>
                    <a:pt x="16" y="760"/>
                  </a:cubicBezTo>
                  <a:lnTo>
                    <a:pt x="16" y="808"/>
                  </a:lnTo>
                  <a:cubicBezTo>
                    <a:pt x="16" y="813"/>
                    <a:pt x="13" y="816"/>
                    <a:pt x="8" y="816"/>
                  </a:cubicBezTo>
                  <a:cubicBezTo>
                    <a:pt x="4" y="816"/>
                    <a:pt x="0" y="813"/>
                    <a:pt x="0" y="808"/>
                  </a:cubicBezTo>
                  <a:close/>
                  <a:moveTo>
                    <a:pt x="0" y="696"/>
                  </a:moveTo>
                  <a:lnTo>
                    <a:pt x="0" y="648"/>
                  </a:lnTo>
                  <a:cubicBezTo>
                    <a:pt x="0" y="644"/>
                    <a:pt x="4" y="640"/>
                    <a:pt x="8" y="640"/>
                  </a:cubicBezTo>
                  <a:cubicBezTo>
                    <a:pt x="13" y="640"/>
                    <a:pt x="16" y="644"/>
                    <a:pt x="16" y="648"/>
                  </a:cubicBezTo>
                  <a:lnTo>
                    <a:pt x="16" y="696"/>
                  </a:lnTo>
                  <a:cubicBezTo>
                    <a:pt x="16" y="701"/>
                    <a:pt x="13" y="704"/>
                    <a:pt x="8" y="704"/>
                  </a:cubicBezTo>
                  <a:cubicBezTo>
                    <a:pt x="4" y="704"/>
                    <a:pt x="0" y="701"/>
                    <a:pt x="0" y="696"/>
                  </a:cubicBezTo>
                  <a:close/>
                  <a:moveTo>
                    <a:pt x="0" y="584"/>
                  </a:moveTo>
                  <a:lnTo>
                    <a:pt x="0" y="536"/>
                  </a:lnTo>
                  <a:cubicBezTo>
                    <a:pt x="0" y="532"/>
                    <a:pt x="4" y="528"/>
                    <a:pt x="8" y="528"/>
                  </a:cubicBezTo>
                  <a:cubicBezTo>
                    <a:pt x="13" y="528"/>
                    <a:pt x="16" y="532"/>
                    <a:pt x="16" y="536"/>
                  </a:cubicBezTo>
                  <a:lnTo>
                    <a:pt x="16" y="584"/>
                  </a:lnTo>
                  <a:cubicBezTo>
                    <a:pt x="16" y="589"/>
                    <a:pt x="13" y="592"/>
                    <a:pt x="8" y="592"/>
                  </a:cubicBezTo>
                  <a:cubicBezTo>
                    <a:pt x="4" y="592"/>
                    <a:pt x="0" y="589"/>
                    <a:pt x="0" y="584"/>
                  </a:cubicBezTo>
                  <a:close/>
                  <a:moveTo>
                    <a:pt x="0" y="472"/>
                  </a:moveTo>
                  <a:lnTo>
                    <a:pt x="0" y="424"/>
                  </a:lnTo>
                  <a:cubicBezTo>
                    <a:pt x="0" y="420"/>
                    <a:pt x="4" y="416"/>
                    <a:pt x="8" y="416"/>
                  </a:cubicBezTo>
                  <a:cubicBezTo>
                    <a:pt x="13" y="416"/>
                    <a:pt x="16" y="420"/>
                    <a:pt x="16" y="424"/>
                  </a:cubicBezTo>
                  <a:lnTo>
                    <a:pt x="16" y="472"/>
                  </a:lnTo>
                  <a:cubicBezTo>
                    <a:pt x="16" y="477"/>
                    <a:pt x="13" y="480"/>
                    <a:pt x="8" y="480"/>
                  </a:cubicBezTo>
                  <a:cubicBezTo>
                    <a:pt x="4" y="480"/>
                    <a:pt x="0" y="477"/>
                    <a:pt x="0" y="472"/>
                  </a:cubicBezTo>
                  <a:close/>
                  <a:moveTo>
                    <a:pt x="0" y="360"/>
                  </a:moveTo>
                  <a:lnTo>
                    <a:pt x="0" y="312"/>
                  </a:lnTo>
                  <a:cubicBezTo>
                    <a:pt x="0" y="308"/>
                    <a:pt x="4" y="304"/>
                    <a:pt x="8" y="304"/>
                  </a:cubicBezTo>
                  <a:cubicBezTo>
                    <a:pt x="13" y="304"/>
                    <a:pt x="16" y="308"/>
                    <a:pt x="16" y="312"/>
                  </a:cubicBezTo>
                  <a:lnTo>
                    <a:pt x="16" y="360"/>
                  </a:lnTo>
                  <a:cubicBezTo>
                    <a:pt x="16" y="365"/>
                    <a:pt x="13" y="368"/>
                    <a:pt x="8" y="368"/>
                  </a:cubicBezTo>
                  <a:cubicBezTo>
                    <a:pt x="4" y="368"/>
                    <a:pt x="0" y="365"/>
                    <a:pt x="0" y="360"/>
                  </a:cubicBezTo>
                  <a:close/>
                  <a:moveTo>
                    <a:pt x="0" y="248"/>
                  </a:moveTo>
                  <a:lnTo>
                    <a:pt x="0" y="200"/>
                  </a:lnTo>
                  <a:cubicBezTo>
                    <a:pt x="0" y="196"/>
                    <a:pt x="4" y="192"/>
                    <a:pt x="8" y="192"/>
                  </a:cubicBezTo>
                  <a:cubicBezTo>
                    <a:pt x="13" y="192"/>
                    <a:pt x="16" y="196"/>
                    <a:pt x="16" y="200"/>
                  </a:cubicBezTo>
                  <a:lnTo>
                    <a:pt x="16" y="248"/>
                  </a:lnTo>
                  <a:cubicBezTo>
                    <a:pt x="16" y="253"/>
                    <a:pt x="13" y="256"/>
                    <a:pt x="8" y="256"/>
                  </a:cubicBezTo>
                  <a:cubicBezTo>
                    <a:pt x="4" y="256"/>
                    <a:pt x="0" y="253"/>
                    <a:pt x="0" y="248"/>
                  </a:cubicBezTo>
                  <a:close/>
                  <a:moveTo>
                    <a:pt x="0" y="136"/>
                  </a:moveTo>
                  <a:lnTo>
                    <a:pt x="0" y="88"/>
                  </a:lnTo>
                  <a:cubicBezTo>
                    <a:pt x="0" y="84"/>
                    <a:pt x="4" y="80"/>
                    <a:pt x="8" y="80"/>
                  </a:cubicBezTo>
                  <a:cubicBezTo>
                    <a:pt x="13" y="80"/>
                    <a:pt x="16" y="84"/>
                    <a:pt x="16" y="88"/>
                  </a:cubicBezTo>
                  <a:lnTo>
                    <a:pt x="16" y="136"/>
                  </a:lnTo>
                  <a:cubicBezTo>
                    <a:pt x="16" y="141"/>
                    <a:pt x="13" y="144"/>
                    <a:pt x="8" y="144"/>
                  </a:cubicBezTo>
                  <a:cubicBezTo>
                    <a:pt x="4" y="144"/>
                    <a:pt x="0" y="141"/>
                    <a:pt x="0" y="136"/>
                  </a:cubicBezTo>
                  <a:close/>
                  <a:moveTo>
                    <a:pt x="0" y="24"/>
                  </a:moveTo>
                  <a:lnTo>
                    <a:pt x="0" y="8"/>
                  </a:lnTo>
                  <a:cubicBezTo>
                    <a:pt x="0" y="4"/>
                    <a:pt x="4" y="0"/>
                    <a:pt x="8" y="0"/>
                  </a:cubicBezTo>
                  <a:cubicBezTo>
                    <a:pt x="13" y="0"/>
                    <a:pt x="16" y="4"/>
                    <a:pt x="16" y="8"/>
                  </a:cubicBezTo>
                  <a:lnTo>
                    <a:pt x="16" y="24"/>
                  </a:lnTo>
                  <a:cubicBezTo>
                    <a:pt x="16" y="29"/>
                    <a:pt x="13" y="32"/>
                    <a:pt x="8" y="32"/>
                  </a:cubicBezTo>
                  <a:cubicBezTo>
                    <a:pt x="4" y="32"/>
                    <a:pt x="0" y="29"/>
                    <a:pt x="0" y="24"/>
                  </a:cubicBezTo>
                  <a:close/>
                </a:path>
              </a:pathLst>
            </a:custGeom>
            <a:solidFill>
              <a:srgbClr val="000000"/>
            </a:solidFill>
            <a:ln w="144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1398600" y="3903840"/>
              <a:ext cx="2463840" cy="14040"/>
            </a:xfrm>
            <a:custGeom>
              <a:avLst/>
              <a:gdLst/>
              <a:ahLst/>
              <a:rect l="l" t="t" r="r" b="b"/>
              <a:pathLst>
                <a:path w="2640" h="16">
                  <a:moveTo>
                    <a:pt x="2632" y="16"/>
                  </a:moveTo>
                  <a:lnTo>
                    <a:pt x="2584" y="16"/>
                  </a:lnTo>
                  <a:cubicBezTo>
                    <a:pt x="2580" y="16"/>
                    <a:pt x="2576" y="13"/>
                    <a:pt x="2576" y="8"/>
                  </a:cubicBezTo>
                  <a:cubicBezTo>
                    <a:pt x="2576" y="4"/>
                    <a:pt x="2580" y="0"/>
                    <a:pt x="2584" y="0"/>
                  </a:cubicBezTo>
                  <a:lnTo>
                    <a:pt x="2632" y="0"/>
                  </a:lnTo>
                  <a:cubicBezTo>
                    <a:pt x="2637" y="0"/>
                    <a:pt x="2640" y="4"/>
                    <a:pt x="2640" y="8"/>
                  </a:cubicBezTo>
                  <a:cubicBezTo>
                    <a:pt x="2640" y="13"/>
                    <a:pt x="2637" y="16"/>
                    <a:pt x="2632" y="16"/>
                  </a:cubicBezTo>
                  <a:close/>
                  <a:moveTo>
                    <a:pt x="2520" y="16"/>
                  </a:moveTo>
                  <a:lnTo>
                    <a:pt x="2472" y="16"/>
                  </a:lnTo>
                  <a:cubicBezTo>
                    <a:pt x="2468" y="16"/>
                    <a:pt x="2464" y="13"/>
                    <a:pt x="2464" y="8"/>
                  </a:cubicBezTo>
                  <a:cubicBezTo>
                    <a:pt x="2464" y="4"/>
                    <a:pt x="2468" y="0"/>
                    <a:pt x="2472" y="0"/>
                  </a:cubicBezTo>
                  <a:lnTo>
                    <a:pt x="2520" y="0"/>
                  </a:lnTo>
                  <a:cubicBezTo>
                    <a:pt x="2525" y="0"/>
                    <a:pt x="2528" y="4"/>
                    <a:pt x="2528" y="8"/>
                  </a:cubicBezTo>
                  <a:cubicBezTo>
                    <a:pt x="2528" y="13"/>
                    <a:pt x="2525" y="16"/>
                    <a:pt x="2520" y="16"/>
                  </a:cubicBezTo>
                  <a:close/>
                  <a:moveTo>
                    <a:pt x="2408" y="16"/>
                  </a:moveTo>
                  <a:lnTo>
                    <a:pt x="2360" y="16"/>
                  </a:lnTo>
                  <a:cubicBezTo>
                    <a:pt x="2356" y="16"/>
                    <a:pt x="2352" y="13"/>
                    <a:pt x="2352" y="8"/>
                  </a:cubicBezTo>
                  <a:cubicBezTo>
                    <a:pt x="2352" y="4"/>
                    <a:pt x="2356" y="0"/>
                    <a:pt x="2360" y="0"/>
                  </a:cubicBezTo>
                  <a:lnTo>
                    <a:pt x="2408" y="0"/>
                  </a:lnTo>
                  <a:cubicBezTo>
                    <a:pt x="2413" y="0"/>
                    <a:pt x="2416" y="4"/>
                    <a:pt x="2416" y="8"/>
                  </a:cubicBezTo>
                  <a:cubicBezTo>
                    <a:pt x="2416" y="13"/>
                    <a:pt x="2413" y="16"/>
                    <a:pt x="2408" y="16"/>
                  </a:cubicBezTo>
                  <a:close/>
                  <a:moveTo>
                    <a:pt x="2296" y="16"/>
                  </a:moveTo>
                  <a:lnTo>
                    <a:pt x="2248" y="16"/>
                  </a:lnTo>
                  <a:cubicBezTo>
                    <a:pt x="2244" y="16"/>
                    <a:pt x="2240" y="13"/>
                    <a:pt x="2240" y="8"/>
                  </a:cubicBezTo>
                  <a:cubicBezTo>
                    <a:pt x="2240" y="4"/>
                    <a:pt x="2244" y="0"/>
                    <a:pt x="2248" y="0"/>
                  </a:cubicBezTo>
                  <a:lnTo>
                    <a:pt x="2296" y="0"/>
                  </a:lnTo>
                  <a:cubicBezTo>
                    <a:pt x="2301" y="0"/>
                    <a:pt x="2304" y="4"/>
                    <a:pt x="2304" y="8"/>
                  </a:cubicBezTo>
                  <a:cubicBezTo>
                    <a:pt x="2304" y="13"/>
                    <a:pt x="2301" y="16"/>
                    <a:pt x="2296" y="16"/>
                  </a:cubicBezTo>
                  <a:close/>
                  <a:moveTo>
                    <a:pt x="2184" y="16"/>
                  </a:moveTo>
                  <a:lnTo>
                    <a:pt x="2136" y="16"/>
                  </a:lnTo>
                  <a:cubicBezTo>
                    <a:pt x="2132" y="16"/>
                    <a:pt x="2128" y="13"/>
                    <a:pt x="2128" y="8"/>
                  </a:cubicBezTo>
                  <a:cubicBezTo>
                    <a:pt x="2128" y="4"/>
                    <a:pt x="2132" y="0"/>
                    <a:pt x="2136" y="0"/>
                  </a:cubicBezTo>
                  <a:lnTo>
                    <a:pt x="2184" y="0"/>
                  </a:lnTo>
                  <a:cubicBezTo>
                    <a:pt x="2189" y="0"/>
                    <a:pt x="2192" y="4"/>
                    <a:pt x="2192" y="8"/>
                  </a:cubicBezTo>
                  <a:cubicBezTo>
                    <a:pt x="2192" y="13"/>
                    <a:pt x="2189" y="16"/>
                    <a:pt x="2184" y="16"/>
                  </a:cubicBezTo>
                  <a:close/>
                  <a:moveTo>
                    <a:pt x="2072" y="16"/>
                  </a:moveTo>
                  <a:lnTo>
                    <a:pt x="2024" y="16"/>
                  </a:lnTo>
                  <a:cubicBezTo>
                    <a:pt x="2020" y="16"/>
                    <a:pt x="2016" y="13"/>
                    <a:pt x="2016" y="8"/>
                  </a:cubicBezTo>
                  <a:cubicBezTo>
                    <a:pt x="2016" y="4"/>
                    <a:pt x="2020" y="0"/>
                    <a:pt x="2024" y="0"/>
                  </a:cubicBezTo>
                  <a:lnTo>
                    <a:pt x="2072" y="0"/>
                  </a:lnTo>
                  <a:cubicBezTo>
                    <a:pt x="2077" y="0"/>
                    <a:pt x="2080" y="4"/>
                    <a:pt x="2080" y="8"/>
                  </a:cubicBezTo>
                  <a:cubicBezTo>
                    <a:pt x="2080" y="13"/>
                    <a:pt x="2077" y="16"/>
                    <a:pt x="2072" y="16"/>
                  </a:cubicBezTo>
                  <a:close/>
                  <a:moveTo>
                    <a:pt x="1960" y="16"/>
                  </a:moveTo>
                  <a:lnTo>
                    <a:pt x="1912" y="16"/>
                  </a:lnTo>
                  <a:cubicBezTo>
                    <a:pt x="1908" y="16"/>
                    <a:pt x="1904" y="13"/>
                    <a:pt x="1904" y="8"/>
                  </a:cubicBezTo>
                  <a:cubicBezTo>
                    <a:pt x="1904" y="4"/>
                    <a:pt x="1908" y="0"/>
                    <a:pt x="1912" y="0"/>
                  </a:cubicBezTo>
                  <a:lnTo>
                    <a:pt x="1960" y="0"/>
                  </a:lnTo>
                  <a:cubicBezTo>
                    <a:pt x="1965" y="0"/>
                    <a:pt x="1968" y="4"/>
                    <a:pt x="1968" y="8"/>
                  </a:cubicBezTo>
                  <a:cubicBezTo>
                    <a:pt x="1968" y="13"/>
                    <a:pt x="1965" y="16"/>
                    <a:pt x="1960" y="16"/>
                  </a:cubicBezTo>
                  <a:close/>
                  <a:moveTo>
                    <a:pt x="1848" y="16"/>
                  </a:moveTo>
                  <a:lnTo>
                    <a:pt x="1800" y="16"/>
                  </a:lnTo>
                  <a:cubicBezTo>
                    <a:pt x="1796" y="16"/>
                    <a:pt x="1792" y="13"/>
                    <a:pt x="1792" y="8"/>
                  </a:cubicBezTo>
                  <a:cubicBezTo>
                    <a:pt x="1792" y="4"/>
                    <a:pt x="1796" y="0"/>
                    <a:pt x="1800" y="0"/>
                  </a:cubicBezTo>
                  <a:lnTo>
                    <a:pt x="1848" y="0"/>
                  </a:lnTo>
                  <a:cubicBezTo>
                    <a:pt x="1853" y="0"/>
                    <a:pt x="1856" y="4"/>
                    <a:pt x="1856" y="8"/>
                  </a:cubicBezTo>
                  <a:cubicBezTo>
                    <a:pt x="1856" y="13"/>
                    <a:pt x="1853" y="16"/>
                    <a:pt x="1848" y="16"/>
                  </a:cubicBezTo>
                  <a:close/>
                  <a:moveTo>
                    <a:pt x="1736" y="16"/>
                  </a:moveTo>
                  <a:lnTo>
                    <a:pt x="1688" y="16"/>
                  </a:lnTo>
                  <a:cubicBezTo>
                    <a:pt x="1684" y="16"/>
                    <a:pt x="1680" y="13"/>
                    <a:pt x="1680" y="8"/>
                  </a:cubicBezTo>
                  <a:cubicBezTo>
                    <a:pt x="1680" y="4"/>
                    <a:pt x="1684" y="0"/>
                    <a:pt x="1688" y="0"/>
                  </a:cubicBezTo>
                  <a:lnTo>
                    <a:pt x="1736" y="0"/>
                  </a:lnTo>
                  <a:cubicBezTo>
                    <a:pt x="1741" y="0"/>
                    <a:pt x="1744" y="4"/>
                    <a:pt x="1744" y="8"/>
                  </a:cubicBezTo>
                  <a:cubicBezTo>
                    <a:pt x="1744" y="13"/>
                    <a:pt x="1741" y="16"/>
                    <a:pt x="1736" y="16"/>
                  </a:cubicBezTo>
                  <a:close/>
                  <a:moveTo>
                    <a:pt x="1624" y="16"/>
                  </a:moveTo>
                  <a:lnTo>
                    <a:pt x="1576" y="16"/>
                  </a:lnTo>
                  <a:cubicBezTo>
                    <a:pt x="1572" y="16"/>
                    <a:pt x="1568" y="13"/>
                    <a:pt x="1568" y="8"/>
                  </a:cubicBezTo>
                  <a:cubicBezTo>
                    <a:pt x="1568" y="4"/>
                    <a:pt x="1572" y="0"/>
                    <a:pt x="1576" y="0"/>
                  </a:cubicBezTo>
                  <a:lnTo>
                    <a:pt x="1624" y="0"/>
                  </a:lnTo>
                  <a:cubicBezTo>
                    <a:pt x="1629" y="0"/>
                    <a:pt x="1632" y="4"/>
                    <a:pt x="1632" y="8"/>
                  </a:cubicBezTo>
                  <a:cubicBezTo>
                    <a:pt x="1632" y="13"/>
                    <a:pt x="1629" y="16"/>
                    <a:pt x="1624" y="16"/>
                  </a:cubicBezTo>
                  <a:close/>
                  <a:moveTo>
                    <a:pt x="1512" y="16"/>
                  </a:moveTo>
                  <a:lnTo>
                    <a:pt x="1464" y="16"/>
                  </a:lnTo>
                  <a:cubicBezTo>
                    <a:pt x="1460" y="16"/>
                    <a:pt x="1456" y="13"/>
                    <a:pt x="1456" y="8"/>
                  </a:cubicBezTo>
                  <a:cubicBezTo>
                    <a:pt x="1456" y="4"/>
                    <a:pt x="1460" y="0"/>
                    <a:pt x="1464" y="0"/>
                  </a:cubicBezTo>
                  <a:lnTo>
                    <a:pt x="1512" y="0"/>
                  </a:lnTo>
                  <a:cubicBezTo>
                    <a:pt x="1517" y="0"/>
                    <a:pt x="1520" y="4"/>
                    <a:pt x="1520" y="8"/>
                  </a:cubicBezTo>
                  <a:cubicBezTo>
                    <a:pt x="1520" y="13"/>
                    <a:pt x="1517" y="16"/>
                    <a:pt x="1512" y="16"/>
                  </a:cubicBezTo>
                  <a:close/>
                  <a:moveTo>
                    <a:pt x="1400" y="16"/>
                  </a:moveTo>
                  <a:lnTo>
                    <a:pt x="1352" y="16"/>
                  </a:lnTo>
                  <a:cubicBezTo>
                    <a:pt x="1348" y="16"/>
                    <a:pt x="1344" y="13"/>
                    <a:pt x="1344" y="8"/>
                  </a:cubicBezTo>
                  <a:cubicBezTo>
                    <a:pt x="1344" y="4"/>
                    <a:pt x="1348" y="0"/>
                    <a:pt x="1352" y="0"/>
                  </a:cubicBezTo>
                  <a:lnTo>
                    <a:pt x="1400" y="0"/>
                  </a:lnTo>
                  <a:cubicBezTo>
                    <a:pt x="1405" y="0"/>
                    <a:pt x="1408" y="4"/>
                    <a:pt x="1408" y="8"/>
                  </a:cubicBezTo>
                  <a:cubicBezTo>
                    <a:pt x="1408" y="13"/>
                    <a:pt x="1405" y="16"/>
                    <a:pt x="1400" y="16"/>
                  </a:cubicBezTo>
                  <a:close/>
                  <a:moveTo>
                    <a:pt x="1288" y="16"/>
                  </a:moveTo>
                  <a:lnTo>
                    <a:pt x="1240" y="16"/>
                  </a:lnTo>
                  <a:cubicBezTo>
                    <a:pt x="1236" y="16"/>
                    <a:pt x="1232" y="13"/>
                    <a:pt x="1232" y="8"/>
                  </a:cubicBezTo>
                  <a:cubicBezTo>
                    <a:pt x="1232" y="4"/>
                    <a:pt x="1236" y="0"/>
                    <a:pt x="1240" y="0"/>
                  </a:cubicBezTo>
                  <a:lnTo>
                    <a:pt x="1288" y="0"/>
                  </a:lnTo>
                  <a:cubicBezTo>
                    <a:pt x="1293" y="0"/>
                    <a:pt x="1296" y="4"/>
                    <a:pt x="1296" y="8"/>
                  </a:cubicBezTo>
                  <a:cubicBezTo>
                    <a:pt x="1296" y="13"/>
                    <a:pt x="1293" y="16"/>
                    <a:pt x="1288" y="16"/>
                  </a:cubicBezTo>
                  <a:close/>
                  <a:moveTo>
                    <a:pt x="1176" y="16"/>
                  </a:moveTo>
                  <a:lnTo>
                    <a:pt x="1128" y="16"/>
                  </a:lnTo>
                  <a:cubicBezTo>
                    <a:pt x="1124" y="16"/>
                    <a:pt x="1120" y="13"/>
                    <a:pt x="1120" y="8"/>
                  </a:cubicBezTo>
                  <a:cubicBezTo>
                    <a:pt x="1120" y="4"/>
                    <a:pt x="1124" y="0"/>
                    <a:pt x="1128" y="0"/>
                  </a:cubicBezTo>
                  <a:lnTo>
                    <a:pt x="1176" y="0"/>
                  </a:lnTo>
                  <a:cubicBezTo>
                    <a:pt x="1181" y="0"/>
                    <a:pt x="1184" y="4"/>
                    <a:pt x="1184" y="8"/>
                  </a:cubicBezTo>
                  <a:cubicBezTo>
                    <a:pt x="1184" y="13"/>
                    <a:pt x="1181" y="16"/>
                    <a:pt x="1176" y="16"/>
                  </a:cubicBezTo>
                  <a:close/>
                  <a:moveTo>
                    <a:pt x="1064" y="16"/>
                  </a:moveTo>
                  <a:lnTo>
                    <a:pt x="1016" y="16"/>
                  </a:lnTo>
                  <a:cubicBezTo>
                    <a:pt x="1012" y="16"/>
                    <a:pt x="1008" y="13"/>
                    <a:pt x="1008" y="8"/>
                  </a:cubicBezTo>
                  <a:cubicBezTo>
                    <a:pt x="1008" y="4"/>
                    <a:pt x="1012" y="0"/>
                    <a:pt x="1016" y="0"/>
                  </a:cubicBezTo>
                  <a:lnTo>
                    <a:pt x="1064" y="0"/>
                  </a:lnTo>
                  <a:cubicBezTo>
                    <a:pt x="1069" y="0"/>
                    <a:pt x="1072" y="4"/>
                    <a:pt x="1072" y="8"/>
                  </a:cubicBezTo>
                  <a:cubicBezTo>
                    <a:pt x="1072" y="13"/>
                    <a:pt x="1069" y="16"/>
                    <a:pt x="1064" y="16"/>
                  </a:cubicBezTo>
                  <a:close/>
                  <a:moveTo>
                    <a:pt x="952" y="16"/>
                  </a:moveTo>
                  <a:lnTo>
                    <a:pt x="904" y="16"/>
                  </a:lnTo>
                  <a:cubicBezTo>
                    <a:pt x="900" y="16"/>
                    <a:pt x="896" y="13"/>
                    <a:pt x="896" y="8"/>
                  </a:cubicBezTo>
                  <a:cubicBezTo>
                    <a:pt x="896" y="4"/>
                    <a:pt x="900" y="0"/>
                    <a:pt x="904" y="0"/>
                  </a:cubicBezTo>
                  <a:lnTo>
                    <a:pt x="952" y="0"/>
                  </a:lnTo>
                  <a:cubicBezTo>
                    <a:pt x="957" y="0"/>
                    <a:pt x="960" y="4"/>
                    <a:pt x="960" y="8"/>
                  </a:cubicBezTo>
                  <a:cubicBezTo>
                    <a:pt x="960" y="13"/>
                    <a:pt x="957" y="16"/>
                    <a:pt x="952" y="16"/>
                  </a:cubicBezTo>
                  <a:close/>
                  <a:moveTo>
                    <a:pt x="840" y="16"/>
                  </a:moveTo>
                  <a:lnTo>
                    <a:pt x="792" y="16"/>
                  </a:lnTo>
                  <a:cubicBezTo>
                    <a:pt x="788" y="16"/>
                    <a:pt x="784" y="13"/>
                    <a:pt x="784" y="8"/>
                  </a:cubicBezTo>
                  <a:cubicBezTo>
                    <a:pt x="784" y="4"/>
                    <a:pt x="788" y="0"/>
                    <a:pt x="792" y="0"/>
                  </a:cubicBezTo>
                  <a:lnTo>
                    <a:pt x="840" y="0"/>
                  </a:lnTo>
                  <a:cubicBezTo>
                    <a:pt x="845" y="0"/>
                    <a:pt x="848" y="4"/>
                    <a:pt x="848" y="8"/>
                  </a:cubicBezTo>
                  <a:cubicBezTo>
                    <a:pt x="848" y="13"/>
                    <a:pt x="845" y="16"/>
                    <a:pt x="840" y="16"/>
                  </a:cubicBezTo>
                  <a:close/>
                  <a:moveTo>
                    <a:pt x="728" y="16"/>
                  </a:moveTo>
                  <a:lnTo>
                    <a:pt x="680" y="16"/>
                  </a:lnTo>
                  <a:cubicBezTo>
                    <a:pt x="676" y="16"/>
                    <a:pt x="672" y="13"/>
                    <a:pt x="672" y="8"/>
                  </a:cubicBezTo>
                  <a:cubicBezTo>
                    <a:pt x="672" y="4"/>
                    <a:pt x="676" y="0"/>
                    <a:pt x="680" y="0"/>
                  </a:cubicBezTo>
                  <a:lnTo>
                    <a:pt x="728" y="0"/>
                  </a:lnTo>
                  <a:cubicBezTo>
                    <a:pt x="733" y="0"/>
                    <a:pt x="736" y="4"/>
                    <a:pt x="736" y="8"/>
                  </a:cubicBezTo>
                  <a:cubicBezTo>
                    <a:pt x="736" y="13"/>
                    <a:pt x="733" y="16"/>
                    <a:pt x="728" y="16"/>
                  </a:cubicBezTo>
                  <a:close/>
                  <a:moveTo>
                    <a:pt x="616" y="16"/>
                  </a:moveTo>
                  <a:lnTo>
                    <a:pt x="568" y="16"/>
                  </a:lnTo>
                  <a:cubicBezTo>
                    <a:pt x="564" y="16"/>
                    <a:pt x="560" y="13"/>
                    <a:pt x="560" y="8"/>
                  </a:cubicBezTo>
                  <a:cubicBezTo>
                    <a:pt x="560" y="4"/>
                    <a:pt x="564" y="0"/>
                    <a:pt x="568" y="0"/>
                  </a:cubicBezTo>
                  <a:lnTo>
                    <a:pt x="616" y="0"/>
                  </a:lnTo>
                  <a:cubicBezTo>
                    <a:pt x="621" y="0"/>
                    <a:pt x="624" y="4"/>
                    <a:pt x="624" y="8"/>
                  </a:cubicBezTo>
                  <a:cubicBezTo>
                    <a:pt x="624" y="13"/>
                    <a:pt x="621" y="16"/>
                    <a:pt x="616" y="16"/>
                  </a:cubicBezTo>
                  <a:close/>
                  <a:moveTo>
                    <a:pt x="504" y="16"/>
                  </a:moveTo>
                  <a:lnTo>
                    <a:pt x="456" y="16"/>
                  </a:lnTo>
                  <a:cubicBezTo>
                    <a:pt x="452" y="16"/>
                    <a:pt x="448" y="13"/>
                    <a:pt x="448" y="8"/>
                  </a:cubicBezTo>
                  <a:cubicBezTo>
                    <a:pt x="448" y="4"/>
                    <a:pt x="452" y="0"/>
                    <a:pt x="456" y="0"/>
                  </a:cubicBezTo>
                  <a:lnTo>
                    <a:pt x="504" y="0"/>
                  </a:lnTo>
                  <a:cubicBezTo>
                    <a:pt x="509" y="0"/>
                    <a:pt x="512" y="4"/>
                    <a:pt x="512" y="8"/>
                  </a:cubicBezTo>
                  <a:cubicBezTo>
                    <a:pt x="512" y="13"/>
                    <a:pt x="509" y="16"/>
                    <a:pt x="504" y="16"/>
                  </a:cubicBezTo>
                  <a:close/>
                  <a:moveTo>
                    <a:pt x="392" y="16"/>
                  </a:moveTo>
                  <a:lnTo>
                    <a:pt x="344" y="16"/>
                  </a:lnTo>
                  <a:cubicBezTo>
                    <a:pt x="340" y="16"/>
                    <a:pt x="336" y="13"/>
                    <a:pt x="336" y="8"/>
                  </a:cubicBezTo>
                  <a:cubicBezTo>
                    <a:pt x="336" y="4"/>
                    <a:pt x="340" y="0"/>
                    <a:pt x="344" y="0"/>
                  </a:cubicBezTo>
                  <a:lnTo>
                    <a:pt x="392" y="0"/>
                  </a:lnTo>
                  <a:cubicBezTo>
                    <a:pt x="397" y="0"/>
                    <a:pt x="400" y="4"/>
                    <a:pt x="400" y="8"/>
                  </a:cubicBezTo>
                  <a:cubicBezTo>
                    <a:pt x="400" y="13"/>
                    <a:pt x="397" y="16"/>
                    <a:pt x="392" y="16"/>
                  </a:cubicBezTo>
                  <a:close/>
                  <a:moveTo>
                    <a:pt x="280" y="16"/>
                  </a:moveTo>
                  <a:lnTo>
                    <a:pt x="232" y="16"/>
                  </a:lnTo>
                  <a:cubicBezTo>
                    <a:pt x="228" y="16"/>
                    <a:pt x="224" y="13"/>
                    <a:pt x="224" y="8"/>
                  </a:cubicBezTo>
                  <a:cubicBezTo>
                    <a:pt x="224" y="4"/>
                    <a:pt x="228" y="0"/>
                    <a:pt x="232" y="0"/>
                  </a:cubicBezTo>
                  <a:lnTo>
                    <a:pt x="280" y="0"/>
                  </a:lnTo>
                  <a:cubicBezTo>
                    <a:pt x="285" y="0"/>
                    <a:pt x="288" y="4"/>
                    <a:pt x="288" y="8"/>
                  </a:cubicBezTo>
                  <a:cubicBezTo>
                    <a:pt x="288" y="13"/>
                    <a:pt x="285" y="16"/>
                    <a:pt x="280" y="16"/>
                  </a:cubicBezTo>
                  <a:close/>
                  <a:moveTo>
                    <a:pt x="168" y="16"/>
                  </a:moveTo>
                  <a:lnTo>
                    <a:pt x="120" y="16"/>
                  </a:lnTo>
                  <a:cubicBezTo>
                    <a:pt x="116" y="16"/>
                    <a:pt x="112" y="13"/>
                    <a:pt x="112" y="8"/>
                  </a:cubicBezTo>
                  <a:cubicBezTo>
                    <a:pt x="112" y="4"/>
                    <a:pt x="116" y="0"/>
                    <a:pt x="120" y="0"/>
                  </a:cubicBezTo>
                  <a:lnTo>
                    <a:pt x="168" y="0"/>
                  </a:lnTo>
                  <a:cubicBezTo>
                    <a:pt x="173" y="0"/>
                    <a:pt x="176" y="4"/>
                    <a:pt x="176" y="8"/>
                  </a:cubicBezTo>
                  <a:cubicBezTo>
                    <a:pt x="176" y="13"/>
                    <a:pt x="173" y="16"/>
                    <a:pt x="168" y="16"/>
                  </a:cubicBezTo>
                  <a:close/>
                  <a:moveTo>
                    <a:pt x="56" y="16"/>
                  </a:moveTo>
                  <a:lnTo>
                    <a:pt x="8" y="16"/>
                  </a:lnTo>
                  <a:cubicBezTo>
                    <a:pt x="4" y="16"/>
                    <a:pt x="0" y="13"/>
                    <a:pt x="0" y="8"/>
                  </a:cubicBezTo>
                  <a:cubicBezTo>
                    <a:pt x="0" y="4"/>
                    <a:pt x="4" y="0"/>
                    <a:pt x="8" y="0"/>
                  </a:cubicBezTo>
                  <a:lnTo>
                    <a:pt x="56" y="0"/>
                  </a:lnTo>
                  <a:cubicBezTo>
                    <a:pt x="61" y="0"/>
                    <a:pt x="64" y="4"/>
                    <a:pt x="64" y="8"/>
                  </a:cubicBezTo>
                  <a:cubicBezTo>
                    <a:pt x="64" y="13"/>
                    <a:pt x="61" y="16"/>
                    <a:pt x="56" y="16"/>
                  </a:cubicBezTo>
                  <a:close/>
                </a:path>
              </a:pathLst>
            </a:custGeom>
            <a:solidFill>
              <a:srgbClr val="000000"/>
            </a:solidFill>
            <a:ln w="144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981920" y="3265560"/>
              <a:ext cx="7668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ine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059280" y="260280"/>
              <a:ext cx="25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lass I (≦80c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V="1">
              <a:off x="1332000" y="2421000"/>
              <a:ext cx="5472000" cy="27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2" name=""/>
          <p:cNvGrpSpPr/>
          <p:nvPr/>
        </p:nvGrpSpPr>
        <p:grpSpPr>
          <a:xfrm>
            <a:off x="274680" y="260280"/>
            <a:ext cx="8545320" cy="6023520"/>
            <a:chOff x="274680" y="260280"/>
            <a:chExt cx="8545320" cy="6023520"/>
          </a:xfrm>
        </p:grpSpPr>
        <p:sp>
          <p:nvSpPr>
            <p:cNvPr id="1593" name=""/>
            <p:cNvSpPr/>
            <p:nvPr/>
          </p:nvSpPr>
          <p:spPr>
            <a:xfrm>
              <a:off x="3059280" y="260280"/>
              <a:ext cx="30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lass II (&gt;80, ≦175cc)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896240" y="3429000"/>
              <a:ext cx="347760" cy="18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783560" y="3416400"/>
              <a:ext cx="7668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ine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1060560" y="5156280"/>
              <a:ext cx="6056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1060560" y="4844880"/>
              <a:ext cx="6056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1060560" y="4535640"/>
              <a:ext cx="6056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060560" y="4224240"/>
              <a:ext cx="6056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1060560" y="3913200"/>
              <a:ext cx="6056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1060560" y="3603600"/>
              <a:ext cx="6056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060560" y="3292560"/>
              <a:ext cx="6056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060560" y="2982960"/>
              <a:ext cx="6056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060560" y="2671920"/>
              <a:ext cx="6056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060560" y="2362320"/>
              <a:ext cx="6056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060560" y="2050920"/>
              <a:ext cx="6056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060560" y="1741320"/>
              <a:ext cx="6056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1060560" y="1430280"/>
              <a:ext cx="6056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060560" y="1120680"/>
              <a:ext cx="6056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060560" y="1120680"/>
              <a:ext cx="6056280" cy="434520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060560" y="1120680"/>
              <a:ext cx="1440" cy="434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060560" y="5465880"/>
              <a:ext cx="61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060560" y="5156280"/>
              <a:ext cx="61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060560" y="4844880"/>
              <a:ext cx="61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060560" y="4535640"/>
              <a:ext cx="61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060560" y="4224240"/>
              <a:ext cx="61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060560" y="3913200"/>
              <a:ext cx="61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060560" y="3603600"/>
              <a:ext cx="61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060560" y="3292560"/>
              <a:ext cx="61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060560" y="2982960"/>
              <a:ext cx="61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060560" y="2671920"/>
              <a:ext cx="61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060560" y="2362320"/>
              <a:ext cx="61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1060560" y="2050920"/>
              <a:ext cx="61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060560" y="1741320"/>
              <a:ext cx="61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1060560" y="1430280"/>
              <a:ext cx="61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060560" y="1120680"/>
              <a:ext cx="61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060560" y="5465880"/>
              <a:ext cx="6056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V="1">
              <a:off x="1060560" y="5403960"/>
              <a:ext cx="1440" cy="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V="1">
              <a:off x="1490760" y="5403960"/>
              <a:ext cx="1440" cy="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V="1">
              <a:off x="1920960" y="5403960"/>
              <a:ext cx="1440" cy="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V="1">
              <a:off x="2351160" y="5403960"/>
              <a:ext cx="1440" cy="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2797200" y="5403960"/>
              <a:ext cx="1440" cy="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V="1">
              <a:off x="3227400" y="5403960"/>
              <a:ext cx="1440" cy="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V="1">
              <a:off x="3657600" y="5403960"/>
              <a:ext cx="1440" cy="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4087800" y="5403960"/>
              <a:ext cx="1440" cy="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>
              <a:off x="4519440" y="5403960"/>
              <a:ext cx="1800" cy="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V="1">
              <a:off x="4950000" y="5403960"/>
              <a:ext cx="1440" cy="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5380200" y="5403960"/>
              <a:ext cx="1440" cy="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V="1">
              <a:off x="5826240" y="5403960"/>
              <a:ext cx="1440" cy="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V="1">
              <a:off x="6256440" y="5403960"/>
              <a:ext cx="1440" cy="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6686640" y="5403960"/>
              <a:ext cx="1440" cy="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V="1">
              <a:off x="7116840" y="5403960"/>
              <a:ext cx="1440" cy="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473720" y="4581360"/>
              <a:ext cx="91800" cy="9396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29"/>
                  </a:lnTo>
                  <a:lnTo>
                    <a:pt x="29" y="59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903920" y="3836880"/>
              <a:ext cx="9180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29" y="0"/>
                  </a:moveTo>
                  <a:lnTo>
                    <a:pt x="58" y="29"/>
                  </a:lnTo>
                  <a:lnTo>
                    <a:pt x="29" y="58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903920" y="3805200"/>
              <a:ext cx="9180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29"/>
                  </a:lnTo>
                  <a:lnTo>
                    <a:pt x="29" y="59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903920" y="3913200"/>
              <a:ext cx="9180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30"/>
                  </a:lnTo>
                  <a:lnTo>
                    <a:pt x="29" y="59"/>
                  </a:lnTo>
                  <a:lnTo>
                    <a:pt x="0" y="3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780160" y="323064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30"/>
                  </a:lnTo>
                  <a:lnTo>
                    <a:pt x="29" y="59"/>
                  </a:lnTo>
                  <a:lnTo>
                    <a:pt x="0" y="3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334120" y="4255920"/>
              <a:ext cx="9180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29" y="0"/>
                  </a:moveTo>
                  <a:lnTo>
                    <a:pt x="58" y="29"/>
                  </a:lnTo>
                  <a:lnTo>
                    <a:pt x="29" y="58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473720" y="3494160"/>
              <a:ext cx="9180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30"/>
                  </a:lnTo>
                  <a:lnTo>
                    <a:pt x="29" y="59"/>
                  </a:lnTo>
                  <a:lnTo>
                    <a:pt x="0" y="3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334120" y="1927080"/>
              <a:ext cx="91800" cy="9396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29"/>
                  </a:lnTo>
                  <a:lnTo>
                    <a:pt x="29" y="59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334120" y="3308400"/>
              <a:ext cx="9180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29"/>
                  </a:lnTo>
                  <a:lnTo>
                    <a:pt x="29" y="59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780160" y="2128680"/>
              <a:ext cx="92160" cy="9396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29"/>
                  </a:lnTo>
                  <a:lnTo>
                    <a:pt x="29" y="59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780160" y="349416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30"/>
                  </a:lnTo>
                  <a:lnTo>
                    <a:pt x="29" y="59"/>
                  </a:lnTo>
                  <a:lnTo>
                    <a:pt x="0" y="3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334120" y="3152880"/>
              <a:ext cx="9180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30"/>
                  </a:lnTo>
                  <a:lnTo>
                    <a:pt x="29" y="59"/>
                  </a:lnTo>
                  <a:lnTo>
                    <a:pt x="0" y="3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780160" y="247032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29"/>
                  </a:lnTo>
                  <a:lnTo>
                    <a:pt x="29" y="59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5780160" y="298296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29" y="0"/>
                  </a:moveTo>
                  <a:lnTo>
                    <a:pt x="58" y="29"/>
                  </a:lnTo>
                  <a:lnTo>
                    <a:pt x="29" y="58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256360" y="3122640"/>
              <a:ext cx="9180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29" y="0"/>
                  </a:moveTo>
                  <a:lnTo>
                    <a:pt x="58" y="29"/>
                  </a:lnTo>
                  <a:lnTo>
                    <a:pt x="29" y="58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949560" y="461160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30"/>
                  </a:lnTo>
                  <a:lnTo>
                    <a:pt x="29" y="59"/>
                  </a:lnTo>
                  <a:lnTo>
                    <a:pt x="0" y="3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181320" y="427032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30"/>
                  </a:lnTo>
                  <a:lnTo>
                    <a:pt x="29" y="59"/>
                  </a:lnTo>
                  <a:lnTo>
                    <a:pt x="0" y="3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135240" y="518652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30"/>
                  </a:lnTo>
                  <a:lnTo>
                    <a:pt x="29" y="59"/>
                  </a:lnTo>
                  <a:lnTo>
                    <a:pt x="0" y="3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043080" y="4968720"/>
              <a:ext cx="92160" cy="9396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30"/>
                  </a:lnTo>
                  <a:lnTo>
                    <a:pt x="29" y="59"/>
                  </a:lnTo>
                  <a:lnTo>
                    <a:pt x="0" y="3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827440" y="4659480"/>
              <a:ext cx="93600" cy="9180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30" y="0"/>
                  </a:moveTo>
                  <a:lnTo>
                    <a:pt x="59" y="29"/>
                  </a:lnTo>
                  <a:lnTo>
                    <a:pt x="30" y="58"/>
                  </a:lnTo>
                  <a:lnTo>
                    <a:pt x="0" y="2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997360" y="4799160"/>
              <a:ext cx="9180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29" y="0"/>
                  </a:moveTo>
                  <a:lnTo>
                    <a:pt x="58" y="29"/>
                  </a:lnTo>
                  <a:lnTo>
                    <a:pt x="29" y="58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948280" y="189540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30"/>
                  </a:lnTo>
                  <a:lnTo>
                    <a:pt x="29" y="59"/>
                  </a:lnTo>
                  <a:lnTo>
                    <a:pt x="0" y="3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041720" y="3836880"/>
              <a:ext cx="93600" cy="9216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29" y="0"/>
                  </a:moveTo>
                  <a:lnTo>
                    <a:pt x="59" y="29"/>
                  </a:lnTo>
                  <a:lnTo>
                    <a:pt x="29" y="58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564160" y="358776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29"/>
                  </a:lnTo>
                  <a:lnTo>
                    <a:pt x="29" y="59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425840" y="3525840"/>
              <a:ext cx="93600" cy="9360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30" y="0"/>
                  </a:moveTo>
                  <a:lnTo>
                    <a:pt x="59" y="29"/>
                  </a:lnTo>
                  <a:lnTo>
                    <a:pt x="30" y="59"/>
                  </a:lnTo>
                  <a:lnTo>
                    <a:pt x="0" y="2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118120" y="2655720"/>
              <a:ext cx="92160" cy="9396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30"/>
                  </a:lnTo>
                  <a:lnTo>
                    <a:pt x="29" y="59"/>
                  </a:lnTo>
                  <a:lnTo>
                    <a:pt x="0" y="3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087800" y="3711600"/>
              <a:ext cx="93600" cy="9360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30" y="0"/>
                  </a:moveTo>
                  <a:lnTo>
                    <a:pt x="59" y="30"/>
                  </a:lnTo>
                  <a:lnTo>
                    <a:pt x="30" y="59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810400" y="3711600"/>
              <a:ext cx="9180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30"/>
                  </a:lnTo>
                  <a:lnTo>
                    <a:pt x="29" y="59"/>
                  </a:lnTo>
                  <a:lnTo>
                    <a:pt x="0" y="3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732640" y="2346480"/>
              <a:ext cx="93600" cy="9360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30" y="0"/>
                  </a:moveTo>
                  <a:lnTo>
                    <a:pt x="59" y="29"/>
                  </a:lnTo>
                  <a:lnTo>
                    <a:pt x="30" y="59"/>
                  </a:lnTo>
                  <a:lnTo>
                    <a:pt x="0" y="2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118200" y="2593800"/>
              <a:ext cx="92160" cy="9396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30"/>
                  </a:lnTo>
                  <a:lnTo>
                    <a:pt x="29" y="59"/>
                  </a:lnTo>
                  <a:lnTo>
                    <a:pt x="0" y="3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473720" y="2128680"/>
              <a:ext cx="91800" cy="9396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29"/>
                  </a:lnTo>
                  <a:lnTo>
                    <a:pt x="29" y="59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302080" y="368136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29" y="0"/>
                  </a:moveTo>
                  <a:lnTo>
                    <a:pt x="58" y="29"/>
                  </a:lnTo>
                  <a:lnTo>
                    <a:pt x="29" y="58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948280" y="302904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29"/>
                  </a:lnTo>
                  <a:lnTo>
                    <a:pt x="29" y="59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334120" y="3805200"/>
              <a:ext cx="9180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29"/>
                  </a:lnTo>
                  <a:lnTo>
                    <a:pt x="29" y="59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548400" y="2066760"/>
              <a:ext cx="92160" cy="9396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29"/>
                  </a:lnTo>
                  <a:lnTo>
                    <a:pt x="29" y="59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686560" y="3278160"/>
              <a:ext cx="93600" cy="9216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29" y="0"/>
                  </a:moveTo>
                  <a:lnTo>
                    <a:pt x="59" y="29"/>
                  </a:lnTo>
                  <a:lnTo>
                    <a:pt x="29" y="58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334120" y="3402000"/>
              <a:ext cx="9180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29" y="0"/>
                  </a:moveTo>
                  <a:lnTo>
                    <a:pt x="58" y="29"/>
                  </a:lnTo>
                  <a:lnTo>
                    <a:pt x="29" y="58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041720" y="4146480"/>
              <a:ext cx="93600" cy="9360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29" y="0"/>
                  </a:moveTo>
                  <a:lnTo>
                    <a:pt x="59" y="29"/>
                  </a:lnTo>
                  <a:lnTo>
                    <a:pt x="29" y="59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014480" y="493884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29" y="0"/>
                  </a:moveTo>
                  <a:lnTo>
                    <a:pt x="58" y="29"/>
                  </a:lnTo>
                  <a:lnTo>
                    <a:pt x="29" y="58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874880" y="504684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30"/>
                  </a:lnTo>
                  <a:lnTo>
                    <a:pt x="29" y="59"/>
                  </a:lnTo>
                  <a:lnTo>
                    <a:pt x="0" y="3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565440" y="334008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29" y="0"/>
                  </a:moveTo>
                  <a:lnTo>
                    <a:pt x="58" y="29"/>
                  </a:lnTo>
                  <a:lnTo>
                    <a:pt x="29" y="58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135240" y="4363920"/>
              <a:ext cx="92160" cy="9396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29"/>
                  </a:lnTo>
                  <a:lnTo>
                    <a:pt x="29" y="59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305080" y="442584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29"/>
                  </a:lnTo>
                  <a:lnTo>
                    <a:pt x="29" y="59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211640" y="372744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29"/>
                  </a:lnTo>
                  <a:lnTo>
                    <a:pt x="29" y="59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2443320" y="4751280"/>
              <a:ext cx="93600" cy="9360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29" y="0"/>
                  </a:moveTo>
                  <a:lnTo>
                    <a:pt x="59" y="30"/>
                  </a:lnTo>
                  <a:lnTo>
                    <a:pt x="29" y="59"/>
                  </a:lnTo>
                  <a:lnTo>
                    <a:pt x="0" y="3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4211640" y="234648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29" y="0"/>
                  </a:moveTo>
                  <a:lnTo>
                    <a:pt x="58" y="29"/>
                  </a:lnTo>
                  <a:lnTo>
                    <a:pt x="29" y="59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889440" y="4549680"/>
              <a:ext cx="198360" cy="20160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119400" y="4208400"/>
              <a:ext cx="200160" cy="20160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073320" y="5124600"/>
              <a:ext cx="200160" cy="20160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981160" y="4906800"/>
              <a:ext cx="200160" cy="20160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766960" y="4597560"/>
              <a:ext cx="200160" cy="20160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935440" y="4737240"/>
              <a:ext cx="199800" cy="20160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411800" y="2066760"/>
              <a:ext cx="199800" cy="20160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505320" y="3278160"/>
              <a:ext cx="198360" cy="20160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3073320" y="4302000"/>
              <a:ext cx="200160" cy="20160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244600" y="4363920"/>
              <a:ext cx="198720" cy="20160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149720" y="3665520"/>
              <a:ext cx="200160" cy="20160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382840" y="4689360"/>
              <a:ext cx="200160" cy="20160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149720" y="2284560"/>
              <a:ext cx="200160" cy="20160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V="1">
              <a:off x="1182600" y="5465880"/>
              <a:ext cx="180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14520" y="537372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14520" y="50626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14520" y="47512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14520" y="44416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14520" y="413064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14520" y="382104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14520" y="351000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5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14520" y="320040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6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14520" y="288936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14520" y="257976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8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14520" y="226836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14520" y="195732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14520" y="164772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14520" y="13366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14520" y="10270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936720" y="56530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366920" y="56530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797120" y="56530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228760" y="56530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673360" y="56530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3103560" y="56530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535560" y="56530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5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965760" y="56530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6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395960" y="56530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826160" y="56530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8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256360" y="56530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702400" y="56530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132600" y="56530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562800" y="56530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993000" y="56530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3318840" y="5978520"/>
              <a:ext cx="1588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ECE41-03(d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 rot="16200000">
              <a:off x="-356760" y="3106440"/>
              <a:ext cx="156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ISO362-2(d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424640" y="2921040"/>
              <a:ext cx="1395360" cy="1228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623000" y="3013200"/>
              <a:ext cx="93960" cy="9360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29" y="0"/>
                  </a:moveTo>
                  <a:lnTo>
                    <a:pt x="59" y="30"/>
                  </a:lnTo>
                  <a:lnTo>
                    <a:pt x="29" y="59"/>
                  </a:lnTo>
                  <a:lnTo>
                    <a:pt x="0" y="3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930800" y="2982960"/>
              <a:ext cx="20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A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623000" y="3262320"/>
              <a:ext cx="78120" cy="7776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957440" y="3230640"/>
              <a:ext cx="597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Class 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485120" y="3557520"/>
              <a:ext cx="36972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8028000" y="3460680"/>
              <a:ext cx="6476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Linear (All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V="1">
              <a:off x="1068480" y="1127160"/>
              <a:ext cx="6056280" cy="433080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503600" y="3681360"/>
              <a:ext cx="15840" cy="1784520"/>
            </a:xfrm>
            <a:custGeom>
              <a:avLst/>
              <a:gdLst/>
              <a:ahLst/>
              <a:rect l="l" t="t" r="r" b="b"/>
              <a:pathLst>
                <a:path w="16" h="1840">
                  <a:moveTo>
                    <a:pt x="0" y="1832"/>
                  </a:moveTo>
                  <a:lnTo>
                    <a:pt x="0" y="1784"/>
                  </a:lnTo>
                  <a:cubicBezTo>
                    <a:pt x="0" y="1780"/>
                    <a:pt x="4" y="1776"/>
                    <a:pt x="8" y="1776"/>
                  </a:cubicBezTo>
                  <a:cubicBezTo>
                    <a:pt x="13" y="1776"/>
                    <a:pt x="16" y="1780"/>
                    <a:pt x="16" y="1784"/>
                  </a:cubicBezTo>
                  <a:lnTo>
                    <a:pt x="16" y="1832"/>
                  </a:lnTo>
                  <a:cubicBezTo>
                    <a:pt x="16" y="1837"/>
                    <a:pt x="13" y="1840"/>
                    <a:pt x="8" y="1840"/>
                  </a:cubicBezTo>
                  <a:cubicBezTo>
                    <a:pt x="4" y="1840"/>
                    <a:pt x="0" y="1837"/>
                    <a:pt x="0" y="1832"/>
                  </a:cubicBezTo>
                  <a:close/>
                  <a:moveTo>
                    <a:pt x="0" y="1720"/>
                  </a:moveTo>
                  <a:lnTo>
                    <a:pt x="0" y="1672"/>
                  </a:lnTo>
                  <a:cubicBezTo>
                    <a:pt x="0" y="1668"/>
                    <a:pt x="4" y="1664"/>
                    <a:pt x="8" y="1664"/>
                  </a:cubicBezTo>
                  <a:cubicBezTo>
                    <a:pt x="13" y="1664"/>
                    <a:pt x="16" y="1668"/>
                    <a:pt x="16" y="1672"/>
                  </a:cubicBezTo>
                  <a:lnTo>
                    <a:pt x="16" y="1720"/>
                  </a:lnTo>
                  <a:cubicBezTo>
                    <a:pt x="16" y="1725"/>
                    <a:pt x="13" y="1728"/>
                    <a:pt x="8" y="1728"/>
                  </a:cubicBezTo>
                  <a:cubicBezTo>
                    <a:pt x="4" y="1728"/>
                    <a:pt x="0" y="1725"/>
                    <a:pt x="0" y="1720"/>
                  </a:cubicBezTo>
                  <a:close/>
                  <a:moveTo>
                    <a:pt x="0" y="1608"/>
                  </a:moveTo>
                  <a:lnTo>
                    <a:pt x="0" y="1560"/>
                  </a:lnTo>
                  <a:cubicBezTo>
                    <a:pt x="0" y="1556"/>
                    <a:pt x="4" y="1552"/>
                    <a:pt x="8" y="1552"/>
                  </a:cubicBezTo>
                  <a:cubicBezTo>
                    <a:pt x="13" y="1552"/>
                    <a:pt x="16" y="1556"/>
                    <a:pt x="16" y="1560"/>
                  </a:cubicBezTo>
                  <a:lnTo>
                    <a:pt x="16" y="1608"/>
                  </a:lnTo>
                  <a:cubicBezTo>
                    <a:pt x="16" y="1613"/>
                    <a:pt x="13" y="1616"/>
                    <a:pt x="8" y="1616"/>
                  </a:cubicBezTo>
                  <a:cubicBezTo>
                    <a:pt x="4" y="1616"/>
                    <a:pt x="0" y="1613"/>
                    <a:pt x="0" y="1608"/>
                  </a:cubicBezTo>
                  <a:close/>
                  <a:moveTo>
                    <a:pt x="0" y="1496"/>
                  </a:moveTo>
                  <a:lnTo>
                    <a:pt x="0" y="1448"/>
                  </a:lnTo>
                  <a:cubicBezTo>
                    <a:pt x="0" y="1444"/>
                    <a:pt x="4" y="1440"/>
                    <a:pt x="8" y="1440"/>
                  </a:cubicBezTo>
                  <a:cubicBezTo>
                    <a:pt x="13" y="1440"/>
                    <a:pt x="16" y="1444"/>
                    <a:pt x="16" y="1448"/>
                  </a:cubicBezTo>
                  <a:lnTo>
                    <a:pt x="16" y="1496"/>
                  </a:lnTo>
                  <a:cubicBezTo>
                    <a:pt x="16" y="1501"/>
                    <a:pt x="13" y="1504"/>
                    <a:pt x="8" y="1504"/>
                  </a:cubicBezTo>
                  <a:cubicBezTo>
                    <a:pt x="4" y="1504"/>
                    <a:pt x="0" y="1501"/>
                    <a:pt x="0" y="1496"/>
                  </a:cubicBezTo>
                  <a:close/>
                  <a:moveTo>
                    <a:pt x="0" y="1384"/>
                  </a:moveTo>
                  <a:lnTo>
                    <a:pt x="0" y="1336"/>
                  </a:lnTo>
                  <a:cubicBezTo>
                    <a:pt x="0" y="1332"/>
                    <a:pt x="4" y="1328"/>
                    <a:pt x="8" y="1328"/>
                  </a:cubicBezTo>
                  <a:cubicBezTo>
                    <a:pt x="13" y="1328"/>
                    <a:pt x="16" y="1332"/>
                    <a:pt x="16" y="1336"/>
                  </a:cubicBezTo>
                  <a:lnTo>
                    <a:pt x="16" y="1384"/>
                  </a:lnTo>
                  <a:cubicBezTo>
                    <a:pt x="16" y="1389"/>
                    <a:pt x="13" y="1392"/>
                    <a:pt x="8" y="1392"/>
                  </a:cubicBezTo>
                  <a:cubicBezTo>
                    <a:pt x="4" y="1392"/>
                    <a:pt x="0" y="1389"/>
                    <a:pt x="0" y="1384"/>
                  </a:cubicBezTo>
                  <a:close/>
                  <a:moveTo>
                    <a:pt x="0" y="1272"/>
                  </a:moveTo>
                  <a:lnTo>
                    <a:pt x="0" y="1224"/>
                  </a:lnTo>
                  <a:cubicBezTo>
                    <a:pt x="0" y="1220"/>
                    <a:pt x="4" y="1216"/>
                    <a:pt x="8" y="1216"/>
                  </a:cubicBezTo>
                  <a:cubicBezTo>
                    <a:pt x="13" y="1216"/>
                    <a:pt x="16" y="1220"/>
                    <a:pt x="16" y="1224"/>
                  </a:cubicBezTo>
                  <a:lnTo>
                    <a:pt x="16" y="1272"/>
                  </a:lnTo>
                  <a:cubicBezTo>
                    <a:pt x="16" y="1277"/>
                    <a:pt x="13" y="1280"/>
                    <a:pt x="8" y="1280"/>
                  </a:cubicBezTo>
                  <a:cubicBezTo>
                    <a:pt x="4" y="1280"/>
                    <a:pt x="0" y="1277"/>
                    <a:pt x="0" y="1272"/>
                  </a:cubicBezTo>
                  <a:close/>
                  <a:moveTo>
                    <a:pt x="0" y="1160"/>
                  </a:moveTo>
                  <a:lnTo>
                    <a:pt x="0" y="1112"/>
                  </a:lnTo>
                  <a:cubicBezTo>
                    <a:pt x="0" y="1108"/>
                    <a:pt x="4" y="1104"/>
                    <a:pt x="8" y="1104"/>
                  </a:cubicBezTo>
                  <a:cubicBezTo>
                    <a:pt x="13" y="1104"/>
                    <a:pt x="16" y="1108"/>
                    <a:pt x="16" y="1112"/>
                  </a:cubicBezTo>
                  <a:lnTo>
                    <a:pt x="16" y="1160"/>
                  </a:lnTo>
                  <a:cubicBezTo>
                    <a:pt x="16" y="1165"/>
                    <a:pt x="13" y="1168"/>
                    <a:pt x="8" y="1168"/>
                  </a:cubicBezTo>
                  <a:cubicBezTo>
                    <a:pt x="4" y="1168"/>
                    <a:pt x="0" y="1165"/>
                    <a:pt x="0" y="1160"/>
                  </a:cubicBezTo>
                  <a:close/>
                  <a:moveTo>
                    <a:pt x="0" y="1048"/>
                  </a:moveTo>
                  <a:lnTo>
                    <a:pt x="0" y="1000"/>
                  </a:lnTo>
                  <a:cubicBezTo>
                    <a:pt x="0" y="996"/>
                    <a:pt x="4" y="992"/>
                    <a:pt x="8" y="992"/>
                  </a:cubicBezTo>
                  <a:cubicBezTo>
                    <a:pt x="13" y="992"/>
                    <a:pt x="16" y="996"/>
                    <a:pt x="16" y="1000"/>
                  </a:cubicBezTo>
                  <a:lnTo>
                    <a:pt x="16" y="1048"/>
                  </a:lnTo>
                  <a:cubicBezTo>
                    <a:pt x="16" y="1053"/>
                    <a:pt x="13" y="1056"/>
                    <a:pt x="8" y="1056"/>
                  </a:cubicBezTo>
                  <a:cubicBezTo>
                    <a:pt x="4" y="1056"/>
                    <a:pt x="0" y="1053"/>
                    <a:pt x="0" y="1048"/>
                  </a:cubicBezTo>
                  <a:close/>
                  <a:moveTo>
                    <a:pt x="0" y="936"/>
                  </a:moveTo>
                  <a:lnTo>
                    <a:pt x="0" y="888"/>
                  </a:lnTo>
                  <a:cubicBezTo>
                    <a:pt x="0" y="884"/>
                    <a:pt x="4" y="880"/>
                    <a:pt x="8" y="880"/>
                  </a:cubicBezTo>
                  <a:cubicBezTo>
                    <a:pt x="13" y="880"/>
                    <a:pt x="16" y="884"/>
                    <a:pt x="16" y="888"/>
                  </a:cubicBezTo>
                  <a:lnTo>
                    <a:pt x="16" y="936"/>
                  </a:lnTo>
                  <a:cubicBezTo>
                    <a:pt x="16" y="941"/>
                    <a:pt x="13" y="944"/>
                    <a:pt x="8" y="944"/>
                  </a:cubicBezTo>
                  <a:cubicBezTo>
                    <a:pt x="4" y="944"/>
                    <a:pt x="0" y="941"/>
                    <a:pt x="0" y="936"/>
                  </a:cubicBezTo>
                  <a:close/>
                  <a:moveTo>
                    <a:pt x="0" y="824"/>
                  </a:moveTo>
                  <a:lnTo>
                    <a:pt x="0" y="776"/>
                  </a:lnTo>
                  <a:cubicBezTo>
                    <a:pt x="0" y="772"/>
                    <a:pt x="4" y="768"/>
                    <a:pt x="8" y="768"/>
                  </a:cubicBezTo>
                  <a:cubicBezTo>
                    <a:pt x="13" y="768"/>
                    <a:pt x="16" y="772"/>
                    <a:pt x="16" y="776"/>
                  </a:cubicBezTo>
                  <a:lnTo>
                    <a:pt x="16" y="824"/>
                  </a:lnTo>
                  <a:cubicBezTo>
                    <a:pt x="16" y="829"/>
                    <a:pt x="13" y="832"/>
                    <a:pt x="8" y="832"/>
                  </a:cubicBezTo>
                  <a:cubicBezTo>
                    <a:pt x="4" y="832"/>
                    <a:pt x="0" y="829"/>
                    <a:pt x="0" y="824"/>
                  </a:cubicBezTo>
                  <a:close/>
                  <a:moveTo>
                    <a:pt x="0" y="712"/>
                  </a:moveTo>
                  <a:lnTo>
                    <a:pt x="0" y="664"/>
                  </a:lnTo>
                  <a:cubicBezTo>
                    <a:pt x="0" y="660"/>
                    <a:pt x="4" y="656"/>
                    <a:pt x="8" y="656"/>
                  </a:cubicBezTo>
                  <a:cubicBezTo>
                    <a:pt x="13" y="656"/>
                    <a:pt x="16" y="660"/>
                    <a:pt x="16" y="664"/>
                  </a:cubicBezTo>
                  <a:lnTo>
                    <a:pt x="16" y="712"/>
                  </a:lnTo>
                  <a:cubicBezTo>
                    <a:pt x="16" y="717"/>
                    <a:pt x="13" y="720"/>
                    <a:pt x="8" y="720"/>
                  </a:cubicBezTo>
                  <a:cubicBezTo>
                    <a:pt x="4" y="720"/>
                    <a:pt x="0" y="717"/>
                    <a:pt x="0" y="712"/>
                  </a:cubicBezTo>
                  <a:close/>
                  <a:moveTo>
                    <a:pt x="0" y="600"/>
                  </a:moveTo>
                  <a:lnTo>
                    <a:pt x="0" y="552"/>
                  </a:lnTo>
                  <a:cubicBezTo>
                    <a:pt x="0" y="548"/>
                    <a:pt x="4" y="544"/>
                    <a:pt x="8" y="544"/>
                  </a:cubicBezTo>
                  <a:cubicBezTo>
                    <a:pt x="13" y="544"/>
                    <a:pt x="16" y="548"/>
                    <a:pt x="16" y="552"/>
                  </a:cubicBezTo>
                  <a:lnTo>
                    <a:pt x="16" y="600"/>
                  </a:lnTo>
                  <a:cubicBezTo>
                    <a:pt x="16" y="605"/>
                    <a:pt x="13" y="608"/>
                    <a:pt x="8" y="608"/>
                  </a:cubicBezTo>
                  <a:cubicBezTo>
                    <a:pt x="4" y="608"/>
                    <a:pt x="0" y="605"/>
                    <a:pt x="0" y="600"/>
                  </a:cubicBezTo>
                  <a:close/>
                  <a:moveTo>
                    <a:pt x="0" y="488"/>
                  </a:moveTo>
                  <a:lnTo>
                    <a:pt x="0" y="440"/>
                  </a:lnTo>
                  <a:cubicBezTo>
                    <a:pt x="0" y="436"/>
                    <a:pt x="4" y="432"/>
                    <a:pt x="8" y="432"/>
                  </a:cubicBezTo>
                  <a:cubicBezTo>
                    <a:pt x="13" y="432"/>
                    <a:pt x="16" y="436"/>
                    <a:pt x="16" y="440"/>
                  </a:cubicBezTo>
                  <a:lnTo>
                    <a:pt x="16" y="488"/>
                  </a:lnTo>
                  <a:cubicBezTo>
                    <a:pt x="16" y="493"/>
                    <a:pt x="13" y="496"/>
                    <a:pt x="8" y="496"/>
                  </a:cubicBezTo>
                  <a:cubicBezTo>
                    <a:pt x="4" y="496"/>
                    <a:pt x="0" y="493"/>
                    <a:pt x="0" y="488"/>
                  </a:cubicBezTo>
                  <a:close/>
                  <a:moveTo>
                    <a:pt x="0" y="376"/>
                  </a:moveTo>
                  <a:lnTo>
                    <a:pt x="0" y="328"/>
                  </a:lnTo>
                  <a:cubicBezTo>
                    <a:pt x="0" y="324"/>
                    <a:pt x="4" y="320"/>
                    <a:pt x="8" y="320"/>
                  </a:cubicBezTo>
                  <a:cubicBezTo>
                    <a:pt x="13" y="320"/>
                    <a:pt x="16" y="324"/>
                    <a:pt x="16" y="328"/>
                  </a:cubicBezTo>
                  <a:lnTo>
                    <a:pt x="16" y="376"/>
                  </a:lnTo>
                  <a:cubicBezTo>
                    <a:pt x="16" y="381"/>
                    <a:pt x="13" y="384"/>
                    <a:pt x="8" y="384"/>
                  </a:cubicBezTo>
                  <a:cubicBezTo>
                    <a:pt x="4" y="384"/>
                    <a:pt x="0" y="381"/>
                    <a:pt x="0" y="376"/>
                  </a:cubicBezTo>
                  <a:close/>
                  <a:moveTo>
                    <a:pt x="0" y="264"/>
                  </a:moveTo>
                  <a:lnTo>
                    <a:pt x="0" y="216"/>
                  </a:lnTo>
                  <a:cubicBezTo>
                    <a:pt x="0" y="212"/>
                    <a:pt x="4" y="208"/>
                    <a:pt x="8" y="208"/>
                  </a:cubicBezTo>
                  <a:cubicBezTo>
                    <a:pt x="13" y="208"/>
                    <a:pt x="16" y="212"/>
                    <a:pt x="16" y="216"/>
                  </a:cubicBezTo>
                  <a:lnTo>
                    <a:pt x="16" y="264"/>
                  </a:lnTo>
                  <a:cubicBezTo>
                    <a:pt x="16" y="269"/>
                    <a:pt x="13" y="272"/>
                    <a:pt x="8" y="272"/>
                  </a:cubicBezTo>
                  <a:cubicBezTo>
                    <a:pt x="4" y="272"/>
                    <a:pt x="0" y="269"/>
                    <a:pt x="0" y="264"/>
                  </a:cubicBezTo>
                  <a:close/>
                  <a:moveTo>
                    <a:pt x="0" y="152"/>
                  </a:moveTo>
                  <a:lnTo>
                    <a:pt x="0" y="104"/>
                  </a:lnTo>
                  <a:cubicBezTo>
                    <a:pt x="0" y="100"/>
                    <a:pt x="4" y="96"/>
                    <a:pt x="8" y="96"/>
                  </a:cubicBezTo>
                  <a:cubicBezTo>
                    <a:pt x="13" y="96"/>
                    <a:pt x="16" y="100"/>
                    <a:pt x="16" y="104"/>
                  </a:cubicBezTo>
                  <a:lnTo>
                    <a:pt x="16" y="152"/>
                  </a:lnTo>
                  <a:cubicBezTo>
                    <a:pt x="16" y="157"/>
                    <a:pt x="13" y="160"/>
                    <a:pt x="8" y="160"/>
                  </a:cubicBezTo>
                  <a:cubicBezTo>
                    <a:pt x="4" y="160"/>
                    <a:pt x="0" y="157"/>
                    <a:pt x="0" y="152"/>
                  </a:cubicBezTo>
                  <a:close/>
                  <a:moveTo>
                    <a:pt x="0" y="40"/>
                  </a:moveTo>
                  <a:lnTo>
                    <a:pt x="0" y="8"/>
                  </a:lnTo>
                  <a:cubicBezTo>
                    <a:pt x="0" y="4"/>
                    <a:pt x="4" y="0"/>
                    <a:pt x="8" y="0"/>
                  </a:cubicBezTo>
                  <a:cubicBezTo>
                    <a:pt x="13" y="0"/>
                    <a:pt x="16" y="4"/>
                    <a:pt x="16" y="8"/>
                  </a:cubicBezTo>
                  <a:lnTo>
                    <a:pt x="16" y="40"/>
                  </a:lnTo>
                  <a:cubicBezTo>
                    <a:pt x="16" y="45"/>
                    <a:pt x="13" y="48"/>
                    <a:pt x="8" y="48"/>
                  </a:cubicBezTo>
                  <a:cubicBezTo>
                    <a:pt x="4" y="48"/>
                    <a:pt x="0" y="45"/>
                    <a:pt x="0" y="40"/>
                  </a:cubicBez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122480" y="3633840"/>
              <a:ext cx="3396960" cy="15840"/>
            </a:xfrm>
            <a:custGeom>
              <a:avLst/>
              <a:gdLst/>
              <a:ahLst/>
              <a:rect l="l" t="t" r="r" b="b"/>
              <a:pathLst>
                <a:path w="3536" h="16">
                  <a:moveTo>
                    <a:pt x="3528" y="16"/>
                  </a:moveTo>
                  <a:lnTo>
                    <a:pt x="3480" y="16"/>
                  </a:lnTo>
                  <a:cubicBezTo>
                    <a:pt x="3476" y="16"/>
                    <a:pt x="3472" y="13"/>
                    <a:pt x="3472" y="8"/>
                  </a:cubicBezTo>
                  <a:cubicBezTo>
                    <a:pt x="3472" y="4"/>
                    <a:pt x="3476" y="0"/>
                    <a:pt x="3480" y="0"/>
                  </a:cubicBezTo>
                  <a:lnTo>
                    <a:pt x="3528" y="0"/>
                  </a:lnTo>
                  <a:cubicBezTo>
                    <a:pt x="3533" y="0"/>
                    <a:pt x="3536" y="4"/>
                    <a:pt x="3536" y="8"/>
                  </a:cubicBezTo>
                  <a:cubicBezTo>
                    <a:pt x="3536" y="13"/>
                    <a:pt x="3533" y="16"/>
                    <a:pt x="3528" y="16"/>
                  </a:cubicBezTo>
                  <a:close/>
                  <a:moveTo>
                    <a:pt x="3416" y="16"/>
                  </a:moveTo>
                  <a:lnTo>
                    <a:pt x="3368" y="16"/>
                  </a:lnTo>
                  <a:cubicBezTo>
                    <a:pt x="3364" y="16"/>
                    <a:pt x="3360" y="13"/>
                    <a:pt x="3360" y="8"/>
                  </a:cubicBezTo>
                  <a:cubicBezTo>
                    <a:pt x="3360" y="4"/>
                    <a:pt x="3364" y="0"/>
                    <a:pt x="3368" y="0"/>
                  </a:cubicBezTo>
                  <a:lnTo>
                    <a:pt x="3416" y="0"/>
                  </a:lnTo>
                  <a:cubicBezTo>
                    <a:pt x="3421" y="0"/>
                    <a:pt x="3424" y="4"/>
                    <a:pt x="3424" y="8"/>
                  </a:cubicBezTo>
                  <a:cubicBezTo>
                    <a:pt x="3424" y="13"/>
                    <a:pt x="3421" y="16"/>
                    <a:pt x="3416" y="16"/>
                  </a:cubicBezTo>
                  <a:close/>
                  <a:moveTo>
                    <a:pt x="3304" y="16"/>
                  </a:moveTo>
                  <a:lnTo>
                    <a:pt x="3256" y="16"/>
                  </a:lnTo>
                  <a:cubicBezTo>
                    <a:pt x="3252" y="16"/>
                    <a:pt x="3248" y="13"/>
                    <a:pt x="3248" y="8"/>
                  </a:cubicBezTo>
                  <a:cubicBezTo>
                    <a:pt x="3248" y="4"/>
                    <a:pt x="3252" y="0"/>
                    <a:pt x="3256" y="0"/>
                  </a:cubicBezTo>
                  <a:lnTo>
                    <a:pt x="3304" y="0"/>
                  </a:lnTo>
                  <a:cubicBezTo>
                    <a:pt x="3309" y="0"/>
                    <a:pt x="3312" y="4"/>
                    <a:pt x="3312" y="8"/>
                  </a:cubicBezTo>
                  <a:cubicBezTo>
                    <a:pt x="3312" y="13"/>
                    <a:pt x="3309" y="16"/>
                    <a:pt x="3304" y="16"/>
                  </a:cubicBezTo>
                  <a:close/>
                  <a:moveTo>
                    <a:pt x="3192" y="16"/>
                  </a:moveTo>
                  <a:lnTo>
                    <a:pt x="3144" y="16"/>
                  </a:lnTo>
                  <a:cubicBezTo>
                    <a:pt x="3140" y="16"/>
                    <a:pt x="3136" y="13"/>
                    <a:pt x="3136" y="8"/>
                  </a:cubicBezTo>
                  <a:cubicBezTo>
                    <a:pt x="3136" y="4"/>
                    <a:pt x="3140" y="0"/>
                    <a:pt x="3144" y="0"/>
                  </a:cubicBezTo>
                  <a:lnTo>
                    <a:pt x="3192" y="0"/>
                  </a:lnTo>
                  <a:cubicBezTo>
                    <a:pt x="3197" y="0"/>
                    <a:pt x="3200" y="4"/>
                    <a:pt x="3200" y="8"/>
                  </a:cubicBezTo>
                  <a:cubicBezTo>
                    <a:pt x="3200" y="13"/>
                    <a:pt x="3197" y="16"/>
                    <a:pt x="3192" y="16"/>
                  </a:cubicBezTo>
                  <a:close/>
                  <a:moveTo>
                    <a:pt x="3080" y="16"/>
                  </a:moveTo>
                  <a:lnTo>
                    <a:pt x="3032" y="16"/>
                  </a:lnTo>
                  <a:cubicBezTo>
                    <a:pt x="3028" y="16"/>
                    <a:pt x="3024" y="13"/>
                    <a:pt x="3024" y="8"/>
                  </a:cubicBezTo>
                  <a:cubicBezTo>
                    <a:pt x="3024" y="4"/>
                    <a:pt x="3028" y="0"/>
                    <a:pt x="3032" y="0"/>
                  </a:cubicBezTo>
                  <a:lnTo>
                    <a:pt x="3080" y="0"/>
                  </a:lnTo>
                  <a:cubicBezTo>
                    <a:pt x="3085" y="0"/>
                    <a:pt x="3088" y="4"/>
                    <a:pt x="3088" y="8"/>
                  </a:cubicBezTo>
                  <a:cubicBezTo>
                    <a:pt x="3088" y="13"/>
                    <a:pt x="3085" y="16"/>
                    <a:pt x="3080" y="16"/>
                  </a:cubicBezTo>
                  <a:close/>
                  <a:moveTo>
                    <a:pt x="2968" y="16"/>
                  </a:moveTo>
                  <a:lnTo>
                    <a:pt x="2920" y="16"/>
                  </a:lnTo>
                  <a:cubicBezTo>
                    <a:pt x="2916" y="16"/>
                    <a:pt x="2912" y="13"/>
                    <a:pt x="2912" y="8"/>
                  </a:cubicBezTo>
                  <a:cubicBezTo>
                    <a:pt x="2912" y="4"/>
                    <a:pt x="2916" y="0"/>
                    <a:pt x="2920" y="0"/>
                  </a:cubicBezTo>
                  <a:lnTo>
                    <a:pt x="2968" y="0"/>
                  </a:lnTo>
                  <a:cubicBezTo>
                    <a:pt x="2973" y="0"/>
                    <a:pt x="2976" y="4"/>
                    <a:pt x="2976" y="8"/>
                  </a:cubicBezTo>
                  <a:cubicBezTo>
                    <a:pt x="2976" y="13"/>
                    <a:pt x="2973" y="16"/>
                    <a:pt x="2968" y="16"/>
                  </a:cubicBezTo>
                  <a:close/>
                  <a:moveTo>
                    <a:pt x="2856" y="16"/>
                  </a:moveTo>
                  <a:lnTo>
                    <a:pt x="2808" y="16"/>
                  </a:lnTo>
                  <a:cubicBezTo>
                    <a:pt x="2804" y="16"/>
                    <a:pt x="2800" y="13"/>
                    <a:pt x="2800" y="8"/>
                  </a:cubicBezTo>
                  <a:cubicBezTo>
                    <a:pt x="2800" y="4"/>
                    <a:pt x="2804" y="0"/>
                    <a:pt x="2808" y="0"/>
                  </a:cubicBezTo>
                  <a:lnTo>
                    <a:pt x="2856" y="0"/>
                  </a:lnTo>
                  <a:cubicBezTo>
                    <a:pt x="2861" y="0"/>
                    <a:pt x="2864" y="4"/>
                    <a:pt x="2864" y="8"/>
                  </a:cubicBezTo>
                  <a:cubicBezTo>
                    <a:pt x="2864" y="13"/>
                    <a:pt x="2861" y="16"/>
                    <a:pt x="2856" y="16"/>
                  </a:cubicBezTo>
                  <a:close/>
                  <a:moveTo>
                    <a:pt x="2744" y="16"/>
                  </a:moveTo>
                  <a:lnTo>
                    <a:pt x="2696" y="16"/>
                  </a:lnTo>
                  <a:cubicBezTo>
                    <a:pt x="2692" y="16"/>
                    <a:pt x="2688" y="13"/>
                    <a:pt x="2688" y="8"/>
                  </a:cubicBezTo>
                  <a:cubicBezTo>
                    <a:pt x="2688" y="4"/>
                    <a:pt x="2692" y="0"/>
                    <a:pt x="2696" y="0"/>
                  </a:cubicBezTo>
                  <a:lnTo>
                    <a:pt x="2744" y="0"/>
                  </a:lnTo>
                  <a:cubicBezTo>
                    <a:pt x="2749" y="0"/>
                    <a:pt x="2752" y="4"/>
                    <a:pt x="2752" y="8"/>
                  </a:cubicBezTo>
                  <a:cubicBezTo>
                    <a:pt x="2752" y="13"/>
                    <a:pt x="2749" y="16"/>
                    <a:pt x="2744" y="16"/>
                  </a:cubicBezTo>
                  <a:close/>
                  <a:moveTo>
                    <a:pt x="2632" y="16"/>
                  </a:moveTo>
                  <a:lnTo>
                    <a:pt x="2584" y="16"/>
                  </a:lnTo>
                  <a:cubicBezTo>
                    <a:pt x="2580" y="16"/>
                    <a:pt x="2576" y="13"/>
                    <a:pt x="2576" y="8"/>
                  </a:cubicBezTo>
                  <a:cubicBezTo>
                    <a:pt x="2576" y="4"/>
                    <a:pt x="2580" y="0"/>
                    <a:pt x="2584" y="0"/>
                  </a:cubicBezTo>
                  <a:lnTo>
                    <a:pt x="2632" y="0"/>
                  </a:lnTo>
                  <a:cubicBezTo>
                    <a:pt x="2637" y="0"/>
                    <a:pt x="2640" y="4"/>
                    <a:pt x="2640" y="8"/>
                  </a:cubicBezTo>
                  <a:cubicBezTo>
                    <a:pt x="2640" y="13"/>
                    <a:pt x="2637" y="16"/>
                    <a:pt x="2632" y="16"/>
                  </a:cubicBezTo>
                  <a:close/>
                  <a:moveTo>
                    <a:pt x="2520" y="16"/>
                  </a:moveTo>
                  <a:lnTo>
                    <a:pt x="2472" y="16"/>
                  </a:lnTo>
                  <a:cubicBezTo>
                    <a:pt x="2468" y="16"/>
                    <a:pt x="2464" y="13"/>
                    <a:pt x="2464" y="8"/>
                  </a:cubicBezTo>
                  <a:cubicBezTo>
                    <a:pt x="2464" y="4"/>
                    <a:pt x="2468" y="0"/>
                    <a:pt x="2472" y="0"/>
                  </a:cubicBezTo>
                  <a:lnTo>
                    <a:pt x="2520" y="0"/>
                  </a:lnTo>
                  <a:cubicBezTo>
                    <a:pt x="2525" y="0"/>
                    <a:pt x="2528" y="4"/>
                    <a:pt x="2528" y="8"/>
                  </a:cubicBezTo>
                  <a:cubicBezTo>
                    <a:pt x="2528" y="13"/>
                    <a:pt x="2525" y="16"/>
                    <a:pt x="2520" y="16"/>
                  </a:cubicBezTo>
                  <a:close/>
                  <a:moveTo>
                    <a:pt x="2408" y="16"/>
                  </a:moveTo>
                  <a:lnTo>
                    <a:pt x="2360" y="16"/>
                  </a:lnTo>
                  <a:cubicBezTo>
                    <a:pt x="2356" y="16"/>
                    <a:pt x="2352" y="13"/>
                    <a:pt x="2352" y="8"/>
                  </a:cubicBezTo>
                  <a:cubicBezTo>
                    <a:pt x="2352" y="4"/>
                    <a:pt x="2356" y="0"/>
                    <a:pt x="2360" y="0"/>
                  </a:cubicBezTo>
                  <a:lnTo>
                    <a:pt x="2408" y="0"/>
                  </a:lnTo>
                  <a:cubicBezTo>
                    <a:pt x="2413" y="0"/>
                    <a:pt x="2416" y="4"/>
                    <a:pt x="2416" y="8"/>
                  </a:cubicBezTo>
                  <a:cubicBezTo>
                    <a:pt x="2416" y="13"/>
                    <a:pt x="2413" y="16"/>
                    <a:pt x="2408" y="16"/>
                  </a:cubicBezTo>
                  <a:close/>
                  <a:moveTo>
                    <a:pt x="2296" y="16"/>
                  </a:moveTo>
                  <a:lnTo>
                    <a:pt x="2248" y="16"/>
                  </a:lnTo>
                  <a:cubicBezTo>
                    <a:pt x="2244" y="16"/>
                    <a:pt x="2240" y="13"/>
                    <a:pt x="2240" y="8"/>
                  </a:cubicBezTo>
                  <a:cubicBezTo>
                    <a:pt x="2240" y="4"/>
                    <a:pt x="2244" y="0"/>
                    <a:pt x="2248" y="0"/>
                  </a:cubicBezTo>
                  <a:lnTo>
                    <a:pt x="2296" y="0"/>
                  </a:lnTo>
                  <a:cubicBezTo>
                    <a:pt x="2301" y="0"/>
                    <a:pt x="2304" y="4"/>
                    <a:pt x="2304" y="8"/>
                  </a:cubicBezTo>
                  <a:cubicBezTo>
                    <a:pt x="2304" y="13"/>
                    <a:pt x="2301" y="16"/>
                    <a:pt x="2296" y="16"/>
                  </a:cubicBezTo>
                  <a:close/>
                  <a:moveTo>
                    <a:pt x="2184" y="16"/>
                  </a:moveTo>
                  <a:lnTo>
                    <a:pt x="2136" y="16"/>
                  </a:lnTo>
                  <a:cubicBezTo>
                    <a:pt x="2132" y="16"/>
                    <a:pt x="2128" y="13"/>
                    <a:pt x="2128" y="8"/>
                  </a:cubicBezTo>
                  <a:cubicBezTo>
                    <a:pt x="2128" y="4"/>
                    <a:pt x="2132" y="0"/>
                    <a:pt x="2136" y="0"/>
                  </a:cubicBezTo>
                  <a:lnTo>
                    <a:pt x="2184" y="0"/>
                  </a:lnTo>
                  <a:cubicBezTo>
                    <a:pt x="2189" y="0"/>
                    <a:pt x="2192" y="4"/>
                    <a:pt x="2192" y="8"/>
                  </a:cubicBezTo>
                  <a:cubicBezTo>
                    <a:pt x="2192" y="13"/>
                    <a:pt x="2189" y="16"/>
                    <a:pt x="2184" y="16"/>
                  </a:cubicBezTo>
                  <a:close/>
                  <a:moveTo>
                    <a:pt x="2072" y="16"/>
                  </a:moveTo>
                  <a:lnTo>
                    <a:pt x="2024" y="16"/>
                  </a:lnTo>
                  <a:cubicBezTo>
                    <a:pt x="2020" y="16"/>
                    <a:pt x="2016" y="13"/>
                    <a:pt x="2016" y="8"/>
                  </a:cubicBezTo>
                  <a:cubicBezTo>
                    <a:pt x="2016" y="4"/>
                    <a:pt x="2020" y="0"/>
                    <a:pt x="2024" y="0"/>
                  </a:cubicBezTo>
                  <a:lnTo>
                    <a:pt x="2072" y="0"/>
                  </a:lnTo>
                  <a:cubicBezTo>
                    <a:pt x="2077" y="0"/>
                    <a:pt x="2080" y="4"/>
                    <a:pt x="2080" y="8"/>
                  </a:cubicBezTo>
                  <a:cubicBezTo>
                    <a:pt x="2080" y="13"/>
                    <a:pt x="2077" y="16"/>
                    <a:pt x="2072" y="16"/>
                  </a:cubicBezTo>
                  <a:close/>
                  <a:moveTo>
                    <a:pt x="1960" y="16"/>
                  </a:moveTo>
                  <a:lnTo>
                    <a:pt x="1912" y="16"/>
                  </a:lnTo>
                  <a:cubicBezTo>
                    <a:pt x="1908" y="16"/>
                    <a:pt x="1904" y="13"/>
                    <a:pt x="1904" y="8"/>
                  </a:cubicBezTo>
                  <a:cubicBezTo>
                    <a:pt x="1904" y="4"/>
                    <a:pt x="1908" y="0"/>
                    <a:pt x="1912" y="0"/>
                  </a:cubicBezTo>
                  <a:lnTo>
                    <a:pt x="1960" y="0"/>
                  </a:lnTo>
                  <a:cubicBezTo>
                    <a:pt x="1965" y="0"/>
                    <a:pt x="1968" y="4"/>
                    <a:pt x="1968" y="8"/>
                  </a:cubicBezTo>
                  <a:cubicBezTo>
                    <a:pt x="1968" y="13"/>
                    <a:pt x="1965" y="16"/>
                    <a:pt x="1960" y="16"/>
                  </a:cubicBezTo>
                  <a:close/>
                  <a:moveTo>
                    <a:pt x="1848" y="16"/>
                  </a:moveTo>
                  <a:lnTo>
                    <a:pt x="1800" y="16"/>
                  </a:lnTo>
                  <a:cubicBezTo>
                    <a:pt x="1796" y="16"/>
                    <a:pt x="1792" y="13"/>
                    <a:pt x="1792" y="8"/>
                  </a:cubicBezTo>
                  <a:cubicBezTo>
                    <a:pt x="1792" y="4"/>
                    <a:pt x="1796" y="0"/>
                    <a:pt x="1800" y="0"/>
                  </a:cubicBezTo>
                  <a:lnTo>
                    <a:pt x="1848" y="0"/>
                  </a:lnTo>
                  <a:cubicBezTo>
                    <a:pt x="1853" y="0"/>
                    <a:pt x="1856" y="4"/>
                    <a:pt x="1856" y="8"/>
                  </a:cubicBezTo>
                  <a:cubicBezTo>
                    <a:pt x="1856" y="13"/>
                    <a:pt x="1853" y="16"/>
                    <a:pt x="1848" y="16"/>
                  </a:cubicBezTo>
                  <a:close/>
                  <a:moveTo>
                    <a:pt x="1736" y="16"/>
                  </a:moveTo>
                  <a:lnTo>
                    <a:pt x="1688" y="16"/>
                  </a:lnTo>
                  <a:cubicBezTo>
                    <a:pt x="1684" y="16"/>
                    <a:pt x="1680" y="13"/>
                    <a:pt x="1680" y="8"/>
                  </a:cubicBezTo>
                  <a:cubicBezTo>
                    <a:pt x="1680" y="4"/>
                    <a:pt x="1684" y="0"/>
                    <a:pt x="1688" y="0"/>
                  </a:cubicBezTo>
                  <a:lnTo>
                    <a:pt x="1736" y="0"/>
                  </a:lnTo>
                  <a:cubicBezTo>
                    <a:pt x="1741" y="0"/>
                    <a:pt x="1744" y="4"/>
                    <a:pt x="1744" y="8"/>
                  </a:cubicBezTo>
                  <a:cubicBezTo>
                    <a:pt x="1744" y="13"/>
                    <a:pt x="1741" y="16"/>
                    <a:pt x="1736" y="16"/>
                  </a:cubicBezTo>
                  <a:close/>
                  <a:moveTo>
                    <a:pt x="1624" y="16"/>
                  </a:moveTo>
                  <a:lnTo>
                    <a:pt x="1576" y="16"/>
                  </a:lnTo>
                  <a:cubicBezTo>
                    <a:pt x="1572" y="16"/>
                    <a:pt x="1568" y="13"/>
                    <a:pt x="1568" y="8"/>
                  </a:cubicBezTo>
                  <a:cubicBezTo>
                    <a:pt x="1568" y="4"/>
                    <a:pt x="1572" y="0"/>
                    <a:pt x="1576" y="0"/>
                  </a:cubicBezTo>
                  <a:lnTo>
                    <a:pt x="1624" y="0"/>
                  </a:lnTo>
                  <a:cubicBezTo>
                    <a:pt x="1629" y="0"/>
                    <a:pt x="1632" y="4"/>
                    <a:pt x="1632" y="8"/>
                  </a:cubicBezTo>
                  <a:cubicBezTo>
                    <a:pt x="1632" y="13"/>
                    <a:pt x="1629" y="16"/>
                    <a:pt x="1624" y="16"/>
                  </a:cubicBezTo>
                  <a:close/>
                  <a:moveTo>
                    <a:pt x="1512" y="16"/>
                  </a:moveTo>
                  <a:lnTo>
                    <a:pt x="1464" y="16"/>
                  </a:lnTo>
                  <a:cubicBezTo>
                    <a:pt x="1460" y="16"/>
                    <a:pt x="1456" y="13"/>
                    <a:pt x="1456" y="8"/>
                  </a:cubicBezTo>
                  <a:cubicBezTo>
                    <a:pt x="1456" y="4"/>
                    <a:pt x="1460" y="0"/>
                    <a:pt x="1464" y="0"/>
                  </a:cubicBezTo>
                  <a:lnTo>
                    <a:pt x="1512" y="0"/>
                  </a:lnTo>
                  <a:cubicBezTo>
                    <a:pt x="1517" y="0"/>
                    <a:pt x="1520" y="4"/>
                    <a:pt x="1520" y="8"/>
                  </a:cubicBezTo>
                  <a:cubicBezTo>
                    <a:pt x="1520" y="13"/>
                    <a:pt x="1517" y="16"/>
                    <a:pt x="1512" y="16"/>
                  </a:cubicBezTo>
                  <a:close/>
                  <a:moveTo>
                    <a:pt x="1400" y="16"/>
                  </a:moveTo>
                  <a:lnTo>
                    <a:pt x="1352" y="16"/>
                  </a:lnTo>
                  <a:cubicBezTo>
                    <a:pt x="1348" y="16"/>
                    <a:pt x="1344" y="13"/>
                    <a:pt x="1344" y="8"/>
                  </a:cubicBezTo>
                  <a:cubicBezTo>
                    <a:pt x="1344" y="4"/>
                    <a:pt x="1348" y="0"/>
                    <a:pt x="1352" y="0"/>
                  </a:cubicBezTo>
                  <a:lnTo>
                    <a:pt x="1400" y="0"/>
                  </a:lnTo>
                  <a:cubicBezTo>
                    <a:pt x="1405" y="0"/>
                    <a:pt x="1408" y="4"/>
                    <a:pt x="1408" y="8"/>
                  </a:cubicBezTo>
                  <a:cubicBezTo>
                    <a:pt x="1408" y="13"/>
                    <a:pt x="1405" y="16"/>
                    <a:pt x="1400" y="16"/>
                  </a:cubicBezTo>
                  <a:close/>
                  <a:moveTo>
                    <a:pt x="1288" y="16"/>
                  </a:moveTo>
                  <a:lnTo>
                    <a:pt x="1240" y="16"/>
                  </a:lnTo>
                  <a:cubicBezTo>
                    <a:pt x="1236" y="16"/>
                    <a:pt x="1232" y="13"/>
                    <a:pt x="1232" y="8"/>
                  </a:cubicBezTo>
                  <a:cubicBezTo>
                    <a:pt x="1232" y="4"/>
                    <a:pt x="1236" y="0"/>
                    <a:pt x="1240" y="0"/>
                  </a:cubicBezTo>
                  <a:lnTo>
                    <a:pt x="1288" y="0"/>
                  </a:lnTo>
                  <a:cubicBezTo>
                    <a:pt x="1293" y="0"/>
                    <a:pt x="1296" y="4"/>
                    <a:pt x="1296" y="8"/>
                  </a:cubicBezTo>
                  <a:cubicBezTo>
                    <a:pt x="1296" y="13"/>
                    <a:pt x="1293" y="16"/>
                    <a:pt x="1288" y="16"/>
                  </a:cubicBezTo>
                  <a:close/>
                  <a:moveTo>
                    <a:pt x="1176" y="16"/>
                  </a:moveTo>
                  <a:lnTo>
                    <a:pt x="1128" y="16"/>
                  </a:lnTo>
                  <a:cubicBezTo>
                    <a:pt x="1124" y="16"/>
                    <a:pt x="1120" y="13"/>
                    <a:pt x="1120" y="8"/>
                  </a:cubicBezTo>
                  <a:cubicBezTo>
                    <a:pt x="1120" y="4"/>
                    <a:pt x="1124" y="0"/>
                    <a:pt x="1128" y="0"/>
                  </a:cubicBezTo>
                  <a:lnTo>
                    <a:pt x="1176" y="0"/>
                  </a:lnTo>
                  <a:cubicBezTo>
                    <a:pt x="1181" y="0"/>
                    <a:pt x="1184" y="4"/>
                    <a:pt x="1184" y="8"/>
                  </a:cubicBezTo>
                  <a:cubicBezTo>
                    <a:pt x="1184" y="13"/>
                    <a:pt x="1181" y="16"/>
                    <a:pt x="1176" y="16"/>
                  </a:cubicBezTo>
                  <a:close/>
                  <a:moveTo>
                    <a:pt x="1064" y="16"/>
                  </a:moveTo>
                  <a:lnTo>
                    <a:pt x="1016" y="16"/>
                  </a:lnTo>
                  <a:cubicBezTo>
                    <a:pt x="1012" y="16"/>
                    <a:pt x="1008" y="13"/>
                    <a:pt x="1008" y="8"/>
                  </a:cubicBezTo>
                  <a:cubicBezTo>
                    <a:pt x="1008" y="4"/>
                    <a:pt x="1012" y="0"/>
                    <a:pt x="1016" y="0"/>
                  </a:cubicBezTo>
                  <a:lnTo>
                    <a:pt x="1064" y="0"/>
                  </a:lnTo>
                  <a:cubicBezTo>
                    <a:pt x="1069" y="0"/>
                    <a:pt x="1072" y="4"/>
                    <a:pt x="1072" y="8"/>
                  </a:cubicBezTo>
                  <a:cubicBezTo>
                    <a:pt x="1072" y="13"/>
                    <a:pt x="1069" y="16"/>
                    <a:pt x="1064" y="16"/>
                  </a:cubicBezTo>
                  <a:close/>
                  <a:moveTo>
                    <a:pt x="952" y="16"/>
                  </a:moveTo>
                  <a:lnTo>
                    <a:pt x="904" y="16"/>
                  </a:lnTo>
                  <a:cubicBezTo>
                    <a:pt x="900" y="16"/>
                    <a:pt x="896" y="13"/>
                    <a:pt x="896" y="8"/>
                  </a:cubicBezTo>
                  <a:cubicBezTo>
                    <a:pt x="896" y="4"/>
                    <a:pt x="900" y="0"/>
                    <a:pt x="904" y="0"/>
                  </a:cubicBezTo>
                  <a:lnTo>
                    <a:pt x="952" y="0"/>
                  </a:lnTo>
                  <a:cubicBezTo>
                    <a:pt x="957" y="0"/>
                    <a:pt x="960" y="4"/>
                    <a:pt x="960" y="8"/>
                  </a:cubicBezTo>
                  <a:cubicBezTo>
                    <a:pt x="960" y="13"/>
                    <a:pt x="957" y="16"/>
                    <a:pt x="952" y="16"/>
                  </a:cubicBezTo>
                  <a:close/>
                  <a:moveTo>
                    <a:pt x="840" y="16"/>
                  </a:moveTo>
                  <a:lnTo>
                    <a:pt x="792" y="16"/>
                  </a:lnTo>
                  <a:cubicBezTo>
                    <a:pt x="788" y="16"/>
                    <a:pt x="784" y="13"/>
                    <a:pt x="784" y="8"/>
                  </a:cubicBezTo>
                  <a:cubicBezTo>
                    <a:pt x="784" y="4"/>
                    <a:pt x="788" y="0"/>
                    <a:pt x="792" y="0"/>
                  </a:cubicBezTo>
                  <a:lnTo>
                    <a:pt x="840" y="0"/>
                  </a:lnTo>
                  <a:cubicBezTo>
                    <a:pt x="845" y="0"/>
                    <a:pt x="848" y="4"/>
                    <a:pt x="848" y="8"/>
                  </a:cubicBezTo>
                  <a:cubicBezTo>
                    <a:pt x="848" y="13"/>
                    <a:pt x="845" y="16"/>
                    <a:pt x="840" y="16"/>
                  </a:cubicBezTo>
                  <a:close/>
                  <a:moveTo>
                    <a:pt x="728" y="16"/>
                  </a:moveTo>
                  <a:lnTo>
                    <a:pt x="680" y="16"/>
                  </a:lnTo>
                  <a:cubicBezTo>
                    <a:pt x="676" y="16"/>
                    <a:pt x="672" y="13"/>
                    <a:pt x="672" y="8"/>
                  </a:cubicBezTo>
                  <a:cubicBezTo>
                    <a:pt x="672" y="4"/>
                    <a:pt x="676" y="0"/>
                    <a:pt x="680" y="0"/>
                  </a:cubicBezTo>
                  <a:lnTo>
                    <a:pt x="728" y="0"/>
                  </a:lnTo>
                  <a:cubicBezTo>
                    <a:pt x="733" y="0"/>
                    <a:pt x="736" y="4"/>
                    <a:pt x="736" y="8"/>
                  </a:cubicBezTo>
                  <a:cubicBezTo>
                    <a:pt x="736" y="13"/>
                    <a:pt x="733" y="16"/>
                    <a:pt x="728" y="16"/>
                  </a:cubicBezTo>
                  <a:close/>
                  <a:moveTo>
                    <a:pt x="616" y="16"/>
                  </a:moveTo>
                  <a:lnTo>
                    <a:pt x="568" y="16"/>
                  </a:lnTo>
                  <a:cubicBezTo>
                    <a:pt x="564" y="16"/>
                    <a:pt x="560" y="13"/>
                    <a:pt x="560" y="8"/>
                  </a:cubicBezTo>
                  <a:cubicBezTo>
                    <a:pt x="560" y="4"/>
                    <a:pt x="564" y="0"/>
                    <a:pt x="568" y="0"/>
                  </a:cubicBezTo>
                  <a:lnTo>
                    <a:pt x="616" y="0"/>
                  </a:lnTo>
                  <a:cubicBezTo>
                    <a:pt x="621" y="0"/>
                    <a:pt x="624" y="4"/>
                    <a:pt x="624" y="8"/>
                  </a:cubicBezTo>
                  <a:cubicBezTo>
                    <a:pt x="624" y="13"/>
                    <a:pt x="621" y="16"/>
                    <a:pt x="616" y="16"/>
                  </a:cubicBezTo>
                  <a:close/>
                  <a:moveTo>
                    <a:pt x="504" y="16"/>
                  </a:moveTo>
                  <a:lnTo>
                    <a:pt x="456" y="16"/>
                  </a:lnTo>
                  <a:cubicBezTo>
                    <a:pt x="452" y="16"/>
                    <a:pt x="448" y="13"/>
                    <a:pt x="448" y="8"/>
                  </a:cubicBezTo>
                  <a:cubicBezTo>
                    <a:pt x="448" y="4"/>
                    <a:pt x="452" y="0"/>
                    <a:pt x="456" y="0"/>
                  </a:cubicBezTo>
                  <a:lnTo>
                    <a:pt x="504" y="0"/>
                  </a:lnTo>
                  <a:cubicBezTo>
                    <a:pt x="509" y="0"/>
                    <a:pt x="512" y="4"/>
                    <a:pt x="512" y="8"/>
                  </a:cubicBezTo>
                  <a:cubicBezTo>
                    <a:pt x="512" y="13"/>
                    <a:pt x="509" y="16"/>
                    <a:pt x="504" y="16"/>
                  </a:cubicBezTo>
                  <a:close/>
                  <a:moveTo>
                    <a:pt x="392" y="16"/>
                  </a:moveTo>
                  <a:lnTo>
                    <a:pt x="344" y="16"/>
                  </a:lnTo>
                  <a:cubicBezTo>
                    <a:pt x="340" y="16"/>
                    <a:pt x="336" y="13"/>
                    <a:pt x="336" y="8"/>
                  </a:cubicBezTo>
                  <a:cubicBezTo>
                    <a:pt x="336" y="4"/>
                    <a:pt x="340" y="0"/>
                    <a:pt x="344" y="0"/>
                  </a:cubicBezTo>
                  <a:lnTo>
                    <a:pt x="392" y="0"/>
                  </a:lnTo>
                  <a:cubicBezTo>
                    <a:pt x="397" y="0"/>
                    <a:pt x="400" y="4"/>
                    <a:pt x="400" y="8"/>
                  </a:cubicBezTo>
                  <a:cubicBezTo>
                    <a:pt x="400" y="13"/>
                    <a:pt x="397" y="16"/>
                    <a:pt x="392" y="16"/>
                  </a:cubicBezTo>
                  <a:close/>
                  <a:moveTo>
                    <a:pt x="280" y="16"/>
                  </a:moveTo>
                  <a:lnTo>
                    <a:pt x="232" y="16"/>
                  </a:lnTo>
                  <a:cubicBezTo>
                    <a:pt x="228" y="16"/>
                    <a:pt x="224" y="13"/>
                    <a:pt x="224" y="8"/>
                  </a:cubicBezTo>
                  <a:cubicBezTo>
                    <a:pt x="224" y="4"/>
                    <a:pt x="228" y="0"/>
                    <a:pt x="232" y="0"/>
                  </a:cubicBezTo>
                  <a:lnTo>
                    <a:pt x="280" y="0"/>
                  </a:lnTo>
                  <a:cubicBezTo>
                    <a:pt x="285" y="0"/>
                    <a:pt x="288" y="4"/>
                    <a:pt x="288" y="8"/>
                  </a:cubicBezTo>
                  <a:cubicBezTo>
                    <a:pt x="288" y="13"/>
                    <a:pt x="285" y="16"/>
                    <a:pt x="280" y="16"/>
                  </a:cubicBezTo>
                  <a:close/>
                  <a:moveTo>
                    <a:pt x="168" y="16"/>
                  </a:moveTo>
                  <a:lnTo>
                    <a:pt x="120" y="16"/>
                  </a:lnTo>
                  <a:cubicBezTo>
                    <a:pt x="116" y="16"/>
                    <a:pt x="112" y="13"/>
                    <a:pt x="112" y="8"/>
                  </a:cubicBezTo>
                  <a:cubicBezTo>
                    <a:pt x="112" y="4"/>
                    <a:pt x="116" y="0"/>
                    <a:pt x="120" y="0"/>
                  </a:cubicBezTo>
                  <a:lnTo>
                    <a:pt x="168" y="0"/>
                  </a:lnTo>
                  <a:cubicBezTo>
                    <a:pt x="173" y="0"/>
                    <a:pt x="176" y="4"/>
                    <a:pt x="176" y="8"/>
                  </a:cubicBezTo>
                  <a:cubicBezTo>
                    <a:pt x="176" y="13"/>
                    <a:pt x="173" y="16"/>
                    <a:pt x="168" y="16"/>
                  </a:cubicBezTo>
                  <a:close/>
                  <a:moveTo>
                    <a:pt x="56" y="16"/>
                  </a:moveTo>
                  <a:lnTo>
                    <a:pt x="8" y="16"/>
                  </a:lnTo>
                  <a:cubicBezTo>
                    <a:pt x="4" y="16"/>
                    <a:pt x="0" y="13"/>
                    <a:pt x="0" y="8"/>
                  </a:cubicBezTo>
                  <a:cubicBezTo>
                    <a:pt x="0" y="4"/>
                    <a:pt x="4" y="0"/>
                    <a:pt x="8" y="0"/>
                  </a:cubicBezTo>
                  <a:lnTo>
                    <a:pt x="56" y="0"/>
                  </a:lnTo>
                  <a:cubicBezTo>
                    <a:pt x="61" y="0"/>
                    <a:pt x="64" y="4"/>
                    <a:pt x="64" y="8"/>
                  </a:cubicBezTo>
                  <a:cubicBezTo>
                    <a:pt x="64" y="13"/>
                    <a:pt x="61" y="16"/>
                    <a:pt x="56" y="16"/>
                  </a:cubicBez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V="1">
              <a:off x="1042920" y="2276280"/>
              <a:ext cx="5977080" cy="316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41WG database composition / co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Analysis of noise level distribution for ISO362-2 vs ECE R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Assessment of validity and practicability of ASEP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6" name=""/>
          <p:cNvGrpSpPr/>
          <p:nvPr/>
        </p:nvGrpSpPr>
        <p:grpSpPr>
          <a:xfrm>
            <a:off x="179280" y="260280"/>
            <a:ext cx="8917200" cy="6071040"/>
            <a:chOff x="179280" y="260280"/>
            <a:chExt cx="8917200" cy="6071040"/>
          </a:xfrm>
        </p:grpSpPr>
        <p:sp>
          <p:nvSpPr>
            <p:cNvPr id="1747" name=""/>
            <p:cNvSpPr/>
            <p:nvPr/>
          </p:nvSpPr>
          <p:spPr>
            <a:xfrm>
              <a:off x="3059280" y="260280"/>
              <a:ext cx="30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lass III (&gt;175c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8196120" y="3382920"/>
              <a:ext cx="360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110440" y="3382920"/>
              <a:ext cx="7668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ine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000080" y="5175360"/>
              <a:ext cx="6664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000080" y="4854600"/>
              <a:ext cx="6664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000080" y="4533840"/>
              <a:ext cx="6664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1000080" y="4197240"/>
              <a:ext cx="6664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000080" y="3875040"/>
              <a:ext cx="6664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000080" y="3554280"/>
              <a:ext cx="6664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000080" y="3233880"/>
              <a:ext cx="6664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000080" y="2913120"/>
              <a:ext cx="6664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000080" y="2590920"/>
              <a:ext cx="6664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000080" y="2270160"/>
              <a:ext cx="6664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000080" y="1933560"/>
              <a:ext cx="6664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000080" y="1612800"/>
              <a:ext cx="6664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000080" y="1290600"/>
              <a:ext cx="6664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000080" y="969840"/>
              <a:ext cx="6664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000080" y="969840"/>
              <a:ext cx="6664320" cy="452772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1000080" y="969840"/>
              <a:ext cx="1800" cy="452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1000080" y="5497560"/>
              <a:ext cx="63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000080" y="5175360"/>
              <a:ext cx="63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000080" y="4854600"/>
              <a:ext cx="63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000080" y="4533840"/>
              <a:ext cx="63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000080" y="4197240"/>
              <a:ext cx="63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000080" y="3875040"/>
              <a:ext cx="63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000080" y="3554280"/>
              <a:ext cx="63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000080" y="3233880"/>
              <a:ext cx="63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000080" y="2913120"/>
              <a:ext cx="63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000080" y="2590920"/>
              <a:ext cx="63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1000080" y="2270160"/>
              <a:ext cx="63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000080" y="1933560"/>
              <a:ext cx="63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000080" y="1612800"/>
              <a:ext cx="63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000080" y="1290600"/>
              <a:ext cx="63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000080" y="969840"/>
              <a:ext cx="63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000080" y="5497560"/>
              <a:ext cx="6664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1000080" y="5432040"/>
              <a:ext cx="180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V="1">
              <a:off x="1481040" y="5432040"/>
              <a:ext cx="180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1946160" y="5432040"/>
              <a:ext cx="180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2428920" y="5432040"/>
              <a:ext cx="144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V="1">
              <a:off x="2909880" y="5432040"/>
              <a:ext cx="144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3376440" y="5432040"/>
              <a:ext cx="180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3857760" y="5432040"/>
              <a:ext cx="144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V="1">
              <a:off x="4340160" y="5432040"/>
              <a:ext cx="180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V="1">
              <a:off x="4805280" y="5432040"/>
              <a:ext cx="180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V="1">
              <a:off x="5286240" y="5432040"/>
              <a:ext cx="180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V="1">
              <a:off x="5753160" y="5432040"/>
              <a:ext cx="144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V="1">
              <a:off x="6234120" y="5432040"/>
              <a:ext cx="144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V="1">
              <a:off x="6716880" y="5432040"/>
              <a:ext cx="144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V="1">
              <a:off x="7182000" y="5432040"/>
              <a:ext cx="144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V="1">
              <a:off x="7664400" y="5432040"/>
              <a:ext cx="180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757760" y="4565520"/>
              <a:ext cx="9540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30" y="0"/>
                  </a:moveTo>
                  <a:lnTo>
                    <a:pt x="60" y="30"/>
                  </a:lnTo>
                  <a:lnTo>
                    <a:pt x="30" y="61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238720" y="3795840"/>
              <a:ext cx="96840" cy="9504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30" y="0"/>
                  </a:moveTo>
                  <a:lnTo>
                    <a:pt x="61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238720" y="3763800"/>
              <a:ext cx="96840" cy="9540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30" y="0"/>
                  </a:moveTo>
                  <a:lnTo>
                    <a:pt x="61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238720" y="387504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0" y="0"/>
                  </a:moveTo>
                  <a:lnTo>
                    <a:pt x="61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186600" y="316872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0" y="0"/>
                  </a:moveTo>
                  <a:lnTo>
                    <a:pt x="61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703840" y="4229280"/>
              <a:ext cx="96840" cy="9504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31" y="0"/>
                  </a:moveTo>
                  <a:lnTo>
                    <a:pt x="61" y="30"/>
                  </a:lnTo>
                  <a:lnTo>
                    <a:pt x="31" y="60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757760" y="3441600"/>
              <a:ext cx="9540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30" y="0"/>
                  </a:moveTo>
                  <a:lnTo>
                    <a:pt x="60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703840" y="180504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1" y="0"/>
                  </a:moveTo>
                  <a:lnTo>
                    <a:pt x="61" y="30"/>
                  </a:lnTo>
                  <a:lnTo>
                    <a:pt x="31" y="61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703840" y="324972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1" y="0"/>
                  </a:moveTo>
                  <a:lnTo>
                    <a:pt x="61" y="30"/>
                  </a:lnTo>
                  <a:lnTo>
                    <a:pt x="31" y="61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186600" y="201312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0" y="0"/>
                  </a:moveTo>
                  <a:lnTo>
                    <a:pt x="61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186600" y="344160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0" y="0"/>
                  </a:moveTo>
                  <a:lnTo>
                    <a:pt x="61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703840" y="308916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1" y="0"/>
                  </a:moveTo>
                  <a:lnTo>
                    <a:pt x="61" y="30"/>
                  </a:lnTo>
                  <a:lnTo>
                    <a:pt x="31" y="61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186600" y="2367000"/>
              <a:ext cx="96840" cy="9504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30" y="0"/>
                  </a:moveTo>
                  <a:lnTo>
                    <a:pt x="61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186600" y="2913120"/>
              <a:ext cx="96840" cy="9504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30" y="0"/>
                  </a:moveTo>
                  <a:lnTo>
                    <a:pt x="61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608800" y="305748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195800" y="4613400"/>
              <a:ext cx="9504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30" y="0"/>
                  </a:moveTo>
                  <a:lnTo>
                    <a:pt x="60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3327480" y="424512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1" y="0"/>
                  </a:moveTo>
                  <a:lnTo>
                    <a:pt x="61" y="30"/>
                  </a:lnTo>
                  <a:lnTo>
                    <a:pt x="31" y="61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3279600" y="519120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0" y="0"/>
                  </a:moveTo>
                  <a:lnTo>
                    <a:pt x="61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3182760" y="498312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1" y="0"/>
                  </a:moveTo>
                  <a:lnTo>
                    <a:pt x="61" y="30"/>
                  </a:lnTo>
                  <a:lnTo>
                    <a:pt x="31" y="61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2959200" y="464652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3135240" y="4807080"/>
              <a:ext cx="96840" cy="9504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30" y="0"/>
                  </a:moveTo>
                  <a:lnTo>
                    <a:pt x="61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6378480" y="1773360"/>
              <a:ext cx="96840" cy="9504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31" y="0"/>
                  </a:moveTo>
                  <a:lnTo>
                    <a:pt x="61" y="30"/>
                  </a:lnTo>
                  <a:lnTo>
                    <a:pt x="31" y="60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290840" y="381168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1" y="0"/>
                  </a:moveTo>
                  <a:lnTo>
                    <a:pt x="61" y="30"/>
                  </a:lnTo>
                  <a:lnTo>
                    <a:pt x="31" y="61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945040" y="353844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1" y="0"/>
                  </a:moveTo>
                  <a:lnTo>
                    <a:pt x="61" y="30"/>
                  </a:lnTo>
                  <a:lnTo>
                    <a:pt x="31" y="61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708440" y="3475080"/>
              <a:ext cx="96840" cy="9504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31" y="0"/>
                  </a:moveTo>
                  <a:lnTo>
                    <a:pt x="61" y="30"/>
                  </a:lnTo>
                  <a:lnTo>
                    <a:pt x="31" y="60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479920" y="257508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0" y="0"/>
                  </a:moveTo>
                  <a:lnTo>
                    <a:pt x="61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324320" y="3666960"/>
              <a:ext cx="9540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30" y="0"/>
                  </a:moveTo>
                  <a:lnTo>
                    <a:pt x="60" y="30"/>
                  </a:lnTo>
                  <a:lnTo>
                    <a:pt x="30" y="61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234120" y="366696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1" y="0"/>
                  </a:moveTo>
                  <a:lnTo>
                    <a:pt x="61" y="30"/>
                  </a:lnTo>
                  <a:lnTo>
                    <a:pt x="31" y="61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138720" y="2254320"/>
              <a:ext cx="9540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30" y="0"/>
                  </a:moveTo>
                  <a:lnTo>
                    <a:pt x="60" y="30"/>
                  </a:lnTo>
                  <a:lnTo>
                    <a:pt x="30" y="61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572160" y="251136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4757760" y="2013120"/>
              <a:ext cx="9540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30" y="0"/>
                  </a:moveTo>
                  <a:lnTo>
                    <a:pt x="60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656320" y="3635280"/>
              <a:ext cx="96840" cy="9540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30" y="0"/>
                  </a:moveTo>
                  <a:lnTo>
                    <a:pt x="61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378480" y="296064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1" y="0"/>
                  </a:moveTo>
                  <a:lnTo>
                    <a:pt x="61" y="30"/>
                  </a:lnTo>
                  <a:lnTo>
                    <a:pt x="31" y="61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703840" y="3763800"/>
              <a:ext cx="96840" cy="9540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31" y="0"/>
                  </a:moveTo>
                  <a:lnTo>
                    <a:pt x="61" y="30"/>
                  </a:lnTo>
                  <a:lnTo>
                    <a:pt x="31" y="60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037280" y="194940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0" y="0"/>
                  </a:moveTo>
                  <a:lnTo>
                    <a:pt x="61" y="30"/>
                  </a:lnTo>
                  <a:lnTo>
                    <a:pt x="30" y="61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6089760" y="3218040"/>
              <a:ext cx="96840" cy="9504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31" y="0"/>
                  </a:moveTo>
                  <a:lnTo>
                    <a:pt x="61" y="30"/>
                  </a:lnTo>
                  <a:lnTo>
                    <a:pt x="31" y="60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703840" y="3346560"/>
              <a:ext cx="96840" cy="9504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31" y="0"/>
                  </a:moveTo>
                  <a:lnTo>
                    <a:pt x="61" y="30"/>
                  </a:lnTo>
                  <a:lnTo>
                    <a:pt x="31" y="60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4290840" y="413244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1" y="0"/>
                  </a:moveTo>
                  <a:lnTo>
                    <a:pt x="61" y="30"/>
                  </a:lnTo>
                  <a:lnTo>
                    <a:pt x="31" y="61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950760" y="4951440"/>
              <a:ext cx="96840" cy="9540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31" y="0"/>
                  </a:moveTo>
                  <a:lnTo>
                    <a:pt x="61" y="30"/>
                  </a:lnTo>
                  <a:lnTo>
                    <a:pt x="31" y="60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898640" y="5064120"/>
              <a:ext cx="96840" cy="9540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30" y="0"/>
                  </a:moveTo>
                  <a:lnTo>
                    <a:pt x="61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760920" y="328140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1" y="0"/>
                  </a:moveTo>
                  <a:lnTo>
                    <a:pt x="61" y="31"/>
                  </a:lnTo>
                  <a:lnTo>
                    <a:pt x="31" y="61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279600" y="4357800"/>
              <a:ext cx="96840" cy="9504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30" y="0"/>
                  </a:moveTo>
                  <a:lnTo>
                    <a:pt x="61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379600" y="442116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1" y="0"/>
                  </a:moveTo>
                  <a:lnTo>
                    <a:pt x="61" y="30"/>
                  </a:lnTo>
                  <a:lnTo>
                    <a:pt x="31" y="61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468680" y="3699000"/>
              <a:ext cx="9540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30" y="0"/>
                  </a:moveTo>
                  <a:lnTo>
                    <a:pt x="60" y="30"/>
                  </a:lnTo>
                  <a:lnTo>
                    <a:pt x="30" y="61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2525760" y="4757760"/>
              <a:ext cx="9504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30" y="0"/>
                  </a:moveTo>
                  <a:lnTo>
                    <a:pt x="60" y="31"/>
                  </a:lnTo>
                  <a:lnTo>
                    <a:pt x="30" y="61"/>
                  </a:lnTo>
                  <a:lnTo>
                    <a:pt x="0" y="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468680" y="2254320"/>
              <a:ext cx="9540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30" y="0"/>
                  </a:moveTo>
                  <a:lnTo>
                    <a:pt x="60" y="30"/>
                  </a:lnTo>
                  <a:lnTo>
                    <a:pt x="30" y="61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692600" y="4502160"/>
              <a:ext cx="209520" cy="20808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175360" y="3730680"/>
              <a:ext cx="207720" cy="20952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175360" y="3699000"/>
              <a:ext cx="207720" cy="20952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175360" y="3811680"/>
              <a:ext cx="207720" cy="20772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121440" y="3105000"/>
              <a:ext cx="209520" cy="20808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640480" y="4164120"/>
              <a:ext cx="209520" cy="20952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4692600" y="3378240"/>
              <a:ext cx="209520" cy="20808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640480" y="1739880"/>
              <a:ext cx="209520" cy="20952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640480" y="3186000"/>
              <a:ext cx="209520" cy="20808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121440" y="1949400"/>
              <a:ext cx="209520" cy="20808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121440" y="3378240"/>
              <a:ext cx="209520" cy="20808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640480" y="3024360"/>
              <a:ext cx="209520" cy="20952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121440" y="2301840"/>
              <a:ext cx="209520" cy="20952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121440" y="2847960"/>
              <a:ext cx="209520" cy="20952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543640" y="2992320"/>
              <a:ext cx="209520" cy="20952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315120" y="1708200"/>
              <a:ext cx="208080" cy="20952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227480" y="3746520"/>
              <a:ext cx="208080" cy="20952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881680" y="3475080"/>
              <a:ext cx="208080" cy="20808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645080" y="3409920"/>
              <a:ext cx="208080" cy="20952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415120" y="2511360"/>
              <a:ext cx="209520" cy="20808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4259160" y="3602160"/>
              <a:ext cx="209520" cy="20952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6170760" y="3602160"/>
              <a:ext cx="207720" cy="20952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073920" y="2190600"/>
              <a:ext cx="209520" cy="20808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507000" y="2446200"/>
              <a:ext cx="209880" cy="20952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592600" y="3570120"/>
              <a:ext cx="208080" cy="20988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315120" y="2897280"/>
              <a:ext cx="208080" cy="20772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640480" y="3699000"/>
              <a:ext cx="209520" cy="20952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973920" y="1884240"/>
              <a:ext cx="208080" cy="20952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026040" y="3152880"/>
              <a:ext cx="208080" cy="20952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640480" y="3281400"/>
              <a:ext cx="209520" cy="20952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4227480" y="4068720"/>
              <a:ext cx="208080" cy="20808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835280" y="4998960"/>
              <a:ext cx="207720" cy="20952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V="1">
              <a:off x="1127160" y="5497560"/>
              <a:ext cx="1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32440" y="540072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32440" y="507996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32440" y="475776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32440" y="443700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32440" y="410040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32440" y="378000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32440" y="345744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32440" y="313704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32440" y="281628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32440" y="249552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32440" y="217332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32440" y="183672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32440" y="151596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32440" y="119556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32440" y="87300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870480" y="568944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351440" y="568944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818360" y="568944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299320" y="568944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781720" y="568944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46840" y="568944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728160" y="568944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210560" y="568944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675680" y="568944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158440" y="568944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623560" y="568944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104520" y="568944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586920" y="568944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7052040" y="568944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534800" y="568944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520440" y="6026040"/>
              <a:ext cx="1588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ECE41-03(d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 rot="16200000">
              <a:off x="-452160" y="3071520"/>
              <a:ext cx="156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ISO362-2(d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7711920" y="2847960"/>
              <a:ext cx="1384560" cy="1228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7920000" y="294480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31" y="0"/>
                  </a:moveTo>
                  <a:lnTo>
                    <a:pt x="61" y="30"/>
                  </a:lnTo>
                  <a:lnTo>
                    <a:pt x="31" y="61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8240400" y="2913120"/>
              <a:ext cx="20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A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7920000" y="3201840"/>
              <a:ext cx="81000" cy="79560"/>
            </a:xfrm>
            <a:prstGeom prst="ellipse">
              <a:avLst/>
            </a:prstGeom>
            <a:noFill/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8281080" y="3168720"/>
              <a:ext cx="659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Class I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7775640" y="3506760"/>
              <a:ext cx="3855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8210520" y="3425760"/>
              <a:ext cx="6350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Linear (All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V="1">
              <a:off x="1008000" y="977400"/>
              <a:ext cx="6664320" cy="451188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218280" y="2879640"/>
              <a:ext cx="15840" cy="2617920"/>
            </a:xfrm>
            <a:custGeom>
              <a:avLst/>
              <a:gdLst/>
              <a:ahLst/>
              <a:rect l="l" t="t" r="r" b="b"/>
              <a:pathLst>
                <a:path w="16" h="2608">
                  <a:moveTo>
                    <a:pt x="0" y="2600"/>
                  </a:moveTo>
                  <a:lnTo>
                    <a:pt x="0" y="2552"/>
                  </a:lnTo>
                  <a:cubicBezTo>
                    <a:pt x="0" y="2548"/>
                    <a:pt x="4" y="2544"/>
                    <a:pt x="8" y="2544"/>
                  </a:cubicBezTo>
                  <a:cubicBezTo>
                    <a:pt x="13" y="2544"/>
                    <a:pt x="16" y="2548"/>
                    <a:pt x="16" y="2552"/>
                  </a:cubicBezTo>
                  <a:lnTo>
                    <a:pt x="16" y="2600"/>
                  </a:lnTo>
                  <a:cubicBezTo>
                    <a:pt x="16" y="2605"/>
                    <a:pt x="13" y="2608"/>
                    <a:pt x="8" y="2608"/>
                  </a:cubicBezTo>
                  <a:cubicBezTo>
                    <a:pt x="4" y="2608"/>
                    <a:pt x="0" y="2605"/>
                    <a:pt x="0" y="2600"/>
                  </a:cubicBezTo>
                  <a:close/>
                  <a:moveTo>
                    <a:pt x="0" y="2488"/>
                  </a:moveTo>
                  <a:lnTo>
                    <a:pt x="0" y="2440"/>
                  </a:lnTo>
                  <a:cubicBezTo>
                    <a:pt x="0" y="2436"/>
                    <a:pt x="4" y="2432"/>
                    <a:pt x="8" y="2432"/>
                  </a:cubicBezTo>
                  <a:cubicBezTo>
                    <a:pt x="13" y="2432"/>
                    <a:pt x="16" y="2436"/>
                    <a:pt x="16" y="2440"/>
                  </a:cubicBezTo>
                  <a:lnTo>
                    <a:pt x="16" y="2488"/>
                  </a:lnTo>
                  <a:cubicBezTo>
                    <a:pt x="16" y="2493"/>
                    <a:pt x="13" y="2496"/>
                    <a:pt x="8" y="2496"/>
                  </a:cubicBezTo>
                  <a:cubicBezTo>
                    <a:pt x="4" y="2496"/>
                    <a:pt x="0" y="2493"/>
                    <a:pt x="0" y="2488"/>
                  </a:cubicBezTo>
                  <a:close/>
                  <a:moveTo>
                    <a:pt x="0" y="2376"/>
                  </a:moveTo>
                  <a:lnTo>
                    <a:pt x="0" y="2328"/>
                  </a:lnTo>
                  <a:cubicBezTo>
                    <a:pt x="0" y="2324"/>
                    <a:pt x="4" y="2320"/>
                    <a:pt x="8" y="2320"/>
                  </a:cubicBezTo>
                  <a:cubicBezTo>
                    <a:pt x="13" y="2320"/>
                    <a:pt x="16" y="2324"/>
                    <a:pt x="16" y="2328"/>
                  </a:cubicBezTo>
                  <a:lnTo>
                    <a:pt x="16" y="2376"/>
                  </a:lnTo>
                  <a:cubicBezTo>
                    <a:pt x="16" y="2381"/>
                    <a:pt x="13" y="2384"/>
                    <a:pt x="8" y="2384"/>
                  </a:cubicBezTo>
                  <a:cubicBezTo>
                    <a:pt x="4" y="2384"/>
                    <a:pt x="0" y="2381"/>
                    <a:pt x="0" y="2376"/>
                  </a:cubicBezTo>
                  <a:close/>
                  <a:moveTo>
                    <a:pt x="0" y="2264"/>
                  </a:moveTo>
                  <a:lnTo>
                    <a:pt x="0" y="2216"/>
                  </a:lnTo>
                  <a:cubicBezTo>
                    <a:pt x="0" y="2212"/>
                    <a:pt x="4" y="2208"/>
                    <a:pt x="8" y="2208"/>
                  </a:cubicBezTo>
                  <a:cubicBezTo>
                    <a:pt x="13" y="2208"/>
                    <a:pt x="16" y="2212"/>
                    <a:pt x="16" y="2216"/>
                  </a:cubicBezTo>
                  <a:lnTo>
                    <a:pt x="16" y="2264"/>
                  </a:lnTo>
                  <a:cubicBezTo>
                    <a:pt x="16" y="2269"/>
                    <a:pt x="13" y="2272"/>
                    <a:pt x="8" y="2272"/>
                  </a:cubicBezTo>
                  <a:cubicBezTo>
                    <a:pt x="4" y="2272"/>
                    <a:pt x="0" y="2269"/>
                    <a:pt x="0" y="2264"/>
                  </a:cubicBezTo>
                  <a:close/>
                  <a:moveTo>
                    <a:pt x="0" y="2152"/>
                  </a:moveTo>
                  <a:lnTo>
                    <a:pt x="0" y="2104"/>
                  </a:lnTo>
                  <a:cubicBezTo>
                    <a:pt x="0" y="2100"/>
                    <a:pt x="4" y="2096"/>
                    <a:pt x="8" y="2096"/>
                  </a:cubicBezTo>
                  <a:cubicBezTo>
                    <a:pt x="13" y="2096"/>
                    <a:pt x="16" y="2100"/>
                    <a:pt x="16" y="2104"/>
                  </a:cubicBezTo>
                  <a:lnTo>
                    <a:pt x="16" y="2152"/>
                  </a:lnTo>
                  <a:cubicBezTo>
                    <a:pt x="16" y="2157"/>
                    <a:pt x="13" y="2160"/>
                    <a:pt x="8" y="2160"/>
                  </a:cubicBezTo>
                  <a:cubicBezTo>
                    <a:pt x="4" y="2160"/>
                    <a:pt x="0" y="2157"/>
                    <a:pt x="0" y="2152"/>
                  </a:cubicBezTo>
                  <a:close/>
                  <a:moveTo>
                    <a:pt x="0" y="2040"/>
                  </a:moveTo>
                  <a:lnTo>
                    <a:pt x="0" y="1992"/>
                  </a:lnTo>
                  <a:cubicBezTo>
                    <a:pt x="0" y="1988"/>
                    <a:pt x="4" y="1984"/>
                    <a:pt x="8" y="1984"/>
                  </a:cubicBezTo>
                  <a:cubicBezTo>
                    <a:pt x="13" y="1984"/>
                    <a:pt x="16" y="1988"/>
                    <a:pt x="16" y="1992"/>
                  </a:cubicBezTo>
                  <a:lnTo>
                    <a:pt x="16" y="2040"/>
                  </a:lnTo>
                  <a:cubicBezTo>
                    <a:pt x="16" y="2045"/>
                    <a:pt x="13" y="2048"/>
                    <a:pt x="8" y="2048"/>
                  </a:cubicBezTo>
                  <a:cubicBezTo>
                    <a:pt x="4" y="2048"/>
                    <a:pt x="0" y="2045"/>
                    <a:pt x="0" y="2040"/>
                  </a:cubicBezTo>
                  <a:close/>
                  <a:moveTo>
                    <a:pt x="0" y="1928"/>
                  </a:moveTo>
                  <a:lnTo>
                    <a:pt x="0" y="1880"/>
                  </a:lnTo>
                  <a:cubicBezTo>
                    <a:pt x="0" y="1876"/>
                    <a:pt x="4" y="1872"/>
                    <a:pt x="8" y="1872"/>
                  </a:cubicBezTo>
                  <a:cubicBezTo>
                    <a:pt x="13" y="1872"/>
                    <a:pt x="16" y="1876"/>
                    <a:pt x="16" y="1880"/>
                  </a:cubicBezTo>
                  <a:lnTo>
                    <a:pt x="16" y="1928"/>
                  </a:lnTo>
                  <a:cubicBezTo>
                    <a:pt x="16" y="1933"/>
                    <a:pt x="13" y="1936"/>
                    <a:pt x="8" y="1936"/>
                  </a:cubicBezTo>
                  <a:cubicBezTo>
                    <a:pt x="4" y="1936"/>
                    <a:pt x="0" y="1933"/>
                    <a:pt x="0" y="1928"/>
                  </a:cubicBezTo>
                  <a:close/>
                  <a:moveTo>
                    <a:pt x="0" y="1816"/>
                  </a:moveTo>
                  <a:lnTo>
                    <a:pt x="0" y="1768"/>
                  </a:lnTo>
                  <a:cubicBezTo>
                    <a:pt x="0" y="1764"/>
                    <a:pt x="4" y="1760"/>
                    <a:pt x="8" y="1760"/>
                  </a:cubicBezTo>
                  <a:cubicBezTo>
                    <a:pt x="13" y="1760"/>
                    <a:pt x="16" y="1764"/>
                    <a:pt x="16" y="1768"/>
                  </a:cubicBezTo>
                  <a:lnTo>
                    <a:pt x="16" y="1816"/>
                  </a:lnTo>
                  <a:cubicBezTo>
                    <a:pt x="16" y="1821"/>
                    <a:pt x="13" y="1824"/>
                    <a:pt x="8" y="1824"/>
                  </a:cubicBezTo>
                  <a:cubicBezTo>
                    <a:pt x="4" y="1824"/>
                    <a:pt x="0" y="1821"/>
                    <a:pt x="0" y="1816"/>
                  </a:cubicBezTo>
                  <a:close/>
                  <a:moveTo>
                    <a:pt x="0" y="1704"/>
                  </a:moveTo>
                  <a:lnTo>
                    <a:pt x="0" y="1656"/>
                  </a:lnTo>
                  <a:cubicBezTo>
                    <a:pt x="0" y="1652"/>
                    <a:pt x="4" y="1648"/>
                    <a:pt x="8" y="1648"/>
                  </a:cubicBezTo>
                  <a:cubicBezTo>
                    <a:pt x="13" y="1648"/>
                    <a:pt x="16" y="1652"/>
                    <a:pt x="16" y="1656"/>
                  </a:cubicBezTo>
                  <a:lnTo>
                    <a:pt x="16" y="1704"/>
                  </a:lnTo>
                  <a:cubicBezTo>
                    <a:pt x="16" y="1709"/>
                    <a:pt x="13" y="1712"/>
                    <a:pt x="8" y="1712"/>
                  </a:cubicBezTo>
                  <a:cubicBezTo>
                    <a:pt x="4" y="1712"/>
                    <a:pt x="0" y="1709"/>
                    <a:pt x="0" y="1704"/>
                  </a:cubicBezTo>
                  <a:close/>
                  <a:moveTo>
                    <a:pt x="0" y="1592"/>
                  </a:moveTo>
                  <a:lnTo>
                    <a:pt x="0" y="1544"/>
                  </a:lnTo>
                  <a:cubicBezTo>
                    <a:pt x="0" y="1540"/>
                    <a:pt x="4" y="1536"/>
                    <a:pt x="8" y="1536"/>
                  </a:cubicBezTo>
                  <a:cubicBezTo>
                    <a:pt x="13" y="1536"/>
                    <a:pt x="16" y="1540"/>
                    <a:pt x="16" y="1544"/>
                  </a:cubicBezTo>
                  <a:lnTo>
                    <a:pt x="16" y="1592"/>
                  </a:lnTo>
                  <a:cubicBezTo>
                    <a:pt x="16" y="1597"/>
                    <a:pt x="13" y="1600"/>
                    <a:pt x="8" y="1600"/>
                  </a:cubicBezTo>
                  <a:cubicBezTo>
                    <a:pt x="4" y="1600"/>
                    <a:pt x="0" y="1597"/>
                    <a:pt x="0" y="1592"/>
                  </a:cubicBezTo>
                  <a:close/>
                  <a:moveTo>
                    <a:pt x="0" y="1480"/>
                  </a:moveTo>
                  <a:lnTo>
                    <a:pt x="0" y="1432"/>
                  </a:lnTo>
                  <a:cubicBezTo>
                    <a:pt x="0" y="1428"/>
                    <a:pt x="4" y="1424"/>
                    <a:pt x="8" y="1424"/>
                  </a:cubicBezTo>
                  <a:cubicBezTo>
                    <a:pt x="13" y="1424"/>
                    <a:pt x="16" y="1428"/>
                    <a:pt x="16" y="1432"/>
                  </a:cubicBezTo>
                  <a:lnTo>
                    <a:pt x="16" y="1480"/>
                  </a:lnTo>
                  <a:cubicBezTo>
                    <a:pt x="16" y="1485"/>
                    <a:pt x="13" y="1488"/>
                    <a:pt x="8" y="1488"/>
                  </a:cubicBezTo>
                  <a:cubicBezTo>
                    <a:pt x="4" y="1488"/>
                    <a:pt x="0" y="1485"/>
                    <a:pt x="0" y="1480"/>
                  </a:cubicBezTo>
                  <a:close/>
                  <a:moveTo>
                    <a:pt x="0" y="1368"/>
                  </a:moveTo>
                  <a:lnTo>
                    <a:pt x="0" y="1320"/>
                  </a:lnTo>
                  <a:cubicBezTo>
                    <a:pt x="0" y="1316"/>
                    <a:pt x="4" y="1312"/>
                    <a:pt x="8" y="1312"/>
                  </a:cubicBezTo>
                  <a:cubicBezTo>
                    <a:pt x="13" y="1312"/>
                    <a:pt x="16" y="1316"/>
                    <a:pt x="16" y="1320"/>
                  </a:cubicBezTo>
                  <a:lnTo>
                    <a:pt x="16" y="1368"/>
                  </a:lnTo>
                  <a:cubicBezTo>
                    <a:pt x="16" y="1373"/>
                    <a:pt x="13" y="1376"/>
                    <a:pt x="8" y="1376"/>
                  </a:cubicBezTo>
                  <a:cubicBezTo>
                    <a:pt x="4" y="1376"/>
                    <a:pt x="0" y="1373"/>
                    <a:pt x="0" y="1368"/>
                  </a:cubicBezTo>
                  <a:close/>
                  <a:moveTo>
                    <a:pt x="0" y="1256"/>
                  </a:moveTo>
                  <a:lnTo>
                    <a:pt x="0" y="1208"/>
                  </a:lnTo>
                  <a:cubicBezTo>
                    <a:pt x="0" y="1204"/>
                    <a:pt x="4" y="1200"/>
                    <a:pt x="8" y="1200"/>
                  </a:cubicBezTo>
                  <a:cubicBezTo>
                    <a:pt x="13" y="1200"/>
                    <a:pt x="16" y="1204"/>
                    <a:pt x="16" y="1208"/>
                  </a:cubicBezTo>
                  <a:lnTo>
                    <a:pt x="16" y="1256"/>
                  </a:lnTo>
                  <a:cubicBezTo>
                    <a:pt x="16" y="1261"/>
                    <a:pt x="13" y="1264"/>
                    <a:pt x="8" y="1264"/>
                  </a:cubicBezTo>
                  <a:cubicBezTo>
                    <a:pt x="4" y="1264"/>
                    <a:pt x="0" y="1261"/>
                    <a:pt x="0" y="1256"/>
                  </a:cubicBezTo>
                  <a:close/>
                  <a:moveTo>
                    <a:pt x="0" y="1144"/>
                  </a:moveTo>
                  <a:lnTo>
                    <a:pt x="0" y="1096"/>
                  </a:lnTo>
                  <a:cubicBezTo>
                    <a:pt x="0" y="1092"/>
                    <a:pt x="4" y="1088"/>
                    <a:pt x="8" y="1088"/>
                  </a:cubicBezTo>
                  <a:cubicBezTo>
                    <a:pt x="13" y="1088"/>
                    <a:pt x="16" y="1092"/>
                    <a:pt x="16" y="1096"/>
                  </a:cubicBezTo>
                  <a:lnTo>
                    <a:pt x="16" y="1144"/>
                  </a:lnTo>
                  <a:cubicBezTo>
                    <a:pt x="16" y="1149"/>
                    <a:pt x="13" y="1152"/>
                    <a:pt x="8" y="1152"/>
                  </a:cubicBezTo>
                  <a:cubicBezTo>
                    <a:pt x="4" y="1152"/>
                    <a:pt x="0" y="1149"/>
                    <a:pt x="0" y="1144"/>
                  </a:cubicBezTo>
                  <a:close/>
                  <a:moveTo>
                    <a:pt x="0" y="1032"/>
                  </a:moveTo>
                  <a:lnTo>
                    <a:pt x="0" y="984"/>
                  </a:lnTo>
                  <a:cubicBezTo>
                    <a:pt x="0" y="980"/>
                    <a:pt x="4" y="976"/>
                    <a:pt x="8" y="976"/>
                  </a:cubicBezTo>
                  <a:cubicBezTo>
                    <a:pt x="13" y="976"/>
                    <a:pt x="16" y="980"/>
                    <a:pt x="16" y="984"/>
                  </a:cubicBezTo>
                  <a:lnTo>
                    <a:pt x="16" y="1032"/>
                  </a:lnTo>
                  <a:cubicBezTo>
                    <a:pt x="16" y="1037"/>
                    <a:pt x="13" y="1040"/>
                    <a:pt x="8" y="1040"/>
                  </a:cubicBezTo>
                  <a:cubicBezTo>
                    <a:pt x="4" y="1040"/>
                    <a:pt x="0" y="1037"/>
                    <a:pt x="0" y="1032"/>
                  </a:cubicBezTo>
                  <a:close/>
                  <a:moveTo>
                    <a:pt x="0" y="920"/>
                  </a:moveTo>
                  <a:lnTo>
                    <a:pt x="0" y="872"/>
                  </a:lnTo>
                  <a:cubicBezTo>
                    <a:pt x="0" y="868"/>
                    <a:pt x="4" y="864"/>
                    <a:pt x="8" y="864"/>
                  </a:cubicBezTo>
                  <a:cubicBezTo>
                    <a:pt x="13" y="864"/>
                    <a:pt x="16" y="868"/>
                    <a:pt x="16" y="872"/>
                  </a:cubicBezTo>
                  <a:lnTo>
                    <a:pt x="16" y="920"/>
                  </a:lnTo>
                  <a:cubicBezTo>
                    <a:pt x="16" y="925"/>
                    <a:pt x="13" y="928"/>
                    <a:pt x="8" y="928"/>
                  </a:cubicBezTo>
                  <a:cubicBezTo>
                    <a:pt x="4" y="928"/>
                    <a:pt x="0" y="925"/>
                    <a:pt x="0" y="920"/>
                  </a:cubicBezTo>
                  <a:close/>
                  <a:moveTo>
                    <a:pt x="0" y="808"/>
                  </a:moveTo>
                  <a:lnTo>
                    <a:pt x="0" y="760"/>
                  </a:lnTo>
                  <a:cubicBezTo>
                    <a:pt x="0" y="756"/>
                    <a:pt x="4" y="752"/>
                    <a:pt x="8" y="752"/>
                  </a:cubicBezTo>
                  <a:cubicBezTo>
                    <a:pt x="13" y="752"/>
                    <a:pt x="16" y="756"/>
                    <a:pt x="16" y="760"/>
                  </a:cubicBezTo>
                  <a:lnTo>
                    <a:pt x="16" y="808"/>
                  </a:lnTo>
                  <a:cubicBezTo>
                    <a:pt x="16" y="813"/>
                    <a:pt x="13" y="816"/>
                    <a:pt x="8" y="816"/>
                  </a:cubicBezTo>
                  <a:cubicBezTo>
                    <a:pt x="4" y="816"/>
                    <a:pt x="0" y="813"/>
                    <a:pt x="0" y="808"/>
                  </a:cubicBezTo>
                  <a:close/>
                  <a:moveTo>
                    <a:pt x="0" y="696"/>
                  </a:moveTo>
                  <a:lnTo>
                    <a:pt x="0" y="648"/>
                  </a:lnTo>
                  <a:cubicBezTo>
                    <a:pt x="0" y="644"/>
                    <a:pt x="4" y="640"/>
                    <a:pt x="8" y="640"/>
                  </a:cubicBezTo>
                  <a:cubicBezTo>
                    <a:pt x="13" y="640"/>
                    <a:pt x="16" y="644"/>
                    <a:pt x="16" y="648"/>
                  </a:cubicBezTo>
                  <a:lnTo>
                    <a:pt x="16" y="696"/>
                  </a:lnTo>
                  <a:cubicBezTo>
                    <a:pt x="16" y="701"/>
                    <a:pt x="13" y="704"/>
                    <a:pt x="8" y="704"/>
                  </a:cubicBezTo>
                  <a:cubicBezTo>
                    <a:pt x="4" y="704"/>
                    <a:pt x="0" y="701"/>
                    <a:pt x="0" y="696"/>
                  </a:cubicBezTo>
                  <a:close/>
                  <a:moveTo>
                    <a:pt x="0" y="584"/>
                  </a:moveTo>
                  <a:lnTo>
                    <a:pt x="0" y="536"/>
                  </a:lnTo>
                  <a:cubicBezTo>
                    <a:pt x="0" y="532"/>
                    <a:pt x="4" y="528"/>
                    <a:pt x="8" y="528"/>
                  </a:cubicBezTo>
                  <a:cubicBezTo>
                    <a:pt x="13" y="528"/>
                    <a:pt x="16" y="532"/>
                    <a:pt x="16" y="536"/>
                  </a:cubicBezTo>
                  <a:lnTo>
                    <a:pt x="16" y="584"/>
                  </a:lnTo>
                  <a:cubicBezTo>
                    <a:pt x="16" y="589"/>
                    <a:pt x="13" y="592"/>
                    <a:pt x="8" y="592"/>
                  </a:cubicBezTo>
                  <a:cubicBezTo>
                    <a:pt x="4" y="592"/>
                    <a:pt x="0" y="589"/>
                    <a:pt x="0" y="584"/>
                  </a:cubicBezTo>
                  <a:close/>
                  <a:moveTo>
                    <a:pt x="0" y="472"/>
                  </a:moveTo>
                  <a:lnTo>
                    <a:pt x="0" y="424"/>
                  </a:lnTo>
                  <a:cubicBezTo>
                    <a:pt x="0" y="420"/>
                    <a:pt x="4" y="416"/>
                    <a:pt x="8" y="416"/>
                  </a:cubicBezTo>
                  <a:cubicBezTo>
                    <a:pt x="13" y="416"/>
                    <a:pt x="16" y="420"/>
                    <a:pt x="16" y="424"/>
                  </a:cubicBezTo>
                  <a:lnTo>
                    <a:pt x="16" y="472"/>
                  </a:lnTo>
                  <a:cubicBezTo>
                    <a:pt x="16" y="477"/>
                    <a:pt x="13" y="480"/>
                    <a:pt x="8" y="480"/>
                  </a:cubicBezTo>
                  <a:cubicBezTo>
                    <a:pt x="4" y="480"/>
                    <a:pt x="0" y="477"/>
                    <a:pt x="0" y="472"/>
                  </a:cubicBezTo>
                  <a:close/>
                  <a:moveTo>
                    <a:pt x="0" y="360"/>
                  </a:moveTo>
                  <a:lnTo>
                    <a:pt x="0" y="312"/>
                  </a:lnTo>
                  <a:cubicBezTo>
                    <a:pt x="0" y="308"/>
                    <a:pt x="4" y="304"/>
                    <a:pt x="8" y="304"/>
                  </a:cubicBezTo>
                  <a:cubicBezTo>
                    <a:pt x="13" y="304"/>
                    <a:pt x="16" y="308"/>
                    <a:pt x="16" y="312"/>
                  </a:cubicBezTo>
                  <a:lnTo>
                    <a:pt x="16" y="360"/>
                  </a:lnTo>
                  <a:cubicBezTo>
                    <a:pt x="16" y="365"/>
                    <a:pt x="13" y="368"/>
                    <a:pt x="8" y="368"/>
                  </a:cubicBezTo>
                  <a:cubicBezTo>
                    <a:pt x="4" y="368"/>
                    <a:pt x="0" y="365"/>
                    <a:pt x="0" y="360"/>
                  </a:cubicBezTo>
                  <a:close/>
                  <a:moveTo>
                    <a:pt x="0" y="248"/>
                  </a:moveTo>
                  <a:lnTo>
                    <a:pt x="0" y="200"/>
                  </a:lnTo>
                  <a:cubicBezTo>
                    <a:pt x="0" y="196"/>
                    <a:pt x="4" y="192"/>
                    <a:pt x="8" y="192"/>
                  </a:cubicBezTo>
                  <a:cubicBezTo>
                    <a:pt x="13" y="192"/>
                    <a:pt x="16" y="196"/>
                    <a:pt x="16" y="200"/>
                  </a:cubicBezTo>
                  <a:lnTo>
                    <a:pt x="16" y="248"/>
                  </a:lnTo>
                  <a:cubicBezTo>
                    <a:pt x="16" y="253"/>
                    <a:pt x="13" y="256"/>
                    <a:pt x="8" y="256"/>
                  </a:cubicBezTo>
                  <a:cubicBezTo>
                    <a:pt x="4" y="256"/>
                    <a:pt x="0" y="253"/>
                    <a:pt x="0" y="248"/>
                  </a:cubicBezTo>
                  <a:close/>
                  <a:moveTo>
                    <a:pt x="0" y="136"/>
                  </a:moveTo>
                  <a:lnTo>
                    <a:pt x="0" y="88"/>
                  </a:lnTo>
                  <a:cubicBezTo>
                    <a:pt x="0" y="84"/>
                    <a:pt x="4" y="80"/>
                    <a:pt x="8" y="80"/>
                  </a:cubicBezTo>
                  <a:cubicBezTo>
                    <a:pt x="13" y="80"/>
                    <a:pt x="16" y="84"/>
                    <a:pt x="16" y="88"/>
                  </a:cubicBezTo>
                  <a:lnTo>
                    <a:pt x="16" y="136"/>
                  </a:lnTo>
                  <a:cubicBezTo>
                    <a:pt x="16" y="141"/>
                    <a:pt x="13" y="144"/>
                    <a:pt x="8" y="144"/>
                  </a:cubicBezTo>
                  <a:cubicBezTo>
                    <a:pt x="4" y="144"/>
                    <a:pt x="0" y="141"/>
                    <a:pt x="0" y="136"/>
                  </a:cubicBezTo>
                  <a:close/>
                  <a:moveTo>
                    <a:pt x="0" y="24"/>
                  </a:moveTo>
                  <a:lnTo>
                    <a:pt x="0" y="8"/>
                  </a:lnTo>
                  <a:cubicBezTo>
                    <a:pt x="0" y="4"/>
                    <a:pt x="4" y="0"/>
                    <a:pt x="8" y="0"/>
                  </a:cubicBezTo>
                  <a:cubicBezTo>
                    <a:pt x="13" y="0"/>
                    <a:pt x="16" y="4"/>
                    <a:pt x="16" y="8"/>
                  </a:cubicBezTo>
                  <a:lnTo>
                    <a:pt x="16" y="24"/>
                  </a:lnTo>
                  <a:cubicBezTo>
                    <a:pt x="16" y="29"/>
                    <a:pt x="13" y="32"/>
                    <a:pt x="8" y="32"/>
                  </a:cubicBezTo>
                  <a:cubicBezTo>
                    <a:pt x="4" y="32"/>
                    <a:pt x="0" y="29"/>
                    <a:pt x="0" y="24"/>
                  </a:cubicBez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000080" y="2879640"/>
              <a:ext cx="5234040" cy="17640"/>
            </a:xfrm>
            <a:custGeom>
              <a:avLst/>
              <a:gdLst/>
              <a:ahLst/>
              <a:rect l="l" t="t" r="r" b="b"/>
              <a:pathLst>
                <a:path w="5216" h="16">
                  <a:moveTo>
                    <a:pt x="5208" y="16"/>
                  </a:moveTo>
                  <a:lnTo>
                    <a:pt x="5160" y="16"/>
                  </a:lnTo>
                  <a:cubicBezTo>
                    <a:pt x="5156" y="16"/>
                    <a:pt x="5152" y="13"/>
                    <a:pt x="5152" y="8"/>
                  </a:cubicBezTo>
                  <a:cubicBezTo>
                    <a:pt x="5152" y="4"/>
                    <a:pt x="5156" y="0"/>
                    <a:pt x="5160" y="0"/>
                  </a:cubicBezTo>
                  <a:lnTo>
                    <a:pt x="5208" y="0"/>
                  </a:lnTo>
                  <a:cubicBezTo>
                    <a:pt x="5213" y="0"/>
                    <a:pt x="5216" y="4"/>
                    <a:pt x="5216" y="8"/>
                  </a:cubicBezTo>
                  <a:cubicBezTo>
                    <a:pt x="5216" y="13"/>
                    <a:pt x="5213" y="16"/>
                    <a:pt x="5208" y="16"/>
                  </a:cubicBezTo>
                  <a:close/>
                  <a:moveTo>
                    <a:pt x="5096" y="16"/>
                  </a:moveTo>
                  <a:lnTo>
                    <a:pt x="5048" y="16"/>
                  </a:lnTo>
                  <a:cubicBezTo>
                    <a:pt x="5044" y="16"/>
                    <a:pt x="5040" y="13"/>
                    <a:pt x="5040" y="8"/>
                  </a:cubicBezTo>
                  <a:cubicBezTo>
                    <a:pt x="5040" y="4"/>
                    <a:pt x="5044" y="0"/>
                    <a:pt x="5048" y="0"/>
                  </a:cubicBezTo>
                  <a:lnTo>
                    <a:pt x="5096" y="0"/>
                  </a:lnTo>
                  <a:cubicBezTo>
                    <a:pt x="5101" y="0"/>
                    <a:pt x="5104" y="4"/>
                    <a:pt x="5104" y="8"/>
                  </a:cubicBezTo>
                  <a:cubicBezTo>
                    <a:pt x="5104" y="13"/>
                    <a:pt x="5101" y="16"/>
                    <a:pt x="5096" y="16"/>
                  </a:cubicBezTo>
                  <a:close/>
                  <a:moveTo>
                    <a:pt x="4984" y="16"/>
                  </a:moveTo>
                  <a:lnTo>
                    <a:pt x="4936" y="16"/>
                  </a:lnTo>
                  <a:cubicBezTo>
                    <a:pt x="4932" y="16"/>
                    <a:pt x="4928" y="13"/>
                    <a:pt x="4928" y="8"/>
                  </a:cubicBezTo>
                  <a:cubicBezTo>
                    <a:pt x="4928" y="4"/>
                    <a:pt x="4932" y="0"/>
                    <a:pt x="4936" y="0"/>
                  </a:cubicBezTo>
                  <a:lnTo>
                    <a:pt x="4984" y="0"/>
                  </a:lnTo>
                  <a:cubicBezTo>
                    <a:pt x="4989" y="0"/>
                    <a:pt x="4992" y="4"/>
                    <a:pt x="4992" y="8"/>
                  </a:cubicBezTo>
                  <a:cubicBezTo>
                    <a:pt x="4992" y="13"/>
                    <a:pt x="4989" y="16"/>
                    <a:pt x="4984" y="16"/>
                  </a:cubicBezTo>
                  <a:close/>
                  <a:moveTo>
                    <a:pt x="4872" y="16"/>
                  </a:moveTo>
                  <a:lnTo>
                    <a:pt x="4824" y="16"/>
                  </a:lnTo>
                  <a:cubicBezTo>
                    <a:pt x="4820" y="16"/>
                    <a:pt x="4816" y="13"/>
                    <a:pt x="4816" y="8"/>
                  </a:cubicBezTo>
                  <a:cubicBezTo>
                    <a:pt x="4816" y="4"/>
                    <a:pt x="4820" y="0"/>
                    <a:pt x="4824" y="0"/>
                  </a:cubicBezTo>
                  <a:lnTo>
                    <a:pt x="4872" y="0"/>
                  </a:lnTo>
                  <a:cubicBezTo>
                    <a:pt x="4877" y="0"/>
                    <a:pt x="4880" y="4"/>
                    <a:pt x="4880" y="8"/>
                  </a:cubicBezTo>
                  <a:cubicBezTo>
                    <a:pt x="4880" y="13"/>
                    <a:pt x="4877" y="16"/>
                    <a:pt x="4872" y="16"/>
                  </a:cubicBezTo>
                  <a:close/>
                  <a:moveTo>
                    <a:pt x="4760" y="16"/>
                  </a:moveTo>
                  <a:lnTo>
                    <a:pt x="4712" y="16"/>
                  </a:lnTo>
                  <a:cubicBezTo>
                    <a:pt x="4708" y="16"/>
                    <a:pt x="4704" y="13"/>
                    <a:pt x="4704" y="8"/>
                  </a:cubicBezTo>
                  <a:cubicBezTo>
                    <a:pt x="4704" y="4"/>
                    <a:pt x="4708" y="0"/>
                    <a:pt x="4712" y="0"/>
                  </a:cubicBezTo>
                  <a:lnTo>
                    <a:pt x="4760" y="0"/>
                  </a:lnTo>
                  <a:cubicBezTo>
                    <a:pt x="4765" y="0"/>
                    <a:pt x="4768" y="4"/>
                    <a:pt x="4768" y="8"/>
                  </a:cubicBezTo>
                  <a:cubicBezTo>
                    <a:pt x="4768" y="13"/>
                    <a:pt x="4765" y="16"/>
                    <a:pt x="4760" y="16"/>
                  </a:cubicBezTo>
                  <a:close/>
                  <a:moveTo>
                    <a:pt x="4648" y="16"/>
                  </a:moveTo>
                  <a:lnTo>
                    <a:pt x="4600" y="16"/>
                  </a:lnTo>
                  <a:cubicBezTo>
                    <a:pt x="4596" y="16"/>
                    <a:pt x="4592" y="13"/>
                    <a:pt x="4592" y="8"/>
                  </a:cubicBezTo>
                  <a:cubicBezTo>
                    <a:pt x="4592" y="4"/>
                    <a:pt x="4596" y="0"/>
                    <a:pt x="4600" y="0"/>
                  </a:cubicBezTo>
                  <a:lnTo>
                    <a:pt x="4648" y="0"/>
                  </a:lnTo>
                  <a:cubicBezTo>
                    <a:pt x="4653" y="0"/>
                    <a:pt x="4656" y="4"/>
                    <a:pt x="4656" y="8"/>
                  </a:cubicBezTo>
                  <a:cubicBezTo>
                    <a:pt x="4656" y="13"/>
                    <a:pt x="4653" y="16"/>
                    <a:pt x="4648" y="16"/>
                  </a:cubicBezTo>
                  <a:close/>
                  <a:moveTo>
                    <a:pt x="4536" y="16"/>
                  </a:moveTo>
                  <a:lnTo>
                    <a:pt x="4488" y="16"/>
                  </a:lnTo>
                  <a:cubicBezTo>
                    <a:pt x="4484" y="16"/>
                    <a:pt x="4480" y="13"/>
                    <a:pt x="4480" y="8"/>
                  </a:cubicBezTo>
                  <a:cubicBezTo>
                    <a:pt x="4480" y="4"/>
                    <a:pt x="4484" y="0"/>
                    <a:pt x="4488" y="0"/>
                  </a:cubicBezTo>
                  <a:lnTo>
                    <a:pt x="4536" y="0"/>
                  </a:lnTo>
                  <a:cubicBezTo>
                    <a:pt x="4541" y="0"/>
                    <a:pt x="4544" y="4"/>
                    <a:pt x="4544" y="8"/>
                  </a:cubicBezTo>
                  <a:cubicBezTo>
                    <a:pt x="4544" y="13"/>
                    <a:pt x="4541" y="16"/>
                    <a:pt x="4536" y="16"/>
                  </a:cubicBezTo>
                  <a:close/>
                  <a:moveTo>
                    <a:pt x="4424" y="16"/>
                  </a:moveTo>
                  <a:lnTo>
                    <a:pt x="4376" y="16"/>
                  </a:lnTo>
                  <a:cubicBezTo>
                    <a:pt x="4372" y="16"/>
                    <a:pt x="4368" y="13"/>
                    <a:pt x="4368" y="8"/>
                  </a:cubicBezTo>
                  <a:cubicBezTo>
                    <a:pt x="4368" y="4"/>
                    <a:pt x="4372" y="0"/>
                    <a:pt x="4376" y="0"/>
                  </a:cubicBezTo>
                  <a:lnTo>
                    <a:pt x="4424" y="0"/>
                  </a:lnTo>
                  <a:cubicBezTo>
                    <a:pt x="4429" y="0"/>
                    <a:pt x="4432" y="4"/>
                    <a:pt x="4432" y="8"/>
                  </a:cubicBezTo>
                  <a:cubicBezTo>
                    <a:pt x="4432" y="13"/>
                    <a:pt x="4429" y="16"/>
                    <a:pt x="4424" y="16"/>
                  </a:cubicBezTo>
                  <a:close/>
                  <a:moveTo>
                    <a:pt x="4312" y="16"/>
                  </a:moveTo>
                  <a:lnTo>
                    <a:pt x="4264" y="16"/>
                  </a:lnTo>
                  <a:cubicBezTo>
                    <a:pt x="4260" y="16"/>
                    <a:pt x="4256" y="13"/>
                    <a:pt x="4256" y="8"/>
                  </a:cubicBezTo>
                  <a:cubicBezTo>
                    <a:pt x="4256" y="4"/>
                    <a:pt x="4260" y="0"/>
                    <a:pt x="4264" y="0"/>
                  </a:cubicBezTo>
                  <a:lnTo>
                    <a:pt x="4312" y="0"/>
                  </a:lnTo>
                  <a:cubicBezTo>
                    <a:pt x="4317" y="0"/>
                    <a:pt x="4320" y="4"/>
                    <a:pt x="4320" y="8"/>
                  </a:cubicBezTo>
                  <a:cubicBezTo>
                    <a:pt x="4320" y="13"/>
                    <a:pt x="4317" y="16"/>
                    <a:pt x="4312" y="16"/>
                  </a:cubicBezTo>
                  <a:close/>
                  <a:moveTo>
                    <a:pt x="4200" y="16"/>
                  </a:moveTo>
                  <a:lnTo>
                    <a:pt x="4152" y="16"/>
                  </a:lnTo>
                  <a:cubicBezTo>
                    <a:pt x="4148" y="16"/>
                    <a:pt x="4144" y="13"/>
                    <a:pt x="4144" y="8"/>
                  </a:cubicBezTo>
                  <a:cubicBezTo>
                    <a:pt x="4144" y="4"/>
                    <a:pt x="4148" y="0"/>
                    <a:pt x="4152" y="0"/>
                  </a:cubicBezTo>
                  <a:lnTo>
                    <a:pt x="4200" y="0"/>
                  </a:lnTo>
                  <a:cubicBezTo>
                    <a:pt x="4205" y="0"/>
                    <a:pt x="4208" y="4"/>
                    <a:pt x="4208" y="8"/>
                  </a:cubicBezTo>
                  <a:cubicBezTo>
                    <a:pt x="4208" y="13"/>
                    <a:pt x="4205" y="16"/>
                    <a:pt x="4200" y="16"/>
                  </a:cubicBezTo>
                  <a:close/>
                  <a:moveTo>
                    <a:pt x="4088" y="16"/>
                  </a:moveTo>
                  <a:lnTo>
                    <a:pt x="4040" y="16"/>
                  </a:lnTo>
                  <a:cubicBezTo>
                    <a:pt x="4036" y="16"/>
                    <a:pt x="4032" y="13"/>
                    <a:pt x="4032" y="8"/>
                  </a:cubicBezTo>
                  <a:cubicBezTo>
                    <a:pt x="4032" y="4"/>
                    <a:pt x="4036" y="0"/>
                    <a:pt x="4040" y="0"/>
                  </a:cubicBezTo>
                  <a:lnTo>
                    <a:pt x="4088" y="0"/>
                  </a:lnTo>
                  <a:cubicBezTo>
                    <a:pt x="4093" y="0"/>
                    <a:pt x="4096" y="4"/>
                    <a:pt x="4096" y="8"/>
                  </a:cubicBezTo>
                  <a:cubicBezTo>
                    <a:pt x="4096" y="13"/>
                    <a:pt x="4093" y="16"/>
                    <a:pt x="4088" y="16"/>
                  </a:cubicBezTo>
                  <a:close/>
                  <a:moveTo>
                    <a:pt x="3976" y="16"/>
                  </a:moveTo>
                  <a:lnTo>
                    <a:pt x="3928" y="16"/>
                  </a:lnTo>
                  <a:cubicBezTo>
                    <a:pt x="3924" y="16"/>
                    <a:pt x="3920" y="13"/>
                    <a:pt x="3920" y="8"/>
                  </a:cubicBezTo>
                  <a:cubicBezTo>
                    <a:pt x="3920" y="4"/>
                    <a:pt x="3924" y="0"/>
                    <a:pt x="3928" y="0"/>
                  </a:cubicBezTo>
                  <a:lnTo>
                    <a:pt x="3976" y="0"/>
                  </a:lnTo>
                  <a:cubicBezTo>
                    <a:pt x="3981" y="0"/>
                    <a:pt x="3984" y="4"/>
                    <a:pt x="3984" y="8"/>
                  </a:cubicBezTo>
                  <a:cubicBezTo>
                    <a:pt x="3984" y="13"/>
                    <a:pt x="3981" y="16"/>
                    <a:pt x="3976" y="16"/>
                  </a:cubicBezTo>
                  <a:close/>
                  <a:moveTo>
                    <a:pt x="3864" y="16"/>
                  </a:moveTo>
                  <a:lnTo>
                    <a:pt x="3816" y="16"/>
                  </a:lnTo>
                  <a:cubicBezTo>
                    <a:pt x="3812" y="16"/>
                    <a:pt x="3808" y="13"/>
                    <a:pt x="3808" y="8"/>
                  </a:cubicBezTo>
                  <a:cubicBezTo>
                    <a:pt x="3808" y="4"/>
                    <a:pt x="3812" y="0"/>
                    <a:pt x="3816" y="0"/>
                  </a:cubicBezTo>
                  <a:lnTo>
                    <a:pt x="3864" y="0"/>
                  </a:lnTo>
                  <a:cubicBezTo>
                    <a:pt x="3869" y="0"/>
                    <a:pt x="3872" y="4"/>
                    <a:pt x="3872" y="8"/>
                  </a:cubicBezTo>
                  <a:cubicBezTo>
                    <a:pt x="3872" y="13"/>
                    <a:pt x="3869" y="16"/>
                    <a:pt x="3864" y="16"/>
                  </a:cubicBezTo>
                  <a:close/>
                  <a:moveTo>
                    <a:pt x="3752" y="16"/>
                  </a:moveTo>
                  <a:lnTo>
                    <a:pt x="3704" y="16"/>
                  </a:lnTo>
                  <a:cubicBezTo>
                    <a:pt x="3700" y="16"/>
                    <a:pt x="3696" y="13"/>
                    <a:pt x="3696" y="8"/>
                  </a:cubicBezTo>
                  <a:cubicBezTo>
                    <a:pt x="3696" y="4"/>
                    <a:pt x="3700" y="0"/>
                    <a:pt x="3704" y="0"/>
                  </a:cubicBezTo>
                  <a:lnTo>
                    <a:pt x="3752" y="0"/>
                  </a:lnTo>
                  <a:cubicBezTo>
                    <a:pt x="3757" y="0"/>
                    <a:pt x="3760" y="4"/>
                    <a:pt x="3760" y="8"/>
                  </a:cubicBezTo>
                  <a:cubicBezTo>
                    <a:pt x="3760" y="13"/>
                    <a:pt x="3757" y="16"/>
                    <a:pt x="3752" y="16"/>
                  </a:cubicBezTo>
                  <a:close/>
                  <a:moveTo>
                    <a:pt x="3640" y="16"/>
                  </a:moveTo>
                  <a:lnTo>
                    <a:pt x="3592" y="16"/>
                  </a:lnTo>
                  <a:cubicBezTo>
                    <a:pt x="3588" y="16"/>
                    <a:pt x="3584" y="13"/>
                    <a:pt x="3584" y="8"/>
                  </a:cubicBezTo>
                  <a:cubicBezTo>
                    <a:pt x="3584" y="4"/>
                    <a:pt x="3588" y="0"/>
                    <a:pt x="3592" y="0"/>
                  </a:cubicBezTo>
                  <a:lnTo>
                    <a:pt x="3640" y="0"/>
                  </a:lnTo>
                  <a:cubicBezTo>
                    <a:pt x="3645" y="0"/>
                    <a:pt x="3648" y="4"/>
                    <a:pt x="3648" y="8"/>
                  </a:cubicBezTo>
                  <a:cubicBezTo>
                    <a:pt x="3648" y="13"/>
                    <a:pt x="3645" y="16"/>
                    <a:pt x="3640" y="16"/>
                  </a:cubicBezTo>
                  <a:close/>
                  <a:moveTo>
                    <a:pt x="3528" y="16"/>
                  </a:moveTo>
                  <a:lnTo>
                    <a:pt x="3480" y="16"/>
                  </a:lnTo>
                  <a:cubicBezTo>
                    <a:pt x="3476" y="16"/>
                    <a:pt x="3472" y="13"/>
                    <a:pt x="3472" y="8"/>
                  </a:cubicBezTo>
                  <a:cubicBezTo>
                    <a:pt x="3472" y="4"/>
                    <a:pt x="3476" y="0"/>
                    <a:pt x="3480" y="0"/>
                  </a:cubicBezTo>
                  <a:lnTo>
                    <a:pt x="3528" y="0"/>
                  </a:lnTo>
                  <a:cubicBezTo>
                    <a:pt x="3533" y="0"/>
                    <a:pt x="3536" y="4"/>
                    <a:pt x="3536" y="8"/>
                  </a:cubicBezTo>
                  <a:cubicBezTo>
                    <a:pt x="3536" y="13"/>
                    <a:pt x="3533" y="16"/>
                    <a:pt x="3528" y="16"/>
                  </a:cubicBezTo>
                  <a:close/>
                  <a:moveTo>
                    <a:pt x="3416" y="16"/>
                  </a:moveTo>
                  <a:lnTo>
                    <a:pt x="3368" y="16"/>
                  </a:lnTo>
                  <a:cubicBezTo>
                    <a:pt x="3364" y="16"/>
                    <a:pt x="3360" y="13"/>
                    <a:pt x="3360" y="8"/>
                  </a:cubicBezTo>
                  <a:cubicBezTo>
                    <a:pt x="3360" y="4"/>
                    <a:pt x="3364" y="0"/>
                    <a:pt x="3368" y="0"/>
                  </a:cubicBezTo>
                  <a:lnTo>
                    <a:pt x="3416" y="0"/>
                  </a:lnTo>
                  <a:cubicBezTo>
                    <a:pt x="3421" y="0"/>
                    <a:pt x="3424" y="4"/>
                    <a:pt x="3424" y="8"/>
                  </a:cubicBezTo>
                  <a:cubicBezTo>
                    <a:pt x="3424" y="13"/>
                    <a:pt x="3421" y="16"/>
                    <a:pt x="3416" y="16"/>
                  </a:cubicBezTo>
                  <a:close/>
                  <a:moveTo>
                    <a:pt x="3304" y="16"/>
                  </a:moveTo>
                  <a:lnTo>
                    <a:pt x="3256" y="16"/>
                  </a:lnTo>
                  <a:cubicBezTo>
                    <a:pt x="3252" y="16"/>
                    <a:pt x="3248" y="13"/>
                    <a:pt x="3248" y="8"/>
                  </a:cubicBezTo>
                  <a:cubicBezTo>
                    <a:pt x="3248" y="4"/>
                    <a:pt x="3252" y="0"/>
                    <a:pt x="3256" y="0"/>
                  </a:cubicBezTo>
                  <a:lnTo>
                    <a:pt x="3304" y="0"/>
                  </a:lnTo>
                  <a:cubicBezTo>
                    <a:pt x="3309" y="0"/>
                    <a:pt x="3312" y="4"/>
                    <a:pt x="3312" y="8"/>
                  </a:cubicBezTo>
                  <a:cubicBezTo>
                    <a:pt x="3312" y="13"/>
                    <a:pt x="3309" y="16"/>
                    <a:pt x="3304" y="16"/>
                  </a:cubicBezTo>
                  <a:close/>
                  <a:moveTo>
                    <a:pt x="3192" y="16"/>
                  </a:moveTo>
                  <a:lnTo>
                    <a:pt x="3144" y="16"/>
                  </a:lnTo>
                  <a:cubicBezTo>
                    <a:pt x="3140" y="16"/>
                    <a:pt x="3136" y="13"/>
                    <a:pt x="3136" y="8"/>
                  </a:cubicBezTo>
                  <a:cubicBezTo>
                    <a:pt x="3136" y="4"/>
                    <a:pt x="3140" y="0"/>
                    <a:pt x="3144" y="0"/>
                  </a:cubicBezTo>
                  <a:lnTo>
                    <a:pt x="3192" y="0"/>
                  </a:lnTo>
                  <a:cubicBezTo>
                    <a:pt x="3197" y="0"/>
                    <a:pt x="3200" y="4"/>
                    <a:pt x="3200" y="8"/>
                  </a:cubicBezTo>
                  <a:cubicBezTo>
                    <a:pt x="3200" y="13"/>
                    <a:pt x="3197" y="16"/>
                    <a:pt x="3192" y="16"/>
                  </a:cubicBezTo>
                  <a:close/>
                  <a:moveTo>
                    <a:pt x="3080" y="16"/>
                  </a:moveTo>
                  <a:lnTo>
                    <a:pt x="3032" y="16"/>
                  </a:lnTo>
                  <a:cubicBezTo>
                    <a:pt x="3028" y="16"/>
                    <a:pt x="3024" y="13"/>
                    <a:pt x="3024" y="8"/>
                  </a:cubicBezTo>
                  <a:cubicBezTo>
                    <a:pt x="3024" y="4"/>
                    <a:pt x="3028" y="0"/>
                    <a:pt x="3032" y="0"/>
                  </a:cubicBezTo>
                  <a:lnTo>
                    <a:pt x="3080" y="0"/>
                  </a:lnTo>
                  <a:cubicBezTo>
                    <a:pt x="3085" y="0"/>
                    <a:pt x="3088" y="4"/>
                    <a:pt x="3088" y="8"/>
                  </a:cubicBezTo>
                  <a:cubicBezTo>
                    <a:pt x="3088" y="13"/>
                    <a:pt x="3085" y="16"/>
                    <a:pt x="3080" y="16"/>
                  </a:cubicBezTo>
                  <a:close/>
                  <a:moveTo>
                    <a:pt x="2968" y="16"/>
                  </a:moveTo>
                  <a:lnTo>
                    <a:pt x="2920" y="16"/>
                  </a:lnTo>
                  <a:cubicBezTo>
                    <a:pt x="2916" y="16"/>
                    <a:pt x="2912" y="13"/>
                    <a:pt x="2912" y="8"/>
                  </a:cubicBezTo>
                  <a:cubicBezTo>
                    <a:pt x="2912" y="4"/>
                    <a:pt x="2916" y="0"/>
                    <a:pt x="2920" y="0"/>
                  </a:cubicBezTo>
                  <a:lnTo>
                    <a:pt x="2968" y="0"/>
                  </a:lnTo>
                  <a:cubicBezTo>
                    <a:pt x="2973" y="0"/>
                    <a:pt x="2976" y="4"/>
                    <a:pt x="2976" y="8"/>
                  </a:cubicBezTo>
                  <a:cubicBezTo>
                    <a:pt x="2976" y="13"/>
                    <a:pt x="2973" y="16"/>
                    <a:pt x="2968" y="16"/>
                  </a:cubicBezTo>
                  <a:close/>
                  <a:moveTo>
                    <a:pt x="2856" y="16"/>
                  </a:moveTo>
                  <a:lnTo>
                    <a:pt x="2808" y="16"/>
                  </a:lnTo>
                  <a:cubicBezTo>
                    <a:pt x="2804" y="16"/>
                    <a:pt x="2800" y="13"/>
                    <a:pt x="2800" y="8"/>
                  </a:cubicBezTo>
                  <a:cubicBezTo>
                    <a:pt x="2800" y="4"/>
                    <a:pt x="2804" y="0"/>
                    <a:pt x="2808" y="0"/>
                  </a:cubicBezTo>
                  <a:lnTo>
                    <a:pt x="2856" y="0"/>
                  </a:lnTo>
                  <a:cubicBezTo>
                    <a:pt x="2861" y="0"/>
                    <a:pt x="2864" y="4"/>
                    <a:pt x="2864" y="8"/>
                  </a:cubicBezTo>
                  <a:cubicBezTo>
                    <a:pt x="2864" y="13"/>
                    <a:pt x="2861" y="16"/>
                    <a:pt x="2856" y="16"/>
                  </a:cubicBezTo>
                  <a:close/>
                  <a:moveTo>
                    <a:pt x="2744" y="16"/>
                  </a:moveTo>
                  <a:lnTo>
                    <a:pt x="2696" y="16"/>
                  </a:lnTo>
                  <a:cubicBezTo>
                    <a:pt x="2692" y="16"/>
                    <a:pt x="2688" y="13"/>
                    <a:pt x="2688" y="8"/>
                  </a:cubicBezTo>
                  <a:cubicBezTo>
                    <a:pt x="2688" y="4"/>
                    <a:pt x="2692" y="0"/>
                    <a:pt x="2696" y="0"/>
                  </a:cubicBezTo>
                  <a:lnTo>
                    <a:pt x="2744" y="0"/>
                  </a:lnTo>
                  <a:cubicBezTo>
                    <a:pt x="2749" y="0"/>
                    <a:pt x="2752" y="4"/>
                    <a:pt x="2752" y="8"/>
                  </a:cubicBezTo>
                  <a:cubicBezTo>
                    <a:pt x="2752" y="13"/>
                    <a:pt x="2749" y="16"/>
                    <a:pt x="2744" y="16"/>
                  </a:cubicBezTo>
                  <a:close/>
                  <a:moveTo>
                    <a:pt x="2632" y="16"/>
                  </a:moveTo>
                  <a:lnTo>
                    <a:pt x="2584" y="16"/>
                  </a:lnTo>
                  <a:cubicBezTo>
                    <a:pt x="2580" y="16"/>
                    <a:pt x="2576" y="13"/>
                    <a:pt x="2576" y="8"/>
                  </a:cubicBezTo>
                  <a:cubicBezTo>
                    <a:pt x="2576" y="4"/>
                    <a:pt x="2580" y="0"/>
                    <a:pt x="2584" y="0"/>
                  </a:cubicBezTo>
                  <a:lnTo>
                    <a:pt x="2632" y="0"/>
                  </a:lnTo>
                  <a:cubicBezTo>
                    <a:pt x="2637" y="0"/>
                    <a:pt x="2640" y="4"/>
                    <a:pt x="2640" y="8"/>
                  </a:cubicBezTo>
                  <a:cubicBezTo>
                    <a:pt x="2640" y="13"/>
                    <a:pt x="2637" y="16"/>
                    <a:pt x="2632" y="16"/>
                  </a:cubicBezTo>
                  <a:close/>
                  <a:moveTo>
                    <a:pt x="2520" y="16"/>
                  </a:moveTo>
                  <a:lnTo>
                    <a:pt x="2472" y="16"/>
                  </a:lnTo>
                  <a:cubicBezTo>
                    <a:pt x="2468" y="16"/>
                    <a:pt x="2464" y="13"/>
                    <a:pt x="2464" y="8"/>
                  </a:cubicBezTo>
                  <a:cubicBezTo>
                    <a:pt x="2464" y="4"/>
                    <a:pt x="2468" y="0"/>
                    <a:pt x="2472" y="0"/>
                  </a:cubicBezTo>
                  <a:lnTo>
                    <a:pt x="2520" y="0"/>
                  </a:lnTo>
                  <a:cubicBezTo>
                    <a:pt x="2525" y="0"/>
                    <a:pt x="2528" y="4"/>
                    <a:pt x="2528" y="8"/>
                  </a:cubicBezTo>
                  <a:cubicBezTo>
                    <a:pt x="2528" y="13"/>
                    <a:pt x="2525" y="16"/>
                    <a:pt x="2520" y="16"/>
                  </a:cubicBezTo>
                  <a:close/>
                  <a:moveTo>
                    <a:pt x="2408" y="16"/>
                  </a:moveTo>
                  <a:lnTo>
                    <a:pt x="2360" y="16"/>
                  </a:lnTo>
                  <a:cubicBezTo>
                    <a:pt x="2356" y="16"/>
                    <a:pt x="2352" y="13"/>
                    <a:pt x="2352" y="8"/>
                  </a:cubicBezTo>
                  <a:cubicBezTo>
                    <a:pt x="2352" y="4"/>
                    <a:pt x="2356" y="0"/>
                    <a:pt x="2360" y="0"/>
                  </a:cubicBezTo>
                  <a:lnTo>
                    <a:pt x="2408" y="0"/>
                  </a:lnTo>
                  <a:cubicBezTo>
                    <a:pt x="2413" y="0"/>
                    <a:pt x="2416" y="4"/>
                    <a:pt x="2416" y="8"/>
                  </a:cubicBezTo>
                  <a:cubicBezTo>
                    <a:pt x="2416" y="13"/>
                    <a:pt x="2413" y="16"/>
                    <a:pt x="2408" y="16"/>
                  </a:cubicBezTo>
                  <a:close/>
                  <a:moveTo>
                    <a:pt x="2296" y="16"/>
                  </a:moveTo>
                  <a:lnTo>
                    <a:pt x="2248" y="16"/>
                  </a:lnTo>
                  <a:cubicBezTo>
                    <a:pt x="2244" y="16"/>
                    <a:pt x="2240" y="13"/>
                    <a:pt x="2240" y="8"/>
                  </a:cubicBezTo>
                  <a:cubicBezTo>
                    <a:pt x="2240" y="4"/>
                    <a:pt x="2244" y="0"/>
                    <a:pt x="2248" y="0"/>
                  </a:cubicBezTo>
                  <a:lnTo>
                    <a:pt x="2296" y="0"/>
                  </a:lnTo>
                  <a:cubicBezTo>
                    <a:pt x="2301" y="0"/>
                    <a:pt x="2304" y="4"/>
                    <a:pt x="2304" y="8"/>
                  </a:cubicBezTo>
                  <a:cubicBezTo>
                    <a:pt x="2304" y="13"/>
                    <a:pt x="2301" y="16"/>
                    <a:pt x="2296" y="16"/>
                  </a:cubicBezTo>
                  <a:close/>
                  <a:moveTo>
                    <a:pt x="2184" y="16"/>
                  </a:moveTo>
                  <a:lnTo>
                    <a:pt x="2136" y="16"/>
                  </a:lnTo>
                  <a:cubicBezTo>
                    <a:pt x="2132" y="16"/>
                    <a:pt x="2128" y="13"/>
                    <a:pt x="2128" y="8"/>
                  </a:cubicBezTo>
                  <a:cubicBezTo>
                    <a:pt x="2128" y="4"/>
                    <a:pt x="2132" y="0"/>
                    <a:pt x="2136" y="0"/>
                  </a:cubicBezTo>
                  <a:lnTo>
                    <a:pt x="2184" y="0"/>
                  </a:lnTo>
                  <a:cubicBezTo>
                    <a:pt x="2189" y="0"/>
                    <a:pt x="2192" y="4"/>
                    <a:pt x="2192" y="8"/>
                  </a:cubicBezTo>
                  <a:cubicBezTo>
                    <a:pt x="2192" y="13"/>
                    <a:pt x="2189" y="16"/>
                    <a:pt x="2184" y="16"/>
                  </a:cubicBezTo>
                  <a:close/>
                  <a:moveTo>
                    <a:pt x="2072" y="16"/>
                  </a:moveTo>
                  <a:lnTo>
                    <a:pt x="2024" y="16"/>
                  </a:lnTo>
                  <a:cubicBezTo>
                    <a:pt x="2020" y="16"/>
                    <a:pt x="2016" y="13"/>
                    <a:pt x="2016" y="8"/>
                  </a:cubicBezTo>
                  <a:cubicBezTo>
                    <a:pt x="2016" y="4"/>
                    <a:pt x="2020" y="0"/>
                    <a:pt x="2024" y="0"/>
                  </a:cubicBezTo>
                  <a:lnTo>
                    <a:pt x="2072" y="0"/>
                  </a:lnTo>
                  <a:cubicBezTo>
                    <a:pt x="2077" y="0"/>
                    <a:pt x="2080" y="4"/>
                    <a:pt x="2080" y="8"/>
                  </a:cubicBezTo>
                  <a:cubicBezTo>
                    <a:pt x="2080" y="13"/>
                    <a:pt x="2077" y="16"/>
                    <a:pt x="2072" y="16"/>
                  </a:cubicBezTo>
                  <a:close/>
                  <a:moveTo>
                    <a:pt x="1960" y="16"/>
                  </a:moveTo>
                  <a:lnTo>
                    <a:pt x="1912" y="16"/>
                  </a:lnTo>
                  <a:cubicBezTo>
                    <a:pt x="1908" y="16"/>
                    <a:pt x="1904" y="13"/>
                    <a:pt x="1904" y="8"/>
                  </a:cubicBezTo>
                  <a:cubicBezTo>
                    <a:pt x="1904" y="4"/>
                    <a:pt x="1908" y="0"/>
                    <a:pt x="1912" y="0"/>
                  </a:cubicBezTo>
                  <a:lnTo>
                    <a:pt x="1960" y="0"/>
                  </a:lnTo>
                  <a:cubicBezTo>
                    <a:pt x="1965" y="0"/>
                    <a:pt x="1968" y="4"/>
                    <a:pt x="1968" y="8"/>
                  </a:cubicBezTo>
                  <a:cubicBezTo>
                    <a:pt x="1968" y="13"/>
                    <a:pt x="1965" y="16"/>
                    <a:pt x="1960" y="16"/>
                  </a:cubicBezTo>
                  <a:close/>
                  <a:moveTo>
                    <a:pt x="1848" y="16"/>
                  </a:moveTo>
                  <a:lnTo>
                    <a:pt x="1800" y="16"/>
                  </a:lnTo>
                  <a:cubicBezTo>
                    <a:pt x="1796" y="16"/>
                    <a:pt x="1792" y="13"/>
                    <a:pt x="1792" y="8"/>
                  </a:cubicBezTo>
                  <a:cubicBezTo>
                    <a:pt x="1792" y="4"/>
                    <a:pt x="1796" y="0"/>
                    <a:pt x="1800" y="0"/>
                  </a:cubicBezTo>
                  <a:lnTo>
                    <a:pt x="1848" y="0"/>
                  </a:lnTo>
                  <a:cubicBezTo>
                    <a:pt x="1853" y="0"/>
                    <a:pt x="1856" y="4"/>
                    <a:pt x="1856" y="8"/>
                  </a:cubicBezTo>
                  <a:cubicBezTo>
                    <a:pt x="1856" y="13"/>
                    <a:pt x="1853" y="16"/>
                    <a:pt x="1848" y="16"/>
                  </a:cubicBezTo>
                  <a:close/>
                  <a:moveTo>
                    <a:pt x="1736" y="16"/>
                  </a:moveTo>
                  <a:lnTo>
                    <a:pt x="1688" y="16"/>
                  </a:lnTo>
                  <a:cubicBezTo>
                    <a:pt x="1684" y="16"/>
                    <a:pt x="1680" y="13"/>
                    <a:pt x="1680" y="8"/>
                  </a:cubicBezTo>
                  <a:cubicBezTo>
                    <a:pt x="1680" y="4"/>
                    <a:pt x="1684" y="0"/>
                    <a:pt x="1688" y="0"/>
                  </a:cubicBezTo>
                  <a:lnTo>
                    <a:pt x="1736" y="0"/>
                  </a:lnTo>
                  <a:cubicBezTo>
                    <a:pt x="1741" y="0"/>
                    <a:pt x="1744" y="4"/>
                    <a:pt x="1744" y="8"/>
                  </a:cubicBezTo>
                  <a:cubicBezTo>
                    <a:pt x="1744" y="13"/>
                    <a:pt x="1741" y="16"/>
                    <a:pt x="1736" y="16"/>
                  </a:cubicBezTo>
                  <a:close/>
                  <a:moveTo>
                    <a:pt x="1624" y="16"/>
                  </a:moveTo>
                  <a:lnTo>
                    <a:pt x="1576" y="16"/>
                  </a:lnTo>
                  <a:cubicBezTo>
                    <a:pt x="1572" y="16"/>
                    <a:pt x="1568" y="13"/>
                    <a:pt x="1568" y="8"/>
                  </a:cubicBezTo>
                  <a:cubicBezTo>
                    <a:pt x="1568" y="4"/>
                    <a:pt x="1572" y="0"/>
                    <a:pt x="1576" y="0"/>
                  </a:cubicBezTo>
                  <a:lnTo>
                    <a:pt x="1624" y="0"/>
                  </a:lnTo>
                  <a:cubicBezTo>
                    <a:pt x="1629" y="0"/>
                    <a:pt x="1632" y="4"/>
                    <a:pt x="1632" y="8"/>
                  </a:cubicBezTo>
                  <a:cubicBezTo>
                    <a:pt x="1632" y="13"/>
                    <a:pt x="1629" y="16"/>
                    <a:pt x="1624" y="16"/>
                  </a:cubicBezTo>
                  <a:close/>
                  <a:moveTo>
                    <a:pt x="1512" y="16"/>
                  </a:moveTo>
                  <a:lnTo>
                    <a:pt x="1464" y="16"/>
                  </a:lnTo>
                  <a:cubicBezTo>
                    <a:pt x="1460" y="16"/>
                    <a:pt x="1456" y="13"/>
                    <a:pt x="1456" y="8"/>
                  </a:cubicBezTo>
                  <a:cubicBezTo>
                    <a:pt x="1456" y="4"/>
                    <a:pt x="1460" y="0"/>
                    <a:pt x="1464" y="0"/>
                  </a:cubicBezTo>
                  <a:lnTo>
                    <a:pt x="1512" y="0"/>
                  </a:lnTo>
                  <a:cubicBezTo>
                    <a:pt x="1517" y="0"/>
                    <a:pt x="1520" y="4"/>
                    <a:pt x="1520" y="8"/>
                  </a:cubicBezTo>
                  <a:cubicBezTo>
                    <a:pt x="1520" y="13"/>
                    <a:pt x="1517" y="16"/>
                    <a:pt x="1512" y="16"/>
                  </a:cubicBezTo>
                  <a:close/>
                  <a:moveTo>
                    <a:pt x="1400" y="16"/>
                  </a:moveTo>
                  <a:lnTo>
                    <a:pt x="1352" y="16"/>
                  </a:lnTo>
                  <a:cubicBezTo>
                    <a:pt x="1348" y="16"/>
                    <a:pt x="1344" y="13"/>
                    <a:pt x="1344" y="8"/>
                  </a:cubicBezTo>
                  <a:cubicBezTo>
                    <a:pt x="1344" y="4"/>
                    <a:pt x="1348" y="0"/>
                    <a:pt x="1352" y="0"/>
                  </a:cubicBezTo>
                  <a:lnTo>
                    <a:pt x="1400" y="0"/>
                  </a:lnTo>
                  <a:cubicBezTo>
                    <a:pt x="1405" y="0"/>
                    <a:pt x="1408" y="4"/>
                    <a:pt x="1408" y="8"/>
                  </a:cubicBezTo>
                  <a:cubicBezTo>
                    <a:pt x="1408" y="13"/>
                    <a:pt x="1405" y="16"/>
                    <a:pt x="1400" y="16"/>
                  </a:cubicBezTo>
                  <a:close/>
                  <a:moveTo>
                    <a:pt x="1288" y="16"/>
                  </a:moveTo>
                  <a:lnTo>
                    <a:pt x="1240" y="16"/>
                  </a:lnTo>
                  <a:cubicBezTo>
                    <a:pt x="1236" y="16"/>
                    <a:pt x="1232" y="13"/>
                    <a:pt x="1232" y="8"/>
                  </a:cubicBezTo>
                  <a:cubicBezTo>
                    <a:pt x="1232" y="4"/>
                    <a:pt x="1236" y="0"/>
                    <a:pt x="1240" y="0"/>
                  </a:cubicBezTo>
                  <a:lnTo>
                    <a:pt x="1288" y="0"/>
                  </a:lnTo>
                  <a:cubicBezTo>
                    <a:pt x="1293" y="0"/>
                    <a:pt x="1296" y="4"/>
                    <a:pt x="1296" y="8"/>
                  </a:cubicBezTo>
                  <a:cubicBezTo>
                    <a:pt x="1296" y="13"/>
                    <a:pt x="1293" y="16"/>
                    <a:pt x="1288" y="16"/>
                  </a:cubicBezTo>
                  <a:close/>
                  <a:moveTo>
                    <a:pt x="1176" y="16"/>
                  </a:moveTo>
                  <a:lnTo>
                    <a:pt x="1128" y="16"/>
                  </a:lnTo>
                  <a:cubicBezTo>
                    <a:pt x="1124" y="16"/>
                    <a:pt x="1120" y="13"/>
                    <a:pt x="1120" y="8"/>
                  </a:cubicBezTo>
                  <a:cubicBezTo>
                    <a:pt x="1120" y="4"/>
                    <a:pt x="1124" y="0"/>
                    <a:pt x="1128" y="0"/>
                  </a:cubicBezTo>
                  <a:lnTo>
                    <a:pt x="1176" y="0"/>
                  </a:lnTo>
                  <a:cubicBezTo>
                    <a:pt x="1181" y="0"/>
                    <a:pt x="1184" y="4"/>
                    <a:pt x="1184" y="8"/>
                  </a:cubicBezTo>
                  <a:cubicBezTo>
                    <a:pt x="1184" y="13"/>
                    <a:pt x="1181" y="16"/>
                    <a:pt x="1176" y="16"/>
                  </a:cubicBezTo>
                  <a:close/>
                  <a:moveTo>
                    <a:pt x="1064" y="16"/>
                  </a:moveTo>
                  <a:lnTo>
                    <a:pt x="1016" y="16"/>
                  </a:lnTo>
                  <a:cubicBezTo>
                    <a:pt x="1012" y="16"/>
                    <a:pt x="1008" y="13"/>
                    <a:pt x="1008" y="8"/>
                  </a:cubicBezTo>
                  <a:cubicBezTo>
                    <a:pt x="1008" y="4"/>
                    <a:pt x="1012" y="0"/>
                    <a:pt x="1016" y="0"/>
                  </a:cubicBezTo>
                  <a:lnTo>
                    <a:pt x="1064" y="0"/>
                  </a:lnTo>
                  <a:cubicBezTo>
                    <a:pt x="1069" y="0"/>
                    <a:pt x="1072" y="4"/>
                    <a:pt x="1072" y="8"/>
                  </a:cubicBezTo>
                  <a:cubicBezTo>
                    <a:pt x="1072" y="13"/>
                    <a:pt x="1069" y="16"/>
                    <a:pt x="1064" y="16"/>
                  </a:cubicBezTo>
                  <a:close/>
                  <a:moveTo>
                    <a:pt x="952" y="16"/>
                  </a:moveTo>
                  <a:lnTo>
                    <a:pt x="904" y="16"/>
                  </a:lnTo>
                  <a:cubicBezTo>
                    <a:pt x="900" y="16"/>
                    <a:pt x="896" y="13"/>
                    <a:pt x="896" y="8"/>
                  </a:cubicBezTo>
                  <a:cubicBezTo>
                    <a:pt x="896" y="4"/>
                    <a:pt x="900" y="0"/>
                    <a:pt x="904" y="0"/>
                  </a:cubicBezTo>
                  <a:lnTo>
                    <a:pt x="952" y="0"/>
                  </a:lnTo>
                  <a:cubicBezTo>
                    <a:pt x="957" y="0"/>
                    <a:pt x="960" y="4"/>
                    <a:pt x="960" y="8"/>
                  </a:cubicBezTo>
                  <a:cubicBezTo>
                    <a:pt x="960" y="13"/>
                    <a:pt x="957" y="16"/>
                    <a:pt x="952" y="16"/>
                  </a:cubicBezTo>
                  <a:close/>
                  <a:moveTo>
                    <a:pt x="840" y="16"/>
                  </a:moveTo>
                  <a:lnTo>
                    <a:pt x="792" y="16"/>
                  </a:lnTo>
                  <a:cubicBezTo>
                    <a:pt x="788" y="16"/>
                    <a:pt x="784" y="13"/>
                    <a:pt x="784" y="8"/>
                  </a:cubicBezTo>
                  <a:cubicBezTo>
                    <a:pt x="784" y="4"/>
                    <a:pt x="788" y="0"/>
                    <a:pt x="792" y="0"/>
                  </a:cubicBezTo>
                  <a:lnTo>
                    <a:pt x="840" y="0"/>
                  </a:lnTo>
                  <a:cubicBezTo>
                    <a:pt x="845" y="0"/>
                    <a:pt x="848" y="4"/>
                    <a:pt x="848" y="8"/>
                  </a:cubicBezTo>
                  <a:cubicBezTo>
                    <a:pt x="848" y="13"/>
                    <a:pt x="845" y="16"/>
                    <a:pt x="840" y="16"/>
                  </a:cubicBezTo>
                  <a:close/>
                  <a:moveTo>
                    <a:pt x="728" y="16"/>
                  </a:moveTo>
                  <a:lnTo>
                    <a:pt x="680" y="16"/>
                  </a:lnTo>
                  <a:cubicBezTo>
                    <a:pt x="676" y="16"/>
                    <a:pt x="672" y="13"/>
                    <a:pt x="672" y="8"/>
                  </a:cubicBezTo>
                  <a:cubicBezTo>
                    <a:pt x="672" y="4"/>
                    <a:pt x="676" y="0"/>
                    <a:pt x="680" y="0"/>
                  </a:cubicBezTo>
                  <a:lnTo>
                    <a:pt x="728" y="0"/>
                  </a:lnTo>
                  <a:cubicBezTo>
                    <a:pt x="733" y="0"/>
                    <a:pt x="736" y="4"/>
                    <a:pt x="736" y="8"/>
                  </a:cubicBezTo>
                  <a:cubicBezTo>
                    <a:pt x="736" y="13"/>
                    <a:pt x="733" y="16"/>
                    <a:pt x="728" y="16"/>
                  </a:cubicBezTo>
                  <a:close/>
                  <a:moveTo>
                    <a:pt x="616" y="16"/>
                  </a:moveTo>
                  <a:lnTo>
                    <a:pt x="568" y="16"/>
                  </a:lnTo>
                  <a:cubicBezTo>
                    <a:pt x="564" y="16"/>
                    <a:pt x="560" y="13"/>
                    <a:pt x="560" y="8"/>
                  </a:cubicBezTo>
                  <a:cubicBezTo>
                    <a:pt x="560" y="4"/>
                    <a:pt x="564" y="0"/>
                    <a:pt x="568" y="0"/>
                  </a:cubicBezTo>
                  <a:lnTo>
                    <a:pt x="616" y="0"/>
                  </a:lnTo>
                  <a:cubicBezTo>
                    <a:pt x="621" y="0"/>
                    <a:pt x="624" y="4"/>
                    <a:pt x="624" y="8"/>
                  </a:cubicBezTo>
                  <a:cubicBezTo>
                    <a:pt x="624" y="13"/>
                    <a:pt x="621" y="16"/>
                    <a:pt x="616" y="16"/>
                  </a:cubicBezTo>
                  <a:close/>
                  <a:moveTo>
                    <a:pt x="504" y="16"/>
                  </a:moveTo>
                  <a:lnTo>
                    <a:pt x="456" y="16"/>
                  </a:lnTo>
                  <a:cubicBezTo>
                    <a:pt x="452" y="16"/>
                    <a:pt x="448" y="13"/>
                    <a:pt x="448" y="8"/>
                  </a:cubicBezTo>
                  <a:cubicBezTo>
                    <a:pt x="448" y="4"/>
                    <a:pt x="452" y="0"/>
                    <a:pt x="456" y="0"/>
                  </a:cubicBezTo>
                  <a:lnTo>
                    <a:pt x="504" y="0"/>
                  </a:lnTo>
                  <a:cubicBezTo>
                    <a:pt x="509" y="0"/>
                    <a:pt x="512" y="4"/>
                    <a:pt x="512" y="8"/>
                  </a:cubicBezTo>
                  <a:cubicBezTo>
                    <a:pt x="512" y="13"/>
                    <a:pt x="509" y="16"/>
                    <a:pt x="504" y="16"/>
                  </a:cubicBezTo>
                  <a:close/>
                  <a:moveTo>
                    <a:pt x="392" y="16"/>
                  </a:moveTo>
                  <a:lnTo>
                    <a:pt x="344" y="16"/>
                  </a:lnTo>
                  <a:cubicBezTo>
                    <a:pt x="340" y="16"/>
                    <a:pt x="336" y="13"/>
                    <a:pt x="336" y="8"/>
                  </a:cubicBezTo>
                  <a:cubicBezTo>
                    <a:pt x="336" y="4"/>
                    <a:pt x="340" y="0"/>
                    <a:pt x="344" y="0"/>
                  </a:cubicBezTo>
                  <a:lnTo>
                    <a:pt x="392" y="0"/>
                  </a:lnTo>
                  <a:cubicBezTo>
                    <a:pt x="397" y="0"/>
                    <a:pt x="400" y="4"/>
                    <a:pt x="400" y="8"/>
                  </a:cubicBezTo>
                  <a:cubicBezTo>
                    <a:pt x="400" y="13"/>
                    <a:pt x="397" y="16"/>
                    <a:pt x="392" y="16"/>
                  </a:cubicBezTo>
                  <a:close/>
                  <a:moveTo>
                    <a:pt x="280" y="16"/>
                  </a:moveTo>
                  <a:lnTo>
                    <a:pt x="232" y="16"/>
                  </a:lnTo>
                  <a:cubicBezTo>
                    <a:pt x="228" y="16"/>
                    <a:pt x="224" y="13"/>
                    <a:pt x="224" y="8"/>
                  </a:cubicBezTo>
                  <a:cubicBezTo>
                    <a:pt x="224" y="4"/>
                    <a:pt x="228" y="0"/>
                    <a:pt x="232" y="0"/>
                  </a:cubicBezTo>
                  <a:lnTo>
                    <a:pt x="280" y="0"/>
                  </a:lnTo>
                  <a:cubicBezTo>
                    <a:pt x="285" y="0"/>
                    <a:pt x="288" y="4"/>
                    <a:pt x="288" y="8"/>
                  </a:cubicBezTo>
                  <a:cubicBezTo>
                    <a:pt x="288" y="13"/>
                    <a:pt x="285" y="16"/>
                    <a:pt x="280" y="16"/>
                  </a:cubicBezTo>
                  <a:close/>
                  <a:moveTo>
                    <a:pt x="168" y="16"/>
                  </a:moveTo>
                  <a:lnTo>
                    <a:pt x="120" y="16"/>
                  </a:lnTo>
                  <a:cubicBezTo>
                    <a:pt x="116" y="16"/>
                    <a:pt x="112" y="13"/>
                    <a:pt x="112" y="8"/>
                  </a:cubicBezTo>
                  <a:cubicBezTo>
                    <a:pt x="112" y="4"/>
                    <a:pt x="116" y="0"/>
                    <a:pt x="120" y="0"/>
                  </a:cubicBezTo>
                  <a:lnTo>
                    <a:pt x="168" y="0"/>
                  </a:lnTo>
                  <a:cubicBezTo>
                    <a:pt x="173" y="0"/>
                    <a:pt x="176" y="4"/>
                    <a:pt x="176" y="8"/>
                  </a:cubicBezTo>
                  <a:cubicBezTo>
                    <a:pt x="176" y="13"/>
                    <a:pt x="173" y="16"/>
                    <a:pt x="168" y="16"/>
                  </a:cubicBezTo>
                  <a:close/>
                  <a:moveTo>
                    <a:pt x="56" y="16"/>
                  </a:moveTo>
                  <a:lnTo>
                    <a:pt x="8" y="16"/>
                  </a:lnTo>
                  <a:cubicBezTo>
                    <a:pt x="4" y="16"/>
                    <a:pt x="0" y="13"/>
                    <a:pt x="0" y="8"/>
                  </a:cubicBezTo>
                  <a:cubicBezTo>
                    <a:pt x="0" y="4"/>
                    <a:pt x="4" y="0"/>
                    <a:pt x="8" y="0"/>
                  </a:cubicBezTo>
                  <a:lnTo>
                    <a:pt x="56" y="0"/>
                  </a:lnTo>
                  <a:cubicBezTo>
                    <a:pt x="61" y="0"/>
                    <a:pt x="64" y="4"/>
                    <a:pt x="64" y="8"/>
                  </a:cubicBezTo>
                  <a:cubicBezTo>
                    <a:pt x="64" y="13"/>
                    <a:pt x="61" y="16"/>
                    <a:pt x="56" y="16"/>
                  </a:cubicBez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 flipV="1">
              <a:off x="971640" y="2204640"/>
              <a:ext cx="6696000" cy="331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 algn="ctr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ment of validity and practicability of ASEP 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395280" y="2421000"/>
            <a:ext cx="8497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Introductory rema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he present analysis is based on the R41WG database in its most recent form; future complementary test data and insights could affect conclusions reached to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"/>
          <p:cNvSpPr/>
          <p:nvPr/>
        </p:nvSpPr>
        <p:spPr>
          <a:xfrm>
            <a:off x="250920" y="5805360"/>
            <a:ext cx="298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N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EP graphs for Japanese motorcycles include data for 4th gear testing as per Japanese noise legis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2" name="" descr=""/>
          <p:cNvPicPr/>
          <p:nvPr/>
        </p:nvPicPr>
        <p:blipFill>
          <a:blip r:embed="rId1"/>
          <a:stretch/>
        </p:blipFill>
        <p:spPr>
          <a:xfrm>
            <a:off x="8329680" y="4473720"/>
            <a:ext cx="718920" cy="706320"/>
          </a:xfrm>
          <a:prstGeom prst="rect">
            <a:avLst/>
          </a:prstGeom>
          <a:ln w="0">
            <a:noFill/>
          </a:ln>
        </p:spPr>
      </p:pic>
      <p:grpSp>
        <p:nvGrpSpPr>
          <p:cNvPr id="1923" name=""/>
          <p:cNvGrpSpPr/>
          <p:nvPr/>
        </p:nvGrpSpPr>
        <p:grpSpPr>
          <a:xfrm>
            <a:off x="3236760" y="3666960"/>
            <a:ext cx="4913640" cy="3079080"/>
            <a:chOff x="3236760" y="3666960"/>
            <a:chExt cx="4913640" cy="3079080"/>
          </a:xfrm>
        </p:grpSpPr>
        <p:sp>
          <p:nvSpPr>
            <p:cNvPr id="1924" name=""/>
            <p:cNvSpPr/>
            <p:nvPr/>
          </p:nvSpPr>
          <p:spPr>
            <a:xfrm>
              <a:off x="3727440" y="6165720"/>
              <a:ext cx="4408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727440" y="5813280"/>
              <a:ext cx="4408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727440" y="5460840"/>
              <a:ext cx="4408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727440" y="5106960"/>
              <a:ext cx="4408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727440" y="4748040"/>
              <a:ext cx="4408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727440" y="4394160"/>
              <a:ext cx="4408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727440" y="4041720"/>
              <a:ext cx="4408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727440" y="3689280"/>
              <a:ext cx="4408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727440" y="3689280"/>
              <a:ext cx="4408560" cy="283068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727440" y="3689280"/>
              <a:ext cx="1440" cy="283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3727440" y="651996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727440" y="6165720"/>
              <a:ext cx="2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727440" y="5813280"/>
              <a:ext cx="2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727440" y="5460840"/>
              <a:ext cx="2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727440" y="510696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727440" y="4748040"/>
              <a:ext cx="2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727440" y="4394160"/>
              <a:ext cx="2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727440" y="4041720"/>
              <a:ext cx="2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727440" y="3689280"/>
              <a:ext cx="2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727440" y="6519960"/>
              <a:ext cx="4408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V="1">
              <a:off x="3727440" y="650556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 flipV="1">
              <a:off x="4100400" y="6505560"/>
              <a:ext cx="180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V="1">
              <a:off x="4462560" y="650556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V="1">
              <a:off x="4835520" y="650556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V="1">
              <a:off x="5197320" y="6505560"/>
              <a:ext cx="180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V="1">
              <a:off x="5570640" y="650556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 flipV="1">
              <a:off x="5932440" y="6505560"/>
              <a:ext cx="180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V="1">
              <a:off x="6305400" y="6505560"/>
              <a:ext cx="180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V="1">
              <a:off x="6667560" y="650556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V="1">
              <a:off x="7040520" y="6505560"/>
              <a:ext cx="180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V="1">
              <a:off x="7400880" y="6505560"/>
              <a:ext cx="180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V="1">
              <a:off x="7775640" y="650556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V="1">
              <a:off x="8136000" y="650556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727440" y="4078440"/>
              <a:ext cx="4408560" cy="2030400"/>
            </a:xfrm>
            <a:custGeom>
              <a:avLst/>
              <a:gdLst/>
              <a:ahLst/>
              <a:rect l="l" t="t" r="r" b="b"/>
              <a:pathLst>
                <a:path w="342" h="282">
                  <a:moveTo>
                    <a:pt x="0" y="282"/>
                  </a:moveTo>
                  <a:lnTo>
                    <a:pt x="70" y="234"/>
                  </a:lnTo>
                  <a:lnTo>
                    <a:pt x="342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4591080" y="5850000"/>
              <a:ext cx="77760" cy="42840"/>
            </a:xfrm>
            <a:custGeom>
              <a:avLst/>
              <a:gdLst/>
              <a:ahLst/>
              <a:rect l="l" t="t" r="r" b="b"/>
              <a:pathLst>
                <a:path w="49" h="27">
                  <a:moveTo>
                    <a:pt x="24" y="0"/>
                  </a:moveTo>
                  <a:lnTo>
                    <a:pt x="49" y="13"/>
                  </a:lnTo>
                  <a:lnTo>
                    <a:pt x="24" y="27"/>
                  </a:lnTo>
                  <a:lnTo>
                    <a:pt x="0" y="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054760" y="5813280"/>
              <a:ext cx="77760" cy="42840"/>
            </a:xfrm>
            <a:custGeom>
              <a:avLst/>
              <a:gdLst/>
              <a:ahLst/>
              <a:rect l="l" t="t" r="r" b="b"/>
              <a:pathLst>
                <a:path w="49" h="27">
                  <a:moveTo>
                    <a:pt x="25" y="0"/>
                  </a:moveTo>
                  <a:lnTo>
                    <a:pt x="49" y="14"/>
                  </a:lnTo>
                  <a:lnTo>
                    <a:pt x="25" y="27"/>
                  </a:lnTo>
                  <a:lnTo>
                    <a:pt x="0" y="1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067360" y="5813280"/>
              <a:ext cx="77760" cy="42840"/>
            </a:xfrm>
            <a:custGeom>
              <a:avLst/>
              <a:gdLst/>
              <a:ahLst/>
              <a:rect l="l" t="t" r="r" b="b"/>
              <a:pathLst>
                <a:path w="49" h="27">
                  <a:moveTo>
                    <a:pt x="25" y="0"/>
                  </a:moveTo>
                  <a:lnTo>
                    <a:pt x="49" y="14"/>
                  </a:lnTo>
                  <a:lnTo>
                    <a:pt x="25" y="27"/>
                  </a:lnTo>
                  <a:lnTo>
                    <a:pt x="0" y="1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041800" y="5813280"/>
              <a:ext cx="77760" cy="42840"/>
            </a:xfrm>
            <a:custGeom>
              <a:avLst/>
              <a:gdLst/>
              <a:ahLst/>
              <a:rect l="l" t="t" r="r" b="b"/>
              <a:pathLst>
                <a:path w="49" h="27">
                  <a:moveTo>
                    <a:pt x="24" y="0"/>
                  </a:moveTo>
                  <a:lnTo>
                    <a:pt x="49" y="14"/>
                  </a:lnTo>
                  <a:lnTo>
                    <a:pt x="24" y="27"/>
                  </a:lnTo>
                  <a:lnTo>
                    <a:pt x="0" y="1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119560" y="5791320"/>
              <a:ext cx="77760" cy="4428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24" y="0"/>
                  </a:moveTo>
                  <a:lnTo>
                    <a:pt x="49" y="14"/>
                  </a:lnTo>
                  <a:lnTo>
                    <a:pt x="24" y="28"/>
                  </a:lnTo>
                  <a:lnTo>
                    <a:pt x="0" y="1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4719600" y="5807160"/>
              <a:ext cx="77760" cy="42840"/>
            </a:xfrm>
            <a:custGeom>
              <a:avLst/>
              <a:gdLst/>
              <a:ahLst/>
              <a:rect l="l" t="t" r="r" b="b"/>
              <a:pathLst>
                <a:path w="49" h="27">
                  <a:moveTo>
                    <a:pt x="24" y="0"/>
                  </a:moveTo>
                  <a:lnTo>
                    <a:pt x="49" y="13"/>
                  </a:lnTo>
                  <a:lnTo>
                    <a:pt x="24" y="27"/>
                  </a:lnTo>
                  <a:lnTo>
                    <a:pt x="0" y="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835520" y="5856120"/>
              <a:ext cx="77760" cy="4464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25" y="0"/>
                  </a:moveTo>
                  <a:lnTo>
                    <a:pt x="49" y="14"/>
                  </a:lnTo>
                  <a:lnTo>
                    <a:pt x="25" y="28"/>
                  </a:lnTo>
                  <a:lnTo>
                    <a:pt x="0" y="1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700440" y="6094440"/>
              <a:ext cx="39600" cy="223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4603680" y="5748480"/>
              <a:ext cx="38160" cy="219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8110440" y="4064040"/>
              <a:ext cx="39960" cy="205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4629240" y="5827680"/>
              <a:ext cx="528480" cy="36720"/>
            </a:xfrm>
            <a:custGeom>
              <a:avLst/>
              <a:gdLst/>
              <a:ahLst/>
              <a:rect l="l" t="t" r="r" b="b"/>
              <a:pathLst>
                <a:path w="41" h="5">
                  <a:moveTo>
                    <a:pt x="0" y="5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468600" y="6497640"/>
              <a:ext cx="1011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.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468600" y="6145200"/>
              <a:ext cx="1011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.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468600" y="5791320"/>
              <a:ext cx="1011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.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468600" y="5438880"/>
              <a:ext cx="1011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.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3416400" y="5086440"/>
              <a:ext cx="13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.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416400" y="4726080"/>
              <a:ext cx="13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.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416400" y="4373640"/>
              <a:ext cx="13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.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416400" y="4019400"/>
              <a:ext cx="13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30.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416400" y="3666960"/>
              <a:ext cx="13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40.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698640" y="6576840"/>
              <a:ext cx="29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989880" y="6576840"/>
              <a:ext cx="11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4351680" y="6576840"/>
              <a:ext cx="11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0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4725000" y="6576840"/>
              <a:ext cx="11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0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5086800" y="6576840"/>
              <a:ext cx="11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0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459760" y="6576840"/>
              <a:ext cx="11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50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821920" y="6576840"/>
              <a:ext cx="11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194880" y="6576840"/>
              <a:ext cx="11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6556680" y="6576840"/>
              <a:ext cx="11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6930000" y="6576840"/>
              <a:ext cx="11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263360" y="6576840"/>
              <a:ext cx="14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7637760" y="6576840"/>
              <a:ext cx="14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7998120" y="6576840"/>
              <a:ext cx="14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808960" y="6684840"/>
              <a:ext cx="139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/min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 rot="16200000">
              <a:off x="3204360" y="5061600"/>
              <a:ext cx="125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dB(A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3" name=""/>
          <p:cNvGrpSpPr/>
          <p:nvPr/>
        </p:nvGrpSpPr>
        <p:grpSpPr>
          <a:xfrm>
            <a:off x="123840" y="385920"/>
            <a:ext cx="5564160" cy="3153240"/>
            <a:chOff x="123840" y="385920"/>
            <a:chExt cx="5564160" cy="3153240"/>
          </a:xfrm>
        </p:grpSpPr>
        <p:sp>
          <p:nvSpPr>
            <p:cNvPr id="1994" name=""/>
            <p:cNvSpPr/>
            <p:nvPr/>
          </p:nvSpPr>
          <p:spPr>
            <a:xfrm>
              <a:off x="581040" y="2838600"/>
              <a:ext cx="417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81040" y="2438280"/>
              <a:ext cx="417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81040" y="2036880"/>
              <a:ext cx="417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81040" y="1636560"/>
              <a:ext cx="417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81040" y="1236600"/>
              <a:ext cx="417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81040" y="835200"/>
              <a:ext cx="417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581040" y="433440"/>
              <a:ext cx="417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581040" y="433440"/>
              <a:ext cx="4176720" cy="280656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581040" y="433440"/>
              <a:ext cx="1440" cy="280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55480" y="324000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55480" y="283860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555480" y="243828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555480" y="203688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55480" y="163656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555480" y="123660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55480" y="83520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55480" y="43344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81040" y="3240000"/>
              <a:ext cx="417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V="1">
              <a:off x="581040" y="3213000"/>
              <a:ext cx="14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 flipV="1">
              <a:off x="930240" y="3213000"/>
              <a:ext cx="18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V="1">
              <a:off x="1278000" y="3213000"/>
              <a:ext cx="14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V="1">
              <a:off x="1625760" y="3213000"/>
              <a:ext cx="14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 flipV="1">
              <a:off x="1973160" y="3213000"/>
              <a:ext cx="18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 flipV="1">
              <a:off x="2320920" y="3213000"/>
              <a:ext cx="14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 flipV="1">
              <a:off x="2670120" y="3213000"/>
              <a:ext cx="18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 flipV="1">
              <a:off x="3017880" y="3213000"/>
              <a:ext cx="14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 flipV="1">
              <a:off x="3365640" y="3213000"/>
              <a:ext cx="14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V="1">
              <a:off x="3713040" y="3213000"/>
              <a:ext cx="18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 flipV="1">
              <a:off x="4062240" y="3213000"/>
              <a:ext cx="18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V="1">
              <a:off x="4408560" y="3213000"/>
              <a:ext cx="14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V="1">
              <a:off x="4757760" y="3213000"/>
              <a:ext cx="14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581040" y="911160"/>
              <a:ext cx="4176720" cy="2249640"/>
            </a:xfrm>
            <a:custGeom>
              <a:avLst/>
              <a:gdLst/>
              <a:ahLst/>
              <a:rect l="l" t="t" r="r" b="b"/>
              <a:pathLst>
                <a:path w="4292" h="2311">
                  <a:moveTo>
                    <a:pt x="0" y="2311"/>
                  </a:moveTo>
                  <a:lnTo>
                    <a:pt x="1389" y="1671"/>
                  </a:lnTo>
                  <a:lnTo>
                    <a:pt x="4292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1913040" y="2638440"/>
              <a:ext cx="4104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2558880" y="2446200"/>
              <a:ext cx="39960" cy="399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25" y="12"/>
                  </a:lnTo>
                  <a:lnTo>
                    <a:pt x="13" y="25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2332080" y="2517840"/>
              <a:ext cx="41400" cy="410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1916280" y="2620800"/>
              <a:ext cx="4104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973160" y="259380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2108160" y="2546280"/>
              <a:ext cx="4140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3" y="0"/>
                  </a:moveTo>
                  <a:lnTo>
                    <a:pt x="26" y="13"/>
                  </a:lnTo>
                  <a:lnTo>
                    <a:pt x="13" y="25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830240" y="267012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701720" y="2706840"/>
              <a:ext cx="41400" cy="410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69880" y="3147840"/>
              <a:ext cx="23760" cy="2412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920960" y="2525760"/>
              <a:ext cx="2376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4745160" y="898560"/>
              <a:ext cx="23760" cy="252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 flipV="1">
              <a:off x="1722600" y="2457000"/>
              <a:ext cx="857160" cy="257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294480" y="319248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294480" y="27907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294480" y="239076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294480" y="198900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247320" y="158904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247320" y="118728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247320" y="78732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247320" y="38592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3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33160" y="3306600"/>
              <a:ext cx="5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805680" y="330660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153440" y="330660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502640" y="330660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1850040" y="330660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2197800" y="330660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5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2545560" y="330660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2894760" y="330660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3240720" y="330660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590280" y="330660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912480" y="330660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4260240" y="330660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4607640" y="330660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2546280" y="3432240"/>
              <a:ext cx="24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/mi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 rot="16200000">
              <a:off x="66240" y="1781280"/>
              <a:ext cx="221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dB(A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040360" y="1066680"/>
              <a:ext cx="647640" cy="625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5140440" y="1109520"/>
              <a:ext cx="3960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2" y="0"/>
                  </a:moveTo>
                  <a:lnTo>
                    <a:pt x="25" y="13"/>
                  </a:lnTo>
                  <a:lnTo>
                    <a:pt x="12" y="26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259960" y="1079640"/>
              <a:ext cx="75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J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086440" y="1338120"/>
              <a:ext cx="14580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146560" y="1325520"/>
              <a:ext cx="2556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242680" y="1287360"/>
              <a:ext cx="42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Referen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086440" y="1539720"/>
              <a:ext cx="145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5255640" y="1495440"/>
              <a:ext cx="26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Line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5278320" y="1589040"/>
              <a:ext cx="127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(J1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"/>
          <p:cNvSpPr/>
          <p:nvPr/>
        </p:nvSpPr>
        <p:spPr>
          <a:xfrm>
            <a:off x="250920" y="5805360"/>
            <a:ext cx="298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N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EP graphs for Japanese motorcycles include data for 4th gear testing as per Japanese noise legis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123840" y="380880"/>
            <a:ext cx="5494320" cy="3144960"/>
            <a:chOff x="123840" y="380880"/>
            <a:chExt cx="5494320" cy="3144960"/>
          </a:xfrm>
        </p:grpSpPr>
        <p:sp>
          <p:nvSpPr>
            <p:cNvPr id="2072" name=""/>
            <p:cNvSpPr/>
            <p:nvPr/>
          </p:nvSpPr>
          <p:spPr>
            <a:xfrm>
              <a:off x="574560" y="2801880"/>
              <a:ext cx="4124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74560" y="2406600"/>
              <a:ext cx="4124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74560" y="2009880"/>
              <a:ext cx="4124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74560" y="1616040"/>
              <a:ext cx="4124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74560" y="1219320"/>
              <a:ext cx="4124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574560" y="824040"/>
              <a:ext cx="4124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74560" y="428760"/>
              <a:ext cx="4124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74560" y="428760"/>
              <a:ext cx="4124520" cy="276840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74560" y="428760"/>
              <a:ext cx="1800" cy="276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549360" y="319716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549360" y="28018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549360" y="24066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49360" y="200988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549360" y="161604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49360" y="12193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49360" y="8240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549360" y="42876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574560" y="3197160"/>
              <a:ext cx="4124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V="1">
              <a:off x="574560" y="317160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919080" y="317160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V="1">
              <a:off x="1262160" y="317160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V="1">
              <a:off x="1604880" y="317160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V="1">
              <a:off x="1949400" y="317160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V="1">
              <a:off x="2292480" y="317160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V="1">
              <a:off x="2637000" y="317160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V="1">
              <a:off x="2981160" y="317160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V="1">
              <a:off x="3324240" y="317160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 flipV="1">
              <a:off x="3666960" y="317160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V="1">
              <a:off x="4011480" y="317160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 flipV="1">
              <a:off x="4354560" y="317160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 flipV="1">
              <a:off x="4699080" y="317160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74560" y="857160"/>
              <a:ext cx="4124520" cy="2189160"/>
            </a:xfrm>
            <a:custGeom>
              <a:avLst/>
              <a:gdLst/>
              <a:ahLst/>
              <a:rect l="l" t="t" r="r" b="b"/>
              <a:pathLst>
                <a:path w="4292" h="2279">
                  <a:moveTo>
                    <a:pt x="0" y="2279"/>
                  </a:moveTo>
                  <a:lnTo>
                    <a:pt x="1663" y="1513"/>
                  </a:lnTo>
                  <a:lnTo>
                    <a:pt x="4292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2152800" y="240984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25" y="13"/>
                  </a:lnTo>
                  <a:lnTo>
                    <a:pt x="13" y="25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2206800" y="2378160"/>
              <a:ext cx="4104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3" y="0"/>
                  </a:moveTo>
                  <a:lnTo>
                    <a:pt x="26" y="13"/>
                  </a:lnTo>
                  <a:lnTo>
                    <a:pt x="13" y="25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2023920" y="2409840"/>
              <a:ext cx="4140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3" y="0"/>
                  </a:moveTo>
                  <a:lnTo>
                    <a:pt x="26" y="13"/>
                  </a:lnTo>
                  <a:lnTo>
                    <a:pt x="13" y="25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146320" y="240192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2206800" y="2378160"/>
              <a:ext cx="4104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3" y="0"/>
                  </a:moveTo>
                  <a:lnTo>
                    <a:pt x="26" y="13"/>
                  </a:lnTo>
                  <a:lnTo>
                    <a:pt x="13" y="25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2168640" y="2401920"/>
              <a:ext cx="3960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2" y="0"/>
                  </a:moveTo>
                  <a:lnTo>
                    <a:pt x="25" y="13"/>
                  </a:lnTo>
                  <a:lnTo>
                    <a:pt x="12" y="26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2187720" y="242568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2" y="0"/>
                  </a:moveTo>
                  <a:lnTo>
                    <a:pt x="25" y="12"/>
                  </a:lnTo>
                  <a:lnTo>
                    <a:pt x="12" y="25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2168640" y="2425680"/>
              <a:ext cx="4104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3" y="0"/>
                  </a:moveTo>
                  <a:lnTo>
                    <a:pt x="26" y="12"/>
                  </a:lnTo>
                  <a:lnTo>
                    <a:pt x="13" y="25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561960" y="3033720"/>
              <a:ext cx="2376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2160720" y="2298600"/>
              <a:ext cx="2376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4686480" y="844560"/>
              <a:ext cx="23760" cy="255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V="1">
              <a:off x="2044800" y="2417400"/>
              <a:ext cx="182520" cy="20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291240" y="314964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291240" y="275436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291240" y="235908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291240" y="196380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244080" y="156852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244080" y="117324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244080" y="77616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244080" y="38088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3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27040" y="3263760"/>
              <a:ext cx="5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95960" y="32637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139040" y="32637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1483560" y="32637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1828080" y="32637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2170800" y="32637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5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2513880" y="32637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2858400" y="32637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3201120" y="32637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3545640" y="32637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3864960" y="32637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4207680" y="32637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550760" y="32637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2514600" y="3386160"/>
              <a:ext cx="24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/mi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 rot="16200000">
              <a:off x="66240" y="1757520"/>
              <a:ext cx="221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dB(A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978440" y="1054080"/>
              <a:ext cx="639720" cy="615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076720" y="1095480"/>
              <a:ext cx="39960" cy="4104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2" y="0"/>
                  </a:moveTo>
                  <a:lnTo>
                    <a:pt x="25" y="13"/>
                  </a:lnTo>
                  <a:lnTo>
                    <a:pt x="12" y="26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194800" y="1066680"/>
              <a:ext cx="75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J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024520" y="1320840"/>
              <a:ext cx="14436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084640" y="1308240"/>
              <a:ext cx="2376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177520" y="1270080"/>
              <a:ext cx="42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Referen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024520" y="1519200"/>
              <a:ext cx="1443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190480" y="1476360"/>
              <a:ext cx="26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Line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213160" y="1568520"/>
              <a:ext cx="127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(J3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3564000" y="352440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9" name=""/>
          <p:cNvGrpSpPr/>
          <p:nvPr/>
        </p:nvGrpSpPr>
        <p:grpSpPr>
          <a:xfrm>
            <a:off x="3119400" y="3475080"/>
            <a:ext cx="5762520" cy="3262680"/>
            <a:chOff x="3119400" y="3475080"/>
            <a:chExt cx="5762520" cy="3262680"/>
          </a:xfrm>
        </p:grpSpPr>
        <p:sp>
          <p:nvSpPr>
            <p:cNvPr id="2150" name=""/>
            <p:cNvSpPr/>
            <p:nvPr/>
          </p:nvSpPr>
          <p:spPr>
            <a:xfrm>
              <a:off x="3591000" y="5948280"/>
              <a:ext cx="4327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3591000" y="5462640"/>
              <a:ext cx="432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591000" y="4978440"/>
              <a:ext cx="432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3591000" y="4494240"/>
              <a:ext cx="432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591000" y="4010040"/>
              <a:ext cx="432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591000" y="3524400"/>
              <a:ext cx="432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591000" y="3524400"/>
              <a:ext cx="4327560" cy="290664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591000" y="3524400"/>
              <a:ext cx="1440" cy="2906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564000" y="643104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3564000" y="5948280"/>
              <a:ext cx="5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3564000" y="546264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3564000" y="497844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3564000" y="449424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3564000" y="401004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591000" y="6431040"/>
              <a:ext cx="432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V="1">
              <a:off x="3591000" y="640404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V="1">
              <a:off x="3951360" y="640404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 flipV="1">
              <a:off x="4311720" y="640404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V="1">
              <a:off x="4672080" y="640404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V="1">
              <a:off x="5033880" y="640404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V="1">
              <a:off x="5392800" y="640404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 flipV="1">
              <a:off x="5754600" y="640404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 flipV="1">
              <a:off x="6114960" y="640404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V="1">
              <a:off x="6475320" y="640404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 flipV="1">
              <a:off x="6835680" y="640404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V="1">
              <a:off x="7197840" y="640404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V="1">
              <a:off x="7556400" y="640404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 flipV="1">
              <a:off x="7918560" y="640404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591000" y="3675240"/>
              <a:ext cx="4327560" cy="2673000"/>
            </a:xfrm>
            <a:custGeom>
              <a:avLst/>
              <a:gdLst/>
              <a:ahLst/>
              <a:rect l="l" t="t" r="r" b="b"/>
              <a:pathLst>
                <a:path w="4292" h="2652">
                  <a:moveTo>
                    <a:pt x="0" y="2652"/>
                  </a:moveTo>
                  <a:lnTo>
                    <a:pt x="1716" y="1730"/>
                  </a:lnTo>
                  <a:lnTo>
                    <a:pt x="4292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299200" y="554364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3"/>
                  </a:lnTo>
                  <a:lnTo>
                    <a:pt x="14" y="27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340240" y="5567400"/>
              <a:ext cx="4140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3" y="0"/>
                  </a:moveTo>
                  <a:lnTo>
                    <a:pt x="26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313240" y="5548320"/>
              <a:ext cx="4140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3" y="0"/>
                  </a:moveTo>
                  <a:lnTo>
                    <a:pt x="26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283360" y="557208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4"/>
                  </a:lnTo>
                  <a:lnTo>
                    <a:pt x="13" y="27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340240" y="5567400"/>
              <a:ext cx="4140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3" y="0"/>
                  </a:moveTo>
                  <a:lnTo>
                    <a:pt x="26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324400" y="5576760"/>
              <a:ext cx="4140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3" y="0"/>
                  </a:moveTo>
                  <a:lnTo>
                    <a:pt x="26" y="14"/>
                  </a:lnTo>
                  <a:lnTo>
                    <a:pt x="13" y="27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376960" y="5423040"/>
              <a:ext cx="42840" cy="410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14" y="0"/>
                  </a:moveTo>
                  <a:lnTo>
                    <a:pt x="27" y="13"/>
                  </a:lnTo>
                  <a:lnTo>
                    <a:pt x="14" y="26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389560" y="539748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4"/>
                  </a:lnTo>
                  <a:lnTo>
                    <a:pt x="14" y="27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578400" y="6335640"/>
              <a:ext cx="23760" cy="255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307120" y="5405400"/>
              <a:ext cx="25200" cy="255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7904160" y="3662280"/>
              <a:ext cx="25560" cy="255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 flipV="1">
              <a:off x="5303880" y="5452560"/>
              <a:ext cx="108000" cy="173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3293280" y="63817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3293280" y="58975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3293280" y="54133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3293280" y="49291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3244320" y="444492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3244320" y="396072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3244320" y="347508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3541680" y="6500880"/>
              <a:ext cx="5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23560" y="650088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183920" y="650088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544280" y="650088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906080" y="650088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265000" y="650088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5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626800" y="650088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987160" y="650088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6347520" y="650088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6707880" y="650088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7043040" y="650088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7403400" y="650088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7763760" y="650088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5627880" y="6630840"/>
              <a:ext cx="24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/mi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 rot="16200000">
              <a:off x="3061800" y="4929480"/>
              <a:ext cx="221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dB(A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8210520" y="4181400"/>
              <a:ext cx="671400" cy="647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8313840" y="4226040"/>
              <a:ext cx="42840" cy="410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14" y="0"/>
                  </a:moveTo>
                  <a:lnTo>
                    <a:pt x="27" y="13"/>
                  </a:lnTo>
                  <a:lnTo>
                    <a:pt x="14" y="26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8438040" y="4194000"/>
              <a:ext cx="75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J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8259840" y="4460760"/>
              <a:ext cx="15084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8321760" y="4448160"/>
              <a:ext cx="25200" cy="255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8420760" y="4408560"/>
              <a:ext cx="42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Referen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8259840" y="4670280"/>
              <a:ext cx="150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8433720" y="4624560"/>
              <a:ext cx="26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Line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8456400" y="4721400"/>
              <a:ext cx="127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(J4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"/>
          <p:cNvSpPr/>
          <p:nvPr/>
        </p:nvSpPr>
        <p:spPr>
          <a:xfrm>
            <a:off x="250920" y="5805360"/>
            <a:ext cx="298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N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EP graphs for Japanese motorcycles include data for 4th gear testing as per Japanese noise legis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3" name=""/>
          <p:cNvGrpSpPr/>
          <p:nvPr/>
        </p:nvGrpSpPr>
        <p:grpSpPr>
          <a:xfrm>
            <a:off x="122400" y="376200"/>
            <a:ext cx="5427360" cy="3111480"/>
            <a:chOff x="122400" y="376200"/>
            <a:chExt cx="5427360" cy="3111480"/>
          </a:xfrm>
        </p:grpSpPr>
        <p:sp>
          <p:nvSpPr>
            <p:cNvPr id="2224" name=""/>
            <p:cNvSpPr/>
            <p:nvPr/>
          </p:nvSpPr>
          <p:spPr>
            <a:xfrm>
              <a:off x="568440" y="2770200"/>
              <a:ext cx="407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68440" y="2378160"/>
              <a:ext cx="407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568440" y="1987560"/>
              <a:ext cx="407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568440" y="1596960"/>
              <a:ext cx="4073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568440" y="1206360"/>
              <a:ext cx="4073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568440" y="814320"/>
              <a:ext cx="4073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68440" y="423720"/>
              <a:ext cx="4073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568440" y="423720"/>
              <a:ext cx="4073400" cy="273708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68440" y="423720"/>
              <a:ext cx="1440" cy="273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41440" y="316080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41440" y="277020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41440" y="237816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41440" y="198756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41440" y="159696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41440" y="120636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41440" y="81432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541440" y="42372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68440" y="3160800"/>
              <a:ext cx="407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V="1">
              <a:off x="568440" y="313488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 flipV="1">
              <a:off x="907920" y="313488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1246320" y="313488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1585800" y="313488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V="1">
              <a:off x="1925640" y="313488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V="1">
              <a:off x="2265480" y="313488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V="1">
              <a:off x="2604960" y="313488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V="1">
              <a:off x="2944800" y="313488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V="1">
              <a:off x="3282840" y="313488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V="1">
              <a:off x="3622680" y="313488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V="1">
              <a:off x="3962520" y="313488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 flipV="1">
              <a:off x="4302000" y="313488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 flipV="1">
              <a:off x="4641840" y="313488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68440" y="803160"/>
              <a:ext cx="4073400" cy="2194200"/>
            </a:xfrm>
            <a:custGeom>
              <a:avLst/>
              <a:gdLst/>
              <a:ahLst/>
              <a:rect l="l" t="t" r="r" b="b"/>
              <a:pathLst>
                <a:path w="4292" h="2311">
                  <a:moveTo>
                    <a:pt x="0" y="2311"/>
                  </a:moveTo>
                  <a:lnTo>
                    <a:pt x="1388" y="1672"/>
                  </a:lnTo>
                  <a:lnTo>
                    <a:pt x="4292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865160" y="248760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2" y="0"/>
                  </a:moveTo>
                  <a:lnTo>
                    <a:pt x="25" y="13"/>
                  </a:lnTo>
                  <a:lnTo>
                    <a:pt x="12" y="25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479680" y="234000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25" y="12"/>
                  </a:lnTo>
                  <a:lnTo>
                    <a:pt x="13" y="25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470320" y="233532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2" y="0"/>
                  </a:moveTo>
                  <a:lnTo>
                    <a:pt x="25" y="13"/>
                  </a:lnTo>
                  <a:lnTo>
                    <a:pt x="12" y="25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935000" y="242892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25" y="12"/>
                  </a:lnTo>
                  <a:lnTo>
                    <a:pt x="13" y="25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963800" y="241308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25" y="13"/>
                  </a:lnTo>
                  <a:lnTo>
                    <a:pt x="13" y="25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2076480" y="246384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2" y="0"/>
                  </a:moveTo>
                  <a:lnTo>
                    <a:pt x="25" y="13"/>
                  </a:lnTo>
                  <a:lnTo>
                    <a:pt x="12" y="25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1819440" y="249552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25" y="12"/>
                  </a:lnTo>
                  <a:lnTo>
                    <a:pt x="13" y="25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658880" y="2549520"/>
              <a:ext cx="3960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2" y="0"/>
                  </a:moveTo>
                  <a:lnTo>
                    <a:pt x="25" y="13"/>
                  </a:lnTo>
                  <a:lnTo>
                    <a:pt x="12" y="26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55480" y="2984400"/>
              <a:ext cx="2412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1873080" y="2378160"/>
              <a:ext cx="2412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4629240" y="790560"/>
              <a:ext cx="2376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 flipV="1">
              <a:off x="1677960" y="2352240"/>
              <a:ext cx="822240" cy="195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88000" y="31147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288000" y="272268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88000" y="233208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288000" y="194148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240840" y="155088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240840" y="115884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240840" y="76824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40840" y="37620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3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20560" y="3225960"/>
              <a:ext cx="5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786600" y="32259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1124640" y="32259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1464480" y="32259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1804320" y="32259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2143800" y="32259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5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2483640" y="32259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2823480" y="32259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3161520" y="32259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3502800" y="32259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3817080" y="32259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155480" y="32259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494960" y="32259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2484360" y="3348000"/>
              <a:ext cx="24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/mi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 rot="16200000">
              <a:off x="64800" y="1735200"/>
              <a:ext cx="221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dB(A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917960" y="1041480"/>
              <a:ext cx="631800" cy="609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014800" y="1082520"/>
              <a:ext cx="3996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2" y="0"/>
                  </a:moveTo>
                  <a:lnTo>
                    <a:pt x="25" y="13"/>
                  </a:lnTo>
                  <a:lnTo>
                    <a:pt x="12" y="26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5131440" y="1054080"/>
              <a:ext cx="75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J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4964040" y="1305000"/>
              <a:ext cx="14148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022720" y="1293840"/>
              <a:ext cx="2412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14160" y="1255680"/>
              <a:ext cx="42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Referen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964040" y="1501920"/>
              <a:ext cx="141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127120" y="1459080"/>
              <a:ext cx="26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Line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149800" y="1550880"/>
              <a:ext cx="127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(J5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3498840" y="3486240"/>
              <a:ext cx="5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1" name=""/>
          <p:cNvGrpSpPr/>
          <p:nvPr/>
        </p:nvGrpSpPr>
        <p:grpSpPr>
          <a:xfrm>
            <a:off x="3049560" y="3435480"/>
            <a:ext cx="5830920" cy="3299400"/>
            <a:chOff x="3049560" y="3435480"/>
            <a:chExt cx="5830920" cy="3299400"/>
          </a:xfrm>
        </p:grpSpPr>
        <p:sp>
          <p:nvSpPr>
            <p:cNvPr id="2302" name=""/>
            <p:cNvSpPr/>
            <p:nvPr/>
          </p:nvSpPr>
          <p:spPr>
            <a:xfrm>
              <a:off x="3525840" y="6005520"/>
              <a:ext cx="4378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3525840" y="5586480"/>
              <a:ext cx="4378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3525840" y="5165640"/>
              <a:ext cx="4378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3525840" y="4746600"/>
              <a:ext cx="4378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3525840" y="4325760"/>
              <a:ext cx="4378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3525840" y="3905280"/>
              <a:ext cx="4378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3525840" y="3486240"/>
              <a:ext cx="4378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3525840" y="3486240"/>
              <a:ext cx="4378320" cy="294012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3525840" y="3486240"/>
              <a:ext cx="1440" cy="294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3498840" y="6426360"/>
              <a:ext cx="5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3498840" y="6005520"/>
              <a:ext cx="5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3498840" y="5586480"/>
              <a:ext cx="5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3498840" y="5165640"/>
              <a:ext cx="55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3498840" y="4746600"/>
              <a:ext cx="5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498840" y="4325760"/>
              <a:ext cx="55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498840" y="3905280"/>
              <a:ext cx="5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3525840" y="6426360"/>
              <a:ext cx="4378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 flipV="1">
              <a:off x="3525840" y="63993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 flipV="1">
              <a:off x="3890880" y="639936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 flipV="1">
              <a:off x="4255920" y="639936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 flipV="1">
              <a:off x="4621320" y="63993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V="1">
              <a:off x="4986360" y="63993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 flipV="1">
              <a:off x="5349960" y="63993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 flipV="1">
              <a:off x="5715000" y="63993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 flipV="1">
              <a:off x="6080040" y="639936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V="1">
              <a:off x="6443640" y="63993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 flipV="1">
              <a:off x="6808680" y="639936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 flipV="1">
              <a:off x="7174080" y="63993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V="1">
              <a:off x="7539120" y="63993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 flipV="1">
              <a:off x="7904160" y="63993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3525840" y="3740040"/>
              <a:ext cx="4378320" cy="2373480"/>
            </a:xfrm>
            <a:custGeom>
              <a:avLst/>
              <a:gdLst/>
              <a:ahLst/>
              <a:rect l="l" t="t" r="r" b="b"/>
              <a:pathLst>
                <a:path w="4292" h="2326">
                  <a:moveTo>
                    <a:pt x="0" y="2326"/>
                  </a:moveTo>
                  <a:lnTo>
                    <a:pt x="1256" y="1748"/>
                  </a:lnTo>
                  <a:lnTo>
                    <a:pt x="4292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786200" y="5627520"/>
              <a:ext cx="42840" cy="432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4"/>
                  </a:lnTo>
                  <a:lnTo>
                    <a:pt x="13" y="27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5029200" y="556092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5116680" y="551808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4"/>
                  </a:lnTo>
                  <a:lnTo>
                    <a:pt x="14" y="27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602240" y="565308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4"/>
                  </a:lnTo>
                  <a:lnTo>
                    <a:pt x="13" y="27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4645080" y="563580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4"/>
                  </a:lnTo>
                  <a:lnTo>
                    <a:pt x="13" y="27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4622760" y="566100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4"/>
                  </a:lnTo>
                  <a:lnTo>
                    <a:pt x="13" y="27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4489560" y="569916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4"/>
                  </a:lnTo>
                  <a:lnTo>
                    <a:pt x="14" y="27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452840" y="564516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3513240" y="6100920"/>
              <a:ext cx="25200" cy="252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794120" y="5510160"/>
              <a:ext cx="25560" cy="255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7889760" y="3727440"/>
              <a:ext cx="25560" cy="255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V="1">
              <a:off x="4473720" y="5557320"/>
              <a:ext cx="664920" cy="149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3224880" y="637704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3224880" y="595620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3224880" y="55357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3224880" y="511488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174480" y="469584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3174480" y="427680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3174480" y="385596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3174480" y="343548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3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3476520" y="6497640"/>
              <a:ext cx="5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3761640" y="64976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4126680" y="64976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4491720" y="64976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4857120" y="64976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5220360" y="64976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5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585760" y="64976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950800" y="64976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6314400" y="64976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6679440" y="64976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7019280" y="649764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7382880" y="649764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7747920" y="649764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586480" y="6627960"/>
              <a:ext cx="24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/mi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 rot="16200000">
              <a:off x="2991960" y="4907160"/>
              <a:ext cx="221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dB(A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8201160" y="4149720"/>
              <a:ext cx="679320" cy="654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8304120" y="4194000"/>
              <a:ext cx="42840" cy="432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4"/>
                  </a:lnTo>
                  <a:lnTo>
                    <a:pt x="14" y="27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8430120" y="4162320"/>
              <a:ext cx="75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J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8248680" y="4433760"/>
              <a:ext cx="15408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8312040" y="4419720"/>
              <a:ext cx="25560" cy="252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8412840" y="4379760"/>
              <a:ext cx="42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Referen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8248680" y="4645080"/>
              <a:ext cx="154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8425800" y="4599000"/>
              <a:ext cx="26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Line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8448480" y="4695840"/>
              <a:ext cx="127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(J6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"/>
          <p:cNvSpPr/>
          <p:nvPr/>
        </p:nvSpPr>
        <p:spPr>
          <a:xfrm>
            <a:off x="250920" y="5805360"/>
            <a:ext cx="298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N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EP graphs for Japanese motorcycles include data for 4th gear testing as per Japanese noise legis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8" name=""/>
          <p:cNvGrpSpPr/>
          <p:nvPr/>
        </p:nvGrpSpPr>
        <p:grpSpPr>
          <a:xfrm>
            <a:off x="117360" y="368280"/>
            <a:ext cx="5294520" cy="3004200"/>
            <a:chOff x="117360" y="368280"/>
            <a:chExt cx="5294520" cy="3004200"/>
          </a:xfrm>
        </p:grpSpPr>
        <p:sp>
          <p:nvSpPr>
            <p:cNvPr id="2379" name=""/>
            <p:cNvSpPr/>
            <p:nvPr/>
          </p:nvSpPr>
          <p:spPr>
            <a:xfrm>
              <a:off x="554040" y="2701800"/>
              <a:ext cx="3971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54040" y="2320920"/>
              <a:ext cx="3971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54040" y="1938240"/>
              <a:ext cx="3971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54040" y="1557360"/>
              <a:ext cx="3971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54040" y="1176480"/>
              <a:ext cx="3971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54040" y="795240"/>
              <a:ext cx="3971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54040" y="412920"/>
              <a:ext cx="3971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54040" y="412920"/>
              <a:ext cx="3971880" cy="267012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554040" y="412920"/>
              <a:ext cx="1440" cy="267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28480" y="308304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528480" y="270180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28480" y="232092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528480" y="193824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528480" y="155736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528480" y="117648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528480" y="79524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528480" y="41292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54040" y="3083040"/>
              <a:ext cx="3971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V="1">
              <a:off x="554040" y="3059280"/>
              <a:ext cx="144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V="1">
              <a:off x="884160" y="3059280"/>
              <a:ext cx="180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V="1">
              <a:off x="1216080" y="3059280"/>
              <a:ext cx="144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V="1">
              <a:off x="1546200" y="3059280"/>
              <a:ext cx="144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 flipV="1">
              <a:off x="1878120" y="3059280"/>
              <a:ext cx="144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 flipV="1">
              <a:off x="2208240" y="3059280"/>
              <a:ext cx="144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 flipV="1">
              <a:off x="2540160" y="3059280"/>
              <a:ext cx="144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V="1">
              <a:off x="2871720" y="3059280"/>
              <a:ext cx="180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 flipV="1">
              <a:off x="3201840" y="3059280"/>
              <a:ext cx="180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 flipV="1">
              <a:off x="3532320" y="3059280"/>
              <a:ext cx="144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V="1">
              <a:off x="3863880" y="3059280"/>
              <a:ext cx="180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 flipV="1">
              <a:off x="4194000" y="3059280"/>
              <a:ext cx="180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V="1">
              <a:off x="4525920" y="3059280"/>
              <a:ext cx="180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554040" y="782640"/>
              <a:ext cx="3971880" cy="2116080"/>
            </a:xfrm>
            <a:custGeom>
              <a:avLst/>
              <a:gdLst/>
              <a:ahLst/>
              <a:rect l="l" t="t" r="r" b="b"/>
              <a:pathLst>
                <a:path w="4292" h="2284">
                  <a:moveTo>
                    <a:pt x="0" y="2284"/>
                  </a:moveTo>
                  <a:lnTo>
                    <a:pt x="1631" y="1533"/>
                  </a:lnTo>
                  <a:lnTo>
                    <a:pt x="4292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2043000" y="229716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3" y="0"/>
                  </a:moveTo>
                  <a:lnTo>
                    <a:pt x="25" y="12"/>
                  </a:lnTo>
                  <a:lnTo>
                    <a:pt x="13" y="24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340000" y="223524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2" y="0"/>
                  </a:moveTo>
                  <a:lnTo>
                    <a:pt x="24" y="13"/>
                  </a:lnTo>
                  <a:lnTo>
                    <a:pt x="12" y="25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2558880" y="217476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2" y="0"/>
                  </a:moveTo>
                  <a:lnTo>
                    <a:pt x="25" y="12"/>
                  </a:lnTo>
                  <a:lnTo>
                    <a:pt x="12" y="24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1879560" y="230508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2" y="0"/>
                  </a:moveTo>
                  <a:lnTo>
                    <a:pt x="25" y="12"/>
                  </a:lnTo>
                  <a:lnTo>
                    <a:pt x="12" y="24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1884240" y="232416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2" y="0"/>
                  </a:moveTo>
                  <a:lnTo>
                    <a:pt x="25" y="12"/>
                  </a:lnTo>
                  <a:lnTo>
                    <a:pt x="12" y="24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1946160" y="230040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2" y="0"/>
                  </a:moveTo>
                  <a:lnTo>
                    <a:pt x="24" y="13"/>
                  </a:lnTo>
                  <a:lnTo>
                    <a:pt x="12" y="25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1731960" y="234648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25" y="13"/>
                  </a:lnTo>
                  <a:lnTo>
                    <a:pt x="13" y="25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1712880" y="2357280"/>
              <a:ext cx="38160" cy="39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2" y="0"/>
                  </a:moveTo>
                  <a:lnTo>
                    <a:pt x="24" y="13"/>
                  </a:lnTo>
                  <a:lnTo>
                    <a:pt x="12" y="25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541440" y="2886120"/>
              <a:ext cx="2376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2050920" y="2190600"/>
              <a:ext cx="24120" cy="2232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4513320" y="770040"/>
              <a:ext cx="2376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 flipV="1">
              <a:off x="1731960" y="2201400"/>
              <a:ext cx="846000" cy="171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80080" y="303840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280080" y="26557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280080" y="227484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80080" y="189396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234360" y="151272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234360" y="113040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234360" y="74916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34360" y="36828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3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507960" y="3147840"/>
              <a:ext cx="5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766080" y="31478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096200" y="31478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1428120" y="31478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1759680" y="31478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089800" y="31478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5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421720" y="31478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751840" y="31478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3083760" y="31478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413880" y="31478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3722040" y="314784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4052160" y="314784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4384080" y="314784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422440" y="3265560"/>
              <a:ext cx="24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/mi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 rot="16200000">
              <a:off x="59760" y="1689480"/>
              <a:ext cx="221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dB(A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4795920" y="1015920"/>
              <a:ext cx="615960" cy="595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4889520" y="105732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2" y="0"/>
                  </a:moveTo>
                  <a:lnTo>
                    <a:pt x="25" y="12"/>
                  </a:lnTo>
                  <a:lnTo>
                    <a:pt x="12" y="24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004360" y="1028880"/>
              <a:ext cx="75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J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4840200" y="1273320"/>
              <a:ext cx="13824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4897440" y="1262160"/>
              <a:ext cx="22320" cy="219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4987080" y="1225440"/>
              <a:ext cx="42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Referen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4840200" y="1465200"/>
              <a:ext cx="1382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000040" y="1424160"/>
              <a:ext cx="26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Line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5022720" y="1512720"/>
              <a:ext cx="127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(J7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5" name=""/>
          <p:cNvGrpSpPr/>
          <p:nvPr/>
        </p:nvGrpSpPr>
        <p:grpSpPr>
          <a:xfrm>
            <a:off x="3189240" y="3514680"/>
            <a:ext cx="5695920" cy="3224880"/>
            <a:chOff x="3189240" y="3514680"/>
            <a:chExt cx="5695920" cy="3224880"/>
          </a:xfrm>
        </p:grpSpPr>
        <p:sp>
          <p:nvSpPr>
            <p:cNvPr id="2456" name=""/>
            <p:cNvSpPr/>
            <p:nvPr/>
          </p:nvSpPr>
          <p:spPr>
            <a:xfrm>
              <a:off x="3654360" y="6078600"/>
              <a:ext cx="4278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3654360" y="5718240"/>
              <a:ext cx="4278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3654360" y="5359320"/>
              <a:ext cx="4278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3654360" y="5000760"/>
              <a:ext cx="4278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3654360" y="4640400"/>
              <a:ext cx="4278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654360" y="4282920"/>
              <a:ext cx="4278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3654360" y="3922560"/>
              <a:ext cx="4278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3654360" y="3564000"/>
              <a:ext cx="4278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3654360" y="3564000"/>
              <a:ext cx="4278240" cy="287316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3654360" y="3564000"/>
              <a:ext cx="1800" cy="287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3627360" y="6437160"/>
              <a:ext cx="5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3627360" y="607860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3627360" y="571824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627360" y="5359320"/>
              <a:ext cx="5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3627360" y="500076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3627360" y="464040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3627360" y="4282920"/>
              <a:ext cx="5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3627360" y="3922560"/>
              <a:ext cx="5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3627360" y="356400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3654360" y="6437160"/>
              <a:ext cx="4278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 flipV="1">
              <a:off x="3654360" y="6410160"/>
              <a:ext cx="18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 flipV="1">
              <a:off x="4011480" y="6410160"/>
              <a:ext cx="18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 flipV="1">
              <a:off x="4367160" y="6410160"/>
              <a:ext cx="18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 flipV="1">
              <a:off x="4724280" y="6410160"/>
              <a:ext cx="18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 flipV="1">
              <a:off x="5081760" y="6410160"/>
              <a:ext cx="14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 flipV="1">
              <a:off x="5437080" y="6410160"/>
              <a:ext cx="18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 flipV="1">
              <a:off x="5792760" y="6410160"/>
              <a:ext cx="14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 flipV="1">
              <a:off x="6149880" y="6410160"/>
              <a:ext cx="18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 flipV="1">
              <a:off x="6505560" y="6410160"/>
              <a:ext cx="14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 flipV="1">
              <a:off x="6862680" y="6410160"/>
              <a:ext cx="18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 flipV="1">
              <a:off x="7219800" y="6410160"/>
              <a:ext cx="18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 flipV="1">
              <a:off x="7575480" y="6410160"/>
              <a:ext cx="18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 flipV="1">
              <a:off x="7932600" y="6410160"/>
              <a:ext cx="18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3654360" y="3905280"/>
              <a:ext cx="4278240" cy="2058840"/>
            </a:xfrm>
            <a:custGeom>
              <a:avLst/>
              <a:gdLst/>
              <a:ahLst/>
              <a:rect l="l" t="t" r="r" b="b"/>
              <a:pathLst>
                <a:path w="4292" h="2066">
                  <a:moveTo>
                    <a:pt x="0" y="2066"/>
                  </a:moveTo>
                  <a:lnTo>
                    <a:pt x="961" y="1679"/>
                  </a:lnTo>
                  <a:lnTo>
                    <a:pt x="4292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4591080" y="5665680"/>
              <a:ext cx="42840" cy="414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14" y="0"/>
                  </a:moveTo>
                  <a:lnTo>
                    <a:pt x="27" y="13"/>
                  </a:lnTo>
                  <a:lnTo>
                    <a:pt x="14" y="26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4808520" y="5629320"/>
              <a:ext cx="42840" cy="414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13" y="0"/>
                  </a:moveTo>
                  <a:lnTo>
                    <a:pt x="27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4813200" y="5614920"/>
              <a:ext cx="42840" cy="414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14" y="0"/>
                  </a:moveTo>
                  <a:lnTo>
                    <a:pt x="27" y="13"/>
                  </a:lnTo>
                  <a:lnTo>
                    <a:pt x="14" y="26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4440240" y="5754600"/>
              <a:ext cx="4140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3" y="0"/>
                  </a:moveTo>
                  <a:lnTo>
                    <a:pt x="26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4464000" y="5740560"/>
              <a:ext cx="41400" cy="410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4476600" y="5730840"/>
              <a:ext cx="42840" cy="414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13" y="0"/>
                  </a:moveTo>
                  <a:lnTo>
                    <a:pt x="27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4356000" y="5797440"/>
              <a:ext cx="4140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3" y="0"/>
                  </a:moveTo>
                  <a:lnTo>
                    <a:pt x="26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4297320" y="582624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4"/>
                  </a:lnTo>
                  <a:lnTo>
                    <a:pt x="13" y="27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4218120" y="5880240"/>
              <a:ext cx="4104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3" y="0"/>
                  </a:moveTo>
                  <a:lnTo>
                    <a:pt x="26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3641760" y="5951520"/>
              <a:ext cx="25200" cy="255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4599000" y="5565600"/>
              <a:ext cx="25560" cy="255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7918560" y="3892680"/>
              <a:ext cx="25200" cy="252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 flipV="1">
              <a:off x="4238640" y="5626080"/>
              <a:ext cx="596880" cy="249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361320" y="638820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361320" y="602928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361320" y="56689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3361320" y="531036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312720" y="495144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312720" y="459252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312720" y="423396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3312720" y="387360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3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3312720" y="351468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4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3606840" y="6505560"/>
              <a:ext cx="5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3885480" y="6505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241160" y="6505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598280" y="6505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953960" y="6505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311080" y="6505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5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666400" y="6505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023880" y="6505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379200" y="6505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6736680" y="6505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7066800" y="65055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7422480" y="65055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7779600" y="65055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5667480" y="6632640"/>
              <a:ext cx="24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/mi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 rot="16200000">
              <a:off x="3131640" y="4950000"/>
              <a:ext cx="221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dB(A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8221680" y="4213080"/>
              <a:ext cx="663480" cy="640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8323200" y="4255920"/>
              <a:ext cx="42840" cy="432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8445960" y="4226040"/>
              <a:ext cx="75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J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8269200" y="4489560"/>
              <a:ext cx="15084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8331120" y="4476600"/>
              <a:ext cx="25560" cy="255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8428680" y="4437000"/>
              <a:ext cx="42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Referen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8269200" y="4695840"/>
              <a:ext cx="150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8441640" y="4651200"/>
              <a:ext cx="26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Line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8464320" y="4746600"/>
              <a:ext cx="127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(J8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"/>
          <p:cNvSpPr/>
          <p:nvPr/>
        </p:nvSpPr>
        <p:spPr>
          <a:xfrm>
            <a:off x="250920" y="5805360"/>
            <a:ext cx="298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N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EP graphs for Japanese motorcycles include data for 4th gear testing as per Japanese noise legis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122400" y="376200"/>
            <a:ext cx="5427360" cy="3078720"/>
            <a:chOff x="122400" y="376200"/>
            <a:chExt cx="5427360" cy="3078720"/>
          </a:xfrm>
        </p:grpSpPr>
        <p:sp>
          <p:nvSpPr>
            <p:cNvPr id="2538" name=""/>
            <p:cNvSpPr/>
            <p:nvPr/>
          </p:nvSpPr>
          <p:spPr>
            <a:xfrm>
              <a:off x="568440" y="2857680"/>
              <a:ext cx="407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568440" y="2552760"/>
              <a:ext cx="407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568440" y="2247840"/>
              <a:ext cx="4073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68440" y="1944720"/>
              <a:ext cx="407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568440" y="1639800"/>
              <a:ext cx="4073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568440" y="1336680"/>
              <a:ext cx="407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568440" y="1031760"/>
              <a:ext cx="4073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568440" y="727200"/>
              <a:ext cx="407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568440" y="423720"/>
              <a:ext cx="4073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569880" y="423720"/>
              <a:ext cx="4073400" cy="273708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568440" y="423720"/>
              <a:ext cx="1440" cy="273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41440" y="316080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41440" y="285768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41440" y="255276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541440" y="224784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541440" y="194472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541440" y="163980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541440" y="133668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541440" y="103176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541440" y="72720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541440" y="42372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568440" y="3160800"/>
              <a:ext cx="407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V="1">
              <a:off x="568440" y="313488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 flipV="1">
              <a:off x="907920" y="313488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V="1">
              <a:off x="1246320" y="313488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 flipV="1">
              <a:off x="1585800" y="313488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 flipV="1">
              <a:off x="1925640" y="313488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 flipV="1">
              <a:off x="2265480" y="313488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 flipV="1">
              <a:off x="2604960" y="313488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 flipV="1">
              <a:off x="2944800" y="313488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 flipV="1">
              <a:off x="3282840" y="313488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 flipV="1">
              <a:off x="3622680" y="313488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V="1">
              <a:off x="3962520" y="313488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 flipV="1">
              <a:off x="4302000" y="313488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 flipV="1">
              <a:off x="4641840" y="313488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V="1">
              <a:off x="1619280" y="2333160"/>
              <a:ext cx="1182600" cy="847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2782800" y="2495520"/>
              <a:ext cx="3960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2" y="0"/>
                  </a:moveTo>
                  <a:lnTo>
                    <a:pt x="25" y="13"/>
                  </a:lnTo>
                  <a:lnTo>
                    <a:pt x="12" y="26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2800440" y="2448000"/>
              <a:ext cx="4104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3" y="0"/>
                  </a:moveTo>
                  <a:lnTo>
                    <a:pt x="26" y="12"/>
                  </a:lnTo>
                  <a:lnTo>
                    <a:pt x="13" y="25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2793960" y="251460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25" y="12"/>
                  </a:lnTo>
                  <a:lnTo>
                    <a:pt x="13" y="25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2759040" y="254484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2" y="0"/>
                  </a:moveTo>
                  <a:lnTo>
                    <a:pt x="25" y="12"/>
                  </a:lnTo>
                  <a:lnTo>
                    <a:pt x="12" y="25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2795760" y="2465280"/>
              <a:ext cx="41040" cy="3996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3" y="0"/>
                  </a:moveTo>
                  <a:lnTo>
                    <a:pt x="26" y="13"/>
                  </a:lnTo>
                  <a:lnTo>
                    <a:pt x="13" y="25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3125880" y="2252520"/>
              <a:ext cx="39600" cy="399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25" y="13"/>
                  </a:lnTo>
                  <a:lnTo>
                    <a:pt x="13" y="25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2746440" y="2592360"/>
              <a:ext cx="4104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2741760" y="258120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2" y="0"/>
                  </a:moveTo>
                  <a:lnTo>
                    <a:pt x="25" y="13"/>
                  </a:lnTo>
                  <a:lnTo>
                    <a:pt x="12" y="25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789280" y="2320920"/>
              <a:ext cx="2376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4629240" y="673200"/>
              <a:ext cx="2376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 flipV="1">
              <a:off x="2760840" y="2259000"/>
              <a:ext cx="385560" cy="309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88000" y="31147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288000" y="280980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88000" y="250524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288000" y="220176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288000" y="189864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288000" y="15937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288000" y="128916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288000" y="98568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40840" y="68112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240840" y="37620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520560" y="3225960"/>
              <a:ext cx="5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786600" y="32259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1124640" y="32259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1464480" y="32259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1804320" y="32259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2143800" y="32259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5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2483640" y="32259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2823480" y="32259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3161520" y="32259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3502800" y="32259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3817080" y="32259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4155480" y="32259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4494960" y="32259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2484360" y="3348000"/>
              <a:ext cx="24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/mi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 rot="16200000">
              <a:off x="64800" y="1735200"/>
              <a:ext cx="221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dB(A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4917960" y="1041480"/>
              <a:ext cx="631800" cy="609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5014800" y="1082520"/>
              <a:ext cx="3996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2" y="0"/>
                  </a:moveTo>
                  <a:lnTo>
                    <a:pt x="25" y="13"/>
                  </a:lnTo>
                  <a:lnTo>
                    <a:pt x="12" y="26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5131440" y="1054080"/>
              <a:ext cx="75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J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4964040" y="1305000"/>
              <a:ext cx="14148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5022720" y="1293840"/>
              <a:ext cx="2412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5114160" y="1255680"/>
              <a:ext cx="42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Referen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4964040" y="1501920"/>
              <a:ext cx="141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5127120" y="1459080"/>
              <a:ext cx="26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Line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5149800" y="1550880"/>
              <a:ext cx="127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(J9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 flipV="1">
              <a:off x="2771640" y="691920"/>
              <a:ext cx="1871640" cy="16570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0" name=""/>
          <p:cNvGrpSpPr/>
          <p:nvPr/>
        </p:nvGrpSpPr>
        <p:grpSpPr>
          <a:xfrm>
            <a:off x="3328920" y="3594240"/>
            <a:ext cx="5560920" cy="3151440"/>
            <a:chOff x="3328920" y="3594240"/>
            <a:chExt cx="5560920" cy="3151440"/>
          </a:xfrm>
        </p:grpSpPr>
        <p:sp>
          <p:nvSpPr>
            <p:cNvPr id="2621" name=""/>
            <p:cNvSpPr/>
            <p:nvPr/>
          </p:nvSpPr>
          <p:spPr>
            <a:xfrm>
              <a:off x="3784680" y="5979960"/>
              <a:ext cx="417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3784680" y="5511960"/>
              <a:ext cx="417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3784680" y="5045040"/>
              <a:ext cx="417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3784680" y="4576680"/>
              <a:ext cx="417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784680" y="4110120"/>
              <a:ext cx="417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3784680" y="3641760"/>
              <a:ext cx="417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3784680" y="3641760"/>
              <a:ext cx="4176720" cy="280512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3784680" y="3641760"/>
              <a:ext cx="1440" cy="28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3759120" y="644688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3759120" y="597996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3759120" y="551196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3759120" y="504504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3759120" y="457668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3759120" y="411012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3759120" y="364176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3784680" y="6446880"/>
              <a:ext cx="417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 flipV="1">
              <a:off x="3784680" y="641952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 flipV="1">
              <a:off x="4133880" y="641952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 flipV="1">
              <a:off x="4481640" y="641952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 flipV="1">
              <a:off x="4829040" y="6419520"/>
              <a:ext cx="180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 flipV="1">
              <a:off x="5176800" y="6419520"/>
              <a:ext cx="180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 flipV="1">
              <a:off x="5524560" y="641952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 flipV="1">
              <a:off x="5873760" y="641952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 flipV="1">
              <a:off x="6221520" y="641952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 flipV="1">
              <a:off x="6568920" y="6419520"/>
              <a:ext cx="180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 flipV="1">
              <a:off x="6916680" y="6419520"/>
              <a:ext cx="180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 flipV="1">
              <a:off x="7265880" y="6419520"/>
              <a:ext cx="180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 flipV="1">
              <a:off x="7612200" y="641952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 flipV="1">
              <a:off x="7961400" y="641952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 flipV="1">
              <a:off x="4035600" y="5763960"/>
              <a:ext cx="1309680" cy="7030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5324400" y="5884920"/>
              <a:ext cx="4140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3" y="0"/>
                  </a:moveTo>
                  <a:lnTo>
                    <a:pt x="26" y="13"/>
                  </a:lnTo>
                  <a:lnTo>
                    <a:pt x="13" y="25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5335560" y="588492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25" y="13"/>
                  </a:lnTo>
                  <a:lnTo>
                    <a:pt x="13" y="25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5315040" y="5892840"/>
              <a:ext cx="4104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5351400" y="5888160"/>
              <a:ext cx="41400" cy="410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5381640" y="5864400"/>
              <a:ext cx="39600" cy="4104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2" y="0"/>
                  </a:moveTo>
                  <a:lnTo>
                    <a:pt x="25" y="13"/>
                  </a:lnTo>
                  <a:lnTo>
                    <a:pt x="12" y="26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5380200" y="5897520"/>
              <a:ext cx="4104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5435640" y="5711760"/>
              <a:ext cx="4140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3" y="0"/>
                  </a:moveTo>
                  <a:lnTo>
                    <a:pt x="26" y="12"/>
                  </a:lnTo>
                  <a:lnTo>
                    <a:pt x="13" y="25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5421240" y="572436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5332320" y="5751360"/>
              <a:ext cx="23760" cy="2412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7948440" y="3995640"/>
              <a:ext cx="2412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 flipV="1">
              <a:off x="5335560" y="5760720"/>
              <a:ext cx="120600" cy="182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3498120" y="639936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3498120" y="593244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3498120" y="546408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3498120" y="49975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3450960" y="452916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3450960" y="406224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3450960" y="359424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3736800" y="6513480"/>
              <a:ext cx="5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009320" y="651348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4356720" y="651348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4706280" y="651348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5053680" y="651348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5401440" y="651348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5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5749200" y="651348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6098400" y="651348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6444360" y="651348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6793560" y="651348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7116120" y="651348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7463880" y="651348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7811280" y="651348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5749920" y="6638760"/>
              <a:ext cx="24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/mi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 rot="16200000">
              <a:off x="3271320" y="4986720"/>
              <a:ext cx="221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dB(A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8242200" y="4275000"/>
              <a:ext cx="647640" cy="625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8340840" y="4317840"/>
              <a:ext cx="4104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8457120" y="4287960"/>
              <a:ext cx="12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J1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8288280" y="4546440"/>
              <a:ext cx="14616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8348760" y="4533840"/>
              <a:ext cx="2520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8443080" y="4495680"/>
              <a:ext cx="42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Referen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8288280" y="4746600"/>
              <a:ext cx="1461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8456040" y="4703760"/>
              <a:ext cx="26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Line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8475840" y="4797360"/>
              <a:ext cx="177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(J10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 flipV="1">
              <a:off x="5292720" y="4005360"/>
              <a:ext cx="2693880" cy="18000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"/>
          <p:cNvSpPr/>
          <p:nvPr/>
        </p:nvSpPr>
        <p:spPr>
          <a:xfrm>
            <a:off x="5940360" y="189000"/>
            <a:ext cx="298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N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EP graphs for Japanese motorcycles include data for 4th gear testing as per Japanese noise legis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5" name=""/>
          <p:cNvGrpSpPr/>
          <p:nvPr/>
        </p:nvGrpSpPr>
        <p:grpSpPr>
          <a:xfrm>
            <a:off x="123840" y="385920"/>
            <a:ext cx="5564160" cy="3151440"/>
            <a:chOff x="123840" y="385920"/>
            <a:chExt cx="5564160" cy="3151440"/>
          </a:xfrm>
        </p:grpSpPr>
        <p:sp>
          <p:nvSpPr>
            <p:cNvPr id="2696" name=""/>
            <p:cNvSpPr/>
            <p:nvPr/>
          </p:nvSpPr>
          <p:spPr>
            <a:xfrm>
              <a:off x="581040" y="2771640"/>
              <a:ext cx="417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581040" y="2303640"/>
              <a:ext cx="417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581040" y="1836720"/>
              <a:ext cx="417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581040" y="1368360"/>
              <a:ext cx="417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581040" y="901800"/>
              <a:ext cx="417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581040" y="433440"/>
              <a:ext cx="417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81040" y="433440"/>
              <a:ext cx="4176720" cy="280512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581040" y="433440"/>
              <a:ext cx="1440" cy="28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555480" y="323856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555480" y="277164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555480" y="230364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555480" y="183672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555480" y="136836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555480" y="90180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555480" y="43344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581040" y="3238560"/>
              <a:ext cx="417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 flipV="1">
              <a:off x="581040" y="321120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 flipV="1">
              <a:off x="930240" y="3211200"/>
              <a:ext cx="180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 flipV="1">
              <a:off x="1278000" y="321120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 flipV="1">
              <a:off x="1625760" y="321120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 flipV="1">
              <a:off x="1973160" y="3211200"/>
              <a:ext cx="180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V="1">
              <a:off x="2320920" y="321120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 flipV="1">
              <a:off x="2670120" y="3211200"/>
              <a:ext cx="180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 flipV="1">
              <a:off x="3017880" y="321120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 flipV="1">
              <a:off x="3365640" y="321120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 flipV="1">
              <a:off x="3713040" y="3211200"/>
              <a:ext cx="180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 flipV="1">
              <a:off x="4062240" y="3211200"/>
              <a:ext cx="180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 flipV="1">
              <a:off x="4408560" y="321120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V="1">
              <a:off x="4757760" y="321120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81040" y="641520"/>
              <a:ext cx="4176720" cy="2562120"/>
            </a:xfrm>
            <a:custGeom>
              <a:avLst/>
              <a:gdLst/>
              <a:ahLst/>
              <a:rect l="l" t="t" r="r" b="b"/>
              <a:pathLst>
                <a:path w="4292" h="2634">
                  <a:moveTo>
                    <a:pt x="0" y="2634"/>
                  </a:moveTo>
                  <a:lnTo>
                    <a:pt x="1855" y="1637"/>
                  </a:lnTo>
                  <a:lnTo>
                    <a:pt x="4292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2365200" y="235260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2541600" y="2278080"/>
              <a:ext cx="3960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3" y="0"/>
                  </a:moveTo>
                  <a:lnTo>
                    <a:pt x="25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2749680" y="2217600"/>
              <a:ext cx="4104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1730520" y="2535120"/>
              <a:ext cx="3960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2" y="0"/>
                  </a:moveTo>
                  <a:lnTo>
                    <a:pt x="25" y="13"/>
                  </a:lnTo>
                  <a:lnTo>
                    <a:pt x="12" y="26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1822320" y="249228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2030400" y="2455920"/>
              <a:ext cx="41400" cy="410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1906560" y="2451240"/>
              <a:ext cx="39600" cy="4104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2" y="0"/>
                  </a:moveTo>
                  <a:lnTo>
                    <a:pt x="25" y="13"/>
                  </a:lnTo>
                  <a:lnTo>
                    <a:pt x="12" y="26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1716120" y="2633760"/>
              <a:ext cx="4140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3" y="0"/>
                  </a:moveTo>
                  <a:lnTo>
                    <a:pt x="26" y="13"/>
                  </a:lnTo>
                  <a:lnTo>
                    <a:pt x="13" y="25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69880" y="3191040"/>
              <a:ext cx="2376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2373480" y="2220840"/>
              <a:ext cx="2520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4745160" y="628560"/>
              <a:ext cx="2376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 flipV="1">
              <a:off x="1736640" y="2231640"/>
              <a:ext cx="1033560" cy="34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294480" y="319104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294480" y="27241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294480" y="225576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294480" y="178920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247320" y="132084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247320" y="85392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247320" y="38592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533160" y="3305160"/>
              <a:ext cx="5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805680" y="33051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1153440" y="33051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1502640" y="33051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1850040" y="33051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2197800" y="33051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5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2545560" y="33051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2894760" y="33051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3240720" y="33051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3590280" y="33051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3912480" y="33051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4260240" y="33051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4607640" y="33051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2546280" y="3430440"/>
              <a:ext cx="24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/mi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 rot="16200000">
              <a:off x="66240" y="1781280"/>
              <a:ext cx="221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dB(A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040360" y="1066680"/>
              <a:ext cx="647640" cy="625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5140440" y="1109520"/>
              <a:ext cx="3960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2" y="0"/>
                  </a:moveTo>
                  <a:lnTo>
                    <a:pt x="25" y="13"/>
                  </a:lnTo>
                  <a:lnTo>
                    <a:pt x="12" y="26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5256720" y="1079640"/>
              <a:ext cx="12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J1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5086440" y="1338120"/>
              <a:ext cx="14580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5146560" y="1325520"/>
              <a:ext cx="2556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5242680" y="1287360"/>
              <a:ext cx="42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Referen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5086440" y="1538280"/>
              <a:ext cx="145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5255640" y="1495440"/>
              <a:ext cx="26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Line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5275440" y="1589040"/>
              <a:ext cx="177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(J11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3559320" y="352440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0" name=""/>
          <p:cNvGrpSpPr/>
          <p:nvPr/>
        </p:nvGrpSpPr>
        <p:grpSpPr>
          <a:xfrm>
            <a:off x="3114720" y="3475080"/>
            <a:ext cx="5769000" cy="3264480"/>
            <a:chOff x="3114720" y="3475080"/>
            <a:chExt cx="5769000" cy="3264480"/>
          </a:xfrm>
        </p:grpSpPr>
        <p:sp>
          <p:nvSpPr>
            <p:cNvPr id="2771" name=""/>
            <p:cNvSpPr/>
            <p:nvPr/>
          </p:nvSpPr>
          <p:spPr>
            <a:xfrm>
              <a:off x="3586320" y="6019920"/>
              <a:ext cx="4354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3586320" y="5602320"/>
              <a:ext cx="4354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3586320" y="5187960"/>
              <a:ext cx="4354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3586320" y="4772160"/>
              <a:ext cx="4354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3586320" y="4356000"/>
              <a:ext cx="4354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3586320" y="3940200"/>
              <a:ext cx="4354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3586320" y="3524400"/>
              <a:ext cx="4354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3586320" y="3524400"/>
              <a:ext cx="4354200" cy="290988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3586320" y="3524400"/>
              <a:ext cx="1440" cy="290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3559320" y="643428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3559320" y="601992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3559320" y="560232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3559320" y="518796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3559320" y="477216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3559320" y="4356000"/>
              <a:ext cx="5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3559320" y="394020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3586320" y="6434280"/>
              <a:ext cx="4354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 flipV="1">
              <a:off x="3586320" y="640728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 flipV="1">
              <a:off x="3949560" y="640728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 flipV="1">
              <a:off x="4313160" y="640728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V="1">
              <a:off x="4675320" y="640728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 flipV="1">
              <a:off x="5038560" y="640728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 flipV="1">
              <a:off x="5400720" y="640728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 flipV="1">
              <a:off x="5762520" y="640728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 flipV="1">
              <a:off x="6126120" y="640728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 flipV="1">
              <a:off x="6489720" y="640728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V="1">
              <a:off x="6851520" y="640728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 flipV="1">
              <a:off x="7215120" y="640728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 flipV="1">
              <a:off x="7578720" y="640728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V="1">
              <a:off x="7940520" y="640728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3586320" y="3767040"/>
              <a:ext cx="4354200" cy="2309760"/>
            </a:xfrm>
            <a:custGeom>
              <a:avLst/>
              <a:gdLst/>
              <a:ahLst/>
              <a:rect l="l" t="t" r="r" b="b"/>
              <a:pathLst>
                <a:path w="4319" h="2290">
                  <a:moveTo>
                    <a:pt x="0" y="2290"/>
                  </a:moveTo>
                  <a:lnTo>
                    <a:pt x="1602" y="1557"/>
                  </a:lnTo>
                  <a:lnTo>
                    <a:pt x="4319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5180040" y="544032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3"/>
                  </a:lnTo>
                  <a:lnTo>
                    <a:pt x="14" y="27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4745160" y="553248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5516640" y="5337000"/>
              <a:ext cx="42840" cy="414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13" y="0"/>
                  </a:moveTo>
                  <a:lnTo>
                    <a:pt x="27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6105600" y="5170320"/>
              <a:ext cx="41040" cy="4320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3" y="0"/>
                  </a:moveTo>
                  <a:lnTo>
                    <a:pt x="26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6676920" y="516564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4"/>
                  </a:lnTo>
                  <a:lnTo>
                    <a:pt x="13" y="27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3573360" y="6064200"/>
              <a:ext cx="2556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5187960" y="5324400"/>
              <a:ext cx="25560" cy="255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7927920" y="3754440"/>
              <a:ext cx="25560" cy="255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 flipV="1">
              <a:off x="4765680" y="5138280"/>
              <a:ext cx="1932120" cy="39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3288600" y="638496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3288600" y="596916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3288600" y="555300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3288600" y="513864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3239640" y="472284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3239640" y="430704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3239640" y="389088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3239640" y="347508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3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3560760" y="6504120"/>
              <a:ext cx="5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3844080" y="650412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4207680" y="650412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571280" y="650412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4933080" y="650412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5296680" y="650412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5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5658480" y="650412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6022080" y="650412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6384240" y="650412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6747480" y="650412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7084440" y="650412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7447680" y="650412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7809840" y="650412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5635800" y="6632640"/>
              <a:ext cx="24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/mi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 rot="16200000">
              <a:off x="3057120" y="4930920"/>
              <a:ext cx="221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dB(A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8211960" y="4181400"/>
              <a:ext cx="671760" cy="647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8315280" y="4226040"/>
              <a:ext cx="42840" cy="410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13" y="0"/>
                  </a:moveTo>
                  <a:lnTo>
                    <a:pt x="27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8408160" y="4194000"/>
              <a:ext cx="31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ACEM 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8261280" y="4460760"/>
              <a:ext cx="15084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8323200" y="4448160"/>
              <a:ext cx="25560" cy="255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8422200" y="4408560"/>
              <a:ext cx="42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Referen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8261280" y="4670280"/>
              <a:ext cx="150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8435160" y="4624560"/>
              <a:ext cx="26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Line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8426520" y="4721400"/>
              <a:ext cx="367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(ACEM 1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3" name=""/>
          <p:cNvGrpSpPr/>
          <p:nvPr/>
        </p:nvGrpSpPr>
        <p:grpSpPr>
          <a:xfrm>
            <a:off x="119160" y="371520"/>
            <a:ext cx="5365800" cy="3040560"/>
            <a:chOff x="119160" y="371520"/>
            <a:chExt cx="5365800" cy="3040560"/>
          </a:xfrm>
        </p:grpSpPr>
        <p:sp>
          <p:nvSpPr>
            <p:cNvPr id="2844" name=""/>
            <p:cNvSpPr/>
            <p:nvPr/>
          </p:nvSpPr>
          <p:spPr>
            <a:xfrm>
              <a:off x="560520" y="2782800"/>
              <a:ext cx="4044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560520" y="2444760"/>
              <a:ext cx="4044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560520" y="2106720"/>
              <a:ext cx="4044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560520" y="1770120"/>
              <a:ext cx="4044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560520" y="1430280"/>
              <a:ext cx="4044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560520" y="1093680"/>
              <a:ext cx="4044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560520" y="755640"/>
              <a:ext cx="4044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560520" y="417600"/>
              <a:ext cx="4044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60520" y="417600"/>
              <a:ext cx="4044960" cy="270180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560520" y="417600"/>
              <a:ext cx="1440" cy="270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534960" y="31194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534960" y="278280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534960" y="244476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534960" y="21067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534960" y="177012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534960" y="14302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534960" y="10936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534960" y="75564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34960" y="417600"/>
              <a:ext cx="5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560520" y="3119400"/>
              <a:ext cx="4044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 flipV="1">
              <a:off x="560520" y="3093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 flipV="1">
              <a:off x="898560" y="3093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 flipV="1">
              <a:off x="1235160" y="3093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 flipV="1">
              <a:off x="1571760" y="3093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 flipV="1">
              <a:off x="1908000" y="309384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 flipV="1">
              <a:off x="2246400" y="3093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 flipV="1">
              <a:off x="2584440" y="3093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 flipV="1">
              <a:off x="2921040" y="3093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 flipV="1">
              <a:off x="3257640" y="3093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 flipV="1">
              <a:off x="3594240" y="3093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 flipV="1">
              <a:off x="3932280" y="3093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 flipV="1">
              <a:off x="4268880" y="3093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 flipV="1">
              <a:off x="4605480" y="3093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560520" y="758880"/>
              <a:ext cx="4044960" cy="1941480"/>
            </a:xfrm>
            <a:custGeom>
              <a:avLst/>
              <a:gdLst/>
              <a:ahLst/>
              <a:rect l="l" t="t" r="r" b="b"/>
              <a:pathLst>
                <a:path w="4315" h="2072">
                  <a:moveTo>
                    <a:pt x="0" y="2072"/>
                  </a:moveTo>
                  <a:lnTo>
                    <a:pt x="899" y="1712"/>
                  </a:lnTo>
                  <a:lnTo>
                    <a:pt x="4315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1384200" y="244476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2" y="0"/>
                  </a:moveTo>
                  <a:lnTo>
                    <a:pt x="24" y="13"/>
                  </a:lnTo>
                  <a:lnTo>
                    <a:pt x="12" y="25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1552680" y="235440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2" y="0"/>
                  </a:moveTo>
                  <a:lnTo>
                    <a:pt x="25" y="12"/>
                  </a:lnTo>
                  <a:lnTo>
                    <a:pt x="12" y="25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1973160" y="228924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25" y="13"/>
                  </a:lnTo>
                  <a:lnTo>
                    <a:pt x="13" y="25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2647800" y="213372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2" y="0"/>
                  </a:moveTo>
                  <a:lnTo>
                    <a:pt x="25" y="13"/>
                  </a:lnTo>
                  <a:lnTo>
                    <a:pt x="12" y="25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547560" y="2689200"/>
              <a:ext cx="2412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1390680" y="2351160"/>
              <a:ext cx="2376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4594320" y="747720"/>
              <a:ext cx="21960" cy="2232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 flipV="1">
              <a:off x="1403280" y="2150640"/>
              <a:ext cx="1263600" cy="290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283320" y="30733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283320" y="27367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283320" y="239868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283320" y="206064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237600" y="172404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237600" y="138600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237600" y="104760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237600" y="70956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3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237600" y="37152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4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536400" y="3184560"/>
              <a:ext cx="5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799200" y="3184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1135800" y="3184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1473840" y="3184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1810440" y="3184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2148840" y="3184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5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2485080" y="3184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2821680" y="3184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3160080" y="3184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3496320" y="3184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3809160" y="31845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4145760" y="31845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4482360" y="31845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2463840" y="3305160"/>
              <a:ext cx="24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/mi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 rot="16200000">
              <a:off x="61560" y="1711440"/>
              <a:ext cx="221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dB(A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4861080" y="1028880"/>
              <a:ext cx="623880" cy="601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4956120" y="106992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3" y="0"/>
                  </a:moveTo>
                  <a:lnTo>
                    <a:pt x="25" y="12"/>
                  </a:lnTo>
                  <a:lnTo>
                    <a:pt x="13" y="24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5041080" y="1039680"/>
              <a:ext cx="31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ACEM 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4905360" y="1289160"/>
              <a:ext cx="14148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4964040" y="1276200"/>
              <a:ext cx="23760" cy="2412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5055120" y="1239840"/>
              <a:ext cx="42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Referen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4905360" y="1482840"/>
              <a:ext cx="1414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5068080" y="1440000"/>
              <a:ext cx="26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Line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5059440" y="1530360"/>
              <a:ext cx="367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(ACEM 2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9" name=""/>
          <p:cNvGrpSpPr/>
          <p:nvPr/>
        </p:nvGrpSpPr>
        <p:grpSpPr>
          <a:xfrm>
            <a:off x="3189240" y="3538440"/>
            <a:ext cx="5705640" cy="3228120"/>
            <a:chOff x="3189240" y="3538440"/>
            <a:chExt cx="5705640" cy="3228120"/>
          </a:xfrm>
        </p:grpSpPr>
        <p:sp>
          <p:nvSpPr>
            <p:cNvPr id="2920" name=""/>
            <p:cNvSpPr/>
            <p:nvPr/>
          </p:nvSpPr>
          <p:spPr>
            <a:xfrm>
              <a:off x="3656160" y="6175440"/>
              <a:ext cx="428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656160" y="5888160"/>
              <a:ext cx="428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3656160" y="5600880"/>
              <a:ext cx="428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3656160" y="5313240"/>
              <a:ext cx="4282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3656160" y="5025960"/>
              <a:ext cx="4282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3656160" y="4737240"/>
              <a:ext cx="428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3656160" y="4449600"/>
              <a:ext cx="4282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656160" y="4162320"/>
              <a:ext cx="4282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3656160" y="3873600"/>
              <a:ext cx="428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3656160" y="3586320"/>
              <a:ext cx="428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3656160" y="3586320"/>
              <a:ext cx="4282920" cy="287640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3656160" y="3586320"/>
              <a:ext cx="1440" cy="2876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3629160" y="646272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3629160" y="617544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3629160" y="588816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3629160" y="560088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3629160" y="5313240"/>
              <a:ext cx="5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3629160" y="5025960"/>
              <a:ext cx="5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3629160" y="473724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3629160" y="4449600"/>
              <a:ext cx="5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3629160" y="4162320"/>
              <a:ext cx="5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3629160" y="387360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3629160" y="358632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3656160" y="6462720"/>
              <a:ext cx="428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 flipV="1">
              <a:off x="3656160" y="643572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 flipV="1">
              <a:off x="4013280" y="643572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"/>
            <p:cNvSpPr/>
            <p:nvPr/>
          </p:nvSpPr>
          <p:spPr>
            <a:xfrm flipV="1">
              <a:off x="4368960" y="643572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 flipV="1">
              <a:off x="4726080" y="643572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 flipV="1">
              <a:off x="5083200" y="643572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 flipV="1">
              <a:off x="5440320" y="643572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 flipV="1">
              <a:off x="5797440" y="643572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 flipV="1">
              <a:off x="6154560" y="643572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 flipV="1">
              <a:off x="6510240" y="643572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 flipV="1">
              <a:off x="6867360" y="643572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 flipV="1">
              <a:off x="7224840" y="643572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 flipV="1">
              <a:off x="7581960" y="643572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 flipV="1">
              <a:off x="7939080" y="643572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 flipV="1">
              <a:off x="4435560" y="5388120"/>
              <a:ext cx="1700280" cy="10951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6114960" y="553896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6091200" y="5645160"/>
              <a:ext cx="42840" cy="414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13" y="0"/>
                  </a:moveTo>
                  <a:lnTo>
                    <a:pt x="27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6141960" y="5618160"/>
              <a:ext cx="42840" cy="414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13" y="0"/>
                  </a:moveTo>
                  <a:lnTo>
                    <a:pt x="27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6240600" y="5583240"/>
              <a:ext cx="42840" cy="414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14" y="0"/>
                  </a:moveTo>
                  <a:lnTo>
                    <a:pt x="27" y="13"/>
                  </a:lnTo>
                  <a:lnTo>
                    <a:pt x="14" y="26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6238800" y="553248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4"/>
                  </a:lnTo>
                  <a:lnTo>
                    <a:pt x="13" y="27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6122880" y="5375160"/>
              <a:ext cx="2556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7924680" y="3921120"/>
              <a:ext cx="25560" cy="255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 flipV="1">
              <a:off x="6111720" y="5578200"/>
              <a:ext cx="150840" cy="50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3361320" y="641340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3361320" y="61261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3361320" y="583884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3361320" y="555156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3361320" y="526428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3361320" y="497664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3361320" y="46879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3361320" y="440064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3312720" y="411336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3312720" y="382572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3312720" y="353844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3606840" y="6532560"/>
              <a:ext cx="5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3886920" y="6532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4242600" y="6532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4599720" y="6532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4956840" y="6532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5312520" y="6532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5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5669640" y="6532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6026760" y="6532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6384240" y="6532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6741360" y="6532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7071480" y="65325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7428960" y="65325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7786080" y="65325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5670720" y="6659640"/>
              <a:ext cx="24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/mi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 rot="16200000">
              <a:off x="3131640" y="4973760"/>
              <a:ext cx="221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dB(A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8229600" y="4235400"/>
              <a:ext cx="665280" cy="641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8331120" y="4280040"/>
              <a:ext cx="42840" cy="410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13" y="0"/>
                  </a:moveTo>
                  <a:lnTo>
                    <a:pt x="27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8422560" y="4249800"/>
              <a:ext cx="31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ACEM 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8277120" y="4513320"/>
              <a:ext cx="15084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8339040" y="4500720"/>
              <a:ext cx="25560" cy="252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8436600" y="4460760"/>
              <a:ext cx="42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Referen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8277120" y="4719600"/>
              <a:ext cx="150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8449560" y="4675320"/>
              <a:ext cx="26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Linea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8440920" y="4770360"/>
              <a:ext cx="367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(ACEM 5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 flipV="1">
              <a:off x="6156360" y="3860280"/>
              <a:ext cx="1800360" cy="15130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2" name=""/>
          <p:cNvGrpSpPr/>
          <p:nvPr/>
        </p:nvGrpSpPr>
        <p:grpSpPr>
          <a:xfrm>
            <a:off x="117360" y="165240"/>
            <a:ext cx="5500800" cy="3115080"/>
            <a:chOff x="117360" y="165240"/>
            <a:chExt cx="5500800" cy="3115080"/>
          </a:xfrm>
        </p:grpSpPr>
        <p:sp>
          <p:nvSpPr>
            <p:cNvPr id="3003" name=""/>
            <p:cNvSpPr/>
            <p:nvPr/>
          </p:nvSpPr>
          <p:spPr>
            <a:xfrm>
              <a:off x="568440" y="2676600"/>
              <a:ext cx="4130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568440" y="2368440"/>
              <a:ext cx="4130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568440" y="2060640"/>
              <a:ext cx="4130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568440" y="1752480"/>
              <a:ext cx="4130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568440" y="1444680"/>
              <a:ext cx="4130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568440" y="1136520"/>
              <a:ext cx="4130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568440" y="828720"/>
              <a:ext cx="4130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568440" y="520560"/>
              <a:ext cx="4130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568440" y="212760"/>
              <a:ext cx="4130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568440" y="212760"/>
              <a:ext cx="4130640" cy="277164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568440" y="212760"/>
              <a:ext cx="1440" cy="2771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542880" y="298440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542880" y="267660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542880" y="236844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542880" y="206064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542880" y="175248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542880" y="144468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542880" y="113652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542880" y="82872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542880" y="52056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542880" y="21276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568440" y="2984400"/>
              <a:ext cx="4130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 flipV="1">
              <a:off x="568440" y="2958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 flipV="1">
              <a:off x="912960" y="2958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 flipV="1">
              <a:off x="1257480" y="2958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 flipV="1">
              <a:off x="1601640" y="295884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 flipV="1">
              <a:off x="1946160" y="295884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 flipV="1">
              <a:off x="2289240" y="2958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 flipV="1">
              <a:off x="2633760" y="2958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 flipV="1">
              <a:off x="2978280" y="2958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"/>
            <p:cNvSpPr/>
            <p:nvPr/>
          </p:nvSpPr>
          <p:spPr>
            <a:xfrm flipV="1">
              <a:off x="3322800" y="2958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 flipV="1">
              <a:off x="3665520" y="2958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"/>
            <p:cNvSpPr/>
            <p:nvPr/>
          </p:nvSpPr>
          <p:spPr>
            <a:xfrm flipV="1">
              <a:off x="4011480" y="2958840"/>
              <a:ext cx="18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"/>
            <p:cNvSpPr/>
            <p:nvPr/>
          </p:nvSpPr>
          <p:spPr>
            <a:xfrm flipV="1">
              <a:off x="4354560" y="2958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V="1">
              <a:off x="4699080" y="2958840"/>
              <a:ext cx="14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568440" y="593640"/>
              <a:ext cx="1965240" cy="1578240"/>
            </a:xfrm>
            <a:custGeom>
              <a:avLst/>
              <a:gdLst/>
              <a:ahLst/>
              <a:rect l="l" t="t" r="r" b="b"/>
              <a:pathLst>
                <a:path w="2045" h="1642">
                  <a:moveTo>
                    <a:pt x="0" y="1642"/>
                  </a:moveTo>
                  <a:lnTo>
                    <a:pt x="846" y="1052"/>
                  </a:lnTo>
                  <a:lnTo>
                    <a:pt x="2045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1362240" y="1768320"/>
              <a:ext cx="3960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2" y="0"/>
                  </a:moveTo>
                  <a:lnTo>
                    <a:pt x="25" y="13"/>
                  </a:lnTo>
                  <a:lnTo>
                    <a:pt x="12" y="26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1508040" y="1603440"/>
              <a:ext cx="4140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3" y="0"/>
                  </a:moveTo>
                  <a:lnTo>
                    <a:pt x="26" y="12"/>
                  </a:lnTo>
                  <a:lnTo>
                    <a:pt x="13" y="25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1841400" y="1535040"/>
              <a:ext cx="3996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2" y="0"/>
                  </a:moveTo>
                  <a:lnTo>
                    <a:pt x="25" y="13"/>
                  </a:lnTo>
                  <a:lnTo>
                    <a:pt x="12" y="26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2282760" y="1177920"/>
              <a:ext cx="3960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2" y="0"/>
                  </a:moveTo>
                  <a:lnTo>
                    <a:pt x="25" y="13"/>
                  </a:lnTo>
                  <a:lnTo>
                    <a:pt x="12" y="26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555480" y="2158920"/>
              <a:ext cx="2556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1370160" y="1592280"/>
              <a:ext cx="2376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2521080" y="581040"/>
              <a:ext cx="2376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 flipV="1">
              <a:off x="1380960" y="1223640"/>
              <a:ext cx="920880" cy="547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284760" y="293688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284760" y="262908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284760" y="23209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284760" y="20131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284760" y="170496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284760" y="139716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284760" y="108900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284760" y="78120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237600" y="47304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237600" y="16524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520560" y="3051000"/>
              <a:ext cx="5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789840" y="305100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1134360" y="305100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1478880" y="305100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1823400" y="305100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2167560" y="305100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5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2512080" y="305100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2855160" y="305100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3199680" y="305100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3544200" y="305100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3863160" y="305100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4207680" y="305100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4550760" y="305100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2513160" y="3173400"/>
              <a:ext cx="24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/mi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 rot="16200000">
              <a:off x="59760" y="1543320"/>
              <a:ext cx="221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dB(A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4978440" y="1055520"/>
              <a:ext cx="639720" cy="617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5054760" y="109872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25" y="13"/>
                  </a:lnTo>
                  <a:lnTo>
                    <a:pt x="13" y="25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5157360" y="1068480"/>
              <a:ext cx="194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US 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5002200" y="1322280"/>
              <a:ext cx="14436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5062680" y="1311120"/>
              <a:ext cx="23760" cy="2412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5155200" y="1273320"/>
              <a:ext cx="42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Referen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5002200" y="1522440"/>
              <a:ext cx="144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5176440" y="1479600"/>
              <a:ext cx="42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Linear (U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5167800" y="1571760"/>
              <a:ext cx="8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B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1" name=""/>
          <p:cNvGrpSpPr/>
          <p:nvPr/>
        </p:nvGrpSpPr>
        <p:grpSpPr>
          <a:xfrm>
            <a:off x="3322800" y="3513240"/>
            <a:ext cx="5572080" cy="3156120"/>
            <a:chOff x="3322800" y="3513240"/>
            <a:chExt cx="5572080" cy="3156120"/>
          </a:xfrm>
        </p:grpSpPr>
        <p:sp>
          <p:nvSpPr>
            <p:cNvPr id="3082" name=""/>
            <p:cNvSpPr/>
            <p:nvPr/>
          </p:nvSpPr>
          <p:spPr>
            <a:xfrm>
              <a:off x="3735360" y="5968800"/>
              <a:ext cx="4226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3735360" y="5568840"/>
              <a:ext cx="4226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3735360" y="5167080"/>
              <a:ext cx="4226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3735360" y="4765680"/>
              <a:ext cx="4226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3735360" y="4363920"/>
              <a:ext cx="4226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3735360" y="3962160"/>
              <a:ext cx="4226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3735360" y="3562200"/>
              <a:ext cx="4226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3735360" y="3562200"/>
              <a:ext cx="4226040" cy="280800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3735360" y="3562200"/>
              <a:ext cx="1440" cy="28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3708360" y="6370560"/>
              <a:ext cx="52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3708360" y="596880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3708360" y="5568840"/>
              <a:ext cx="52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3708360" y="516708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3708360" y="4765680"/>
              <a:ext cx="52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3708360" y="4363920"/>
              <a:ext cx="52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3708360" y="396216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3708360" y="3562200"/>
              <a:ext cx="52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3735360" y="6370560"/>
              <a:ext cx="4226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 flipV="1">
              <a:off x="3735360" y="6343560"/>
              <a:ext cx="1440" cy="5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 flipV="1">
              <a:off x="4086360" y="6343560"/>
              <a:ext cx="1440" cy="5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 flipV="1">
              <a:off x="4438800" y="6343560"/>
              <a:ext cx="1440" cy="5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flipV="1">
              <a:off x="4791240" y="6343560"/>
              <a:ext cx="1440" cy="5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flipV="1">
              <a:off x="5143680" y="6343560"/>
              <a:ext cx="1440" cy="5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flipV="1">
              <a:off x="5495760" y="6343560"/>
              <a:ext cx="1800" cy="5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flipV="1">
              <a:off x="5848200" y="6343560"/>
              <a:ext cx="1800" cy="5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flipV="1">
              <a:off x="6200640" y="6343560"/>
              <a:ext cx="1800" cy="5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flipV="1">
              <a:off x="6551640" y="6343560"/>
              <a:ext cx="1440" cy="5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 flipV="1">
              <a:off x="6904080" y="6343560"/>
              <a:ext cx="1440" cy="5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flipV="1">
              <a:off x="7256520" y="6343560"/>
              <a:ext cx="1440" cy="5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 flipV="1">
              <a:off x="7608960" y="6343560"/>
              <a:ext cx="1440" cy="5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 flipV="1">
              <a:off x="7961400" y="6343560"/>
              <a:ext cx="1440" cy="51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3735360" y="3882960"/>
              <a:ext cx="2009880" cy="1972800"/>
            </a:xfrm>
            <a:custGeom>
              <a:avLst/>
              <a:gdLst/>
              <a:ahLst/>
              <a:rect l="l" t="t" r="r" b="b"/>
              <a:pathLst>
                <a:path w="2067" h="2027">
                  <a:moveTo>
                    <a:pt x="0" y="2027"/>
                  </a:moveTo>
                  <a:lnTo>
                    <a:pt x="1307" y="840"/>
                  </a:lnTo>
                  <a:lnTo>
                    <a:pt x="2067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4986360" y="4921200"/>
              <a:ext cx="39600" cy="4068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3" y="0"/>
                  </a:moveTo>
                  <a:lnTo>
                    <a:pt x="25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5513400" y="4295520"/>
              <a:ext cx="41400" cy="410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5662440" y="4143240"/>
              <a:ext cx="39960" cy="392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2" y="0"/>
                  </a:moveTo>
                  <a:lnTo>
                    <a:pt x="25" y="13"/>
                  </a:lnTo>
                  <a:lnTo>
                    <a:pt x="12" y="25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5211720" y="4464000"/>
              <a:ext cx="41400" cy="406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3722760" y="5843520"/>
              <a:ext cx="23760" cy="23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4994280" y="4687560"/>
              <a:ext cx="2376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5732640" y="3870000"/>
              <a:ext cx="2520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 flipV="1">
              <a:off x="5006880" y="4135320"/>
              <a:ext cx="674640" cy="723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3447360" y="632268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3447360" y="592128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3447360" y="55195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447360" y="511956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447360" y="471780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3447360" y="431640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3447360" y="391464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3447360" y="351324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3686040" y="6437160"/>
              <a:ext cx="5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3963240" y="64371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4315680" y="64371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4668120" y="64371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5020560" y="64371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5371200" y="64371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5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5723640" y="64371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6076080" y="64371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6428520" y="64371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780960" y="64371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7106400" y="64371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7458840" y="64371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7811280" y="643716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5724720" y="6562440"/>
              <a:ext cx="24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/mi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 rot="16200000">
              <a:off x="3265200" y="4906800"/>
              <a:ext cx="221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dB(A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8247240" y="4416120"/>
              <a:ext cx="647640" cy="625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8323200" y="4458960"/>
              <a:ext cx="41400" cy="410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8428680" y="4429080"/>
              <a:ext cx="192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US 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8271000" y="4686120"/>
              <a:ext cx="145800" cy="10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8331120" y="4674960"/>
              <a:ext cx="25560" cy="23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8425440" y="4636800"/>
              <a:ext cx="42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Referen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8271000" y="4887720"/>
              <a:ext cx="14580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8446680" y="4844880"/>
              <a:ext cx="42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Linear (U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8438760" y="4938480"/>
              <a:ext cx="83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A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224964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R41WG database</a:t>
            </a:r>
            <a:br>
              <a:rPr sz="4000"/>
            </a:b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– </a:t>
            </a:r>
            <a:br>
              <a:rPr sz="4000"/>
            </a:b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composition / cover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4" name=""/>
          <p:cNvGrpSpPr/>
          <p:nvPr/>
        </p:nvGrpSpPr>
        <p:grpSpPr>
          <a:xfrm>
            <a:off x="122400" y="171360"/>
            <a:ext cx="5705280" cy="3226320"/>
            <a:chOff x="122400" y="171360"/>
            <a:chExt cx="5705280" cy="3226320"/>
          </a:xfrm>
        </p:grpSpPr>
        <p:sp>
          <p:nvSpPr>
            <p:cNvPr id="3155" name=""/>
            <p:cNvSpPr/>
            <p:nvPr/>
          </p:nvSpPr>
          <p:spPr>
            <a:xfrm>
              <a:off x="590400" y="2774880"/>
              <a:ext cx="4283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590400" y="2455920"/>
              <a:ext cx="4283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590400" y="2136600"/>
              <a:ext cx="4283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590400" y="1817640"/>
              <a:ext cx="4283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590400" y="1496880"/>
              <a:ext cx="4283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590400" y="1179360"/>
              <a:ext cx="4283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590400" y="858960"/>
              <a:ext cx="4283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590400" y="539640"/>
              <a:ext cx="4283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590400" y="220680"/>
              <a:ext cx="4283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590400" y="220680"/>
              <a:ext cx="4283280" cy="287496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590400" y="220680"/>
              <a:ext cx="1800" cy="287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563400" y="309564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563400" y="2774880"/>
              <a:ext cx="5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563400" y="245592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563400" y="2136600"/>
              <a:ext cx="5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563400" y="1817640"/>
              <a:ext cx="5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563400" y="1496880"/>
              <a:ext cx="5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563400" y="1179360"/>
              <a:ext cx="5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563400" y="85896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563400" y="539640"/>
              <a:ext cx="5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563400" y="22068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590400" y="3095640"/>
              <a:ext cx="4283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 flipV="1">
              <a:off x="590400" y="306864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 flipV="1">
              <a:off x="946080" y="306864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 flipV="1">
              <a:off x="1303200" y="306864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 flipV="1">
              <a:off x="1660680" y="306864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 flipV="1">
              <a:off x="2017800" y="306864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 flipV="1">
              <a:off x="2374920" y="306864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 flipV="1">
              <a:off x="2732040" y="306864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 flipV="1">
              <a:off x="3087720" y="306864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 flipV="1">
              <a:off x="3444840" y="306864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 flipV="1">
              <a:off x="3801960" y="306864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 flipV="1">
              <a:off x="4159080" y="306864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 flipV="1">
              <a:off x="4516560" y="306864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 flipV="1">
              <a:off x="4873680" y="306864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590400" y="552600"/>
              <a:ext cx="2141640" cy="1744560"/>
            </a:xfrm>
            <a:custGeom>
              <a:avLst/>
              <a:gdLst/>
              <a:ahLst/>
              <a:rect l="l" t="t" r="r" b="b"/>
              <a:pathLst>
                <a:path w="2149" h="1751">
                  <a:moveTo>
                    <a:pt x="0" y="1751"/>
                  </a:moveTo>
                  <a:lnTo>
                    <a:pt x="966" y="1058"/>
                  </a:lnTo>
                  <a:lnTo>
                    <a:pt x="2149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1531800" y="177804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1503360" y="184788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1822320" y="153504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1941480" y="1444680"/>
              <a:ext cx="42840" cy="414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14" y="0"/>
                  </a:moveTo>
                  <a:lnTo>
                    <a:pt x="27" y="13"/>
                  </a:lnTo>
                  <a:lnTo>
                    <a:pt x="14" y="26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2492280" y="1254240"/>
              <a:ext cx="41400" cy="410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0"/>
                  </a:moveTo>
                  <a:lnTo>
                    <a:pt x="26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576360" y="2284560"/>
              <a:ext cx="2520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1539720" y="1593720"/>
              <a:ext cx="25560" cy="2412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717640" y="539640"/>
              <a:ext cx="25560" cy="2376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 flipV="1">
              <a:off x="1523880" y="1222200"/>
              <a:ext cx="989280" cy="57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95920" y="30463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95920" y="272556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95920" y="240660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295920" y="208764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295920" y="176832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295920" y="144936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95920" y="113040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95920" y="80964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47320" y="49068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47320" y="171360"/>
              <a:ext cx="22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5,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541440" y="3164040"/>
              <a:ext cx="5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820080" y="31640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1177200" y="31640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1534320" y="31640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3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1891440" y="31640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4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2248560" y="31640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5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2604240" y="31640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6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2961360" y="31640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7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3318480" y="31640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8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3675960" y="316404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9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4007880" y="316404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0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4363200" y="316404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4720680" y="3164040"/>
              <a:ext cx="25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2605320" y="3290760"/>
              <a:ext cx="24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1/mi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 rot="16200000">
              <a:off x="64800" y="1606680"/>
              <a:ext cx="221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dB(A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5164200" y="1095480"/>
              <a:ext cx="663480" cy="639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5243400" y="1138320"/>
              <a:ext cx="4140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3" y="0"/>
                  </a:moveTo>
                  <a:lnTo>
                    <a:pt x="26" y="14"/>
                  </a:lnTo>
                  <a:lnTo>
                    <a:pt x="13" y="27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5350680" y="1108080"/>
              <a:ext cx="192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US 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5189400" y="1371600"/>
              <a:ext cx="14940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5251320" y="1359000"/>
              <a:ext cx="24120" cy="252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5347440" y="1320840"/>
              <a:ext cx="42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Referen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5189400" y="1577880"/>
              <a:ext cx="1494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5368680" y="1533600"/>
              <a:ext cx="42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Linear (U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5360760" y="1628640"/>
              <a:ext cx="83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MS P????"/>
                  <a:ea typeface="MS P????"/>
                </a:rPr>
                <a:t>C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"/>
          <p:cNvSpPr/>
          <p:nvPr/>
        </p:nvSpPr>
        <p:spPr>
          <a:xfrm>
            <a:off x="108000" y="-15840"/>
            <a:ext cx="896472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u="sng">
                <a:solidFill>
                  <a:srgbClr val="000000"/>
                </a:solidFill>
                <a:uFillTx/>
                <a:latin typeface="Arial"/>
              </a:rPr>
              <a:t>Overall comments and conclusions (interi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of consolidated noise database confirms tha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O362-2 does not appear to be correlated to any vehicle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CE R41 and ISO362-2 are not cor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standstill" limit(s) will require the noise output of certain vehicles to be re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mit reduction beyond the standstill values will have to consider cost impact and effec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ASEP test concept appears workable but requires further consideration of the following items, to ensure its practical appl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 of appropriate slope and tolerance (both should ideally be defined in relation to undesirable / irrational / atypical noise emissions behavio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gear dependance of slope requires further invest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clusion of CVT scooters (engine speeds are already high regardless of test proced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tion of lower ASEP curve (or reformatting of ASEP curve) as not being necessary for motorc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mitation of number of ASEP measurement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ASEP compliance is declared during type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3946680"/>
            <a:ext cx="2592360" cy="2506680"/>
          </a:xfrm>
          <a:custGeom>
            <a:avLst/>
            <a:gdLst/>
            <a:ahLst/>
            <a:rect l="l" t="t" r="r" b="b"/>
            <a:pathLst>
              <a:path w="1633" h="1270">
                <a:moveTo>
                  <a:pt x="0" y="0"/>
                </a:moveTo>
                <a:lnTo>
                  <a:pt x="1633" y="0"/>
                </a:lnTo>
                <a:lnTo>
                  <a:pt x="1633" y="1270"/>
                </a:lnTo>
                <a:lnTo>
                  <a:pt x="227" y="1270"/>
                </a:lnTo>
                <a:lnTo>
                  <a:pt x="227" y="726"/>
                </a:lnTo>
                <a:lnTo>
                  <a:pt x="0" y="726"/>
                </a:lnTo>
                <a:lnTo>
                  <a:pt x="0" y="0"/>
                </a:lnTo>
                <a:close/>
              </a:path>
            </a:pathLst>
          </a:custGeom>
          <a:solidFill>
            <a:srgbClr val="99cc00">
              <a:alpha val="5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6600" y="5546880"/>
            <a:ext cx="647640" cy="817560"/>
          </a:xfrm>
          <a:custGeom>
            <a:avLst/>
            <a:gdLst/>
            <a:ahLst/>
            <a:rect l="l" t="t" r="r" b="b"/>
            <a:pathLst>
              <a:path w="363" h="453">
                <a:moveTo>
                  <a:pt x="0" y="0"/>
                </a:moveTo>
                <a:lnTo>
                  <a:pt x="363" y="0"/>
                </a:lnTo>
                <a:lnTo>
                  <a:pt x="363" y="453"/>
                </a:lnTo>
                <a:lnTo>
                  <a:pt x="0" y="453"/>
                </a:lnTo>
                <a:lnTo>
                  <a:pt x="0" y="0"/>
                </a:lnTo>
                <a:close/>
              </a:path>
            </a:pathLst>
          </a:cu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98760" y="287280"/>
            <a:ext cx="60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or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9120" y="3164040"/>
            <a:ext cx="199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mall engine capac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73640" y="3164040"/>
            <a:ext cx="179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g engine capac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48400" y="6165720"/>
            <a:ext cx="14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tility / Comf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8440" y="260280"/>
            <a:ext cx="25560" cy="623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20000" y="285840"/>
            <a:ext cx="25560" cy="6208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59400" y="503280"/>
            <a:ext cx="25200" cy="575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268200"/>
            <a:ext cx="852156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3371760"/>
            <a:ext cx="852156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6469200"/>
            <a:ext cx="852156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03120" y="272520"/>
            <a:ext cx="8521920" cy="62089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547560" cy="35892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796000" y="2060640"/>
            <a:ext cx="522360" cy="35244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356000" y="1844640"/>
            <a:ext cx="432000" cy="333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443640" y="2852640"/>
            <a:ext cx="633600" cy="3319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grpSp>
        <p:nvGrpSpPr>
          <p:cNvPr id="64" name=""/>
          <p:cNvGrpSpPr/>
          <p:nvPr/>
        </p:nvGrpSpPr>
        <p:grpSpPr>
          <a:xfrm>
            <a:off x="5219640" y="3013200"/>
            <a:ext cx="550800" cy="315720"/>
            <a:chOff x="5219640" y="3013200"/>
            <a:chExt cx="550800" cy="315720"/>
          </a:xfrm>
        </p:grpSpPr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5219640" y="3013200"/>
              <a:ext cx="55080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5219640" y="3013200"/>
              <a:ext cx="550800" cy="315720"/>
            </a:xfrm>
            <a:prstGeom prst="rect">
              <a:avLst/>
            </a:prstGeom>
            <a:ln w="57240">
              <a:solidFill>
                <a:srgbClr val="ff0000"/>
              </a:solidFill>
              <a:miter/>
            </a:ln>
          </p:spPr>
        </p:pic>
      </p:grpSp>
      <p:grpSp>
        <p:nvGrpSpPr>
          <p:cNvPr id="67" name=""/>
          <p:cNvGrpSpPr/>
          <p:nvPr/>
        </p:nvGrpSpPr>
        <p:grpSpPr>
          <a:xfrm>
            <a:off x="8028000" y="5229360"/>
            <a:ext cx="523800" cy="349200"/>
            <a:chOff x="8028000" y="5229360"/>
            <a:chExt cx="523800" cy="349200"/>
          </a:xfrm>
        </p:grpSpPr>
        <p:pic>
          <p:nvPicPr>
            <p:cNvPr id="68" name="" descr=""/>
            <p:cNvPicPr/>
            <p:nvPr/>
          </p:nvPicPr>
          <p:blipFill>
            <a:blip r:embed="rId7"/>
            <a:stretch/>
          </p:blipFill>
          <p:spPr>
            <a:xfrm>
              <a:off x="8028000" y="5229360"/>
              <a:ext cx="523800" cy="34920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  <p:pic>
          <p:nvPicPr>
            <p:cNvPr id="69" name="" descr=""/>
            <p:cNvPicPr/>
            <p:nvPr/>
          </p:nvPicPr>
          <p:blipFill>
            <a:blip r:embed="rId8"/>
            <a:stretch/>
          </p:blipFill>
          <p:spPr>
            <a:xfrm>
              <a:off x="8028000" y="5229360"/>
              <a:ext cx="523800" cy="34920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</p:grpSp>
      <p:grpSp>
        <p:nvGrpSpPr>
          <p:cNvPr id="70" name=""/>
          <p:cNvGrpSpPr/>
          <p:nvPr/>
        </p:nvGrpSpPr>
        <p:grpSpPr>
          <a:xfrm>
            <a:off x="7236000" y="5013360"/>
            <a:ext cx="634680" cy="385560"/>
            <a:chOff x="7236000" y="5013360"/>
            <a:chExt cx="634680" cy="385560"/>
          </a:xfrm>
        </p:grpSpPr>
        <p:pic>
          <p:nvPicPr>
            <p:cNvPr id="71" name="" descr=""/>
            <p:cNvPicPr/>
            <p:nvPr/>
          </p:nvPicPr>
          <p:blipFill>
            <a:blip r:embed="rId9"/>
            <a:stretch/>
          </p:blipFill>
          <p:spPr>
            <a:xfrm>
              <a:off x="7236000" y="5013360"/>
              <a:ext cx="634680" cy="38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10"/>
            <a:stretch/>
          </p:blipFill>
          <p:spPr>
            <a:xfrm>
              <a:off x="7236000" y="5013360"/>
              <a:ext cx="634680" cy="38556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</p:grpSp>
      <p:pic>
        <p:nvPicPr>
          <p:cNvPr id="73" name="" descr=""/>
          <p:cNvPicPr/>
          <p:nvPr/>
        </p:nvPicPr>
        <p:blipFill>
          <a:blip r:embed="rId11"/>
          <a:stretch/>
        </p:blipFill>
        <p:spPr>
          <a:xfrm>
            <a:off x="3851280" y="4076640"/>
            <a:ext cx="522360" cy="351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12"/>
          <a:stretch/>
        </p:blipFill>
        <p:spPr>
          <a:xfrm>
            <a:off x="4643280" y="5013360"/>
            <a:ext cx="649440" cy="4096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13"/>
          <a:stretch/>
        </p:blipFill>
        <p:spPr>
          <a:xfrm>
            <a:off x="5003640" y="1989000"/>
            <a:ext cx="432000" cy="273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14"/>
          <a:stretch/>
        </p:blipFill>
        <p:spPr>
          <a:xfrm>
            <a:off x="1569960" y="5437080"/>
            <a:ext cx="505080" cy="3254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15"/>
          <a:stretch/>
        </p:blipFill>
        <p:spPr>
          <a:xfrm>
            <a:off x="755640" y="5086440"/>
            <a:ext cx="504720" cy="3189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16"/>
          <a:stretch/>
        </p:blipFill>
        <p:spPr>
          <a:xfrm>
            <a:off x="4572000" y="4365720"/>
            <a:ext cx="747720" cy="390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17"/>
          <a:stretch/>
        </p:blipFill>
        <p:spPr>
          <a:xfrm>
            <a:off x="468360" y="5668920"/>
            <a:ext cx="285840" cy="2890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18"/>
          <a:stretch/>
        </p:blipFill>
        <p:spPr>
          <a:xfrm>
            <a:off x="3924360" y="4724280"/>
            <a:ext cx="581040" cy="3319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19"/>
          <a:stretch/>
        </p:blipFill>
        <p:spPr>
          <a:xfrm>
            <a:off x="5940360" y="333360"/>
            <a:ext cx="539640" cy="35568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7954920" y="1339920"/>
            <a:ext cx="43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7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17080" y="765000"/>
            <a:ext cx="51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352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2708280"/>
            <a:ext cx="881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ON/OFF R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37720" y="334800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6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8200" y="551664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99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883640" y="907920"/>
            <a:ext cx="576000" cy="381240"/>
            <a:chOff x="7883640" y="907920"/>
            <a:chExt cx="576000" cy="381240"/>
          </a:xfrm>
        </p:grpSpPr>
        <p:pic>
          <p:nvPicPr>
            <p:cNvPr id="88" name="" descr=""/>
            <p:cNvPicPr/>
            <p:nvPr/>
          </p:nvPicPr>
          <p:blipFill>
            <a:blip r:embed="rId20"/>
            <a:stretch/>
          </p:blipFill>
          <p:spPr>
            <a:xfrm>
              <a:off x="7926840" y="907920"/>
              <a:ext cx="532800" cy="3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21"/>
            <a:stretch/>
          </p:blipFill>
          <p:spPr>
            <a:xfrm>
              <a:off x="7926840" y="907920"/>
              <a:ext cx="532800" cy="3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22"/>
            <a:stretch/>
          </p:blipFill>
          <p:spPr>
            <a:xfrm>
              <a:off x="7883640" y="954000"/>
              <a:ext cx="532800" cy="3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23"/>
            <a:stretch/>
          </p:blipFill>
          <p:spPr>
            <a:xfrm>
              <a:off x="7883640" y="954000"/>
              <a:ext cx="532800" cy="33516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</p:grpSp>
      <p:pic>
        <p:nvPicPr>
          <p:cNvPr id="92" name="" descr=""/>
          <p:cNvPicPr/>
          <p:nvPr/>
        </p:nvPicPr>
        <p:blipFill>
          <a:blip r:embed="rId24"/>
          <a:stretch/>
        </p:blipFill>
        <p:spPr>
          <a:xfrm>
            <a:off x="5653080" y="1413000"/>
            <a:ext cx="606600" cy="36036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25"/>
          <a:stretch/>
        </p:blipFill>
        <p:spPr>
          <a:xfrm>
            <a:off x="8172360" y="1844640"/>
            <a:ext cx="600120" cy="37800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8386920" y="227664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84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59640" y="256536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97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6000" y="1836720"/>
            <a:ext cx="50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98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66200" y="76500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74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6200" y="515772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0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7280" y="227664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56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58560" y="321300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96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66200" y="242100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8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83640" y="220500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98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7800" y="3573360"/>
            <a:ext cx="653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CRUIS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86920" y="479736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99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07280" y="544500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3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01080" y="5661000"/>
            <a:ext cx="431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84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8560" y="6021360"/>
            <a:ext cx="26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9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68880" y="5797440"/>
            <a:ext cx="52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X 125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0920" y="6229440"/>
            <a:ext cx="26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5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0560" y="537516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6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8101080" y="4384800"/>
            <a:ext cx="644400" cy="412560"/>
            <a:chOff x="8101080" y="4384800"/>
            <a:chExt cx="644400" cy="412560"/>
          </a:xfrm>
        </p:grpSpPr>
        <p:pic>
          <p:nvPicPr>
            <p:cNvPr id="112" name="" descr=""/>
            <p:cNvPicPr/>
            <p:nvPr/>
          </p:nvPicPr>
          <p:blipFill>
            <a:blip r:embed="rId26"/>
            <a:stretch/>
          </p:blipFill>
          <p:spPr>
            <a:xfrm>
              <a:off x="8101080" y="4384800"/>
              <a:ext cx="644400" cy="41256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  <p:pic>
          <p:nvPicPr>
            <p:cNvPr id="113" name="" descr=""/>
            <p:cNvPicPr/>
            <p:nvPr/>
          </p:nvPicPr>
          <p:blipFill>
            <a:blip r:embed="rId27"/>
            <a:stretch/>
          </p:blipFill>
          <p:spPr>
            <a:xfrm>
              <a:off x="8101080" y="4384800"/>
              <a:ext cx="644400" cy="41256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</p:grpSp>
      <p:sp>
        <p:nvSpPr>
          <p:cNvPr id="114" name=""/>
          <p:cNvSpPr/>
          <p:nvPr/>
        </p:nvSpPr>
        <p:spPr>
          <a:xfrm>
            <a:off x="8244000" y="4869000"/>
            <a:ext cx="50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298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8"/>
          <a:stretch/>
        </p:blipFill>
        <p:spPr>
          <a:xfrm>
            <a:off x="3492360" y="5300640"/>
            <a:ext cx="447840" cy="2588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3418200" y="558972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49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26160" y="313380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57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9"/>
          <a:stretch/>
        </p:blipFill>
        <p:spPr>
          <a:xfrm>
            <a:off x="4859280" y="836640"/>
            <a:ext cx="669960" cy="3492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5026320" y="126036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99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099640" y="414972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52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23280" y="4508640"/>
            <a:ext cx="37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99 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0"/>
          <a:stretch/>
        </p:blipFill>
        <p:spPr>
          <a:xfrm>
            <a:off x="7164360" y="961920"/>
            <a:ext cx="574560" cy="37944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1"/>
          <a:stretch/>
        </p:blipFill>
        <p:spPr>
          <a:xfrm>
            <a:off x="1547640" y="5013360"/>
            <a:ext cx="503280" cy="2840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grpSp>
        <p:nvGrpSpPr>
          <p:cNvPr id="124" name=""/>
          <p:cNvGrpSpPr/>
          <p:nvPr/>
        </p:nvGrpSpPr>
        <p:grpSpPr>
          <a:xfrm>
            <a:off x="7956720" y="3716280"/>
            <a:ext cx="685800" cy="360360"/>
            <a:chOff x="7956720" y="3716280"/>
            <a:chExt cx="685800" cy="360360"/>
          </a:xfrm>
        </p:grpSpPr>
        <p:pic>
          <p:nvPicPr>
            <p:cNvPr id="125" name="" descr=""/>
            <p:cNvPicPr/>
            <p:nvPr/>
          </p:nvPicPr>
          <p:blipFill>
            <a:blip r:embed="rId32"/>
            <a:stretch/>
          </p:blipFill>
          <p:spPr>
            <a:xfrm>
              <a:off x="7956720" y="3716280"/>
              <a:ext cx="68580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33"/>
            <a:stretch/>
          </p:blipFill>
          <p:spPr>
            <a:xfrm>
              <a:off x="7956720" y="3716280"/>
              <a:ext cx="685800" cy="36036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</p:grpSp>
      <p:sp>
        <p:nvSpPr>
          <p:cNvPr id="127" name=""/>
          <p:cNvSpPr/>
          <p:nvPr/>
        </p:nvSpPr>
        <p:spPr>
          <a:xfrm>
            <a:off x="6588000" y="1197000"/>
            <a:ext cx="433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98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46200" y="5292720"/>
            <a:ext cx="54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 x 125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333360"/>
            <a:ext cx="863640" cy="368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844560"/>
            <a:ext cx="863640" cy="36828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500720" y="2992320"/>
            <a:ext cx="576000" cy="320760"/>
            <a:chOff x="4500720" y="2992320"/>
            <a:chExt cx="576000" cy="320760"/>
          </a:xfrm>
        </p:grpSpPr>
        <p:pic>
          <p:nvPicPr>
            <p:cNvPr id="132" name="" descr=""/>
            <p:cNvPicPr/>
            <p:nvPr/>
          </p:nvPicPr>
          <p:blipFill>
            <a:blip r:embed="rId34"/>
            <a:stretch/>
          </p:blipFill>
          <p:spPr>
            <a:xfrm>
              <a:off x="4500720" y="2992320"/>
              <a:ext cx="576000" cy="3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5"/>
            <a:stretch/>
          </p:blipFill>
          <p:spPr>
            <a:xfrm>
              <a:off x="4500720" y="2992320"/>
              <a:ext cx="576000" cy="32076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</p:grpSp>
      <p:sp>
        <p:nvSpPr>
          <p:cNvPr id="134" name=""/>
          <p:cNvSpPr/>
          <p:nvPr/>
        </p:nvSpPr>
        <p:spPr>
          <a:xfrm>
            <a:off x="4643280" y="335772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5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2000" y="333360"/>
            <a:ext cx="792000" cy="36828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6"/>
          <a:stretch/>
        </p:blipFill>
        <p:spPr>
          <a:xfrm>
            <a:off x="6516720" y="765000"/>
            <a:ext cx="563400" cy="37152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7236000" y="1341360"/>
            <a:ext cx="431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98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0" y="836640"/>
            <a:ext cx="792000" cy="3682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49080" y="549360"/>
            <a:ext cx="95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SUPERSPO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19640" y="1700280"/>
            <a:ext cx="639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SPORTS &amp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TOUR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51280" y="5877000"/>
            <a:ext cx="7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UTILITY &amp; SCOO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454880" y="2701800"/>
            <a:ext cx="576360" cy="381240"/>
            <a:chOff x="7454880" y="2701800"/>
            <a:chExt cx="576360" cy="381240"/>
          </a:xfrm>
        </p:grpSpPr>
        <p:pic>
          <p:nvPicPr>
            <p:cNvPr id="143" name="" descr=""/>
            <p:cNvPicPr/>
            <p:nvPr/>
          </p:nvPicPr>
          <p:blipFill>
            <a:blip r:embed="rId37"/>
            <a:stretch/>
          </p:blipFill>
          <p:spPr>
            <a:xfrm>
              <a:off x="7498080" y="2701800"/>
              <a:ext cx="533160" cy="335880"/>
            </a:xfrm>
            <a:prstGeom prst="rect">
              <a:avLst/>
            </a:prstGeom>
            <a:ln w="9360">
              <a:solidFill>
                <a:srgbClr val="3366ff"/>
              </a:solidFill>
              <a:miter/>
            </a:ln>
          </p:spPr>
        </p:pic>
        <p:pic>
          <p:nvPicPr>
            <p:cNvPr id="144" name="" descr=""/>
            <p:cNvPicPr/>
            <p:nvPr/>
          </p:nvPicPr>
          <p:blipFill>
            <a:blip r:embed="rId38"/>
            <a:stretch/>
          </p:blipFill>
          <p:spPr>
            <a:xfrm>
              <a:off x="7498080" y="2701800"/>
              <a:ext cx="533160" cy="335880"/>
            </a:xfrm>
            <a:prstGeom prst="rect">
              <a:avLst/>
            </a:prstGeom>
            <a:ln w="9360">
              <a:solidFill>
                <a:srgbClr val="3366ff"/>
              </a:solidFill>
              <a:miter/>
            </a:ln>
          </p:spPr>
        </p:pic>
        <p:pic>
          <p:nvPicPr>
            <p:cNvPr id="145" name="" descr=""/>
            <p:cNvPicPr/>
            <p:nvPr/>
          </p:nvPicPr>
          <p:blipFill>
            <a:blip r:embed="rId39"/>
            <a:stretch/>
          </p:blipFill>
          <p:spPr>
            <a:xfrm>
              <a:off x="7454880" y="2747880"/>
              <a:ext cx="533160" cy="335160"/>
            </a:xfrm>
            <a:prstGeom prst="rect">
              <a:avLst/>
            </a:prstGeom>
            <a:ln w="9360">
              <a:solidFill>
                <a:srgbClr val="3366ff"/>
              </a:solidFill>
              <a:miter/>
            </a:ln>
          </p:spPr>
        </p:pic>
        <p:pic>
          <p:nvPicPr>
            <p:cNvPr id="146" name="" descr=""/>
            <p:cNvPicPr/>
            <p:nvPr/>
          </p:nvPicPr>
          <p:blipFill>
            <a:blip r:embed="rId40"/>
            <a:stretch/>
          </p:blipFill>
          <p:spPr>
            <a:xfrm>
              <a:off x="7454880" y="2747880"/>
              <a:ext cx="533160" cy="335160"/>
            </a:xfrm>
            <a:prstGeom prst="rect">
              <a:avLst/>
            </a:prstGeom>
            <a:ln w="57240">
              <a:solidFill>
                <a:srgbClr val="3366ff"/>
              </a:solidFill>
              <a:miter/>
            </a:ln>
          </p:spPr>
        </p:pic>
      </p:grpSp>
      <p:pic>
        <p:nvPicPr>
          <p:cNvPr id="147" name="" descr=""/>
          <p:cNvPicPr/>
          <p:nvPr/>
        </p:nvPicPr>
        <p:blipFill>
          <a:blip r:embed="rId41"/>
          <a:stretch/>
        </p:blipFill>
        <p:spPr>
          <a:xfrm>
            <a:off x="3348000" y="5805360"/>
            <a:ext cx="397080" cy="2541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3346920" y="609300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23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49960" y="580716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5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2"/>
          <a:stretch/>
        </p:blipFill>
        <p:spPr>
          <a:xfrm>
            <a:off x="2124000" y="5661000"/>
            <a:ext cx="482760" cy="3081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2218320" y="595008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9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3"/>
          <a:stretch/>
        </p:blipFill>
        <p:spPr>
          <a:xfrm>
            <a:off x="1763640" y="6021360"/>
            <a:ext cx="379440" cy="2444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834200" y="6308640"/>
            <a:ext cx="26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9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4"/>
          <a:stretch/>
        </p:blipFill>
        <p:spPr>
          <a:xfrm>
            <a:off x="1042920" y="5589720"/>
            <a:ext cx="285840" cy="28872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1042920" y="587700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8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39117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ass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2880" y="610092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ass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0920" y="2781360"/>
            <a:ext cx="49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X599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5"/>
          <a:stretch/>
        </p:blipFill>
        <p:spPr>
          <a:xfrm>
            <a:off x="4500720" y="2448000"/>
            <a:ext cx="495000" cy="28260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grpSp>
        <p:nvGrpSpPr>
          <p:cNvPr id="160" name=""/>
          <p:cNvGrpSpPr/>
          <p:nvPr/>
        </p:nvGrpSpPr>
        <p:grpSpPr>
          <a:xfrm>
            <a:off x="1547640" y="4005360"/>
            <a:ext cx="576360" cy="360360"/>
            <a:chOff x="1547640" y="4005360"/>
            <a:chExt cx="576360" cy="360360"/>
          </a:xfrm>
        </p:grpSpPr>
        <p:sp>
          <p:nvSpPr>
            <p:cNvPr id="161" name=""/>
            <p:cNvSpPr/>
            <p:nvPr/>
          </p:nvSpPr>
          <p:spPr>
            <a:xfrm>
              <a:off x="1547640" y="4005360"/>
              <a:ext cx="576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46"/>
            <a:stretch/>
          </p:blipFill>
          <p:spPr>
            <a:xfrm>
              <a:off x="1606680" y="4040280"/>
              <a:ext cx="490320" cy="298440"/>
            </a:xfrm>
            <a:prstGeom prst="rect">
              <a:avLst/>
            </a:prstGeom>
            <a:ln w="57240">
              <a:solidFill>
                <a:srgbClr val="3366ff"/>
              </a:solidFill>
              <a:miter/>
            </a:ln>
          </p:spPr>
        </p:pic>
      </p:grpSp>
      <p:sp>
        <p:nvSpPr>
          <p:cNvPr id="163" name=""/>
          <p:cNvSpPr/>
          <p:nvPr/>
        </p:nvSpPr>
        <p:spPr>
          <a:xfrm>
            <a:off x="1619280" y="4365720"/>
            <a:ext cx="430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5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7"/>
          <a:stretch/>
        </p:blipFill>
        <p:spPr>
          <a:xfrm>
            <a:off x="1531800" y="4573440"/>
            <a:ext cx="447840" cy="25884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1531800" y="4861080"/>
            <a:ext cx="433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5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8"/>
          <a:stretch/>
        </p:blipFill>
        <p:spPr>
          <a:xfrm>
            <a:off x="3348000" y="4797360"/>
            <a:ext cx="447840" cy="25884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3348000" y="5084640"/>
            <a:ext cx="433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44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49"/>
          <a:stretch/>
        </p:blipFill>
        <p:spPr>
          <a:xfrm>
            <a:off x="4932360" y="1476360"/>
            <a:ext cx="431640" cy="24912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169" name=""/>
          <p:cNvSpPr/>
          <p:nvPr/>
        </p:nvSpPr>
        <p:spPr>
          <a:xfrm>
            <a:off x="5002560" y="177336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56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0"/>
          <a:stretch/>
        </p:blipFill>
        <p:spPr>
          <a:xfrm>
            <a:off x="7499520" y="1641600"/>
            <a:ext cx="501480" cy="29052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171" name=""/>
          <p:cNvSpPr/>
          <p:nvPr/>
        </p:nvSpPr>
        <p:spPr>
          <a:xfrm>
            <a:off x="7523280" y="1965240"/>
            <a:ext cx="50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57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51"/>
          <a:stretch/>
        </p:blipFill>
        <p:spPr>
          <a:xfrm>
            <a:off x="5219640" y="2471760"/>
            <a:ext cx="432000" cy="33336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5291280" y="280656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56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52"/>
          <a:stretch/>
        </p:blipFill>
        <p:spPr>
          <a:xfrm>
            <a:off x="6588000" y="2147760"/>
            <a:ext cx="505080" cy="39060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53"/>
          <a:stretch/>
        </p:blipFill>
        <p:spPr>
          <a:xfrm>
            <a:off x="1332000" y="6013440"/>
            <a:ext cx="360360" cy="2030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54"/>
          <a:stretch/>
        </p:blipFill>
        <p:spPr>
          <a:xfrm>
            <a:off x="2627280" y="5457960"/>
            <a:ext cx="503280" cy="2840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177" name=""/>
          <p:cNvSpPr/>
          <p:nvPr/>
        </p:nvSpPr>
        <p:spPr>
          <a:xfrm>
            <a:off x="7524720" y="2543040"/>
            <a:ext cx="43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57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7451640" y="2133720"/>
            <a:ext cx="576360" cy="380520"/>
            <a:chOff x="7451640" y="2133720"/>
            <a:chExt cx="576360" cy="380520"/>
          </a:xfrm>
        </p:grpSpPr>
        <p:pic>
          <p:nvPicPr>
            <p:cNvPr id="179" name="" descr=""/>
            <p:cNvPicPr/>
            <p:nvPr/>
          </p:nvPicPr>
          <p:blipFill>
            <a:blip r:embed="rId55"/>
            <a:stretch/>
          </p:blipFill>
          <p:spPr>
            <a:xfrm>
              <a:off x="7494840" y="2133720"/>
              <a:ext cx="533160" cy="33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56"/>
            <a:stretch/>
          </p:blipFill>
          <p:spPr>
            <a:xfrm>
              <a:off x="7494840" y="2133720"/>
              <a:ext cx="533160" cy="33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57"/>
            <a:stretch/>
          </p:blipFill>
          <p:spPr>
            <a:xfrm>
              <a:off x="7451640" y="2179440"/>
              <a:ext cx="53316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58"/>
            <a:stretch/>
          </p:blipFill>
          <p:spPr>
            <a:xfrm>
              <a:off x="7451640" y="2179440"/>
              <a:ext cx="533160" cy="33480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</p:grpSp>
      <p:sp>
        <p:nvSpPr>
          <p:cNvPr id="183" name=""/>
          <p:cNvSpPr/>
          <p:nvPr/>
        </p:nvSpPr>
        <p:spPr>
          <a:xfrm>
            <a:off x="395280" y="1413000"/>
            <a:ext cx="26640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CE R41 Class I, II,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292720" y="59500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tal : 36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00200" y="4233960"/>
            <a:ext cx="553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3554280"/>
            <a:ext cx="553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860560"/>
            <a:ext cx="553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2181240"/>
            <a:ext cx="553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1501920"/>
            <a:ext cx="553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12960" y="1501920"/>
            <a:ext cx="1800" cy="341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11680" y="1501920"/>
            <a:ext cx="1440" cy="341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24440" y="1501920"/>
            <a:ext cx="1440" cy="341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22800" y="1501920"/>
            <a:ext cx="1800" cy="341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137360" y="1501920"/>
            <a:ext cx="1800" cy="341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501920"/>
            <a:ext cx="5537160" cy="341316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1501920"/>
            <a:ext cx="1440" cy="341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00200" y="491508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47847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00200" y="464040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00200" y="451008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436392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00200" y="42339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00200" y="408924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95928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381492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368460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355428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340992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27960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313524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00528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00200" y="286056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273060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60028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00200" y="245592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232560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00200" y="218124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05092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19065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177624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0200" y="163188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00200" y="150192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00200" y="4915080"/>
            <a:ext cx="5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4233960"/>
            <a:ext cx="5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00200" y="3554280"/>
            <a:ext cx="57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2860560"/>
            <a:ext cx="57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2181240"/>
            <a:ext cx="5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00200" y="1501920"/>
            <a:ext cx="5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915080"/>
            <a:ext cx="553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600200" y="48704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874880" y="48704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149560" y="48704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424240" y="48704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712960" y="487044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987640" y="487044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262320" y="48704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537000" y="48704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811680" y="48704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086360" y="48704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375080" y="487044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649760" y="48704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924440" y="48704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199120" y="48704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473800" y="48704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748480" y="4870440"/>
            <a:ext cx="144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022800" y="487044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6313320" y="487044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588000" y="487044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862680" y="487044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7137360" y="4870440"/>
            <a:ext cx="1800" cy="4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600200" y="485604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712960" y="485604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811680" y="485604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924440" y="485604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022800" y="485604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137360" y="485604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86120" y="4191120"/>
            <a:ext cx="87120" cy="8712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0"/>
                </a:moveTo>
                <a:lnTo>
                  <a:pt x="55" y="27"/>
                </a:lnTo>
                <a:lnTo>
                  <a:pt x="27" y="55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30480" y="3973680"/>
            <a:ext cx="87480" cy="87120"/>
          </a:xfrm>
          <a:custGeom>
            <a:avLst/>
            <a:gdLst/>
            <a:ahLst/>
            <a:rect l="l" t="t" r="r" b="b"/>
            <a:pathLst>
              <a:path w="55" h="55">
                <a:moveTo>
                  <a:pt x="28" y="0"/>
                </a:moveTo>
                <a:lnTo>
                  <a:pt x="55" y="28"/>
                </a:lnTo>
                <a:lnTo>
                  <a:pt x="28" y="55"/>
                </a:lnTo>
                <a:lnTo>
                  <a:pt x="0" y="28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666960" y="3973680"/>
            <a:ext cx="87480" cy="8712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0"/>
                </a:moveTo>
                <a:lnTo>
                  <a:pt x="55" y="28"/>
                </a:lnTo>
                <a:lnTo>
                  <a:pt x="27" y="55"/>
                </a:lnTo>
                <a:lnTo>
                  <a:pt x="0" y="28"/>
                </a:lnTo>
                <a:lnTo>
                  <a:pt x="27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54440" y="3511440"/>
            <a:ext cx="85680" cy="87480"/>
          </a:xfrm>
          <a:custGeom>
            <a:avLst/>
            <a:gdLst/>
            <a:ahLst/>
            <a:rect l="l" t="t" r="r" b="b"/>
            <a:pathLst>
              <a:path w="54" h="55">
                <a:moveTo>
                  <a:pt x="27" y="0"/>
                </a:moveTo>
                <a:lnTo>
                  <a:pt x="54" y="27"/>
                </a:lnTo>
                <a:lnTo>
                  <a:pt x="27" y="55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94120" y="4046400"/>
            <a:ext cx="8748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28" y="0"/>
                </a:moveTo>
                <a:lnTo>
                  <a:pt x="55" y="27"/>
                </a:lnTo>
                <a:lnTo>
                  <a:pt x="28" y="55"/>
                </a:lnTo>
                <a:lnTo>
                  <a:pt x="0" y="27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89160" y="2744640"/>
            <a:ext cx="85680" cy="87480"/>
          </a:xfrm>
          <a:custGeom>
            <a:avLst/>
            <a:gdLst/>
            <a:ahLst/>
            <a:rect l="l" t="t" r="r" b="b"/>
            <a:pathLst>
              <a:path w="54" h="55">
                <a:moveTo>
                  <a:pt x="27" y="0"/>
                </a:moveTo>
                <a:lnTo>
                  <a:pt x="54" y="27"/>
                </a:lnTo>
                <a:lnTo>
                  <a:pt x="27" y="55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36760" y="4321080"/>
            <a:ext cx="8748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0"/>
                </a:moveTo>
                <a:lnTo>
                  <a:pt x="55" y="27"/>
                </a:lnTo>
                <a:lnTo>
                  <a:pt x="27" y="55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402160" y="3944880"/>
            <a:ext cx="71640" cy="7308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59160" y="1731960"/>
            <a:ext cx="73080" cy="7308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099040" y="3511440"/>
            <a:ext cx="71280" cy="7164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11560" y="3279600"/>
            <a:ext cx="71640" cy="7308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075120" y="3973680"/>
            <a:ext cx="71280" cy="7272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07160" y="3294000"/>
            <a:ext cx="71280" cy="7308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100400" y="3322800"/>
            <a:ext cx="73080" cy="7272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89240" y="2701800"/>
            <a:ext cx="73080" cy="7164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019240" y="4697280"/>
            <a:ext cx="85680" cy="87480"/>
          </a:xfrm>
          <a:custGeom>
            <a:avLst/>
            <a:gdLst/>
            <a:ahLst/>
            <a:rect l="l" t="t" r="r" b="b"/>
            <a:pathLst>
              <a:path w="54" h="55">
                <a:moveTo>
                  <a:pt x="27" y="0"/>
                </a:moveTo>
                <a:lnTo>
                  <a:pt x="54" y="55"/>
                </a:lnTo>
                <a:lnTo>
                  <a:pt x="0" y="55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144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917720" y="4740120"/>
            <a:ext cx="8712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0"/>
                </a:moveTo>
                <a:lnTo>
                  <a:pt x="55" y="55"/>
                </a:lnTo>
                <a:lnTo>
                  <a:pt x="0" y="55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144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46160" y="4697280"/>
            <a:ext cx="8748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0"/>
                </a:moveTo>
                <a:lnTo>
                  <a:pt x="55" y="55"/>
                </a:lnTo>
                <a:lnTo>
                  <a:pt x="0" y="55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144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048040" y="466884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27" y="0"/>
                </a:moveTo>
                <a:lnTo>
                  <a:pt x="54" y="54"/>
                </a:lnTo>
                <a:lnTo>
                  <a:pt x="0" y="54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144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889280" y="4726080"/>
            <a:ext cx="85680" cy="87120"/>
          </a:xfrm>
          <a:custGeom>
            <a:avLst/>
            <a:gdLst/>
            <a:ahLst/>
            <a:rect l="l" t="t" r="r" b="b"/>
            <a:pathLst>
              <a:path w="54" h="55">
                <a:moveTo>
                  <a:pt x="27" y="0"/>
                </a:moveTo>
                <a:lnTo>
                  <a:pt x="54" y="55"/>
                </a:lnTo>
                <a:lnTo>
                  <a:pt x="0" y="55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144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32120" y="4697280"/>
            <a:ext cx="8712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0"/>
                </a:moveTo>
                <a:lnTo>
                  <a:pt x="55" y="55"/>
                </a:lnTo>
                <a:lnTo>
                  <a:pt x="0" y="55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144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79520" y="4191120"/>
            <a:ext cx="85680" cy="87120"/>
          </a:xfrm>
          <a:custGeom>
            <a:avLst/>
            <a:gdLst/>
            <a:ahLst/>
            <a:rect l="l" t="t" r="r" b="b"/>
            <a:pathLst>
              <a:path w="54" h="55">
                <a:moveTo>
                  <a:pt x="27" y="0"/>
                </a:moveTo>
                <a:lnTo>
                  <a:pt x="54" y="55"/>
                </a:lnTo>
                <a:lnTo>
                  <a:pt x="0" y="55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144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178000" y="4567320"/>
            <a:ext cx="85680" cy="87120"/>
          </a:xfrm>
          <a:custGeom>
            <a:avLst/>
            <a:gdLst/>
            <a:ahLst/>
            <a:rect l="l" t="t" r="r" b="b"/>
            <a:pathLst>
              <a:path w="54" h="55">
                <a:moveTo>
                  <a:pt x="27" y="0"/>
                </a:moveTo>
                <a:lnTo>
                  <a:pt x="54" y="55"/>
                </a:lnTo>
                <a:lnTo>
                  <a:pt x="0" y="55"/>
                </a:lnTo>
                <a:lnTo>
                  <a:pt x="27" y="0"/>
                </a:lnTo>
                <a:close/>
              </a:path>
            </a:pathLst>
          </a:custGeom>
          <a:solidFill>
            <a:srgbClr val="ffff00"/>
          </a:solidFill>
          <a:ln w="144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695760" y="4032360"/>
            <a:ext cx="1299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3709800" y="4046040"/>
            <a:ext cx="4428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54440" y="4089240"/>
            <a:ext cx="4284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709800" y="4089240"/>
            <a:ext cx="4428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754440" y="4046040"/>
            <a:ext cx="428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754440" y="4046040"/>
            <a:ext cx="14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754440" y="4089240"/>
            <a:ext cx="144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30720" y="4032360"/>
            <a:ext cx="13032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4244760" y="4046040"/>
            <a:ext cx="4428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89400" y="4089240"/>
            <a:ext cx="4284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244760" y="4089240"/>
            <a:ext cx="4428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289400" y="4046040"/>
            <a:ext cx="428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289400" y="4046040"/>
            <a:ext cx="14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89400" y="4089240"/>
            <a:ext cx="144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283440" y="3005280"/>
            <a:ext cx="1299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6298920" y="3019320"/>
            <a:ext cx="4284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342120" y="3063960"/>
            <a:ext cx="428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6298920" y="3063960"/>
            <a:ext cx="428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342120" y="3019320"/>
            <a:ext cx="4284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342120" y="3019320"/>
            <a:ext cx="144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42120" y="3063960"/>
            <a:ext cx="14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32000" y="3930480"/>
            <a:ext cx="13032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3146040" y="3944880"/>
            <a:ext cx="4284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89240" y="3989520"/>
            <a:ext cx="446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3146040" y="3989520"/>
            <a:ext cx="428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3189240" y="3944880"/>
            <a:ext cx="4464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3189240" y="3944880"/>
            <a:ext cx="180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189240" y="3989520"/>
            <a:ext cx="180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419720" y="3106800"/>
            <a:ext cx="12852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4433400" y="3120840"/>
            <a:ext cx="428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476600" y="3164040"/>
            <a:ext cx="42840" cy="4428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4433400" y="3164040"/>
            <a:ext cx="42840" cy="4428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476600" y="3120840"/>
            <a:ext cx="428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4476600" y="3120840"/>
            <a:ext cx="180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76600" y="3164040"/>
            <a:ext cx="1800" cy="4428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764320" y="3279600"/>
            <a:ext cx="1299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5778000" y="3294000"/>
            <a:ext cx="4284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821200" y="3338640"/>
            <a:ext cx="4320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778000" y="3338640"/>
            <a:ext cx="428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5821200" y="3294000"/>
            <a:ext cx="4320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821200" y="3294000"/>
            <a:ext cx="180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821200" y="3338640"/>
            <a:ext cx="180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029120" y="3772080"/>
            <a:ext cx="1299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4043160" y="3785760"/>
            <a:ext cx="428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086360" y="3828960"/>
            <a:ext cx="4284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4043160" y="3828960"/>
            <a:ext cx="4284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086360" y="3785760"/>
            <a:ext cx="428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086360" y="3785760"/>
            <a:ext cx="14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86360" y="3828960"/>
            <a:ext cx="144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062080" y="4683240"/>
            <a:ext cx="13032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2076120" y="4696920"/>
            <a:ext cx="428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19320" y="4740120"/>
            <a:ext cx="4428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076120" y="4740120"/>
            <a:ext cx="4284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2119320" y="4696920"/>
            <a:ext cx="4428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119320" y="4696920"/>
            <a:ext cx="14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19320" y="4740120"/>
            <a:ext cx="144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98880" y="3497400"/>
            <a:ext cx="13032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4014360" y="3511080"/>
            <a:ext cx="428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057560" y="3554280"/>
            <a:ext cx="4284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014360" y="3554280"/>
            <a:ext cx="4284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4057560" y="3511080"/>
            <a:ext cx="428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057560" y="3511080"/>
            <a:ext cx="180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57560" y="3554280"/>
            <a:ext cx="180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057560" y="3279600"/>
            <a:ext cx="13032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71600" y="3294000"/>
            <a:ext cx="4284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3338640"/>
            <a:ext cx="4428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071600" y="3338640"/>
            <a:ext cx="428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4114800" y="3294000"/>
            <a:ext cx="4428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4114800" y="3294000"/>
            <a:ext cx="1440" cy="446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114800" y="3338640"/>
            <a:ext cx="14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898800" y="3627360"/>
            <a:ext cx="13032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3912840" y="3641400"/>
            <a:ext cx="428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56040" y="3684600"/>
            <a:ext cx="42840" cy="4428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912840" y="3684600"/>
            <a:ext cx="42840" cy="4428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956040" y="3641400"/>
            <a:ext cx="428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3956040" y="3641400"/>
            <a:ext cx="14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956040" y="3684600"/>
            <a:ext cx="1440" cy="4428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002040" y="3959280"/>
            <a:ext cx="1299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016080" y="3973320"/>
            <a:ext cx="43200" cy="4428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59280" y="4017960"/>
            <a:ext cx="4428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3016080" y="4017960"/>
            <a:ext cx="4320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3059280" y="3973320"/>
            <a:ext cx="44280" cy="4428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3059280" y="3973320"/>
            <a:ext cx="1440" cy="4428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059280" y="4017960"/>
            <a:ext cx="14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624120" y="3959280"/>
            <a:ext cx="13032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3638160" y="3973320"/>
            <a:ext cx="42840" cy="4428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681360" y="4017960"/>
            <a:ext cx="428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638160" y="4017960"/>
            <a:ext cx="428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3681360" y="3973320"/>
            <a:ext cx="42840" cy="4428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681360" y="3973320"/>
            <a:ext cx="1800" cy="4428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681360" y="4017960"/>
            <a:ext cx="180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324680" y="763560"/>
            <a:ext cx="409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S P????"/>
              </a:rPr>
              <a:t>M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346760" y="482760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P????"/>
                <a:ea typeface="MS P????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29320" y="414828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P????"/>
                <a:ea typeface="MS P????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20600" y="3468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P????"/>
                <a:ea typeface="MS P????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020600" y="277344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P????"/>
                <a:ea typeface="MS P????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020600" y="209376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P????"/>
                <a:ea typeface="MS P????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020600" y="141444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P????"/>
                <a:ea typeface="MS P????"/>
              </a:rPr>
              <a:t>2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519560" y="50878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P????"/>
                <a:ea typeface="MS P????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18560" y="508788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P????"/>
                <a:ea typeface="MS P????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616920" y="508788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P????"/>
                <a:ea typeface="MS P????"/>
              </a:rPr>
              <a:t>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729680" y="508788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P????"/>
                <a:ea typeface="MS P????"/>
              </a:rPr>
              <a:t>3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828400" y="508788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P????"/>
                <a:ea typeface="MS P????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41160" y="508788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P????"/>
                <a:ea typeface="MS P????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056480" y="5391000"/>
            <a:ext cx="48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????"/>
                <a:ea typeface="MS P????"/>
              </a:rPr>
              <a:t>PM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6200000">
            <a:off x="-160200" y="2939400"/>
            <a:ext cx="203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????"/>
                <a:ea typeface="MS P????"/>
              </a:rPr>
              <a:t>Engine capacity(c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497720" y="2600280"/>
            <a:ext cx="1041480" cy="14050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613640" y="2744640"/>
            <a:ext cx="8748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28" y="0"/>
                </a:moveTo>
                <a:lnTo>
                  <a:pt x="55" y="27"/>
                </a:lnTo>
                <a:lnTo>
                  <a:pt x="28" y="55"/>
                </a:lnTo>
                <a:lnTo>
                  <a:pt x="0" y="27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740000" y="2657520"/>
            <a:ext cx="66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????"/>
                <a:ea typeface="MS P????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613640" y="3048120"/>
            <a:ext cx="73080" cy="7308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697160" y="2962440"/>
            <a:ext cx="63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????"/>
                <a:ea typeface="MS P????"/>
              </a:rPr>
              <a:t>IM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613640" y="3352680"/>
            <a:ext cx="87480" cy="85680"/>
          </a:xfrm>
          <a:custGeom>
            <a:avLst/>
            <a:gdLst/>
            <a:ahLst/>
            <a:rect l="l" t="t" r="r" b="b"/>
            <a:pathLst>
              <a:path w="55" h="54">
                <a:moveTo>
                  <a:pt x="28" y="0"/>
                </a:moveTo>
                <a:lnTo>
                  <a:pt x="55" y="54"/>
                </a:lnTo>
                <a:lnTo>
                  <a:pt x="0" y="54"/>
                </a:lnTo>
                <a:lnTo>
                  <a:pt x="28" y="0"/>
                </a:lnTo>
                <a:close/>
              </a:path>
            </a:pathLst>
          </a:custGeom>
          <a:solidFill>
            <a:srgbClr val="ffff00"/>
          </a:solidFill>
          <a:ln w="144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52240" y="3265560"/>
            <a:ext cx="64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????"/>
                <a:ea typeface="MS P????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599240" y="3641760"/>
            <a:ext cx="13032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7613640" y="3655800"/>
            <a:ext cx="446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58280" y="3699000"/>
            <a:ext cx="42840" cy="4428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7613640" y="3699000"/>
            <a:ext cx="44640" cy="4428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7658280" y="3655800"/>
            <a:ext cx="428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7658280" y="3655800"/>
            <a:ext cx="1440" cy="4284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658280" y="3699000"/>
            <a:ext cx="1440" cy="44280"/>
          </a:xfrm>
          <a:prstGeom prst="line">
            <a:avLst/>
          </a:prstGeom>
          <a:ln w="14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765200" y="3568680"/>
            <a:ext cx="50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????"/>
                <a:ea typeface="MS P????"/>
              </a:rPr>
              <a:t>B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5219640" y="6021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tal : 11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344600" y="4444920"/>
            <a:ext cx="5921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344600" y="3838680"/>
            <a:ext cx="5921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344600" y="3246480"/>
            <a:ext cx="5921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344600" y="2654280"/>
            <a:ext cx="5921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44600" y="2046240"/>
            <a:ext cx="5921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344600" y="1455840"/>
            <a:ext cx="5921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32080" y="1455840"/>
            <a:ext cx="1440" cy="358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317760" y="1455840"/>
            <a:ext cx="1800" cy="358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305240" y="1455840"/>
            <a:ext cx="1800" cy="358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292720" y="1455840"/>
            <a:ext cx="1440" cy="358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80200" y="1455840"/>
            <a:ext cx="1440" cy="358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265880" y="1455840"/>
            <a:ext cx="1800" cy="358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344600" y="1455840"/>
            <a:ext cx="5921280" cy="3581280"/>
          </a:xfrm>
          <a:prstGeom prst="rect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344600" y="1455840"/>
            <a:ext cx="1440" cy="358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344600" y="5037120"/>
            <a:ext cx="44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344600" y="4884840"/>
            <a:ext cx="44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344600" y="4734000"/>
            <a:ext cx="44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344600" y="4597560"/>
            <a:ext cx="44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44600" y="4444920"/>
            <a:ext cx="44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44600" y="4294080"/>
            <a:ext cx="44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344600" y="4141800"/>
            <a:ext cx="44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344600" y="3989520"/>
            <a:ext cx="44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44600" y="3838680"/>
            <a:ext cx="44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344600" y="3701880"/>
            <a:ext cx="44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344600" y="3549600"/>
            <a:ext cx="44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44600" y="3397320"/>
            <a:ext cx="44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344600" y="3246480"/>
            <a:ext cx="44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344600" y="3094200"/>
            <a:ext cx="44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344600" y="2943360"/>
            <a:ext cx="44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344600" y="2806560"/>
            <a:ext cx="44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344600" y="2654280"/>
            <a:ext cx="44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344600" y="2502000"/>
            <a:ext cx="44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344600" y="2351160"/>
            <a:ext cx="44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344600" y="2198520"/>
            <a:ext cx="44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44600" y="2046240"/>
            <a:ext cx="44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344600" y="1895400"/>
            <a:ext cx="44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344600" y="1758960"/>
            <a:ext cx="44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344600" y="1606680"/>
            <a:ext cx="44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344600" y="1455840"/>
            <a:ext cx="44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344600" y="503712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344600" y="444492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344600" y="38386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344600" y="32464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344600" y="26542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344600" y="204624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344600" y="145584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44600" y="5037120"/>
            <a:ext cx="5921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1344600" y="499104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1587600" y="499104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1844640" y="499104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2087640" y="499104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2332080" y="499104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2575080" y="499104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832120" y="499104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075120" y="499104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3317760" y="499104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3560760" y="499104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3819600" y="499104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4062240" y="499104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4305240" y="499104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548240" y="499104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4807080" y="499104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5049720" y="499104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5292720" y="499104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5535720" y="499104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794200" y="499104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6037200" y="499104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6280200" y="499104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6523200" y="499104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6780240" y="499104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7023240" y="499104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7265880" y="499104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1344600" y="49766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332080" y="49766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317760" y="4976640"/>
            <a:ext cx="180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4305240" y="4976640"/>
            <a:ext cx="180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5292720" y="49766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280200" y="49766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7265880" y="4976640"/>
            <a:ext cx="180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659640" y="2016000"/>
            <a:ext cx="90360" cy="92160"/>
          </a:xfrm>
          <a:custGeom>
            <a:avLst/>
            <a:gdLst/>
            <a:ahLst/>
            <a:rect l="l" t="t" r="r" b="b"/>
            <a:pathLst>
              <a:path w="57" h="58">
                <a:moveTo>
                  <a:pt x="29" y="0"/>
                </a:moveTo>
                <a:lnTo>
                  <a:pt x="57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551560" y="2608200"/>
            <a:ext cx="90360" cy="92160"/>
          </a:xfrm>
          <a:custGeom>
            <a:avLst/>
            <a:gdLst/>
            <a:ahLst/>
            <a:rect l="l" t="t" r="r" b="b"/>
            <a:pathLst>
              <a:path w="57" h="58">
                <a:moveTo>
                  <a:pt x="28" y="0"/>
                </a:moveTo>
                <a:lnTo>
                  <a:pt x="57" y="29"/>
                </a:lnTo>
                <a:lnTo>
                  <a:pt x="28" y="58"/>
                </a:lnTo>
                <a:lnTo>
                  <a:pt x="0" y="29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468520" y="4703760"/>
            <a:ext cx="90360" cy="90360"/>
          </a:xfrm>
          <a:custGeom>
            <a:avLst/>
            <a:gdLst/>
            <a:ahLst/>
            <a:rect l="l" t="t" r="r" b="b"/>
            <a:pathLst>
              <a:path w="57" h="57">
                <a:moveTo>
                  <a:pt x="28" y="0"/>
                </a:moveTo>
                <a:lnTo>
                  <a:pt x="57" y="28"/>
                </a:lnTo>
                <a:lnTo>
                  <a:pt x="28" y="57"/>
                </a:lnTo>
                <a:lnTo>
                  <a:pt x="0" y="28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502160" y="350352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54560" y="4232160"/>
            <a:ext cx="137880" cy="1368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 flipV="1">
            <a:off x="3470400" y="4248000"/>
            <a:ext cx="46080" cy="4608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516480" y="4294080"/>
            <a:ext cx="44280" cy="4464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3470400" y="4294080"/>
            <a:ext cx="46080" cy="4464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516480" y="4248000"/>
            <a:ext cx="44280" cy="4608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652920" y="4232160"/>
            <a:ext cx="136440" cy="1368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 flipV="1">
            <a:off x="3666960" y="4248000"/>
            <a:ext cx="46080" cy="4608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713040" y="4294080"/>
            <a:ext cx="46080" cy="4464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3666960" y="4294080"/>
            <a:ext cx="46080" cy="4464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713040" y="4248000"/>
            <a:ext cx="46080" cy="4608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817720" y="4430880"/>
            <a:ext cx="90720" cy="90360"/>
          </a:xfrm>
          <a:custGeom>
            <a:avLst/>
            <a:gdLst/>
            <a:ahLst/>
            <a:rect l="l" t="t" r="r" b="b"/>
            <a:pathLst>
              <a:path w="57" h="57">
                <a:moveTo>
                  <a:pt x="28" y="0"/>
                </a:moveTo>
                <a:lnTo>
                  <a:pt x="57" y="57"/>
                </a:lnTo>
                <a:lnTo>
                  <a:pt x="0" y="57"/>
                </a:lnTo>
                <a:lnTo>
                  <a:pt x="28" y="0"/>
                </a:lnTo>
                <a:close/>
              </a:path>
            </a:pathLst>
          </a:custGeom>
          <a:solidFill>
            <a:srgbClr val="ffff00"/>
          </a:solidFill>
          <a:ln w="158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287880" y="4005360"/>
            <a:ext cx="91800" cy="90360"/>
          </a:xfrm>
          <a:custGeom>
            <a:avLst/>
            <a:gdLst/>
            <a:ahLst/>
            <a:rect l="l" t="t" r="r" b="b"/>
            <a:pathLst>
              <a:path w="58" h="57">
                <a:moveTo>
                  <a:pt x="29" y="0"/>
                </a:moveTo>
                <a:lnTo>
                  <a:pt x="58" y="57"/>
                </a:lnTo>
                <a:lnTo>
                  <a:pt x="0" y="57"/>
                </a:lnTo>
                <a:lnTo>
                  <a:pt x="29" y="0"/>
                </a:lnTo>
                <a:close/>
              </a:path>
            </a:pathLst>
          </a:custGeom>
          <a:solidFill>
            <a:srgbClr val="ffff00"/>
          </a:solidFill>
          <a:ln w="158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62320" y="4460760"/>
            <a:ext cx="90360" cy="90720"/>
          </a:xfrm>
          <a:custGeom>
            <a:avLst/>
            <a:gdLst/>
            <a:ahLst/>
            <a:rect l="l" t="t" r="r" b="b"/>
            <a:pathLst>
              <a:path w="57" h="57">
                <a:moveTo>
                  <a:pt x="28" y="0"/>
                </a:moveTo>
                <a:lnTo>
                  <a:pt x="57" y="57"/>
                </a:lnTo>
                <a:lnTo>
                  <a:pt x="0" y="57"/>
                </a:lnTo>
                <a:lnTo>
                  <a:pt x="28" y="0"/>
                </a:lnTo>
                <a:close/>
              </a:path>
            </a:pathLst>
          </a:custGeom>
          <a:solidFill>
            <a:srgbClr val="ffff00"/>
          </a:solidFill>
          <a:ln w="158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714920" y="3489480"/>
            <a:ext cx="19836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4730760" y="3503520"/>
            <a:ext cx="76320" cy="76320"/>
          </a:xfrm>
          <a:prstGeom prst="line">
            <a:avLst/>
          </a:prstGeom>
          <a:ln w="158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807080" y="3579840"/>
            <a:ext cx="75960" cy="76320"/>
          </a:xfrm>
          <a:prstGeom prst="line">
            <a:avLst/>
          </a:prstGeom>
          <a:ln w="158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4730760" y="3579840"/>
            <a:ext cx="76320" cy="76320"/>
          </a:xfrm>
          <a:prstGeom prst="line">
            <a:avLst/>
          </a:prstGeom>
          <a:ln w="158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4807080" y="3503520"/>
            <a:ext cx="75960" cy="76320"/>
          </a:xfrm>
          <a:prstGeom prst="line">
            <a:avLst/>
          </a:prstGeom>
          <a:ln w="158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4807080" y="3503520"/>
            <a:ext cx="1440" cy="76320"/>
          </a:xfrm>
          <a:prstGeom prst="line">
            <a:avLst/>
          </a:prstGeom>
          <a:ln w="158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807080" y="3579840"/>
            <a:ext cx="1440" cy="76320"/>
          </a:xfrm>
          <a:prstGeom prst="line">
            <a:avLst/>
          </a:prstGeom>
          <a:ln w="158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303720" y="4202280"/>
            <a:ext cx="19656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3317760" y="4217760"/>
            <a:ext cx="76320" cy="75960"/>
          </a:xfrm>
          <a:prstGeom prst="line">
            <a:avLst/>
          </a:prstGeom>
          <a:ln w="158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394080" y="4294080"/>
            <a:ext cx="76320" cy="74880"/>
          </a:xfrm>
          <a:prstGeom prst="line">
            <a:avLst/>
          </a:prstGeom>
          <a:ln w="158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3317760" y="4294080"/>
            <a:ext cx="76320" cy="74880"/>
          </a:xfrm>
          <a:prstGeom prst="line">
            <a:avLst/>
          </a:prstGeom>
          <a:ln w="158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394080" y="4217760"/>
            <a:ext cx="76320" cy="75960"/>
          </a:xfrm>
          <a:prstGeom prst="line">
            <a:avLst/>
          </a:prstGeom>
          <a:ln w="158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3394080" y="4217760"/>
            <a:ext cx="1440" cy="75960"/>
          </a:xfrm>
          <a:prstGeom prst="line">
            <a:avLst/>
          </a:prstGeom>
          <a:ln w="158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394080" y="4294080"/>
            <a:ext cx="1440" cy="74880"/>
          </a:xfrm>
          <a:prstGeom prst="line">
            <a:avLst/>
          </a:prstGeom>
          <a:ln w="158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248360" y="681120"/>
            <a:ext cx="52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MS P????"/>
                <a:ea typeface="MS P????"/>
              </a:rPr>
              <a:t>CV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077840" y="494676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49600" y="4354560"/>
            <a:ext cx="371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1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49600" y="3746520"/>
            <a:ext cx="371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2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49600" y="3154320"/>
            <a:ext cx="371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3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849600" y="2563920"/>
            <a:ext cx="371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4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49600" y="1955880"/>
            <a:ext cx="371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5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49600" y="1363680"/>
            <a:ext cx="371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6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260360" y="521964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178000" y="521964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165480" y="521964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152960" y="521964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6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140440" y="521964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8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073920" y="5219640"/>
            <a:ext cx="371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1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61400" y="5219640"/>
            <a:ext cx="371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1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986280" y="5538960"/>
            <a:ext cx="514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S P????"/>
                <a:ea typeface="MS P????"/>
              </a:rPr>
              <a:t>PM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16200000">
            <a:off x="-402840" y="2955240"/>
            <a:ext cx="2140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S P????"/>
                <a:ea typeface="MS P????"/>
              </a:rPr>
              <a:t>Engine capacity(cc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647120" y="2608200"/>
            <a:ext cx="1092240" cy="1468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767720" y="2760840"/>
            <a:ext cx="92160" cy="90360"/>
          </a:xfrm>
          <a:custGeom>
            <a:avLst/>
            <a:gdLst/>
            <a:ahLst/>
            <a:rect l="l" t="t" r="r" b="b"/>
            <a:pathLst>
              <a:path w="58" h="57">
                <a:moveTo>
                  <a:pt x="29" y="0"/>
                </a:moveTo>
                <a:lnTo>
                  <a:pt x="58" y="29"/>
                </a:lnTo>
                <a:lnTo>
                  <a:pt x="29" y="57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900200" y="2668680"/>
            <a:ext cx="703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S P????"/>
                <a:ea typeface="MS P????"/>
              </a:rPr>
              <a:t>JAP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753320" y="3063960"/>
            <a:ext cx="136440" cy="1364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7767720" y="3079440"/>
            <a:ext cx="46080" cy="4428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13800" y="3124080"/>
            <a:ext cx="46080" cy="4608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7767720" y="3124080"/>
            <a:ext cx="46080" cy="4608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7813800" y="3079440"/>
            <a:ext cx="46080" cy="4428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855200" y="2987640"/>
            <a:ext cx="672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S P????"/>
                <a:ea typeface="MS P????"/>
              </a:rPr>
              <a:t>IM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767720" y="339732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58"/>
                </a:lnTo>
                <a:lnTo>
                  <a:pt x="0" y="58"/>
                </a:lnTo>
                <a:lnTo>
                  <a:pt x="29" y="0"/>
                </a:lnTo>
                <a:close/>
              </a:path>
            </a:pathLst>
          </a:custGeom>
          <a:solidFill>
            <a:srgbClr val="ffff00"/>
          </a:solidFill>
          <a:ln w="158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913160" y="3306600"/>
            <a:ext cx="677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S P????"/>
                <a:ea typeface="MS P????"/>
              </a:rPr>
              <a:t>IND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721640" y="3672000"/>
            <a:ext cx="19836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7737480" y="3686040"/>
            <a:ext cx="76320" cy="76320"/>
          </a:xfrm>
          <a:prstGeom prst="line">
            <a:avLst/>
          </a:prstGeom>
          <a:ln w="158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813800" y="3762360"/>
            <a:ext cx="75960" cy="76320"/>
          </a:xfrm>
          <a:prstGeom prst="line">
            <a:avLst/>
          </a:prstGeom>
          <a:ln w="158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7737480" y="3762360"/>
            <a:ext cx="76320" cy="76320"/>
          </a:xfrm>
          <a:prstGeom prst="line">
            <a:avLst/>
          </a:prstGeom>
          <a:ln w="158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7813800" y="3686040"/>
            <a:ext cx="75960" cy="76320"/>
          </a:xfrm>
          <a:prstGeom prst="line">
            <a:avLst/>
          </a:prstGeom>
          <a:ln w="158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7813800" y="3686040"/>
            <a:ext cx="1440" cy="76320"/>
          </a:xfrm>
          <a:prstGeom prst="line">
            <a:avLst/>
          </a:prstGeom>
          <a:ln w="158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813800" y="3762360"/>
            <a:ext cx="1440" cy="76320"/>
          </a:xfrm>
          <a:prstGeom prst="line">
            <a:avLst/>
          </a:prstGeom>
          <a:ln w="158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926120" y="3625920"/>
            <a:ext cx="531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S P????"/>
                <a:ea typeface="MS P????"/>
              </a:rPr>
              <a:t>BAS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15960" y="232092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 algn="ctr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ysis of noise level distribution for ISO362-2 vs ECE R4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243080" y="4903920"/>
            <a:ext cx="6383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243080" y="4537080"/>
            <a:ext cx="6383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243080" y="4184640"/>
            <a:ext cx="6383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243080" y="3817800"/>
            <a:ext cx="6383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243080" y="3465360"/>
            <a:ext cx="6383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243080" y="3112920"/>
            <a:ext cx="6383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243080" y="2746440"/>
            <a:ext cx="6383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243080" y="2394000"/>
            <a:ext cx="6383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243080" y="2027160"/>
            <a:ext cx="6383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243080" y="1674720"/>
            <a:ext cx="6383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243080" y="1308240"/>
            <a:ext cx="6383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43080" y="955800"/>
            <a:ext cx="6383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243080" y="955800"/>
            <a:ext cx="6383160" cy="430056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43080" y="955800"/>
            <a:ext cx="1440" cy="4300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243080" y="525636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243080" y="490392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243080" y="453708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243080" y="418464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243080" y="381780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243080" y="346536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243080" y="311292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243080" y="274644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243080" y="239400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243080" y="202716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243080" y="167472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130824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243080" y="95580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243080" y="5256360"/>
            <a:ext cx="6383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1243080" y="519588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2513160" y="519588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798720" y="5195880"/>
            <a:ext cx="180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5070600" y="519588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6356520" y="519588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7626240" y="5195880"/>
            <a:ext cx="180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727360" y="424656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911320" y="3373560"/>
            <a:ext cx="92160" cy="9180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630600" y="334332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738600" y="346536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932360" y="268452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957400" y="386388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100240" y="299088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621400" y="117000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305240" y="2776680"/>
            <a:ext cx="92160" cy="9180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284800" y="141444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192640" y="2976480"/>
            <a:ext cx="92160" cy="90720"/>
          </a:xfrm>
          <a:custGeom>
            <a:avLst/>
            <a:gdLst/>
            <a:ahLst/>
            <a:rect l="l" t="t" r="r" b="b"/>
            <a:pathLst>
              <a:path w="58" h="57">
                <a:moveTo>
                  <a:pt x="29" y="0"/>
                </a:moveTo>
                <a:lnTo>
                  <a:pt x="58" y="29"/>
                </a:lnTo>
                <a:lnTo>
                  <a:pt x="29" y="57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957400" y="260820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095880" y="179712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137120" y="239400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079800" y="256212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733400" y="4276800"/>
            <a:ext cx="90720" cy="92160"/>
          </a:xfrm>
          <a:custGeom>
            <a:avLst/>
            <a:gdLst/>
            <a:ahLst/>
            <a:rect l="l" t="t" r="r" b="b"/>
            <a:pathLst>
              <a:path w="57" h="58">
                <a:moveTo>
                  <a:pt x="28" y="0"/>
                </a:moveTo>
                <a:lnTo>
                  <a:pt x="57" y="29"/>
                </a:lnTo>
                <a:lnTo>
                  <a:pt x="28" y="58"/>
                </a:lnTo>
                <a:lnTo>
                  <a:pt x="0" y="29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609560" y="387828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641600" y="4935600"/>
            <a:ext cx="9180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763640" y="468936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579680" y="4322880"/>
            <a:ext cx="91800" cy="9180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625760" y="4491000"/>
            <a:ext cx="9180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023920" y="1139760"/>
            <a:ext cx="92160" cy="90720"/>
          </a:xfrm>
          <a:custGeom>
            <a:avLst/>
            <a:gdLst/>
            <a:ahLst/>
            <a:rect l="l" t="t" r="r" b="b"/>
            <a:pathLst>
              <a:path w="58" h="57">
                <a:moveTo>
                  <a:pt x="29" y="0"/>
                </a:moveTo>
                <a:lnTo>
                  <a:pt x="58" y="29"/>
                </a:lnTo>
                <a:lnTo>
                  <a:pt x="29" y="57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16280" y="3389400"/>
            <a:ext cx="9180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676680" y="309888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305240" y="3022560"/>
            <a:ext cx="92160" cy="90360"/>
          </a:xfrm>
          <a:custGeom>
            <a:avLst/>
            <a:gdLst/>
            <a:ahLst/>
            <a:rect l="l" t="t" r="r" b="b"/>
            <a:pathLst>
              <a:path w="58" h="57">
                <a:moveTo>
                  <a:pt x="29" y="0"/>
                </a:moveTo>
                <a:lnTo>
                  <a:pt x="58" y="28"/>
                </a:lnTo>
                <a:lnTo>
                  <a:pt x="29" y="57"/>
                </a:lnTo>
                <a:lnTo>
                  <a:pt x="0" y="28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662880" y="2027160"/>
            <a:ext cx="9180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033720" y="3236760"/>
            <a:ext cx="92160" cy="90720"/>
          </a:xfrm>
          <a:custGeom>
            <a:avLst/>
            <a:gdLst/>
            <a:ahLst/>
            <a:rect l="l" t="t" r="r" b="b"/>
            <a:pathLst>
              <a:path w="58" h="57">
                <a:moveTo>
                  <a:pt x="29" y="0"/>
                </a:moveTo>
                <a:lnTo>
                  <a:pt x="58" y="28"/>
                </a:lnTo>
                <a:lnTo>
                  <a:pt x="29" y="57"/>
                </a:lnTo>
                <a:lnTo>
                  <a:pt x="0" y="28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519440" y="3236760"/>
            <a:ext cx="92160" cy="90720"/>
          </a:xfrm>
          <a:custGeom>
            <a:avLst/>
            <a:gdLst/>
            <a:ahLst/>
            <a:rect l="l" t="t" r="r" b="b"/>
            <a:pathLst>
              <a:path w="58" h="57">
                <a:moveTo>
                  <a:pt x="29" y="0"/>
                </a:moveTo>
                <a:lnTo>
                  <a:pt x="58" y="28"/>
                </a:lnTo>
                <a:lnTo>
                  <a:pt x="29" y="57"/>
                </a:lnTo>
                <a:lnTo>
                  <a:pt x="0" y="28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066000" y="1658880"/>
            <a:ext cx="9180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059360" y="1951200"/>
            <a:ext cx="91800" cy="90360"/>
          </a:xfrm>
          <a:custGeom>
            <a:avLst/>
            <a:gdLst/>
            <a:ahLst/>
            <a:rect l="l" t="t" r="r" b="b"/>
            <a:pathLst>
              <a:path w="58" h="57">
                <a:moveTo>
                  <a:pt x="29" y="0"/>
                </a:moveTo>
                <a:lnTo>
                  <a:pt x="58" y="29"/>
                </a:lnTo>
                <a:lnTo>
                  <a:pt x="29" y="57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793880" y="141444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029120" y="320508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091040" y="245592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906720" y="334332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881440" y="1338120"/>
            <a:ext cx="9180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584520" y="2730600"/>
            <a:ext cx="92160" cy="9180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590920" y="2868480"/>
            <a:ext cx="75960" cy="7632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298600" y="3741840"/>
            <a:ext cx="77760" cy="7596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503360" y="4659480"/>
            <a:ext cx="76320" cy="7596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023920" y="4781520"/>
            <a:ext cx="76320" cy="7776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763640" y="2808360"/>
            <a:ext cx="76320" cy="7596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809720" y="3986280"/>
            <a:ext cx="76320" cy="7596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595520" y="4062240"/>
            <a:ext cx="75960" cy="7632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717560" y="3267000"/>
            <a:ext cx="76320" cy="7632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473120" y="4444920"/>
            <a:ext cx="76320" cy="7632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100240" y="2593800"/>
            <a:ext cx="76320" cy="7632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3400" y="1658880"/>
            <a:ext cx="76320" cy="7776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98480" y="516420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6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98480" y="481320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7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98480" y="444492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7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98480" y="409248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7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98480" y="372600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7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98480" y="337356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7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98480" y="302256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7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98480" y="265428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7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98480" y="230184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7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98480" y="193500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7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98480" y="158256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7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98480" y="121608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8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98480" y="86364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8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158840" y="544032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306880" y="5440320"/>
            <a:ext cx="371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1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92800" y="5440320"/>
            <a:ext cx="371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2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862880" y="5440320"/>
            <a:ext cx="371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3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148800" y="5440320"/>
            <a:ext cx="371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4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420320" y="5440320"/>
            <a:ext cx="371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S P????"/>
                <a:ea typeface="MS P????"/>
              </a:rPr>
              <a:t>5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106880" y="5761080"/>
            <a:ext cx="514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S P????"/>
                <a:ea typeface="MS P????"/>
              </a:rPr>
              <a:t>PM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rot="16200000">
            <a:off x="-106560" y="2917080"/>
            <a:ext cx="1427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S P????"/>
                <a:ea typeface="MS P????"/>
              </a:rPr>
              <a:t>IS0362-2(dB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8010360" y="2792520"/>
            <a:ext cx="765360" cy="780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8116920" y="2930400"/>
            <a:ext cx="92160" cy="9216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0"/>
                </a:moveTo>
                <a:lnTo>
                  <a:pt x="58" y="29"/>
                </a:lnTo>
                <a:lnTo>
                  <a:pt x="29" y="58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8247960" y="2852640"/>
            <a:ext cx="33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????"/>
                <a:ea typeface="MS P????"/>
              </a:rPr>
              <a:t>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116920" y="3236760"/>
            <a:ext cx="76320" cy="76320"/>
          </a:xfrm>
          <a:prstGeom prst="rect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8267760" y="3159000"/>
            <a:ext cx="40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????"/>
                <a:ea typeface="MS P????"/>
              </a:rPr>
              <a:t>C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6" name=""/>
          <p:cNvGraphicFramePr/>
          <p:nvPr/>
        </p:nvGraphicFramePr>
        <p:xfrm>
          <a:off x="457200" y="1560600"/>
          <a:ext cx="8229600" cy="3597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imit 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(d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ver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 of vehi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95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89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80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ＭＳ Ｐゴシック"/>
                        </a:rPr>
                        <a:t>78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7" name=""/>
          <p:cNvSpPr/>
          <p:nvPr/>
        </p:nvSpPr>
        <p:spPr>
          <a:xfrm>
            <a:off x="684360" y="54936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motorcy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580000" y="5229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tal : 47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10:35:01Z</dcterms:created>
  <dc:creator/>
  <dc:description/>
  <dc:language>en-US</dc:language>
  <cp:lastModifiedBy>Enonler2</cp:lastModifiedBy>
  <dcterms:modified xsi:type="dcterms:W3CDTF">2007-02-14T08:57:55Z</dcterms:modified>
  <cp:revision>52</cp:revision>
  <dc:subject/>
  <dc:title>R41WG noise database analysis</dc:title>
</cp:coreProperties>
</file>