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1.wmf" ContentType="image/x-wmf"/>
  <Override PartName="/ppt/media/image27.wmf" ContentType="image/x-wmf"/>
  <Override PartName="/ppt/media/image26.wmf" ContentType="image/x-wmf"/>
  <Override PartName="/ppt/media/image10.wmf" ContentType="image/x-wmf"/>
  <Override PartName="/ppt/media/image25.png" ContentType="image/png"/>
  <Override PartName="/ppt/media/image32.png" ContentType="image/png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0.wmf" ContentType="image/x-wmf"/>
  <Override PartName="/ppt/media/image5.wmf" ContentType="image/x-wmf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E75-D014-4B92-B8F4-C3B51625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F41-BDBA-421F-8BBB-8133CDDF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1EE-6487-4438-9F48-2BC0645C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5F0-8C3A-477B-907F-AC4B224F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7DA-0088-4D11-9F59-04A52CE4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681-1C23-44B6-856E-00B15D65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F3F-ACF3-462A-954A-8D9065DA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80A-E1D0-4F5F-9965-1E48194F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BE9-F9BC-4CA1-A115-122A6A22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18E-88EE-4075-BEB8-82A4A94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BA4-2216-42DC-815E-4D4202FA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C1D-46E9-43BA-9850-2B2D52D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B7B1-C9D0-46D8-ACE4-BA3E59AE21E6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image" Target="../media/image22.wmf"/><Relationship Id="rId23" Type="http://schemas.openxmlformats.org/officeDocument/2006/relationships/image" Target="../media/image23.wmf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wmf"/><Relationship Id="rId27" Type="http://schemas.openxmlformats.org/officeDocument/2006/relationships/image" Target="../media/image27.wmf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19.png"/><Relationship Id="rId31" Type="http://schemas.openxmlformats.org/officeDocument/2006/relationships/image" Target="../media/image28.png"/><Relationship Id="rId32" Type="http://schemas.openxmlformats.org/officeDocument/2006/relationships/image" Target="../media/image30.wmf"/><Relationship Id="rId33" Type="http://schemas.openxmlformats.org/officeDocument/2006/relationships/image" Target="../media/image31.wmf"/><Relationship Id="rId34" Type="http://schemas.openxmlformats.org/officeDocument/2006/relationships/image" Target="../media/image5.wmf"/><Relationship Id="rId35" Type="http://schemas.openxmlformats.org/officeDocument/2006/relationships/image" Target="../media/image6.wmf"/><Relationship Id="rId36" Type="http://schemas.openxmlformats.org/officeDocument/2006/relationships/image" Target="../media/image19.png"/><Relationship Id="rId37" Type="http://schemas.openxmlformats.org/officeDocument/2006/relationships/image" Target="../media/image20.wmf"/><Relationship Id="rId38" Type="http://schemas.openxmlformats.org/officeDocument/2006/relationships/image" Target="../media/image21.wmf"/><Relationship Id="rId39" Type="http://schemas.openxmlformats.org/officeDocument/2006/relationships/image" Target="../media/image22.wmf"/><Relationship Id="rId40" Type="http://schemas.openxmlformats.org/officeDocument/2006/relationships/image" Target="../media/image23.wmf"/><Relationship Id="rId41" Type="http://schemas.openxmlformats.org/officeDocument/2006/relationships/image" Target="../media/image32.png"/><Relationship Id="rId42" Type="http://schemas.openxmlformats.org/officeDocument/2006/relationships/image" Target="../media/image32.png"/><Relationship Id="rId43" Type="http://schemas.openxmlformats.org/officeDocument/2006/relationships/image" Target="../media/image14.png"/><Relationship Id="rId44" Type="http://schemas.openxmlformats.org/officeDocument/2006/relationships/image" Target="../media/image17.png"/><Relationship Id="rId45" Type="http://schemas.openxmlformats.org/officeDocument/2006/relationships/image" Target="../media/image13.png"/><Relationship Id="rId46" Type="http://schemas.openxmlformats.org/officeDocument/2006/relationships/image" Target="../media/image10.wmf"/><Relationship Id="rId47" Type="http://schemas.openxmlformats.org/officeDocument/2006/relationships/image" Target="../media/image28.png"/><Relationship Id="rId48" Type="http://schemas.openxmlformats.org/officeDocument/2006/relationships/image" Target="../media/image28.png"/><Relationship Id="rId49" Type="http://schemas.openxmlformats.org/officeDocument/2006/relationships/image" Target="../media/image33.png"/><Relationship Id="rId50" Type="http://schemas.openxmlformats.org/officeDocument/2006/relationships/image" Target="../media/image3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28.png"/><Relationship Id="rId54" Type="http://schemas.openxmlformats.org/officeDocument/2006/relationships/image" Target="../media/image28.png"/><Relationship Id="rId55" Type="http://schemas.openxmlformats.org/officeDocument/2006/relationships/image" Target="../media/image20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R41WG database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IMM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aterial for discussion at data expert meeting on 22 November 2006 in Ann Arbor,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23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Geneva, November 8t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9" name=""/>
          <p:cNvGraphicFramePr/>
          <p:nvPr/>
        </p:nvGraphicFramePr>
        <p:xfrm>
          <a:off x="457200" y="1560600"/>
          <a:ext cx="8229600" cy="3020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mi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d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 of veh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4 - 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684360" y="5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51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1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457200" y="1560600"/>
          <a:ext cx="8229600" cy="359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mi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d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 of veh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6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69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684360" y="5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24360" y="537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13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5" name=""/>
          <p:cNvGraphicFramePr/>
          <p:nvPr/>
        </p:nvGraphicFramePr>
        <p:xfrm>
          <a:off x="457200" y="1560600"/>
          <a:ext cx="82296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mi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d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 of veh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9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7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"/>
          <p:cNvSpPr/>
          <p:nvPr/>
        </p:nvSpPr>
        <p:spPr>
          <a:xfrm>
            <a:off x="684360" y="5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651640" y="54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33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454680" y="476280"/>
            <a:ext cx="8257680" cy="5500440"/>
            <a:chOff x="454680" y="476280"/>
            <a:chExt cx="8257680" cy="5500440"/>
          </a:xfrm>
        </p:grpSpPr>
        <p:sp>
          <p:nvSpPr>
            <p:cNvPr id="669" name=""/>
            <p:cNvSpPr/>
            <p:nvPr/>
          </p:nvSpPr>
          <p:spPr>
            <a:xfrm>
              <a:off x="611280" y="476280"/>
              <a:ext cx="46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CE41-03 vs ISO362-2 (A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95320" y="585324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95320" y="5510160"/>
              <a:ext cx="755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95320" y="516744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95320" y="480852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95320" y="446580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5320" y="41212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95320" y="3778200"/>
              <a:ext cx="755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95320" y="307656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5320" y="273384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5320" y="238932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95320" y="2046240"/>
              <a:ext cx="755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95320" y="16876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95320" y="134460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95320" y="10018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41400" y="3435480"/>
              <a:ext cx="58680" cy="1820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04840" y="3435480"/>
              <a:ext cx="60480" cy="1342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268280" y="3435480"/>
              <a:ext cx="60480" cy="1298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33520" y="3435480"/>
              <a:ext cx="58680" cy="1433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96960" y="3435480"/>
              <a:ext cx="60480" cy="13730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62200" y="3435480"/>
              <a:ext cx="58680" cy="21492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25640" y="3435480"/>
              <a:ext cx="60480" cy="610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90880" y="2987640"/>
              <a:ext cx="58680" cy="447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54320" y="3435480"/>
              <a:ext cx="60120" cy="1104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419200" y="3435480"/>
              <a:ext cx="59040" cy="1332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3000" y="3435480"/>
              <a:ext cx="60120" cy="1641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46440" y="3435480"/>
              <a:ext cx="60120" cy="939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11320" y="3435480"/>
              <a:ext cx="60480" cy="5061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75120" y="3435480"/>
              <a:ext cx="60120" cy="1074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40000" y="3435480"/>
              <a:ext cx="58680" cy="834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03440" y="3435480"/>
              <a:ext cx="60480" cy="1447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68680" y="3435480"/>
              <a:ext cx="58680" cy="431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32120" y="3435480"/>
              <a:ext cx="60480" cy="1417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97360" y="3435480"/>
              <a:ext cx="58680" cy="1118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60800" y="3435480"/>
              <a:ext cx="60480" cy="596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24240" y="3435480"/>
              <a:ext cx="60480" cy="8953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52920" y="3435480"/>
              <a:ext cx="60480" cy="6570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18160" y="3435480"/>
              <a:ext cx="58680" cy="1582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81600" y="3435480"/>
              <a:ext cx="60120" cy="610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46840" y="3435480"/>
              <a:ext cx="58680" cy="193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210280" y="3435480"/>
              <a:ext cx="60120" cy="552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75160" y="3435480"/>
              <a:ext cx="58680" cy="1925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38960" y="3435480"/>
              <a:ext cx="60120" cy="342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03840" y="3435480"/>
              <a:ext cx="58680" cy="925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280" y="2523960"/>
              <a:ext cx="60480" cy="91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31080" y="3435480"/>
              <a:ext cx="60120" cy="1477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95960" y="3435480"/>
              <a:ext cx="60480" cy="1268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59400" y="3435480"/>
              <a:ext cx="60480" cy="1657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4640" y="3435480"/>
              <a:ext cx="58680" cy="685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88080" y="3435480"/>
              <a:ext cx="60480" cy="1342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53320" y="3435480"/>
              <a:ext cx="58680" cy="11937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6760" y="3435480"/>
              <a:ext cx="60480" cy="10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2000" y="2897280"/>
              <a:ext cx="58680" cy="5382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45440" y="3435480"/>
              <a:ext cx="60120" cy="282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08880" y="3151080"/>
              <a:ext cx="60480" cy="2844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74120" y="3435480"/>
              <a:ext cx="60120" cy="5061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837560" y="3360600"/>
              <a:ext cx="60120" cy="74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02440" y="3435480"/>
              <a:ext cx="59040" cy="6714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66240" y="3435480"/>
              <a:ext cx="60120" cy="4032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331120" y="2554200"/>
              <a:ext cx="58680" cy="881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95320" y="1001880"/>
              <a:ext cx="1440" cy="485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95320" y="58532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95320" y="57783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95320" y="57196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95320" y="56451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95320" y="5570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95320" y="55101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95320" y="5435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95320" y="53751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95320" y="5300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95320" y="52261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95320" y="51674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95320" y="50925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95320" y="50180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95320" y="49579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95320" y="48830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95320" y="48085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5320" y="47480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95320" y="46735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95320" y="45990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95320" y="45403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95320" y="44658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95320" y="44053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95320" y="43308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5320" y="42559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95320" y="41958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95320" y="41212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95320" y="40464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95320" y="39877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95320" y="3913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95320" y="3838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95320" y="37782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95320" y="3703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95320" y="36291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95320" y="3568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95320" y="34941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95320" y="34354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95320" y="33606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95320" y="32860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95320" y="32259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95320" y="31510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95320" y="30765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95320" y="30160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95320" y="29415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95320" y="28670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95320" y="28083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95320" y="27338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95320" y="26589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95320" y="25988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95320" y="25239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95320" y="24638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95320" y="23893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5320" y="23144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95320" y="22557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95320" y="21812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95320" y="2106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95320" y="20462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95320" y="1971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95320" y="1897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95320" y="1836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95320" y="1762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95320" y="1687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95320" y="16286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95320" y="15541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95320" y="14796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95320" y="14191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95320" y="13446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95320" y="12841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95320" y="12096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95320" y="11350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95320" y="10764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95320" y="10018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95320" y="58532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95320" y="55101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95320" y="5167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95320" y="4808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95320" y="44658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95320" y="4121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95320" y="37782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95320" y="3435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95320" y="3076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95320" y="27338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95320" y="2389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95320" y="20462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95320" y="16876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95320" y="1344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95320" y="10018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95320" y="34354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8953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0605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12240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13892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526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171756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18813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20448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220968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734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53836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27018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8670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303048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31957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33591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35226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36878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8512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0165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41799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434484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45086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467352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483696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50022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516564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532908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54943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65776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8230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9864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1516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3151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4800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6438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8072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9724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1359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73008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74646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62948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79292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9581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81216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82868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84502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4680" y="57783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7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4680" y="543564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6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4680" y="50925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5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4680" y="473400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4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4680" y="439092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3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4680" y="404640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2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4680" y="370368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1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9200" y="33606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9200" y="30020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9200" y="26589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9200" y="23144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9200" y="19717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9200" y="16128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9200" y="12700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9200" y="92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3528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26216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9084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1952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4820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2612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480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8348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103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3904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6772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9640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2472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5340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48208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107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3944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677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500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2368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523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78068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093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80920" y="4226040"/>
              <a:ext cx="7569360" cy="15840"/>
            </a:xfrm>
            <a:custGeom>
              <a:avLst/>
              <a:gdLst/>
              <a:ahLst/>
              <a:rect l="l" t="t" r="r" b="b"/>
              <a:pathLst>
                <a:path w="8112" h="16">
                  <a:moveTo>
                    <a:pt x="8" y="0"/>
                  </a:moveTo>
                  <a:lnTo>
                    <a:pt x="56" y="0"/>
                  </a:lnTo>
                  <a:cubicBezTo>
                    <a:pt x="61" y="0"/>
                    <a:pt x="64" y="4"/>
                    <a:pt x="64" y="8"/>
                  </a:cubicBezTo>
                  <a:cubicBezTo>
                    <a:pt x="64" y="13"/>
                    <a:pt x="61" y="16"/>
                    <a:pt x="56" y="16"/>
                  </a:cubicBez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120" y="0"/>
                  </a:move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cubicBezTo>
                    <a:pt x="176" y="13"/>
                    <a:pt x="173" y="16"/>
                    <a:pt x="168" y="16"/>
                  </a:cubicBezTo>
                  <a:lnTo>
                    <a:pt x="120" y="16"/>
                  </a:lnTo>
                  <a:cubicBezTo>
                    <a:pt x="116" y="16"/>
                    <a:pt x="112" y="13"/>
                    <a:pt x="112" y="8"/>
                  </a:cubicBezTo>
                  <a:cubicBezTo>
                    <a:pt x="112" y="4"/>
                    <a:pt x="116" y="0"/>
                    <a:pt x="120" y="0"/>
                  </a:cubicBezTo>
                  <a:close/>
                  <a:moveTo>
                    <a:pt x="232" y="0"/>
                  </a:moveTo>
                  <a:lnTo>
                    <a:pt x="280" y="0"/>
                  </a:lnTo>
                  <a:cubicBezTo>
                    <a:pt x="285" y="0"/>
                    <a:pt x="288" y="4"/>
                    <a:pt x="288" y="8"/>
                  </a:cubicBezTo>
                  <a:cubicBezTo>
                    <a:pt x="288" y="13"/>
                    <a:pt x="285" y="16"/>
                    <a:pt x="280" y="16"/>
                  </a:cubicBezTo>
                  <a:lnTo>
                    <a:pt x="232" y="16"/>
                  </a:lnTo>
                  <a:cubicBezTo>
                    <a:pt x="228" y="16"/>
                    <a:pt x="224" y="13"/>
                    <a:pt x="224" y="8"/>
                  </a:cubicBezTo>
                  <a:cubicBezTo>
                    <a:pt x="224" y="4"/>
                    <a:pt x="228" y="0"/>
                    <a:pt x="232" y="0"/>
                  </a:cubicBezTo>
                  <a:close/>
                  <a:moveTo>
                    <a:pt x="344" y="0"/>
                  </a:moveTo>
                  <a:lnTo>
                    <a:pt x="392" y="0"/>
                  </a:lnTo>
                  <a:cubicBezTo>
                    <a:pt x="397" y="0"/>
                    <a:pt x="400" y="4"/>
                    <a:pt x="400" y="8"/>
                  </a:cubicBezTo>
                  <a:cubicBezTo>
                    <a:pt x="400" y="13"/>
                    <a:pt x="397" y="16"/>
                    <a:pt x="392" y="16"/>
                  </a:cubicBezTo>
                  <a:lnTo>
                    <a:pt x="344" y="16"/>
                  </a:lnTo>
                  <a:cubicBezTo>
                    <a:pt x="340" y="16"/>
                    <a:pt x="336" y="13"/>
                    <a:pt x="336" y="8"/>
                  </a:cubicBezTo>
                  <a:cubicBezTo>
                    <a:pt x="336" y="4"/>
                    <a:pt x="340" y="0"/>
                    <a:pt x="344" y="0"/>
                  </a:cubicBezTo>
                  <a:close/>
                  <a:moveTo>
                    <a:pt x="456" y="0"/>
                  </a:moveTo>
                  <a:lnTo>
                    <a:pt x="504" y="0"/>
                  </a:lnTo>
                  <a:cubicBezTo>
                    <a:pt x="509" y="0"/>
                    <a:pt x="512" y="4"/>
                    <a:pt x="512" y="8"/>
                  </a:cubicBezTo>
                  <a:cubicBezTo>
                    <a:pt x="512" y="13"/>
                    <a:pt x="509" y="16"/>
                    <a:pt x="504" y="16"/>
                  </a:cubicBezTo>
                  <a:lnTo>
                    <a:pt x="456" y="16"/>
                  </a:lnTo>
                  <a:cubicBezTo>
                    <a:pt x="452" y="16"/>
                    <a:pt x="448" y="13"/>
                    <a:pt x="448" y="8"/>
                  </a:cubicBezTo>
                  <a:cubicBezTo>
                    <a:pt x="448" y="4"/>
                    <a:pt x="452" y="0"/>
                    <a:pt x="456" y="0"/>
                  </a:cubicBezTo>
                  <a:close/>
                  <a:moveTo>
                    <a:pt x="568" y="0"/>
                  </a:moveTo>
                  <a:lnTo>
                    <a:pt x="616" y="0"/>
                  </a:lnTo>
                  <a:cubicBezTo>
                    <a:pt x="621" y="0"/>
                    <a:pt x="624" y="4"/>
                    <a:pt x="624" y="8"/>
                  </a:cubicBezTo>
                  <a:cubicBezTo>
                    <a:pt x="624" y="13"/>
                    <a:pt x="621" y="16"/>
                    <a:pt x="616" y="16"/>
                  </a:cubicBezTo>
                  <a:lnTo>
                    <a:pt x="568" y="16"/>
                  </a:lnTo>
                  <a:cubicBezTo>
                    <a:pt x="564" y="16"/>
                    <a:pt x="560" y="13"/>
                    <a:pt x="560" y="8"/>
                  </a:cubicBezTo>
                  <a:cubicBezTo>
                    <a:pt x="560" y="4"/>
                    <a:pt x="564" y="0"/>
                    <a:pt x="568" y="0"/>
                  </a:cubicBezTo>
                  <a:close/>
                  <a:moveTo>
                    <a:pt x="680" y="0"/>
                  </a:moveTo>
                  <a:lnTo>
                    <a:pt x="728" y="0"/>
                  </a:lnTo>
                  <a:cubicBezTo>
                    <a:pt x="733" y="0"/>
                    <a:pt x="736" y="4"/>
                    <a:pt x="736" y="8"/>
                  </a:cubicBezTo>
                  <a:cubicBezTo>
                    <a:pt x="736" y="13"/>
                    <a:pt x="733" y="16"/>
                    <a:pt x="728" y="16"/>
                  </a:cubicBezTo>
                  <a:lnTo>
                    <a:pt x="680" y="16"/>
                  </a:lnTo>
                  <a:cubicBezTo>
                    <a:pt x="676" y="16"/>
                    <a:pt x="672" y="13"/>
                    <a:pt x="672" y="8"/>
                  </a:cubicBezTo>
                  <a:cubicBezTo>
                    <a:pt x="672" y="4"/>
                    <a:pt x="676" y="0"/>
                    <a:pt x="680" y="0"/>
                  </a:cubicBezTo>
                  <a:close/>
                  <a:moveTo>
                    <a:pt x="792" y="0"/>
                  </a:moveTo>
                  <a:lnTo>
                    <a:pt x="840" y="0"/>
                  </a:lnTo>
                  <a:cubicBezTo>
                    <a:pt x="845" y="0"/>
                    <a:pt x="848" y="4"/>
                    <a:pt x="848" y="8"/>
                  </a:cubicBezTo>
                  <a:cubicBezTo>
                    <a:pt x="848" y="13"/>
                    <a:pt x="845" y="16"/>
                    <a:pt x="840" y="16"/>
                  </a:cubicBezTo>
                  <a:lnTo>
                    <a:pt x="792" y="16"/>
                  </a:lnTo>
                  <a:cubicBezTo>
                    <a:pt x="788" y="16"/>
                    <a:pt x="784" y="13"/>
                    <a:pt x="784" y="8"/>
                  </a:cubicBezTo>
                  <a:cubicBezTo>
                    <a:pt x="784" y="4"/>
                    <a:pt x="788" y="0"/>
                    <a:pt x="792" y="0"/>
                  </a:cubicBezTo>
                  <a:close/>
                  <a:moveTo>
                    <a:pt x="904" y="0"/>
                  </a:moveTo>
                  <a:lnTo>
                    <a:pt x="952" y="0"/>
                  </a:lnTo>
                  <a:cubicBezTo>
                    <a:pt x="957" y="0"/>
                    <a:pt x="960" y="4"/>
                    <a:pt x="960" y="8"/>
                  </a:cubicBezTo>
                  <a:cubicBezTo>
                    <a:pt x="960" y="13"/>
                    <a:pt x="957" y="16"/>
                    <a:pt x="952" y="16"/>
                  </a:cubicBezTo>
                  <a:lnTo>
                    <a:pt x="904" y="16"/>
                  </a:lnTo>
                  <a:cubicBezTo>
                    <a:pt x="900" y="16"/>
                    <a:pt x="896" y="13"/>
                    <a:pt x="896" y="8"/>
                  </a:cubicBezTo>
                  <a:cubicBezTo>
                    <a:pt x="896" y="4"/>
                    <a:pt x="900" y="0"/>
                    <a:pt x="904" y="0"/>
                  </a:cubicBezTo>
                  <a:close/>
                  <a:moveTo>
                    <a:pt x="1016" y="0"/>
                  </a:moveTo>
                  <a:lnTo>
                    <a:pt x="1064" y="0"/>
                  </a:lnTo>
                  <a:cubicBezTo>
                    <a:pt x="1069" y="0"/>
                    <a:pt x="1072" y="4"/>
                    <a:pt x="1072" y="8"/>
                  </a:cubicBezTo>
                  <a:cubicBezTo>
                    <a:pt x="1072" y="13"/>
                    <a:pt x="1069" y="16"/>
                    <a:pt x="1064" y="16"/>
                  </a:cubicBezTo>
                  <a:lnTo>
                    <a:pt x="1016" y="16"/>
                  </a:lnTo>
                  <a:cubicBezTo>
                    <a:pt x="1012" y="16"/>
                    <a:pt x="1008" y="13"/>
                    <a:pt x="1008" y="8"/>
                  </a:cubicBezTo>
                  <a:cubicBezTo>
                    <a:pt x="1008" y="4"/>
                    <a:pt x="1012" y="0"/>
                    <a:pt x="1016" y="0"/>
                  </a:cubicBezTo>
                  <a:close/>
                  <a:moveTo>
                    <a:pt x="1128" y="0"/>
                  </a:moveTo>
                  <a:lnTo>
                    <a:pt x="1176" y="0"/>
                  </a:lnTo>
                  <a:cubicBezTo>
                    <a:pt x="1181" y="0"/>
                    <a:pt x="1184" y="4"/>
                    <a:pt x="1184" y="8"/>
                  </a:cubicBezTo>
                  <a:cubicBezTo>
                    <a:pt x="1184" y="13"/>
                    <a:pt x="1181" y="16"/>
                    <a:pt x="1176" y="16"/>
                  </a:cubicBezTo>
                  <a:lnTo>
                    <a:pt x="1128" y="16"/>
                  </a:lnTo>
                  <a:cubicBezTo>
                    <a:pt x="1124" y="16"/>
                    <a:pt x="1120" y="13"/>
                    <a:pt x="1120" y="8"/>
                  </a:cubicBezTo>
                  <a:cubicBezTo>
                    <a:pt x="1120" y="4"/>
                    <a:pt x="1124" y="0"/>
                    <a:pt x="1128" y="0"/>
                  </a:cubicBezTo>
                  <a:close/>
                  <a:moveTo>
                    <a:pt x="1240" y="0"/>
                  </a:moveTo>
                  <a:lnTo>
                    <a:pt x="1288" y="0"/>
                  </a:lnTo>
                  <a:cubicBezTo>
                    <a:pt x="1293" y="0"/>
                    <a:pt x="1296" y="4"/>
                    <a:pt x="1296" y="8"/>
                  </a:cubicBezTo>
                  <a:cubicBezTo>
                    <a:pt x="1296" y="13"/>
                    <a:pt x="1293" y="16"/>
                    <a:pt x="1288" y="16"/>
                  </a:cubicBezTo>
                  <a:lnTo>
                    <a:pt x="1240" y="16"/>
                  </a:lnTo>
                  <a:cubicBezTo>
                    <a:pt x="1236" y="16"/>
                    <a:pt x="1232" y="13"/>
                    <a:pt x="1232" y="8"/>
                  </a:cubicBezTo>
                  <a:cubicBezTo>
                    <a:pt x="1232" y="4"/>
                    <a:pt x="1236" y="0"/>
                    <a:pt x="1240" y="0"/>
                  </a:cubicBezTo>
                  <a:close/>
                  <a:moveTo>
                    <a:pt x="1352" y="0"/>
                  </a:moveTo>
                  <a:lnTo>
                    <a:pt x="1400" y="0"/>
                  </a:lnTo>
                  <a:cubicBezTo>
                    <a:pt x="1405" y="0"/>
                    <a:pt x="1408" y="4"/>
                    <a:pt x="1408" y="8"/>
                  </a:cubicBezTo>
                  <a:cubicBezTo>
                    <a:pt x="1408" y="13"/>
                    <a:pt x="1405" y="16"/>
                    <a:pt x="1400" y="16"/>
                  </a:cubicBezTo>
                  <a:lnTo>
                    <a:pt x="1352" y="16"/>
                  </a:lnTo>
                  <a:cubicBezTo>
                    <a:pt x="1348" y="16"/>
                    <a:pt x="1344" y="13"/>
                    <a:pt x="1344" y="8"/>
                  </a:cubicBezTo>
                  <a:cubicBezTo>
                    <a:pt x="1344" y="4"/>
                    <a:pt x="1348" y="0"/>
                    <a:pt x="1352" y="0"/>
                  </a:cubicBezTo>
                  <a:close/>
                  <a:moveTo>
                    <a:pt x="1464" y="0"/>
                  </a:moveTo>
                  <a:lnTo>
                    <a:pt x="1512" y="0"/>
                  </a:lnTo>
                  <a:cubicBezTo>
                    <a:pt x="1517" y="0"/>
                    <a:pt x="1520" y="4"/>
                    <a:pt x="1520" y="8"/>
                  </a:cubicBezTo>
                  <a:cubicBezTo>
                    <a:pt x="1520" y="13"/>
                    <a:pt x="1517" y="16"/>
                    <a:pt x="1512" y="16"/>
                  </a:cubicBezTo>
                  <a:lnTo>
                    <a:pt x="1464" y="16"/>
                  </a:lnTo>
                  <a:cubicBezTo>
                    <a:pt x="1460" y="16"/>
                    <a:pt x="1456" y="13"/>
                    <a:pt x="1456" y="8"/>
                  </a:cubicBezTo>
                  <a:cubicBezTo>
                    <a:pt x="1456" y="4"/>
                    <a:pt x="1460" y="0"/>
                    <a:pt x="1464" y="0"/>
                  </a:cubicBezTo>
                  <a:close/>
                  <a:moveTo>
                    <a:pt x="1576" y="0"/>
                  </a:moveTo>
                  <a:lnTo>
                    <a:pt x="1624" y="0"/>
                  </a:lnTo>
                  <a:cubicBezTo>
                    <a:pt x="1629" y="0"/>
                    <a:pt x="1632" y="4"/>
                    <a:pt x="1632" y="8"/>
                  </a:cubicBezTo>
                  <a:cubicBezTo>
                    <a:pt x="1632" y="13"/>
                    <a:pt x="1629" y="16"/>
                    <a:pt x="1624" y="16"/>
                  </a:cubicBezTo>
                  <a:lnTo>
                    <a:pt x="1576" y="16"/>
                  </a:lnTo>
                  <a:cubicBezTo>
                    <a:pt x="1572" y="16"/>
                    <a:pt x="1568" y="13"/>
                    <a:pt x="1568" y="8"/>
                  </a:cubicBezTo>
                  <a:cubicBezTo>
                    <a:pt x="1568" y="4"/>
                    <a:pt x="1572" y="0"/>
                    <a:pt x="1576" y="0"/>
                  </a:cubicBezTo>
                  <a:close/>
                  <a:moveTo>
                    <a:pt x="1688" y="0"/>
                  </a:moveTo>
                  <a:lnTo>
                    <a:pt x="1736" y="0"/>
                  </a:lnTo>
                  <a:cubicBezTo>
                    <a:pt x="1741" y="0"/>
                    <a:pt x="1744" y="4"/>
                    <a:pt x="1744" y="8"/>
                  </a:cubicBezTo>
                  <a:cubicBezTo>
                    <a:pt x="1744" y="13"/>
                    <a:pt x="1741" y="16"/>
                    <a:pt x="1736" y="16"/>
                  </a:cubicBezTo>
                  <a:lnTo>
                    <a:pt x="1688" y="16"/>
                  </a:lnTo>
                  <a:cubicBezTo>
                    <a:pt x="1684" y="16"/>
                    <a:pt x="1680" y="13"/>
                    <a:pt x="1680" y="8"/>
                  </a:cubicBezTo>
                  <a:cubicBezTo>
                    <a:pt x="1680" y="4"/>
                    <a:pt x="1684" y="0"/>
                    <a:pt x="1688" y="0"/>
                  </a:cubicBezTo>
                  <a:close/>
                  <a:moveTo>
                    <a:pt x="1800" y="0"/>
                  </a:moveTo>
                  <a:lnTo>
                    <a:pt x="1848" y="0"/>
                  </a:lnTo>
                  <a:cubicBezTo>
                    <a:pt x="1853" y="0"/>
                    <a:pt x="1856" y="4"/>
                    <a:pt x="1856" y="8"/>
                  </a:cubicBezTo>
                  <a:cubicBezTo>
                    <a:pt x="1856" y="13"/>
                    <a:pt x="1853" y="16"/>
                    <a:pt x="1848" y="16"/>
                  </a:cubicBezTo>
                  <a:lnTo>
                    <a:pt x="1800" y="16"/>
                  </a:lnTo>
                  <a:cubicBezTo>
                    <a:pt x="1796" y="16"/>
                    <a:pt x="1792" y="13"/>
                    <a:pt x="1792" y="8"/>
                  </a:cubicBezTo>
                  <a:cubicBezTo>
                    <a:pt x="1792" y="4"/>
                    <a:pt x="1796" y="0"/>
                    <a:pt x="1800" y="0"/>
                  </a:cubicBezTo>
                  <a:close/>
                  <a:moveTo>
                    <a:pt x="1912" y="0"/>
                  </a:moveTo>
                  <a:lnTo>
                    <a:pt x="1960" y="0"/>
                  </a:lnTo>
                  <a:cubicBezTo>
                    <a:pt x="1965" y="0"/>
                    <a:pt x="1968" y="4"/>
                    <a:pt x="1968" y="8"/>
                  </a:cubicBezTo>
                  <a:cubicBezTo>
                    <a:pt x="1968" y="13"/>
                    <a:pt x="1965" y="16"/>
                    <a:pt x="1960" y="16"/>
                  </a:cubicBezTo>
                  <a:lnTo>
                    <a:pt x="1912" y="16"/>
                  </a:lnTo>
                  <a:cubicBezTo>
                    <a:pt x="1908" y="16"/>
                    <a:pt x="1904" y="13"/>
                    <a:pt x="1904" y="8"/>
                  </a:cubicBezTo>
                  <a:cubicBezTo>
                    <a:pt x="1904" y="4"/>
                    <a:pt x="1908" y="0"/>
                    <a:pt x="1912" y="0"/>
                  </a:cubicBezTo>
                  <a:close/>
                  <a:moveTo>
                    <a:pt x="2024" y="0"/>
                  </a:moveTo>
                  <a:lnTo>
                    <a:pt x="2072" y="0"/>
                  </a:lnTo>
                  <a:cubicBezTo>
                    <a:pt x="2077" y="0"/>
                    <a:pt x="2080" y="4"/>
                    <a:pt x="2080" y="8"/>
                  </a:cubicBezTo>
                  <a:cubicBezTo>
                    <a:pt x="2080" y="13"/>
                    <a:pt x="2077" y="16"/>
                    <a:pt x="2072" y="16"/>
                  </a:cubicBezTo>
                  <a:lnTo>
                    <a:pt x="2024" y="16"/>
                  </a:lnTo>
                  <a:cubicBezTo>
                    <a:pt x="2020" y="16"/>
                    <a:pt x="2016" y="13"/>
                    <a:pt x="2016" y="8"/>
                  </a:cubicBezTo>
                  <a:cubicBezTo>
                    <a:pt x="2016" y="4"/>
                    <a:pt x="2020" y="0"/>
                    <a:pt x="2024" y="0"/>
                  </a:cubicBezTo>
                  <a:close/>
                  <a:moveTo>
                    <a:pt x="2136" y="0"/>
                  </a:moveTo>
                  <a:lnTo>
                    <a:pt x="2184" y="0"/>
                  </a:lnTo>
                  <a:cubicBezTo>
                    <a:pt x="2189" y="0"/>
                    <a:pt x="2192" y="4"/>
                    <a:pt x="2192" y="8"/>
                  </a:cubicBezTo>
                  <a:cubicBezTo>
                    <a:pt x="2192" y="13"/>
                    <a:pt x="2189" y="16"/>
                    <a:pt x="2184" y="16"/>
                  </a:cubicBezTo>
                  <a:lnTo>
                    <a:pt x="2136" y="16"/>
                  </a:lnTo>
                  <a:cubicBezTo>
                    <a:pt x="2132" y="16"/>
                    <a:pt x="2128" y="13"/>
                    <a:pt x="2128" y="8"/>
                  </a:cubicBezTo>
                  <a:cubicBezTo>
                    <a:pt x="2128" y="4"/>
                    <a:pt x="2132" y="0"/>
                    <a:pt x="2136" y="0"/>
                  </a:cubicBezTo>
                  <a:close/>
                  <a:moveTo>
                    <a:pt x="2248" y="0"/>
                  </a:moveTo>
                  <a:lnTo>
                    <a:pt x="2296" y="0"/>
                  </a:lnTo>
                  <a:cubicBezTo>
                    <a:pt x="2301" y="0"/>
                    <a:pt x="2304" y="4"/>
                    <a:pt x="2304" y="8"/>
                  </a:cubicBezTo>
                  <a:cubicBezTo>
                    <a:pt x="2304" y="13"/>
                    <a:pt x="2301" y="16"/>
                    <a:pt x="2296" y="16"/>
                  </a:cubicBezTo>
                  <a:lnTo>
                    <a:pt x="2248" y="16"/>
                  </a:lnTo>
                  <a:cubicBezTo>
                    <a:pt x="2244" y="16"/>
                    <a:pt x="2240" y="13"/>
                    <a:pt x="2240" y="8"/>
                  </a:cubicBezTo>
                  <a:cubicBezTo>
                    <a:pt x="2240" y="4"/>
                    <a:pt x="2244" y="0"/>
                    <a:pt x="2248" y="0"/>
                  </a:cubicBezTo>
                  <a:close/>
                  <a:moveTo>
                    <a:pt x="2360" y="0"/>
                  </a:moveTo>
                  <a:lnTo>
                    <a:pt x="2408" y="0"/>
                  </a:lnTo>
                  <a:cubicBezTo>
                    <a:pt x="2413" y="0"/>
                    <a:pt x="2416" y="4"/>
                    <a:pt x="2416" y="8"/>
                  </a:cubicBezTo>
                  <a:cubicBezTo>
                    <a:pt x="2416" y="13"/>
                    <a:pt x="2413" y="16"/>
                    <a:pt x="2408" y="16"/>
                  </a:cubicBezTo>
                  <a:lnTo>
                    <a:pt x="2360" y="16"/>
                  </a:lnTo>
                  <a:cubicBezTo>
                    <a:pt x="2356" y="16"/>
                    <a:pt x="2352" y="13"/>
                    <a:pt x="2352" y="8"/>
                  </a:cubicBezTo>
                  <a:cubicBezTo>
                    <a:pt x="2352" y="4"/>
                    <a:pt x="2356" y="0"/>
                    <a:pt x="2360" y="0"/>
                  </a:cubicBezTo>
                  <a:close/>
                  <a:moveTo>
                    <a:pt x="2472" y="0"/>
                  </a:moveTo>
                  <a:lnTo>
                    <a:pt x="2520" y="0"/>
                  </a:lnTo>
                  <a:cubicBezTo>
                    <a:pt x="2525" y="0"/>
                    <a:pt x="2528" y="4"/>
                    <a:pt x="2528" y="8"/>
                  </a:cubicBezTo>
                  <a:cubicBezTo>
                    <a:pt x="2528" y="13"/>
                    <a:pt x="2525" y="16"/>
                    <a:pt x="2520" y="16"/>
                  </a:cubicBezTo>
                  <a:lnTo>
                    <a:pt x="2472" y="16"/>
                  </a:lnTo>
                  <a:cubicBezTo>
                    <a:pt x="2468" y="16"/>
                    <a:pt x="2464" y="13"/>
                    <a:pt x="2464" y="8"/>
                  </a:cubicBezTo>
                  <a:cubicBezTo>
                    <a:pt x="2464" y="4"/>
                    <a:pt x="2468" y="0"/>
                    <a:pt x="2472" y="0"/>
                  </a:cubicBezTo>
                  <a:close/>
                  <a:moveTo>
                    <a:pt x="2584" y="0"/>
                  </a:moveTo>
                  <a:lnTo>
                    <a:pt x="2632" y="0"/>
                  </a:lnTo>
                  <a:cubicBezTo>
                    <a:pt x="2637" y="0"/>
                    <a:pt x="2640" y="4"/>
                    <a:pt x="2640" y="8"/>
                  </a:cubicBezTo>
                  <a:cubicBezTo>
                    <a:pt x="2640" y="13"/>
                    <a:pt x="2637" y="16"/>
                    <a:pt x="2632" y="16"/>
                  </a:cubicBezTo>
                  <a:lnTo>
                    <a:pt x="2584" y="16"/>
                  </a:lnTo>
                  <a:cubicBezTo>
                    <a:pt x="2580" y="16"/>
                    <a:pt x="2576" y="13"/>
                    <a:pt x="2576" y="8"/>
                  </a:cubicBezTo>
                  <a:cubicBezTo>
                    <a:pt x="2576" y="4"/>
                    <a:pt x="2580" y="0"/>
                    <a:pt x="2584" y="0"/>
                  </a:cubicBezTo>
                  <a:close/>
                  <a:moveTo>
                    <a:pt x="2696" y="0"/>
                  </a:moveTo>
                  <a:lnTo>
                    <a:pt x="2744" y="0"/>
                  </a:lnTo>
                  <a:cubicBezTo>
                    <a:pt x="2749" y="0"/>
                    <a:pt x="2752" y="4"/>
                    <a:pt x="2752" y="8"/>
                  </a:cubicBezTo>
                  <a:cubicBezTo>
                    <a:pt x="2752" y="13"/>
                    <a:pt x="2749" y="16"/>
                    <a:pt x="2744" y="16"/>
                  </a:cubicBezTo>
                  <a:lnTo>
                    <a:pt x="2696" y="16"/>
                  </a:lnTo>
                  <a:cubicBezTo>
                    <a:pt x="2692" y="16"/>
                    <a:pt x="2688" y="13"/>
                    <a:pt x="2688" y="8"/>
                  </a:cubicBezTo>
                  <a:cubicBezTo>
                    <a:pt x="2688" y="4"/>
                    <a:pt x="2692" y="0"/>
                    <a:pt x="2696" y="0"/>
                  </a:cubicBezTo>
                  <a:close/>
                  <a:moveTo>
                    <a:pt x="2808" y="0"/>
                  </a:moveTo>
                  <a:lnTo>
                    <a:pt x="2856" y="0"/>
                  </a:lnTo>
                  <a:cubicBezTo>
                    <a:pt x="2861" y="0"/>
                    <a:pt x="2864" y="4"/>
                    <a:pt x="2864" y="8"/>
                  </a:cubicBezTo>
                  <a:cubicBezTo>
                    <a:pt x="2864" y="13"/>
                    <a:pt x="2861" y="16"/>
                    <a:pt x="2856" y="16"/>
                  </a:cubicBezTo>
                  <a:lnTo>
                    <a:pt x="2808" y="16"/>
                  </a:lnTo>
                  <a:cubicBezTo>
                    <a:pt x="2804" y="16"/>
                    <a:pt x="2800" y="13"/>
                    <a:pt x="2800" y="8"/>
                  </a:cubicBezTo>
                  <a:cubicBezTo>
                    <a:pt x="2800" y="4"/>
                    <a:pt x="2804" y="0"/>
                    <a:pt x="2808" y="0"/>
                  </a:cubicBezTo>
                  <a:close/>
                  <a:moveTo>
                    <a:pt x="2920" y="0"/>
                  </a:moveTo>
                  <a:lnTo>
                    <a:pt x="2968" y="0"/>
                  </a:lnTo>
                  <a:cubicBezTo>
                    <a:pt x="2973" y="0"/>
                    <a:pt x="2976" y="4"/>
                    <a:pt x="2976" y="8"/>
                  </a:cubicBezTo>
                  <a:cubicBezTo>
                    <a:pt x="2976" y="13"/>
                    <a:pt x="2973" y="16"/>
                    <a:pt x="2968" y="16"/>
                  </a:cubicBezTo>
                  <a:lnTo>
                    <a:pt x="2920" y="16"/>
                  </a:lnTo>
                  <a:cubicBezTo>
                    <a:pt x="2916" y="16"/>
                    <a:pt x="2912" y="13"/>
                    <a:pt x="2912" y="8"/>
                  </a:cubicBezTo>
                  <a:cubicBezTo>
                    <a:pt x="2912" y="4"/>
                    <a:pt x="2916" y="0"/>
                    <a:pt x="2920" y="0"/>
                  </a:cubicBezTo>
                  <a:close/>
                  <a:moveTo>
                    <a:pt x="3032" y="0"/>
                  </a:moveTo>
                  <a:lnTo>
                    <a:pt x="3080" y="0"/>
                  </a:lnTo>
                  <a:cubicBezTo>
                    <a:pt x="3085" y="0"/>
                    <a:pt x="3088" y="4"/>
                    <a:pt x="3088" y="8"/>
                  </a:cubicBezTo>
                  <a:cubicBezTo>
                    <a:pt x="3088" y="13"/>
                    <a:pt x="3085" y="16"/>
                    <a:pt x="3080" y="16"/>
                  </a:cubicBezTo>
                  <a:lnTo>
                    <a:pt x="3032" y="16"/>
                  </a:lnTo>
                  <a:cubicBezTo>
                    <a:pt x="3028" y="16"/>
                    <a:pt x="3024" y="13"/>
                    <a:pt x="3024" y="8"/>
                  </a:cubicBezTo>
                  <a:cubicBezTo>
                    <a:pt x="3024" y="4"/>
                    <a:pt x="3028" y="0"/>
                    <a:pt x="3032" y="0"/>
                  </a:cubicBezTo>
                  <a:close/>
                  <a:moveTo>
                    <a:pt x="3144" y="0"/>
                  </a:moveTo>
                  <a:lnTo>
                    <a:pt x="3192" y="0"/>
                  </a:lnTo>
                  <a:cubicBezTo>
                    <a:pt x="3197" y="0"/>
                    <a:pt x="3200" y="4"/>
                    <a:pt x="3200" y="8"/>
                  </a:cubicBezTo>
                  <a:cubicBezTo>
                    <a:pt x="3200" y="13"/>
                    <a:pt x="3197" y="16"/>
                    <a:pt x="3192" y="16"/>
                  </a:cubicBezTo>
                  <a:lnTo>
                    <a:pt x="3144" y="16"/>
                  </a:lnTo>
                  <a:cubicBezTo>
                    <a:pt x="3140" y="16"/>
                    <a:pt x="3136" y="13"/>
                    <a:pt x="3136" y="8"/>
                  </a:cubicBezTo>
                  <a:cubicBezTo>
                    <a:pt x="3136" y="4"/>
                    <a:pt x="3140" y="0"/>
                    <a:pt x="3144" y="0"/>
                  </a:cubicBezTo>
                  <a:close/>
                  <a:moveTo>
                    <a:pt x="3256" y="0"/>
                  </a:moveTo>
                  <a:lnTo>
                    <a:pt x="3304" y="0"/>
                  </a:lnTo>
                  <a:cubicBezTo>
                    <a:pt x="3309" y="0"/>
                    <a:pt x="3312" y="4"/>
                    <a:pt x="3312" y="8"/>
                  </a:cubicBezTo>
                  <a:cubicBezTo>
                    <a:pt x="3312" y="13"/>
                    <a:pt x="3309" y="16"/>
                    <a:pt x="3304" y="16"/>
                  </a:cubicBezTo>
                  <a:lnTo>
                    <a:pt x="3256" y="16"/>
                  </a:lnTo>
                  <a:cubicBezTo>
                    <a:pt x="3252" y="16"/>
                    <a:pt x="3248" y="13"/>
                    <a:pt x="3248" y="8"/>
                  </a:cubicBezTo>
                  <a:cubicBezTo>
                    <a:pt x="3248" y="4"/>
                    <a:pt x="3252" y="0"/>
                    <a:pt x="3256" y="0"/>
                  </a:cubicBezTo>
                  <a:close/>
                  <a:moveTo>
                    <a:pt x="3368" y="0"/>
                  </a:moveTo>
                  <a:lnTo>
                    <a:pt x="3416" y="0"/>
                  </a:lnTo>
                  <a:cubicBezTo>
                    <a:pt x="3421" y="0"/>
                    <a:pt x="3424" y="4"/>
                    <a:pt x="3424" y="8"/>
                  </a:cubicBezTo>
                  <a:cubicBezTo>
                    <a:pt x="3424" y="13"/>
                    <a:pt x="3421" y="16"/>
                    <a:pt x="3416" y="16"/>
                  </a:cubicBezTo>
                  <a:lnTo>
                    <a:pt x="3368" y="16"/>
                  </a:lnTo>
                  <a:cubicBezTo>
                    <a:pt x="3364" y="16"/>
                    <a:pt x="3360" y="13"/>
                    <a:pt x="3360" y="8"/>
                  </a:cubicBezTo>
                  <a:cubicBezTo>
                    <a:pt x="3360" y="4"/>
                    <a:pt x="3364" y="0"/>
                    <a:pt x="3368" y="0"/>
                  </a:cubicBezTo>
                  <a:close/>
                  <a:moveTo>
                    <a:pt x="3480" y="0"/>
                  </a:moveTo>
                  <a:lnTo>
                    <a:pt x="3528" y="0"/>
                  </a:lnTo>
                  <a:cubicBezTo>
                    <a:pt x="3533" y="0"/>
                    <a:pt x="3536" y="4"/>
                    <a:pt x="3536" y="8"/>
                  </a:cubicBezTo>
                  <a:cubicBezTo>
                    <a:pt x="3536" y="13"/>
                    <a:pt x="3533" y="16"/>
                    <a:pt x="3528" y="16"/>
                  </a:cubicBezTo>
                  <a:lnTo>
                    <a:pt x="3480" y="16"/>
                  </a:lnTo>
                  <a:cubicBezTo>
                    <a:pt x="3476" y="16"/>
                    <a:pt x="3472" y="13"/>
                    <a:pt x="3472" y="8"/>
                  </a:cubicBezTo>
                  <a:cubicBezTo>
                    <a:pt x="3472" y="4"/>
                    <a:pt x="3476" y="0"/>
                    <a:pt x="3480" y="0"/>
                  </a:cubicBezTo>
                  <a:close/>
                  <a:moveTo>
                    <a:pt x="3592" y="0"/>
                  </a:moveTo>
                  <a:lnTo>
                    <a:pt x="3640" y="0"/>
                  </a:lnTo>
                  <a:cubicBezTo>
                    <a:pt x="3645" y="0"/>
                    <a:pt x="3648" y="4"/>
                    <a:pt x="3648" y="8"/>
                  </a:cubicBezTo>
                  <a:cubicBezTo>
                    <a:pt x="3648" y="13"/>
                    <a:pt x="3645" y="16"/>
                    <a:pt x="3640" y="16"/>
                  </a:cubicBezTo>
                  <a:lnTo>
                    <a:pt x="3592" y="16"/>
                  </a:lnTo>
                  <a:cubicBezTo>
                    <a:pt x="3588" y="16"/>
                    <a:pt x="3584" y="13"/>
                    <a:pt x="3584" y="8"/>
                  </a:cubicBezTo>
                  <a:cubicBezTo>
                    <a:pt x="3584" y="4"/>
                    <a:pt x="3588" y="0"/>
                    <a:pt x="3592" y="0"/>
                  </a:cubicBezTo>
                  <a:close/>
                  <a:moveTo>
                    <a:pt x="3704" y="0"/>
                  </a:moveTo>
                  <a:lnTo>
                    <a:pt x="3752" y="0"/>
                  </a:lnTo>
                  <a:cubicBezTo>
                    <a:pt x="3757" y="0"/>
                    <a:pt x="3760" y="4"/>
                    <a:pt x="3760" y="8"/>
                  </a:cubicBezTo>
                  <a:cubicBezTo>
                    <a:pt x="3760" y="13"/>
                    <a:pt x="3757" y="16"/>
                    <a:pt x="3752" y="16"/>
                  </a:cubicBezTo>
                  <a:lnTo>
                    <a:pt x="3704" y="16"/>
                  </a:lnTo>
                  <a:cubicBezTo>
                    <a:pt x="3700" y="16"/>
                    <a:pt x="3696" y="13"/>
                    <a:pt x="3696" y="8"/>
                  </a:cubicBezTo>
                  <a:cubicBezTo>
                    <a:pt x="3696" y="4"/>
                    <a:pt x="3700" y="0"/>
                    <a:pt x="3704" y="0"/>
                  </a:cubicBezTo>
                  <a:close/>
                  <a:moveTo>
                    <a:pt x="3816" y="0"/>
                  </a:moveTo>
                  <a:lnTo>
                    <a:pt x="3864" y="0"/>
                  </a:lnTo>
                  <a:cubicBezTo>
                    <a:pt x="3869" y="0"/>
                    <a:pt x="3872" y="4"/>
                    <a:pt x="3872" y="8"/>
                  </a:cubicBezTo>
                  <a:cubicBezTo>
                    <a:pt x="3872" y="13"/>
                    <a:pt x="3869" y="16"/>
                    <a:pt x="3864" y="16"/>
                  </a:cubicBezTo>
                  <a:lnTo>
                    <a:pt x="3816" y="16"/>
                  </a:lnTo>
                  <a:cubicBezTo>
                    <a:pt x="3812" y="16"/>
                    <a:pt x="3808" y="13"/>
                    <a:pt x="3808" y="8"/>
                  </a:cubicBezTo>
                  <a:cubicBezTo>
                    <a:pt x="3808" y="4"/>
                    <a:pt x="3812" y="0"/>
                    <a:pt x="3816" y="0"/>
                  </a:cubicBezTo>
                  <a:close/>
                  <a:moveTo>
                    <a:pt x="3928" y="0"/>
                  </a:moveTo>
                  <a:lnTo>
                    <a:pt x="3976" y="0"/>
                  </a:lnTo>
                  <a:cubicBezTo>
                    <a:pt x="3981" y="0"/>
                    <a:pt x="3984" y="4"/>
                    <a:pt x="3984" y="8"/>
                  </a:cubicBezTo>
                  <a:cubicBezTo>
                    <a:pt x="3984" y="13"/>
                    <a:pt x="3981" y="16"/>
                    <a:pt x="3976" y="16"/>
                  </a:cubicBezTo>
                  <a:lnTo>
                    <a:pt x="3928" y="16"/>
                  </a:lnTo>
                  <a:cubicBezTo>
                    <a:pt x="3924" y="16"/>
                    <a:pt x="3920" y="13"/>
                    <a:pt x="3920" y="8"/>
                  </a:cubicBezTo>
                  <a:cubicBezTo>
                    <a:pt x="3920" y="4"/>
                    <a:pt x="3924" y="0"/>
                    <a:pt x="3928" y="0"/>
                  </a:cubicBezTo>
                  <a:close/>
                  <a:moveTo>
                    <a:pt x="4040" y="0"/>
                  </a:moveTo>
                  <a:lnTo>
                    <a:pt x="4088" y="0"/>
                  </a:lnTo>
                  <a:cubicBezTo>
                    <a:pt x="4093" y="0"/>
                    <a:pt x="4096" y="4"/>
                    <a:pt x="4096" y="8"/>
                  </a:cubicBezTo>
                  <a:cubicBezTo>
                    <a:pt x="4096" y="13"/>
                    <a:pt x="4093" y="16"/>
                    <a:pt x="4088" y="16"/>
                  </a:cubicBezTo>
                  <a:lnTo>
                    <a:pt x="4040" y="16"/>
                  </a:lnTo>
                  <a:cubicBezTo>
                    <a:pt x="4036" y="16"/>
                    <a:pt x="4032" y="13"/>
                    <a:pt x="4032" y="8"/>
                  </a:cubicBezTo>
                  <a:cubicBezTo>
                    <a:pt x="4032" y="4"/>
                    <a:pt x="4036" y="0"/>
                    <a:pt x="4040" y="0"/>
                  </a:cubicBezTo>
                  <a:close/>
                  <a:moveTo>
                    <a:pt x="4152" y="0"/>
                  </a:moveTo>
                  <a:lnTo>
                    <a:pt x="4200" y="0"/>
                  </a:lnTo>
                  <a:cubicBezTo>
                    <a:pt x="4205" y="0"/>
                    <a:pt x="4208" y="4"/>
                    <a:pt x="4208" y="8"/>
                  </a:cubicBezTo>
                  <a:cubicBezTo>
                    <a:pt x="4208" y="13"/>
                    <a:pt x="4205" y="16"/>
                    <a:pt x="4200" y="16"/>
                  </a:cubicBezTo>
                  <a:lnTo>
                    <a:pt x="4152" y="16"/>
                  </a:lnTo>
                  <a:cubicBezTo>
                    <a:pt x="4148" y="16"/>
                    <a:pt x="4144" y="13"/>
                    <a:pt x="4144" y="8"/>
                  </a:cubicBezTo>
                  <a:cubicBezTo>
                    <a:pt x="4144" y="4"/>
                    <a:pt x="4148" y="0"/>
                    <a:pt x="4152" y="0"/>
                  </a:cubicBezTo>
                  <a:close/>
                  <a:moveTo>
                    <a:pt x="4264" y="0"/>
                  </a:moveTo>
                  <a:lnTo>
                    <a:pt x="4312" y="0"/>
                  </a:lnTo>
                  <a:cubicBezTo>
                    <a:pt x="4317" y="0"/>
                    <a:pt x="4320" y="4"/>
                    <a:pt x="4320" y="8"/>
                  </a:cubicBezTo>
                  <a:cubicBezTo>
                    <a:pt x="4320" y="13"/>
                    <a:pt x="4317" y="16"/>
                    <a:pt x="4312" y="16"/>
                  </a:cubicBezTo>
                  <a:lnTo>
                    <a:pt x="4264" y="16"/>
                  </a:lnTo>
                  <a:cubicBezTo>
                    <a:pt x="4260" y="16"/>
                    <a:pt x="4256" y="13"/>
                    <a:pt x="4256" y="8"/>
                  </a:cubicBezTo>
                  <a:cubicBezTo>
                    <a:pt x="4256" y="4"/>
                    <a:pt x="4260" y="0"/>
                    <a:pt x="4264" y="0"/>
                  </a:cubicBezTo>
                  <a:close/>
                  <a:moveTo>
                    <a:pt x="4376" y="0"/>
                  </a:moveTo>
                  <a:lnTo>
                    <a:pt x="4424" y="0"/>
                  </a:lnTo>
                  <a:cubicBezTo>
                    <a:pt x="4429" y="0"/>
                    <a:pt x="4432" y="4"/>
                    <a:pt x="4432" y="8"/>
                  </a:cubicBezTo>
                  <a:cubicBezTo>
                    <a:pt x="4432" y="13"/>
                    <a:pt x="4429" y="16"/>
                    <a:pt x="4424" y="16"/>
                  </a:cubicBezTo>
                  <a:lnTo>
                    <a:pt x="4376" y="16"/>
                  </a:lnTo>
                  <a:cubicBezTo>
                    <a:pt x="4372" y="16"/>
                    <a:pt x="4368" y="13"/>
                    <a:pt x="4368" y="8"/>
                  </a:cubicBezTo>
                  <a:cubicBezTo>
                    <a:pt x="4368" y="4"/>
                    <a:pt x="4372" y="0"/>
                    <a:pt x="4376" y="0"/>
                  </a:cubicBezTo>
                  <a:close/>
                  <a:moveTo>
                    <a:pt x="4488" y="0"/>
                  </a:moveTo>
                  <a:lnTo>
                    <a:pt x="4536" y="0"/>
                  </a:lnTo>
                  <a:cubicBezTo>
                    <a:pt x="4541" y="0"/>
                    <a:pt x="4544" y="4"/>
                    <a:pt x="4544" y="8"/>
                  </a:cubicBezTo>
                  <a:cubicBezTo>
                    <a:pt x="4544" y="13"/>
                    <a:pt x="4541" y="16"/>
                    <a:pt x="4536" y="16"/>
                  </a:cubicBezTo>
                  <a:lnTo>
                    <a:pt x="4488" y="16"/>
                  </a:lnTo>
                  <a:cubicBezTo>
                    <a:pt x="4484" y="16"/>
                    <a:pt x="4480" y="13"/>
                    <a:pt x="4480" y="8"/>
                  </a:cubicBezTo>
                  <a:cubicBezTo>
                    <a:pt x="4480" y="4"/>
                    <a:pt x="4484" y="0"/>
                    <a:pt x="4488" y="0"/>
                  </a:cubicBezTo>
                  <a:close/>
                  <a:moveTo>
                    <a:pt x="4600" y="0"/>
                  </a:moveTo>
                  <a:lnTo>
                    <a:pt x="4648" y="0"/>
                  </a:lnTo>
                  <a:cubicBezTo>
                    <a:pt x="4653" y="0"/>
                    <a:pt x="4656" y="4"/>
                    <a:pt x="4656" y="8"/>
                  </a:cubicBezTo>
                  <a:cubicBezTo>
                    <a:pt x="4656" y="13"/>
                    <a:pt x="4653" y="16"/>
                    <a:pt x="4648" y="16"/>
                  </a:cubicBezTo>
                  <a:lnTo>
                    <a:pt x="4600" y="16"/>
                  </a:lnTo>
                  <a:cubicBezTo>
                    <a:pt x="4596" y="16"/>
                    <a:pt x="4592" y="13"/>
                    <a:pt x="4592" y="8"/>
                  </a:cubicBezTo>
                  <a:cubicBezTo>
                    <a:pt x="4592" y="4"/>
                    <a:pt x="4596" y="0"/>
                    <a:pt x="4600" y="0"/>
                  </a:cubicBezTo>
                  <a:close/>
                  <a:moveTo>
                    <a:pt x="4712" y="0"/>
                  </a:moveTo>
                  <a:lnTo>
                    <a:pt x="4760" y="0"/>
                  </a:lnTo>
                  <a:cubicBezTo>
                    <a:pt x="4765" y="0"/>
                    <a:pt x="4768" y="4"/>
                    <a:pt x="4768" y="8"/>
                  </a:cubicBezTo>
                  <a:cubicBezTo>
                    <a:pt x="4768" y="13"/>
                    <a:pt x="4765" y="16"/>
                    <a:pt x="4760" y="16"/>
                  </a:cubicBezTo>
                  <a:lnTo>
                    <a:pt x="4712" y="16"/>
                  </a:lnTo>
                  <a:cubicBezTo>
                    <a:pt x="4708" y="16"/>
                    <a:pt x="4704" y="13"/>
                    <a:pt x="4704" y="8"/>
                  </a:cubicBezTo>
                  <a:cubicBezTo>
                    <a:pt x="4704" y="4"/>
                    <a:pt x="4708" y="0"/>
                    <a:pt x="4712" y="0"/>
                  </a:cubicBezTo>
                  <a:close/>
                  <a:moveTo>
                    <a:pt x="4824" y="0"/>
                  </a:moveTo>
                  <a:lnTo>
                    <a:pt x="4872" y="0"/>
                  </a:lnTo>
                  <a:cubicBezTo>
                    <a:pt x="4877" y="0"/>
                    <a:pt x="4880" y="4"/>
                    <a:pt x="4880" y="8"/>
                  </a:cubicBezTo>
                  <a:cubicBezTo>
                    <a:pt x="4880" y="13"/>
                    <a:pt x="4877" y="16"/>
                    <a:pt x="4872" y="16"/>
                  </a:cubicBezTo>
                  <a:lnTo>
                    <a:pt x="4824" y="16"/>
                  </a:lnTo>
                  <a:cubicBezTo>
                    <a:pt x="4820" y="16"/>
                    <a:pt x="4816" y="13"/>
                    <a:pt x="4816" y="8"/>
                  </a:cubicBezTo>
                  <a:cubicBezTo>
                    <a:pt x="4816" y="4"/>
                    <a:pt x="4820" y="0"/>
                    <a:pt x="4824" y="0"/>
                  </a:cubicBezTo>
                  <a:close/>
                  <a:moveTo>
                    <a:pt x="4936" y="0"/>
                  </a:moveTo>
                  <a:lnTo>
                    <a:pt x="4984" y="0"/>
                  </a:lnTo>
                  <a:cubicBezTo>
                    <a:pt x="4989" y="0"/>
                    <a:pt x="4992" y="4"/>
                    <a:pt x="4992" y="8"/>
                  </a:cubicBezTo>
                  <a:cubicBezTo>
                    <a:pt x="4992" y="13"/>
                    <a:pt x="4989" y="16"/>
                    <a:pt x="4984" y="16"/>
                  </a:cubicBezTo>
                  <a:lnTo>
                    <a:pt x="4936" y="16"/>
                  </a:lnTo>
                  <a:cubicBezTo>
                    <a:pt x="4932" y="16"/>
                    <a:pt x="4928" y="13"/>
                    <a:pt x="4928" y="8"/>
                  </a:cubicBezTo>
                  <a:cubicBezTo>
                    <a:pt x="4928" y="4"/>
                    <a:pt x="4932" y="0"/>
                    <a:pt x="4936" y="0"/>
                  </a:cubicBezTo>
                  <a:close/>
                  <a:moveTo>
                    <a:pt x="5048" y="0"/>
                  </a:moveTo>
                  <a:lnTo>
                    <a:pt x="5096" y="0"/>
                  </a:lnTo>
                  <a:cubicBezTo>
                    <a:pt x="5101" y="0"/>
                    <a:pt x="5104" y="4"/>
                    <a:pt x="5104" y="8"/>
                  </a:cubicBezTo>
                  <a:cubicBezTo>
                    <a:pt x="5104" y="13"/>
                    <a:pt x="5101" y="16"/>
                    <a:pt x="5096" y="16"/>
                  </a:cubicBezTo>
                  <a:lnTo>
                    <a:pt x="5048" y="16"/>
                  </a:lnTo>
                  <a:cubicBezTo>
                    <a:pt x="5044" y="16"/>
                    <a:pt x="5040" y="13"/>
                    <a:pt x="5040" y="8"/>
                  </a:cubicBezTo>
                  <a:cubicBezTo>
                    <a:pt x="5040" y="4"/>
                    <a:pt x="5044" y="0"/>
                    <a:pt x="5048" y="0"/>
                  </a:cubicBezTo>
                  <a:close/>
                  <a:moveTo>
                    <a:pt x="5160" y="0"/>
                  </a:moveTo>
                  <a:lnTo>
                    <a:pt x="5208" y="0"/>
                  </a:lnTo>
                  <a:cubicBezTo>
                    <a:pt x="5213" y="0"/>
                    <a:pt x="5216" y="4"/>
                    <a:pt x="5216" y="8"/>
                  </a:cubicBezTo>
                  <a:cubicBezTo>
                    <a:pt x="5216" y="13"/>
                    <a:pt x="5213" y="16"/>
                    <a:pt x="5208" y="16"/>
                  </a:cubicBezTo>
                  <a:lnTo>
                    <a:pt x="5160" y="16"/>
                  </a:lnTo>
                  <a:cubicBezTo>
                    <a:pt x="5156" y="16"/>
                    <a:pt x="5152" y="13"/>
                    <a:pt x="5152" y="8"/>
                  </a:cubicBezTo>
                  <a:cubicBezTo>
                    <a:pt x="5152" y="4"/>
                    <a:pt x="5156" y="0"/>
                    <a:pt x="5160" y="0"/>
                  </a:cubicBezTo>
                  <a:close/>
                  <a:moveTo>
                    <a:pt x="5272" y="0"/>
                  </a:moveTo>
                  <a:lnTo>
                    <a:pt x="5320" y="0"/>
                  </a:lnTo>
                  <a:cubicBezTo>
                    <a:pt x="5325" y="0"/>
                    <a:pt x="5328" y="4"/>
                    <a:pt x="5328" y="8"/>
                  </a:cubicBezTo>
                  <a:cubicBezTo>
                    <a:pt x="5328" y="13"/>
                    <a:pt x="5325" y="16"/>
                    <a:pt x="5320" y="16"/>
                  </a:cubicBezTo>
                  <a:lnTo>
                    <a:pt x="5272" y="16"/>
                  </a:lnTo>
                  <a:cubicBezTo>
                    <a:pt x="5268" y="16"/>
                    <a:pt x="5264" y="13"/>
                    <a:pt x="5264" y="8"/>
                  </a:cubicBezTo>
                  <a:cubicBezTo>
                    <a:pt x="5264" y="4"/>
                    <a:pt x="5268" y="0"/>
                    <a:pt x="5272" y="0"/>
                  </a:cubicBezTo>
                  <a:close/>
                  <a:moveTo>
                    <a:pt x="5384" y="0"/>
                  </a:moveTo>
                  <a:lnTo>
                    <a:pt x="5432" y="0"/>
                  </a:lnTo>
                  <a:cubicBezTo>
                    <a:pt x="5437" y="0"/>
                    <a:pt x="5440" y="4"/>
                    <a:pt x="5440" y="8"/>
                  </a:cubicBezTo>
                  <a:cubicBezTo>
                    <a:pt x="5440" y="13"/>
                    <a:pt x="5437" y="16"/>
                    <a:pt x="5432" y="16"/>
                  </a:cubicBezTo>
                  <a:lnTo>
                    <a:pt x="5384" y="16"/>
                  </a:lnTo>
                  <a:cubicBezTo>
                    <a:pt x="5380" y="16"/>
                    <a:pt x="5376" y="13"/>
                    <a:pt x="5376" y="8"/>
                  </a:cubicBezTo>
                  <a:cubicBezTo>
                    <a:pt x="5376" y="4"/>
                    <a:pt x="5380" y="0"/>
                    <a:pt x="5384" y="0"/>
                  </a:cubicBezTo>
                  <a:close/>
                  <a:moveTo>
                    <a:pt x="5496" y="0"/>
                  </a:moveTo>
                  <a:lnTo>
                    <a:pt x="5544" y="0"/>
                  </a:lnTo>
                  <a:cubicBezTo>
                    <a:pt x="5549" y="0"/>
                    <a:pt x="5552" y="4"/>
                    <a:pt x="5552" y="8"/>
                  </a:cubicBezTo>
                  <a:cubicBezTo>
                    <a:pt x="5552" y="13"/>
                    <a:pt x="5549" y="16"/>
                    <a:pt x="5544" y="16"/>
                  </a:cubicBezTo>
                  <a:lnTo>
                    <a:pt x="5496" y="16"/>
                  </a:lnTo>
                  <a:cubicBezTo>
                    <a:pt x="5492" y="16"/>
                    <a:pt x="5488" y="13"/>
                    <a:pt x="5488" y="8"/>
                  </a:cubicBezTo>
                  <a:cubicBezTo>
                    <a:pt x="5488" y="4"/>
                    <a:pt x="5492" y="0"/>
                    <a:pt x="5496" y="0"/>
                  </a:cubicBezTo>
                  <a:close/>
                  <a:moveTo>
                    <a:pt x="5608" y="0"/>
                  </a:moveTo>
                  <a:lnTo>
                    <a:pt x="5656" y="0"/>
                  </a:lnTo>
                  <a:cubicBezTo>
                    <a:pt x="5661" y="0"/>
                    <a:pt x="5664" y="4"/>
                    <a:pt x="5664" y="8"/>
                  </a:cubicBezTo>
                  <a:cubicBezTo>
                    <a:pt x="5664" y="13"/>
                    <a:pt x="5661" y="16"/>
                    <a:pt x="5656" y="16"/>
                  </a:cubicBezTo>
                  <a:lnTo>
                    <a:pt x="5608" y="16"/>
                  </a:lnTo>
                  <a:cubicBezTo>
                    <a:pt x="5604" y="16"/>
                    <a:pt x="5600" y="13"/>
                    <a:pt x="5600" y="8"/>
                  </a:cubicBezTo>
                  <a:cubicBezTo>
                    <a:pt x="5600" y="4"/>
                    <a:pt x="5604" y="0"/>
                    <a:pt x="5608" y="0"/>
                  </a:cubicBezTo>
                  <a:close/>
                  <a:moveTo>
                    <a:pt x="5720" y="0"/>
                  </a:moveTo>
                  <a:lnTo>
                    <a:pt x="5768" y="0"/>
                  </a:lnTo>
                  <a:cubicBezTo>
                    <a:pt x="5773" y="0"/>
                    <a:pt x="5776" y="4"/>
                    <a:pt x="5776" y="8"/>
                  </a:cubicBezTo>
                  <a:cubicBezTo>
                    <a:pt x="5776" y="13"/>
                    <a:pt x="5773" y="16"/>
                    <a:pt x="5768" y="16"/>
                  </a:cubicBezTo>
                  <a:lnTo>
                    <a:pt x="5720" y="16"/>
                  </a:lnTo>
                  <a:cubicBezTo>
                    <a:pt x="5716" y="16"/>
                    <a:pt x="5712" y="13"/>
                    <a:pt x="5712" y="8"/>
                  </a:cubicBezTo>
                  <a:cubicBezTo>
                    <a:pt x="5712" y="4"/>
                    <a:pt x="5716" y="0"/>
                    <a:pt x="5720" y="0"/>
                  </a:cubicBezTo>
                  <a:close/>
                  <a:moveTo>
                    <a:pt x="5832" y="0"/>
                  </a:moveTo>
                  <a:lnTo>
                    <a:pt x="5880" y="0"/>
                  </a:lnTo>
                  <a:cubicBezTo>
                    <a:pt x="5885" y="0"/>
                    <a:pt x="5888" y="4"/>
                    <a:pt x="5888" y="8"/>
                  </a:cubicBezTo>
                  <a:cubicBezTo>
                    <a:pt x="5888" y="13"/>
                    <a:pt x="5885" y="16"/>
                    <a:pt x="5880" y="16"/>
                  </a:cubicBezTo>
                  <a:lnTo>
                    <a:pt x="5832" y="16"/>
                  </a:lnTo>
                  <a:cubicBezTo>
                    <a:pt x="5828" y="16"/>
                    <a:pt x="5824" y="13"/>
                    <a:pt x="5824" y="8"/>
                  </a:cubicBezTo>
                  <a:cubicBezTo>
                    <a:pt x="5824" y="4"/>
                    <a:pt x="5828" y="0"/>
                    <a:pt x="5832" y="0"/>
                  </a:cubicBezTo>
                  <a:close/>
                  <a:moveTo>
                    <a:pt x="5944" y="0"/>
                  </a:moveTo>
                  <a:lnTo>
                    <a:pt x="5992" y="0"/>
                  </a:lnTo>
                  <a:cubicBezTo>
                    <a:pt x="5997" y="0"/>
                    <a:pt x="6000" y="4"/>
                    <a:pt x="6000" y="8"/>
                  </a:cubicBezTo>
                  <a:cubicBezTo>
                    <a:pt x="6000" y="13"/>
                    <a:pt x="5997" y="16"/>
                    <a:pt x="5992" y="16"/>
                  </a:cubicBezTo>
                  <a:lnTo>
                    <a:pt x="5944" y="16"/>
                  </a:lnTo>
                  <a:cubicBezTo>
                    <a:pt x="5940" y="16"/>
                    <a:pt x="5936" y="13"/>
                    <a:pt x="5936" y="8"/>
                  </a:cubicBezTo>
                  <a:cubicBezTo>
                    <a:pt x="5936" y="4"/>
                    <a:pt x="5940" y="0"/>
                    <a:pt x="5944" y="0"/>
                  </a:cubicBezTo>
                  <a:close/>
                  <a:moveTo>
                    <a:pt x="6056" y="0"/>
                  </a:moveTo>
                  <a:lnTo>
                    <a:pt x="6104" y="0"/>
                  </a:lnTo>
                  <a:cubicBezTo>
                    <a:pt x="6109" y="0"/>
                    <a:pt x="6112" y="4"/>
                    <a:pt x="6112" y="8"/>
                  </a:cubicBezTo>
                  <a:cubicBezTo>
                    <a:pt x="6112" y="13"/>
                    <a:pt x="6109" y="16"/>
                    <a:pt x="6104" y="16"/>
                  </a:cubicBezTo>
                  <a:lnTo>
                    <a:pt x="6056" y="16"/>
                  </a:lnTo>
                  <a:cubicBezTo>
                    <a:pt x="6052" y="16"/>
                    <a:pt x="6048" y="13"/>
                    <a:pt x="6048" y="8"/>
                  </a:cubicBezTo>
                  <a:cubicBezTo>
                    <a:pt x="6048" y="4"/>
                    <a:pt x="6052" y="0"/>
                    <a:pt x="6056" y="0"/>
                  </a:cubicBezTo>
                  <a:close/>
                  <a:moveTo>
                    <a:pt x="6168" y="0"/>
                  </a:moveTo>
                  <a:lnTo>
                    <a:pt x="6216" y="0"/>
                  </a:lnTo>
                  <a:cubicBezTo>
                    <a:pt x="6221" y="0"/>
                    <a:pt x="6224" y="4"/>
                    <a:pt x="6224" y="8"/>
                  </a:cubicBezTo>
                  <a:cubicBezTo>
                    <a:pt x="6224" y="13"/>
                    <a:pt x="6221" y="16"/>
                    <a:pt x="6216" y="16"/>
                  </a:cubicBezTo>
                  <a:lnTo>
                    <a:pt x="6168" y="16"/>
                  </a:lnTo>
                  <a:cubicBezTo>
                    <a:pt x="6164" y="16"/>
                    <a:pt x="6160" y="13"/>
                    <a:pt x="6160" y="8"/>
                  </a:cubicBezTo>
                  <a:cubicBezTo>
                    <a:pt x="6160" y="4"/>
                    <a:pt x="6164" y="0"/>
                    <a:pt x="6168" y="0"/>
                  </a:cubicBezTo>
                  <a:close/>
                  <a:moveTo>
                    <a:pt x="6280" y="0"/>
                  </a:moveTo>
                  <a:lnTo>
                    <a:pt x="6328" y="0"/>
                  </a:lnTo>
                  <a:cubicBezTo>
                    <a:pt x="6333" y="0"/>
                    <a:pt x="6336" y="4"/>
                    <a:pt x="6336" y="8"/>
                  </a:cubicBezTo>
                  <a:cubicBezTo>
                    <a:pt x="6336" y="13"/>
                    <a:pt x="6333" y="16"/>
                    <a:pt x="6328" y="16"/>
                  </a:cubicBezTo>
                  <a:lnTo>
                    <a:pt x="6280" y="16"/>
                  </a:lnTo>
                  <a:cubicBezTo>
                    <a:pt x="6276" y="16"/>
                    <a:pt x="6272" y="13"/>
                    <a:pt x="6272" y="8"/>
                  </a:cubicBezTo>
                  <a:cubicBezTo>
                    <a:pt x="6272" y="4"/>
                    <a:pt x="6276" y="0"/>
                    <a:pt x="6280" y="0"/>
                  </a:cubicBezTo>
                  <a:close/>
                  <a:moveTo>
                    <a:pt x="6392" y="0"/>
                  </a:moveTo>
                  <a:lnTo>
                    <a:pt x="6440" y="0"/>
                  </a:lnTo>
                  <a:cubicBezTo>
                    <a:pt x="6445" y="0"/>
                    <a:pt x="6448" y="4"/>
                    <a:pt x="6448" y="8"/>
                  </a:cubicBezTo>
                  <a:cubicBezTo>
                    <a:pt x="6448" y="13"/>
                    <a:pt x="6445" y="16"/>
                    <a:pt x="6440" y="16"/>
                  </a:cubicBezTo>
                  <a:lnTo>
                    <a:pt x="6392" y="16"/>
                  </a:lnTo>
                  <a:cubicBezTo>
                    <a:pt x="6388" y="16"/>
                    <a:pt x="6384" y="13"/>
                    <a:pt x="6384" y="8"/>
                  </a:cubicBezTo>
                  <a:cubicBezTo>
                    <a:pt x="6384" y="4"/>
                    <a:pt x="6388" y="0"/>
                    <a:pt x="6392" y="0"/>
                  </a:cubicBezTo>
                  <a:close/>
                  <a:moveTo>
                    <a:pt x="6504" y="0"/>
                  </a:moveTo>
                  <a:lnTo>
                    <a:pt x="6552" y="0"/>
                  </a:lnTo>
                  <a:cubicBezTo>
                    <a:pt x="6557" y="0"/>
                    <a:pt x="6560" y="4"/>
                    <a:pt x="6560" y="8"/>
                  </a:cubicBezTo>
                  <a:cubicBezTo>
                    <a:pt x="6560" y="13"/>
                    <a:pt x="6557" y="16"/>
                    <a:pt x="6552" y="16"/>
                  </a:cubicBezTo>
                  <a:lnTo>
                    <a:pt x="6504" y="16"/>
                  </a:lnTo>
                  <a:cubicBezTo>
                    <a:pt x="6500" y="16"/>
                    <a:pt x="6496" y="13"/>
                    <a:pt x="6496" y="8"/>
                  </a:cubicBezTo>
                  <a:cubicBezTo>
                    <a:pt x="6496" y="4"/>
                    <a:pt x="6500" y="0"/>
                    <a:pt x="6504" y="0"/>
                  </a:cubicBezTo>
                  <a:close/>
                  <a:moveTo>
                    <a:pt x="6616" y="0"/>
                  </a:moveTo>
                  <a:lnTo>
                    <a:pt x="6664" y="0"/>
                  </a:lnTo>
                  <a:cubicBezTo>
                    <a:pt x="6669" y="0"/>
                    <a:pt x="6672" y="4"/>
                    <a:pt x="6672" y="8"/>
                  </a:cubicBezTo>
                  <a:cubicBezTo>
                    <a:pt x="6672" y="13"/>
                    <a:pt x="6669" y="16"/>
                    <a:pt x="6664" y="16"/>
                  </a:cubicBezTo>
                  <a:lnTo>
                    <a:pt x="6616" y="16"/>
                  </a:lnTo>
                  <a:cubicBezTo>
                    <a:pt x="6612" y="16"/>
                    <a:pt x="6608" y="13"/>
                    <a:pt x="6608" y="8"/>
                  </a:cubicBezTo>
                  <a:cubicBezTo>
                    <a:pt x="6608" y="4"/>
                    <a:pt x="6612" y="0"/>
                    <a:pt x="6616" y="0"/>
                  </a:cubicBezTo>
                  <a:close/>
                  <a:moveTo>
                    <a:pt x="6728" y="0"/>
                  </a:moveTo>
                  <a:lnTo>
                    <a:pt x="6776" y="0"/>
                  </a:lnTo>
                  <a:cubicBezTo>
                    <a:pt x="6781" y="0"/>
                    <a:pt x="6784" y="4"/>
                    <a:pt x="6784" y="8"/>
                  </a:cubicBezTo>
                  <a:cubicBezTo>
                    <a:pt x="6784" y="13"/>
                    <a:pt x="6781" y="16"/>
                    <a:pt x="6776" y="16"/>
                  </a:cubicBezTo>
                  <a:lnTo>
                    <a:pt x="6728" y="16"/>
                  </a:lnTo>
                  <a:cubicBezTo>
                    <a:pt x="6724" y="16"/>
                    <a:pt x="6720" y="13"/>
                    <a:pt x="6720" y="8"/>
                  </a:cubicBezTo>
                  <a:cubicBezTo>
                    <a:pt x="6720" y="4"/>
                    <a:pt x="6724" y="0"/>
                    <a:pt x="6728" y="0"/>
                  </a:cubicBezTo>
                  <a:close/>
                  <a:moveTo>
                    <a:pt x="6840" y="0"/>
                  </a:moveTo>
                  <a:lnTo>
                    <a:pt x="6888" y="0"/>
                  </a:lnTo>
                  <a:cubicBezTo>
                    <a:pt x="6893" y="0"/>
                    <a:pt x="6896" y="4"/>
                    <a:pt x="6896" y="8"/>
                  </a:cubicBezTo>
                  <a:cubicBezTo>
                    <a:pt x="6896" y="13"/>
                    <a:pt x="6893" y="16"/>
                    <a:pt x="6888" y="16"/>
                  </a:cubicBezTo>
                  <a:lnTo>
                    <a:pt x="6840" y="16"/>
                  </a:lnTo>
                  <a:cubicBezTo>
                    <a:pt x="6836" y="16"/>
                    <a:pt x="6832" y="13"/>
                    <a:pt x="6832" y="8"/>
                  </a:cubicBezTo>
                  <a:cubicBezTo>
                    <a:pt x="6832" y="4"/>
                    <a:pt x="6836" y="0"/>
                    <a:pt x="6840" y="0"/>
                  </a:cubicBezTo>
                  <a:close/>
                  <a:moveTo>
                    <a:pt x="6952" y="0"/>
                  </a:moveTo>
                  <a:lnTo>
                    <a:pt x="7000" y="0"/>
                  </a:lnTo>
                  <a:cubicBezTo>
                    <a:pt x="7005" y="0"/>
                    <a:pt x="7008" y="4"/>
                    <a:pt x="7008" y="8"/>
                  </a:cubicBezTo>
                  <a:cubicBezTo>
                    <a:pt x="7008" y="13"/>
                    <a:pt x="7005" y="16"/>
                    <a:pt x="7000" y="16"/>
                  </a:cubicBezTo>
                  <a:lnTo>
                    <a:pt x="6952" y="16"/>
                  </a:lnTo>
                  <a:cubicBezTo>
                    <a:pt x="6948" y="16"/>
                    <a:pt x="6944" y="13"/>
                    <a:pt x="6944" y="8"/>
                  </a:cubicBezTo>
                  <a:cubicBezTo>
                    <a:pt x="6944" y="4"/>
                    <a:pt x="6948" y="0"/>
                    <a:pt x="6952" y="0"/>
                  </a:cubicBezTo>
                  <a:close/>
                  <a:moveTo>
                    <a:pt x="7064" y="0"/>
                  </a:moveTo>
                  <a:lnTo>
                    <a:pt x="7112" y="0"/>
                  </a:lnTo>
                  <a:cubicBezTo>
                    <a:pt x="7117" y="0"/>
                    <a:pt x="7120" y="4"/>
                    <a:pt x="7120" y="8"/>
                  </a:cubicBezTo>
                  <a:cubicBezTo>
                    <a:pt x="7120" y="13"/>
                    <a:pt x="7117" y="16"/>
                    <a:pt x="7112" y="16"/>
                  </a:cubicBezTo>
                  <a:lnTo>
                    <a:pt x="7064" y="16"/>
                  </a:lnTo>
                  <a:cubicBezTo>
                    <a:pt x="7060" y="16"/>
                    <a:pt x="7056" y="13"/>
                    <a:pt x="7056" y="8"/>
                  </a:cubicBezTo>
                  <a:cubicBezTo>
                    <a:pt x="7056" y="4"/>
                    <a:pt x="7060" y="0"/>
                    <a:pt x="7064" y="0"/>
                  </a:cubicBezTo>
                  <a:close/>
                  <a:moveTo>
                    <a:pt x="7176" y="0"/>
                  </a:moveTo>
                  <a:lnTo>
                    <a:pt x="7224" y="0"/>
                  </a:lnTo>
                  <a:cubicBezTo>
                    <a:pt x="7229" y="0"/>
                    <a:pt x="7232" y="4"/>
                    <a:pt x="7232" y="8"/>
                  </a:cubicBezTo>
                  <a:cubicBezTo>
                    <a:pt x="7232" y="13"/>
                    <a:pt x="7229" y="16"/>
                    <a:pt x="7224" y="16"/>
                  </a:cubicBezTo>
                  <a:lnTo>
                    <a:pt x="7176" y="16"/>
                  </a:lnTo>
                  <a:cubicBezTo>
                    <a:pt x="7172" y="16"/>
                    <a:pt x="7168" y="13"/>
                    <a:pt x="7168" y="8"/>
                  </a:cubicBezTo>
                  <a:cubicBezTo>
                    <a:pt x="7168" y="4"/>
                    <a:pt x="7172" y="0"/>
                    <a:pt x="7176" y="0"/>
                  </a:cubicBezTo>
                  <a:close/>
                  <a:moveTo>
                    <a:pt x="7288" y="0"/>
                  </a:moveTo>
                  <a:lnTo>
                    <a:pt x="7336" y="0"/>
                  </a:lnTo>
                  <a:cubicBezTo>
                    <a:pt x="7341" y="0"/>
                    <a:pt x="7344" y="4"/>
                    <a:pt x="7344" y="8"/>
                  </a:cubicBezTo>
                  <a:cubicBezTo>
                    <a:pt x="7344" y="13"/>
                    <a:pt x="7341" y="16"/>
                    <a:pt x="7336" y="16"/>
                  </a:cubicBezTo>
                  <a:lnTo>
                    <a:pt x="7288" y="16"/>
                  </a:lnTo>
                  <a:cubicBezTo>
                    <a:pt x="7284" y="16"/>
                    <a:pt x="7280" y="13"/>
                    <a:pt x="7280" y="8"/>
                  </a:cubicBezTo>
                  <a:cubicBezTo>
                    <a:pt x="7280" y="4"/>
                    <a:pt x="7284" y="0"/>
                    <a:pt x="7288" y="0"/>
                  </a:cubicBezTo>
                  <a:close/>
                  <a:moveTo>
                    <a:pt x="7400" y="0"/>
                  </a:moveTo>
                  <a:lnTo>
                    <a:pt x="7448" y="0"/>
                  </a:lnTo>
                  <a:cubicBezTo>
                    <a:pt x="7453" y="0"/>
                    <a:pt x="7456" y="4"/>
                    <a:pt x="7456" y="8"/>
                  </a:cubicBezTo>
                  <a:cubicBezTo>
                    <a:pt x="7456" y="13"/>
                    <a:pt x="7453" y="16"/>
                    <a:pt x="7448" y="16"/>
                  </a:cubicBezTo>
                  <a:lnTo>
                    <a:pt x="7400" y="16"/>
                  </a:lnTo>
                  <a:cubicBezTo>
                    <a:pt x="7396" y="16"/>
                    <a:pt x="7392" y="13"/>
                    <a:pt x="7392" y="8"/>
                  </a:cubicBezTo>
                  <a:cubicBezTo>
                    <a:pt x="7392" y="4"/>
                    <a:pt x="7396" y="0"/>
                    <a:pt x="7400" y="0"/>
                  </a:cubicBezTo>
                  <a:close/>
                  <a:moveTo>
                    <a:pt x="7512" y="0"/>
                  </a:moveTo>
                  <a:lnTo>
                    <a:pt x="7560" y="0"/>
                  </a:lnTo>
                  <a:cubicBezTo>
                    <a:pt x="7565" y="0"/>
                    <a:pt x="7568" y="4"/>
                    <a:pt x="7568" y="8"/>
                  </a:cubicBezTo>
                  <a:cubicBezTo>
                    <a:pt x="7568" y="13"/>
                    <a:pt x="7565" y="16"/>
                    <a:pt x="7560" y="16"/>
                  </a:cubicBezTo>
                  <a:lnTo>
                    <a:pt x="7512" y="16"/>
                  </a:lnTo>
                  <a:cubicBezTo>
                    <a:pt x="7508" y="16"/>
                    <a:pt x="7504" y="13"/>
                    <a:pt x="7504" y="8"/>
                  </a:cubicBezTo>
                  <a:cubicBezTo>
                    <a:pt x="7504" y="4"/>
                    <a:pt x="7508" y="0"/>
                    <a:pt x="7512" y="0"/>
                  </a:cubicBezTo>
                  <a:close/>
                  <a:moveTo>
                    <a:pt x="7624" y="0"/>
                  </a:moveTo>
                  <a:lnTo>
                    <a:pt x="7672" y="0"/>
                  </a:lnTo>
                  <a:cubicBezTo>
                    <a:pt x="7677" y="0"/>
                    <a:pt x="7680" y="4"/>
                    <a:pt x="7680" y="8"/>
                  </a:cubicBezTo>
                  <a:cubicBezTo>
                    <a:pt x="7680" y="13"/>
                    <a:pt x="7677" y="16"/>
                    <a:pt x="7672" y="16"/>
                  </a:cubicBezTo>
                  <a:lnTo>
                    <a:pt x="7624" y="16"/>
                  </a:lnTo>
                  <a:cubicBezTo>
                    <a:pt x="7620" y="16"/>
                    <a:pt x="7616" y="13"/>
                    <a:pt x="7616" y="8"/>
                  </a:cubicBezTo>
                  <a:cubicBezTo>
                    <a:pt x="7616" y="4"/>
                    <a:pt x="7620" y="0"/>
                    <a:pt x="7624" y="0"/>
                  </a:cubicBezTo>
                  <a:close/>
                  <a:moveTo>
                    <a:pt x="7736" y="0"/>
                  </a:moveTo>
                  <a:lnTo>
                    <a:pt x="7784" y="0"/>
                  </a:lnTo>
                  <a:cubicBezTo>
                    <a:pt x="7789" y="0"/>
                    <a:pt x="7792" y="4"/>
                    <a:pt x="7792" y="8"/>
                  </a:cubicBezTo>
                  <a:cubicBezTo>
                    <a:pt x="7792" y="13"/>
                    <a:pt x="7789" y="16"/>
                    <a:pt x="7784" y="16"/>
                  </a:cubicBezTo>
                  <a:lnTo>
                    <a:pt x="7736" y="16"/>
                  </a:lnTo>
                  <a:cubicBezTo>
                    <a:pt x="7732" y="16"/>
                    <a:pt x="7728" y="13"/>
                    <a:pt x="7728" y="8"/>
                  </a:cubicBezTo>
                  <a:cubicBezTo>
                    <a:pt x="7728" y="4"/>
                    <a:pt x="7732" y="0"/>
                    <a:pt x="7736" y="0"/>
                  </a:cubicBezTo>
                  <a:close/>
                  <a:moveTo>
                    <a:pt x="7848" y="0"/>
                  </a:moveTo>
                  <a:lnTo>
                    <a:pt x="7896" y="0"/>
                  </a:lnTo>
                  <a:cubicBezTo>
                    <a:pt x="7901" y="0"/>
                    <a:pt x="7904" y="4"/>
                    <a:pt x="7904" y="8"/>
                  </a:cubicBezTo>
                  <a:cubicBezTo>
                    <a:pt x="7904" y="13"/>
                    <a:pt x="7901" y="16"/>
                    <a:pt x="7896" y="16"/>
                  </a:cubicBezTo>
                  <a:lnTo>
                    <a:pt x="7848" y="16"/>
                  </a:lnTo>
                  <a:cubicBezTo>
                    <a:pt x="7844" y="16"/>
                    <a:pt x="7840" y="13"/>
                    <a:pt x="7840" y="8"/>
                  </a:cubicBezTo>
                  <a:cubicBezTo>
                    <a:pt x="7840" y="4"/>
                    <a:pt x="7844" y="0"/>
                    <a:pt x="7848" y="0"/>
                  </a:cubicBezTo>
                  <a:close/>
                  <a:moveTo>
                    <a:pt x="7960" y="0"/>
                  </a:moveTo>
                  <a:lnTo>
                    <a:pt x="8008" y="0"/>
                  </a:lnTo>
                  <a:cubicBezTo>
                    <a:pt x="8013" y="0"/>
                    <a:pt x="8016" y="4"/>
                    <a:pt x="8016" y="8"/>
                  </a:cubicBezTo>
                  <a:cubicBezTo>
                    <a:pt x="8016" y="13"/>
                    <a:pt x="8013" y="16"/>
                    <a:pt x="8008" y="16"/>
                  </a:cubicBezTo>
                  <a:lnTo>
                    <a:pt x="7960" y="16"/>
                  </a:lnTo>
                  <a:cubicBezTo>
                    <a:pt x="7956" y="16"/>
                    <a:pt x="7952" y="13"/>
                    <a:pt x="7952" y="8"/>
                  </a:cubicBezTo>
                  <a:cubicBezTo>
                    <a:pt x="7952" y="4"/>
                    <a:pt x="7956" y="0"/>
                    <a:pt x="7960" y="0"/>
                  </a:cubicBezTo>
                  <a:close/>
                  <a:moveTo>
                    <a:pt x="8072" y="0"/>
                  </a:moveTo>
                  <a:lnTo>
                    <a:pt x="8104" y="0"/>
                  </a:lnTo>
                  <a:cubicBezTo>
                    <a:pt x="8109" y="0"/>
                    <a:pt x="8112" y="4"/>
                    <a:pt x="8112" y="8"/>
                  </a:cubicBezTo>
                  <a:cubicBezTo>
                    <a:pt x="8112" y="13"/>
                    <a:pt x="8109" y="16"/>
                    <a:pt x="8104" y="16"/>
                  </a:cubicBezTo>
                  <a:lnTo>
                    <a:pt x="8072" y="16"/>
                  </a:lnTo>
                  <a:cubicBezTo>
                    <a:pt x="8068" y="16"/>
                    <a:pt x="8064" y="13"/>
                    <a:pt x="8064" y="8"/>
                  </a:cubicBezTo>
                  <a:cubicBezTo>
                    <a:pt x="8064" y="4"/>
                    <a:pt x="8068" y="0"/>
                    <a:pt x="8072" y="0"/>
                  </a:cubicBez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32720" y="479736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Average:-2.3 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904320" y="476280"/>
            <a:ext cx="7385760" cy="5305680"/>
            <a:chOff x="904320" y="476280"/>
            <a:chExt cx="7385760" cy="5305680"/>
          </a:xfrm>
        </p:grpSpPr>
        <p:sp>
          <p:nvSpPr>
            <p:cNvPr id="905" name=""/>
            <p:cNvSpPr/>
            <p:nvPr/>
          </p:nvSpPr>
          <p:spPr>
            <a:xfrm>
              <a:off x="1042920" y="476280"/>
              <a:ext cx="46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CE41-03 vs ISO362-2 (Class 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311120" y="566892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11120" y="535140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311120" y="503388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11120" y="470376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11120" y="438624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11120" y="406872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11120" y="375300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11120" y="310356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11120" y="278748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11120" y="247032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11120" y="215280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11120" y="182232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311120" y="150480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311120" y="118728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1120" y="1187280"/>
              <a:ext cx="6977160" cy="44816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6680" y="2938320"/>
              <a:ext cx="2786040" cy="4971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11120" y="1187280"/>
              <a:ext cx="1800" cy="448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11120" y="56689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11120" y="53514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11120" y="50338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11120" y="47037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11120" y="43862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311120" y="40687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311120" y="375300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311120" y="34354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11120" y="31035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311120" y="27874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311120" y="24703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11120" y="215280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11120" y="18223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311120" y="15048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311120" y="11872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11120" y="343548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1311120" y="339372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8288280" y="339372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04320" y="55990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7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04320" y="52815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6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04320" y="496584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5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04320" y="46339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4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04320" y="431784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3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04320" y="40006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2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04320" y="36831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1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73440" y="33656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73440" y="30351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73440" y="27176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73440" y="240192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73440" y="208440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73440" y="17524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73440" y="14367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73440" y="11192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752360" y="3573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4500720" y="213372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verage:+1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332000" y="2924280"/>
            <a:ext cx="698508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95280" y="40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E41-03 vs ISO362-2 (Class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39840" y="579132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9840" y="5456160"/>
            <a:ext cx="736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239840" y="5122800"/>
            <a:ext cx="736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39840" y="477360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239840" y="443880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39840" y="4103640"/>
            <a:ext cx="736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239840" y="376884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239840" y="308628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239840" y="275112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239840" y="241632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9840" y="2081160"/>
            <a:ext cx="736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239840" y="173196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39840" y="139860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239840" y="106380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239840" y="1063800"/>
            <a:ext cx="7362720" cy="472752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400040" y="3435480"/>
            <a:ext cx="231840" cy="1409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967040" y="3435480"/>
            <a:ext cx="233280" cy="4204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535120" y="3435480"/>
            <a:ext cx="231840" cy="13809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102120" y="3435480"/>
            <a:ext cx="233280" cy="10904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670200" y="3435480"/>
            <a:ext cx="231840" cy="581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237200" y="3435480"/>
            <a:ext cx="233280" cy="8715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803840" y="2548080"/>
            <a:ext cx="218880" cy="887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57880" y="3157560"/>
            <a:ext cx="231840" cy="2779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924520" y="3435480"/>
            <a:ext cx="233280" cy="4935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92960" y="3362400"/>
            <a:ext cx="231840" cy="730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59600" y="3435480"/>
            <a:ext cx="233280" cy="6537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628040" y="3435480"/>
            <a:ext cx="231840" cy="392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194680" y="2576520"/>
            <a:ext cx="233280" cy="8589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239840" y="1063800"/>
            <a:ext cx="1440" cy="472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239840" y="5791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239840" y="5718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239840" y="5661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39840" y="55879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239840" y="55148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39840" y="5456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239840" y="5384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239840" y="5326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239840" y="52531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239840" y="5180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239840" y="5122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239840" y="50497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239840" y="49766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239840" y="4917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239840" y="4844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239840" y="47736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239840" y="4714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239840" y="4641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39840" y="45687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39840" y="45115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3984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239840" y="43797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239840" y="4307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239840" y="42354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239840" y="4176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239840" y="41036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239840" y="4030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239840" y="3973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39840" y="39006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239840" y="3827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239840" y="3768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239840" y="36972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239840" y="36241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239840" y="35654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239840" y="34923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39840" y="343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239840" y="3362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239840" y="3289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239840" y="32306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239840" y="31575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239840" y="30862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239840" y="30272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239840" y="2954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239840" y="28814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239840" y="2824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239840" y="27511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239840" y="2678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39840" y="26193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239840" y="25480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239840" y="2489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239840" y="2416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239840" y="2343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239840" y="2286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239840" y="22129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39840" y="21398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39840" y="20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239840" y="2009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239840" y="1936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239840" y="18781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239840" y="1805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39840" y="1731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39840" y="16747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239840" y="16016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239840" y="1528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239840" y="1469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239840" y="13986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239840" y="1339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239840" y="1266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239840" y="11937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239840" y="11365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239840" y="1063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239840" y="57913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239840" y="54561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239840" y="51228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239840" y="4773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239840" y="44388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239840" y="41036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39840" y="37688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239840" y="34354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239840" y="3086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239840" y="27511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239840" y="24163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239840" y="20811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39840" y="173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239840" y="1398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239840" y="10638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239840" y="343548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123984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80648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237492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294156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351000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407664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464508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519732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76432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633240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689940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746748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803448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860256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10360" y="571824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7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10360" y="538488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6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10360" y="50497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5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0360" y="47005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4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10360" y="43657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810360" y="403056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2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810360" y="369720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1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883080" y="33624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883080" y="30132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883080" y="267804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883080" y="234324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83080" y="200988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83080" y="166068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5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883080" y="13255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6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883080" y="9907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7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6700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03364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064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16872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73572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30380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87080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888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00588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523560" y="3579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92000" y="3579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658640" y="3579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226720" y="3579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211400" y="3813120"/>
            <a:ext cx="7391160" cy="14400"/>
          </a:xfrm>
          <a:custGeom>
            <a:avLst/>
            <a:gdLst/>
            <a:ahLst/>
            <a:rect l="l" t="t" r="r" b="b"/>
            <a:pathLst>
              <a:path w="8128" h="16">
                <a:moveTo>
                  <a:pt x="8" y="0"/>
                </a:moveTo>
                <a:lnTo>
                  <a:pt x="56" y="0"/>
                </a:lnTo>
                <a:cubicBezTo>
                  <a:pt x="61" y="0"/>
                  <a:pt x="64" y="4"/>
                  <a:pt x="64" y="8"/>
                </a:cubicBezTo>
                <a:cubicBezTo>
                  <a:pt x="64" y="13"/>
                  <a:pt x="61" y="16"/>
                  <a:pt x="56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120" y="0"/>
                </a:moveTo>
                <a:lnTo>
                  <a:pt x="168" y="0"/>
                </a:lnTo>
                <a:cubicBezTo>
                  <a:pt x="173" y="0"/>
                  <a:pt x="176" y="4"/>
                  <a:pt x="176" y="8"/>
                </a:cubicBezTo>
                <a:cubicBezTo>
                  <a:pt x="176" y="13"/>
                  <a:pt x="173" y="16"/>
                  <a:pt x="168" y="16"/>
                </a:cubicBezTo>
                <a:lnTo>
                  <a:pt x="120" y="16"/>
                </a:lnTo>
                <a:cubicBezTo>
                  <a:pt x="116" y="16"/>
                  <a:pt x="112" y="13"/>
                  <a:pt x="112" y="8"/>
                </a:cubicBezTo>
                <a:cubicBezTo>
                  <a:pt x="112" y="4"/>
                  <a:pt x="116" y="0"/>
                  <a:pt x="120" y="0"/>
                </a:cubicBezTo>
                <a:close/>
                <a:moveTo>
                  <a:pt x="232" y="0"/>
                </a:move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cubicBezTo>
                  <a:pt x="288" y="13"/>
                  <a:pt x="285" y="16"/>
                  <a:pt x="280" y="16"/>
                </a:cubicBezTo>
                <a:lnTo>
                  <a:pt x="232" y="16"/>
                </a:lnTo>
                <a:cubicBezTo>
                  <a:pt x="228" y="16"/>
                  <a:pt x="224" y="13"/>
                  <a:pt x="224" y="8"/>
                </a:cubicBezTo>
                <a:cubicBezTo>
                  <a:pt x="224" y="4"/>
                  <a:pt x="228" y="0"/>
                  <a:pt x="232" y="0"/>
                </a:cubicBezTo>
                <a:close/>
                <a:moveTo>
                  <a:pt x="344" y="0"/>
                </a:moveTo>
                <a:lnTo>
                  <a:pt x="392" y="0"/>
                </a:lnTo>
                <a:cubicBezTo>
                  <a:pt x="397" y="0"/>
                  <a:pt x="400" y="4"/>
                  <a:pt x="400" y="8"/>
                </a:cubicBezTo>
                <a:cubicBezTo>
                  <a:pt x="400" y="13"/>
                  <a:pt x="397" y="16"/>
                  <a:pt x="392" y="16"/>
                </a:cubicBezTo>
                <a:lnTo>
                  <a:pt x="344" y="16"/>
                </a:lnTo>
                <a:cubicBezTo>
                  <a:pt x="340" y="16"/>
                  <a:pt x="336" y="13"/>
                  <a:pt x="336" y="8"/>
                </a:cubicBezTo>
                <a:cubicBezTo>
                  <a:pt x="336" y="4"/>
                  <a:pt x="340" y="0"/>
                  <a:pt x="344" y="0"/>
                </a:cubicBezTo>
                <a:close/>
                <a:moveTo>
                  <a:pt x="456" y="0"/>
                </a:moveTo>
                <a:lnTo>
                  <a:pt x="504" y="0"/>
                </a:lnTo>
                <a:cubicBezTo>
                  <a:pt x="509" y="0"/>
                  <a:pt x="512" y="4"/>
                  <a:pt x="512" y="8"/>
                </a:cubicBezTo>
                <a:cubicBezTo>
                  <a:pt x="512" y="13"/>
                  <a:pt x="509" y="16"/>
                  <a:pt x="504" y="16"/>
                </a:cubicBezTo>
                <a:lnTo>
                  <a:pt x="456" y="16"/>
                </a:lnTo>
                <a:cubicBezTo>
                  <a:pt x="452" y="16"/>
                  <a:pt x="448" y="13"/>
                  <a:pt x="448" y="8"/>
                </a:cubicBezTo>
                <a:cubicBezTo>
                  <a:pt x="448" y="4"/>
                  <a:pt x="452" y="0"/>
                  <a:pt x="456" y="0"/>
                </a:cubicBezTo>
                <a:close/>
                <a:moveTo>
                  <a:pt x="568" y="0"/>
                </a:moveTo>
                <a:lnTo>
                  <a:pt x="616" y="0"/>
                </a:lnTo>
                <a:cubicBezTo>
                  <a:pt x="621" y="0"/>
                  <a:pt x="624" y="4"/>
                  <a:pt x="624" y="8"/>
                </a:cubicBezTo>
                <a:cubicBezTo>
                  <a:pt x="624" y="13"/>
                  <a:pt x="621" y="16"/>
                  <a:pt x="616" y="16"/>
                </a:cubicBezTo>
                <a:lnTo>
                  <a:pt x="568" y="16"/>
                </a:lnTo>
                <a:cubicBezTo>
                  <a:pt x="564" y="16"/>
                  <a:pt x="560" y="13"/>
                  <a:pt x="560" y="8"/>
                </a:cubicBezTo>
                <a:cubicBezTo>
                  <a:pt x="560" y="4"/>
                  <a:pt x="564" y="0"/>
                  <a:pt x="568" y="0"/>
                </a:cubicBezTo>
                <a:close/>
                <a:moveTo>
                  <a:pt x="680" y="0"/>
                </a:moveTo>
                <a:lnTo>
                  <a:pt x="728" y="0"/>
                </a:lnTo>
                <a:cubicBezTo>
                  <a:pt x="733" y="0"/>
                  <a:pt x="736" y="4"/>
                  <a:pt x="736" y="8"/>
                </a:cubicBezTo>
                <a:cubicBezTo>
                  <a:pt x="736" y="13"/>
                  <a:pt x="733" y="16"/>
                  <a:pt x="728" y="16"/>
                </a:cubicBezTo>
                <a:lnTo>
                  <a:pt x="680" y="16"/>
                </a:lnTo>
                <a:cubicBezTo>
                  <a:pt x="676" y="16"/>
                  <a:pt x="672" y="13"/>
                  <a:pt x="672" y="8"/>
                </a:cubicBezTo>
                <a:cubicBezTo>
                  <a:pt x="672" y="4"/>
                  <a:pt x="676" y="0"/>
                  <a:pt x="680" y="0"/>
                </a:cubicBezTo>
                <a:close/>
                <a:moveTo>
                  <a:pt x="792" y="0"/>
                </a:moveTo>
                <a:lnTo>
                  <a:pt x="840" y="0"/>
                </a:lnTo>
                <a:cubicBezTo>
                  <a:pt x="845" y="0"/>
                  <a:pt x="848" y="4"/>
                  <a:pt x="848" y="8"/>
                </a:cubicBezTo>
                <a:cubicBezTo>
                  <a:pt x="848" y="13"/>
                  <a:pt x="845" y="16"/>
                  <a:pt x="840" y="16"/>
                </a:cubicBezTo>
                <a:lnTo>
                  <a:pt x="792" y="16"/>
                </a:lnTo>
                <a:cubicBezTo>
                  <a:pt x="788" y="16"/>
                  <a:pt x="784" y="13"/>
                  <a:pt x="784" y="8"/>
                </a:cubicBezTo>
                <a:cubicBezTo>
                  <a:pt x="784" y="4"/>
                  <a:pt x="788" y="0"/>
                  <a:pt x="792" y="0"/>
                </a:cubicBezTo>
                <a:close/>
                <a:moveTo>
                  <a:pt x="904" y="0"/>
                </a:moveTo>
                <a:lnTo>
                  <a:pt x="952" y="0"/>
                </a:lnTo>
                <a:cubicBezTo>
                  <a:pt x="957" y="0"/>
                  <a:pt x="960" y="4"/>
                  <a:pt x="960" y="8"/>
                </a:cubicBezTo>
                <a:cubicBezTo>
                  <a:pt x="960" y="13"/>
                  <a:pt x="957" y="16"/>
                  <a:pt x="952" y="16"/>
                </a:cubicBezTo>
                <a:lnTo>
                  <a:pt x="904" y="16"/>
                </a:lnTo>
                <a:cubicBezTo>
                  <a:pt x="900" y="16"/>
                  <a:pt x="896" y="13"/>
                  <a:pt x="896" y="8"/>
                </a:cubicBezTo>
                <a:cubicBezTo>
                  <a:pt x="896" y="4"/>
                  <a:pt x="900" y="0"/>
                  <a:pt x="904" y="0"/>
                </a:cubicBezTo>
                <a:close/>
                <a:moveTo>
                  <a:pt x="1016" y="0"/>
                </a:moveTo>
                <a:lnTo>
                  <a:pt x="1064" y="0"/>
                </a:lnTo>
                <a:cubicBezTo>
                  <a:pt x="1069" y="0"/>
                  <a:pt x="1072" y="4"/>
                  <a:pt x="1072" y="8"/>
                </a:cubicBezTo>
                <a:cubicBezTo>
                  <a:pt x="1072" y="13"/>
                  <a:pt x="1069" y="16"/>
                  <a:pt x="1064" y="16"/>
                </a:cubicBezTo>
                <a:lnTo>
                  <a:pt x="1016" y="16"/>
                </a:lnTo>
                <a:cubicBezTo>
                  <a:pt x="1012" y="16"/>
                  <a:pt x="1008" y="13"/>
                  <a:pt x="1008" y="8"/>
                </a:cubicBezTo>
                <a:cubicBezTo>
                  <a:pt x="1008" y="4"/>
                  <a:pt x="1012" y="0"/>
                  <a:pt x="1016" y="0"/>
                </a:cubicBezTo>
                <a:close/>
                <a:moveTo>
                  <a:pt x="1128" y="0"/>
                </a:moveTo>
                <a:lnTo>
                  <a:pt x="1176" y="0"/>
                </a:lnTo>
                <a:cubicBezTo>
                  <a:pt x="1181" y="0"/>
                  <a:pt x="1184" y="4"/>
                  <a:pt x="1184" y="8"/>
                </a:cubicBezTo>
                <a:cubicBezTo>
                  <a:pt x="1184" y="13"/>
                  <a:pt x="1181" y="16"/>
                  <a:pt x="1176" y="16"/>
                </a:cubicBezTo>
                <a:lnTo>
                  <a:pt x="1128" y="16"/>
                </a:lnTo>
                <a:cubicBezTo>
                  <a:pt x="1124" y="16"/>
                  <a:pt x="1120" y="13"/>
                  <a:pt x="1120" y="8"/>
                </a:cubicBezTo>
                <a:cubicBezTo>
                  <a:pt x="1120" y="4"/>
                  <a:pt x="1124" y="0"/>
                  <a:pt x="1128" y="0"/>
                </a:cubicBezTo>
                <a:close/>
                <a:moveTo>
                  <a:pt x="1240" y="0"/>
                </a:moveTo>
                <a:lnTo>
                  <a:pt x="1288" y="0"/>
                </a:lnTo>
                <a:cubicBezTo>
                  <a:pt x="1293" y="0"/>
                  <a:pt x="1296" y="4"/>
                  <a:pt x="1296" y="8"/>
                </a:cubicBezTo>
                <a:cubicBezTo>
                  <a:pt x="1296" y="13"/>
                  <a:pt x="1293" y="16"/>
                  <a:pt x="1288" y="16"/>
                </a:cubicBezTo>
                <a:lnTo>
                  <a:pt x="1240" y="16"/>
                </a:lnTo>
                <a:cubicBezTo>
                  <a:pt x="1236" y="16"/>
                  <a:pt x="1232" y="13"/>
                  <a:pt x="1232" y="8"/>
                </a:cubicBezTo>
                <a:cubicBezTo>
                  <a:pt x="1232" y="4"/>
                  <a:pt x="1236" y="0"/>
                  <a:pt x="1240" y="0"/>
                </a:cubicBezTo>
                <a:close/>
                <a:moveTo>
                  <a:pt x="1352" y="0"/>
                </a:moveTo>
                <a:lnTo>
                  <a:pt x="1400" y="0"/>
                </a:lnTo>
                <a:cubicBezTo>
                  <a:pt x="1405" y="0"/>
                  <a:pt x="1408" y="4"/>
                  <a:pt x="1408" y="8"/>
                </a:cubicBezTo>
                <a:cubicBezTo>
                  <a:pt x="1408" y="13"/>
                  <a:pt x="1405" y="16"/>
                  <a:pt x="1400" y="16"/>
                </a:cubicBezTo>
                <a:lnTo>
                  <a:pt x="1352" y="16"/>
                </a:lnTo>
                <a:cubicBezTo>
                  <a:pt x="1348" y="16"/>
                  <a:pt x="1344" y="13"/>
                  <a:pt x="1344" y="8"/>
                </a:cubicBezTo>
                <a:cubicBezTo>
                  <a:pt x="1344" y="4"/>
                  <a:pt x="1348" y="0"/>
                  <a:pt x="1352" y="0"/>
                </a:cubicBezTo>
                <a:close/>
                <a:moveTo>
                  <a:pt x="1464" y="0"/>
                </a:moveTo>
                <a:lnTo>
                  <a:pt x="1512" y="0"/>
                </a:lnTo>
                <a:cubicBezTo>
                  <a:pt x="1517" y="0"/>
                  <a:pt x="1520" y="4"/>
                  <a:pt x="1520" y="8"/>
                </a:cubicBezTo>
                <a:cubicBezTo>
                  <a:pt x="1520" y="13"/>
                  <a:pt x="1517" y="16"/>
                  <a:pt x="1512" y="16"/>
                </a:cubicBezTo>
                <a:lnTo>
                  <a:pt x="1464" y="16"/>
                </a:lnTo>
                <a:cubicBezTo>
                  <a:pt x="1460" y="16"/>
                  <a:pt x="1456" y="13"/>
                  <a:pt x="1456" y="8"/>
                </a:cubicBezTo>
                <a:cubicBezTo>
                  <a:pt x="1456" y="4"/>
                  <a:pt x="1460" y="0"/>
                  <a:pt x="1464" y="0"/>
                </a:cubicBezTo>
                <a:close/>
                <a:moveTo>
                  <a:pt x="1576" y="0"/>
                </a:moveTo>
                <a:lnTo>
                  <a:pt x="1624" y="0"/>
                </a:lnTo>
                <a:cubicBezTo>
                  <a:pt x="1629" y="0"/>
                  <a:pt x="1632" y="4"/>
                  <a:pt x="1632" y="8"/>
                </a:cubicBezTo>
                <a:cubicBezTo>
                  <a:pt x="1632" y="13"/>
                  <a:pt x="1629" y="16"/>
                  <a:pt x="1624" y="16"/>
                </a:cubicBezTo>
                <a:lnTo>
                  <a:pt x="1576" y="16"/>
                </a:lnTo>
                <a:cubicBezTo>
                  <a:pt x="1572" y="16"/>
                  <a:pt x="1568" y="13"/>
                  <a:pt x="1568" y="8"/>
                </a:cubicBezTo>
                <a:cubicBezTo>
                  <a:pt x="1568" y="4"/>
                  <a:pt x="1572" y="0"/>
                  <a:pt x="1576" y="0"/>
                </a:cubicBezTo>
                <a:close/>
                <a:moveTo>
                  <a:pt x="1688" y="0"/>
                </a:moveTo>
                <a:lnTo>
                  <a:pt x="1736" y="0"/>
                </a:lnTo>
                <a:cubicBezTo>
                  <a:pt x="1741" y="0"/>
                  <a:pt x="1744" y="4"/>
                  <a:pt x="1744" y="8"/>
                </a:cubicBezTo>
                <a:cubicBezTo>
                  <a:pt x="1744" y="13"/>
                  <a:pt x="1741" y="16"/>
                  <a:pt x="1736" y="16"/>
                </a:cubicBezTo>
                <a:lnTo>
                  <a:pt x="1688" y="16"/>
                </a:lnTo>
                <a:cubicBezTo>
                  <a:pt x="1684" y="16"/>
                  <a:pt x="1680" y="13"/>
                  <a:pt x="1680" y="8"/>
                </a:cubicBezTo>
                <a:cubicBezTo>
                  <a:pt x="1680" y="4"/>
                  <a:pt x="1684" y="0"/>
                  <a:pt x="1688" y="0"/>
                </a:cubicBezTo>
                <a:close/>
                <a:moveTo>
                  <a:pt x="1800" y="0"/>
                </a:moveTo>
                <a:lnTo>
                  <a:pt x="1848" y="0"/>
                </a:lnTo>
                <a:cubicBezTo>
                  <a:pt x="1853" y="0"/>
                  <a:pt x="1856" y="4"/>
                  <a:pt x="1856" y="8"/>
                </a:cubicBezTo>
                <a:cubicBezTo>
                  <a:pt x="1856" y="13"/>
                  <a:pt x="1853" y="16"/>
                  <a:pt x="1848" y="16"/>
                </a:cubicBezTo>
                <a:lnTo>
                  <a:pt x="1800" y="16"/>
                </a:lnTo>
                <a:cubicBezTo>
                  <a:pt x="1796" y="16"/>
                  <a:pt x="1792" y="13"/>
                  <a:pt x="1792" y="8"/>
                </a:cubicBezTo>
                <a:cubicBezTo>
                  <a:pt x="1792" y="4"/>
                  <a:pt x="1796" y="0"/>
                  <a:pt x="1800" y="0"/>
                </a:cubicBezTo>
                <a:close/>
                <a:moveTo>
                  <a:pt x="1912" y="0"/>
                </a:moveTo>
                <a:lnTo>
                  <a:pt x="1960" y="0"/>
                </a:lnTo>
                <a:cubicBezTo>
                  <a:pt x="1965" y="0"/>
                  <a:pt x="1968" y="4"/>
                  <a:pt x="1968" y="8"/>
                </a:cubicBezTo>
                <a:cubicBezTo>
                  <a:pt x="1968" y="13"/>
                  <a:pt x="1965" y="16"/>
                  <a:pt x="1960" y="16"/>
                </a:cubicBezTo>
                <a:lnTo>
                  <a:pt x="1912" y="16"/>
                </a:lnTo>
                <a:cubicBezTo>
                  <a:pt x="1908" y="16"/>
                  <a:pt x="1904" y="13"/>
                  <a:pt x="1904" y="8"/>
                </a:cubicBezTo>
                <a:cubicBezTo>
                  <a:pt x="1904" y="4"/>
                  <a:pt x="1908" y="0"/>
                  <a:pt x="1912" y="0"/>
                </a:cubicBezTo>
                <a:close/>
                <a:moveTo>
                  <a:pt x="2024" y="0"/>
                </a:moveTo>
                <a:lnTo>
                  <a:pt x="2072" y="0"/>
                </a:lnTo>
                <a:cubicBezTo>
                  <a:pt x="2077" y="0"/>
                  <a:pt x="2080" y="4"/>
                  <a:pt x="2080" y="8"/>
                </a:cubicBezTo>
                <a:cubicBezTo>
                  <a:pt x="2080" y="13"/>
                  <a:pt x="2077" y="16"/>
                  <a:pt x="2072" y="16"/>
                </a:cubicBezTo>
                <a:lnTo>
                  <a:pt x="2024" y="16"/>
                </a:lnTo>
                <a:cubicBezTo>
                  <a:pt x="2020" y="16"/>
                  <a:pt x="2016" y="13"/>
                  <a:pt x="2016" y="8"/>
                </a:cubicBezTo>
                <a:cubicBezTo>
                  <a:pt x="2016" y="4"/>
                  <a:pt x="2020" y="0"/>
                  <a:pt x="2024" y="0"/>
                </a:cubicBezTo>
                <a:close/>
                <a:moveTo>
                  <a:pt x="2136" y="0"/>
                </a:moveTo>
                <a:lnTo>
                  <a:pt x="2184" y="0"/>
                </a:lnTo>
                <a:cubicBezTo>
                  <a:pt x="2189" y="0"/>
                  <a:pt x="2192" y="4"/>
                  <a:pt x="2192" y="8"/>
                </a:cubicBezTo>
                <a:cubicBezTo>
                  <a:pt x="2192" y="13"/>
                  <a:pt x="2189" y="16"/>
                  <a:pt x="2184" y="16"/>
                </a:cubicBezTo>
                <a:lnTo>
                  <a:pt x="2136" y="16"/>
                </a:lnTo>
                <a:cubicBezTo>
                  <a:pt x="2132" y="16"/>
                  <a:pt x="2128" y="13"/>
                  <a:pt x="2128" y="8"/>
                </a:cubicBezTo>
                <a:cubicBezTo>
                  <a:pt x="2128" y="4"/>
                  <a:pt x="2132" y="0"/>
                  <a:pt x="2136" y="0"/>
                </a:cubicBezTo>
                <a:close/>
                <a:moveTo>
                  <a:pt x="2248" y="0"/>
                </a:moveTo>
                <a:lnTo>
                  <a:pt x="2296" y="0"/>
                </a:lnTo>
                <a:cubicBezTo>
                  <a:pt x="2301" y="0"/>
                  <a:pt x="2304" y="4"/>
                  <a:pt x="2304" y="8"/>
                </a:cubicBezTo>
                <a:cubicBezTo>
                  <a:pt x="2304" y="13"/>
                  <a:pt x="2301" y="16"/>
                  <a:pt x="2296" y="16"/>
                </a:cubicBezTo>
                <a:lnTo>
                  <a:pt x="2248" y="16"/>
                </a:lnTo>
                <a:cubicBezTo>
                  <a:pt x="2244" y="16"/>
                  <a:pt x="2240" y="13"/>
                  <a:pt x="2240" y="8"/>
                </a:cubicBezTo>
                <a:cubicBezTo>
                  <a:pt x="2240" y="4"/>
                  <a:pt x="2244" y="0"/>
                  <a:pt x="2248" y="0"/>
                </a:cubicBezTo>
                <a:close/>
                <a:moveTo>
                  <a:pt x="2360" y="0"/>
                </a:moveTo>
                <a:lnTo>
                  <a:pt x="2408" y="0"/>
                </a:lnTo>
                <a:cubicBezTo>
                  <a:pt x="2413" y="0"/>
                  <a:pt x="2416" y="4"/>
                  <a:pt x="2416" y="8"/>
                </a:cubicBezTo>
                <a:cubicBezTo>
                  <a:pt x="2416" y="13"/>
                  <a:pt x="2413" y="16"/>
                  <a:pt x="2408" y="16"/>
                </a:cubicBezTo>
                <a:lnTo>
                  <a:pt x="2360" y="16"/>
                </a:lnTo>
                <a:cubicBezTo>
                  <a:pt x="2356" y="16"/>
                  <a:pt x="2352" y="13"/>
                  <a:pt x="2352" y="8"/>
                </a:cubicBezTo>
                <a:cubicBezTo>
                  <a:pt x="2352" y="4"/>
                  <a:pt x="2356" y="0"/>
                  <a:pt x="2360" y="0"/>
                </a:cubicBezTo>
                <a:close/>
                <a:moveTo>
                  <a:pt x="2472" y="0"/>
                </a:moveTo>
                <a:lnTo>
                  <a:pt x="2520" y="0"/>
                </a:lnTo>
                <a:cubicBezTo>
                  <a:pt x="2525" y="0"/>
                  <a:pt x="2528" y="4"/>
                  <a:pt x="2528" y="8"/>
                </a:cubicBezTo>
                <a:cubicBezTo>
                  <a:pt x="2528" y="13"/>
                  <a:pt x="2525" y="16"/>
                  <a:pt x="2520" y="16"/>
                </a:cubicBezTo>
                <a:lnTo>
                  <a:pt x="2472" y="16"/>
                </a:lnTo>
                <a:cubicBezTo>
                  <a:pt x="2468" y="16"/>
                  <a:pt x="2464" y="13"/>
                  <a:pt x="2464" y="8"/>
                </a:cubicBezTo>
                <a:cubicBezTo>
                  <a:pt x="2464" y="4"/>
                  <a:pt x="2468" y="0"/>
                  <a:pt x="2472" y="0"/>
                </a:cubicBezTo>
                <a:close/>
                <a:moveTo>
                  <a:pt x="2584" y="0"/>
                </a:moveTo>
                <a:lnTo>
                  <a:pt x="2632" y="0"/>
                </a:lnTo>
                <a:cubicBezTo>
                  <a:pt x="2637" y="0"/>
                  <a:pt x="2640" y="4"/>
                  <a:pt x="2640" y="8"/>
                </a:cubicBezTo>
                <a:cubicBezTo>
                  <a:pt x="2640" y="13"/>
                  <a:pt x="2637" y="16"/>
                  <a:pt x="2632" y="16"/>
                </a:cubicBezTo>
                <a:lnTo>
                  <a:pt x="2584" y="16"/>
                </a:lnTo>
                <a:cubicBezTo>
                  <a:pt x="2580" y="16"/>
                  <a:pt x="2576" y="13"/>
                  <a:pt x="2576" y="8"/>
                </a:cubicBezTo>
                <a:cubicBezTo>
                  <a:pt x="2576" y="4"/>
                  <a:pt x="2580" y="0"/>
                  <a:pt x="2584" y="0"/>
                </a:cubicBezTo>
                <a:close/>
                <a:moveTo>
                  <a:pt x="2696" y="0"/>
                </a:moveTo>
                <a:lnTo>
                  <a:pt x="2744" y="0"/>
                </a:lnTo>
                <a:cubicBezTo>
                  <a:pt x="2749" y="0"/>
                  <a:pt x="2752" y="4"/>
                  <a:pt x="2752" y="8"/>
                </a:cubicBezTo>
                <a:cubicBezTo>
                  <a:pt x="2752" y="13"/>
                  <a:pt x="2749" y="16"/>
                  <a:pt x="2744" y="16"/>
                </a:cubicBezTo>
                <a:lnTo>
                  <a:pt x="2696" y="16"/>
                </a:lnTo>
                <a:cubicBezTo>
                  <a:pt x="2692" y="16"/>
                  <a:pt x="2688" y="13"/>
                  <a:pt x="2688" y="8"/>
                </a:cubicBezTo>
                <a:cubicBezTo>
                  <a:pt x="2688" y="4"/>
                  <a:pt x="2692" y="0"/>
                  <a:pt x="2696" y="0"/>
                </a:cubicBezTo>
                <a:close/>
                <a:moveTo>
                  <a:pt x="2808" y="0"/>
                </a:moveTo>
                <a:lnTo>
                  <a:pt x="2856" y="0"/>
                </a:lnTo>
                <a:cubicBezTo>
                  <a:pt x="2861" y="0"/>
                  <a:pt x="2864" y="4"/>
                  <a:pt x="2864" y="8"/>
                </a:cubicBezTo>
                <a:cubicBezTo>
                  <a:pt x="2864" y="13"/>
                  <a:pt x="2861" y="16"/>
                  <a:pt x="2856" y="16"/>
                </a:cubicBezTo>
                <a:lnTo>
                  <a:pt x="2808" y="16"/>
                </a:lnTo>
                <a:cubicBezTo>
                  <a:pt x="2804" y="16"/>
                  <a:pt x="2800" y="13"/>
                  <a:pt x="2800" y="8"/>
                </a:cubicBezTo>
                <a:cubicBezTo>
                  <a:pt x="2800" y="4"/>
                  <a:pt x="2804" y="0"/>
                  <a:pt x="2808" y="0"/>
                </a:cubicBezTo>
                <a:close/>
                <a:moveTo>
                  <a:pt x="2920" y="0"/>
                </a:moveTo>
                <a:lnTo>
                  <a:pt x="2968" y="0"/>
                </a:lnTo>
                <a:cubicBezTo>
                  <a:pt x="2973" y="0"/>
                  <a:pt x="2976" y="4"/>
                  <a:pt x="2976" y="8"/>
                </a:cubicBezTo>
                <a:cubicBezTo>
                  <a:pt x="2976" y="13"/>
                  <a:pt x="2973" y="16"/>
                  <a:pt x="2968" y="16"/>
                </a:cubicBezTo>
                <a:lnTo>
                  <a:pt x="2920" y="16"/>
                </a:lnTo>
                <a:cubicBezTo>
                  <a:pt x="2916" y="16"/>
                  <a:pt x="2912" y="13"/>
                  <a:pt x="2912" y="8"/>
                </a:cubicBezTo>
                <a:cubicBezTo>
                  <a:pt x="2912" y="4"/>
                  <a:pt x="2916" y="0"/>
                  <a:pt x="2920" y="0"/>
                </a:cubicBezTo>
                <a:close/>
                <a:moveTo>
                  <a:pt x="3032" y="0"/>
                </a:moveTo>
                <a:lnTo>
                  <a:pt x="3080" y="0"/>
                </a:lnTo>
                <a:cubicBezTo>
                  <a:pt x="3085" y="0"/>
                  <a:pt x="3088" y="4"/>
                  <a:pt x="3088" y="8"/>
                </a:cubicBezTo>
                <a:cubicBezTo>
                  <a:pt x="3088" y="13"/>
                  <a:pt x="3085" y="16"/>
                  <a:pt x="3080" y="16"/>
                </a:cubicBezTo>
                <a:lnTo>
                  <a:pt x="3032" y="16"/>
                </a:lnTo>
                <a:cubicBezTo>
                  <a:pt x="3028" y="16"/>
                  <a:pt x="3024" y="13"/>
                  <a:pt x="3024" y="8"/>
                </a:cubicBezTo>
                <a:cubicBezTo>
                  <a:pt x="3024" y="4"/>
                  <a:pt x="3028" y="0"/>
                  <a:pt x="3032" y="0"/>
                </a:cubicBezTo>
                <a:close/>
                <a:moveTo>
                  <a:pt x="3144" y="0"/>
                </a:moveTo>
                <a:lnTo>
                  <a:pt x="3192" y="0"/>
                </a:lnTo>
                <a:cubicBezTo>
                  <a:pt x="3197" y="0"/>
                  <a:pt x="3200" y="4"/>
                  <a:pt x="3200" y="8"/>
                </a:cubicBezTo>
                <a:cubicBezTo>
                  <a:pt x="3200" y="13"/>
                  <a:pt x="3197" y="16"/>
                  <a:pt x="3192" y="16"/>
                </a:cubicBezTo>
                <a:lnTo>
                  <a:pt x="3144" y="16"/>
                </a:lnTo>
                <a:cubicBezTo>
                  <a:pt x="3140" y="16"/>
                  <a:pt x="3136" y="13"/>
                  <a:pt x="3136" y="8"/>
                </a:cubicBezTo>
                <a:cubicBezTo>
                  <a:pt x="3136" y="4"/>
                  <a:pt x="3140" y="0"/>
                  <a:pt x="3144" y="0"/>
                </a:cubicBezTo>
                <a:close/>
                <a:moveTo>
                  <a:pt x="3256" y="0"/>
                </a:moveTo>
                <a:lnTo>
                  <a:pt x="3304" y="0"/>
                </a:lnTo>
                <a:cubicBezTo>
                  <a:pt x="3309" y="0"/>
                  <a:pt x="3312" y="4"/>
                  <a:pt x="3312" y="8"/>
                </a:cubicBezTo>
                <a:cubicBezTo>
                  <a:pt x="3312" y="13"/>
                  <a:pt x="3309" y="16"/>
                  <a:pt x="3304" y="16"/>
                </a:cubicBezTo>
                <a:lnTo>
                  <a:pt x="3256" y="16"/>
                </a:lnTo>
                <a:cubicBezTo>
                  <a:pt x="3252" y="16"/>
                  <a:pt x="3248" y="13"/>
                  <a:pt x="3248" y="8"/>
                </a:cubicBezTo>
                <a:cubicBezTo>
                  <a:pt x="3248" y="4"/>
                  <a:pt x="3252" y="0"/>
                  <a:pt x="3256" y="0"/>
                </a:cubicBezTo>
                <a:close/>
                <a:moveTo>
                  <a:pt x="3368" y="0"/>
                </a:moveTo>
                <a:lnTo>
                  <a:pt x="3416" y="0"/>
                </a:lnTo>
                <a:cubicBezTo>
                  <a:pt x="3421" y="0"/>
                  <a:pt x="3424" y="4"/>
                  <a:pt x="3424" y="8"/>
                </a:cubicBezTo>
                <a:cubicBezTo>
                  <a:pt x="3424" y="13"/>
                  <a:pt x="3421" y="16"/>
                  <a:pt x="3416" y="16"/>
                </a:cubicBezTo>
                <a:lnTo>
                  <a:pt x="3368" y="16"/>
                </a:lnTo>
                <a:cubicBezTo>
                  <a:pt x="3364" y="16"/>
                  <a:pt x="3360" y="13"/>
                  <a:pt x="3360" y="8"/>
                </a:cubicBezTo>
                <a:cubicBezTo>
                  <a:pt x="3360" y="4"/>
                  <a:pt x="3364" y="0"/>
                  <a:pt x="3368" y="0"/>
                </a:cubicBezTo>
                <a:close/>
                <a:moveTo>
                  <a:pt x="3480" y="0"/>
                </a:moveTo>
                <a:lnTo>
                  <a:pt x="3528" y="0"/>
                </a:lnTo>
                <a:cubicBezTo>
                  <a:pt x="3533" y="0"/>
                  <a:pt x="3536" y="4"/>
                  <a:pt x="3536" y="8"/>
                </a:cubicBezTo>
                <a:cubicBezTo>
                  <a:pt x="3536" y="13"/>
                  <a:pt x="3533" y="16"/>
                  <a:pt x="3528" y="16"/>
                </a:cubicBezTo>
                <a:lnTo>
                  <a:pt x="3480" y="16"/>
                </a:lnTo>
                <a:cubicBezTo>
                  <a:pt x="3476" y="16"/>
                  <a:pt x="3472" y="13"/>
                  <a:pt x="3472" y="8"/>
                </a:cubicBezTo>
                <a:cubicBezTo>
                  <a:pt x="3472" y="4"/>
                  <a:pt x="3476" y="0"/>
                  <a:pt x="3480" y="0"/>
                </a:cubicBezTo>
                <a:close/>
                <a:moveTo>
                  <a:pt x="3592" y="0"/>
                </a:moveTo>
                <a:lnTo>
                  <a:pt x="3640" y="0"/>
                </a:lnTo>
                <a:cubicBezTo>
                  <a:pt x="3645" y="0"/>
                  <a:pt x="3648" y="4"/>
                  <a:pt x="3648" y="8"/>
                </a:cubicBezTo>
                <a:cubicBezTo>
                  <a:pt x="3648" y="13"/>
                  <a:pt x="3645" y="16"/>
                  <a:pt x="3640" y="16"/>
                </a:cubicBezTo>
                <a:lnTo>
                  <a:pt x="3592" y="16"/>
                </a:lnTo>
                <a:cubicBezTo>
                  <a:pt x="3588" y="16"/>
                  <a:pt x="3584" y="13"/>
                  <a:pt x="3584" y="8"/>
                </a:cubicBezTo>
                <a:cubicBezTo>
                  <a:pt x="3584" y="4"/>
                  <a:pt x="3588" y="0"/>
                  <a:pt x="3592" y="0"/>
                </a:cubicBezTo>
                <a:close/>
                <a:moveTo>
                  <a:pt x="3704" y="0"/>
                </a:moveTo>
                <a:lnTo>
                  <a:pt x="3752" y="0"/>
                </a:lnTo>
                <a:cubicBezTo>
                  <a:pt x="3757" y="0"/>
                  <a:pt x="3760" y="4"/>
                  <a:pt x="3760" y="8"/>
                </a:cubicBezTo>
                <a:cubicBezTo>
                  <a:pt x="3760" y="13"/>
                  <a:pt x="3757" y="16"/>
                  <a:pt x="3752" y="16"/>
                </a:cubicBezTo>
                <a:lnTo>
                  <a:pt x="3704" y="16"/>
                </a:lnTo>
                <a:cubicBezTo>
                  <a:pt x="3700" y="16"/>
                  <a:pt x="3696" y="13"/>
                  <a:pt x="3696" y="8"/>
                </a:cubicBezTo>
                <a:cubicBezTo>
                  <a:pt x="3696" y="4"/>
                  <a:pt x="3700" y="0"/>
                  <a:pt x="3704" y="0"/>
                </a:cubicBezTo>
                <a:close/>
                <a:moveTo>
                  <a:pt x="3816" y="0"/>
                </a:moveTo>
                <a:lnTo>
                  <a:pt x="3864" y="0"/>
                </a:lnTo>
                <a:cubicBezTo>
                  <a:pt x="3869" y="0"/>
                  <a:pt x="3872" y="4"/>
                  <a:pt x="3872" y="8"/>
                </a:cubicBezTo>
                <a:cubicBezTo>
                  <a:pt x="3872" y="13"/>
                  <a:pt x="3869" y="16"/>
                  <a:pt x="3864" y="16"/>
                </a:cubicBezTo>
                <a:lnTo>
                  <a:pt x="3816" y="16"/>
                </a:lnTo>
                <a:cubicBezTo>
                  <a:pt x="3812" y="16"/>
                  <a:pt x="3808" y="13"/>
                  <a:pt x="3808" y="8"/>
                </a:cubicBezTo>
                <a:cubicBezTo>
                  <a:pt x="3808" y="4"/>
                  <a:pt x="3812" y="0"/>
                  <a:pt x="3816" y="0"/>
                </a:cubicBezTo>
                <a:close/>
                <a:moveTo>
                  <a:pt x="3928" y="0"/>
                </a:moveTo>
                <a:lnTo>
                  <a:pt x="3976" y="0"/>
                </a:lnTo>
                <a:cubicBezTo>
                  <a:pt x="3981" y="0"/>
                  <a:pt x="3984" y="4"/>
                  <a:pt x="3984" y="8"/>
                </a:cubicBezTo>
                <a:cubicBezTo>
                  <a:pt x="3984" y="13"/>
                  <a:pt x="3981" y="16"/>
                  <a:pt x="3976" y="16"/>
                </a:cubicBezTo>
                <a:lnTo>
                  <a:pt x="3928" y="16"/>
                </a:lnTo>
                <a:cubicBezTo>
                  <a:pt x="3924" y="16"/>
                  <a:pt x="3920" y="13"/>
                  <a:pt x="3920" y="8"/>
                </a:cubicBezTo>
                <a:cubicBezTo>
                  <a:pt x="3920" y="4"/>
                  <a:pt x="3924" y="0"/>
                  <a:pt x="3928" y="0"/>
                </a:cubicBezTo>
                <a:close/>
                <a:moveTo>
                  <a:pt x="4040" y="0"/>
                </a:moveTo>
                <a:lnTo>
                  <a:pt x="4088" y="0"/>
                </a:lnTo>
                <a:cubicBezTo>
                  <a:pt x="4093" y="0"/>
                  <a:pt x="4096" y="4"/>
                  <a:pt x="4096" y="8"/>
                </a:cubicBezTo>
                <a:cubicBezTo>
                  <a:pt x="4096" y="13"/>
                  <a:pt x="4093" y="16"/>
                  <a:pt x="4088" y="16"/>
                </a:cubicBezTo>
                <a:lnTo>
                  <a:pt x="4040" y="16"/>
                </a:lnTo>
                <a:cubicBezTo>
                  <a:pt x="4036" y="16"/>
                  <a:pt x="4032" y="13"/>
                  <a:pt x="4032" y="8"/>
                </a:cubicBezTo>
                <a:cubicBezTo>
                  <a:pt x="4032" y="4"/>
                  <a:pt x="4036" y="0"/>
                  <a:pt x="4040" y="0"/>
                </a:cubicBezTo>
                <a:close/>
                <a:moveTo>
                  <a:pt x="4152" y="0"/>
                </a:moveTo>
                <a:lnTo>
                  <a:pt x="4200" y="0"/>
                </a:lnTo>
                <a:cubicBezTo>
                  <a:pt x="4205" y="0"/>
                  <a:pt x="4208" y="4"/>
                  <a:pt x="4208" y="8"/>
                </a:cubicBezTo>
                <a:cubicBezTo>
                  <a:pt x="4208" y="13"/>
                  <a:pt x="4205" y="16"/>
                  <a:pt x="4200" y="16"/>
                </a:cubicBezTo>
                <a:lnTo>
                  <a:pt x="4152" y="16"/>
                </a:lnTo>
                <a:cubicBezTo>
                  <a:pt x="4148" y="16"/>
                  <a:pt x="4144" y="13"/>
                  <a:pt x="4144" y="8"/>
                </a:cubicBezTo>
                <a:cubicBezTo>
                  <a:pt x="4144" y="4"/>
                  <a:pt x="4148" y="0"/>
                  <a:pt x="4152" y="0"/>
                </a:cubicBezTo>
                <a:close/>
                <a:moveTo>
                  <a:pt x="4264" y="0"/>
                </a:moveTo>
                <a:lnTo>
                  <a:pt x="4312" y="0"/>
                </a:lnTo>
                <a:cubicBezTo>
                  <a:pt x="4317" y="0"/>
                  <a:pt x="4320" y="4"/>
                  <a:pt x="4320" y="8"/>
                </a:cubicBezTo>
                <a:cubicBezTo>
                  <a:pt x="4320" y="13"/>
                  <a:pt x="4317" y="16"/>
                  <a:pt x="4312" y="16"/>
                </a:cubicBezTo>
                <a:lnTo>
                  <a:pt x="4264" y="16"/>
                </a:lnTo>
                <a:cubicBezTo>
                  <a:pt x="4260" y="16"/>
                  <a:pt x="4256" y="13"/>
                  <a:pt x="4256" y="8"/>
                </a:cubicBezTo>
                <a:cubicBezTo>
                  <a:pt x="4256" y="4"/>
                  <a:pt x="4260" y="0"/>
                  <a:pt x="4264" y="0"/>
                </a:cubicBezTo>
                <a:close/>
                <a:moveTo>
                  <a:pt x="4376" y="0"/>
                </a:moveTo>
                <a:lnTo>
                  <a:pt x="4424" y="0"/>
                </a:lnTo>
                <a:cubicBezTo>
                  <a:pt x="4429" y="0"/>
                  <a:pt x="4432" y="4"/>
                  <a:pt x="4432" y="8"/>
                </a:cubicBezTo>
                <a:cubicBezTo>
                  <a:pt x="4432" y="13"/>
                  <a:pt x="4429" y="16"/>
                  <a:pt x="4424" y="16"/>
                </a:cubicBezTo>
                <a:lnTo>
                  <a:pt x="4376" y="16"/>
                </a:lnTo>
                <a:cubicBezTo>
                  <a:pt x="4372" y="16"/>
                  <a:pt x="4368" y="13"/>
                  <a:pt x="4368" y="8"/>
                </a:cubicBezTo>
                <a:cubicBezTo>
                  <a:pt x="4368" y="4"/>
                  <a:pt x="4372" y="0"/>
                  <a:pt x="4376" y="0"/>
                </a:cubicBezTo>
                <a:close/>
                <a:moveTo>
                  <a:pt x="4488" y="0"/>
                </a:moveTo>
                <a:lnTo>
                  <a:pt x="4536" y="0"/>
                </a:lnTo>
                <a:cubicBezTo>
                  <a:pt x="4541" y="0"/>
                  <a:pt x="4544" y="4"/>
                  <a:pt x="4544" y="8"/>
                </a:cubicBezTo>
                <a:cubicBezTo>
                  <a:pt x="4544" y="13"/>
                  <a:pt x="4541" y="16"/>
                  <a:pt x="4536" y="16"/>
                </a:cubicBezTo>
                <a:lnTo>
                  <a:pt x="4488" y="16"/>
                </a:lnTo>
                <a:cubicBezTo>
                  <a:pt x="4484" y="16"/>
                  <a:pt x="4480" y="13"/>
                  <a:pt x="4480" y="8"/>
                </a:cubicBezTo>
                <a:cubicBezTo>
                  <a:pt x="4480" y="4"/>
                  <a:pt x="4484" y="0"/>
                  <a:pt x="4488" y="0"/>
                </a:cubicBezTo>
                <a:close/>
                <a:moveTo>
                  <a:pt x="4600" y="0"/>
                </a:moveTo>
                <a:lnTo>
                  <a:pt x="4648" y="0"/>
                </a:lnTo>
                <a:cubicBezTo>
                  <a:pt x="4653" y="0"/>
                  <a:pt x="4656" y="4"/>
                  <a:pt x="4656" y="8"/>
                </a:cubicBezTo>
                <a:cubicBezTo>
                  <a:pt x="4656" y="13"/>
                  <a:pt x="4653" y="16"/>
                  <a:pt x="4648" y="16"/>
                </a:cubicBezTo>
                <a:lnTo>
                  <a:pt x="4600" y="16"/>
                </a:lnTo>
                <a:cubicBezTo>
                  <a:pt x="4596" y="16"/>
                  <a:pt x="4592" y="13"/>
                  <a:pt x="4592" y="8"/>
                </a:cubicBezTo>
                <a:cubicBezTo>
                  <a:pt x="4592" y="4"/>
                  <a:pt x="4596" y="0"/>
                  <a:pt x="4600" y="0"/>
                </a:cubicBezTo>
                <a:close/>
                <a:moveTo>
                  <a:pt x="4712" y="0"/>
                </a:moveTo>
                <a:lnTo>
                  <a:pt x="4760" y="0"/>
                </a:lnTo>
                <a:cubicBezTo>
                  <a:pt x="4765" y="0"/>
                  <a:pt x="4768" y="4"/>
                  <a:pt x="4768" y="8"/>
                </a:cubicBezTo>
                <a:cubicBezTo>
                  <a:pt x="4768" y="13"/>
                  <a:pt x="4765" y="16"/>
                  <a:pt x="4760" y="16"/>
                </a:cubicBezTo>
                <a:lnTo>
                  <a:pt x="4712" y="16"/>
                </a:lnTo>
                <a:cubicBezTo>
                  <a:pt x="4708" y="16"/>
                  <a:pt x="4704" y="13"/>
                  <a:pt x="4704" y="8"/>
                </a:cubicBezTo>
                <a:cubicBezTo>
                  <a:pt x="4704" y="4"/>
                  <a:pt x="4708" y="0"/>
                  <a:pt x="4712" y="0"/>
                </a:cubicBezTo>
                <a:close/>
                <a:moveTo>
                  <a:pt x="4824" y="0"/>
                </a:moveTo>
                <a:lnTo>
                  <a:pt x="4872" y="0"/>
                </a:lnTo>
                <a:cubicBezTo>
                  <a:pt x="4877" y="0"/>
                  <a:pt x="4880" y="4"/>
                  <a:pt x="4880" y="8"/>
                </a:cubicBezTo>
                <a:cubicBezTo>
                  <a:pt x="4880" y="13"/>
                  <a:pt x="4877" y="16"/>
                  <a:pt x="4872" y="16"/>
                </a:cubicBezTo>
                <a:lnTo>
                  <a:pt x="4824" y="16"/>
                </a:lnTo>
                <a:cubicBezTo>
                  <a:pt x="4820" y="16"/>
                  <a:pt x="4816" y="13"/>
                  <a:pt x="4816" y="8"/>
                </a:cubicBezTo>
                <a:cubicBezTo>
                  <a:pt x="4816" y="4"/>
                  <a:pt x="4820" y="0"/>
                  <a:pt x="4824" y="0"/>
                </a:cubicBezTo>
                <a:close/>
                <a:moveTo>
                  <a:pt x="4936" y="0"/>
                </a:moveTo>
                <a:lnTo>
                  <a:pt x="4984" y="0"/>
                </a:lnTo>
                <a:cubicBezTo>
                  <a:pt x="4989" y="0"/>
                  <a:pt x="4992" y="4"/>
                  <a:pt x="4992" y="8"/>
                </a:cubicBezTo>
                <a:cubicBezTo>
                  <a:pt x="4992" y="13"/>
                  <a:pt x="4989" y="16"/>
                  <a:pt x="4984" y="16"/>
                </a:cubicBezTo>
                <a:lnTo>
                  <a:pt x="4936" y="16"/>
                </a:lnTo>
                <a:cubicBezTo>
                  <a:pt x="4932" y="16"/>
                  <a:pt x="4928" y="13"/>
                  <a:pt x="4928" y="8"/>
                </a:cubicBezTo>
                <a:cubicBezTo>
                  <a:pt x="4928" y="4"/>
                  <a:pt x="4932" y="0"/>
                  <a:pt x="4936" y="0"/>
                </a:cubicBezTo>
                <a:close/>
                <a:moveTo>
                  <a:pt x="5048" y="0"/>
                </a:moveTo>
                <a:lnTo>
                  <a:pt x="5096" y="0"/>
                </a:lnTo>
                <a:cubicBezTo>
                  <a:pt x="5101" y="0"/>
                  <a:pt x="5104" y="4"/>
                  <a:pt x="5104" y="8"/>
                </a:cubicBezTo>
                <a:cubicBezTo>
                  <a:pt x="5104" y="13"/>
                  <a:pt x="5101" y="16"/>
                  <a:pt x="5096" y="16"/>
                </a:cubicBezTo>
                <a:lnTo>
                  <a:pt x="5048" y="16"/>
                </a:lnTo>
                <a:cubicBezTo>
                  <a:pt x="5044" y="16"/>
                  <a:pt x="5040" y="13"/>
                  <a:pt x="5040" y="8"/>
                </a:cubicBezTo>
                <a:cubicBezTo>
                  <a:pt x="5040" y="4"/>
                  <a:pt x="5044" y="0"/>
                  <a:pt x="5048" y="0"/>
                </a:cubicBezTo>
                <a:close/>
                <a:moveTo>
                  <a:pt x="5160" y="0"/>
                </a:moveTo>
                <a:lnTo>
                  <a:pt x="5208" y="0"/>
                </a:lnTo>
                <a:cubicBezTo>
                  <a:pt x="5213" y="0"/>
                  <a:pt x="5216" y="4"/>
                  <a:pt x="5216" y="8"/>
                </a:cubicBezTo>
                <a:cubicBezTo>
                  <a:pt x="5216" y="13"/>
                  <a:pt x="5213" y="16"/>
                  <a:pt x="5208" y="16"/>
                </a:cubicBezTo>
                <a:lnTo>
                  <a:pt x="5160" y="16"/>
                </a:lnTo>
                <a:cubicBezTo>
                  <a:pt x="5156" y="16"/>
                  <a:pt x="5152" y="13"/>
                  <a:pt x="5152" y="8"/>
                </a:cubicBezTo>
                <a:cubicBezTo>
                  <a:pt x="5152" y="4"/>
                  <a:pt x="5156" y="0"/>
                  <a:pt x="5160" y="0"/>
                </a:cubicBezTo>
                <a:close/>
                <a:moveTo>
                  <a:pt x="5272" y="0"/>
                </a:moveTo>
                <a:lnTo>
                  <a:pt x="5320" y="0"/>
                </a:lnTo>
                <a:cubicBezTo>
                  <a:pt x="5325" y="0"/>
                  <a:pt x="5328" y="4"/>
                  <a:pt x="5328" y="8"/>
                </a:cubicBezTo>
                <a:cubicBezTo>
                  <a:pt x="5328" y="13"/>
                  <a:pt x="5325" y="16"/>
                  <a:pt x="5320" y="16"/>
                </a:cubicBezTo>
                <a:lnTo>
                  <a:pt x="5272" y="16"/>
                </a:lnTo>
                <a:cubicBezTo>
                  <a:pt x="5268" y="16"/>
                  <a:pt x="5264" y="13"/>
                  <a:pt x="5264" y="8"/>
                </a:cubicBezTo>
                <a:cubicBezTo>
                  <a:pt x="5264" y="4"/>
                  <a:pt x="5268" y="0"/>
                  <a:pt x="5272" y="0"/>
                </a:cubicBezTo>
                <a:close/>
                <a:moveTo>
                  <a:pt x="5384" y="0"/>
                </a:moveTo>
                <a:lnTo>
                  <a:pt x="5432" y="0"/>
                </a:lnTo>
                <a:cubicBezTo>
                  <a:pt x="5437" y="0"/>
                  <a:pt x="5440" y="4"/>
                  <a:pt x="5440" y="8"/>
                </a:cubicBezTo>
                <a:cubicBezTo>
                  <a:pt x="5440" y="13"/>
                  <a:pt x="5437" y="16"/>
                  <a:pt x="5432" y="16"/>
                </a:cubicBezTo>
                <a:lnTo>
                  <a:pt x="5384" y="16"/>
                </a:lnTo>
                <a:cubicBezTo>
                  <a:pt x="5380" y="16"/>
                  <a:pt x="5376" y="13"/>
                  <a:pt x="5376" y="8"/>
                </a:cubicBezTo>
                <a:cubicBezTo>
                  <a:pt x="5376" y="4"/>
                  <a:pt x="5380" y="0"/>
                  <a:pt x="5384" y="0"/>
                </a:cubicBezTo>
                <a:close/>
                <a:moveTo>
                  <a:pt x="5496" y="0"/>
                </a:moveTo>
                <a:lnTo>
                  <a:pt x="5544" y="0"/>
                </a:lnTo>
                <a:cubicBezTo>
                  <a:pt x="5549" y="0"/>
                  <a:pt x="5552" y="4"/>
                  <a:pt x="5552" y="8"/>
                </a:cubicBezTo>
                <a:cubicBezTo>
                  <a:pt x="5552" y="13"/>
                  <a:pt x="5549" y="16"/>
                  <a:pt x="5544" y="16"/>
                </a:cubicBezTo>
                <a:lnTo>
                  <a:pt x="5496" y="16"/>
                </a:lnTo>
                <a:cubicBezTo>
                  <a:pt x="5492" y="16"/>
                  <a:pt x="5488" y="13"/>
                  <a:pt x="5488" y="8"/>
                </a:cubicBezTo>
                <a:cubicBezTo>
                  <a:pt x="5488" y="4"/>
                  <a:pt x="5492" y="0"/>
                  <a:pt x="5496" y="0"/>
                </a:cubicBezTo>
                <a:close/>
                <a:moveTo>
                  <a:pt x="5608" y="0"/>
                </a:moveTo>
                <a:lnTo>
                  <a:pt x="5656" y="0"/>
                </a:lnTo>
                <a:cubicBezTo>
                  <a:pt x="5661" y="0"/>
                  <a:pt x="5664" y="4"/>
                  <a:pt x="5664" y="8"/>
                </a:cubicBezTo>
                <a:cubicBezTo>
                  <a:pt x="5664" y="13"/>
                  <a:pt x="5661" y="16"/>
                  <a:pt x="5656" y="16"/>
                </a:cubicBezTo>
                <a:lnTo>
                  <a:pt x="5608" y="16"/>
                </a:lnTo>
                <a:cubicBezTo>
                  <a:pt x="5604" y="16"/>
                  <a:pt x="5600" y="13"/>
                  <a:pt x="5600" y="8"/>
                </a:cubicBezTo>
                <a:cubicBezTo>
                  <a:pt x="5600" y="4"/>
                  <a:pt x="5604" y="0"/>
                  <a:pt x="5608" y="0"/>
                </a:cubicBezTo>
                <a:close/>
                <a:moveTo>
                  <a:pt x="5720" y="0"/>
                </a:moveTo>
                <a:lnTo>
                  <a:pt x="5768" y="0"/>
                </a:lnTo>
                <a:cubicBezTo>
                  <a:pt x="5773" y="0"/>
                  <a:pt x="5776" y="4"/>
                  <a:pt x="5776" y="8"/>
                </a:cubicBezTo>
                <a:cubicBezTo>
                  <a:pt x="5776" y="13"/>
                  <a:pt x="5773" y="16"/>
                  <a:pt x="5768" y="16"/>
                </a:cubicBezTo>
                <a:lnTo>
                  <a:pt x="5720" y="16"/>
                </a:lnTo>
                <a:cubicBezTo>
                  <a:pt x="5716" y="16"/>
                  <a:pt x="5712" y="13"/>
                  <a:pt x="5712" y="8"/>
                </a:cubicBezTo>
                <a:cubicBezTo>
                  <a:pt x="5712" y="4"/>
                  <a:pt x="5716" y="0"/>
                  <a:pt x="5720" y="0"/>
                </a:cubicBezTo>
                <a:close/>
                <a:moveTo>
                  <a:pt x="5832" y="0"/>
                </a:moveTo>
                <a:lnTo>
                  <a:pt x="5880" y="0"/>
                </a:lnTo>
                <a:cubicBezTo>
                  <a:pt x="5885" y="0"/>
                  <a:pt x="5888" y="4"/>
                  <a:pt x="5888" y="8"/>
                </a:cubicBezTo>
                <a:cubicBezTo>
                  <a:pt x="5888" y="13"/>
                  <a:pt x="5885" y="16"/>
                  <a:pt x="5880" y="16"/>
                </a:cubicBezTo>
                <a:lnTo>
                  <a:pt x="5832" y="16"/>
                </a:lnTo>
                <a:cubicBezTo>
                  <a:pt x="5828" y="16"/>
                  <a:pt x="5824" y="13"/>
                  <a:pt x="5824" y="8"/>
                </a:cubicBezTo>
                <a:cubicBezTo>
                  <a:pt x="5824" y="4"/>
                  <a:pt x="5828" y="0"/>
                  <a:pt x="5832" y="0"/>
                </a:cubicBezTo>
                <a:close/>
                <a:moveTo>
                  <a:pt x="5944" y="0"/>
                </a:moveTo>
                <a:lnTo>
                  <a:pt x="5992" y="0"/>
                </a:lnTo>
                <a:cubicBezTo>
                  <a:pt x="5997" y="0"/>
                  <a:pt x="6000" y="4"/>
                  <a:pt x="6000" y="8"/>
                </a:cubicBezTo>
                <a:cubicBezTo>
                  <a:pt x="6000" y="13"/>
                  <a:pt x="5997" y="16"/>
                  <a:pt x="5992" y="16"/>
                </a:cubicBezTo>
                <a:lnTo>
                  <a:pt x="5944" y="16"/>
                </a:lnTo>
                <a:cubicBezTo>
                  <a:pt x="5940" y="16"/>
                  <a:pt x="5936" y="13"/>
                  <a:pt x="5936" y="8"/>
                </a:cubicBezTo>
                <a:cubicBezTo>
                  <a:pt x="5936" y="4"/>
                  <a:pt x="5940" y="0"/>
                  <a:pt x="5944" y="0"/>
                </a:cubicBezTo>
                <a:close/>
                <a:moveTo>
                  <a:pt x="6056" y="0"/>
                </a:moveTo>
                <a:lnTo>
                  <a:pt x="6104" y="0"/>
                </a:lnTo>
                <a:cubicBezTo>
                  <a:pt x="6109" y="0"/>
                  <a:pt x="6112" y="4"/>
                  <a:pt x="6112" y="8"/>
                </a:cubicBezTo>
                <a:cubicBezTo>
                  <a:pt x="6112" y="13"/>
                  <a:pt x="6109" y="16"/>
                  <a:pt x="6104" y="16"/>
                </a:cubicBezTo>
                <a:lnTo>
                  <a:pt x="6056" y="16"/>
                </a:lnTo>
                <a:cubicBezTo>
                  <a:pt x="6052" y="16"/>
                  <a:pt x="6048" y="13"/>
                  <a:pt x="6048" y="8"/>
                </a:cubicBezTo>
                <a:cubicBezTo>
                  <a:pt x="6048" y="4"/>
                  <a:pt x="6052" y="0"/>
                  <a:pt x="6056" y="0"/>
                </a:cubicBezTo>
                <a:close/>
                <a:moveTo>
                  <a:pt x="6168" y="0"/>
                </a:moveTo>
                <a:lnTo>
                  <a:pt x="6216" y="0"/>
                </a:lnTo>
                <a:cubicBezTo>
                  <a:pt x="6221" y="0"/>
                  <a:pt x="6224" y="4"/>
                  <a:pt x="6224" y="8"/>
                </a:cubicBezTo>
                <a:cubicBezTo>
                  <a:pt x="6224" y="13"/>
                  <a:pt x="6221" y="16"/>
                  <a:pt x="6216" y="16"/>
                </a:cubicBezTo>
                <a:lnTo>
                  <a:pt x="6168" y="16"/>
                </a:lnTo>
                <a:cubicBezTo>
                  <a:pt x="6164" y="16"/>
                  <a:pt x="6160" y="13"/>
                  <a:pt x="6160" y="8"/>
                </a:cubicBezTo>
                <a:cubicBezTo>
                  <a:pt x="6160" y="4"/>
                  <a:pt x="6164" y="0"/>
                  <a:pt x="6168" y="0"/>
                </a:cubicBezTo>
                <a:close/>
                <a:moveTo>
                  <a:pt x="6280" y="0"/>
                </a:moveTo>
                <a:lnTo>
                  <a:pt x="6328" y="0"/>
                </a:lnTo>
                <a:cubicBezTo>
                  <a:pt x="6333" y="0"/>
                  <a:pt x="6336" y="4"/>
                  <a:pt x="6336" y="8"/>
                </a:cubicBezTo>
                <a:cubicBezTo>
                  <a:pt x="6336" y="13"/>
                  <a:pt x="6333" y="16"/>
                  <a:pt x="6328" y="16"/>
                </a:cubicBezTo>
                <a:lnTo>
                  <a:pt x="6280" y="16"/>
                </a:lnTo>
                <a:cubicBezTo>
                  <a:pt x="6276" y="16"/>
                  <a:pt x="6272" y="13"/>
                  <a:pt x="6272" y="8"/>
                </a:cubicBezTo>
                <a:cubicBezTo>
                  <a:pt x="6272" y="4"/>
                  <a:pt x="6276" y="0"/>
                  <a:pt x="6280" y="0"/>
                </a:cubicBezTo>
                <a:close/>
                <a:moveTo>
                  <a:pt x="6392" y="0"/>
                </a:moveTo>
                <a:lnTo>
                  <a:pt x="6440" y="0"/>
                </a:lnTo>
                <a:cubicBezTo>
                  <a:pt x="6445" y="0"/>
                  <a:pt x="6448" y="4"/>
                  <a:pt x="6448" y="8"/>
                </a:cubicBezTo>
                <a:cubicBezTo>
                  <a:pt x="6448" y="13"/>
                  <a:pt x="6445" y="16"/>
                  <a:pt x="6440" y="16"/>
                </a:cubicBezTo>
                <a:lnTo>
                  <a:pt x="6392" y="16"/>
                </a:lnTo>
                <a:cubicBezTo>
                  <a:pt x="6388" y="16"/>
                  <a:pt x="6384" y="13"/>
                  <a:pt x="6384" y="8"/>
                </a:cubicBezTo>
                <a:cubicBezTo>
                  <a:pt x="6384" y="4"/>
                  <a:pt x="6388" y="0"/>
                  <a:pt x="6392" y="0"/>
                </a:cubicBezTo>
                <a:close/>
                <a:moveTo>
                  <a:pt x="6504" y="0"/>
                </a:moveTo>
                <a:lnTo>
                  <a:pt x="6552" y="0"/>
                </a:lnTo>
                <a:cubicBezTo>
                  <a:pt x="6557" y="0"/>
                  <a:pt x="6560" y="4"/>
                  <a:pt x="6560" y="8"/>
                </a:cubicBezTo>
                <a:cubicBezTo>
                  <a:pt x="6560" y="13"/>
                  <a:pt x="6557" y="16"/>
                  <a:pt x="6552" y="16"/>
                </a:cubicBezTo>
                <a:lnTo>
                  <a:pt x="6504" y="16"/>
                </a:lnTo>
                <a:cubicBezTo>
                  <a:pt x="6500" y="16"/>
                  <a:pt x="6496" y="13"/>
                  <a:pt x="6496" y="8"/>
                </a:cubicBezTo>
                <a:cubicBezTo>
                  <a:pt x="6496" y="4"/>
                  <a:pt x="6500" y="0"/>
                  <a:pt x="6504" y="0"/>
                </a:cubicBezTo>
                <a:close/>
                <a:moveTo>
                  <a:pt x="6616" y="0"/>
                </a:moveTo>
                <a:lnTo>
                  <a:pt x="6664" y="0"/>
                </a:lnTo>
                <a:cubicBezTo>
                  <a:pt x="6669" y="0"/>
                  <a:pt x="6672" y="4"/>
                  <a:pt x="6672" y="8"/>
                </a:cubicBezTo>
                <a:cubicBezTo>
                  <a:pt x="6672" y="13"/>
                  <a:pt x="6669" y="16"/>
                  <a:pt x="6664" y="16"/>
                </a:cubicBezTo>
                <a:lnTo>
                  <a:pt x="6616" y="16"/>
                </a:lnTo>
                <a:cubicBezTo>
                  <a:pt x="6612" y="16"/>
                  <a:pt x="6608" y="13"/>
                  <a:pt x="6608" y="8"/>
                </a:cubicBezTo>
                <a:cubicBezTo>
                  <a:pt x="6608" y="4"/>
                  <a:pt x="6612" y="0"/>
                  <a:pt x="6616" y="0"/>
                </a:cubicBezTo>
                <a:close/>
                <a:moveTo>
                  <a:pt x="6728" y="0"/>
                </a:moveTo>
                <a:lnTo>
                  <a:pt x="6776" y="0"/>
                </a:lnTo>
                <a:cubicBezTo>
                  <a:pt x="6781" y="0"/>
                  <a:pt x="6784" y="4"/>
                  <a:pt x="6784" y="8"/>
                </a:cubicBezTo>
                <a:cubicBezTo>
                  <a:pt x="6784" y="13"/>
                  <a:pt x="6781" y="16"/>
                  <a:pt x="6776" y="16"/>
                </a:cubicBezTo>
                <a:lnTo>
                  <a:pt x="6728" y="16"/>
                </a:lnTo>
                <a:cubicBezTo>
                  <a:pt x="6724" y="16"/>
                  <a:pt x="6720" y="13"/>
                  <a:pt x="6720" y="8"/>
                </a:cubicBezTo>
                <a:cubicBezTo>
                  <a:pt x="6720" y="4"/>
                  <a:pt x="6724" y="0"/>
                  <a:pt x="6728" y="0"/>
                </a:cubicBezTo>
                <a:close/>
                <a:moveTo>
                  <a:pt x="6840" y="0"/>
                </a:moveTo>
                <a:lnTo>
                  <a:pt x="6888" y="0"/>
                </a:lnTo>
                <a:cubicBezTo>
                  <a:pt x="6893" y="0"/>
                  <a:pt x="6896" y="4"/>
                  <a:pt x="6896" y="8"/>
                </a:cubicBezTo>
                <a:cubicBezTo>
                  <a:pt x="6896" y="13"/>
                  <a:pt x="6893" y="16"/>
                  <a:pt x="6888" y="16"/>
                </a:cubicBezTo>
                <a:lnTo>
                  <a:pt x="6840" y="16"/>
                </a:lnTo>
                <a:cubicBezTo>
                  <a:pt x="6836" y="16"/>
                  <a:pt x="6832" y="13"/>
                  <a:pt x="6832" y="8"/>
                </a:cubicBezTo>
                <a:cubicBezTo>
                  <a:pt x="6832" y="4"/>
                  <a:pt x="6836" y="0"/>
                  <a:pt x="6840" y="0"/>
                </a:cubicBezTo>
                <a:close/>
                <a:moveTo>
                  <a:pt x="6952" y="0"/>
                </a:moveTo>
                <a:lnTo>
                  <a:pt x="7000" y="0"/>
                </a:lnTo>
                <a:cubicBezTo>
                  <a:pt x="7005" y="0"/>
                  <a:pt x="7008" y="4"/>
                  <a:pt x="7008" y="8"/>
                </a:cubicBezTo>
                <a:cubicBezTo>
                  <a:pt x="7008" y="13"/>
                  <a:pt x="7005" y="16"/>
                  <a:pt x="7000" y="16"/>
                </a:cubicBezTo>
                <a:lnTo>
                  <a:pt x="6952" y="16"/>
                </a:lnTo>
                <a:cubicBezTo>
                  <a:pt x="6948" y="16"/>
                  <a:pt x="6944" y="13"/>
                  <a:pt x="6944" y="8"/>
                </a:cubicBezTo>
                <a:cubicBezTo>
                  <a:pt x="6944" y="4"/>
                  <a:pt x="6948" y="0"/>
                  <a:pt x="6952" y="0"/>
                </a:cubicBezTo>
                <a:close/>
                <a:moveTo>
                  <a:pt x="7064" y="0"/>
                </a:moveTo>
                <a:lnTo>
                  <a:pt x="7112" y="0"/>
                </a:lnTo>
                <a:cubicBezTo>
                  <a:pt x="7117" y="0"/>
                  <a:pt x="7120" y="4"/>
                  <a:pt x="7120" y="8"/>
                </a:cubicBezTo>
                <a:cubicBezTo>
                  <a:pt x="7120" y="13"/>
                  <a:pt x="7117" y="16"/>
                  <a:pt x="7112" y="16"/>
                </a:cubicBezTo>
                <a:lnTo>
                  <a:pt x="7064" y="16"/>
                </a:lnTo>
                <a:cubicBezTo>
                  <a:pt x="7060" y="16"/>
                  <a:pt x="7056" y="13"/>
                  <a:pt x="7056" y="8"/>
                </a:cubicBezTo>
                <a:cubicBezTo>
                  <a:pt x="7056" y="4"/>
                  <a:pt x="7060" y="0"/>
                  <a:pt x="7064" y="0"/>
                </a:cubicBezTo>
                <a:close/>
                <a:moveTo>
                  <a:pt x="7176" y="0"/>
                </a:moveTo>
                <a:lnTo>
                  <a:pt x="7224" y="0"/>
                </a:lnTo>
                <a:cubicBezTo>
                  <a:pt x="7229" y="0"/>
                  <a:pt x="7232" y="4"/>
                  <a:pt x="7232" y="8"/>
                </a:cubicBezTo>
                <a:cubicBezTo>
                  <a:pt x="7232" y="13"/>
                  <a:pt x="7229" y="16"/>
                  <a:pt x="7224" y="16"/>
                </a:cubicBezTo>
                <a:lnTo>
                  <a:pt x="7176" y="16"/>
                </a:lnTo>
                <a:cubicBezTo>
                  <a:pt x="7172" y="16"/>
                  <a:pt x="7168" y="13"/>
                  <a:pt x="7168" y="8"/>
                </a:cubicBezTo>
                <a:cubicBezTo>
                  <a:pt x="7168" y="4"/>
                  <a:pt x="7172" y="0"/>
                  <a:pt x="7176" y="0"/>
                </a:cubicBezTo>
                <a:close/>
                <a:moveTo>
                  <a:pt x="7288" y="0"/>
                </a:moveTo>
                <a:lnTo>
                  <a:pt x="7336" y="0"/>
                </a:lnTo>
                <a:cubicBezTo>
                  <a:pt x="7341" y="0"/>
                  <a:pt x="7344" y="4"/>
                  <a:pt x="7344" y="8"/>
                </a:cubicBezTo>
                <a:cubicBezTo>
                  <a:pt x="7344" y="13"/>
                  <a:pt x="7341" y="16"/>
                  <a:pt x="7336" y="16"/>
                </a:cubicBezTo>
                <a:lnTo>
                  <a:pt x="7288" y="16"/>
                </a:lnTo>
                <a:cubicBezTo>
                  <a:pt x="7284" y="16"/>
                  <a:pt x="7280" y="13"/>
                  <a:pt x="7280" y="8"/>
                </a:cubicBezTo>
                <a:cubicBezTo>
                  <a:pt x="7280" y="4"/>
                  <a:pt x="7284" y="0"/>
                  <a:pt x="7288" y="0"/>
                </a:cubicBezTo>
                <a:close/>
                <a:moveTo>
                  <a:pt x="7400" y="0"/>
                </a:moveTo>
                <a:lnTo>
                  <a:pt x="7448" y="0"/>
                </a:lnTo>
                <a:cubicBezTo>
                  <a:pt x="7453" y="0"/>
                  <a:pt x="7456" y="4"/>
                  <a:pt x="7456" y="8"/>
                </a:cubicBezTo>
                <a:cubicBezTo>
                  <a:pt x="7456" y="13"/>
                  <a:pt x="7453" y="16"/>
                  <a:pt x="7448" y="16"/>
                </a:cubicBezTo>
                <a:lnTo>
                  <a:pt x="7400" y="16"/>
                </a:lnTo>
                <a:cubicBezTo>
                  <a:pt x="7396" y="16"/>
                  <a:pt x="7392" y="13"/>
                  <a:pt x="7392" y="8"/>
                </a:cubicBezTo>
                <a:cubicBezTo>
                  <a:pt x="7392" y="4"/>
                  <a:pt x="7396" y="0"/>
                  <a:pt x="7400" y="0"/>
                </a:cubicBezTo>
                <a:close/>
                <a:moveTo>
                  <a:pt x="7512" y="0"/>
                </a:moveTo>
                <a:lnTo>
                  <a:pt x="7560" y="0"/>
                </a:lnTo>
                <a:cubicBezTo>
                  <a:pt x="7565" y="0"/>
                  <a:pt x="7568" y="4"/>
                  <a:pt x="7568" y="8"/>
                </a:cubicBezTo>
                <a:cubicBezTo>
                  <a:pt x="7568" y="13"/>
                  <a:pt x="7565" y="16"/>
                  <a:pt x="7560" y="16"/>
                </a:cubicBezTo>
                <a:lnTo>
                  <a:pt x="7512" y="16"/>
                </a:lnTo>
                <a:cubicBezTo>
                  <a:pt x="7508" y="16"/>
                  <a:pt x="7504" y="13"/>
                  <a:pt x="7504" y="8"/>
                </a:cubicBezTo>
                <a:cubicBezTo>
                  <a:pt x="7504" y="4"/>
                  <a:pt x="7508" y="0"/>
                  <a:pt x="7512" y="0"/>
                </a:cubicBezTo>
                <a:close/>
                <a:moveTo>
                  <a:pt x="7624" y="0"/>
                </a:moveTo>
                <a:lnTo>
                  <a:pt x="7672" y="0"/>
                </a:lnTo>
                <a:cubicBezTo>
                  <a:pt x="7677" y="0"/>
                  <a:pt x="7680" y="4"/>
                  <a:pt x="7680" y="8"/>
                </a:cubicBezTo>
                <a:cubicBezTo>
                  <a:pt x="7680" y="13"/>
                  <a:pt x="7677" y="16"/>
                  <a:pt x="7672" y="16"/>
                </a:cubicBezTo>
                <a:lnTo>
                  <a:pt x="7624" y="16"/>
                </a:lnTo>
                <a:cubicBezTo>
                  <a:pt x="7620" y="16"/>
                  <a:pt x="7616" y="13"/>
                  <a:pt x="7616" y="8"/>
                </a:cubicBezTo>
                <a:cubicBezTo>
                  <a:pt x="7616" y="4"/>
                  <a:pt x="7620" y="0"/>
                  <a:pt x="7624" y="0"/>
                </a:cubicBezTo>
                <a:close/>
                <a:moveTo>
                  <a:pt x="7736" y="0"/>
                </a:moveTo>
                <a:lnTo>
                  <a:pt x="7784" y="0"/>
                </a:lnTo>
                <a:cubicBezTo>
                  <a:pt x="7789" y="0"/>
                  <a:pt x="7792" y="4"/>
                  <a:pt x="7792" y="8"/>
                </a:cubicBezTo>
                <a:cubicBezTo>
                  <a:pt x="7792" y="13"/>
                  <a:pt x="7789" y="16"/>
                  <a:pt x="7784" y="16"/>
                </a:cubicBezTo>
                <a:lnTo>
                  <a:pt x="7736" y="16"/>
                </a:lnTo>
                <a:cubicBezTo>
                  <a:pt x="7732" y="16"/>
                  <a:pt x="7728" y="13"/>
                  <a:pt x="7728" y="8"/>
                </a:cubicBezTo>
                <a:cubicBezTo>
                  <a:pt x="7728" y="4"/>
                  <a:pt x="7732" y="0"/>
                  <a:pt x="7736" y="0"/>
                </a:cubicBezTo>
                <a:close/>
                <a:moveTo>
                  <a:pt x="7848" y="0"/>
                </a:moveTo>
                <a:lnTo>
                  <a:pt x="7896" y="0"/>
                </a:lnTo>
                <a:cubicBezTo>
                  <a:pt x="7901" y="0"/>
                  <a:pt x="7904" y="4"/>
                  <a:pt x="7904" y="8"/>
                </a:cubicBezTo>
                <a:cubicBezTo>
                  <a:pt x="7904" y="13"/>
                  <a:pt x="7901" y="16"/>
                  <a:pt x="7896" y="16"/>
                </a:cubicBezTo>
                <a:lnTo>
                  <a:pt x="7848" y="16"/>
                </a:lnTo>
                <a:cubicBezTo>
                  <a:pt x="7844" y="16"/>
                  <a:pt x="7840" y="13"/>
                  <a:pt x="7840" y="8"/>
                </a:cubicBezTo>
                <a:cubicBezTo>
                  <a:pt x="7840" y="4"/>
                  <a:pt x="7844" y="0"/>
                  <a:pt x="7848" y="0"/>
                </a:cubicBezTo>
                <a:close/>
                <a:moveTo>
                  <a:pt x="7960" y="0"/>
                </a:moveTo>
                <a:lnTo>
                  <a:pt x="8008" y="0"/>
                </a:lnTo>
                <a:cubicBezTo>
                  <a:pt x="8013" y="0"/>
                  <a:pt x="8016" y="4"/>
                  <a:pt x="8016" y="8"/>
                </a:cubicBezTo>
                <a:cubicBezTo>
                  <a:pt x="8016" y="13"/>
                  <a:pt x="8013" y="16"/>
                  <a:pt x="8008" y="16"/>
                </a:cubicBezTo>
                <a:lnTo>
                  <a:pt x="7960" y="16"/>
                </a:lnTo>
                <a:cubicBezTo>
                  <a:pt x="7956" y="16"/>
                  <a:pt x="7952" y="13"/>
                  <a:pt x="7952" y="8"/>
                </a:cubicBezTo>
                <a:cubicBezTo>
                  <a:pt x="7952" y="4"/>
                  <a:pt x="7956" y="0"/>
                  <a:pt x="7960" y="0"/>
                </a:cubicBezTo>
                <a:close/>
                <a:moveTo>
                  <a:pt x="8072" y="0"/>
                </a:moveTo>
                <a:lnTo>
                  <a:pt x="8120" y="0"/>
                </a:lnTo>
                <a:cubicBezTo>
                  <a:pt x="8125" y="0"/>
                  <a:pt x="8128" y="4"/>
                  <a:pt x="8128" y="8"/>
                </a:cubicBezTo>
                <a:cubicBezTo>
                  <a:pt x="8128" y="13"/>
                  <a:pt x="8125" y="16"/>
                  <a:pt x="8120" y="16"/>
                </a:cubicBezTo>
                <a:lnTo>
                  <a:pt x="8072" y="16"/>
                </a:lnTo>
                <a:cubicBezTo>
                  <a:pt x="8068" y="16"/>
                  <a:pt x="8064" y="13"/>
                  <a:pt x="8064" y="8"/>
                </a:cubicBezTo>
                <a:cubicBezTo>
                  <a:pt x="8064" y="4"/>
                  <a:pt x="8068" y="0"/>
                  <a:pt x="8072" y="0"/>
                </a:cubicBezTo>
                <a:close/>
              </a:path>
            </a:pathLst>
          </a:custGeom>
          <a:solidFill>
            <a:srgbClr val="000000"/>
          </a:solidFill>
          <a:ln w="1440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5928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verage:-1.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468360" y="40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E41-03 vs ISO362-2 (Class 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179360" y="595944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179360" y="562752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179360" y="529416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179360" y="494820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179360" y="461628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179360" y="428292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179360" y="3951360"/>
            <a:ext cx="73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179360" y="327168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179360" y="2940120"/>
            <a:ext cx="73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179360" y="260820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179360" y="227484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179360" y="1928880"/>
            <a:ext cx="73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179360" y="159696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179360" y="126360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179360" y="1263600"/>
            <a:ext cx="7317000" cy="4695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236600" y="3619440"/>
            <a:ext cx="101520" cy="1762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468440" y="3619440"/>
            <a:ext cx="101520" cy="13003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700280" y="3619440"/>
            <a:ext cx="87120" cy="12556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3619440"/>
            <a:ext cx="100080" cy="13860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147760" y="3619440"/>
            <a:ext cx="101880" cy="13287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379600" y="3619440"/>
            <a:ext cx="101520" cy="2079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611440" y="3619440"/>
            <a:ext cx="100080" cy="592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841480" y="3186000"/>
            <a:ext cx="101880" cy="4334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073320" y="3619440"/>
            <a:ext cx="87480" cy="10684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290760" y="3619440"/>
            <a:ext cx="101880" cy="1303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521160" y="3619440"/>
            <a:ext cx="101520" cy="1589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753000" y="3619440"/>
            <a:ext cx="101520" cy="909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84480" y="3619440"/>
            <a:ext cx="101880" cy="4906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216320" y="3619440"/>
            <a:ext cx="85680" cy="1040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432320" y="3619440"/>
            <a:ext cx="101520" cy="808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96000" y="3619440"/>
            <a:ext cx="99720" cy="635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126040" y="3619440"/>
            <a:ext cx="101520" cy="15303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57880" y="3619440"/>
            <a:ext cx="87120" cy="592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575320" y="3619440"/>
            <a:ext cx="101520" cy="1875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805360" y="3619440"/>
            <a:ext cx="101880" cy="5335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037200" y="3619440"/>
            <a:ext cx="101520" cy="1863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269040" y="3619440"/>
            <a:ext cx="101520" cy="3319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500880" y="3619440"/>
            <a:ext cx="100080" cy="8953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730920" y="3619440"/>
            <a:ext cx="87480" cy="14302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6948360" y="3619440"/>
            <a:ext cx="101880" cy="12272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7180200" y="3619440"/>
            <a:ext cx="100080" cy="16034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410600" y="3619440"/>
            <a:ext cx="101520" cy="6634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642080" y="3619440"/>
            <a:ext cx="101880" cy="13003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873920" y="3619440"/>
            <a:ext cx="87480" cy="11556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8089920" y="3619440"/>
            <a:ext cx="101520" cy="9669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8321760" y="3619440"/>
            <a:ext cx="101520" cy="2746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79360" y="1263600"/>
            <a:ext cx="1800" cy="469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79360" y="59594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79360" y="58863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179360" y="5829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179360" y="5756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179360" y="5684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179360" y="56275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179360" y="5554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179360" y="54975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179360" y="5424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179360" y="5353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179360" y="5294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179360" y="5222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179360" y="5149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179360" y="5092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179360" y="5019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179360" y="49482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179360" y="4889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179360" y="4818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179360" y="47451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179360" y="46879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179360" y="4616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179360" y="4557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179360" y="4486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1179360" y="4413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179360" y="43560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179360" y="42829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179360" y="42116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17936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179360" y="40813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179360" y="40086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179360" y="39513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179360" y="38782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179360" y="380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179360" y="374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179360" y="3676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179360" y="36194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79360" y="35463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179360" y="34750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179360" y="3416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179360" y="3344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179360" y="32716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179360" y="3214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179360" y="31417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79360" y="3070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79360" y="30114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179360" y="29401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179360" y="2867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79360" y="2809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179360" y="2738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179360" y="2679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179360" y="26082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179360" y="25351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179360" y="2478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179360" y="24051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79360" y="23335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179360" y="22748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179360" y="22035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179360" y="2130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179360" y="20732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179360" y="2000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179360" y="1928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79360" y="18716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79360" y="1798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179360" y="17272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179360" y="16686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179360" y="1596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179360" y="15382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17936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179360" y="13939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179360" y="1336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179360" y="1263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79360" y="59594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179360" y="56275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179360" y="52941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179360" y="49482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179360" y="46162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179360" y="42829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179360" y="39513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179360" y="36194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179360" y="32716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179360" y="29401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179360" y="26082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179360" y="22748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79360" y="19288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79360" y="15969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179360" y="1263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179360" y="361944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117936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141120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164160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18590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209088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32236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5527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78460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30160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2320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346392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36957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92580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41576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43750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460692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483696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6880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3006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55166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4848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97996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62103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644220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66736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689148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712152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73533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758520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78152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80326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826452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84963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753120" y="588636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7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53120" y="555480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6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53120" y="522288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5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53120" y="48751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4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53120" y="454356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53120" y="421164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2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53120" y="387828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1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24400" y="354636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24400" y="32004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824400" y="286704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824400" y="25351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824400" y="220356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824400" y="18558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5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824400" y="152388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6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24400" y="11923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7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24632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70856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15604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61972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06720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8012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94380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39164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85352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31684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76468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836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67584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13772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60140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04924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165320" y="4572000"/>
            <a:ext cx="7315200" cy="14400"/>
          </a:xfrm>
          <a:custGeom>
            <a:avLst/>
            <a:gdLst/>
            <a:ahLst/>
            <a:rect l="l" t="t" r="r" b="b"/>
            <a:pathLst>
              <a:path w="8096" h="16">
                <a:moveTo>
                  <a:pt x="8" y="0"/>
                </a:moveTo>
                <a:lnTo>
                  <a:pt x="56" y="0"/>
                </a:lnTo>
                <a:cubicBezTo>
                  <a:pt x="61" y="0"/>
                  <a:pt x="64" y="4"/>
                  <a:pt x="64" y="8"/>
                </a:cubicBezTo>
                <a:cubicBezTo>
                  <a:pt x="64" y="13"/>
                  <a:pt x="61" y="16"/>
                  <a:pt x="56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120" y="0"/>
                </a:moveTo>
                <a:lnTo>
                  <a:pt x="168" y="0"/>
                </a:lnTo>
                <a:cubicBezTo>
                  <a:pt x="173" y="0"/>
                  <a:pt x="176" y="4"/>
                  <a:pt x="176" y="8"/>
                </a:cubicBezTo>
                <a:cubicBezTo>
                  <a:pt x="176" y="13"/>
                  <a:pt x="173" y="16"/>
                  <a:pt x="168" y="16"/>
                </a:cubicBezTo>
                <a:lnTo>
                  <a:pt x="120" y="16"/>
                </a:lnTo>
                <a:cubicBezTo>
                  <a:pt x="116" y="16"/>
                  <a:pt x="112" y="13"/>
                  <a:pt x="112" y="8"/>
                </a:cubicBezTo>
                <a:cubicBezTo>
                  <a:pt x="112" y="4"/>
                  <a:pt x="116" y="0"/>
                  <a:pt x="120" y="0"/>
                </a:cubicBezTo>
                <a:close/>
                <a:moveTo>
                  <a:pt x="232" y="0"/>
                </a:move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cubicBezTo>
                  <a:pt x="288" y="13"/>
                  <a:pt x="285" y="16"/>
                  <a:pt x="280" y="16"/>
                </a:cubicBezTo>
                <a:lnTo>
                  <a:pt x="232" y="16"/>
                </a:lnTo>
                <a:cubicBezTo>
                  <a:pt x="228" y="16"/>
                  <a:pt x="224" y="13"/>
                  <a:pt x="224" y="8"/>
                </a:cubicBezTo>
                <a:cubicBezTo>
                  <a:pt x="224" y="4"/>
                  <a:pt x="228" y="0"/>
                  <a:pt x="232" y="0"/>
                </a:cubicBezTo>
                <a:close/>
                <a:moveTo>
                  <a:pt x="344" y="0"/>
                </a:moveTo>
                <a:lnTo>
                  <a:pt x="392" y="0"/>
                </a:lnTo>
                <a:cubicBezTo>
                  <a:pt x="397" y="0"/>
                  <a:pt x="400" y="4"/>
                  <a:pt x="400" y="8"/>
                </a:cubicBezTo>
                <a:cubicBezTo>
                  <a:pt x="400" y="13"/>
                  <a:pt x="397" y="16"/>
                  <a:pt x="392" y="16"/>
                </a:cubicBezTo>
                <a:lnTo>
                  <a:pt x="344" y="16"/>
                </a:lnTo>
                <a:cubicBezTo>
                  <a:pt x="340" y="16"/>
                  <a:pt x="336" y="13"/>
                  <a:pt x="336" y="8"/>
                </a:cubicBezTo>
                <a:cubicBezTo>
                  <a:pt x="336" y="4"/>
                  <a:pt x="340" y="0"/>
                  <a:pt x="344" y="0"/>
                </a:cubicBezTo>
                <a:close/>
                <a:moveTo>
                  <a:pt x="456" y="0"/>
                </a:moveTo>
                <a:lnTo>
                  <a:pt x="504" y="0"/>
                </a:lnTo>
                <a:cubicBezTo>
                  <a:pt x="509" y="0"/>
                  <a:pt x="512" y="4"/>
                  <a:pt x="512" y="8"/>
                </a:cubicBezTo>
                <a:cubicBezTo>
                  <a:pt x="512" y="13"/>
                  <a:pt x="509" y="16"/>
                  <a:pt x="504" y="16"/>
                </a:cubicBezTo>
                <a:lnTo>
                  <a:pt x="456" y="16"/>
                </a:lnTo>
                <a:cubicBezTo>
                  <a:pt x="452" y="16"/>
                  <a:pt x="448" y="13"/>
                  <a:pt x="448" y="8"/>
                </a:cubicBezTo>
                <a:cubicBezTo>
                  <a:pt x="448" y="4"/>
                  <a:pt x="452" y="0"/>
                  <a:pt x="456" y="0"/>
                </a:cubicBezTo>
                <a:close/>
                <a:moveTo>
                  <a:pt x="568" y="0"/>
                </a:moveTo>
                <a:lnTo>
                  <a:pt x="616" y="0"/>
                </a:lnTo>
                <a:cubicBezTo>
                  <a:pt x="621" y="0"/>
                  <a:pt x="624" y="4"/>
                  <a:pt x="624" y="8"/>
                </a:cubicBezTo>
                <a:cubicBezTo>
                  <a:pt x="624" y="13"/>
                  <a:pt x="621" y="16"/>
                  <a:pt x="616" y="16"/>
                </a:cubicBezTo>
                <a:lnTo>
                  <a:pt x="568" y="16"/>
                </a:lnTo>
                <a:cubicBezTo>
                  <a:pt x="564" y="16"/>
                  <a:pt x="560" y="13"/>
                  <a:pt x="560" y="8"/>
                </a:cubicBezTo>
                <a:cubicBezTo>
                  <a:pt x="560" y="4"/>
                  <a:pt x="564" y="0"/>
                  <a:pt x="568" y="0"/>
                </a:cubicBezTo>
                <a:close/>
                <a:moveTo>
                  <a:pt x="680" y="0"/>
                </a:moveTo>
                <a:lnTo>
                  <a:pt x="728" y="0"/>
                </a:lnTo>
                <a:cubicBezTo>
                  <a:pt x="733" y="0"/>
                  <a:pt x="736" y="4"/>
                  <a:pt x="736" y="8"/>
                </a:cubicBezTo>
                <a:cubicBezTo>
                  <a:pt x="736" y="13"/>
                  <a:pt x="733" y="16"/>
                  <a:pt x="728" y="16"/>
                </a:cubicBezTo>
                <a:lnTo>
                  <a:pt x="680" y="16"/>
                </a:lnTo>
                <a:cubicBezTo>
                  <a:pt x="676" y="16"/>
                  <a:pt x="672" y="13"/>
                  <a:pt x="672" y="8"/>
                </a:cubicBezTo>
                <a:cubicBezTo>
                  <a:pt x="672" y="4"/>
                  <a:pt x="676" y="0"/>
                  <a:pt x="680" y="0"/>
                </a:cubicBezTo>
                <a:close/>
                <a:moveTo>
                  <a:pt x="792" y="0"/>
                </a:moveTo>
                <a:lnTo>
                  <a:pt x="840" y="0"/>
                </a:lnTo>
                <a:cubicBezTo>
                  <a:pt x="845" y="0"/>
                  <a:pt x="848" y="4"/>
                  <a:pt x="848" y="8"/>
                </a:cubicBezTo>
                <a:cubicBezTo>
                  <a:pt x="848" y="13"/>
                  <a:pt x="845" y="16"/>
                  <a:pt x="840" y="16"/>
                </a:cubicBezTo>
                <a:lnTo>
                  <a:pt x="792" y="16"/>
                </a:lnTo>
                <a:cubicBezTo>
                  <a:pt x="788" y="16"/>
                  <a:pt x="784" y="13"/>
                  <a:pt x="784" y="8"/>
                </a:cubicBezTo>
                <a:cubicBezTo>
                  <a:pt x="784" y="4"/>
                  <a:pt x="788" y="0"/>
                  <a:pt x="792" y="0"/>
                </a:cubicBezTo>
                <a:close/>
                <a:moveTo>
                  <a:pt x="904" y="0"/>
                </a:moveTo>
                <a:lnTo>
                  <a:pt x="952" y="0"/>
                </a:lnTo>
                <a:cubicBezTo>
                  <a:pt x="957" y="0"/>
                  <a:pt x="960" y="4"/>
                  <a:pt x="960" y="8"/>
                </a:cubicBezTo>
                <a:cubicBezTo>
                  <a:pt x="960" y="13"/>
                  <a:pt x="957" y="16"/>
                  <a:pt x="952" y="16"/>
                </a:cubicBezTo>
                <a:lnTo>
                  <a:pt x="904" y="16"/>
                </a:lnTo>
                <a:cubicBezTo>
                  <a:pt x="900" y="16"/>
                  <a:pt x="896" y="13"/>
                  <a:pt x="896" y="8"/>
                </a:cubicBezTo>
                <a:cubicBezTo>
                  <a:pt x="896" y="4"/>
                  <a:pt x="900" y="0"/>
                  <a:pt x="904" y="0"/>
                </a:cubicBezTo>
                <a:close/>
                <a:moveTo>
                  <a:pt x="1016" y="0"/>
                </a:moveTo>
                <a:lnTo>
                  <a:pt x="1064" y="0"/>
                </a:lnTo>
                <a:cubicBezTo>
                  <a:pt x="1069" y="0"/>
                  <a:pt x="1072" y="4"/>
                  <a:pt x="1072" y="8"/>
                </a:cubicBezTo>
                <a:cubicBezTo>
                  <a:pt x="1072" y="13"/>
                  <a:pt x="1069" y="16"/>
                  <a:pt x="1064" y="16"/>
                </a:cubicBezTo>
                <a:lnTo>
                  <a:pt x="1016" y="16"/>
                </a:lnTo>
                <a:cubicBezTo>
                  <a:pt x="1012" y="16"/>
                  <a:pt x="1008" y="13"/>
                  <a:pt x="1008" y="8"/>
                </a:cubicBezTo>
                <a:cubicBezTo>
                  <a:pt x="1008" y="4"/>
                  <a:pt x="1012" y="0"/>
                  <a:pt x="1016" y="0"/>
                </a:cubicBezTo>
                <a:close/>
                <a:moveTo>
                  <a:pt x="1128" y="0"/>
                </a:moveTo>
                <a:lnTo>
                  <a:pt x="1176" y="0"/>
                </a:lnTo>
                <a:cubicBezTo>
                  <a:pt x="1181" y="0"/>
                  <a:pt x="1184" y="4"/>
                  <a:pt x="1184" y="8"/>
                </a:cubicBezTo>
                <a:cubicBezTo>
                  <a:pt x="1184" y="13"/>
                  <a:pt x="1181" y="16"/>
                  <a:pt x="1176" y="16"/>
                </a:cubicBezTo>
                <a:lnTo>
                  <a:pt x="1128" y="16"/>
                </a:lnTo>
                <a:cubicBezTo>
                  <a:pt x="1124" y="16"/>
                  <a:pt x="1120" y="13"/>
                  <a:pt x="1120" y="8"/>
                </a:cubicBezTo>
                <a:cubicBezTo>
                  <a:pt x="1120" y="4"/>
                  <a:pt x="1124" y="0"/>
                  <a:pt x="1128" y="0"/>
                </a:cubicBezTo>
                <a:close/>
                <a:moveTo>
                  <a:pt x="1240" y="0"/>
                </a:moveTo>
                <a:lnTo>
                  <a:pt x="1288" y="0"/>
                </a:lnTo>
                <a:cubicBezTo>
                  <a:pt x="1293" y="0"/>
                  <a:pt x="1296" y="4"/>
                  <a:pt x="1296" y="8"/>
                </a:cubicBezTo>
                <a:cubicBezTo>
                  <a:pt x="1296" y="13"/>
                  <a:pt x="1293" y="16"/>
                  <a:pt x="1288" y="16"/>
                </a:cubicBezTo>
                <a:lnTo>
                  <a:pt x="1240" y="16"/>
                </a:lnTo>
                <a:cubicBezTo>
                  <a:pt x="1236" y="16"/>
                  <a:pt x="1232" y="13"/>
                  <a:pt x="1232" y="8"/>
                </a:cubicBezTo>
                <a:cubicBezTo>
                  <a:pt x="1232" y="4"/>
                  <a:pt x="1236" y="0"/>
                  <a:pt x="1240" y="0"/>
                </a:cubicBezTo>
                <a:close/>
                <a:moveTo>
                  <a:pt x="1352" y="0"/>
                </a:moveTo>
                <a:lnTo>
                  <a:pt x="1400" y="0"/>
                </a:lnTo>
                <a:cubicBezTo>
                  <a:pt x="1405" y="0"/>
                  <a:pt x="1408" y="4"/>
                  <a:pt x="1408" y="8"/>
                </a:cubicBezTo>
                <a:cubicBezTo>
                  <a:pt x="1408" y="13"/>
                  <a:pt x="1405" y="16"/>
                  <a:pt x="1400" y="16"/>
                </a:cubicBezTo>
                <a:lnTo>
                  <a:pt x="1352" y="16"/>
                </a:lnTo>
                <a:cubicBezTo>
                  <a:pt x="1348" y="16"/>
                  <a:pt x="1344" y="13"/>
                  <a:pt x="1344" y="8"/>
                </a:cubicBezTo>
                <a:cubicBezTo>
                  <a:pt x="1344" y="4"/>
                  <a:pt x="1348" y="0"/>
                  <a:pt x="1352" y="0"/>
                </a:cubicBezTo>
                <a:close/>
                <a:moveTo>
                  <a:pt x="1464" y="0"/>
                </a:moveTo>
                <a:lnTo>
                  <a:pt x="1512" y="0"/>
                </a:lnTo>
                <a:cubicBezTo>
                  <a:pt x="1517" y="0"/>
                  <a:pt x="1520" y="4"/>
                  <a:pt x="1520" y="8"/>
                </a:cubicBezTo>
                <a:cubicBezTo>
                  <a:pt x="1520" y="13"/>
                  <a:pt x="1517" y="16"/>
                  <a:pt x="1512" y="16"/>
                </a:cubicBezTo>
                <a:lnTo>
                  <a:pt x="1464" y="16"/>
                </a:lnTo>
                <a:cubicBezTo>
                  <a:pt x="1460" y="16"/>
                  <a:pt x="1456" y="13"/>
                  <a:pt x="1456" y="8"/>
                </a:cubicBezTo>
                <a:cubicBezTo>
                  <a:pt x="1456" y="4"/>
                  <a:pt x="1460" y="0"/>
                  <a:pt x="1464" y="0"/>
                </a:cubicBezTo>
                <a:close/>
                <a:moveTo>
                  <a:pt x="1576" y="0"/>
                </a:moveTo>
                <a:lnTo>
                  <a:pt x="1624" y="0"/>
                </a:lnTo>
                <a:cubicBezTo>
                  <a:pt x="1629" y="0"/>
                  <a:pt x="1632" y="4"/>
                  <a:pt x="1632" y="8"/>
                </a:cubicBezTo>
                <a:cubicBezTo>
                  <a:pt x="1632" y="13"/>
                  <a:pt x="1629" y="16"/>
                  <a:pt x="1624" y="16"/>
                </a:cubicBezTo>
                <a:lnTo>
                  <a:pt x="1576" y="16"/>
                </a:lnTo>
                <a:cubicBezTo>
                  <a:pt x="1572" y="16"/>
                  <a:pt x="1568" y="13"/>
                  <a:pt x="1568" y="8"/>
                </a:cubicBezTo>
                <a:cubicBezTo>
                  <a:pt x="1568" y="4"/>
                  <a:pt x="1572" y="0"/>
                  <a:pt x="1576" y="0"/>
                </a:cubicBezTo>
                <a:close/>
                <a:moveTo>
                  <a:pt x="1688" y="0"/>
                </a:moveTo>
                <a:lnTo>
                  <a:pt x="1736" y="0"/>
                </a:lnTo>
                <a:cubicBezTo>
                  <a:pt x="1741" y="0"/>
                  <a:pt x="1744" y="4"/>
                  <a:pt x="1744" y="8"/>
                </a:cubicBezTo>
                <a:cubicBezTo>
                  <a:pt x="1744" y="13"/>
                  <a:pt x="1741" y="16"/>
                  <a:pt x="1736" y="16"/>
                </a:cubicBezTo>
                <a:lnTo>
                  <a:pt x="1688" y="16"/>
                </a:lnTo>
                <a:cubicBezTo>
                  <a:pt x="1684" y="16"/>
                  <a:pt x="1680" y="13"/>
                  <a:pt x="1680" y="8"/>
                </a:cubicBezTo>
                <a:cubicBezTo>
                  <a:pt x="1680" y="4"/>
                  <a:pt x="1684" y="0"/>
                  <a:pt x="1688" y="0"/>
                </a:cubicBezTo>
                <a:close/>
                <a:moveTo>
                  <a:pt x="1800" y="0"/>
                </a:moveTo>
                <a:lnTo>
                  <a:pt x="1848" y="0"/>
                </a:lnTo>
                <a:cubicBezTo>
                  <a:pt x="1853" y="0"/>
                  <a:pt x="1856" y="4"/>
                  <a:pt x="1856" y="8"/>
                </a:cubicBezTo>
                <a:cubicBezTo>
                  <a:pt x="1856" y="13"/>
                  <a:pt x="1853" y="16"/>
                  <a:pt x="1848" y="16"/>
                </a:cubicBezTo>
                <a:lnTo>
                  <a:pt x="1800" y="16"/>
                </a:lnTo>
                <a:cubicBezTo>
                  <a:pt x="1796" y="16"/>
                  <a:pt x="1792" y="13"/>
                  <a:pt x="1792" y="8"/>
                </a:cubicBezTo>
                <a:cubicBezTo>
                  <a:pt x="1792" y="4"/>
                  <a:pt x="1796" y="0"/>
                  <a:pt x="1800" y="0"/>
                </a:cubicBezTo>
                <a:close/>
                <a:moveTo>
                  <a:pt x="1912" y="0"/>
                </a:moveTo>
                <a:lnTo>
                  <a:pt x="1960" y="0"/>
                </a:lnTo>
                <a:cubicBezTo>
                  <a:pt x="1965" y="0"/>
                  <a:pt x="1968" y="4"/>
                  <a:pt x="1968" y="8"/>
                </a:cubicBezTo>
                <a:cubicBezTo>
                  <a:pt x="1968" y="13"/>
                  <a:pt x="1965" y="16"/>
                  <a:pt x="1960" y="16"/>
                </a:cubicBezTo>
                <a:lnTo>
                  <a:pt x="1912" y="16"/>
                </a:lnTo>
                <a:cubicBezTo>
                  <a:pt x="1908" y="16"/>
                  <a:pt x="1904" y="13"/>
                  <a:pt x="1904" y="8"/>
                </a:cubicBezTo>
                <a:cubicBezTo>
                  <a:pt x="1904" y="4"/>
                  <a:pt x="1908" y="0"/>
                  <a:pt x="1912" y="0"/>
                </a:cubicBezTo>
                <a:close/>
                <a:moveTo>
                  <a:pt x="2024" y="0"/>
                </a:moveTo>
                <a:lnTo>
                  <a:pt x="2072" y="0"/>
                </a:lnTo>
                <a:cubicBezTo>
                  <a:pt x="2077" y="0"/>
                  <a:pt x="2080" y="4"/>
                  <a:pt x="2080" y="8"/>
                </a:cubicBezTo>
                <a:cubicBezTo>
                  <a:pt x="2080" y="13"/>
                  <a:pt x="2077" y="16"/>
                  <a:pt x="2072" y="16"/>
                </a:cubicBezTo>
                <a:lnTo>
                  <a:pt x="2024" y="16"/>
                </a:lnTo>
                <a:cubicBezTo>
                  <a:pt x="2020" y="16"/>
                  <a:pt x="2016" y="13"/>
                  <a:pt x="2016" y="8"/>
                </a:cubicBezTo>
                <a:cubicBezTo>
                  <a:pt x="2016" y="4"/>
                  <a:pt x="2020" y="0"/>
                  <a:pt x="2024" y="0"/>
                </a:cubicBezTo>
                <a:close/>
                <a:moveTo>
                  <a:pt x="2136" y="0"/>
                </a:moveTo>
                <a:lnTo>
                  <a:pt x="2184" y="0"/>
                </a:lnTo>
                <a:cubicBezTo>
                  <a:pt x="2189" y="0"/>
                  <a:pt x="2192" y="4"/>
                  <a:pt x="2192" y="8"/>
                </a:cubicBezTo>
                <a:cubicBezTo>
                  <a:pt x="2192" y="13"/>
                  <a:pt x="2189" y="16"/>
                  <a:pt x="2184" y="16"/>
                </a:cubicBezTo>
                <a:lnTo>
                  <a:pt x="2136" y="16"/>
                </a:lnTo>
                <a:cubicBezTo>
                  <a:pt x="2132" y="16"/>
                  <a:pt x="2128" y="13"/>
                  <a:pt x="2128" y="8"/>
                </a:cubicBezTo>
                <a:cubicBezTo>
                  <a:pt x="2128" y="4"/>
                  <a:pt x="2132" y="0"/>
                  <a:pt x="2136" y="0"/>
                </a:cubicBezTo>
                <a:close/>
                <a:moveTo>
                  <a:pt x="2248" y="0"/>
                </a:moveTo>
                <a:lnTo>
                  <a:pt x="2296" y="0"/>
                </a:lnTo>
                <a:cubicBezTo>
                  <a:pt x="2301" y="0"/>
                  <a:pt x="2304" y="4"/>
                  <a:pt x="2304" y="8"/>
                </a:cubicBezTo>
                <a:cubicBezTo>
                  <a:pt x="2304" y="13"/>
                  <a:pt x="2301" y="16"/>
                  <a:pt x="2296" y="16"/>
                </a:cubicBezTo>
                <a:lnTo>
                  <a:pt x="2248" y="16"/>
                </a:lnTo>
                <a:cubicBezTo>
                  <a:pt x="2244" y="16"/>
                  <a:pt x="2240" y="13"/>
                  <a:pt x="2240" y="8"/>
                </a:cubicBezTo>
                <a:cubicBezTo>
                  <a:pt x="2240" y="4"/>
                  <a:pt x="2244" y="0"/>
                  <a:pt x="2248" y="0"/>
                </a:cubicBezTo>
                <a:close/>
                <a:moveTo>
                  <a:pt x="2360" y="0"/>
                </a:moveTo>
                <a:lnTo>
                  <a:pt x="2408" y="0"/>
                </a:lnTo>
                <a:cubicBezTo>
                  <a:pt x="2413" y="0"/>
                  <a:pt x="2416" y="4"/>
                  <a:pt x="2416" y="8"/>
                </a:cubicBezTo>
                <a:cubicBezTo>
                  <a:pt x="2416" y="13"/>
                  <a:pt x="2413" y="16"/>
                  <a:pt x="2408" y="16"/>
                </a:cubicBezTo>
                <a:lnTo>
                  <a:pt x="2360" y="16"/>
                </a:lnTo>
                <a:cubicBezTo>
                  <a:pt x="2356" y="16"/>
                  <a:pt x="2352" y="13"/>
                  <a:pt x="2352" y="8"/>
                </a:cubicBezTo>
                <a:cubicBezTo>
                  <a:pt x="2352" y="4"/>
                  <a:pt x="2356" y="0"/>
                  <a:pt x="2360" y="0"/>
                </a:cubicBezTo>
                <a:close/>
                <a:moveTo>
                  <a:pt x="2472" y="0"/>
                </a:moveTo>
                <a:lnTo>
                  <a:pt x="2520" y="0"/>
                </a:lnTo>
                <a:cubicBezTo>
                  <a:pt x="2525" y="0"/>
                  <a:pt x="2528" y="4"/>
                  <a:pt x="2528" y="8"/>
                </a:cubicBezTo>
                <a:cubicBezTo>
                  <a:pt x="2528" y="13"/>
                  <a:pt x="2525" y="16"/>
                  <a:pt x="2520" y="16"/>
                </a:cubicBezTo>
                <a:lnTo>
                  <a:pt x="2472" y="16"/>
                </a:lnTo>
                <a:cubicBezTo>
                  <a:pt x="2468" y="16"/>
                  <a:pt x="2464" y="13"/>
                  <a:pt x="2464" y="8"/>
                </a:cubicBezTo>
                <a:cubicBezTo>
                  <a:pt x="2464" y="4"/>
                  <a:pt x="2468" y="0"/>
                  <a:pt x="2472" y="0"/>
                </a:cubicBezTo>
                <a:close/>
                <a:moveTo>
                  <a:pt x="2584" y="0"/>
                </a:moveTo>
                <a:lnTo>
                  <a:pt x="2632" y="0"/>
                </a:lnTo>
                <a:cubicBezTo>
                  <a:pt x="2637" y="0"/>
                  <a:pt x="2640" y="4"/>
                  <a:pt x="2640" y="8"/>
                </a:cubicBezTo>
                <a:cubicBezTo>
                  <a:pt x="2640" y="13"/>
                  <a:pt x="2637" y="16"/>
                  <a:pt x="2632" y="16"/>
                </a:cubicBezTo>
                <a:lnTo>
                  <a:pt x="2584" y="16"/>
                </a:lnTo>
                <a:cubicBezTo>
                  <a:pt x="2580" y="16"/>
                  <a:pt x="2576" y="13"/>
                  <a:pt x="2576" y="8"/>
                </a:cubicBezTo>
                <a:cubicBezTo>
                  <a:pt x="2576" y="4"/>
                  <a:pt x="2580" y="0"/>
                  <a:pt x="2584" y="0"/>
                </a:cubicBezTo>
                <a:close/>
                <a:moveTo>
                  <a:pt x="2696" y="0"/>
                </a:moveTo>
                <a:lnTo>
                  <a:pt x="2744" y="0"/>
                </a:lnTo>
                <a:cubicBezTo>
                  <a:pt x="2749" y="0"/>
                  <a:pt x="2752" y="4"/>
                  <a:pt x="2752" y="8"/>
                </a:cubicBezTo>
                <a:cubicBezTo>
                  <a:pt x="2752" y="13"/>
                  <a:pt x="2749" y="16"/>
                  <a:pt x="2744" y="16"/>
                </a:cubicBezTo>
                <a:lnTo>
                  <a:pt x="2696" y="16"/>
                </a:lnTo>
                <a:cubicBezTo>
                  <a:pt x="2692" y="16"/>
                  <a:pt x="2688" y="13"/>
                  <a:pt x="2688" y="8"/>
                </a:cubicBezTo>
                <a:cubicBezTo>
                  <a:pt x="2688" y="4"/>
                  <a:pt x="2692" y="0"/>
                  <a:pt x="2696" y="0"/>
                </a:cubicBezTo>
                <a:close/>
                <a:moveTo>
                  <a:pt x="2808" y="0"/>
                </a:moveTo>
                <a:lnTo>
                  <a:pt x="2856" y="0"/>
                </a:lnTo>
                <a:cubicBezTo>
                  <a:pt x="2861" y="0"/>
                  <a:pt x="2864" y="4"/>
                  <a:pt x="2864" y="8"/>
                </a:cubicBezTo>
                <a:cubicBezTo>
                  <a:pt x="2864" y="13"/>
                  <a:pt x="2861" y="16"/>
                  <a:pt x="2856" y="16"/>
                </a:cubicBezTo>
                <a:lnTo>
                  <a:pt x="2808" y="16"/>
                </a:lnTo>
                <a:cubicBezTo>
                  <a:pt x="2804" y="16"/>
                  <a:pt x="2800" y="13"/>
                  <a:pt x="2800" y="8"/>
                </a:cubicBezTo>
                <a:cubicBezTo>
                  <a:pt x="2800" y="4"/>
                  <a:pt x="2804" y="0"/>
                  <a:pt x="2808" y="0"/>
                </a:cubicBezTo>
                <a:close/>
                <a:moveTo>
                  <a:pt x="2920" y="0"/>
                </a:moveTo>
                <a:lnTo>
                  <a:pt x="2968" y="0"/>
                </a:lnTo>
                <a:cubicBezTo>
                  <a:pt x="2973" y="0"/>
                  <a:pt x="2976" y="4"/>
                  <a:pt x="2976" y="8"/>
                </a:cubicBezTo>
                <a:cubicBezTo>
                  <a:pt x="2976" y="13"/>
                  <a:pt x="2973" y="16"/>
                  <a:pt x="2968" y="16"/>
                </a:cubicBezTo>
                <a:lnTo>
                  <a:pt x="2920" y="16"/>
                </a:lnTo>
                <a:cubicBezTo>
                  <a:pt x="2916" y="16"/>
                  <a:pt x="2912" y="13"/>
                  <a:pt x="2912" y="8"/>
                </a:cubicBezTo>
                <a:cubicBezTo>
                  <a:pt x="2912" y="4"/>
                  <a:pt x="2916" y="0"/>
                  <a:pt x="2920" y="0"/>
                </a:cubicBezTo>
                <a:close/>
                <a:moveTo>
                  <a:pt x="3032" y="0"/>
                </a:moveTo>
                <a:lnTo>
                  <a:pt x="3080" y="0"/>
                </a:lnTo>
                <a:cubicBezTo>
                  <a:pt x="3085" y="0"/>
                  <a:pt x="3088" y="4"/>
                  <a:pt x="3088" y="8"/>
                </a:cubicBezTo>
                <a:cubicBezTo>
                  <a:pt x="3088" y="13"/>
                  <a:pt x="3085" y="16"/>
                  <a:pt x="3080" y="16"/>
                </a:cubicBezTo>
                <a:lnTo>
                  <a:pt x="3032" y="16"/>
                </a:lnTo>
                <a:cubicBezTo>
                  <a:pt x="3028" y="16"/>
                  <a:pt x="3024" y="13"/>
                  <a:pt x="3024" y="8"/>
                </a:cubicBezTo>
                <a:cubicBezTo>
                  <a:pt x="3024" y="4"/>
                  <a:pt x="3028" y="0"/>
                  <a:pt x="3032" y="0"/>
                </a:cubicBezTo>
                <a:close/>
                <a:moveTo>
                  <a:pt x="3144" y="0"/>
                </a:moveTo>
                <a:lnTo>
                  <a:pt x="3192" y="0"/>
                </a:lnTo>
                <a:cubicBezTo>
                  <a:pt x="3197" y="0"/>
                  <a:pt x="3200" y="4"/>
                  <a:pt x="3200" y="8"/>
                </a:cubicBezTo>
                <a:cubicBezTo>
                  <a:pt x="3200" y="13"/>
                  <a:pt x="3197" y="16"/>
                  <a:pt x="3192" y="16"/>
                </a:cubicBezTo>
                <a:lnTo>
                  <a:pt x="3144" y="16"/>
                </a:lnTo>
                <a:cubicBezTo>
                  <a:pt x="3140" y="16"/>
                  <a:pt x="3136" y="13"/>
                  <a:pt x="3136" y="8"/>
                </a:cubicBezTo>
                <a:cubicBezTo>
                  <a:pt x="3136" y="4"/>
                  <a:pt x="3140" y="0"/>
                  <a:pt x="3144" y="0"/>
                </a:cubicBezTo>
                <a:close/>
                <a:moveTo>
                  <a:pt x="3256" y="0"/>
                </a:moveTo>
                <a:lnTo>
                  <a:pt x="3304" y="0"/>
                </a:lnTo>
                <a:cubicBezTo>
                  <a:pt x="3309" y="0"/>
                  <a:pt x="3312" y="4"/>
                  <a:pt x="3312" y="8"/>
                </a:cubicBezTo>
                <a:cubicBezTo>
                  <a:pt x="3312" y="13"/>
                  <a:pt x="3309" y="16"/>
                  <a:pt x="3304" y="16"/>
                </a:cubicBezTo>
                <a:lnTo>
                  <a:pt x="3256" y="16"/>
                </a:lnTo>
                <a:cubicBezTo>
                  <a:pt x="3252" y="16"/>
                  <a:pt x="3248" y="13"/>
                  <a:pt x="3248" y="8"/>
                </a:cubicBezTo>
                <a:cubicBezTo>
                  <a:pt x="3248" y="4"/>
                  <a:pt x="3252" y="0"/>
                  <a:pt x="3256" y="0"/>
                </a:cubicBezTo>
                <a:close/>
                <a:moveTo>
                  <a:pt x="3368" y="0"/>
                </a:moveTo>
                <a:lnTo>
                  <a:pt x="3416" y="0"/>
                </a:lnTo>
                <a:cubicBezTo>
                  <a:pt x="3421" y="0"/>
                  <a:pt x="3424" y="4"/>
                  <a:pt x="3424" y="8"/>
                </a:cubicBezTo>
                <a:cubicBezTo>
                  <a:pt x="3424" y="13"/>
                  <a:pt x="3421" y="16"/>
                  <a:pt x="3416" y="16"/>
                </a:cubicBezTo>
                <a:lnTo>
                  <a:pt x="3368" y="16"/>
                </a:lnTo>
                <a:cubicBezTo>
                  <a:pt x="3364" y="16"/>
                  <a:pt x="3360" y="13"/>
                  <a:pt x="3360" y="8"/>
                </a:cubicBezTo>
                <a:cubicBezTo>
                  <a:pt x="3360" y="4"/>
                  <a:pt x="3364" y="0"/>
                  <a:pt x="3368" y="0"/>
                </a:cubicBezTo>
                <a:close/>
                <a:moveTo>
                  <a:pt x="3480" y="0"/>
                </a:moveTo>
                <a:lnTo>
                  <a:pt x="3528" y="0"/>
                </a:lnTo>
                <a:cubicBezTo>
                  <a:pt x="3533" y="0"/>
                  <a:pt x="3536" y="4"/>
                  <a:pt x="3536" y="8"/>
                </a:cubicBezTo>
                <a:cubicBezTo>
                  <a:pt x="3536" y="13"/>
                  <a:pt x="3533" y="16"/>
                  <a:pt x="3528" y="16"/>
                </a:cubicBezTo>
                <a:lnTo>
                  <a:pt x="3480" y="16"/>
                </a:lnTo>
                <a:cubicBezTo>
                  <a:pt x="3476" y="16"/>
                  <a:pt x="3472" y="13"/>
                  <a:pt x="3472" y="8"/>
                </a:cubicBezTo>
                <a:cubicBezTo>
                  <a:pt x="3472" y="4"/>
                  <a:pt x="3476" y="0"/>
                  <a:pt x="3480" y="0"/>
                </a:cubicBezTo>
                <a:close/>
                <a:moveTo>
                  <a:pt x="3592" y="0"/>
                </a:moveTo>
                <a:lnTo>
                  <a:pt x="3640" y="0"/>
                </a:lnTo>
                <a:cubicBezTo>
                  <a:pt x="3645" y="0"/>
                  <a:pt x="3648" y="4"/>
                  <a:pt x="3648" y="8"/>
                </a:cubicBezTo>
                <a:cubicBezTo>
                  <a:pt x="3648" y="13"/>
                  <a:pt x="3645" y="16"/>
                  <a:pt x="3640" y="16"/>
                </a:cubicBezTo>
                <a:lnTo>
                  <a:pt x="3592" y="16"/>
                </a:lnTo>
                <a:cubicBezTo>
                  <a:pt x="3588" y="16"/>
                  <a:pt x="3584" y="13"/>
                  <a:pt x="3584" y="8"/>
                </a:cubicBezTo>
                <a:cubicBezTo>
                  <a:pt x="3584" y="4"/>
                  <a:pt x="3588" y="0"/>
                  <a:pt x="3592" y="0"/>
                </a:cubicBezTo>
                <a:close/>
                <a:moveTo>
                  <a:pt x="3704" y="0"/>
                </a:moveTo>
                <a:lnTo>
                  <a:pt x="3752" y="0"/>
                </a:lnTo>
                <a:cubicBezTo>
                  <a:pt x="3757" y="0"/>
                  <a:pt x="3760" y="4"/>
                  <a:pt x="3760" y="8"/>
                </a:cubicBezTo>
                <a:cubicBezTo>
                  <a:pt x="3760" y="13"/>
                  <a:pt x="3757" y="16"/>
                  <a:pt x="3752" y="16"/>
                </a:cubicBezTo>
                <a:lnTo>
                  <a:pt x="3704" y="16"/>
                </a:lnTo>
                <a:cubicBezTo>
                  <a:pt x="3700" y="16"/>
                  <a:pt x="3696" y="13"/>
                  <a:pt x="3696" y="8"/>
                </a:cubicBezTo>
                <a:cubicBezTo>
                  <a:pt x="3696" y="4"/>
                  <a:pt x="3700" y="0"/>
                  <a:pt x="3704" y="0"/>
                </a:cubicBezTo>
                <a:close/>
                <a:moveTo>
                  <a:pt x="3816" y="0"/>
                </a:moveTo>
                <a:lnTo>
                  <a:pt x="3864" y="0"/>
                </a:lnTo>
                <a:cubicBezTo>
                  <a:pt x="3869" y="0"/>
                  <a:pt x="3872" y="4"/>
                  <a:pt x="3872" y="8"/>
                </a:cubicBezTo>
                <a:cubicBezTo>
                  <a:pt x="3872" y="13"/>
                  <a:pt x="3869" y="16"/>
                  <a:pt x="3864" y="16"/>
                </a:cubicBezTo>
                <a:lnTo>
                  <a:pt x="3816" y="16"/>
                </a:lnTo>
                <a:cubicBezTo>
                  <a:pt x="3812" y="16"/>
                  <a:pt x="3808" y="13"/>
                  <a:pt x="3808" y="8"/>
                </a:cubicBezTo>
                <a:cubicBezTo>
                  <a:pt x="3808" y="4"/>
                  <a:pt x="3812" y="0"/>
                  <a:pt x="3816" y="0"/>
                </a:cubicBezTo>
                <a:close/>
                <a:moveTo>
                  <a:pt x="3928" y="0"/>
                </a:moveTo>
                <a:lnTo>
                  <a:pt x="3976" y="0"/>
                </a:lnTo>
                <a:cubicBezTo>
                  <a:pt x="3981" y="0"/>
                  <a:pt x="3984" y="4"/>
                  <a:pt x="3984" y="8"/>
                </a:cubicBezTo>
                <a:cubicBezTo>
                  <a:pt x="3984" y="13"/>
                  <a:pt x="3981" y="16"/>
                  <a:pt x="3976" y="16"/>
                </a:cubicBezTo>
                <a:lnTo>
                  <a:pt x="3928" y="16"/>
                </a:lnTo>
                <a:cubicBezTo>
                  <a:pt x="3924" y="16"/>
                  <a:pt x="3920" y="13"/>
                  <a:pt x="3920" y="8"/>
                </a:cubicBezTo>
                <a:cubicBezTo>
                  <a:pt x="3920" y="4"/>
                  <a:pt x="3924" y="0"/>
                  <a:pt x="3928" y="0"/>
                </a:cubicBezTo>
                <a:close/>
                <a:moveTo>
                  <a:pt x="4040" y="0"/>
                </a:moveTo>
                <a:lnTo>
                  <a:pt x="4088" y="0"/>
                </a:lnTo>
                <a:cubicBezTo>
                  <a:pt x="4093" y="0"/>
                  <a:pt x="4096" y="4"/>
                  <a:pt x="4096" y="8"/>
                </a:cubicBezTo>
                <a:cubicBezTo>
                  <a:pt x="4096" y="13"/>
                  <a:pt x="4093" y="16"/>
                  <a:pt x="4088" y="16"/>
                </a:cubicBezTo>
                <a:lnTo>
                  <a:pt x="4040" y="16"/>
                </a:lnTo>
                <a:cubicBezTo>
                  <a:pt x="4036" y="16"/>
                  <a:pt x="4032" y="13"/>
                  <a:pt x="4032" y="8"/>
                </a:cubicBezTo>
                <a:cubicBezTo>
                  <a:pt x="4032" y="4"/>
                  <a:pt x="4036" y="0"/>
                  <a:pt x="4040" y="0"/>
                </a:cubicBezTo>
                <a:close/>
                <a:moveTo>
                  <a:pt x="4152" y="0"/>
                </a:moveTo>
                <a:lnTo>
                  <a:pt x="4200" y="0"/>
                </a:lnTo>
                <a:cubicBezTo>
                  <a:pt x="4205" y="0"/>
                  <a:pt x="4208" y="4"/>
                  <a:pt x="4208" y="8"/>
                </a:cubicBezTo>
                <a:cubicBezTo>
                  <a:pt x="4208" y="13"/>
                  <a:pt x="4205" y="16"/>
                  <a:pt x="4200" y="16"/>
                </a:cubicBezTo>
                <a:lnTo>
                  <a:pt x="4152" y="16"/>
                </a:lnTo>
                <a:cubicBezTo>
                  <a:pt x="4148" y="16"/>
                  <a:pt x="4144" y="13"/>
                  <a:pt x="4144" y="8"/>
                </a:cubicBezTo>
                <a:cubicBezTo>
                  <a:pt x="4144" y="4"/>
                  <a:pt x="4148" y="0"/>
                  <a:pt x="4152" y="0"/>
                </a:cubicBezTo>
                <a:close/>
                <a:moveTo>
                  <a:pt x="4264" y="0"/>
                </a:moveTo>
                <a:lnTo>
                  <a:pt x="4312" y="0"/>
                </a:lnTo>
                <a:cubicBezTo>
                  <a:pt x="4317" y="0"/>
                  <a:pt x="4320" y="4"/>
                  <a:pt x="4320" y="8"/>
                </a:cubicBezTo>
                <a:cubicBezTo>
                  <a:pt x="4320" y="13"/>
                  <a:pt x="4317" y="16"/>
                  <a:pt x="4312" y="16"/>
                </a:cubicBezTo>
                <a:lnTo>
                  <a:pt x="4264" y="16"/>
                </a:lnTo>
                <a:cubicBezTo>
                  <a:pt x="4260" y="16"/>
                  <a:pt x="4256" y="13"/>
                  <a:pt x="4256" y="8"/>
                </a:cubicBezTo>
                <a:cubicBezTo>
                  <a:pt x="4256" y="4"/>
                  <a:pt x="4260" y="0"/>
                  <a:pt x="4264" y="0"/>
                </a:cubicBezTo>
                <a:close/>
                <a:moveTo>
                  <a:pt x="4376" y="0"/>
                </a:moveTo>
                <a:lnTo>
                  <a:pt x="4424" y="0"/>
                </a:lnTo>
                <a:cubicBezTo>
                  <a:pt x="4429" y="0"/>
                  <a:pt x="4432" y="4"/>
                  <a:pt x="4432" y="8"/>
                </a:cubicBezTo>
                <a:cubicBezTo>
                  <a:pt x="4432" y="13"/>
                  <a:pt x="4429" y="16"/>
                  <a:pt x="4424" y="16"/>
                </a:cubicBezTo>
                <a:lnTo>
                  <a:pt x="4376" y="16"/>
                </a:lnTo>
                <a:cubicBezTo>
                  <a:pt x="4372" y="16"/>
                  <a:pt x="4368" y="13"/>
                  <a:pt x="4368" y="8"/>
                </a:cubicBezTo>
                <a:cubicBezTo>
                  <a:pt x="4368" y="4"/>
                  <a:pt x="4372" y="0"/>
                  <a:pt x="4376" y="0"/>
                </a:cubicBezTo>
                <a:close/>
                <a:moveTo>
                  <a:pt x="4488" y="0"/>
                </a:moveTo>
                <a:lnTo>
                  <a:pt x="4536" y="0"/>
                </a:lnTo>
                <a:cubicBezTo>
                  <a:pt x="4541" y="0"/>
                  <a:pt x="4544" y="4"/>
                  <a:pt x="4544" y="8"/>
                </a:cubicBezTo>
                <a:cubicBezTo>
                  <a:pt x="4544" y="13"/>
                  <a:pt x="4541" y="16"/>
                  <a:pt x="4536" y="16"/>
                </a:cubicBezTo>
                <a:lnTo>
                  <a:pt x="4488" y="16"/>
                </a:lnTo>
                <a:cubicBezTo>
                  <a:pt x="4484" y="16"/>
                  <a:pt x="4480" y="13"/>
                  <a:pt x="4480" y="8"/>
                </a:cubicBezTo>
                <a:cubicBezTo>
                  <a:pt x="4480" y="4"/>
                  <a:pt x="4484" y="0"/>
                  <a:pt x="4488" y="0"/>
                </a:cubicBezTo>
                <a:close/>
                <a:moveTo>
                  <a:pt x="4600" y="0"/>
                </a:moveTo>
                <a:lnTo>
                  <a:pt x="4648" y="0"/>
                </a:lnTo>
                <a:cubicBezTo>
                  <a:pt x="4653" y="0"/>
                  <a:pt x="4656" y="4"/>
                  <a:pt x="4656" y="8"/>
                </a:cubicBezTo>
                <a:cubicBezTo>
                  <a:pt x="4656" y="13"/>
                  <a:pt x="4653" y="16"/>
                  <a:pt x="4648" y="16"/>
                </a:cubicBezTo>
                <a:lnTo>
                  <a:pt x="4600" y="16"/>
                </a:lnTo>
                <a:cubicBezTo>
                  <a:pt x="4596" y="16"/>
                  <a:pt x="4592" y="13"/>
                  <a:pt x="4592" y="8"/>
                </a:cubicBezTo>
                <a:cubicBezTo>
                  <a:pt x="4592" y="4"/>
                  <a:pt x="4596" y="0"/>
                  <a:pt x="4600" y="0"/>
                </a:cubicBezTo>
                <a:close/>
                <a:moveTo>
                  <a:pt x="4712" y="0"/>
                </a:moveTo>
                <a:lnTo>
                  <a:pt x="4760" y="0"/>
                </a:lnTo>
                <a:cubicBezTo>
                  <a:pt x="4765" y="0"/>
                  <a:pt x="4768" y="4"/>
                  <a:pt x="4768" y="8"/>
                </a:cubicBezTo>
                <a:cubicBezTo>
                  <a:pt x="4768" y="13"/>
                  <a:pt x="4765" y="16"/>
                  <a:pt x="4760" y="16"/>
                </a:cubicBezTo>
                <a:lnTo>
                  <a:pt x="4712" y="16"/>
                </a:lnTo>
                <a:cubicBezTo>
                  <a:pt x="4708" y="16"/>
                  <a:pt x="4704" y="13"/>
                  <a:pt x="4704" y="8"/>
                </a:cubicBezTo>
                <a:cubicBezTo>
                  <a:pt x="4704" y="4"/>
                  <a:pt x="4708" y="0"/>
                  <a:pt x="4712" y="0"/>
                </a:cubicBezTo>
                <a:close/>
                <a:moveTo>
                  <a:pt x="4824" y="0"/>
                </a:moveTo>
                <a:lnTo>
                  <a:pt x="4872" y="0"/>
                </a:lnTo>
                <a:cubicBezTo>
                  <a:pt x="4877" y="0"/>
                  <a:pt x="4880" y="4"/>
                  <a:pt x="4880" y="8"/>
                </a:cubicBezTo>
                <a:cubicBezTo>
                  <a:pt x="4880" y="13"/>
                  <a:pt x="4877" y="16"/>
                  <a:pt x="4872" y="16"/>
                </a:cubicBezTo>
                <a:lnTo>
                  <a:pt x="4824" y="16"/>
                </a:lnTo>
                <a:cubicBezTo>
                  <a:pt x="4820" y="16"/>
                  <a:pt x="4816" y="13"/>
                  <a:pt x="4816" y="8"/>
                </a:cubicBezTo>
                <a:cubicBezTo>
                  <a:pt x="4816" y="4"/>
                  <a:pt x="4820" y="0"/>
                  <a:pt x="4824" y="0"/>
                </a:cubicBezTo>
                <a:close/>
                <a:moveTo>
                  <a:pt x="4936" y="0"/>
                </a:moveTo>
                <a:lnTo>
                  <a:pt x="4984" y="0"/>
                </a:lnTo>
                <a:cubicBezTo>
                  <a:pt x="4989" y="0"/>
                  <a:pt x="4992" y="4"/>
                  <a:pt x="4992" y="8"/>
                </a:cubicBezTo>
                <a:cubicBezTo>
                  <a:pt x="4992" y="13"/>
                  <a:pt x="4989" y="16"/>
                  <a:pt x="4984" y="16"/>
                </a:cubicBezTo>
                <a:lnTo>
                  <a:pt x="4936" y="16"/>
                </a:lnTo>
                <a:cubicBezTo>
                  <a:pt x="4932" y="16"/>
                  <a:pt x="4928" y="13"/>
                  <a:pt x="4928" y="8"/>
                </a:cubicBezTo>
                <a:cubicBezTo>
                  <a:pt x="4928" y="4"/>
                  <a:pt x="4932" y="0"/>
                  <a:pt x="4936" y="0"/>
                </a:cubicBezTo>
                <a:close/>
                <a:moveTo>
                  <a:pt x="5048" y="0"/>
                </a:moveTo>
                <a:lnTo>
                  <a:pt x="5096" y="0"/>
                </a:lnTo>
                <a:cubicBezTo>
                  <a:pt x="5101" y="0"/>
                  <a:pt x="5104" y="4"/>
                  <a:pt x="5104" y="8"/>
                </a:cubicBezTo>
                <a:cubicBezTo>
                  <a:pt x="5104" y="13"/>
                  <a:pt x="5101" y="16"/>
                  <a:pt x="5096" y="16"/>
                </a:cubicBezTo>
                <a:lnTo>
                  <a:pt x="5048" y="16"/>
                </a:lnTo>
                <a:cubicBezTo>
                  <a:pt x="5044" y="16"/>
                  <a:pt x="5040" y="13"/>
                  <a:pt x="5040" y="8"/>
                </a:cubicBezTo>
                <a:cubicBezTo>
                  <a:pt x="5040" y="4"/>
                  <a:pt x="5044" y="0"/>
                  <a:pt x="5048" y="0"/>
                </a:cubicBezTo>
                <a:close/>
                <a:moveTo>
                  <a:pt x="5160" y="0"/>
                </a:moveTo>
                <a:lnTo>
                  <a:pt x="5208" y="0"/>
                </a:lnTo>
                <a:cubicBezTo>
                  <a:pt x="5213" y="0"/>
                  <a:pt x="5216" y="4"/>
                  <a:pt x="5216" y="8"/>
                </a:cubicBezTo>
                <a:cubicBezTo>
                  <a:pt x="5216" y="13"/>
                  <a:pt x="5213" y="16"/>
                  <a:pt x="5208" y="16"/>
                </a:cubicBezTo>
                <a:lnTo>
                  <a:pt x="5160" y="16"/>
                </a:lnTo>
                <a:cubicBezTo>
                  <a:pt x="5156" y="16"/>
                  <a:pt x="5152" y="13"/>
                  <a:pt x="5152" y="8"/>
                </a:cubicBezTo>
                <a:cubicBezTo>
                  <a:pt x="5152" y="4"/>
                  <a:pt x="5156" y="0"/>
                  <a:pt x="5160" y="0"/>
                </a:cubicBezTo>
                <a:close/>
                <a:moveTo>
                  <a:pt x="5272" y="0"/>
                </a:moveTo>
                <a:lnTo>
                  <a:pt x="5320" y="0"/>
                </a:lnTo>
                <a:cubicBezTo>
                  <a:pt x="5325" y="0"/>
                  <a:pt x="5328" y="4"/>
                  <a:pt x="5328" y="8"/>
                </a:cubicBezTo>
                <a:cubicBezTo>
                  <a:pt x="5328" y="13"/>
                  <a:pt x="5325" y="16"/>
                  <a:pt x="5320" y="16"/>
                </a:cubicBezTo>
                <a:lnTo>
                  <a:pt x="5272" y="16"/>
                </a:lnTo>
                <a:cubicBezTo>
                  <a:pt x="5268" y="16"/>
                  <a:pt x="5264" y="13"/>
                  <a:pt x="5264" y="8"/>
                </a:cubicBezTo>
                <a:cubicBezTo>
                  <a:pt x="5264" y="4"/>
                  <a:pt x="5268" y="0"/>
                  <a:pt x="5272" y="0"/>
                </a:cubicBezTo>
                <a:close/>
                <a:moveTo>
                  <a:pt x="5384" y="0"/>
                </a:moveTo>
                <a:lnTo>
                  <a:pt x="5432" y="0"/>
                </a:lnTo>
                <a:cubicBezTo>
                  <a:pt x="5437" y="0"/>
                  <a:pt x="5440" y="4"/>
                  <a:pt x="5440" y="8"/>
                </a:cubicBezTo>
                <a:cubicBezTo>
                  <a:pt x="5440" y="13"/>
                  <a:pt x="5437" y="16"/>
                  <a:pt x="5432" y="16"/>
                </a:cubicBezTo>
                <a:lnTo>
                  <a:pt x="5384" y="16"/>
                </a:lnTo>
                <a:cubicBezTo>
                  <a:pt x="5380" y="16"/>
                  <a:pt x="5376" y="13"/>
                  <a:pt x="5376" y="8"/>
                </a:cubicBezTo>
                <a:cubicBezTo>
                  <a:pt x="5376" y="4"/>
                  <a:pt x="5380" y="0"/>
                  <a:pt x="5384" y="0"/>
                </a:cubicBezTo>
                <a:close/>
                <a:moveTo>
                  <a:pt x="5496" y="0"/>
                </a:moveTo>
                <a:lnTo>
                  <a:pt x="5544" y="0"/>
                </a:lnTo>
                <a:cubicBezTo>
                  <a:pt x="5549" y="0"/>
                  <a:pt x="5552" y="4"/>
                  <a:pt x="5552" y="8"/>
                </a:cubicBezTo>
                <a:cubicBezTo>
                  <a:pt x="5552" y="13"/>
                  <a:pt x="5549" y="16"/>
                  <a:pt x="5544" y="16"/>
                </a:cubicBezTo>
                <a:lnTo>
                  <a:pt x="5496" y="16"/>
                </a:lnTo>
                <a:cubicBezTo>
                  <a:pt x="5492" y="16"/>
                  <a:pt x="5488" y="13"/>
                  <a:pt x="5488" y="8"/>
                </a:cubicBezTo>
                <a:cubicBezTo>
                  <a:pt x="5488" y="4"/>
                  <a:pt x="5492" y="0"/>
                  <a:pt x="5496" y="0"/>
                </a:cubicBezTo>
                <a:close/>
                <a:moveTo>
                  <a:pt x="5608" y="0"/>
                </a:moveTo>
                <a:lnTo>
                  <a:pt x="5656" y="0"/>
                </a:lnTo>
                <a:cubicBezTo>
                  <a:pt x="5661" y="0"/>
                  <a:pt x="5664" y="4"/>
                  <a:pt x="5664" y="8"/>
                </a:cubicBezTo>
                <a:cubicBezTo>
                  <a:pt x="5664" y="13"/>
                  <a:pt x="5661" y="16"/>
                  <a:pt x="5656" y="16"/>
                </a:cubicBezTo>
                <a:lnTo>
                  <a:pt x="5608" y="16"/>
                </a:lnTo>
                <a:cubicBezTo>
                  <a:pt x="5604" y="16"/>
                  <a:pt x="5600" y="13"/>
                  <a:pt x="5600" y="8"/>
                </a:cubicBezTo>
                <a:cubicBezTo>
                  <a:pt x="5600" y="4"/>
                  <a:pt x="5604" y="0"/>
                  <a:pt x="5608" y="0"/>
                </a:cubicBezTo>
                <a:close/>
                <a:moveTo>
                  <a:pt x="5720" y="0"/>
                </a:moveTo>
                <a:lnTo>
                  <a:pt x="5768" y="0"/>
                </a:lnTo>
                <a:cubicBezTo>
                  <a:pt x="5773" y="0"/>
                  <a:pt x="5776" y="4"/>
                  <a:pt x="5776" y="8"/>
                </a:cubicBezTo>
                <a:cubicBezTo>
                  <a:pt x="5776" y="13"/>
                  <a:pt x="5773" y="16"/>
                  <a:pt x="5768" y="16"/>
                </a:cubicBezTo>
                <a:lnTo>
                  <a:pt x="5720" y="16"/>
                </a:lnTo>
                <a:cubicBezTo>
                  <a:pt x="5716" y="16"/>
                  <a:pt x="5712" y="13"/>
                  <a:pt x="5712" y="8"/>
                </a:cubicBezTo>
                <a:cubicBezTo>
                  <a:pt x="5712" y="4"/>
                  <a:pt x="5716" y="0"/>
                  <a:pt x="5720" y="0"/>
                </a:cubicBezTo>
                <a:close/>
                <a:moveTo>
                  <a:pt x="5832" y="0"/>
                </a:moveTo>
                <a:lnTo>
                  <a:pt x="5880" y="0"/>
                </a:lnTo>
                <a:cubicBezTo>
                  <a:pt x="5885" y="0"/>
                  <a:pt x="5888" y="4"/>
                  <a:pt x="5888" y="8"/>
                </a:cubicBezTo>
                <a:cubicBezTo>
                  <a:pt x="5888" y="13"/>
                  <a:pt x="5885" y="16"/>
                  <a:pt x="5880" y="16"/>
                </a:cubicBezTo>
                <a:lnTo>
                  <a:pt x="5832" y="16"/>
                </a:lnTo>
                <a:cubicBezTo>
                  <a:pt x="5828" y="16"/>
                  <a:pt x="5824" y="13"/>
                  <a:pt x="5824" y="8"/>
                </a:cubicBezTo>
                <a:cubicBezTo>
                  <a:pt x="5824" y="4"/>
                  <a:pt x="5828" y="0"/>
                  <a:pt x="5832" y="0"/>
                </a:cubicBezTo>
                <a:close/>
                <a:moveTo>
                  <a:pt x="5944" y="0"/>
                </a:moveTo>
                <a:lnTo>
                  <a:pt x="5992" y="0"/>
                </a:lnTo>
                <a:cubicBezTo>
                  <a:pt x="5997" y="0"/>
                  <a:pt x="6000" y="4"/>
                  <a:pt x="6000" y="8"/>
                </a:cubicBezTo>
                <a:cubicBezTo>
                  <a:pt x="6000" y="13"/>
                  <a:pt x="5997" y="16"/>
                  <a:pt x="5992" y="16"/>
                </a:cubicBezTo>
                <a:lnTo>
                  <a:pt x="5944" y="16"/>
                </a:lnTo>
                <a:cubicBezTo>
                  <a:pt x="5940" y="16"/>
                  <a:pt x="5936" y="13"/>
                  <a:pt x="5936" y="8"/>
                </a:cubicBezTo>
                <a:cubicBezTo>
                  <a:pt x="5936" y="4"/>
                  <a:pt x="5940" y="0"/>
                  <a:pt x="5944" y="0"/>
                </a:cubicBezTo>
                <a:close/>
                <a:moveTo>
                  <a:pt x="6056" y="0"/>
                </a:moveTo>
                <a:lnTo>
                  <a:pt x="6104" y="0"/>
                </a:lnTo>
                <a:cubicBezTo>
                  <a:pt x="6109" y="0"/>
                  <a:pt x="6112" y="4"/>
                  <a:pt x="6112" y="8"/>
                </a:cubicBezTo>
                <a:cubicBezTo>
                  <a:pt x="6112" y="13"/>
                  <a:pt x="6109" y="16"/>
                  <a:pt x="6104" y="16"/>
                </a:cubicBezTo>
                <a:lnTo>
                  <a:pt x="6056" y="16"/>
                </a:lnTo>
                <a:cubicBezTo>
                  <a:pt x="6052" y="16"/>
                  <a:pt x="6048" y="13"/>
                  <a:pt x="6048" y="8"/>
                </a:cubicBezTo>
                <a:cubicBezTo>
                  <a:pt x="6048" y="4"/>
                  <a:pt x="6052" y="0"/>
                  <a:pt x="6056" y="0"/>
                </a:cubicBezTo>
                <a:close/>
                <a:moveTo>
                  <a:pt x="6168" y="0"/>
                </a:moveTo>
                <a:lnTo>
                  <a:pt x="6216" y="0"/>
                </a:lnTo>
                <a:cubicBezTo>
                  <a:pt x="6221" y="0"/>
                  <a:pt x="6224" y="4"/>
                  <a:pt x="6224" y="8"/>
                </a:cubicBezTo>
                <a:cubicBezTo>
                  <a:pt x="6224" y="13"/>
                  <a:pt x="6221" y="16"/>
                  <a:pt x="6216" y="16"/>
                </a:cubicBezTo>
                <a:lnTo>
                  <a:pt x="6168" y="16"/>
                </a:lnTo>
                <a:cubicBezTo>
                  <a:pt x="6164" y="16"/>
                  <a:pt x="6160" y="13"/>
                  <a:pt x="6160" y="8"/>
                </a:cubicBezTo>
                <a:cubicBezTo>
                  <a:pt x="6160" y="4"/>
                  <a:pt x="6164" y="0"/>
                  <a:pt x="6168" y="0"/>
                </a:cubicBezTo>
                <a:close/>
                <a:moveTo>
                  <a:pt x="6280" y="0"/>
                </a:moveTo>
                <a:lnTo>
                  <a:pt x="6328" y="0"/>
                </a:lnTo>
                <a:cubicBezTo>
                  <a:pt x="6333" y="0"/>
                  <a:pt x="6336" y="4"/>
                  <a:pt x="6336" y="8"/>
                </a:cubicBezTo>
                <a:cubicBezTo>
                  <a:pt x="6336" y="13"/>
                  <a:pt x="6333" y="16"/>
                  <a:pt x="6328" y="16"/>
                </a:cubicBezTo>
                <a:lnTo>
                  <a:pt x="6280" y="16"/>
                </a:lnTo>
                <a:cubicBezTo>
                  <a:pt x="6276" y="16"/>
                  <a:pt x="6272" y="13"/>
                  <a:pt x="6272" y="8"/>
                </a:cubicBezTo>
                <a:cubicBezTo>
                  <a:pt x="6272" y="4"/>
                  <a:pt x="6276" y="0"/>
                  <a:pt x="6280" y="0"/>
                </a:cubicBezTo>
                <a:close/>
                <a:moveTo>
                  <a:pt x="6392" y="0"/>
                </a:moveTo>
                <a:lnTo>
                  <a:pt x="6440" y="0"/>
                </a:lnTo>
                <a:cubicBezTo>
                  <a:pt x="6445" y="0"/>
                  <a:pt x="6448" y="4"/>
                  <a:pt x="6448" y="8"/>
                </a:cubicBezTo>
                <a:cubicBezTo>
                  <a:pt x="6448" y="13"/>
                  <a:pt x="6445" y="16"/>
                  <a:pt x="6440" y="16"/>
                </a:cubicBezTo>
                <a:lnTo>
                  <a:pt x="6392" y="16"/>
                </a:lnTo>
                <a:cubicBezTo>
                  <a:pt x="6388" y="16"/>
                  <a:pt x="6384" y="13"/>
                  <a:pt x="6384" y="8"/>
                </a:cubicBezTo>
                <a:cubicBezTo>
                  <a:pt x="6384" y="4"/>
                  <a:pt x="6388" y="0"/>
                  <a:pt x="6392" y="0"/>
                </a:cubicBezTo>
                <a:close/>
                <a:moveTo>
                  <a:pt x="6504" y="0"/>
                </a:moveTo>
                <a:lnTo>
                  <a:pt x="6552" y="0"/>
                </a:lnTo>
                <a:cubicBezTo>
                  <a:pt x="6557" y="0"/>
                  <a:pt x="6560" y="4"/>
                  <a:pt x="6560" y="8"/>
                </a:cubicBezTo>
                <a:cubicBezTo>
                  <a:pt x="6560" y="13"/>
                  <a:pt x="6557" y="16"/>
                  <a:pt x="6552" y="16"/>
                </a:cubicBezTo>
                <a:lnTo>
                  <a:pt x="6504" y="16"/>
                </a:lnTo>
                <a:cubicBezTo>
                  <a:pt x="6500" y="16"/>
                  <a:pt x="6496" y="13"/>
                  <a:pt x="6496" y="8"/>
                </a:cubicBezTo>
                <a:cubicBezTo>
                  <a:pt x="6496" y="4"/>
                  <a:pt x="6500" y="0"/>
                  <a:pt x="6504" y="0"/>
                </a:cubicBezTo>
                <a:close/>
                <a:moveTo>
                  <a:pt x="6616" y="0"/>
                </a:moveTo>
                <a:lnTo>
                  <a:pt x="6664" y="0"/>
                </a:lnTo>
                <a:cubicBezTo>
                  <a:pt x="6669" y="0"/>
                  <a:pt x="6672" y="4"/>
                  <a:pt x="6672" y="8"/>
                </a:cubicBezTo>
                <a:cubicBezTo>
                  <a:pt x="6672" y="13"/>
                  <a:pt x="6669" y="16"/>
                  <a:pt x="6664" y="16"/>
                </a:cubicBezTo>
                <a:lnTo>
                  <a:pt x="6616" y="16"/>
                </a:lnTo>
                <a:cubicBezTo>
                  <a:pt x="6612" y="16"/>
                  <a:pt x="6608" y="13"/>
                  <a:pt x="6608" y="8"/>
                </a:cubicBezTo>
                <a:cubicBezTo>
                  <a:pt x="6608" y="4"/>
                  <a:pt x="6612" y="0"/>
                  <a:pt x="6616" y="0"/>
                </a:cubicBezTo>
                <a:close/>
                <a:moveTo>
                  <a:pt x="6728" y="0"/>
                </a:moveTo>
                <a:lnTo>
                  <a:pt x="6776" y="0"/>
                </a:lnTo>
                <a:cubicBezTo>
                  <a:pt x="6781" y="0"/>
                  <a:pt x="6784" y="4"/>
                  <a:pt x="6784" y="8"/>
                </a:cubicBezTo>
                <a:cubicBezTo>
                  <a:pt x="6784" y="13"/>
                  <a:pt x="6781" y="16"/>
                  <a:pt x="6776" y="16"/>
                </a:cubicBezTo>
                <a:lnTo>
                  <a:pt x="6728" y="16"/>
                </a:lnTo>
                <a:cubicBezTo>
                  <a:pt x="6724" y="16"/>
                  <a:pt x="6720" y="13"/>
                  <a:pt x="6720" y="8"/>
                </a:cubicBezTo>
                <a:cubicBezTo>
                  <a:pt x="6720" y="4"/>
                  <a:pt x="6724" y="0"/>
                  <a:pt x="6728" y="0"/>
                </a:cubicBezTo>
                <a:close/>
                <a:moveTo>
                  <a:pt x="6840" y="0"/>
                </a:moveTo>
                <a:lnTo>
                  <a:pt x="6888" y="0"/>
                </a:lnTo>
                <a:cubicBezTo>
                  <a:pt x="6893" y="0"/>
                  <a:pt x="6896" y="4"/>
                  <a:pt x="6896" y="8"/>
                </a:cubicBezTo>
                <a:cubicBezTo>
                  <a:pt x="6896" y="13"/>
                  <a:pt x="6893" y="16"/>
                  <a:pt x="6888" y="16"/>
                </a:cubicBezTo>
                <a:lnTo>
                  <a:pt x="6840" y="16"/>
                </a:lnTo>
                <a:cubicBezTo>
                  <a:pt x="6836" y="16"/>
                  <a:pt x="6832" y="13"/>
                  <a:pt x="6832" y="8"/>
                </a:cubicBezTo>
                <a:cubicBezTo>
                  <a:pt x="6832" y="4"/>
                  <a:pt x="6836" y="0"/>
                  <a:pt x="6840" y="0"/>
                </a:cubicBezTo>
                <a:close/>
                <a:moveTo>
                  <a:pt x="6952" y="0"/>
                </a:moveTo>
                <a:lnTo>
                  <a:pt x="7000" y="0"/>
                </a:lnTo>
                <a:cubicBezTo>
                  <a:pt x="7005" y="0"/>
                  <a:pt x="7008" y="4"/>
                  <a:pt x="7008" y="8"/>
                </a:cubicBezTo>
                <a:cubicBezTo>
                  <a:pt x="7008" y="13"/>
                  <a:pt x="7005" y="16"/>
                  <a:pt x="7000" y="16"/>
                </a:cubicBezTo>
                <a:lnTo>
                  <a:pt x="6952" y="16"/>
                </a:lnTo>
                <a:cubicBezTo>
                  <a:pt x="6948" y="16"/>
                  <a:pt x="6944" y="13"/>
                  <a:pt x="6944" y="8"/>
                </a:cubicBezTo>
                <a:cubicBezTo>
                  <a:pt x="6944" y="4"/>
                  <a:pt x="6948" y="0"/>
                  <a:pt x="6952" y="0"/>
                </a:cubicBezTo>
                <a:close/>
                <a:moveTo>
                  <a:pt x="7064" y="0"/>
                </a:moveTo>
                <a:lnTo>
                  <a:pt x="7112" y="0"/>
                </a:lnTo>
                <a:cubicBezTo>
                  <a:pt x="7117" y="0"/>
                  <a:pt x="7120" y="4"/>
                  <a:pt x="7120" y="8"/>
                </a:cubicBezTo>
                <a:cubicBezTo>
                  <a:pt x="7120" y="13"/>
                  <a:pt x="7117" y="16"/>
                  <a:pt x="7112" y="16"/>
                </a:cubicBezTo>
                <a:lnTo>
                  <a:pt x="7064" y="16"/>
                </a:lnTo>
                <a:cubicBezTo>
                  <a:pt x="7060" y="16"/>
                  <a:pt x="7056" y="13"/>
                  <a:pt x="7056" y="8"/>
                </a:cubicBezTo>
                <a:cubicBezTo>
                  <a:pt x="7056" y="4"/>
                  <a:pt x="7060" y="0"/>
                  <a:pt x="7064" y="0"/>
                </a:cubicBezTo>
                <a:close/>
                <a:moveTo>
                  <a:pt x="7176" y="0"/>
                </a:moveTo>
                <a:lnTo>
                  <a:pt x="7224" y="0"/>
                </a:lnTo>
                <a:cubicBezTo>
                  <a:pt x="7229" y="0"/>
                  <a:pt x="7232" y="4"/>
                  <a:pt x="7232" y="8"/>
                </a:cubicBezTo>
                <a:cubicBezTo>
                  <a:pt x="7232" y="13"/>
                  <a:pt x="7229" y="16"/>
                  <a:pt x="7224" y="16"/>
                </a:cubicBezTo>
                <a:lnTo>
                  <a:pt x="7176" y="16"/>
                </a:lnTo>
                <a:cubicBezTo>
                  <a:pt x="7172" y="16"/>
                  <a:pt x="7168" y="13"/>
                  <a:pt x="7168" y="8"/>
                </a:cubicBezTo>
                <a:cubicBezTo>
                  <a:pt x="7168" y="4"/>
                  <a:pt x="7172" y="0"/>
                  <a:pt x="7176" y="0"/>
                </a:cubicBezTo>
                <a:close/>
                <a:moveTo>
                  <a:pt x="7288" y="0"/>
                </a:moveTo>
                <a:lnTo>
                  <a:pt x="7336" y="0"/>
                </a:lnTo>
                <a:cubicBezTo>
                  <a:pt x="7341" y="0"/>
                  <a:pt x="7344" y="4"/>
                  <a:pt x="7344" y="8"/>
                </a:cubicBezTo>
                <a:cubicBezTo>
                  <a:pt x="7344" y="13"/>
                  <a:pt x="7341" y="16"/>
                  <a:pt x="7336" y="16"/>
                </a:cubicBezTo>
                <a:lnTo>
                  <a:pt x="7288" y="16"/>
                </a:lnTo>
                <a:cubicBezTo>
                  <a:pt x="7284" y="16"/>
                  <a:pt x="7280" y="13"/>
                  <a:pt x="7280" y="8"/>
                </a:cubicBezTo>
                <a:cubicBezTo>
                  <a:pt x="7280" y="4"/>
                  <a:pt x="7284" y="0"/>
                  <a:pt x="7288" y="0"/>
                </a:cubicBezTo>
                <a:close/>
                <a:moveTo>
                  <a:pt x="7400" y="0"/>
                </a:moveTo>
                <a:lnTo>
                  <a:pt x="7448" y="0"/>
                </a:lnTo>
                <a:cubicBezTo>
                  <a:pt x="7453" y="0"/>
                  <a:pt x="7456" y="4"/>
                  <a:pt x="7456" y="8"/>
                </a:cubicBezTo>
                <a:cubicBezTo>
                  <a:pt x="7456" y="13"/>
                  <a:pt x="7453" y="16"/>
                  <a:pt x="7448" y="16"/>
                </a:cubicBezTo>
                <a:lnTo>
                  <a:pt x="7400" y="16"/>
                </a:lnTo>
                <a:cubicBezTo>
                  <a:pt x="7396" y="16"/>
                  <a:pt x="7392" y="13"/>
                  <a:pt x="7392" y="8"/>
                </a:cubicBezTo>
                <a:cubicBezTo>
                  <a:pt x="7392" y="4"/>
                  <a:pt x="7396" y="0"/>
                  <a:pt x="7400" y="0"/>
                </a:cubicBezTo>
                <a:close/>
                <a:moveTo>
                  <a:pt x="7512" y="0"/>
                </a:moveTo>
                <a:lnTo>
                  <a:pt x="7560" y="0"/>
                </a:lnTo>
                <a:cubicBezTo>
                  <a:pt x="7565" y="0"/>
                  <a:pt x="7568" y="4"/>
                  <a:pt x="7568" y="8"/>
                </a:cubicBezTo>
                <a:cubicBezTo>
                  <a:pt x="7568" y="13"/>
                  <a:pt x="7565" y="16"/>
                  <a:pt x="7560" y="16"/>
                </a:cubicBezTo>
                <a:lnTo>
                  <a:pt x="7512" y="16"/>
                </a:lnTo>
                <a:cubicBezTo>
                  <a:pt x="7508" y="16"/>
                  <a:pt x="7504" y="13"/>
                  <a:pt x="7504" y="8"/>
                </a:cubicBezTo>
                <a:cubicBezTo>
                  <a:pt x="7504" y="4"/>
                  <a:pt x="7508" y="0"/>
                  <a:pt x="7512" y="0"/>
                </a:cubicBezTo>
                <a:close/>
                <a:moveTo>
                  <a:pt x="7624" y="0"/>
                </a:moveTo>
                <a:lnTo>
                  <a:pt x="7672" y="0"/>
                </a:lnTo>
                <a:cubicBezTo>
                  <a:pt x="7677" y="0"/>
                  <a:pt x="7680" y="4"/>
                  <a:pt x="7680" y="8"/>
                </a:cubicBezTo>
                <a:cubicBezTo>
                  <a:pt x="7680" y="13"/>
                  <a:pt x="7677" y="16"/>
                  <a:pt x="7672" y="16"/>
                </a:cubicBezTo>
                <a:lnTo>
                  <a:pt x="7624" y="16"/>
                </a:lnTo>
                <a:cubicBezTo>
                  <a:pt x="7620" y="16"/>
                  <a:pt x="7616" y="13"/>
                  <a:pt x="7616" y="8"/>
                </a:cubicBezTo>
                <a:cubicBezTo>
                  <a:pt x="7616" y="4"/>
                  <a:pt x="7620" y="0"/>
                  <a:pt x="7624" y="0"/>
                </a:cubicBezTo>
                <a:close/>
                <a:moveTo>
                  <a:pt x="7736" y="0"/>
                </a:moveTo>
                <a:lnTo>
                  <a:pt x="7784" y="0"/>
                </a:lnTo>
                <a:cubicBezTo>
                  <a:pt x="7789" y="0"/>
                  <a:pt x="7792" y="4"/>
                  <a:pt x="7792" y="8"/>
                </a:cubicBezTo>
                <a:cubicBezTo>
                  <a:pt x="7792" y="13"/>
                  <a:pt x="7789" y="16"/>
                  <a:pt x="7784" y="16"/>
                </a:cubicBezTo>
                <a:lnTo>
                  <a:pt x="7736" y="16"/>
                </a:lnTo>
                <a:cubicBezTo>
                  <a:pt x="7732" y="16"/>
                  <a:pt x="7728" y="13"/>
                  <a:pt x="7728" y="8"/>
                </a:cubicBezTo>
                <a:cubicBezTo>
                  <a:pt x="7728" y="4"/>
                  <a:pt x="7732" y="0"/>
                  <a:pt x="7736" y="0"/>
                </a:cubicBezTo>
                <a:close/>
                <a:moveTo>
                  <a:pt x="7848" y="0"/>
                </a:moveTo>
                <a:lnTo>
                  <a:pt x="7896" y="0"/>
                </a:lnTo>
                <a:cubicBezTo>
                  <a:pt x="7901" y="0"/>
                  <a:pt x="7904" y="4"/>
                  <a:pt x="7904" y="8"/>
                </a:cubicBezTo>
                <a:cubicBezTo>
                  <a:pt x="7904" y="13"/>
                  <a:pt x="7901" y="16"/>
                  <a:pt x="7896" y="16"/>
                </a:cubicBezTo>
                <a:lnTo>
                  <a:pt x="7848" y="16"/>
                </a:lnTo>
                <a:cubicBezTo>
                  <a:pt x="7844" y="16"/>
                  <a:pt x="7840" y="13"/>
                  <a:pt x="7840" y="8"/>
                </a:cubicBezTo>
                <a:cubicBezTo>
                  <a:pt x="7840" y="4"/>
                  <a:pt x="7844" y="0"/>
                  <a:pt x="7848" y="0"/>
                </a:cubicBezTo>
                <a:close/>
                <a:moveTo>
                  <a:pt x="7960" y="0"/>
                </a:moveTo>
                <a:lnTo>
                  <a:pt x="8008" y="0"/>
                </a:lnTo>
                <a:cubicBezTo>
                  <a:pt x="8013" y="0"/>
                  <a:pt x="8016" y="4"/>
                  <a:pt x="8016" y="8"/>
                </a:cubicBezTo>
                <a:cubicBezTo>
                  <a:pt x="8016" y="13"/>
                  <a:pt x="8013" y="16"/>
                  <a:pt x="8008" y="16"/>
                </a:cubicBezTo>
                <a:lnTo>
                  <a:pt x="7960" y="16"/>
                </a:lnTo>
                <a:cubicBezTo>
                  <a:pt x="7956" y="16"/>
                  <a:pt x="7952" y="13"/>
                  <a:pt x="7952" y="8"/>
                </a:cubicBezTo>
                <a:cubicBezTo>
                  <a:pt x="7952" y="4"/>
                  <a:pt x="7956" y="0"/>
                  <a:pt x="7960" y="0"/>
                </a:cubicBezTo>
                <a:close/>
                <a:moveTo>
                  <a:pt x="8072" y="0"/>
                </a:moveTo>
                <a:lnTo>
                  <a:pt x="8088" y="0"/>
                </a:lnTo>
                <a:cubicBezTo>
                  <a:pt x="8093" y="0"/>
                  <a:pt x="8096" y="4"/>
                  <a:pt x="8096" y="8"/>
                </a:cubicBezTo>
                <a:cubicBezTo>
                  <a:pt x="8096" y="13"/>
                  <a:pt x="8093" y="16"/>
                  <a:pt x="8088" y="16"/>
                </a:cubicBezTo>
                <a:lnTo>
                  <a:pt x="8072" y="16"/>
                </a:lnTo>
                <a:cubicBezTo>
                  <a:pt x="8068" y="16"/>
                  <a:pt x="8064" y="13"/>
                  <a:pt x="8064" y="8"/>
                </a:cubicBezTo>
                <a:cubicBezTo>
                  <a:pt x="8064" y="4"/>
                  <a:pt x="8068" y="0"/>
                  <a:pt x="8072" y="0"/>
                </a:cubicBezTo>
                <a:close/>
              </a:path>
            </a:pathLst>
          </a:custGeom>
          <a:solidFill>
            <a:srgbClr val="000000"/>
          </a:solidFill>
          <a:ln w="1440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600360" y="52941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verage:-2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5867280" y="6237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46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00360" y="333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E41-03 vs ISO362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706320" y="1004760"/>
            <a:ext cx="7750440" cy="4902480"/>
            <a:chOff x="706320" y="1004760"/>
            <a:chExt cx="7750440" cy="4902480"/>
          </a:xfrm>
        </p:grpSpPr>
        <p:sp>
          <p:nvSpPr>
            <p:cNvPr id="1324" name=""/>
            <p:cNvSpPr/>
            <p:nvPr/>
          </p:nvSpPr>
          <p:spPr>
            <a:xfrm>
              <a:off x="1442880" y="486576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442880" y="457668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442880" y="428796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442880" y="39974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442880" y="370836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442880" y="34196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442880" y="313056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442880" y="28274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442880" y="253692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42880" y="224784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442880" y="195912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42880" y="16700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442880" y="138096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442880" y="10922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442880" y="1092240"/>
              <a:ext cx="6897960" cy="40622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442880" y="1092240"/>
              <a:ext cx="1800" cy="406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442880" y="51544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442880" y="48657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442880" y="4576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42880" y="42879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442880" y="39974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42880" y="37083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42880" y="3419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442880" y="31305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442880" y="28274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42880" y="25369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42880" y="224784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442880" y="19591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442880" y="16700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42880" y="1380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42880" y="10922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42880" y="515448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144288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193500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242712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91780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340992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90204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439272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488484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39100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588168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637380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686592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735660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784872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834084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46720" y="433080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38840" y="362268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38840" y="3592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38840" y="3708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821640" y="3071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30960" y="40114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346720" y="33177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30960" y="184320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30960" y="314496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21640" y="2031840"/>
              <a:ext cx="87120" cy="8604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821640" y="3303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30960" y="300024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821640" y="2349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821640" y="282744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229440" y="297180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54520" y="4359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57760" y="404172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14920" y="4894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13040" y="469260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6716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670200" y="453240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010280" y="181440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56040" y="3637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575400" y="3405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89480" y="334800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084720" y="2522520"/>
              <a:ext cx="8604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98880" y="352116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865920" y="35211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764400" y="223344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11880" y="2465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46720" y="2031840"/>
              <a:ext cx="87120" cy="8604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272280" y="3492360"/>
              <a:ext cx="87120" cy="8604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010280" y="287028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330960" y="360684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704000" y="1973160"/>
              <a:ext cx="8604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721560" y="31161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330960" y="321804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856040" y="39258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00040" y="4662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82840" y="4764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317340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14920" y="4127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74960" y="4186080"/>
              <a:ext cx="87480" cy="8604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43600" y="3535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019320" y="448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43600" y="2233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1573200" y="515412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23840" y="5067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23840" y="4778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23840" y="4489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23840" y="42004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023840" y="3911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023840" y="36226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023840" y="3332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023840" y="3043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023840" y="2739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023840" y="2451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023840" y="2162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023840" y="1873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023840" y="1582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23840" y="12938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23840" y="1004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32876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81908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1120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0188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29400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78612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7644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6856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7508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6720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5788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5000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4212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73244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22456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165560" y="5632560"/>
              <a:ext cx="142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ECE41-03(d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6200000">
              <a:off x="140760" y="2970720"/>
              <a:ext cx="140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ISO362-2(d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1508040" y="1098360"/>
              <a:ext cx="6824880" cy="401940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"/>
          <p:cNvGrpSpPr/>
          <p:nvPr/>
        </p:nvGrpSpPr>
        <p:grpSpPr>
          <a:xfrm>
            <a:off x="590400" y="260280"/>
            <a:ext cx="8158320" cy="5679360"/>
            <a:chOff x="590400" y="260280"/>
            <a:chExt cx="8158320" cy="5679360"/>
          </a:xfrm>
        </p:grpSpPr>
        <p:sp>
          <p:nvSpPr>
            <p:cNvPr id="1452" name=""/>
            <p:cNvSpPr/>
            <p:nvPr/>
          </p:nvSpPr>
          <p:spPr>
            <a:xfrm>
              <a:off x="1353960" y="487188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53960" y="457848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53960" y="428472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53960" y="399240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53960" y="369900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353960" y="340524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353960" y="311148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353960" y="281772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353960" y="252396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353960" y="223056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53960" y="193824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164448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135108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353960" y="105732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353960" y="1057320"/>
              <a:ext cx="5882040" cy="41083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53960" y="1057320"/>
              <a:ext cx="1800" cy="410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53960" y="516564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353960" y="48718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353960" y="457848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353960" y="42847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53960" y="399240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353960" y="36990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353960" y="34052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353960" y="311148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353960" y="28177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353960" y="2523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353960" y="22305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353960" y="193824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53960" y="16444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53960" y="135108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53960" y="10573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53960" y="516564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135396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177156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218916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260820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304020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345924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387684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429408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471168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513072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554832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598176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639936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681660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723600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67400" y="43290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086440" y="3625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86440" y="3595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86440" y="3699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937120" y="30528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504040" y="402120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667400" y="330192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504040" y="182088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504040" y="312588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37120" y="2011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37120" y="3301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504040" y="2979720"/>
              <a:ext cx="8856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37120" y="2333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937120" y="28177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29160" y="2949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160880" y="4359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413160" y="4035600"/>
              <a:ext cx="90360" cy="8856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9" y="0"/>
                  </a:moveTo>
                  <a:lnTo>
                    <a:pt x="57" y="28"/>
                  </a:lnTo>
                  <a:lnTo>
                    <a:pt x="29" y="56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368520" y="4902120"/>
              <a:ext cx="9072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79600" y="4695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070080" y="440208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235320" y="45356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00920" y="17906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249800" y="3625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727600" y="33908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22760" y="3332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294160" y="250992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294080" y="3508200"/>
              <a:ext cx="9072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965920" y="350820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9" y="0"/>
                  </a:moveTo>
                  <a:lnTo>
                    <a:pt x="57" y="27"/>
                  </a:lnTo>
                  <a:lnTo>
                    <a:pt x="29" y="55"/>
                  </a:lnTo>
                  <a:lnTo>
                    <a:pt x="0" y="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891040" y="221616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9" y="0"/>
                  </a:moveTo>
                  <a:lnTo>
                    <a:pt x="57" y="28"/>
                  </a:lnTo>
                  <a:lnTo>
                    <a:pt x="29" y="56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264360" y="245124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9" y="0"/>
                  </a:moveTo>
                  <a:lnTo>
                    <a:pt x="57" y="28"/>
                  </a:lnTo>
                  <a:lnTo>
                    <a:pt x="29" y="56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67400" y="201132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473800" y="3478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00920" y="2862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504040" y="3595680"/>
              <a:ext cx="8856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3400" y="19526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846760" y="309708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504040" y="321480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49800" y="39178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09680" y="4667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44880" y="476892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787920" y="31561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368520" y="4124160"/>
              <a:ext cx="9072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562120" y="4183200"/>
              <a:ext cx="90720" cy="8712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9" y="0"/>
                  </a:moveTo>
                  <a:lnTo>
                    <a:pt x="57" y="27"/>
                  </a:lnTo>
                  <a:lnTo>
                    <a:pt x="29" y="55"/>
                  </a:lnTo>
                  <a:lnTo>
                    <a:pt x="0" y="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13240" y="352260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9" y="0"/>
                  </a:moveTo>
                  <a:lnTo>
                    <a:pt x="57" y="28"/>
                  </a:lnTo>
                  <a:lnTo>
                    <a:pt x="29" y="55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97120" y="4491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413240" y="22161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9" y="0"/>
                  </a:moveTo>
                  <a:lnTo>
                    <a:pt x="57" y="28"/>
                  </a:lnTo>
                  <a:lnTo>
                    <a:pt x="29" y="56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249200" y="4608360"/>
              <a:ext cx="193680" cy="190800"/>
            </a:xfrm>
            <a:prstGeom prst="ellipse">
              <a:avLst/>
            </a:prstGeom>
            <a:noFill/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1473120" y="5165280"/>
              <a:ext cx="18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922320" y="5076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922320" y="4784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922320" y="4491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22320" y="4197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922320" y="39038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22320" y="3610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22320" y="3316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22320" y="3024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922320" y="27306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922320" y="24368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922320" y="2143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22320" y="1849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22320" y="15559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22320" y="12636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22320" y="9698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23480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65240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07144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48904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248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4008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5768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17492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59396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01156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42916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6260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8020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9744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11648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54280" y="5649840"/>
              <a:ext cx="1495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ECE41-03(dB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16200000">
              <a:off x="-3240" y="2931480"/>
              <a:ext cx="1477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ISO362-2(dB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534440" y="2759040"/>
              <a:ext cx="1133280" cy="1101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728120" y="2847960"/>
              <a:ext cx="8856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024400" y="2817720"/>
              <a:ext cx="19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728120" y="3083040"/>
              <a:ext cx="74520" cy="73080"/>
            </a:xfrm>
            <a:prstGeom prst="ellipse">
              <a:avLst/>
            </a:prstGeom>
            <a:noFill/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036280" y="3052800"/>
              <a:ext cx="49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Class 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593120" y="3360600"/>
              <a:ext cx="3585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109000" y="3517920"/>
              <a:ext cx="28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All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1362240" y="1065240"/>
              <a:ext cx="5879880" cy="409248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846600" y="3903840"/>
              <a:ext cx="15840" cy="1261800"/>
            </a:xfrm>
            <a:custGeom>
              <a:avLst/>
              <a:gdLst/>
              <a:ahLst/>
              <a:rect l="l" t="t" r="r" b="b"/>
              <a:pathLst>
                <a:path w="16" h="1376">
                  <a:moveTo>
                    <a:pt x="0" y="1368"/>
                  </a:moveTo>
                  <a:lnTo>
                    <a:pt x="0" y="1320"/>
                  </a:lnTo>
                  <a:cubicBezTo>
                    <a:pt x="0" y="1316"/>
                    <a:pt x="4" y="1312"/>
                    <a:pt x="8" y="1312"/>
                  </a:cubicBezTo>
                  <a:cubicBezTo>
                    <a:pt x="13" y="1312"/>
                    <a:pt x="16" y="1316"/>
                    <a:pt x="16" y="1320"/>
                  </a:cubicBezTo>
                  <a:lnTo>
                    <a:pt x="16" y="1368"/>
                  </a:lnTo>
                  <a:cubicBezTo>
                    <a:pt x="16" y="1373"/>
                    <a:pt x="13" y="1376"/>
                    <a:pt x="8" y="1376"/>
                  </a:cubicBezTo>
                  <a:cubicBezTo>
                    <a:pt x="4" y="1376"/>
                    <a:pt x="0" y="1373"/>
                    <a:pt x="0" y="1368"/>
                  </a:cubicBezTo>
                  <a:close/>
                  <a:moveTo>
                    <a:pt x="0" y="1256"/>
                  </a:moveTo>
                  <a:lnTo>
                    <a:pt x="0" y="1208"/>
                  </a:lnTo>
                  <a:cubicBezTo>
                    <a:pt x="0" y="1204"/>
                    <a:pt x="4" y="1200"/>
                    <a:pt x="8" y="1200"/>
                  </a:cubicBezTo>
                  <a:cubicBezTo>
                    <a:pt x="13" y="1200"/>
                    <a:pt x="16" y="1204"/>
                    <a:pt x="16" y="1208"/>
                  </a:cubicBezTo>
                  <a:lnTo>
                    <a:pt x="16" y="1256"/>
                  </a:lnTo>
                  <a:cubicBezTo>
                    <a:pt x="16" y="1261"/>
                    <a:pt x="13" y="1264"/>
                    <a:pt x="8" y="1264"/>
                  </a:cubicBezTo>
                  <a:cubicBezTo>
                    <a:pt x="4" y="1264"/>
                    <a:pt x="0" y="1261"/>
                    <a:pt x="0" y="1256"/>
                  </a:cubicBezTo>
                  <a:close/>
                  <a:moveTo>
                    <a:pt x="0" y="1144"/>
                  </a:moveTo>
                  <a:lnTo>
                    <a:pt x="0" y="1096"/>
                  </a:lnTo>
                  <a:cubicBezTo>
                    <a:pt x="0" y="1092"/>
                    <a:pt x="4" y="1088"/>
                    <a:pt x="8" y="1088"/>
                  </a:cubicBezTo>
                  <a:cubicBezTo>
                    <a:pt x="13" y="1088"/>
                    <a:pt x="16" y="1092"/>
                    <a:pt x="16" y="1096"/>
                  </a:cubicBezTo>
                  <a:lnTo>
                    <a:pt x="16" y="1144"/>
                  </a:lnTo>
                  <a:cubicBezTo>
                    <a:pt x="16" y="1149"/>
                    <a:pt x="13" y="1152"/>
                    <a:pt x="8" y="1152"/>
                  </a:cubicBezTo>
                  <a:cubicBezTo>
                    <a:pt x="4" y="1152"/>
                    <a:pt x="0" y="1149"/>
                    <a:pt x="0" y="1144"/>
                  </a:cubicBezTo>
                  <a:close/>
                  <a:moveTo>
                    <a:pt x="0" y="1032"/>
                  </a:moveTo>
                  <a:lnTo>
                    <a:pt x="0" y="984"/>
                  </a:lnTo>
                  <a:cubicBezTo>
                    <a:pt x="0" y="980"/>
                    <a:pt x="4" y="976"/>
                    <a:pt x="8" y="976"/>
                  </a:cubicBezTo>
                  <a:cubicBezTo>
                    <a:pt x="13" y="976"/>
                    <a:pt x="16" y="980"/>
                    <a:pt x="16" y="984"/>
                  </a:cubicBezTo>
                  <a:lnTo>
                    <a:pt x="16" y="1032"/>
                  </a:lnTo>
                  <a:cubicBezTo>
                    <a:pt x="16" y="1037"/>
                    <a:pt x="13" y="1040"/>
                    <a:pt x="8" y="1040"/>
                  </a:cubicBezTo>
                  <a:cubicBezTo>
                    <a:pt x="4" y="1040"/>
                    <a:pt x="0" y="1037"/>
                    <a:pt x="0" y="1032"/>
                  </a:cubicBezTo>
                  <a:close/>
                  <a:moveTo>
                    <a:pt x="0" y="920"/>
                  </a:moveTo>
                  <a:lnTo>
                    <a:pt x="0" y="872"/>
                  </a:lnTo>
                  <a:cubicBezTo>
                    <a:pt x="0" y="868"/>
                    <a:pt x="4" y="864"/>
                    <a:pt x="8" y="864"/>
                  </a:cubicBezTo>
                  <a:cubicBezTo>
                    <a:pt x="13" y="864"/>
                    <a:pt x="16" y="868"/>
                    <a:pt x="16" y="872"/>
                  </a:cubicBezTo>
                  <a:lnTo>
                    <a:pt x="16" y="920"/>
                  </a:lnTo>
                  <a:cubicBezTo>
                    <a:pt x="16" y="925"/>
                    <a:pt x="13" y="928"/>
                    <a:pt x="8" y="928"/>
                  </a:cubicBezTo>
                  <a:cubicBezTo>
                    <a:pt x="4" y="928"/>
                    <a:pt x="0" y="925"/>
                    <a:pt x="0" y="920"/>
                  </a:cubicBezTo>
                  <a:close/>
                  <a:moveTo>
                    <a:pt x="0" y="808"/>
                  </a:moveTo>
                  <a:lnTo>
                    <a:pt x="0" y="760"/>
                  </a:lnTo>
                  <a:cubicBezTo>
                    <a:pt x="0" y="756"/>
                    <a:pt x="4" y="752"/>
                    <a:pt x="8" y="752"/>
                  </a:cubicBezTo>
                  <a:cubicBezTo>
                    <a:pt x="13" y="752"/>
                    <a:pt x="16" y="756"/>
                    <a:pt x="16" y="760"/>
                  </a:cubicBezTo>
                  <a:lnTo>
                    <a:pt x="16" y="808"/>
                  </a:lnTo>
                  <a:cubicBezTo>
                    <a:pt x="16" y="813"/>
                    <a:pt x="13" y="816"/>
                    <a:pt x="8" y="816"/>
                  </a:cubicBezTo>
                  <a:cubicBezTo>
                    <a:pt x="4" y="816"/>
                    <a:pt x="0" y="813"/>
                    <a:pt x="0" y="808"/>
                  </a:cubicBezTo>
                  <a:close/>
                  <a:moveTo>
                    <a:pt x="0" y="696"/>
                  </a:moveTo>
                  <a:lnTo>
                    <a:pt x="0" y="648"/>
                  </a:lnTo>
                  <a:cubicBezTo>
                    <a:pt x="0" y="644"/>
                    <a:pt x="4" y="640"/>
                    <a:pt x="8" y="640"/>
                  </a:cubicBezTo>
                  <a:cubicBezTo>
                    <a:pt x="13" y="640"/>
                    <a:pt x="16" y="644"/>
                    <a:pt x="16" y="648"/>
                  </a:cubicBezTo>
                  <a:lnTo>
                    <a:pt x="16" y="696"/>
                  </a:lnTo>
                  <a:cubicBezTo>
                    <a:pt x="16" y="701"/>
                    <a:pt x="13" y="704"/>
                    <a:pt x="8" y="704"/>
                  </a:cubicBezTo>
                  <a:cubicBezTo>
                    <a:pt x="4" y="704"/>
                    <a:pt x="0" y="701"/>
                    <a:pt x="0" y="696"/>
                  </a:cubicBezTo>
                  <a:close/>
                  <a:moveTo>
                    <a:pt x="0" y="584"/>
                  </a:moveTo>
                  <a:lnTo>
                    <a:pt x="0" y="536"/>
                  </a:lnTo>
                  <a:cubicBezTo>
                    <a:pt x="0" y="532"/>
                    <a:pt x="4" y="528"/>
                    <a:pt x="8" y="528"/>
                  </a:cubicBezTo>
                  <a:cubicBezTo>
                    <a:pt x="13" y="528"/>
                    <a:pt x="16" y="532"/>
                    <a:pt x="16" y="536"/>
                  </a:cubicBezTo>
                  <a:lnTo>
                    <a:pt x="16" y="584"/>
                  </a:lnTo>
                  <a:cubicBezTo>
                    <a:pt x="16" y="589"/>
                    <a:pt x="13" y="592"/>
                    <a:pt x="8" y="592"/>
                  </a:cubicBezTo>
                  <a:cubicBezTo>
                    <a:pt x="4" y="592"/>
                    <a:pt x="0" y="589"/>
                    <a:pt x="0" y="584"/>
                  </a:cubicBezTo>
                  <a:close/>
                  <a:moveTo>
                    <a:pt x="0" y="472"/>
                  </a:moveTo>
                  <a:lnTo>
                    <a:pt x="0" y="424"/>
                  </a:lnTo>
                  <a:cubicBezTo>
                    <a:pt x="0" y="420"/>
                    <a:pt x="4" y="416"/>
                    <a:pt x="8" y="416"/>
                  </a:cubicBezTo>
                  <a:cubicBezTo>
                    <a:pt x="13" y="416"/>
                    <a:pt x="16" y="420"/>
                    <a:pt x="16" y="424"/>
                  </a:cubicBezTo>
                  <a:lnTo>
                    <a:pt x="16" y="472"/>
                  </a:lnTo>
                  <a:cubicBezTo>
                    <a:pt x="16" y="477"/>
                    <a:pt x="13" y="480"/>
                    <a:pt x="8" y="480"/>
                  </a:cubicBezTo>
                  <a:cubicBezTo>
                    <a:pt x="4" y="480"/>
                    <a:pt x="0" y="477"/>
                    <a:pt x="0" y="472"/>
                  </a:cubicBezTo>
                  <a:close/>
                  <a:moveTo>
                    <a:pt x="0" y="360"/>
                  </a:moveTo>
                  <a:lnTo>
                    <a:pt x="0" y="312"/>
                  </a:lnTo>
                  <a:cubicBezTo>
                    <a:pt x="0" y="308"/>
                    <a:pt x="4" y="304"/>
                    <a:pt x="8" y="304"/>
                  </a:cubicBezTo>
                  <a:cubicBezTo>
                    <a:pt x="13" y="304"/>
                    <a:pt x="16" y="308"/>
                    <a:pt x="16" y="312"/>
                  </a:cubicBezTo>
                  <a:lnTo>
                    <a:pt x="16" y="360"/>
                  </a:lnTo>
                  <a:cubicBezTo>
                    <a:pt x="16" y="365"/>
                    <a:pt x="13" y="368"/>
                    <a:pt x="8" y="368"/>
                  </a:cubicBezTo>
                  <a:cubicBezTo>
                    <a:pt x="4" y="368"/>
                    <a:pt x="0" y="365"/>
                    <a:pt x="0" y="360"/>
                  </a:cubicBezTo>
                  <a:close/>
                  <a:moveTo>
                    <a:pt x="0" y="248"/>
                  </a:moveTo>
                  <a:lnTo>
                    <a:pt x="0" y="200"/>
                  </a:lnTo>
                  <a:cubicBezTo>
                    <a:pt x="0" y="196"/>
                    <a:pt x="4" y="192"/>
                    <a:pt x="8" y="192"/>
                  </a:cubicBezTo>
                  <a:cubicBezTo>
                    <a:pt x="13" y="192"/>
                    <a:pt x="16" y="196"/>
                    <a:pt x="16" y="200"/>
                  </a:cubicBezTo>
                  <a:lnTo>
                    <a:pt x="16" y="248"/>
                  </a:lnTo>
                  <a:cubicBezTo>
                    <a:pt x="16" y="253"/>
                    <a:pt x="13" y="256"/>
                    <a:pt x="8" y="256"/>
                  </a:cubicBezTo>
                  <a:cubicBezTo>
                    <a:pt x="4" y="256"/>
                    <a:pt x="0" y="253"/>
                    <a:pt x="0" y="248"/>
                  </a:cubicBezTo>
                  <a:close/>
                  <a:moveTo>
                    <a:pt x="0" y="136"/>
                  </a:moveTo>
                  <a:lnTo>
                    <a:pt x="0" y="88"/>
                  </a:lnTo>
                  <a:cubicBezTo>
                    <a:pt x="0" y="84"/>
                    <a:pt x="4" y="80"/>
                    <a:pt x="8" y="80"/>
                  </a:cubicBezTo>
                  <a:cubicBezTo>
                    <a:pt x="13" y="80"/>
                    <a:pt x="16" y="84"/>
                    <a:pt x="16" y="88"/>
                  </a:cubicBezTo>
                  <a:lnTo>
                    <a:pt x="16" y="136"/>
                  </a:lnTo>
                  <a:cubicBezTo>
                    <a:pt x="16" y="141"/>
                    <a:pt x="13" y="144"/>
                    <a:pt x="8" y="144"/>
                  </a:cubicBezTo>
                  <a:cubicBezTo>
                    <a:pt x="4" y="144"/>
                    <a:pt x="0" y="141"/>
                    <a:pt x="0" y="136"/>
                  </a:cubicBezTo>
                  <a:close/>
                  <a:moveTo>
                    <a:pt x="0" y="24"/>
                  </a:move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3" y="0"/>
                    <a:pt x="16" y="4"/>
                    <a:pt x="16" y="8"/>
                  </a:cubicBezTo>
                  <a:lnTo>
                    <a:pt x="16" y="24"/>
                  </a:lnTo>
                  <a:cubicBezTo>
                    <a:pt x="16" y="29"/>
                    <a:pt x="13" y="32"/>
                    <a:pt x="8" y="32"/>
                  </a:cubicBezTo>
                  <a:cubicBezTo>
                    <a:pt x="4" y="32"/>
                    <a:pt x="0" y="29"/>
                    <a:pt x="0" y="24"/>
                  </a:cubicBez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98600" y="3903840"/>
              <a:ext cx="2463840" cy="14040"/>
            </a:xfrm>
            <a:custGeom>
              <a:avLst/>
              <a:gdLst/>
              <a:ahLst/>
              <a:rect l="l" t="t" r="r" b="b"/>
              <a:pathLst>
                <a:path w="2640" h="16">
                  <a:moveTo>
                    <a:pt x="2632" y="16"/>
                  </a:moveTo>
                  <a:lnTo>
                    <a:pt x="2584" y="16"/>
                  </a:lnTo>
                  <a:cubicBezTo>
                    <a:pt x="2580" y="16"/>
                    <a:pt x="2576" y="13"/>
                    <a:pt x="2576" y="8"/>
                  </a:cubicBezTo>
                  <a:cubicBezTo>
                    <a:pt x="2576" y="4"/>
                    <a:pt x="2580" y="0"/>
                    <a:pt x="2584" y="0"/>
                  </a:cubicBezTo>
                  <a:lnTo>
                    <a:pt x="2632" y="0"/>
                  </a:lnTo>
                  <a:cubicBezTo>
                    <a:pt x="2637" y="0"/>
                    <a:pt x="2640" y="4"/>
                    <a:pt x="2640" y="8"/>
                  </a:cubicBezTo>
                  <a:cubicBezTo>
                    <a:pt x="2640" y="13"/>
                    <a:pt x="2637" y="16"/>
                    <a:pt x="2632" y="16"/>
                  </a:cubicBezTo>
                  <a:close/>
                  <a:moveTo>
                    <a:pt x="2520" y="16"/>
                  </a:moveTo>
                  <a:lnTo>
                    <a:pt x="2472" y="16"/>
                  </a:lnTo>
                  <a:cubicBezTo>
                    <a:pt x="2468" y="16"/>
                    <a:pt x="2464" y="13"/>
                    <a:pt x="2464" y="8"/>
                  </a:cubicBezTo>
                  <a:cubicBezTo>
                    <a:pt x="2464" y="4"/>
                    <a:pt x="2468" y="0"/>
                    <a:pt x="2472" y="0"/>
                  </a:cubicBezTo>
                  <a:lnTo>
                    <a:pt x="2520" y="0"/>
                  </a:lnTo>
                  <a:cubicBezTo>
                    <a:pt x="2525" y="0"/>
                    <a:pt x="2528" y="4"/>
                    <a:pt x="2528" y="8"/>
                  </a:cubicBezTo>
                  <a:cubicBezTo>
                    <a:pt x="2528" y="13"/>
                    <a:pt x="2525" y="16"/>
                    <a:pt x="2520" y="16"/>
                  </a:cubicBezTo>
                  <a:close/>
                  <a:moveTo>
                    <a:pt x="2408" y="16"/>
                  </a:moveTo>
                  <a:lnTo>
                    <a:pt x="2360" y="16"/>
                  </a:lnTo>
                  <a:cubicBezTo>
                    <a:pt x="2356" y="16"/>
                    <a:pt x="2352" y="13"/>
                    <a:pt x="2352" y="8"/>
                  </a:cubicBezTo>
                  <a:cubicBezTo>
                    <a:pt x="2352" y="4"/>
                    <a:pt x="2356" y="0"/>
                    <a:pt x="2360" y="0"/>
                  </a:cubicBezTo>
                  <a:lnTo>
                    <a:pt x="2408" y="0"/>
                  </a:lnTo>
                  <a:cubicBezTo>
                    <a:pt x="2413" y="0"/>
                    <a:pt x="2416" y="4"/>
                    <a:pt x="2416" y="8"/>
                  </a:cubicBezTo>
                  <a:cubicBezTo>
                    <a:pt x="2416" y="13"/>
                    <a:pt x="2413" y="16"/>
                    <a:pt x="2408" y="16"/>
                  </a:cubicBezTo>
                  <a:close/>
                  <a:moveTo>
                    <a:pt x="2296" y="16"/>
                  </a:moveTo>
                  <a:lnTo>
                    <a:pt x="2248" y="16"/>
                  </a:lnTo>
                  <a:cubicBezTo>
                    <a:pt x="2244" y="16"/>
                    <a:pt x="2240" y="13"/>
                    <a:pt x="2240" y="8"/>
                  </a:cubicBezTo>
                  <a:cubicBezTo>
                    <a:pt x="2240" y="4"/>
                    <a:pt x="2244" y="0"/>
                    <a:pt x="2248" y="0"/>
                  </a:cubicBezTo>
                  <a:lnTo>
                    <a:pt x="2296" y="0"/>
                  </a:lnTo>
                  <a:cubicBezTo>
                    <a:pt x="2301" y="0"/>
                    <a:pt x="2304" y="4"/>
                    <a:pt x="2304" y="8"/>
                  </a:cubicBezTo>
                  <a:cubicBezTo>
                    <a:pt x="2304" y="13"/>
                    <a:pt x="2301" y="16"/>
                    <a:pt x="2296" y="16"/>
                  </a:cubicBezTo>
                  <a:close/>
                  <a:moveTo>
                    <a:pt x="2184" y="16"/>
                  </a:moveTo>
                  <a:lnTo>
                    <a:pt x="2136" y="16"/>
                  </a:lnTo>
                  <a:cubicBezTo>
                    <a:pt x="2132" y="16"/>
                    <a:pt x="2128" y="13"/>
                    <a:pt x="2128" y="8"/>
                  </a:cubicBezTo>
                  <a:cubicBezTo>
                    <a:pt x="2128" y="4"/>
                    <a:pt x="2132" y="0"/>
                    <a:pt x="2136" y="0"/>
                  </a:cubicBezTo>
                  <a:lnTo>
                    <a:pt x="2184" y="0"/>
                  </a:lnTo>
                  <a:cubicBezTo>
                    <a:pt x="2189" y="0"/>
                    <a:pt x="2192" y="4"/>
                    <a:pt x="2192" y="8"/>
                  </a:cubicBezTo>
                  <a:cubicBezTo>
                    <a:pt x="2192" y="13"/>
                    <a:pt x="2189" y="16"/>
                    <a:pt x="2184" y="16"/>
                  </a:cubicBezTo>
                  <a:close/>
                  <a:moveTo>
                    <a:pt x="2072" y="16"/>
                  </a:moveTo>
                  <a:lnTo>
                    <a:pt x="2024" y="16"/>
                  </a:lnTo>
                  <a:cubicBezTo>
                    <a:pt x="2020" y="16"/>
                    <a:pt x="2016" y="13"/>
                    <a:pt x="2016" y="8"/>
                  </a:cubicBezTo>
                  <a:cubicBezTo>
                    <a:pt x="2016" y="4"/>
                    <a:pt x="2020" y="0"/>
                    <a:pt x="2024" y="0"/>
                  </a:cubicBezTo>
                  <a:lnTo>
                    <a:pt x="2072" y="0"/>
                  </a:lnTo>
                  <a:cubicBezTo>
                    <a:pt x="2077" y="0"/>
                    <a:pt x="2080" y="4"/>
                    <a:pt x="2080" y="8"/>
                  </a:cubicBezTo>
                  <a:cubicBezTo>
                    <a:pt x="2080" y="13"/>
                    <a:pt x="2077" y="16"/>
                    <a:pt x="2072" y="16"/>
                  </a:cubicBezTo>
                  <a:close/>
                  <a:moveTo>
                    <a:pt x="1960" y="16"/>
                  </a:moveTo>
                  <a:lnTo>
                    <a:pt x="1912" y="16"/>
                  </a:lnTo>
                  <a:cubicBezTo>
                    <a:pt x="1908" y="16"/>
                    <a:pt x="1904" y="13"/>
                    <a:pt x="1904" y="8"/>
                  </a:cubicBezTo>
                  <a:cubicBezTo>
                    <a:pt x="1904" y="4"/>
                    <a:pt x="1908" y="0"/>
                    <a:pt x="1912" y="0"/>
                  </a:cubicBezTo>
                  <a:lnTo>
                    <a:pt x="1960" y="0"/>
                  </a:lnTo>
                  <a:cubicBezTo>
                    <a:pt x="1965" y="0"/>
                    <a:pt x="1968" y="4"/>
                    <a:pt x="1968" y="8"/>
                  </a:cubicBezTo>
                  <a:cubicBezTo>
                    <a:pt x="1968" y="13"/>
                    <a:pt x="1965" y="16"/>
                    <a:pt x="1960" y="16"/>
                  </a:cubicBezTo>
                  <a:close/>
                  <a:moveTo>
                    <a:pt x="1848" y="16"/>
                  </a:moveTo>
                  <a:lnTo>
                    <a:pt x="1800" y="16"/>
                  </a:lnTo>
                  <a:cubicBezTo>
                    <a:pt x="1796" y="16"/>
                    <a:pt x="1792" y="13"/>
                    <a:pt x="1792" y="8"/>
                  </a:cubicBezTo>
                  <a:cubicBezTo>
                    <a:pt x="1792" y="4"/>
                    <a:pt x="1796" y="0"/>
                    <a:pt x="1800" y="0"/>
                  </a:cubicBezTo>
                  <a:lnTo>
                    <a:pt x="1848" y="0"/>
                  </a:lnTo>
                  <a:cubicBezTo>
                    <a:pt x="1853" y="0"/>
                    <a:pt x="1856" y="4"/>
                    <a:pt x="1856" y="8"/>
                  </a:cubicBezTo>
                  <a:cubicBezTo>
                    <a:pt x="1856" y="13"/>
                    <a:pt x="1853" y="16"/>
                    <a:pt x="1848" y="16"/>
                  </a:cubicBezTo>
                  <a:close/>
                  <a:moveTo>
                    <a:pt x="1736" y="16"/>
                  </a:moveTo>
                  <a:lnTo>
                    <a:pt x="1688" y="16"/>
                  </a:lnTo>
                  <a:cubicBezTo>
                    <a:pt x="1684" y="16"/>
                    <a:pt x="1680" y="13"/>
                    <a:pt x="1680" y="8"/>
                  </a:cubicBezTo>
                  <a:cubicBezTo>
                    <a:pt x="1680" y="4"/>
                    <a:pt x="1684" y="0"/>
                    <a:pt x="1688" y="0"/>
                  </a:cubicBezTo>
                  <a:lnTo>
                    <a:pt x="1736" y="0"/>
                  </a:lnTo>
                  <a:cubicBezTo>
                    <a:pt x="1741" y="0"/>
                    <a:pt x="1744" y="4"/>
                    <a:pt x="1744" y="8"/>
                  </a:cubicBezTo>
                  <a:cubicBezTo>
                    <a:pt x="1744" y="13"/>
                    <a:pt x="1741" y="16"/>
                    <a:pt x="1736" y="16"/>
                  </a:cubicBezTo>
                  <a:close/>
                  <a:moveTo>
                    <a:pt x="1624" y="16"/>
                  </a:moveTo>
                  <a:lnTo>
                    <a:pt x="1576" y="16"/>
                  </a:lnTo>
                  <a:cubicBezTo>
                    <a:pt x="1572" y="16"/>
                    <a:pt x="1568" y="13"/>
                    <a:pt x="1568" y="8"/>
                  </a:cubicBezTo>
                  <a:cubicBezTo>
                    <a:pt x="1568" y="4"/>
                    <a:pt x="1572" y="0"/>
                    <a:pt x="1576" y="0"/>
                  </a:cubicBezTo>
                  <a:lnTo>
                    <a:pt x="1624" y="0"/>
                  </a:lnTo>
                  <a:cubicBezTo>
                    <a:pt x="1629" y="0"/>
                    <a:pt x="1632" y="4"/>
                    <a:pt x="1632" y="8"/>
                  </a:cubicBezTo>
                  <a:cubicBezTo>
                    <a:pt x="1632" y="13"/>
                    <a:pt x="1629" y="16"/>
                    <a:pt x="1624" y="16"/>
                  </a:cubicBezTo>
                  <a:close/>
                  <a:moveTo>
                    <a:pt x="1512" y="16"/>
                  </a:moveTo>
                  <a:lnTo>
                    <a:pt x="1464" y="16"/>
                  </a:lnTo>
                  <a:cubicBezTo>
                    <a:pt x="1460" y="16"/>
                    <a:pt x="1456" y="13"/>
                    <a:pt x="1456" y="8"/>
                  </a:cubicBezTo>
                  <a:cubicBezTo>
                    <a:pt x="1456" y="4"/>
                    <a:pt x="1460" y="0"/>
                    <a:pt x="1464" y="0"/>
                  </a:cubicBezTo>
                  <a:lnTo>
                    <a:pt x="1512" y="0"/>
                  </a:lnTo>
                  <a:cubicBezTo>
                    <a:pt x="1517" y="0"/>
                    <a:pt x="1520" y="4"/>
                    <a:pt x="1520" y="8"/>
                  </a:cubicBezTo>
                  <a:cubicBezTo>
                    <a:pt x="1520" y="13"/>
                    <a:pt x="1517" y="16"/>
                    <a:pt x="1512" y="16"/>
                  </a:cubicBezTo>
                  <a:close/>
                  <a:moveTo>
                    <a:pt x="1400" y="16"/>
                  </a:moveTo>
                  <a:lnTo>
                    <a:pt x="1352" y="16"/>
                  </a:lnTo>
                  <a:cubicBezTo>
                    <a:pt x="1348" y="16"/>
                    <a:pt x="1344" y="13"/>
                    <a:pt x="1344" y="8"/>
                  </a:cubicBezTo>
                  <a:cubicBezTo>
                    <a:pt x="1344" y="4"/>
                    <a:pt x="1348" y="0"/>
                    <a:pt x="1352" y="0"/>
                  </a:cubicBezTo>
                  <a:lnTo>
                    <a:pt x="1400" y="0"/>
                  </a:lnTo>
                  <a:cubicBezTo>
                    <a:pt x="1405" y="0"/>
                    <a:pt x="1408" y="4"/>
                    <a:pt x="1408" y="8"/>
                  </a:cubicBezTo>
                  <a:cubicBezTo>
                    <a:pt x="1408" y="13"/>
                    <a:pt x="1405" y="16"/>
                    <a:pt x="1400" y="16"/>
                  </a:cubicBezTo>
                  <a:close/>
                  <a:moveTo>
                    <a:pt x="1288" y="16"/>
                  </a:moveTo>
                  <a:lnTo>
                    <a:pt x="1240" y="16"/>
                  </a:lnTo>
                  <a:cubicBezTo>
                    <a:pt x="1236" y="16"/>
                    <a:pt x="1232" y="13"/>
                    <a:pt x="1232" y="8"/>
                  </a:cubicBezTo>
                  <a:cubicBezTo>
                    <a:pt x="1232" y="4"/>
                    <a:pt x="1236" y="0"/>
                    <a:pt x="1240" y="0"/>
                  </a:cubicBezTo>
                  <a:lnTo>
                    <a:pt x="1288" y="0"/>
                  </a:lnTo>
                  <a:cubicBezTo>
                    <a:pt x="1293" y="0"/>
                    <a:pt x="1296" y="4"/>
                    <a:pt x="1296" y="8"/>
                  </a:cubicBezTo>
                  <a:cubicBezTo>
                    <a:pt x="1296" y="13"/>
                    <a:pt x="1293" y="16"/>
                    <a:pt x="1288" y="16"/>
                  </a:cubicBezTo>
                  <a:close/>
                  <a:moveTo>
                    <a:pt x="1176" y="16"/>
                  </a:moveTo>
                  <a:lnTo>
                    <a:pt x="1128" y="16"/>
                  </a:lnTo>
                  <a:cubicBezTo>
                    <a:pt x="1124" y="16"/>
                    <a:pt x="1120" y="13"/>
                    <a:pt x="1120" y="8"/>
                  </a:cubicBezTo>
                  <a:cubicBezTo>
                    <a:pt x="1120" y="4"/>
                    <a:pt x="1124" y="0"/>
                    <a:pt x="1128" y="0"/>
                  </a:cubicBezTo>
                  <a:lnTo>
                    <a:pt x="1176" y="0"/>
                  </a:lnTo>
                  <a:cubicBezTo>
                    <a:pt x="1181" y="0"/>
                    <a:pt x="1184" y="4"/>
                    <a:pt x="1184" y="8"/>
                  </a:cubicBezTo>
                  <a:cubicBezTo>
                    <a:pt x="1184" y="13"/>
                    <a:pt x="1181" y="16"/>
                    <a:pt x="1176" y="16"/>
                  </a:cubicBezTo>
                  <a:close/>
                  <a:moveTo>
                    <a:pt x="1064" y="16"/>
                  </a:moveTo>
                  <a:lnTo>
                    <a:pt x="1016" y="16"/>
                  </a:lnTo>
                  <a:cubicBezTo>
                    <a:pt x="1012" y="16"/>
                    <a:pt x="1008" y="13"/>
                    <a:pt x="1008" y="8"/>
                  </a:cubicBezTo>
                  <a:cubicBezTo>
                    <a:pt x="1008" y="4"/>
                    <a:pt x="1012" y="0"/>
                    <a:pt x="1016" y="0"/>
                  </a:cubicBezTo>
                  <a:lnTo>
                    <a:pt x="1064" y="0"/>
                  </a:lnTo>
                  <a:cubicBezTo>
                    <a:pt x="1069" y="0"/>
                    <a:pt x="1072" y="4"/>
                    <a:pt x="1072" y="8"/>
                  </a:cubicBezTo>
                  <a:cubicBezTo>
                    <a:pt x="1072" y="13"/>
                    <a:pt x="1069" y="16"/>
                    <a:pt x="1064" y="16"/>
                  </a:cubicBezTo>
                  <a:close/>
                  <a:moveTo>
                    <a:pt x="952" y="16"/>
                  </a:moveTo>
                  <a:lnTo>
                    <a:pt x="904" y="16"/>
                  </a:lnTo>
                  <a:cubicBezTo>
                    <a:pt x="900" y="16"/>
                    <a:pt x="896" y="13"/>
                    <a:pt x="896" y="8"/>
                  </a:cubicBezTo>
                  <a:cubicBezTo>
                    <a:pt x="896" y="4"/>
                    <a:pt x="900" y="0"/>
                    <a:pt x="904" y="0"/>
                  </a:cubicBezTo>
                  <a:lnTo>
                    <a:pt x="952" y="0"/>
                  </a:lnTo>
                  <a:cubicBezTo>
                    <a:pt x="957" y="0"/>
                    <a:pt x="960" y="4"/>
                    <a:pt x="960" y="8"/>
                  </a:cubicBezTo>
                  <a:cubicBezTo>
                    <a:pt x="960" y="13"/>
                    <a:pt x="957" y="16"/>
                    <a:pt x="952" y="16"/>
                  </a:cubicBezTo>
                  <a:close/>
                  <a:moveTo>
                    <a:pt x="840" y="16"/>
                  </a:moveTo>
                  <a:lnTo>
                    <a:pt x="792" y="16"/>
                  </a:lnTo>
                  <a:cubicBezTo>
                    <a:pt x="788" y="16"/>
                    <a:pt x="784" y="13"/>
                    <a:pt x="784" y="8"/>
                  </a:cubicBezTo>
                  <a:cubicBezTo>
                    <a:pt x="784" y="4"/>
                    <a:pt x="788" y="0"/>
                    <a:pt x="792" y="0"/>
                  </a:cubicBezTo>
                  <a:lnTo>
                    <a:pt x="840" y="0"/>
                  </a:lnTo>
                  <a:cubicBezTo>
                    <a:pt x="845" y="0"/>
                    <a:pt x="848" y="4"/>
                    <a:pt x="848" y="8"/>
                  </a:cubicBezTo>
                  <a:cubicBezTo>
                    <a:pt x="848" y="13"/>
                    <a:pt x="845" y="16"/>
                    <a:pt x="840" y="16"/>
                  </a:cubicBezTo>
                  <a:close/>
                  <a:moveTo>
                    <a:pt x="728" y="16"/>
                  </a:moveTo>
                  <a:lnTo>
                    <a:pt x="680" y="16"/>
                  </a:lnTo>
                  <a:cubicBezTo>
                    <a:pt x="676" y="16"/>
                    <a:pt x="672" y="13"/>
                    <a:pt x="672" y="8"/>
                  </a:cubicBezTo>
                  <a:cubicBezTo>
                    <a:pt x="672" y="4"/>
                    <a:pt x="676" y="0"/>
                    <a:pt x="680" y="0"/>
                  </a:cubicBezTo>
                  <a:lnTo>
                    <a:pt x="728" y="0"/>
                  </a:lnTo>
                  <a:cubicBezTo>
                    <a:pt x="733" y="0"/>
                    <a:pt x="736" y="4"/>
                    <a:pt x="736" y="8"/>
                  </a:cubicBezTo>
                  <a:cubicBezTo>
                    <a:pt x="736" y="13"/>
                    <a:pt x="733" y="16"/>
                    <a:pt x="728" y="16"/>
                  </a:cubicBezTo>
                  <a:close/>
                  <a:moveTo>
                    <a:pt x="616" y="16"/>
                  </a:moveTo>
                  <a:lnTo>
                    <a:pt x="568" y="16"/>
                  </a:lnTo>
                  <a:cubicBezTo>
                    <a:pt x="564" y="16"/>
                    <a:pt x="560" y="13"/>
                    <a:pt x="560" y="8"/>
                  </a:cubicBezTo>
                  <a:cubicBezTo>
                    <a:pt x="560" y="4"/>
                    <a:pt x="564" y="0"/>
                    <a:pt x="568" y="0"/>
                  </a:cubicBezTo>
                  <a:lnTo>
                    <a:pt x="616" y="0"/>
                  </a:lnTo>
                  <a:cubicBezTo>
                    <a:pt x="621" y="0"/>
                    <a:pt x="624" y="4"/>
                    <a:pt x="624" y="8"/>
                  </a:cubicBezTo>
                  <a:cubicBezTo>
                    <a:pt x="624" y="13"/>
                    <a:pt x="621" y="16"/>
                    <a:pt x="616" y="16"/>
                  </a:cubicBezTo>
                  <a:close/>
                  <a:moveTo>
                    <a:pt x="504" y="16"/>
                  </a:moveTo>
                  <a:lnTo>
                    <a:pt x="456" y="16"/>
                  </a:lnTo>
                  <a:cubicBezTo>
                    <a:pt x="452" y="16"/>
                    <a:pt x="448" y="13"/>
                    <a:pt x="448" y="8"/>
                  </a:cubicBezTo>
                  <a:cubicBezTo>
                    <a:pt x="448" y="4"/>
                    <a:pt x="452" y="0"/>
                    <a:pt x="456" y="0"/>
                  </a:cubicBezTo>
                  <a:lnTo>
                    <a:pt x="504" y="0"/>
                  </a:lnTo>
                  <a:cubicBezTo>
                    <a:pt x="509" y="0"/>
                    <a:pt x="512" y="4"/>
                    <a:pt x="512" y="8"/>
                  </a:cubicBezTo>
                  <a:cubicBezTo>
                    <a:pt x="512" y="13"/>
                    <a:pt x="509" y="16"/>
                    <a:pt x="504" y="16"/>
                  </a:cubicBezTo>
                  <a:close/>
                  <a:moveTo>
                    <a:pt x="392" y="16"/>
                  </a:moveTo>
                  <a:lnTo>
                    <a:pt x="344" y="16"/>
                  </a:lnTo>
                  <a:cubicBezTo>
                    <a:pt x="340" y="16"/>
                    <a:pt x="336" y="13"/>
                    <a:pt x="336" y="8"/>
                  </a:cubicBezTo>
                  <a:cubicBezTo>
                    <a:pt x="336" y="4"/>
                    <a:pt x="340" y="0"/>
                    <a:pt x="344" y="0"/>
                  </a:cubicBezTo>
                  <a:lnTo>
                    <a:pt x="392" y="0"/>
                  </a:lnTo>
                  <a:cubicBezTo>
                    <a:pt x="397" y="0"/>
                    <a:pt x="400" y="4"/>
                    <a:pt x="400" y="8"/>
                  </a:cubicBezTo>
                  <a:cubicBezTo>
                    <a:pt x="400" y="13"/>
                    <a:pt x="397" y="16"/>
                    <a:pt x="392" y="16"/>
                  </a:cubicBezTo>
                  <a:close/>
                  <a:moveTo>
                    <a:pt x="280" y="16"/>
                  </a:moveTo>
                  <a:lnTo>
                    <a:pt x="232" y="16"/>
                  </a:lnTo>
                  <a:cubicBezTo>
                    <a:pt x="228" y="16"/>
                    <a:pt x="224" y="13"/>
                    <a:pt x="224" y="8"/>
                  </a:cubicBezTo>
                  <a:cubicBezTo>
                    <a:pt x="224" y="4"/>
                    <a:pt x="228" y="0"/>
                    <a:pt x="232" y="0"/>
                  </a:cubicBezTo>
                  <a:lnTo>
                    <a:pt x="280" y="0"/>
                  </a:lnTo>
                  <a:cubicBezTo>
                    <a:pt x="285" y="0"/>
                    <a:pt x="288" y="4"/>
                    <a:pt x="288" y="8"/>
                  </a:cubicBezTo>
                  <a:cubicBezTo>
                    <a:pt x="288" y="13"/>
                    <a:pt x="285" y="16"/>
                    <a:pt x="280" y="16"/>
                  </a:cubicBezTo>
                  <a:close/>
                  <a:moveTo>
                    <a:pt x="168" y="16"/>
                  </a:moveTo>
                  <a:lnTo>
                    <a:pt x="120" y="16"/>
                  </a:lnTo>
                  <a:cubicBezTo>
                    <a:pt x="116" y="16"/>
                    <a:pt x="112" y="13"/>
                    <a:pt x="112" y="8"/>
                  </a:cubicBezTo>
                  <a:cubicBezTo>
                    <a:pt x="112" y="4"/>
                    <a:pt x="116" y="0"/>
                    <a:pt x="120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cubicBezTo>
                    <a:pt x="176" y="13"/>
                    <a:pt x="173" y="16"/>
                    <a:pt x="168" y="16"/>
                  </a:cubicBezTo>
                  <a:close/>
                  <a:moveTo>
                    <a:pt x="56" y="16"/>
                  </a:move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lnTo>
                    <a:pt x="56" y="0"/>
                  </a:lnTo>
                  <a:cubicBezTo>
                    <a:pt x="61" y="0"/>
                    <a:pt x="64" y="4"/>
                    <a:pt x="64" y="8"/>
                  </a:cubicBezTo>
                  <a:cubicBezTo>
                    <a:pt x="64" y="13"/>
                    <a:pt x="61" y="16"/>
                    <a:pt x="56" y="16"/>
                  </a:cubicBez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981920" y="3265560"/>
              <a:ext cx="766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059280" y="260280"/>
              <a:ext cx="25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ass I (≦80c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1332000" y="2421000"/>
              <a:ext cx="5472000" cy="27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"/>
          <p:cNvGrpSpPr/>
          <p:nvPr/>
        </p:nvGrpSpPr>
        <p:grpSpPr>
          <a:xfrm>
            <a:off x="274680" y="260280"/>
            <a:ext cx="8545320" cy="6023520"/>
            <a:chOff x="274680" y="260280"/>
            <a:chExt cx="8545320" cy="6023520"/>
          </a:xfrm>
        </p:grpSpPr>
        <p:sp>
          <p:nvSpPr>
            <p:cNvPr id="1593" name=""/>
            <p:cNvSpPr/>
            <p:nvPr/>
          </p:nvSpPr>
          <p:spPr>
            <a:xfrm>
              <a:off x="3059280" y="260280"/>
              <a:ext cx="30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ass II (&gt;80, ≦175cc)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896240" y="3429000"/>
              <a:ext cx="34776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783560" y="3416400"/>
              <a:ext cx="7668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060560" y="515628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060560" y="484488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060560" y="453564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060560" y="422424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060560" y="391320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060560" y="360360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060560" y="329256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060560" y="298296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060560" y="267192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060560" y="236232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060560" y="205092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060560" y="174132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060560" y="143028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060560" y="112068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060560" y="1120680"/>
              <a:ext cx="6056280" cy="434520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60560" y="1120680"/>
              <a:ext cx="1440" cy="434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060560" y="546588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60560" y="515628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060560" y="484488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060560" y="453564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060560" y="422424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060560" y="391320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060560" y="360360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060560" y="329256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060560" y="298296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060560" y="267192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060560" y="236232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060560" y="205092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060560" y="174132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060560" y="143028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060560" y="112068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060560" y="546588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106056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149076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192096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35116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27972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32274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36576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40878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4519440" y="5403960"/>
              <a:ext cx="180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49500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53802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82624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25644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668664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711684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473720" y="4581360"/>
              <a:ext cx="9180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903920" y="383688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903920" y="38052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903920" y="39132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80160" y="32306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334120" y="425592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73720" y="349416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334120" y="1927080"/>
              <a:ext cx="9180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334120" y="33084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780160" y="212868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780160" y="349416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34120" y="315288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780160" y="247032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780160" y="29829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256360" y="312264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49560" y="461160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181320" y="427032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135240" y="518652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43080" y="496872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827440" y="4659480"/>
              <a:ext cx="93600" cy="91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0" y="0"/>
                  </a:moveTo>
                  <a:lnTo>
                    <a:pt x="59" y="29"/>
                  </a:lnTo>
                  <a:lnTo>
                    <a:pt x="30" y="58"/>
                  </a:lnTo>
                  <a:lnTo>
                    <a:pt x="0" y="2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997360" y="4799160"/>
              <a:ext cx="9180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948280" y="189540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041720" y="383688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29" y="0"/>
                  </a:moveTo>
                  <a:lnTo>
                    <a:pt x="59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564160" y="358776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25840" y="352584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0" y="0"/>
                  </a:moveTo>
                  <a:lnTo>
                    <a:pt x="59" y="29"/>
                  </a:lnTo>
                  <a:lnTo>
                    <a:pt x="30" y="59"/>
                  </a:lnTo>
                  <a:lnTo>
                    <a:pt x="0" y="2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118120" y="265572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87800" y="371160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0" y="0"/>
                  </a:moveTo>
                  <a:lnTo>
                    <a:pt x="59" y="30"/>
                  </a:lnTo>
                  <a:lnTo>
                    <a:pt x="30" y="59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810400" y="37116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732640" y="234648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0" y="0"/>
                  </a:moveTo>
                  <a:lnTo>
                    <a:pt x="59" y="29"/>
                  </a:lnTo>
                  <a:lnTo>
                    <a:pt x="30" y="59"/>
                  </a:lnTo>
                  <a:lnTo>
                    <a:pt x="0" y="2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118200" y="259380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473720" y="2128680"/>
              <a:ext cx="9180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302080" y="36813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8280" y="3029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34120" y="38052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8400" y="206676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686560" y="327816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29" y="0"/>
                  </a:moveTo>
                  <a:lnTo>
                    <a:pt x="59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34120" y="340200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41720" y="414648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lnTo>
                    <a:pt x="59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1448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74880" y="50468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565440" y="334008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135240" y="436392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305080" y="44258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211640" y="37274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43320" y="475128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lnTo>
                    <a:pt x="59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211640" y="234648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89440" y="4549680"/>
              <a:ext cx="1983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119400" y="420840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073320" y="512460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81160" y="490680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766960" y="459756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935440" y="4737240"/>
              <a:ext cx="19980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411800" y="2066760"/>
              <a:ext cx="19980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505320" y="3278160"/>
              <a:ext cx="1983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73320" y="430200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244600" y="4363920"/>
              <a:ext cx="19872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149720" y="366552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382840" y="468936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149720" y="228456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1182600" y="5465880"/>
              <a:ext cx="18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14520" y="537372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14520" y="5062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14520" y="47512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14520" y="4441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14520" y="413064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4520" y="382104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14520" y="35100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14520" y="3200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4520" y="28893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4520" y="25797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4520" y="22683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4520" y="195732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4520" y="164772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4520" y="1336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4520" y="1027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93672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6692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79712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287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733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1035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5355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657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3959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261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2563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0240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13260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6280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99300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318840" y="5978520"/>
              <a:ext cx="158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ECE41-03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16200000">
              <a:off x="-356760" y="3106440"/>
              <a:ext cx="156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ISO362-2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424640" y="2921040"/>
              <a:ext cx="1395360" cy="1228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623000" y="301320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lnTo>
                    <a:pt x="59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930800" y="2982960"/>
              <a:ext cx="20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23000" y="3262320"/>
              <a:ext cx="78120" cy="7776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957440" y="3230640"/>
              <a:ext cx="59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Class 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485120" y="3557520"/>
              <a:ext cx="3697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028000" y="3460680"/>
              <a:ext cx="647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Al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1068480" y="1127160"/>
              <a:ext cx="6056280" cy="4330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503600" y="3681360"/>
              <a:ext cx="15840" cy="1784520"/>
            </a:xfrm>
            <a:custGeom>
              <a:avLst/>
              <a:gdLst/>
              <a:ahLst/>
              <a:rect l="l" t="t" r="r" b="b"/>
              <a:pathLst>
                <a:path w="16" h="1840">
                  <a:moveTo>
                    <a:pt x="0" y="1832"/>
                  </a:moveTo>
                  <a:lnTo>
                    <a:pt x="0" y="1784"/>
                  </a:lnTo>
                  <a:cubicBezTo>
                    <a:pt x="0" y="1780"/>
                    <a:pt x="4" y="1776"/>
                    <a:pt x="8" y="1776"/>
                  </a:cubicBezTo>
                  <a:cubicBezTo>
                    <a:pt x="13" y="1776"/>
                    <a:pt x="16" y="1780"/>
                    <a:pt x="16" y="1784"/>
                  </a:cubicBezTo>
                  <a:lnTo>
                    <a:pt x="16" y="1832"/>
                  </a:lnTo>
                  <a:cubicBezTo>
                    <a:pt x="16" y="1837"/>
                    <a:pt x="13" y="1840"/>
                    <a:pt x="8" y="1840"/>
                  </a:cubicBezTo>
                  <a:cubicBezTo>
                    <a:pt x="4" y="1840"/>
                    <a:pt x="0" y="1837"/>
                    <a:pt x="0" y="1832"/>
                  </a:cubicBezTo>
                  <a:close/>
                  <a:moveTo>
                    <a:pt x="0" y="1720"/>
                  </a:moveTo>
                  <a:lnTo>
                    <a:pt x="0" y="1672"/>
                  </a:lnTo>
                  <a:cubicBezTo>
                    <a:pt x="0" y="1668"/>
                    <a:pt x="4" y="1664"/>
                    <a:pt x="8" y="1664"/>
                  </a:cubicBezTo>
                  <a:cubicBezTo>
                    <a:pt x="13" y="1664"/>
                    <a:pt x="16" y="1668"/>
                    <a:pt x="16" y="1672"/>
                  </a:cubicBezTo>
                  <a:lnTo>
                    <a:pt x="16" y="1720"/>
                  </a:lnTo>
                  <a:cubicBezTo>
                    <a:pt x="16" y="1725"/>
                    <a:pt x="13" y="1728"/>
                    <a:pt x="8" y="1728"/>
                  </a:cubicBezTo>
                  <a:cubicBezTo>
                    <a:pt x="4" y="1728"/>
                    <a:pt x="0" y="1725"/>
                    <a:pt x="0" y="1720"/>
                  </a:cubicBezTo>
                  <a:close/>
                  <a:moveTo>
                    <a:pt x="0" y="1608"/>
                  </a:moveTo>
                  <a:lnTo>
                    <a:pt x="0" y="1560"/>
                  </a:lnTo>
                  <a:cubicBezTo>
                    <a:pt x="0" y="1556"/>
                    <a:pt x="4" y="1552"/>
                    <a:pt x="8" y="1552"/>
                  </a:cubicBezTo>
                  <a:cubicBezTo>
                    <a:pt x="13" y="1552"/>
                    <a:pt x="16" y="1556"/>
                    <a:pt x="16" y="1560"/>
                  </a:cubicBezTo>
                  <a:lnTo>
                    <a:pt x="16" y="1608"/>
                  </a:lnTo>
                  <a:cubicBezTo>
                    <a:pt x="16" y="1613"/>
                    <a:pt x="13" y="1616"/>
                    <a:pt x="8" y="1616"/>
                  </a:cubicBezTo>
                  <a:cubicBezTo>
                    <a:pt x="4" y="1616"/>
                    <a:pt x="0" y="1613"/>
                    <a:pt x="0" y="1608"/>
                  </a:cubicBezTo>
                  <a:close/>
                  <a:moveTo>
                    <a:pt x="0" y="1496"/>
                  </a:moveTo>
                  <a:lnTo>
                    <a:pt x="0" y="1448"/>
                  </a:lnTo>
                  <a:cubicBezTo>
                    <a:pt x="0" y="1444"/>
                    <a:pt x="4" y="1440"/>
                    <a:pt x="8" y="1440"/>
                  </a:cubicBezTo>
                  <a:cubicBezTo>
                    <a:pt x="13" y="1440"/>
                    <a:pt x="16" y="1444"/>
                    <a:pt x="16" y="1448"/>
                  </a:cubicBezTo>
                  <a:lnTo>
                    <a:pt x="16" y="1496"/>
                  </a:lnTo>
                  <a:cubicBezTo>
                    <a:pt x="16" y="1501"/>
                    <a:pt x="13" y="1504"/>
                    <a:pt x="8" y="1504"/>
                  </a:cubicBezTo>
                  <a:cubicBezTo>
                    <a:pt x="4" y="1504"/>
                    <a:pt x="0" y="1501"/>
                    <a:pt x="0" y="1496"/>
                  </a:cubicBezTo>
                  <a:close/>
                  <a:moveTo>
                    <a:pt x="0" y="1384"/>
                  </a:moveTo>
                  <a:lnTo>
                    <a:pt x="0" y="1336"/>
                  </a:lnTo>
                  <a:cubicBezTo>
                    <a:pt x="0" y="1332"/>
                    <a:pt x="4" y="1328"/>
                    <a:pt x="8" y="1328"/>
                  </a:cubicBezTo>
                  <a:cubicBezTo>
                    <a:pt x="13" y="1328"/>
                    <a:pt x="16" y="1332"/>
                    <a:pt x="16" y="1336"/>
                  </a:cubicBezTo>
                  <a:lnTo>
                    <a:pt x="16" y="1384"/>
                  </a:lnTo>
                  <a:cubicBezTo>
                    <a:pt x="16" y="1389"/>
                    <a:pt x="13" y="1392"/>
                    <a:pt x="8" y="1392"/>
                  </a:cubicBezTo>
                  <a:cubicBezTo>
                    <a:pt x="4" y="1392"/>
                    <a:pt x="0" y="1389"/>
                    <a:pt x="0" y="1384"/>
                  </a:cubicBezTo>
                  <a:close/>
                  <a:moveTo>
                    <a:pt x="0" y="1272"/>
                  </a:moveTo>
                  <a:lnTo>
                    <a:pt x="0" y="1224"/>
                  </a:lnTo>
                  <a:cubicBezTo>
                    <a:pt x="0" y="1220"/>
                    <a:pt x="4" y="1216"/>
                    <a:pt x="8" y="1216"/>
                  </a:cubicBezTo>
                  <a:cubicBezTo>
                    <a:pt x="13" y="1216"/>
                    <a:pt x="16" y="1220"/>
                    <a:pt x="16" y="1224"/>
                  </a:cubicBezTo>
                  <a:lnTo>
                    <a:pt x="16" y="1272"/>
                  </a:lnTo>
                  <a:cubicBezTo>
                    <a:pt x="16" y="1277"/>
                    <a:pt x="13" y="1280"/>
                    <a:pt x="8" y="1280"/>
                  </a:cubicBezTo>
                  <a:cubicBezTo>
                    <a:pt x="4" y="1280"/>
                    <a:pt x="0" y="1277"/>
                    <a:pt x="0" y="1272"/>
                  </a:cubicBezTo>
                  <a:close/>
                  <a:moveTo>
                    <a:pt x="0" y="1160"/>
                  </a:moveTo>
                  <a:lnTo>
                    <a:pt x="0" y="1112"/>
                  </a:lnTo>
                  <a:cubicBezTo>
                    <a:pt x="0" y="1108"/>
                    <a:pt x="4" y="1104"/>
                    <a:pt x="8" y="1104"/>
                  </a:cubicBezTo>
                  <a:cubicBezTo>
                    <a:pt x="13" y="1104"/>
                    <a:pt x="16" y="1108"/>
                    <a:pt x="16" y="1112"/>
                  </a:cubicBezTo>
                  <a:lnTo>
                    <a:pt x="16" y="1160"/>
                  </a:lnTo>
                  <a:cubicBezTo>
                    <a:pt x="16" y="1165"/>
                    <a:pt x="13" y="1168"/>
                    <a:pt x="8" y="1168"/>
                  </a:cubicBezTo>
                  <a:cubicBezTo>
                    <a:pt x="4" y="1168"/>
                    <a:pt x="0" y="1165"/>
                    <a:pt x="0" y="1160"/>
                  </a:cubicBezTo>
                  <a:close/>
                  <a:moveTo>
                    <a:pt x="0" y="1048"/>
                  </a:moveTo>
                  <a:lnTo>
                    <a:pt x="0" y="1000"/>
                  </a:lnTo>
                  <a:cubicBezTo>
                    <a:pt x="0" y="996"/>
                    <a:pt x="4" y="992"/>
                    <a:pt x="8" y="992"/>
                  </a:cubicBezTo>
                  <a:cubicBezTo>
                    <a:pt x="13" y="992"/>
                    <a:pt x="16" y="996"/>
                    <a:pt x="16" y="1000"/>
                  </a:cubicBezTo>
                  <a:lnTo>
                    <a:pt x="16" y="1048"/>
                  </a:lnTo>
                  <a:cubicBezTo>
                    <a:pt x="16" y="1053"/>
                    <a:pt x="13" y="1056"/>
                    <a:pt x="8" y="1056"/>
                  </a:cubicBezTo>
                  <a:cubicBezTo>
                    <a:pt x="4" y="1056"/>
                    <a:pt x="0" y="1053"/>
                    <a:pt x="0" y="1048"/>
                  </a:cubicBezTo>
                  <a:close/>
                  <a:moveTo>
                    <a:pt x="0" y="936"/>
                  </a:moveTo>
                  <a:lnTo>
                    <a:pt x="0" y="888"/>
                  </a:lnTo>
                  <a:cubicBezTo>
                    <a:pt x="0" y="884"/>
                    <a:pt x="4" y="880"/>
                    <a:pt x="8" y="880"/>
                  </a:cubicBezTo>
                  <a:cubicBezTo>
                    <a:pt x="13" y="880"/>
                    <a:pt x="16" y="884"/>
                    <a:pt x="16" y="888"/>
                  </a:cubicBezTo>
                  <a:lnTo>
                    <a:pt x="16" y="936"/>
                  </a:lnTo>
                  <a:cubicBezTo>
                    <a:pt x="16" y="941"/>
                    <a:pt x="13" y="944"/>
                    <a:pt x="8" y="944"/>
                  </a:cubicBezTo>
                  <a:cubicBezTo>
                    <a:pt x="4" y="944"/>
                    <a:pt x="0" y="941"/>
                    <a:pt x="0" y="936"/>
                  </a:cubicBezTo>
                  <a:close/>
                  <a:moveTo>
                    <a:pt x="0" y="824"/>
                  </a:moveTo>
                  <a:lnTo>
                    <a:pt x="0" y="776"/>
                  </a:lnTo>
                  <a:cubicBezTo>
                    <a:pt x="0" y="772"/>
                    <a:pt x="4" y="768"/>
                    <a:pt x="8" y="768"/>
                  </a:cubicBezTo>
                  <a:cubicBezTo>
                    <a:pt x="13" y="768"/>
                    <a:pt x="16" y="772"/>
                    <a:pt x="16" y="776"/>
                  </a:cubicBezTo>
                  <a:lnTo>
                    <a:pt x="16" y="824"/>
                  </a:lnTo>
                  <a:cubicBezTo>
                    <a:pt x="16" y="829"/>
                    <a:pt x="13" y="832"/>
                    <a:pt x="8" y="832"/>
                  </a:cubicBezTo>
                  <a:cubicBezTo>
                    <a:pt x="4" y="832"/>
                    <a:pt x="0" y="829"/>
                    <a:pt x="0" y="824"/>
                  </a:cubicBezTo>
                  <a:close/>
                  <a:moveTo>
                    <a:pt x="0" y="712"/>
                  </a:moveTo>
                  <a:lnTo>
                    <a:pt x="0" y="664"/>
                  </a:lnTo>
                  <a:cubicBezTo>
                    <a:pt x="0" y="660"/>
                    <a:pt x="4" y="656"/>
                    <a:pt x="8" y="656"/>
                  </a:cubicBezTo>
                  <a:cubicBezTo>
                    <a:pt x="13" y="656"/>
                    <a:pt x="16" y="660"/>
                    <a:pt x="16" y="664"/>
                  </a:cubicBezTo>
                  <a:lnTo>
                    <a:pt x="16" y="712"/>
                  </a:lnTo>
                  <a:cubicBezTo>
                    <a:pt x="16" y="717"/>
                    <a:pt x="13" y="720"/>
                    <a:pt x="8" y="720"/>
                  </a:cubicBezTo>
                  <a:cubicBezTo>
                    <a:pt x="4" y="720"/>
                    <a:pt x="0" y="717"/>
                    <a:pt x="0" y="712"/>
                  </a:cubicBezTo>
                  <a:close/>
                  <a:moveTo>
                    <a:pt x="0" y="600"/>
                  </a:moveTo>
                  <a:lnTo>
                    <a:pt x="0" y="552"/>
                  </a:lnTo>
                  <a:cubicBezTo>
                    <a:pt x="0" y="548"/>
                    <a:pt x="4" y="544"/>
                    <a:pt x="8" y="544"/>
                  </a:cubicBezTo>
                  <a:cubicBezTo>
                    <a:pt x="13" y="544"/>
                    <a:pt x="16" y="548"/>
                    <a:pt x="16" y="552"/>
                  </a:cubicBezTo>
                  <a:lnTo>
                    <a:pt x="16" y="600"/>
                  </a:lnTo>
                  <a:cubicBezTo>
                    <a:pt x="16" y="605"/>
                    <a:pt x="13" y="608"/>
                    <a:pt x="8" y="608"/>
                  </a:cubicBezTo>
                  <a:cubicBezTo>
                    <a:pt x="4" y="608"/>
                    <a:pt x="0" y="605"/>
                    <a:pt x="0" y="600"/>
                  </a:cubicBezTo>
                  <a:close/>
                  <a:moveTo>
                    <a:pt x="0" y="488"/>
                  </a:moveTo>
                  <a:lnTo>
                    <a:pt x="0" y="440"/>
                  </a:lnTo>
                  <a:cubicBezTo>
                    <a:pt x="0" y="436"/>
                    <a:pt x="4" y="432"/>
                    <a:pt x="8" y="432"/>
                  </a:cubicBezTo>
                  <a:cubicBezTo>
                    <a:pt x="13" y="432"/>
                    <a:pt x="16" y="436"/>
                    <a:pt x="16" y="440"/>
                  </a:cubicBezTo>
                  <a:lnTo>
                    <a:pt x="16" y="488"/>
                  </a:lnTo>
                  <a:cubicBezTo>
                    <a:pt x="16" y="493"/>
                    <a:pt x="13" y="496"/>
                    <a:pt x="8" y="496"/>
                  </a:cubicBezTo>
                  <a:cubicBezTo>
                    <a:pt x="4" y="496"/>
                    <a:pt x="0" y="493"/>
                    <a:pt x="0" y="488"/>
                  </a:cubicBezTo>
                  <a:close/>
                  <a:moveTo>
                    <a:pt x="0" y="376"/>
                  </a:moveTo>
                  <a:lnTo>
                    <a:pt x="0" y="328"/>
                  </a:lnTo>
                  <a:cubicBezTo>
                    <a:pt x="0" y="324"/>
                    <a:pt x="4" y="320"/>
                    <a:pt x="8" y="320"/>
                  </a:cubicBezTo>
                  <a:cubicBezTo>
                    <a:pt x="13" y="320"/>
                    <a:pt x="16" y="324"/>
                    <a:pt x="16" y="328"/>
                  </a:cubicBezTo>
                  <a:lnTo>
                    <a:pt x="16" y="376"/>
                  </a:lnTo>
                  <a:cubicBezTo>
                    <a:pt x="16" y="381"/>
                    <a:pt x="13" y="384"/>
                    <a:pt x="8" y="384"/>
                  </a:cubicBezTo>
                  <a:cubicBezTo>
                    <a:pt x="4" y="384"/>
                    <a:pt x="0" y="381"/>
                    <a:pt x="0" y="376"/>
                  </a:cubicBezTo>
                  <a:close/>
                  <a:moveTo>
                    <a:pt x="0" y="264"/>
                  </a:moveTo>
                  <a:lnTo>
                    <a:pt x="0" y="216"/>
                  </a:lnTo>
                  <a:cubicBezTo>
                    <a:pt x="0" y="212"/>
                    <a:pt x="4" y="208"/>
                    <a:pt x="8" y="208"/>
                  </a:cubicBezTo>
                  <a:cubicBezTo>
                    <a:pt x="13" y="208"/>
                    <a:pt x="16" y="212"/>
                    <a:pt x="16" y="216"/>
                  </a:cubicBezTo>
                  <a:lnTo>
                    <a:pt x="16" y="264"/>
                  </a:lnTo>
                  <a:cubicBezTo>
                    <a:pt x="16" y="269"/>
                    <a:pt x="13" y="272"/>
                    <a:pt x="8" y="272"/>
                  </a:cubicBezTo>
                  <a:cubicBezTo>
                    <a:pt x="4" y="272"/>
                    <a:pt x="0" y="269"/>
                    <a:pt x="0" y="264"/>
                  </a:cubicBezTo>
                  <a:close/>
                  <a:moveTo>
                    <a:pt x="0" y="152"/>
                  </a:moveTo>
                  <a:lnTo>
                    <a:pt x="0" y="104"/>
                  </a:lnTo>
                  <a:cubicBezTo>
                    <a:pt x="0" y="100"/>
                    <a:pt x="4" y="96"/>
                    <a:pt x="8" y="96"/>
                  </a:cubicBezTo>
                  <a:cubicBezTo>
                    <a:pt x="13" y="96"/>
                    <a:pt x="16" y="100"/>
                    <a:pt x="16" y="104"/>
                  </a:cubicBezTo>
                  <a:lnTo>
                    <a:pt x="16" y="152"/>
                  </a:lnTo>
                  <a:cubicBezTo>
                    <a:pt x="16" y="157"/>
                    <a:pt x="13" y="160"/>
                    <a:pt x="8" y="160"/>
                  </a:cubicBezTo>
                  <a:cubicBezTo>
                    <a:pt x="4" y="160"/>
                    <a:pt x="0" y="157"/>
                    <a:pt x="0" y="152"/>
                  </a:cubicBezTo>
                  <a:close/>
                  <a:moveTo>
                    <a:pt x="0" y="40"/>
                  </a:move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3" y="0"/>
                    <a:pt x="16" y="4"/>
                    <a:pt x="16" y="8"/>
                  </a:cubicBezTo>
                  <a:lnTo>
                    <a:pt x="16" y="40"/>
                  </a:lnTo>
                  <a:cubicBezTo>
                    <a:pt x="16" y="45"/>
                    <a:pt x="13" y="48"/>
                    <a:pt x="8" y="48"/>
                  </a:cubicBezTo>
                  <a:cubicBezTo>
                    <a:pt x="4" y="48"/>
                    <a:pt x="0" y="45"/>
                    <a:pt x="0" y="40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22480" y="3633840"/>
              <a:ext cx="3396960" cy="15840"/>
            </a:xfrm>
            <a:custGeom>
              <a:avLst/>
              <a:gdLst/>
              <a:ahLst/>
              <a:rect l="l" t="t" r="r" b="b"/>
              <a:pathLst>
                <a:path w="3536" h="16">
                  <a:moveTo>
                    <a:pt x="3528" y="16"/>
                  </a:moveTo>
                  <a:lnTo>
                    <a:pt x="3480" y="16"/>
                  </a:lnTo>
                  <a:cubicBezTo>
                    <a:pt x="3476" y="16"/>
                    <a:pt x="3472" y="13"/>
                    <a:pt x="3472" y="8"/>
                  </a:cubicBezTo>
                  <a:cubicBezTo>
                    <a:pt x="3472" y="4"/>
                    <a:pt x="3476" y="0"/>
                    <a:pt x="3480" y="0"/>
                  </a:cubicBezTo>
                  <a:lnTo>
                    <a:pt x="3528" y="0"/>
                  </a:lnTo>
                  <a:cubicBezTo>
                    <a:pt x="3533" y="0"/>
                    <a:pt x="3536" y="4"/>
                    <a:pt x="3536" y="8"/>
                  </a:cubicBezTo>
                  <a:cubicBezTo>
                    <a:pt x="3536" y="13"/>
                    <a:pt x="3533" y="16"/>
                    <a:pt x="3528" y="16"/>
                  </a:cubicBezTo>
                  <a:close/>
                  <a:moveTo>
                    <a:pt x="3416" y="16"/>
                  </a:moveTo>
                  <a:lnTo>
                    <a:pt x="3368" y="16"/>
                  </a:lnTo>
                  <a:cubicBezTo>
                    <a:pt x="3364" y="16"/>
                    <a:pt x="3360" y="13"/>
                    <a:pt x="3360" y="8"/>
                  </a:cubicBezTo>
                  <a:cubicBezTo>
                    <a:pt x="3360" y="4"/>
                    <a:pt x="3364" y="0"/>
                    <a:pt x="3368" y="0"/>
                  </a:cubicBezTo>
                  <a:lnTo>
                    <a:pt x="3416" y="0"/>
                  </a:lnTo>
                  <a:cubicBezTo>
                    <a:pt x="3421" y="0"/>
                    <a:pt x="3424" y="4"/>
                    <a:pt x="3424" y="8"/>
                  </a:cubicBezTo>
                  <a:cubicBezTo>
                    <a:pt x="3424" y="13"/>
                    <a:pt x="3421" y="16"/>
                    <a:pt x="3416" y="16"/>
                  </a:cubicBezTo>
                  <a:close/>
                  <a:moveTo>
                    <a:pt x="3304" y="16"/>
                  </a:moveTo>
                  <a:lnTo>
                    <a:pt x="3256" y="16"/>
                  </a:lnTo>
                  <a:cubicBezTo>
                    <a:pt x="3252" y="16"/>
                    <a:pt x="3248" y="13"/>
                    <a:pt x="3248" y="8"/>
                  </a:cubicBezTo>
                  <a:cubicBezTo>
                    <a:pt x="3248" y="4"/>
                    <a:pt x="3252" y="0"/>
                    <a:pt x="3256" y="0"/>
                  </a:cubicBezTo>
                  <a:lnTo>
                    <a:pt x="3304" y="0"/>
                  </a:lnTo>
                  <a:cubicBezTo>
                    <a:pt x="3309" y="0"/>
                    <a:pt x="3312" y="4"/>
                    <a:pt x="3312" y="8"/>
                  </a:cubicBezTo>
                  <a:cubicBezTo>
                    <a:pt x="3312" y="13"/>
                    <a:pt x="3309" y="16"/>
                    <a:pt x="3304" y="16"/>
                  </a:cubicBezTo>
                  <a:close/>
                  <a:moveTo>
                    <a:pt x="3192" y="16"/>
                  </a:moveTo>
                  <a:lnTo>
                    <a:pt x="3144" y="16"/>
                  </a:lnTo>
                  <a:cubicBezTo>
                    <a:pt x="3140" y="16"/>
                    <a:pt x="3136" y="13"/>
                    <a:pt x="3136" y="8"/>
                  </a:cubicBezTo>
                  <a:cubicBezTo>
                    <a:pt x="3136" y="4"/>
                    <a:pt x="3140" y="0"/>
                    <a:pt x="3144" y="0"/>
                  </a:cubicBezTo>
                  <a:lnTo>
                    <a:pt x="3192" y="0"/>
                  </a:lnTo>
                  <a:cubicBezTo>
                    <a:pt x="3197" y="0"/>
                    <a:pt x="3200" y="4"/>
                    <a:pt x="3200" y="8"/>
                  </a:cubicBezTo>
                  <a:cubicBezTo>
                    <a:pt x="3200" y="13"/>
                    <a:pt x="3197" y="16"/>
                    <a:pt x="3192" y="16"/>
                  </a:cubicBezTo>
                  <a:close/>
                  <a:moveTo>
                    <a:pt x="3080" y="16"/>
                  </a:moveTo>
                  <a:lnTo>
                    <a:pt x="3032" y="16"/>
                  </a:lnTo>
                  <a:cubicBezTo>
                    <a:pt x="3028" y="16"/>
                    <a:pt x="3024" y="13"/>
                    <a:pt x="3024" y="8"/>
                  </a:cubicBezTo>
                  <a:cubicBezTo>
                    <a:pt x="3024" y="4"/>
                    <a:pt x="3028" y="0"/>
                    <a:pt x="3032" y="0"/>
                  </a:cubicBezTo>
                  <a:lnTo>
                    <a:pt x="3080" y="0"/>
                  </a:lnTo>
                  <a:cubicBezTo>
                    <a:pt x="3085" y="0"/>
                    <a:pt x="3088" y="4"/>
                    <a:pt x="3088" y="8"/>
                  </a:cubicBezTo>
                  <a:cubicBezTo>
                    <a:pt x="3088" y="13"/>
                    <a:pt x="3085" y="16"/>
                    <a:pt x="3080" y="16"/>
                  </a:cubicBezTo>
                  <a:close/>
                  <a:moveTo>
                    <a:pt x="2968" y="16"/>
                  </a:moveTo>
                  <a:lnTo>
                    <a:pt x="2920" y="16"/>
                  </a:lnTo>
                  <a:cubicBezTo>
                    <a:pt x="2916" y="16"/>
                    <a:pt x="2912" y="13"/>
                    <a:pt x="2912" y="8"/>
                  </a:cubicBezTo>
                  <a:cubicBezTo>
                    <a:pt x="2912" y="4"/>
                    <a:pt x="2916" y="0"/>
                    <a:pt x="2920" y="0"/>
                  </a:cubicBezTo>
                  <a:lnTo>
                    <a:pt x="2968" y="0"/>
                  </a:lnTo>
                  <a:cubicBezTo>
                    <a:pt x="2973" y="0"/>
                    <a:pt x="2976" y="4"/>
                    <a:pt x="2976" y="8"/>
                  </a:cubicBezTo>
                  <a:cubicBezTo>
                    <a:pt x="2976" y="13"/>
                    <a:pt x="2973" y="16"/>
                    <a:pt x="2968" y="16"/>
                  </a:cubicBezTo>
                  <a:close/>
                  <a:moveTo>
                    <a:pt x="2856" y="16"/>
                  </a:moveTo>
                  <a:lnTo>
                    <a:pt x="2808" y="16"/>
                  </a:lnTo>
                  <a:cubicBezTo>
                    <a:pt x="2804" y="16"/>
                    <a:pt x="2800" y="13"/>
                    <a:pt x="2800" y="8"/>
                  </a:cubicBezTo>
                  <a:cubicBezTo>
                    <a:pt x="2800" y="4"/>
                    <a:pt x="2804" y="0"/>
                    <a:pt x="2808" y="0"/>
                  </a:cubicBezTo>
                  <a:lnTo>
                    <a:pt x="2856" y="0"/>
                  </a:lnTo>
                  <a:cubicBezTo>
                    <a:pt x="2861" y="0"/>
                    <a:pt x="2864" y="4"/>
                    <a:pt x="2864" y="8"/>
                  </a:cubicBezTo>
                  <a:cubicBezTo>
                    <a:pt x="2864" y="13"/>
                    <a:pt x="2861" y="16"/>
                    <a:pt x="2856" y="16"/>
                  </a:cubicBezTo>
                  <a:close/>
                  <a:moveTo>
                    <a:pt x="2744" y="16"/>
                  </a:moveTo>
                  <a:lnTo>
                    <a:pt x="2696" y="16"/>
                  </a:lnTo>
                  <a:cubicBezTo>
                    <a:pt x="2692" y="16"/>
                    <a:pt x="2688" y="13"/>
                    <a:pt x="2688" y="8"/>
                  </a:cubicBezTo>
                  <a:cubicBezTo>
                    <a:pt x="2688" y="4"/>
                    <a:pt x="2692" y="0"/>
                    <a:pt x="2696" y="0"/>
                  </a:cubicBezTo>
                  <a:lnTo>
                    <a:pt x="2744" y="0"/>
                  </a:lnTo>
                  <a:cubicBezTo>
                    <a:pt x="2749" y="0"/>
                    <a:pt x="2752" y="4"/>
                    <a:pt x="2752" y="8"/>
                  </a:cubicBezTo>
                  <a:cubicBezTo>
                    <a:pt x="2752" y="13"/>
                    <a:pt x="2749" y="16"/>
                    <a:pt x="2744" y="16"/>
                  </a:cubicBezTo>
                  <a:close/>
                  <a:moveTo>
                    <a:pt x="2632" y="16"/>
                  </a:moveTo>
                  <a:lnTo>
                    <a:pt x="2584" y="16"/>
                  </a:lnTo>
                  <a:cubicBezTo>
                    <a:pt x="2580" y="16"/>
                    <a:pt x="2576" y="13"/>
                    <a:pt x="2576" y="8"/>
                  </a:cubicBezTo>
                  <a:cubicBezTo>
                    <a:pt x="2576" y="4"/>
                    <a:pt x="2580" y="0"/>
                    <a:pt x="2584" y="0"/>
                  </a:cubicBezTo>
                  <a:lnTo>
                    <a:pt x="2632" y="0"/>
                  </a:lnTo>
                  <a:cubicBezTo>
                    <a:pt x="2637" y="0"/>
                    <a:pt x="2640" y="4"/>
                    <a:pt x="2640" y="8"/>
                  </a:cubicBezTo>
                  <a:cubicBezTo>
                    <a:pt x="2640" y="13"/>
                    <a:pt x="2637" y="16"/>
                    <a:pt x="2632" y="16"/>
                  </a:cubicBezTo>
                  <a:close/>
                  <a:moveTo>
                    <a:pt x="2520" y="16"/>
                  </a:moveTo>
                  <a:lnTo>
                    <a:pt x="2472" y="16"/>
                  </a:lnTo>
                  <a:cubicBezTo>
                    <a:pt x="2468" y="16"/>
                    <a:pt x="2464" y="13"/>
                    <a:pt x="2464" y="8"/>
                  </a:cubicBezTo>
                  <a:cubicBezTo>
                    <a:pt x="2464" y="4"/>
                    <a:pt x="2468" y="0"/>
                    <a:pt x="2472" y="0"/>
                  </a:cubicBezTo>
                  <a:lnTo>
                    <a:pt x="2520" y="0"/>
                  </a:lnTo>
                  <a:cubicBezTo>
                    <a:pt x="2525" y="0"/>
                    <a:pt x="2528" y="4"/>
                    <a:pt x="2528" y="8"/>
                  </a:cubicBezTo>
                  <a:cubicBezTo>
                    <a:pt x="2528" y="13"/>
                    <a:pt x="2525" y="16"/>
                    <a:pt x="2520" y="16"/>
                  </a:cubicBezTo>
                  <a:close/>
                  <a:moveTo>
                    <a:pt x="2408" y="16"/>
                  </a:moveTo>
                  <a:lnTo>
                    <a:pt x="2360" y="16"/>
                  </a:lnTo>
                  <a:cubicBezTo>
                    <a:pt x="2356" y="16"/>
                    <a:pt x="2352" y="13"/>
                    <a:pt x="2352" y="8"/>
                  </a:cubicBezTo>
                  <a:cubicBezTo>
                    <a:pt x="2352" y="4"/>
                    <a:pt x="2356" y="0"/>
                    <a:pt x="2360" y="0"/>
                  </a:cubicBezTo>
                  <a:lnTo>
                    <a:pt x="2408" y="0"/>
                  </a:lnTo>
                  <a:cubicBezTo>
                    <a:pt x="2413" y="0"/>
                    <a:pt x="2416" y="4"/>
                    <a:pt x="2416" y="8"/>
                  </a:cubicBezTo>
                  <a:cubicBezTo>
                    <a:pt x="2416" y="13"/>
                    <a:pt x="2413" y="16"/>
                    <a:pt x="2408" y="16"/>
                  </a:cubicBezTo>
                  <a:close/>
                  <a:moveTo>
                    <a:pt x="2296" y="16"/>
                  </a:moveTo>
                  <a:lnTo>
                    <a:pt x="2248" y="16"/>
                  </a:lnTo>
                  <a:cubicBezTo>
                    <a:pt x="2244" y="16"/>
                    <a:pt x="2240" y="13"/>
                    <a:pt x="2240" y="8"/>
                  </a:cubicBezTo>
                  <a:cubicBezTo>
                    <a:pt x="2240" y="4"/>
                    <a:pt x="2244" y="0"/>
                    <a:pt x="2248" y="0"/>
                  </a:cubicBezTo>
                  <a:lnTo>
                    <a:pt x="2296" y="0"/>
                  </a:lnTo>
                  <a:cubicBezTo>
                    <a:pt x="2301" y="0"/>
                    <a:pt x="2304" y="4"/>
                    <a:pt x="2304" y="8"/>
                  </a:cubicBezTo>
                  <a:cubicBezTo>
                    <a:pt x="2304" y="13"/>
                    <a:pt x="2301" y="16"/>
                    <a:pt x="2296" y="16"/>
                  </a:cubicBezTo>
                  <a:close/>
                  <a:moveTo>
                    <a:pt x="2184" y="16"/>
                  </a:moveTo>
                  <a:lnTo>
                    <a:pt x="2136" y="16"/>
                  </a:lnTo>
                  <a:cubicBezTo>
                    <a:pt x="2132" y="16"/>
                    <a:pt x="2128" y="13"/>
                    <a:pt x="2128" y="8"/>
                  </a:cubicBezTo>
                  <a:cubicBezTo>
                    <a:pt x="2128" y="4"/>
                    <a:pt x="2132" y="0"/>
                    <a:pt x="2136" y="0"/>
                  </a:cubicBezTo>
                  <a:lnTo>
                    <a:pt x="2184" y="0"/>
                  </a:lnTo>
                  <a:cubicBezTo>
                    <a:pt x="2189" y="0"/>
                    <a:pt x="2192" y="4"/>
                    <a:pt x="2192" y="8"/>
                  </a:cubicBezTo>
                  <a:cubicBezTo>
                    <a:pt x="2192" y="13"/>
                    <a:pt x="2189" y="16"/>
                    <a:pt x="2184" y="16"/>
                  </a:cubicBezTo>
                  <a:close/>
                  <a:moveTo>
                    <a:pt x="2072" y="16"/>
                  </a:moveTo>
                  <a:lnTo>
                    <a:pt x="2024" y="16"/>
                  </a:lnTo>
                  <a:cubicBezTo>
                    <a:pt x="2020" y="16"/>
                    <a:pt x="2016" y="13"/>
                    <a:pt x="2016" y="8"/>
                  </a:cubicBezTo>
                  <a:cubicBezTo>
                    <a:pt x="2016" y="4"/>
                    <a:pt x="2020" y="0"/>
                    <a:pt x="2024" y="0"/>
                  </a:cubicBezTo>
                  <a:lnTo>
                    <a:pt x="2072" y="0"/>
                  </a:lnTo>
                  <a:cubicBezTo>
                    <a:pt x="2077" y="0"/>
                    <a:pt x="2080" y="4"/>
                    <a:pt x="2080" y="8"/>
                  </a:cubicBezTo>
                  <a:cubicBezTo>
                    <a:pt x="2080" y="13"/>
                    <a:pt x="2077" y="16"/>
                    <a:pt x="2072" y="16"/>
                  </a:cubicBezTo>
                  <a:close/>
                  <a:moveTo>
                    <a:pt x="1960" y="16"/>
                  </a:moveTo>
                  <a:lnTo>
                    <a:pt x="1912" y="16"/>
                  </a:lnTo>
                  <a:cubicBezTo>
                    <a:pt x="1908" y="16"/>
                    <a:pt x="1904" y="13"/>
                    <a:pt x="1904" y="8"/>
                  </a:cubicBezTo>
                  <a:cubicBezTo>
                    <a:pt x="1904" y="4"/>
                    <a:pt x="1908" y="0"/>
                    <a:pt x="1912" y="0"/>
                  </a:cubicBezTo>
                  <a:lnTo>
                    <a:pt x="1960" y="0"/>
                  </a:lnTo>
                  <a:cubicBezTo>
                    <a:pt x="1965" y="0"/>
                    <a:pt x="1968" y="4"/>
                    <a:pt x="1968" y="8"/>
                  </a:cubicBezTo>
                  <a:cubicBezTo>
                    <a:pt x="1968" y="13"/>
                    <a:pt x="1965" y="16"/>
                    <a:pt x="1960" y="16"/>
                  </a:cubicBezTo>
                  <a:close/>
                  <a:moveTo>
                    <a:pt x="1848" y="16"/>
                  </a:moveTo>
                  <a:lnTo>
                    <a:pt x="1800" y="16"/>
                  </a:lnTo>
                  <a:cubicBezTo>
                    <a:pt x="1796" y="16"/>
                    <a:pt x="1792" y="13"/>
                    <a:pt x="1792" y="8"/>
                  </a:cubicBezTo>
                  <a:cubicBezTo>
                    <a:pt x="1792" y="4"/>
                    <a:pt x="1796" y="0"/>
                    <a:pt x="1800" y="0"/>
                  </a:cubicBezTo>
                  <a:lnTo>
                    <a:pt x="1848" y="0"/>
                  </a:lnTo>
                  <a:cubicBezTo>
                    <a:pt x="1853" y="0"/>
                    <a:pt x="1856" y="4"/>
                    <a:pt x="1856" y="8"/>
                  </a:cubicBezTo>
                  <a:cubicBezTo>
                    <a:pt x="1856" y="13"/>
                    <a:pt x="1853" y="16"/>
                    <a:pt x="1848" y="16"/>
                  </a:cubicBezTo>
                  <a:close/>
                  <a:moveTo>
                    <a:pt x="1736" y="16"/>
                  </a:moveTo>
                  <a:lnTo>
                    <a:pt x="1688" y="16"/>
                  </a:lnTo>
                  <a:cubicBezTo>
                    <a:pt x="1684" y="16"/>
                    <a:pt x="1680" y="13"/>
                    <a:pt x="1680" y="8"/>
                  </a:cubicBezTo>
                  <a:cubicBezTo>
                    <a:pt x="1680" y="4"/>
                    <a:pt x="1684" y="0"/>
                    <a:pt x="1688" y="0"/>
                  </a:cubicBezTo>
                  <a:lnTo>
                    <a:pt x="1736" y="0"/>
                  </a:lnTo>
                  <a:cubicBezTo>
                    <a:pt x="1741" y="0"/>
                    <a:pt x="1744" y="4"/>
                    <a:pt x="1744" y="8"/>
                  </a:cubicBezTo>
                  <a:cubicBezTo>
                    <a:pt x="1744" y="13"/>
                    <a:pt x="1741" y="16"/>
                    <a:pt x="1736" y="16"/>
                  </a:cubicBezTo>
                  <a:close/>
                  <a:moveTo>
                    <a:pt x="1624" y="16"/>
                  </a:moveTo>
                  <a:lnTo>
                    <a:pt x="1576" y="16"/>
                  </a:lnTo>
                  <a:cubicBezTo>
                    <a:pt x="1572" y="16"/>
                    <a:pt x="1568" y="13"/>
                    <a:pt x="1568" y="8"/>
                  </a:cubicBezTo>
                  <a:cubicBezTo>
                    <a:pt x="1568" y="4"/>
                    <a:pt x="1572" y="0"/>
                    <a:pt x="1576" y="0"/>
                  </a:cubicBezTo>
                  <a:lnTo>
                    <a:pt x="1624" y="0"/>
                  </a:lnTo>
                  <a:cubicBezTo>
                    <a:pt x="1629" y="0"/>
                    <a:pt x="1632" y="4"/>
                    <a:pt x="1632" y="8"/>
                  </a:cubicBezTo>
                  <a:cubicBezTo>
                    <a:pt x="1632" y="13"/>
                    <a:pt x="1629" y="16"/>
                    <a:pt x="1624" y="16"/>
                  </a:cubicBezTo>
                  <a:close/>
                  <a:moveTo>
                    <a:pt x="1512" y="16"/>
                  </a:moveTo>
                  <a:lnTo>
                    <a:pt x="1464" y="16"/>
                  </a:lnTo>
                  <a:cubicBezTo>
                    <a:pt x="1460" y="16"/>
                    <a:pt x="1456" y="13"/>
                    <a:pt x="1456" y="8"/>
                  </a:cubicBezTo>
                  <a:cubicBezTo>
                    <a:pt x="1456" y="4"/>
                    <a:pt x="1460" y="0"/>
                    <a:pt x="1464" y="0"/>
                  </a:cubicBezTo>
                  <a:lnTo>
                    <a:pt x="1512" y="0"/>
                  </a:lnTo>
                  <a:cubicBezTo>
                    <a:pt x="1517" y="0"/>
                    <a:pt x="1520" y="4"/>
                    <a:pt x="1520" y="8"/>
                  </a:cubicBezTo>
                  <a:cubicBezTo>
                    <a:pt x="1520" y="13"/>
                    <a:pt x="1517" y="16"/>
                    <a:pt x="1512" y="16"/>
                  </a:cubicBezTo>
                  <a:close/>
                  <a:moveTo>
                    <a:pt x="1400" y="16"/>
                  </a:moveTo>
                  <a:lnTo>
                    <a:pt x="1352" y="16"/>
                  </a:lnTo>
                  <a:cubicBezTo>
                    <a:pt x="1348" y="16"/>
                    <a:pt x="1344" y="13"/>
                    <a:pt x="1344" y="8"/>
                  </a:cubicBezTo>
                  <a:cubicBezTo>
                    <a:pt x="1344" y="4"/>
                    <a:pt x="1348" y="0"/>
                    <a:pt x="1352" y="0"/>
                  </a:cubicBezTo>
                  <a:lnTo>
                    <a:pt x="1400" y="0"/>
                  </a:lnTo>
                  <a:cubicBezTo>
                    <a:pt x="1405" y="0"/>
                    <a:pt x="1408" y="4"/>
                    <a:pt x="1408" y="8"/>
                  </a:cubicBezTo>
                  <a:cubicBezTo>
                    <a:pt x="1408" y="13"/>
                    <a:pt x="1405" y="16"/>
                    <a:pt x="1400" y="16"/>
                  </a:cubicBezTo>
                  <a:close/>
                  <a:moveTo>
                    <a:pt x="1288" y="16"/>
                  </a:moveTo>
                  <a:lnTo>
                    <a:pt x="1240" y="16"/>
                  </a:lnTo>
                  <a:cubicBezTo>
                    <a:pt x="1236" y="16"/>
                    <a:pt x="1232" y="13"/>
                    <a:pt x="1232" y="8"/>
                  </a:cubicBezTo>
                  <a:cubicBezTo>
                    <a:pt x="1232" y="4"/>
                    <a:pt x="1236" y="0"/>
                    <a:pt x="1240" y="0"/>
                  </a:cubicBezTo>
                  <a:lnTo>
                    <a:pt x="1288" y="0"/>
                  </a:lnTo>
                  <a:cubicBezTo>
                    <a:pt x="1293" y="0"/>
                    <a:pt x="1296" y="4"/>
                    <a:pt x="1296" y="8"/>
                  </a:cubicBezTo>
                  <a:cubicBezTo>
                    <a:pt x="1296" y="13"/>
                    <a:pt x="1293" y="16"/>
                    <a:pt x="1288" y="16"/>
                  </a:cubicBezTo>
                  <a:close/>
                  <a:moveTo>
                    <a:pt x="1176" y="16"/>
                  </a:moveTo>
                  <a:lnTo>
                    <a:pt x="1128" y="16"/>
                  </a:lnTo>
                  <a:cubicBezTo>
                    <a:pt x="1124" y="16"/>
                    <a:pt x="1120" y="13"/>
                    <a:pt x="1120" y="8"/>
                  </a:cubicBezTo>
                  <a:cubicBezTo>
                    <a:pt x="1120" y="4"/>
                    <a:pt x="1124" y="0"/>
                    <a:pt x="1128" y="0"/>
                  </a:cubicBezTo>
                  <a:lnTo>
                    <a:pt x="1176" y="0"/>
                  </a:lnTo>
                  <a:cubicBezTo>
                    <a:pt x="1181" y="0"/>
                    <a:pt x="1184" y="4"/>
                    <a:pt x="1184" y="8"/>
                  </a:cubicBezTo>
                  <a:cubicBezTo>
                    <a:pt x="1184" y="13"/>
                    <a:pt x="1181" y="16"/>
                    <a:pt x="1176" y="16"/>
                  </a:cubicBezTo>
                  <a:close/>
                  <a:moveTo>
                    <a:pt x="1064" y="16"/>
                  </a:moveTo>
                  <a:lnTo>
                    <a:pt x="1016" y="16"/>
                  </a:lnTo>
                  <a:cubicBezTo>
                    <a:pt x="1012" y="16"/>
                    <a:pt x="1008" y="13"/>
                    <a:pt x="1008" y="8"/>
                  </a:cubicBezTo>
                  <a:cubicBezTo>
                    <a:pt x="1008" y="4"/>
                    <a:pt x="1012" y="0"/>
                    <a:pt x="1016" y="0"/>
                  </a:cubicBezTo>
                  <a:lnTo>
                    <a:pt x="1064" y="0"/>
                  </a:lnTo>
                  <a:cubicBezTo>
                    <a:pt x="1069" y="0"/>
                    <a:pt x="1072" y="4"/>
                    <a:pt x="1072" y="8"/>
                  </a:cubicBezTo>
                  <a:cubicBezTo>
                    <a:pt x="1072" y="13"/>
                    <a:pt x="1069" y="16"/>
                    <a:pt x="1064" y="16"/>
                  </a:cubicBezTo>
                  <a:close/>
                  <a:moveTo>
                    <a:pt x="952" y="16"/>
                  </a:moveTo>
                  <a:lnTo>
                    <a:pt x="904" y="16"/>
                  </a:lnTo>
                  <a:cubicBezTo>
                    <a:pt x="900" y="16"/>
                    <a:pt x="896" y="13"/>
                    <a:pt x="896" y="8"/>
                  </a:cubicBezTo>
                  <a:cubicBezTo>
                    <a:pt x="896" y="4"/>
                    <a:pt x="900" y="0"/>
                    <a:pt x="904" y="0"/>
                  </a:cubicBezTo>
                  <a:lnTo>
                    <a:pt x="952" y="0"/>
                  </a:lnTo>
                  <a:cubicBezTo>
                    <a:pt x="957" y="0"/>
                    <a:pt x="960" y="4"/>
                    <a:pt x="960" y="8"/>
                  </a:cubicBezTo>
                  <a:cubicBezTo>
                    <a:pt x="960" y="13"/>
                    <a:pt x="957" y="16"/>
                    <a:pt x="952" y="16"/>
                  </a:cubicBezTo>
                  <a:close/>
                  <a:moveTo>
                    <a:pt x="840" y="16"/>
                  </a:moveTo>
                  <a:lnTo>
                    <a:pt x="792" y="16"/>
                  </a:lnTo>
                  <a:cubicBezTo>
                    <a:pt x="788" y="16"/>
                    <a:pt x="784" y="13"/>
                    <a:pt x="784" y="8"/>
                  </a:cubicBezTo>
                  <a:cubicBezTo>
                    <a:pt x="784" y="4"/>
                    <a:pt x="788" y="0"/>
                    <a:pt x="792" y="0"/>
                  </a:cubicBezTo>
                  <a:lnTo>
                    <a:pt x="840" y="0"/>
                  </a:lnTo>
                  <a:cubicBezTo>
                    <a:pt x="845" y="0"/>
                    <a:pt x="848" y="4"/>
                    <a:pt x="848" y="8"/>
                  </a:cubicBezTo>
                  <a:cubicBezTo>
                    <a:pt x="848" y="13"/>
                    <a:pt x="845" y="16"/>
                    <a:pt x="840" y="16"/>
                  </a:cubicBezTo>
                  <a:close/>
                  <a:moveTo>
                    <a:pt x="728" y="16"/>
                  </a:moveTo>
                  <a:lnTo>
                    <a:pt x="680" y="16"/>
                  </a:lnTo>
                  <a:cubicBezTo>
                    <a:pt x="676" y="16"/>
                    <a:pt x="672" y="13"/>
                    <a:pt x="672" y="8"/>
                  </a:cubicBezTo>
                  <a:cubicBezTo>
                    <a:pt x="672" y="4"/>
                    <a:pt x="676" y="0"/>
                    <a:pt x="680" y="0"/>
                  </a:cubicBezTo>
                  <a:lnTo>
                    <a:pt x="728" y="0"/>
                  </a:lnTo>
                  <a:cubicBezTo>
                    <a:pt x="733" y="0"/>
                    <a:pt x="736" y="4"/>
                    <a:pt x="736" y="8"/>
                  </a:cubicBezTo>
                  <a:cubicBezTo>
                    <a:pt x="736" y="13"/>
                    <a:pt x="733" y="16"/>
                    <a:pt x="728" y="16"/>
                  </a:cubicBezTo>
                  <a:close/>
                  <a:moveTo>
                    <a:pt x="616" y="16"/>
                  </a:moveTo>
                  <a:lnTo>
                    <a:pt x="568" y="16"/>
                  </a:lnTo>
                  <a:cubicBezTo>
                    <a:pt x="564" y="16"/>
                    <a:pt x="560" y="13"/>
                    <a:pt x="560" y="8"/>
                  </a:cubicBezTo>
                  <a:cubicBezTo>
                    <a:pt x="560" y="4"/>
                    <a:pt x="564" y="0"/>
                    <a:pt x="568" y="0"/>
                  </a:cubicBezTo>
                  <a:lnTo>
                    <a:pt x="616" y="0"/>
                  </a:lnTo>
                  <a:cubicBezTo>
                    <a:pt x="621" y="0"/>
                    <a:pt x="624" y="4"/>
                    <a:pt x="624" y="8"/>
                  </a:cubicBezTo>
                  <a:cubicBezTo>
                    <a:pt x="624" y="13"/>
                    <a:pt x="621" y="16"/>
                    <a:pt x="616" y="16"/>
                  </a:cubicBezTo>
                  <a:close/>
                  <a:moveTo>
                    <a:pt x="504" y="16"/>
                  </a:moveTo>
                  <a:lnTo>
                    <a:pt x="456" y="16"/>
                  </a:lnTo>
                  <a:cubicBezTo>
                    <a:pt x="452" y="16"/>
                    <a:pt x="448" y="13"/>
                    <a:pt x="448" y="8"/>
                  </a:cubicBezTo>
                  <a:cubicBezTo>
                    <a:pt x="448" y="4"/>
                    <a:pt x="452" y="0"/>
                    <a:pt x="456" y="0"/>
                  </a:cubicBezTo>
                  <a:lnTo>
                    <a:pt x="504" y="0"/>
                  </a:lnTo>
                  <a:cubicBezTo>
                    <a:pt x="509" y="0"/>
                    <a:pt x="512" y="4"/>
                    <a:pt x="512" y="8"/>
                  </a:cubicBezTo>
                  <a:cubicBezTo>
                    <a:pt x="512" y="13"/>
                    <a:pt x="509" y="16"/>
                    <a:pt x="504" y="16"/>
                  </a:cubicBezTo>
                  <a:close/>
                  <a:moveTo>
                    <a:pt x="392" y="16"/>
                  </a:moveTo>
                  <a:lnTo>
                    <a:pt x="344" y="16"/>
                  </a:lnTo>
                  <a:cubicBezTo>
                    <a:pt x="340" y="16"/>
                    <a:pt x="336" y="13"/>
                    <a:pt x="336" y="8"/>
                  </a:cubicBezTo>
                  <a:cubicBezTo>
                    <a:pt x="336" y="4"/>
                    <a:pt x="340" y="0"/>
                    <a:pt x="344" y="0"/>
                  </a:cubicBezTo>
                  <a:lnTo>
                    <a:pt x="392" y="0"/>
                  </a:lnTo>
                  <a:cubicBezTo>
                    <a:pt x="397" y="0"/>
                    <a:pt x="400" y="4"/>
                    <a:pt x="400" y="8"/>
                  </a:cubicBezTo>
                  <a:cubicBezTo>
                    <a:pt x="400" y="13"/>
                    <a:pt x="397" y="16"/>
                    <a:pt x="392" y="16"/>
                  </a:cubicBezTo>
                  <a:close/>
                  <a:moveTo>
                    <a:pt x="280" y="16"/>
                  </a:moveTo>
                  <a:lnTo>
                    <a:pt x="232" y="16"/>
                  </a:lnTo>
                  <a:cubicBezTo>
                    <a:pt x="228" y="16"/>
                    <a:pt x="224" y="13"/>
                    <a:pt x="224" y="8"/>
                  </a:cubicBezTo>
                  <a:cubicBezTo>
                    <a:pt x="224" y="4"/>
                    <a:pt x="228" y="0"/>
                    <a:pt x="232" y="0"/>
                  </a:cubicBezTo>
                  <a:lnTo>
                    <a:pt x="280" y="0"/>
                  </a:lnTo>
                  <a:cubicBezTo>
                    <a:pt x="285" y="0"/>
                    <a:pt x="288" y="4"/>
                    <a:pt x="288" y="8"/>
                  </a:cubicBezTo>
                  <a:cubicBezTo>
                    <a:pt x="288" y="13"/>
                    <a:pt x="285" y="16"/>
                    <a:pt x="280" y="16"/>
                  </a:cubicBezTo>
                  <a:close/>
                  <a:moveTo>
                    <a:pt x="168" y="16"/>
                  </a:moveTo>
                  <a:lnTo>
                    <a:pt x="120" y="16"/>
                  </a:lnTo>
                  <a:cubicBezTo>
                    <a:pt x="116" y="16"/>
                    <a:pt x="112" y="13"/>
                    <a:pt x="112" y="8"/>
                  </a:cubicBezTo>
                  <a:cubicBezTo>
                    <a:pt x="112" y="4"/>
                    <a:pt x="116" y="0"/>
                    <a:pt x="120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cubicBezTo>
                    <a:pt x="176" y="13"/>
                    <a:pt x="173" y="16"/>
                    <a:pt x="168" y="16"/>
                  </a:cubicBezTo>
                  <a:close/>
                  <a:moveTo>
                    <a:pt x="56" y="16"/>
                  </a:move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lnTo>
                    <a:pt x="56" y="0"/>
                  </a:lnTo>
                  <a:cubicBezTo>
                    <a:pt x="61" y="0"/>
                    <a:pt x="64" y="4"/>
                    <a:pt x="64" y="8"/>
                  </a:cubicBezTo>
                  <a:cubicBezTo>
                    <a:pt x="64" y="13"/>
                    <a:pt x="61" y="16"/>
                    <a:pt x="56" y="16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1042920" y="2276280"/>
              <a:ext cx="5977080" cy="31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41WG database composition /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nalysis of noise level distribution for ISO362-2 vs ECE R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ssessment of validity and practicability of ASEP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"/>
          <p:cNvGrpSpPr/>
          <p:nvPr/>
        </p:nvGrpSpPr>
        <p:grpSpPr>
          <a:xfrm>
            <a:off x="179280" y="260280"/>
            <a:ext cx="8917200" cy="6071040"/>
            <a:chOff x="179280" y="260280"/>
            <a:chExt cx="8917200" cy="6071040"/>
          </a:xfrm>
        </p:grpSpPr>
        <p:sp>
          <p:nvSpPr>
            <p:cNvPr id="1747" name=""/>
            <p:cNvSpPr/>
            <p:nvPr/>
          </p:nvSpPr>
          <p:spPr>
            <a:xfrm>
              <a:off x="3059280" y="260280"/>
              <a:ext cx="30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ass III (&gt;175c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196120" y="3382920"/>
              <a:ext cx="360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110440" y="3382920"/>
              <a:ext cx="7668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000080" y="517536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000080" y="485460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00080" y="453384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00080" y="419724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00080" y="387504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00080" y="355428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00080" y="323388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000080" y="291312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000080" y="259092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00080" y="227016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00080" y="193356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000080" y="161280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00080" y="129060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000080" y="96984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000080" y="969840"/>
              <a:ext cx="6664320" cy="45277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000080" y="969840"/>
              <a:ext cx="1800" cy="45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00080" y="54975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00080" y="51753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00080" y="485460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00080" y="45338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00080" y="41972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000080" y="38750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00080" y="355428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000080" y="323388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000080" y="29131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00080" y="25909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000080" y="22701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000080" y="19335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00080" y="161280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00080" y="129060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00080" y="9698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000080" y="549756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00008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48104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94616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242892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290988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337644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385776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34016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80528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528624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75316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623412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671688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718200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766440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57760" y="456552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38720" y="379584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376380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38720" y="38750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186600" y="31687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703840" y="422928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757760" y="344160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703840" y="18050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03840" y="32497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186600" y="20131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186600" y="34416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703840" y="3089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86600" y="236700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186600" y="291312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608800" y="30574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195800" y="4613400"/>
              <a:ext cx="9504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327480" y="42451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279600" y="51912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182760" y="49831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959200" y="464652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135240" y="480708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378480" y="177336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90840" y="3811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45040" y="35384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708440" y="347508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479920" y="25750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324320" y="366696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234120" y="36669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138720" y="225432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572160" y="251136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757760" y="201312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656320" y="363528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378480" y="29606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03840" y="376380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037280" y="19494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089760" y="321804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703840" y="334656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290840" y="41324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50760" y="495144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98640" y="506412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760920" y="32814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79600" y="435780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79600" y="4421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468680" y="369900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525760" y="4757760"/>
              <a:ext cx="9504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468680" y="225432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92600" y="450216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75360" y="3730680"/>
              <a:ext cx="2077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75360" y="3699000"/>
              <a:ext cx="2077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75360" y="3811680"/>
              <a:ext cx="207720" cy="2077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121440" y="310500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640480" y="416412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692600" y="337824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640480" y="173988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640480" y="318600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121440" y="194940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121440" y="337824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640480" y="302436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121440" y="230184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121440" y="284796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43640" y="299232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15120" y="170820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227480" y="374652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881680" y="3475080"/>
              <a:ext cx="20808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45080" y="340992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415120" y="251136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259160" y="360216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170760" y="3602160"/>
              <a:ext cx="2077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073920" y="219060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507000" y="2446200"/>
              <a:ext cx="2098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592600" y="3570120"/>
              <a:ext cx="208080" cy="2098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315120" y="2897280"/>
              <a:ext cx="208080" cy="2077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640480" y="369900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973920" y="188424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26040" y="315288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640480" y="328140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27480" y="4068720"/>
              <a:ext cx="20808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835280" y="4998960"/>
              <a:ext cx="2077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1127160" y="54975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32440" y="540072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32440" y="50799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32440" y="47577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2440" y="44370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32440" y="41004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32440" y="37800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2440" y="3457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32440" y="31370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32440" y="281628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32440" y="249552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2440" y="217332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32440" y="183672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2440" y="15159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32440" y="11955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32440" y="8730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7048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35144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81836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9932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8172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84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72816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21056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67568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15844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62356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10452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58692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5204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3480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520440" y="6026040"/>
              <a:ext cx="158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ECE41-03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16200000">
              <a:off x="-452160" y="3071520"/>
              <a:ext cx="156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ISO362-2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711920" y="2847960"/>
              <a:ext cx="1384560" cy="1228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920000" y="29448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240400" y="2913120"/>
              <a:ext cx="20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920000" y="3201840"/>
              <a:ext cx="81000" cy="7956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281080" y="3168720"/>
              <a:ext cx="65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Class I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775640" y="3506760"/>
              <a:ext cx="3855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210520" y="3425760"/>
              <a:ext cx="6350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Al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1008000" y="977400"/>
              <a:ext cx="6664320" cy="451188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218280" y="2879640"/>
              <a:ext cx="15840" cy="2617920"/>
            </a:xfrm>
            <a:custGeom>
              <a:avLst/>
              <a:gdLst/>
              <a:ahLst/>
              <a:rect l="l" t="t" r="r" b="b"/>
              <a:pathLst>
                <a:path w="16" h="2608">
                  <a:moveTo>
                    <a:pt x="0" y="2600"/>
                  </a:moveTo>
                  <a:lnTo>
                    <a:pt x="0" y="2552"/>
                  </a:lnTo>
                  <a:cubicBezTo>
                    <a:pt x="0" y="2548"/>
                    <a:pt x="4" y="2544"/>
                    <a:pt x="8" y="2544"/>
                  </a:cubicBezTo>
                  <a:cubicBezTo>
                    <a:pt x="13" y="2544"/>
                    <a:pt x="16" y="2548"/>
                    <a:pt x="16" y="2552"/>
                  </a:cubicBezTo>
                  <a:lnTo>
                    <a:pt x="16" y="2600"/>
                  </a:lnTo>
                  <a:cubicBezTo>
                    <a:pt x="16" y="2605"/>
                    <a:pt x="13" y="2608"/>
                    <a:pt x="8" y="2608"/>
                  </a:cubicBezTo>
                  <a:cubicBezTo>
                    <a:pt x="4" y="2608"/>
                    <a:pt x="0" y="2605"/>
                    <a:pt x="0" y="2600"/>
                  </a:cubicBezTo>
                  <a:close/>
                  <a:moveTo>
                    <a:pt x="0" y="2488"/>
                  </a:moveTo>
                  <a:lnTo>
                    <a:pt x="0" y="2440"/>
                  </a:lnTo>
                  <a:cubicBezTo>
                    <a:pt x="0" y="2436"/>
                    <a:pt x="4" y="2432"/>
                    <a:pt x="8" y="2432"/>
                  </a:cubicBezTo>
                  <a:cubicBezTo>
                    <a:pt x="13" y="2432"/>
                    <a:pt x="16" y="2436"/>
                    <a:pt x="16" y="2440"/>
                  </a:cubicBezTo>
                  <a:lnTo>
                    <a:pt x="16" y="2488"/>
                  </a:lnTo>
                  <a:cubicBezTo>
                    <a:pt x="16" y="2493"/>
                    <a:pt x="13" y="2496"/>
                    <a:pt x="8" y="2496"/>
                  </a:cubicBezTo>
                  <a:cubicBezTo>
                    <a:pt x="4" y="2496"/>
                    <a:pt x="0" y="2493"/>
                    <a:pt x="0" y="2488"/>
                  </a:cubicBezTo>
                  <a:close/>
                  <a:moveTo>
                    <a:pt x="0" y="2376"/>
                  </a:moveTo>
                  <a:lnTo>
                    <a:pt x="0" y="2328"/>
                  </a:lnTo>
                  <a:cubicBezTo>
                    <a:pt x="0" y="2324"/>
                    <a:pt x="4" y="2320"/>
                    <a:pt x="8" y="2320"/>
                  </a:cubicBezTo>
                  <a:cubicBezTo>
                    <a:pt x="13" y="2320"/>
                    <a:pt x="16" y="2324"/>
                    <a:pt x="16" y="2328"/>
                  </a:cubicBezTo>
                  <a:lnTo>
                    <a:pt x="16" y="2376"/>
                  </a:lnTo>
                  <a:cubicBezTo>
                    <a:pt x="16" y="2381"/>
                    <a:pt x="13" y="2384"/>
                    <a:pt x="8" y="2384"/>
                  </a:cubicBezTo>
                  <a:cubicBezTo>
                    <a:pt x="4" y="2384"/>
                    <a:pt x="0" y="2381"/>
                    <a:pt x="0" y="2376"/>
                  </a:cubicBezTo>
                  <a:close/>
                  <a:moveTo>
                    <a:pt x="0" y="2264"/>
                  </a:moveTo>
                  <a:lnTo>
                    <a:pt x="0" y="2216"/>
                  </a:lnTo>
                  <a:cubicBezTo>
                    <a:pt x="0" y="2212"/>
                    <a:pt x="4" y="2208"/>
                    <a:pt x="8" y="2208"/>
                  </a:cubicBezTo>
                  <a:cubicBezTo>
                    <a:pt x="13" y="2208"/>
                    <a:pt x="16" y="2212"/>
                    <a:pt x="16" y="2216"/>
                  </a:cubicBezTo>
                  <a:lnTo>
                    <a:pt x="16" y="2264"/>
                  </a:lnTo>
                  <a:cubicBezTo>
                    <a:pt x="16" y="2269"/>
                    <a:pt x="13" y="2272"/>
                    <a:pt x="8" y="2272"/>
                  </a:cubicBezTo>
                  <a:cubicBezTo>
                    <a:pt x="4" y="2272"/>
                    <a:pt x="0" y="2269"/>
                    <a:pt x="0" y="2264"/>
                  </a:cubicBezTo>
                  <a:close/>
                  <a:moveTo>
                    <a:pt x="0" y="2152"/>
                  </a:moveTo>
                  <a:lnTo>
                    <a:pt x="0" y="2104"/>
                  </a:lnTo>
                  <a:cubicBezTo>
                    <a:pt x="0" y="2100"/>
                    <a:pt x="4" y="2096"/>
                    <a:pt x="8" y="2096"/>
                  </a:cubicBezTo>
                  <a:cubicBezTo>
                    <a:pt x="13" y="2096"/>
                    <a:pt x="16" y="2100"/>
                    <a:pt x="16" y="2104"/>
                  </a:cubicBezTo>
                  <a:lnTo>
                    <a:pt x="16" y="2152"/>
                  </a:lnTo>
                  <a:cubicBezTo>
                    <a:pt x="16" y="2157"/>
                    <a:pt x="13" y="2160"/>
                    <a:pt x="8" y="2160"/>
                  </a:cubicBezTo>
                  <a:cubicBezTo>
                    <a:pt x="4" y="2160"/>
                    <a:pt x="0" y="2157"/>
                    <a:pt x="0" y="2152"/>
                  </a:cubicBezTo>
                  <a:close/>
                  <a:moveTo>
                    <a:pt x="0" y="2040"/>
                  </a:moveTo>
                  <a:lnTo>
                    <a:pt x="0" y="1992"/>
                  </a:lnTo>
                  <a:cubicBezTo>
                    <a:pt x="0" y="1988"/>
                    <a:pt x="4" y="1984"/>
                    <a:pt x="8" y="1984"/>
                  </a:cubicBezTo>
                  <a:cubicBezTo>
                    <a:pt x="13" y="1984"/>
                    <a:pt x="16" y="1988"/>
                    <a:pt x="16" y="1992"/>
                  </a:cubicBezTo>
                  <a:lnTo>
                    <a:pt x="16" y="2040"/>
                  </a:lnTo>
                  <a:cubicBezTo>
                    <a:pt x="16" y="2045"/>
                    <a:pt x="13" y="2048"/>
                    <a:pt x="8" y="2048"/>
                  </a:cubicBezTo>
                  <a:cubicBezTo>
                    <a:pt x="4" y="2048"/>
                    <a:pt x="0" y="2045"/>
                    <a:pt x="0" y="2040"/>
                  </a:cubicBezTo>
                  <a:close/>
                  <a:moveTo>
                    <a:pt x="0" y="1928"/>
                  </a:moveTo>
                  <a:lnTo>
                    <a:pt x="0" y="1880"/>
                  </a:lnTo>
                  <a:cubicBezTo>
                    <a:pt x="0" y="1876"/>
                    <a:pt x="4" y="1872"/>
                    <a:pt x="8" y="1872"/>
                  </a:cubicBezTo>
                  <a:cubicBezTo>
                    <a:pt x="13" y="1872"/>
                    <a:pt x="16" y="1876"/>
                    <a:pt x="16" y="1880"/>
                  </a:cubicBezTo>
                  <a:lnTo>
                    <a:pt x="16" y="1928"/>
                  </a:lnTo>
                  <a:cubicBezTo>
                    <a:pt x="16" y="1933"/>
                    <a:pt x="13" y="1936"/>
                    <a:pt x="8" y="1936"/>
                  </a:cubicBezTo>
                  <a:cubicBezTo>
                    <a:pt x="4" y="1936"/>
                    <a:pt x="0" y="1933"/>
                    <a:pt x="0" y="1928"/>
                  </a:cubicBezTo>
                  <a:close/>
                  <a:moveTo>
                    <a:pt x="0" y="1816"/>
                  </a:moveTo>
                  <a:lnTo>
                    <a:pt x="0" y="1768"/>
                  </a:lnTo>
                  <a:cubicBezTo>
                    <a:pt x="0" y="1764"/>
                    <a:pt x="4" y="1760"/>
                    <a:pt x="8" y="1760"/>
                  </a:cubicBezTo>
                  <a:cubicBezTo>
                    <a:pt x="13" y="1760"/>
                    <a:pt x="16" y="1764"/>
                    <a:pt x="16" y="1768"/>
                  </a:cubicBezTo>
                  <a:lnTo>
                    <a:pt x="16" y="1816"/>
                  </a:lnTo>
                  <a:cubicBezTo>
                    <a:pt x="16" y="1821"/>
                    <a:pt x="13" y="1824"/>
                    <a:pt x="8" y="1824"/>
                  </a:cubicBezTo>
                  <a:cubicBezTo>
                    <a:pt x="4" y="1824"/>
                    <a:pt x="0" y="1821"/>
                    <a:pt x="0" y="1816"/>
                  </a:cubicBezTo>
                  <a:close/>
                  <a:moveTo>
                    <a:pt x="0" y="1704"/>
                  </a:moveTo>
                  <a:lnTo>
                    <a:pt x="0" y="1656"/>
                  </a:lnTo>
                  <a:cubicBezTo>
                    <a:pt x="0" y="1652"/>
                    <a:pt x="4" y="1648"/>
                    <a:pt x="8" y="1648"/>
                  </a:cubicBezTo>
                  <a:cubicBezTo>
                    <a:pt x="13" y="1648"/>
                    <a:pt x="16" y="1652"/>
                    <a:pt x="16" y="1656"/>
                  </a:cubicBezTo>
                  <a:lnTo>
                    <a:pt x="16" y="1704"/>
                  </a:lnTo>
                  <a:cubicBezTo>
                    <a:pt x="16" y="1709"/>
                    <a:pt x="13" y="1712"/>
                    <a:pt x="8" y="1712"/>
                  </a:cubicBezTo>
                  <a:cubicBezTo>
                    <a:pt x="4" y="1712"/>
                    <a:pt x="0" y="1709"/>
                    <a:pt x="0" y="1704"/>
                  </a:cubicBezTo>
                  <a:close/>
                  <a:moveTo>
                    <a:pt x="0" y="1592"/>
                  </a:moveTo>
                  <a:lnTo>
                    <a:pt x="0" y="1544"/>
                  </a:lnTo>
                  <a:cubicBezTo>
                    <a:pt x="0" y="1540"/>
                    <a:pt x="4" y="1536"/>
                    <a:pt x="8" y="1536"/>
                  </a:cubicBezTo>
                  <a:cubicBezTo>
                    <a:pt x="13" y="1536"/>
                    <a:pt x="16" y="1540"/>
                    <a:pt x="16" y="1544"/>
                  </a:cubicBezTo>
                  <a:lnTo>
                    <a:pt x="16" y="1592"/>
                  </a:lnTo>
                  <a:cubicBezTo>
                    <a:pt x="16" y="1597"/>
                    <a:pt x="13" y="1600"/>
                    <a:pt x="8" y="1600"/>
                  </a:cubicBezTo>
                  <a:cubicBezTo>
                    <a:pt x="4" y="1600"/>
                    <a:pt x="0" y="1597"/>
                    <a:pt x="0" y="1592"/>
                  </a:cubicBezTo>
                  <a:close/>
                  <a:moveTo>
                    <a:pt x="0" y="1480"/>
                  </a:moveTo>
                  <a:lnTo>
                    <a:pt x="0" y="1432"/>
                  </a:lnTo>
                  <a:cubicBezTo>
                    <a:pt x="0" y="1428"/>
                    <a:pt x="4" y="1424"/>
                    <a:pt x="8" y="1424"/>
                  </a:cubicBezTo>
                  <a:cubicBezTo>
                    <a:pt x="13" y="1424"/>
                    <a:pt x="16" y="1428"/>
                    <a:pt x="16" y="1432"/>
                  </a:cubicBezTo>
                  <a:lnTo>
                    <a:pt x="16" y="1480"/>
                  </a:lnTo>
                  <a:cubicBezTo>
                    <a:pt x="16" y="1485"/>
                    <a:pt x="13" y="1488"/>
                    <a:pt x="8" y="1488"/>
                  </a:cubicBezTo>
                  <a:cubicBezTo>
                    <a:pt x="4" y="1488"/>
                    <a:pt x="0" y="1485"/>
                    <a:pt x="0" y="1480"/>
                  </a:cubicBezTo>
                  <a:close/>
                  <a:moveTo>
                    <a:pt x="0" y="1368"/>
                  </a:moveTo>
                  <a:lnTo>
                    <a:pt x="0" y="1320"/>
                  </a:lnTo>
                  <a:cubicBezTo>
                    <a:pt x="0" y="1316"/>
                    <a:pt x="4" y="1312"/>
                    <a:pt x="8" y="1312"/>
                  </a:cubicBezTo>
                  <a:cubicBezTo>
                    <a:pt x="13" y="1312"/>
                    <a:pt x="16" y="1316"/>
                    <a:pt x="16" y="1320"/>
                  </a:cubicBezTo>
                  <a:lnTo>
                    <a:pt x="16" y="1368"/>
                  </a:lnTo>
                  <a:cubicBezTo>
                    <a:pt x="16" y="1373"/>
                    <a:pt x="13" y="1376"/>
                    <a:pt x="8" y="1376"/>
                  </a:cubicBezTo>
                  <a:cubicBezTo>
                    <a:pt x="4" y="1376"/>
                    <a:pt x="0" y="1373"/>
                    <a:pt x="0" y="1368"/>
                  </a:cubicBezTo>
                  <a:close/>
                  <a:moveTo>
                    <a:pt x="0" y="1256"/>
                  </a:moveTo>
                  <a:lnTo>
                    <a:pt x="0" y="1208"/>
                  </a:lnTo>
                  <a:cubicBezTo>
                    <a:pt x="0" y="1204"/>
                    <a:pt x="4" y="1200"/>
                    <a:pt x="8" y="1200"/>
                  </a:cubicBezTo>
                  <a:cubicBezTo>
                    <a:pt x="13" y="1200"/>
                    <a:pt x="16" y="1204"/>
                    <a:pt x="16" y="1208"/>
                  </a:cubicBezTo>
                  <a:lnTo>
                    <a:pt x="16" y="1256"/>
                  </a:lnTo>
                  <a:cubicBezTo>
                    <a:pt x="16" y="1261"/>
                    <a:pt x="13" y="1264"/>
                    <a:pt x="8" y="1264"/>
                  </a:cubicBezTo>
                  <a:cubicBezTo>
                    <a:pt x="4" y="1264"/>
                    <a:pt x="0" y="1261"/>
                    <a:pt x="0" y="1256"/>
                  </a:cubicBezTo>
                  <a:close/>
                  <a:moveTo>
                    <a:pt x="0" y="1144"/>
                  </a:moveTo>
                  <a:lnTo>
                    <a:pt x="0" y="1096"/>
                  </a:lnTo>
                  <a:cubicBezTo>
                    <a:pt x="0" y="1092"/>
                    <a:pt x="4" y="1088"/>
                    <a:pt x="8" y="1088"/>
                  </a:cubicBezTo>
                  <a:cubicBezTo>
                    <a:pt x="13" y="1088"/>
                    <a:pt x="16" y="1092"/>
                    <a:pt x="16" y="1096"/>
                  </a:cubicBezTo>
                  <a:lnTo>
                    <a:pt x="16" y="1144"/>
                  </a:lnTo>
                  <a:cubicBezTo>
                    <a:pt x="16" y="1149"/>
                    <a:pt x="13" y="1152"/>
                    <a:pt x="8" y="1152"/>
                  </a:cubicBezTo>
                  <a:cubicBezTo>
                    <a:pt x="4" y="1152"/>
                    <a:pt x="0" y="1149"/>
                    <a:pt x="0" y="1144"/>
                  </a:cubicBezTo>
                  <a:close/>
                  <a:moveTo>
                    <a:pt x="0" y="1032"/>
                  </a:moveTo>
                  <a:lnTo>
                    <a:pt x="0" y="984"/>
                  </a:lnTo>
                  <a:cubicBezTo>
                    <a:pt x="0" y="980"/>
                    <a:pt x="4" y="976"/>
                    <a:pt x="8" y="976"/>
                  </a:cubicBezTo>
                  <a:cubicBezTo>
                    <a:pt x="13" y="976"/>
                    <a:pt x="16" y="980"/>
                    <a:pt x="16" y="984"/>
                  </a:cubicBezTo>
                  <a:lnTo>
                    <a:pt x="16" y="1032"/>
                  </a:lnTo>
                  <a:cubicBezTo>
                    <a:pt x="16" y="1037"/>
                    <a:pt x="13" y="1040"/>
                    <a:pt x="8" y="1040"/>
                  </a:cubicBezTo>
                  <a:cubicBezTo>
                    <a:pt x="4" y="1040"/>
                    <a:pt x="0" y="1037"/>
                    <a:pt x="0" y="1032"/>
                  </a:cubicBezTo>
                  <a:close/>
                  <a:moveTo>
                    <a:pt x="0" y="920"/>
                  </a:moveTo>
                  <a:lnTo>
                    <a:pt x="0" y="872"/>
                  </a:lnTo>
                  <a:cubicBezTo>
                    <a:pt x="0" y="868"/>
                    <a:pt x="4" y="864"/>
                    <a:pt x="8" y="864"/>
                  </a:cubicBezTo>
                  <a:cubicBezTo>
                    <a:pt x="13" y="864"/>
                    <a:pt x="16" y="868"/>
                    <a:pt x="16" y="872"/>
                  </a:cubicBezTo>
                  <a:lnTo>
                    <a:pt x="16" y="920"/>
                  </a:lnTo>
                  <a:cubicBezTo>
                    <a:pt x="16" y="925"/>
                    <a:pt x="13" y="928"/>
                    <a:pt x="8" y="928"/>
                  </a:cubicBezTo>
                  <a:cubicBezTo>
                    <a:pt x="4" y="928"/>
                    <a:pt x="0" y="925"/>
                    <a:pt x="0" y="920"/>
                  </a:cubicBezTo>
                  <a:close/>
                  <a:moveTo>
                    <a:pt x="0" y="808"/>
                  </a:moveTo>
                  <a:lnTo>
                    <a:pt x="0" y="760"/>
                  </a:lnTo>
                  <a:cubicBezTo>
                    <a:pt x="0" y="756"/>
                    <a:pt x="4" y="752"/>
                    <a:pt x="8" y="752"/>
                  </a:cubicBezTo>
                  <a:cubicBezTo>
                    <a:pt x="13" y="752"/>
                    <a:pt x="16" y="756"/>
                    <a:pt x="16" y="760"/>
                  </a:cubicBezTo>
                  <a:lnTo>
                    <a:pt x="16" y="808"/>
                  </a:lnTo>
                  <a:cubicBezTo>
                    <a:pt x="16" y="813"/>
                    <a:pt x="13" y="816"/>
                    <a:pt x="8" y="816"/>
                  </a:cubicBezTo>
                  <a:cubicBezTo>
                    <a:pt x="4" y="816"/>
                    <a:pt x="0" y="813"/>
                    <a:pt x="0" y="808"/>
                  </a:cubicBezTo>
                  <a:close/>
                  <a:moveTo>
                    <a:pt x="0" y="696"/>
                  </a:moveTo>
                  <a:lnTo>
                    <a:pt x="0" y="648"/>
                  </a:lnTo>
                  <a:cubicBezTo>
                    <a:pt x="0" y="644"/>
                    <a:pt x="4" y="640"/>
                    <a:pt x="8" y="640"/>
                  </a:cubicBezTo>
                  <a:cubicBezTo>
                    <a:pt x="13" y="640"/>
                    <a:pt x="16" y="644"/>
                    <a:pt x="16" y="648"/>
                  </a:cubicBezTo>
                  <a:lnTo>
                    <a:pt x="16" y="696"/>
                  </a:lnTo>
                  <a:cubicBezTo>
                    <a:pt x="16" y="701"/>
                    <a:pt x="13" y="704"/>
                    <a:pt x="8" y="704"/>
                  </a:cubicBezTo>
                  <a:cubicBezTo>
                    <a:pt x="4" y="704"/>
                    <a:pt x="0" y="701"/>
                    <a:pt x="0" y="696"/>
                  </a:cubicBezTo>
                  <a:close/>
                  <a:moveTo>
                    <a:pt x="0" y="584"/>
                  </a:moveTo>
                  <a:lnTo>
                    <a:pt x="0" y="536"/>
                  </a:lnTo>
                  <a:cubicBezTo>
                    <a:pt x="0" y="532"/>
                    <a:pt x="4" y="528"/>
                    <a:pt x="8" y="528"/>
                  </a:cubicBezTo>
                  <a:cubicBezTo>
                    <a:pt x="13" y="528"/>
                    <a:pt x="16" y="532"/>
                    <a:pt x="16" y="536"/>
                  </a:cubicBezTo>
                  <a:lnTo>
                    <a:pt x="16" y="584"/>
                  </a:lnTo>
                  <a:cubicBezTo>
                    <a:pt x="16" y="589"/>
                    <a:pt x="13" y="592"/>
                    <a:pt x="8" y="592"/>
                  </a:cubicBezTo>
                  <a:cubicBezTo>
                    <a:pt x="4" y="592"/>
                    <a:pt x="0" y="589"/>
                    <a:pt x="0" y="584"/>
                  </a:cubicBezTo>
                  <a:close/>
                  <a:moveTo>
                    <a:pt x="0" y="472"/>
                  </a:moveTo>
                  <a:lnTo>
                    <a:pt x="0" y="424"/>
                  </a:lnTo>
                  <a:cubicBezTo>
                    <a:pt x="0" y="420"/>
                    <a:pt x="4" y="416"/>
                    <a:pt x="8" y="416"/>
                  </a:cubicBezTo>
                  <a:cubicBezTo>
                    <a:pt x="13" y="416"/>
                    <a:pt x="16" y="420"/>
                    <a:pt x="16" y="424"/>
                  </a:cubicBezTo>
                  <a:lnTo>
                    <a:pt x="16" y="472"/>
                  </a:lnTo>
                  <a:cubicBezTo>
                    <a:pt x="16" y="477"/>
                    <a:pt x="13" y="480"/>
                    <a:pt x="8" y="480"/>
                  </a:cubicBezTo>
                  <a:cubicBezTo>
                    <a:pt x="4" y="480"/>
                    <a:pt x="0" y="477"/>
                    <a:pt x="0" y="472"/>
                  </a:cubicBezTo>
                  <a:close/>
                  <a:moveTo>
                    <a:pt x="0" y="360"/>
                  </a:moveTo>
                  <a:lnTo>
                    <a:pt x="0" y="312"/>
                  </a:lnTo>
                  <a:cubicBezTo>
                    <a:pt x="0" y="308"/>
                    <a:pt x="4" y="304"/>
                    <a:pt x="8" y="304"/>
                  </a:cubicBezTo>
                  <a:cubicBezTo>
                    <a:pt x="13" y="304"/>
                    <a:pt x="16" y="308"/>
                    <a:pt x="16" y="312"/>
                  </a:cubicBezTo>
                  <a:lnTo>
                    <a:pt x="16" y="360"/>
                  </a:lnTo>
                  <a:cubicBezTo>
                    <a:pt x="16" y="365"/>
                    <a:pt x="13" y="368"/>
                    <a:pt x="8" y="368"/>
                  </a:cubicBezTo>
                  <a:cubicBezTo>
                    <a:pt x="4" y="368"/>
                    <a:pt x="0" y="365"/>
                    <a:pt x="0" y="360"/>
                  </a:cubicBezTo>
                  <a:close/>
                  <a:moveTo>
                    <a:pt x="0" y="248"/>
                  </a:moveTo>
                  <a:lnTo>
                    <a:pt x="0" y="200"/>
                  </a:lnTo>
                  <a:cubicBezTo>
                    <a:pt x="0" y="196"/>
                    <a:pt x="4" y="192"/>
                    <a:pt x="8" y="192"/>
                  </a:cubicBezTo>
                  <a:cubicBezTo>
                    <a:pt x="13" y="192"/>
                    <a:pt x="16" y="196"/>
                    <a:pt x="16" y="200"/>
                  </a:cubicBezTo>
                  <a:lnTo>
                    <a:pt x="16" y="248"/>
                  </a:lnTo>
                  <a:cubicBezTo>
                    <a:pt x="16" y="253"/>
                    <a:pt x="13" y="256"/>
                    <a:pt x="8" y="256"/>
                  </a:cubicBezTo>
                  <a:cubicBezTo>
                    <a:pt x="4" y="256"/>
                    <a:pt x="0" y="253"/>
                    <a:pt x="0" y="248"/>
                  </a:cubicBezTo>
                  <a:close/>
                  <a:moveTo>
                    <a:pt x="0" y="136"/>
                  </a:moveTo>
                  <a:lnTo>
                    <a:pt x="0" y="88"/>
                  </a:lnTo>
                  <a:cubicBezTo>
                    <a:pt x="0" y="84"/>
                    <a:pt x="4" y="80"/>
                    <a:pt x="8" y="80"/>
                  </a:cubicBezTo>
                  <a:cubicBezTo>
                    <a:pt x="13" y="80"/>
                    <a:pt x="16" y="84"/>
                    <a:pt x="16" y="88"/>
                  </a:cubicBezTo>
                  <a:lnTo>
                    <a:pt x="16" y="136"/>
                  </a:lnTo>
                  <a:cubicBezTo>
                    <a:pt x="16" y="141"/>
                    <a:pt x="13" y="144"/>
                    <a:pt x="8" y="144"/>
                  </a:cubicBezTo>
                  <a:cubicBezTo>
                    <a:pt x="4" y="144"/>
                    <a:pt x="0" y="141"/>
                    <a:pt x="0" y="136"/>
                  </a:cubicBezTo>
                  <a:close/>
                  <a:moveTo>
                    <a:pt x="0" y="24"/>
                  </a:move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3" y="0"/>
                    <a:pt x="16" y="4"/>
                    <a:pt x="16" y="8"/>
                  </a:cubicBezTo>
                  <a:lnTo>
                    <a:pt x="16" y="24"/>
                  </a:lnTo>
                  <a:cubicBezTo>
                    <a:pt x="16" y="29"/>
                    <a:pt x="13" y="32"/>
                    <a:pt x="8" y="32"/>
                  </a:cubicBezTo>
                  <a:cubicBezTo>
                    <a:pt x="4" y="32"/>
                    <a:pt x="0" y="29"/>
                    <a:pt x="0" y="24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00080" y="2879640"/>
              <a:ext cx="5234040" cy="17640"/>
            </a:xfrm>
            <a:custGeom>
              <a:avLst/>
              <a:gdLst/>
              <a:ahLst/>
              <a:rect l="l" t="t" r="r" b="b"/>
              <a:pathLst>
                <a:path w="5216" h="16">
                  <a:moveTo>
                    <a:pt x="5208" y="16"/>
                  </a:moveTo>
                  <a:lnTo>
                    <a:pt x="5160" y="16"/>
                  </a:lnTo>
                  <a:cubicBezTo>
                    <a:pt x="5156" y="16"/>
                    <a:pt x="5152" y="13"/>
                    <a:pt x="5152" y="8"/>
                  </a:cubicBezTo>
                  <a:cubicBezTo>
                    <a:pt x="5152" y="4"/>
                    <a:pt x="5156" y="0"/>
                    <a:pt x="5160" y="0"/>
                  </a:cubicBezTo>
                  <a:lnTo>
                    <a:pt x="5208" y="0"/>
                  </a:lnTo>
                  <a:cubicBezTo>
                    <a:pt x="5213" y="0"/>
                    <a:pt x="5216" y="4"/>
                    <a:pt x="5216" y="8"/>
                  </a:cubicBezTo>
                  <a:cubicBezTo>
                    <a:pt x="5216" y="13"/>
                    <a:pt x="5213" y="16"/>
                    <a:pt x="5208" y="16"/>
                  </a:cubicBezTo>
                  <a:close/>
                  <a:moveTo>
                    <a:pt x="5096" y="16"/>
                  </a:moveTo>
                  <a:lnTo>
                    <a:pt x="5048" y="16"/>
                  </a:lnTo>
                  <a:cubicBezTo>
                    <a:pt x="5044" y="16"/>
                    <a:pt x="5040" y="13"/>
                    <a:pt x="5040" y="8"/>
                  </a:cubicBezTo>
                  <a:cubicBezTo>
                    <a:pt x="5040" y="4"/>
                    <a:pt x="5044" y="0"/>
                    <a:pt x="5048" y="0"/>
                  </a:cubicBezTo>
                  <a:lnTo>
                    <a:pt x="5096" y="0"/>
                  </a:lnTo>
                  <a:cubicBezTo>
                    <a:pt x="5101" y="0"/>
                    <a:pt x="5104" y="4"/>
                    <a:pt x="5104" y="8"/>
                  </a:cubicBezTo>
                  <a:cubicBezTo>
                    <a:pt x="5104" y="13"/>
                    <a:pt x="5101" y="16"/>
                    <a:pt x="5096" y="16"/>
                  </a:cubicBezTo>
                  <a:close/>
                  <a:moveTo>
                    <a:pt x="4984" y="16"/>
                  </a:moveTo>
                  <a:lnTo>
                    <a:pt x="4936" y="16"/>
                  </a:lnTo>
                  <a:cubicBezTo>
                    <a:pt x="4932" y="16"/>
                    <a:pt x="4928" y="13"/>
                    <a:pt x="4928" y="8"/>
                  </a:cubicBezTo>
                  <a:cubicBezTo>
                    <a:pt x="4928" y="4"/>
                    <a:pt x="4932" y="0"/>
                    <a:pt x="4936" y="0"/>
                  </a:cubicBezTo>
                  <a:lnTo>
                    <a:pt x="4984" y="0"/>
                  </a:lnTo>
                  <a:cubicBezTo>
                    <a:pt x="4989" y="0"/>
                    <a:pt x="4992" y="4"/>
                    <a:pt x="4992" y="8"/>
                  </a:cubicBezTo>
                  <a:cubicBezTo>
                    <a:pt x="4992" y="13"/>
                    <a:pt x="4989" y="16"/>
                    <a:pt x="4984" y="16"/>
                  </a:cubicBezTo>
                  <a:close/>
                  <a:moveTo>
                    <a:pt x="4872" y="16"/>
                  </a:moveTo>
                  <a:lnTo>
                    <a:pt x="4824" y="16"/>
                  </a:lnTo>
                  <a:cubicBezTo>
                    <a:pt x="4820" y="16"/>
                    <a:pt x="4816" y="13"/>
                    <a:pt x="4816" y="8"/>
                  </a:cubicBezTo>
                  <a:cubicBezTo>
                    <a:pt x="4816" y="4"/>
                    <a:pt x="4820" y="0"/>
                    <a:pt x="4824" y="0"/>
                  </a:cubicBezTo>
                  <a:lnTo>
                    <a:pt x="4872" y="0"/>
                  </a:lnTo>
                  <a:cubicBezTo>
                    <a:pt x="4877" y="0"/>
                    <a:pt x="4880" y="4"/>
                    <a:pt x="4880" y="8"/>
                  </a:cubicBezTo>
                  <a:cubicBezTo>
                    <a:pt x="4880" y="13"/>
                    <a:pt x="4877" y="16"/>
                    <a:pt x="4872" y="16"/>
                  </a:cubicBezTo>
                  <a:close/>
                  <a:moveTo>
                    <a:pt x="4760" y="16"/>
                  </a:moveTo>
                  <a:lnTo>
                    <a:pt x="4712" y="16"/>
                  </a:lnTo>
                  <a:cubicBezTo>
                    <a:pt x="4708" y="16"/>
                    <a:pt x="4704" y="13"/>
                    <a:pt x="4704" y="8"/>
                  </a:cubicBezTo>
                  <a:cubicBezTo>
                    <a:pt x="4704" y="4"/>
                    <a:pt x="4708" y="0"/>
                    <a:pt x="4712" y="0"/>
                  </a:cubicBezTo>
                  <a:lnTo>
                    <a:pt x="4760" y="0"/>
                  </a:lnTo>
                  <a:cubicBezTo>
                    <a:pt x="4765" y="0"/>
                    <a:pt x="4768" y="4"/>
                    <a:pt x="4768" y="8"/>
                  </a:cubicBezTo>
                  <a:cubicBezTo>
                    <a:pt x="4768" y="13"/>
                    <a:pt x="4765" y="16"/>
                    <a:pt x="4760" y="16"/>
                  </a:cubicBezTo>
                  <a:close/>
                  <a:moveTo>
                    <a:pt x="4648" y="16"/>
                  </a:moveTo>
                  <a:lnTo>
                    <a:pt x="4600" y="16"/>
                  </a:lnTo>
                  <a:cubicBezTo>
                    <a:pt x="4596" y="16"/>
                    <a:pt x="4592" y="13"/>
                    <a:pt x="4592" y="8"/>
                  </a:cubicBezTo>
                  <a:cubicBezTo>
                    <a:pt x="4592" y="4"/>
                    <a:pt x="4596" y="0"/>
                    <a:pt x="4600" y="0"/>
                  </a:cubicBezTo>
                  <a:lnTo>
                    <a:pt x="4648" y="0"/>
                  </a:lnTo>
                  <a:cubicBezTo>
                    <a:pt x="4653" y="0"/>
                    <a:pt x="4656" y="4"/>
                    <a:pt x="4656" y="8"/>
                  </a:cubicBezTo>
                  <a:cubicBezTo>
                    <a:pt x="4656" y="13"/>
                    <a:pt x="4653" y="16"/>
                    <a:pt x="4648" y="16"/>
                  </a:cubicBezTo>
                  <a:close/>
                  <a:moveTo>
                    <a:pt x="4536" y="16"/>
                  </a:moveTo>
                  <a:lnTo>
                    <a:pt x="4488" y="16"/>
                  </a:lnTo>
                  <a:cubicBezTo>
                    <a:pt x="4484" y="16"/>
                    <a:pt x="4480" y="13"/>
                    <a:pt x="4480" y="8"/>
                  </a:cubicBezTo>
                  <a:cubicBezTo>
                    <a:pt x="4480" y="4"/>
                    <a:pt x="4484" y="0"/>
                    <a:pt x="4488" y="0"/>
                  </a:cubicBezTo>
                  <a:lnTo>
                    <a:pt x="4536" y="0"/>
                  </a:lnTo>
                  <a:cubicBezTo>
                    <a:pt x="4541" y="0"/>
                    <a:pt x="4544" y="4"/>
                    <a:pt x="4544" y="8"/>
                  </a:cubicBezTo>
                  <a:cubicBezTo>
                    <a:pt x="4544" y="13"/>
                    <a:pt x="4541" y="16"/>
                    <a:pt x="4536" y="16"/>
                  </a:cubicBezTo>
                  <a:close/>
                  <a:moveTo>
                    <a:pt x="4424" y="16"/>
                  </a:moveTo>
                  <a:lnTo>
                    <a:pt x="4376" y="16"/>
                  </a:lnTo>
                  <a:cubicBezTo>
                    <a:pt x="4372" y="16"/>
                    <a:pt x="4368" y="13"/>
                    <a:pt x="4368" y="8"/>
                  </a:cubicBezTo>
                  <a:cubicBezTo>
                    <a:pt x="4368" y="4"/>
                    <a:pt x="4372" y="0"/>
                    <a:pt x="4376" y="0"/>
                  </a:cubicBezTo>
                  <a:lnTo>
                    <a:pt x="4424" y="0"/>
                  </a:lnTo>
                  <a:cubicBezTo>
                    <a:pt x="4429" y="0"/>
                    <a:pt x="4432" y="4"/>
                    <a:pt x="4432" y="8"/>
                  </a:cubicBezTo>
                  <a:cubicBezTo>
                    <a:pt x="4432" y="13"/>
                    <a:pt x="4429" y="16"/>
                    <a:pt x="4424" y="16"/>
                  </a:cubicBezTo>
                  <a:close/>
                  <a:moveTo>
                    <a:pt x="4312" y="16"/>
                  </a:moveTo>
                  <a:lnTo>
                    <a:pt x="4264" y="16"/>
                  </a:lnTo>
                  <a:cubicBezTo>
                    <a:pt x="4260" y="16"/>
                    <a:pt x="4256" y="13"/>
                    <a:pt x="4256" y="8"/>
                  </a:cubicBezTo>
                  <a:cubicBezTo>
                    <a:pt x="4256" y="4"/>
                    <a:pt x="4260" y="0"/>
                    <a:pt x="4264" y="0"/>
                  </a:cubicBezTo>
                  <a:lnTo>
                    <a:pt x="4312" y="0"/>
                  </a:lnTo>
                  <a:cubicBezTo>
                    <a:pt x="4317" y="0"/>
                    <a:pt x="4320" y="4"/>
                    <a:pt x="4320" y="8"/>
                  </a:cubicBezTo>
                  <a:cubicBezTo>
                    <a:pt x="4320" y="13"/>
                    <a:pt x="4317" y="16"/>
                    <a:pt x="4312" y="16"/>
                  </a:cubicBezTo>
                  <a:close/>
                  <a:moveTo>
                    <a:pt x="4200" y="16"/>
                  </a:moveTo>
                  <a:lnTo>
                    <a:pt x="4152" y="16"/>
                  </a:lnTo>
                  <a:cubicBezTo>
                    <a:pt x="4148" y="16"/>
                    <a:pt x="4144" y="13"/>
                    <a:pt x="4144" y="8"/>
                  </a:cubicBezTo>
                  <a:cubicBezTo>
                    <a:pt x="4144" y="4"/>
                    <a:pt x="4148" y="0"/>
                    <a:pt x="4152" y="0"/>
                  </a:cubicBezTo>
                  <a:lnTo>
                    <a:pt x="4200" y="0"/>
                  </a:lnTo>
                  <a:cubicBezTo>
                    <a:pt x="4205" y="0"/>
                    <a:pt x="4208" y="4"/>
                    <a:pt x="4208" y="8"/>
                  </a:cubicBezTo>
                  <a:cubicBezTo>
                    <a:pt x="4208" y="13"/>
                    <a:pt x="4205" y="16"/>
                    <a:pt x="4200" y="16"/>
                  </a:cubicBezTo>
                  <a:close/>
                  <a:moveTo>
                    <a:pt x="4088" y="16"/>
                  </a:moveTo>
                  <a:lnTo>
                    <a:pt x="4040" y="16"/>
                  </a:lnTo>
                  <a:cubicBezTo>
                    <a:pt x="4036" y="16"/>
                    <a:pt x="4032" y="13"/>
                    <a:pt x="4032" y="8"/>
                  </a:cubicBezTo>
                  <a:cubicBezTo>
                    <a:pt x="4032" y="4"/>
                    <a:pt x="4036" y="0"/>
                    <a:pt x="4040" y="0"/>
                  </a:cubicBezTo>
                  <a:lnTo>
                    <a:pt x="4088" y="0"/>
                  </a:lnTo>
                  <a:cubicBezTo>
                    <a:pt x="4093" y="0"/>
                    <a:pt x="4096" y="4"/>
                    <a:pt x="4096" y="8"/>
                  </a:cubicBezTo>
                  <a:cubicBezTo>
                    <a:pt x="4096" y="13"/>
                    <a:pt x="4093" y="16"/>
                    <a:pt x="4088" y="16"/>
                  </a:cubicBezTo>
                  <a:close/>
                  <a:moveTo>
                    <a:pt x="3976" y="16"/>
                  </a:moveTo>
                  <a:lnTo>
                    <a:pt x="3928" y="16"/>
                  </a:lnTo>
                  <a:cubicBezTo>
                    <a:pt x="3924" y="16"/>
                    <a:pt x="3920" y="13"/>
                    <a:pt x="3920" y="8"/>
                  </a:cubicBezTo>
                  <a:cubicBezTo>
                    <a:pt x="3920" y="4"/>
                    <a:pt x="3924" y="0"/>
                    <a:pt x="3928" y="0"/>
                  </a:cubicBezTo>
                  <a:lnTo>
                    <a:pt x="3976" y="0"/>
                  </a:lnTo>
                  <a:cubicBezTo>
                    <a:pt x="3981" y="0"/>
                    <a:pt x="3984" y="4"/>
                    <a:pt x="3984" y="8"/>
                  </a:cubicBezTo>
                  <a:cubicBezTo>
                    <a:pt x="3984" y="13"/>
                    <a:pt x="3981" y="16"/>
                    <a:pt x="3976" y="16"/>
                  </a:cubicBezTo>
                  <a:close/>
                  <a:moveTo>
                    <a:pt x="3864" y="16"/>
                  </a:moveTo>
                  <a:lnTo>
                    <a:pt x="3816" y="16"/>
                  </a:lnTo>
                  <a:cubicBezTo>
                    <a:pt x="3812" y="16"/>
                    <a:pt x="3808" y="13"/>
                    <a:pt x="3808" y="8"/>
                  </a:cubicBezTo>
                  <a:cubicBezTo>
                    <a:pt x="3808" y="4"/>
                    <a:pt x="3812" y="0"/>
                    <a:pt x="3816" y="0"/>
                  </a:cubicBezTo>
                  <a:lnTo>
                    <a:pt x="3864" y="0"/>
                  </a:lnTo>
                  <a:cubicBezTo>
                    <a:pt x="3869" y="0"/>
                    <a:pt x="3872" y="4"/>
                    <a:pt x="3872" y="8"/>
                  </a:cubicBezTo>
                  <a:cubicBezTo>
                    <a:pt x="3872" y="13"/>
                    <a:pt x="3869" y="16"/>
                    <a:pt x="3864" y="16"/>
                  </a:cubicBezTo>
                  <a:close/>
                  <a:moveTo>
                    <a:pt x="3752" y="16"/>
                  </a:moveTo>
                  <a:lnTo>
                    <a:pt x="3704" y="16"/>
                  </a:lnTo>
                  <a:cubicBezTo>
                    <a:pt x="3700" y="16"/>
                    <a:pt x="3696" y="13"/>
                    <a:pt x="3696" y="8"/>
                  </a:cubicBezTo>
                  <a:cubicBezTo>
                    <a:pt x="3696" y="4"/>
                    <a:pt x="3700" y="0"/>
                    <a:pt x="3704" y="0"/>
                  </a:cubicBezTo>
                  <a:lnTo>
                    <a:pt x="3752" y="0"/>
                  </a:lnTo>
                  <a:cubicBezTo>
                    <a:pt x="3757" y="0"/>
                    <a:pt x="3760" y="4"/>
                    <a:pt x="3760" y="8"/>
                  </a:cubicBezTo>
                  <a:cubicBezTo>
                    <a:pt x="3760" y="13"/>
                    <a:pt x="3757" y="16"/>
                    <a:pt x="3752" y="16"/>
                  </a:cubicBezTo>
                  <a:close/>
                  <a:moveTo>
                    <a:pt x="3640" y="16"/>
                  </a:moveTo>
                  <a:lnTo>
                    <a:pt x="3592" y="16"/>
                  </a:lnTo>
                  <a:cubicBezTo>
                    <a:pt x="3588" y="16"/>
                    <a:pt x="3584" y="13"/>
                    <a:pt x="3584" y="8"/>
                  </a:cubicBezTo>
                  <a:cubicBezTo>
                    <a:pt x="3584" y="4"/>
                    <a:pt x="3588" y="0"/>
                    <a:pt x="3592" y="0"/>
                  </a:cubicBezTo>
                  <a:lnTo>
                    <a:pt x="3640" y="0"/>
                  </a:lnTo>
                  <a:cubicBezTo>
                    <a:pt x="3645" y="0"/>
                    <a:pt x="3648" y="4"/>
                    <a:pt x="3648" y="8"/>
                  </a:cubicBezTo>
                  <a:cubicBezTo>
                    <a:pt x="3648" y="13"/>
                    <a:pt x="3645" y="16"/>
                    <a:pt x="3640" y="16"/>
                  </a:cubicBezTo>
                  <a:close/>
                  <a:moveTo>
                    <a:pt x="3528" y="16"/>
                  </a:moveTo>
                  <a:lnTo>
                    <a:pt x="3480" y="16"/>
                  </a:lnTo>
                  <a:cubicBezTo>
                    <a:pt x="3476" y="16"/>
                    <a:pt x="3472" y="13"/>
                    <a:pt x="3472" y="8"/>
                  </a:cubicBezTo>
                  <a:cubicBezTo>
                    <a:pt x="3472" y="4"/>
                    <a:pt x="3476" y="0"/>
                    <a:pt x="3480" y="0"/>
                  </a:cubicBezTo>
                  <a:lnTo>
                    <a:pt x="3528" y="0"/>
                  </a:lnTo>
                  <a:cubicBezTo>
                    <a:pt x="3533" y="0"/>
                    <a:pt x="3536" y="4"/>
                    <a:pt x="3536" y="8"/>
                  </a:cubicBezTo>
                  <a:cubicBezTo>
                    <a:pt x="3536" y="13"/>
                    <a:pt x="3533" y="16"/>
                    <a:pt x="3528" y="16"/>
                  </a:cubicBezTo>
                  <a:close/>
                  <a:moveTo>
                    <a:pt x="3416" y="16"/>
                  </a:moveTo>
                  <a:lnTo>
                    <a:pt x="3368" y="16"/>
                  </a:lnTo>
                  <a:cubicBezTo>
                    <a:pt x="3364" y="16"/>
                    <a:pt x="3360" y="13"/>
                    <a:pt x="3360" y="8"/>
                  </a:cubicBezTo>
                  <a:cubicBezTo>
                    <a:pt x="3360" y="4"/>
                    <a:pt x="3364" y="0"/>
                    <a:pt x="3368" y="0"/>
                  </a:cubicBezTo>
                  <a:lnTo>
                    <a:pt x="3416" y="0"/>
                  </a:lnTo>
                  <a:cubicBezTo>
                    <a:pt x="3421" y="0"/>
                    <a:pt x="3424" y="4"/>
                    <a:pt x="3424" y="8"/>
                  </a:cubicBezTo>
                  <a:cubicBezTo>
                    <a:pt x="3424" y="13"/>
                    <a:pt x="3421" y="16"/>
                    <a:pt x="3416" y="16"/>
                  </a:cubicBezTo>
                  <a:close/>
                  <a:moveTo>
                    <a:pt x="3304" y="16"/>
                  </a:moveTo>
                  <a:lnTo>
                    <a:pt x="3256" y="16"/>
                  </a:lnTo>
                  <a:cubicBezTo>
                    <a:pt x="3252" y="16"/>
                    <a:pt x="3248" y="13"/>
                    <a:pt x="3248" y="8"/>
                  </a:cubicBezTo>
                  <a:cubicBezTo>
                    <a:pt x="3248" y="4"/>
                    <a:pt x="3252" y="0"/>
                    <a:pt x="3256" y="0"/>
                  </a:cubicBezTo>
                  <a:lnTo>
                    <a:pt x="3304" y="0"/>
                  </a:lnTo>
                  <a:cubicBezTo>
                    <a:pt x="3309" y="0"/>
                    <a:pt x="3312" y="4"/>
                    <a:pt x="3312" y="8"/>
                  </a:cubicBezTo>
                  <a:cubicBezTo>
                    <a:pt x="3312" y="13"/>
                    <a:pt x="3309" y="16"/>
                    <a:pt x="3304" y="16"/>
                  </a:cubicBezTo>
                  <a:close/>
                  <a:moveTo>
                    <a:pt x="3192" y="16"/>
                  </a:moveTo>
                  <a:lnTo>
                    <a:pt x="3144" y="16"/>
                  </a:lnTo>
                  <a:cubicBezTo>
                    <a:pt x="3140" y="16"/>
                    <a:pt x="3136" y="13"/>
                    <a:pt x="3136" y="8"/>
                  </a:cubicBezTo>
                  <a:cubicBezTo>
                    <a:pt x="3136" y="4"/>
                    <a:pt x="3140" y="0"/>
                    <a:pt x="3144" y="0"/>
                  </a:cubicBezTo>
                  <a:lnTo>
                    <a:pt x="3192" y="0"/>
                  </a:lnTo>
                  <a:cubicBezTo>
                    <a:pt x="3197" y="0"/>
                    <a:pt x="3200" y="4"/>
                    <a:pt x="3200" y="8"/>
                  </a:cubicBezTo>
                  <a:cubicBezTo>
                    <a:pt x="3200" y="13"/>
                    <a:pt x="3197" y="16"/>
                    <a:pt x="3192" y="16"/>
                  </a:cubicBezTo>
                  <a:close/>
                  <a:moveTo>
                    <a:pt x="3080" y="16"/>
                  </a:moveTo>
                  <a:lnTo>
                    <a:pt x="3032" y="16"/>
                  </a:lnTo>
                  <a:cubicBezTo>
                    <a:pt x="3028" y="16"/>
                    <a:pt x="3024" y="13"/>
                    <a:pt x="3024" y="8"/>
                  </a:cubicBezTo>
                  <a:cubicBezTo>
                    <a:pt x="3024" y="4"/>
                    <a:pt x="3028" y="0"/>
                    <a:pt x="3032" y="0"/>
                  </a:cubicBezTo>
                  <a:lnTo>
                    <a:pt x="3080" y="0"/>
                  </a:lnTo>
                  <a:cubicBezTo>
                    <a:pt x="3085" y="0"/>
                    <a:pt x="3088" y="4"/>
                    <a:pt x="3088" y="8"/>
                  </a:cubicBezTo>
                  <a:cubicBezTo>
                    <a:pt x="3088" y="13"/>
                    <a:pt x="3085" y="16"/>
                    <a:pt x="3080" y="16"/>
                  </a:cubicBezTo>
                  <a:close/>
                  <a:moveTo>
                    <a:pt x="2968" y="16"/>
                  </a:moveTo>
                  <a:lnTo>
                    <a:pt x="2920" y="16"/>
                  </a:lnTo>
                  <a:cubicBezTo>
                    <a:pt x="2916" y="16"/>
                    <a:pt x="2912" y="13"/>
                    <a:pt x="2912" y="8"/>
                  </a:cubicBezTo>
                  <a:cubicBezTo>
                    <a:pt x="2912" y="4"/>
                    <a:pt x="2916" y="0"/>
                    <a:pt x="2920" y="0"/>
                  </a:cubicBezTo>
                  <a:lnTo>
                    <a:pt x="2968" y="0"/>
                  </a:lnTo>
                  <a:cubicBezTo>
                    <a:pt x="2973" y="0"/>
                    <a:pt x="2976" y="4"/>
                    <a:pt x="2976" y="8"/>
                  </a:cubicBezTo>
                  <a:cubicBezTo>
                    <a:pt x="2976" y="13"/>
                    <a:pt x="2973" y="16"/>
                    <a:pt x="2968" y="16"/>
                  </a:cubicBezTo>
                  <a:close/>
                  <a:moveTo>
                    <a:pt x="2856" y="16"/>
                  </a:moveTo>
                  <a:lnTo>
                    <a:pt x="2808" y="16"/>
                  </a:lnTo>
                  <a:cubicBezTo>
                    <a:pt x="2804" y="16"/>
                    <a:pt x="2800" y="13"/>
                    <a:pt x="2800" y="8"/>
                  </a:cubicBezTo>
                  <a:cubicBezTo>
                    <a:pt x="2800" y="4"/>
                    <a:pt x="2804" y="0"/>
                    <a:pt x="2808" y="0"/>
                  </a:cubicBezTo>
                  <a:lnTo>
                    <a:pt x="2856" y="0"/>
                  </a:lnTo>
                  <a:cubicBezTo>
                    <a:pt x="2861" y="0"/>
                    <a:pt x="2864" y="4"/>
                    <a:pt x="2864" y="8"/>
                  </a:cubicBezTo>
                  <a:cubicBezTo>
                    <a:pt x="2864" y="13"/>
                    <a:pt x="2861" y="16"/>
                    <a:pt x="2856" y="16"/>
                  </a:cubicBezTo>
                  <a:close/>
                  <a:moveTo>
                    <a:pt x="2744" y="16"/>
                  </a:moveTo>
                  <a:lnTo>
                    <a:pt x="2696" y="16"/>
                  </a:lnTo>
                  <a:cubicBezTo>
                    <a:pt x="2692" y="16"/>
                    <a:pt x="2688" y="13"/>
                    <a:pt x="2688" y="8"/>
                  </a:cubicBezTo>
                  <a:cubicBezTo>
                    <a:pt x="2688" y="4"/>
                    <a:pt x="2692" y="0"/>
                    <a:pt x="2696" y="0"/>
                  </a:cubicBezTo>
                  <a:lnTo>
                    <a:pt x="2744" y="0"/>
                  </a:lnTo>
                  <a:cubicBezTo>
                    <a:pt x="2749" y="0"/>
                    <a:pt x="2752" y="4"/>
                    <a:pt x="2752" y="8"/>
                  </a:cubicBezTo>
                  <a:cubicBezTo>
                    <a:pt x="2752" y="13"/>
                    <a:pt x="2749" y="16"/>
                    <a:pt x="2744" y="16"/>
                  </a:cubicBezTo>
                  <a:close/>
                  <a:moveTo>
                    <a:pt x="2632" y="16"/>
                  </a:moveTo>
                  <a:lnTo>
                    <a:pt x="2584" y="16"/>
                  </a:lnTo>
                  <a:cubicBezTo>
                    <a:pt x="2580" y="16"/>
                    <a:pt x="2576" y="13"/>
                    <a:pt x="2576" y="8"/>
                  </a:cubicBezTo>
                  <a:cubicBezTo>
                    <a:pt x="2576" y="4"/>
                    <a:pt x="2580" y="0"/>
                    <a:pt x="2584" y="0"/>
                  </a:cubicBezTo>
                  <a:lnTo>
                    <a:pt x="2632" y="0"/>
                  </a:lnTo>
                  <a:cubicBezTo>
                    <a:pt x="2637" y="0"/>
                    <a:pt x="2640" y="4"/>
                    <a:pt x="2640" y="8"/>
                  </a:cubicBezTo>
                  <a:cubicBezTo>
                    <a:pt x="2640" y="13"/>
                    <a:pt x="2637" y="16"/>
                    <a:pt x="2632" y="16"/>
                  </a:cubicBezTo>
                  <a:close/>
                  <a:moveTo>
                    <a:pt x="2520" y="16"/>
                  </a:moveTo>
                  <a:lnTo>
                    <a:pt x="2472" y="16"/>
                  </a:lnTo>
                  <a:cubicBezTo>
                    <a:pt x="2468" y="16"/>
                    <a:pt x="2464" y="13"/>
                    <a:pt x="2464" y="8"/>
                  </a:cubicBezTo>
                  <a:cubicBezTo>
                    <a:pt x="2464" y="4"/>
                    <a:pt x="2468" y="0"/>
                    <a:pt x="2472" y="0"/>
                  </a:cubicBezTo>
                  <a:lnTo>
                    <a:pt x="2520" y="0"/>
                  </a:lnTo>
                  <a:cubicBezTo>
                    <a:pt x="2525" y="0"/>
                    <a:pt x="2528" y="4"/>
                    <a:pt x="2528" y="8"/>
                  </a:cubicBezTo>
                  <a:cubicBezTo>
                    <a:pt x="2528" y="13"/>
                    <a:pt x="2525" y="16"/>
                    <a:pt x="2520" y="16"/>
                  </a:cubicBezTo>
                  <a:close/>
                  <a:moveTo>
                    <a:pt x="2408" y="16"/>
                  </a:moveTo>
                  <a:lnTo>
                    <a:pt x="2360" y="16"/>
                  </a:lnTo>
                  <a:cubicBezTo>
                    <a:pt x="2356" y="16"/>
                    <a:pt x="2352" y="13"/>
                    <a:pt x="2352" y="8"/>
                  </a:cubicBezTo>
                  <a:cubicBezTo>
                    <a:pt x="2352" y="4"/>
                    <a:pt x="2356" y="0"/>
                    <a:pt x="2360" y="0"/>
                  </a:cubicBezTo>
                  <a:lnTo>
                    <a:pt x="2408" y="0"/>
                  </a:lnTo>
                  <a:cubicBezTo>
                    <a:pt x="2413" y="0"/>
                    <a:pt x="2416" y="4"/>
                    <a:pt x="2416" y="8"/>
                  </a:cubicBezTo>
                  <a:cubicBezTo>
                    <a:pt x="2416" y="13"/>
                    <a:pt x="2413" y="16"/>
                    <a:pt x="2408" y="16"/>
                  </a:cubicBezTo>
                  <a:close/>
                  <a:moveTo>
                    <a:pt x="2296" y="16"/>
                  </a:moveTo>
                  <a:lnTo>
                    <a:pt x="2248" y="16"/>
                  </a:lnTo>
                  <a:cubicBezTo>
                    <a:pt x="2244" y="16"/>
                    <a:pt x="2240" y="13"/>
                    <a:pt x="2240" y="8"/>
                  </a:cubicBezTo>
                  <a:cubicBezTo>
                    <a:pt x="2240" y="4"/>
                    <a:pt x="2244" y="0"/>
                    <a:pt x="2248" y="0"/>
                  </a:cubicBezTo>
                  <a:lnTo>
                    <a:pt x="2296" y="0"/>
                  </a:lnTo>
                  <a:cubicBezTo>
                    <a:pt x="2301" y="0"/>
                    <a:pt x="2304" y="4"/>
                    <a:pt x="2304" y="8"/>
                  </a:cubicBezTo>
                  <a:cubicBezTo>
                    <a:pt x="2304" y="13"/>
                    <a:pt x="2301" y="16"/>
                    <a:pt x="2296" y="16"/>
                  </a:cubicBezTo>
                  <a:close/>
                  <a:moveTo>
                    <a:pt x="2184" y="16"/>
                  </a:moveTo>
                  <a:lnTo>
                    <a:pt x="2136" y="16"/>
                  </a:lnTo>
                  <a:cubicBezTo>
                    <a:pt x="2132" y="16"/>
                    <a:pt x="2128" y="13"/>
                    <a:pt x="2128" y="8"/>
                  </a:cubicBezTo>
                  <a:cubicBezTo>
                    <a:pt x="2128" y="4"/>
                    <a:pt x="2132" y="0"/>
                    <a:pt x="2136" y="0"/>
                  </a:cubicBezTo>
                  <a:lnTo>
                    <a:pt x="2184" y="0"/>
                  </a:lnTo>
                  <a:cubicBezTo>
                    <a:pt x="2189" y="0"/>
                    <a:pt x="2192" y="4"/>
                    <a:pt x="2192" y="8"/>
                  </a:cubicBezTo>
                  <a:cubicBezTo>
                    <a:pt x="2192" y="13"/>
                    <a:pt x="2189" y="16"/>
                    <a:pt x="2184" y="16"/>
                  </a:cubicBezTo>
                  <a:close/>
                  <a:moveTo>
                    <a:pt x="2072" y="16"/>
                  </a:moveTo>
                  <a:lnTo>
                    <a:pt x="2024" y="16"/>
                  </a:lnTo>
                  <a:cubicBezTo>
                    <a:pt x="2020" y="16"/>
                    <a:pt x="2016" y="13"/>
                    <a:pt x="2016" y="8"/>
                  </a:cubicBezTo>
                  <a:cubicBezTo>
                    <a:pt x="2016" y="4"/>
                    <a:pt x="2020" y="0"/>
                    <a:pt x="2024" y="0"/>
                  </a:cubicBezTo>
                  <a:lnTo>
                    <a:pt x="2072" y="0"/>
                  </a:lnTo>
                  <a:cubicBezTo>
                    <a:pt x="2077" y="0"/>
                    <a:pt x="2080" y="4"/>
                    <a:pt x="2080" y="8"/>
                  </a:cubicBezTo>
                  <a:cubicBezTo>
                    <a:pt x="2080" y="13"/>
                    <a:pt x="2077" y="16"/>
                    <a:pt x="2072" y="16"/>
                  </a:cubicBezTo>
                  <a:close/>
                  <a:moveTo>
                    <a:pt x="1960" y="16"/>
                  </a:moveTo>
                  <a:lnTo>
                    <a:pt x="1912" y="16"/>
                  </a:lnTo>
                  <a:cubicBezTo>
                    <a:pt x="1908" y="16"/>
                    <a:pt x="1904" y="13"/>
                    <a:pt x="1904" y="8"/>
                  </a:cubicBezTo>
                  <a:cubicBezTo>
                    <a:pt x="1904" y="4"/>
                    <a:pt x="1908" y="0"/>
                    <a:pt x="1912" y="0"/>
                  </a:cubicBezTo>
                  <a:lnTo>
                    <a:pt x="1960" y="0"/>
                  </a:lnTo>
                  <a:cubicBezTo>
                    <a:pt x="1965" y="0"/>
                    <a:pt x="1968" y="4"/>
                    <a:pt x="1968" y="8"/>
                  </a:cubicBezTo>
                  <a:cubicBezTo>
                    <a:pt x="1968" y="13"/>
                    <a:pt x="1965" y="16"/>
                    <a:pt x="1960" y="16"/>
                  </a:cubicBezTo>
                  <a:close/>
                  <a:moveTo>
                    <a:pt x="1848" y="16"/>
                  </a:moveTo>
                  <a:lnTo>
                    <a:pt x="1800" y="16"/>
                  </a:lnTo>
                  <a:cubicBezTo>
                    <a:pt x="1796" y="16"/>
                    <a:pt x="1792" y="13"/>
                    <a:pt x="1792" y="8"/>
                  </a:cubicBezTo>
                  <a:cubicBezTo>
                    <a:pt x="1792" y="4"/>
                    <a:pt x="1796" y="0"/>
                    <a:pt x="1800" y="0"/>
                  </a:cubicBezTo>
                  <a:lnTo>
                    <a:pt x="1848" y="0"/>
                  </a:lnTo>
                  <a:cubicBezTo>
                    <a:pt x="1853" y="0"/>
                    <a:pt x="1856" y="4"/>
                    <a:pt x="1856" y="8"/>
                  </a:cubicBezTo>
                  <a:cubicBezTo>
                    <a:pt x="1856" y="13"/>
                    <a:pt x="1853" y="16"/>
                    <a:pt x="1848" y="16"/>
                  </a:cubicBezTo>
                  <a:close/>
                  <a:moveTo>
                    <a:pt x="1736" y="16"/>
                  </a:moveTo>
                  <a:lnTo>
                    <a:pt x="1688" y="16"/>
                  </a:lnTo>
                  <a:cubicBezTo>
                    <a:pt x="1684" y="16"/>
                    <a:pt x="1680" y="13"/>
                    <a:pt x="1680" y="8"/>
                  </a:cubicBezTo>
                  <a:cubicBezTo>
                    <a:pt x="1680" y="4"/>
                    <a:pt x="1684" y="0"/>
                    <a:pt x="1688" y="0"/>
                  </a:cubicBezTo>
                  <a:lnTo>
                    <a:pt x="1736" y="0"/>
                  </a:lnTo>
                  <a:cubicBezTo>
                    <a:pt x="1741" y="0"/>
                    <a:pt x="1744" y="4"/>
                    <a:pt x="1744" y="8"/>
                  </a:cubicBezTo>
                  <a:cubicBezTo>
                    <a:pt x="1744" y="13"/>
                    <a:pt x="1741" y="16"/>
                    <a:pt x="1736" y="16"/>
                  </a:cubicBezTo>
                  <a:close/>
                  <a:moveTo>
                    <a:pt x="1624" y="16"/>
                  </a:moveTo>
                  <a:lnTo>
                    <a:pt x="1576" y="16"/>
                  </a:lnTo>
                  <a:cubicBezTo>
                    <a:pt x="1572" y="16"/>
                    <a:pt x="1568" y="13"/>
                    <a:pt x="1568" y="8"/>
                  </a:cubicBezTo>
                  <a:cubicBezTo>
                    <a:pt x="1568" y="4"/>
                    <a:pt x="1572" y="0"/>
                    <a:pt x="1576" y="0"/>
                  </a:cubicBezTo>
                  <a:lnTo>
                    <a:pt x="1624" y="0"/>
                  </a:lnTo>
                  <a:cubicBezTo>
                    <a:pt x="1629" y="0"/>
                    <a:pt x="1632" y="4"/>
                    <a:pt x="1632" y="8"/>
                  </a:cubicBezTo>
                  <a:cubicBezTo>
                    <a:pt x="1632" y="13"/>
                    <a:pt x="1629" y="16"/>
                    <a:pt x="1624" y="16"/>
                  </a:cubicBezTo>
                  <a:close/>
                  <a:moveTo>
                    <a:pt x="1512" y="16"/>
                  </a:moveTo>
                  <a:lnTo>
                    <a:pt x="1464" y="16"/>
                  </a:lnTo>
                  <a:cubicBezTo>
                    <a:pt x="1460" y="16"/>
                    <a:pt x="1456" y="13"/>
                    <a:pt x="1456" y="8"/>
                  </a:cubicBezTo>
                  <a:cubicBezTo>
                    <a:pt x="1456" y="4"/>
                    <a:pt x="1460" y="0"/>
                    <a:pt x="1464" y="0"/>
                  </a:cubicBezTo>
                  <a:lnTo>
                    <a:pt x="1512" y="0"/>
                  </a:lnTo>
                  <a:cubicBezTo>
                    <a:pt x="1517" y="0"/>
                    <a:pt x="1520" y="4"/>
                    <a:pt x="1520" y="8"/>
                  </a:cubicBezTo>
                  <a:cubicBezTo>
                    <a:pt x="1520" y="13"/>
                    <a:pt x="1517" y="16"/>
                    <a:pt x="1512" y="16"/>
                  </a:cubicBezTo>
                  <a:close/>
                  <a:moveTo>
                    <a:pt x="1400" y="16"/>
                  </a:moveTo>
                  <a:lnTo>
                    <a:pt x="1352" y="16"/>
                  </a:lnTo>
                  <a:cubicBezTo>
                    <a:pt x="1348" y="16"/>
                    <a:pt x="1344" y="13"/>
                    <a:pt x="1344" y="8"/>
                  </a:cubicBezTo>
                  <a:cubicBezTo>
                    <a:pt x="1344" y="4"/>
                    <a:pt x="1348" y="0"/>
                    <a:pt x="1352" y="0"/>
                  </a:cubicBezTo>
                  <a:lnTo>
                    <a:pt x="1400" y="0"/>
                  </a:lnTo>
                  <a:cubicBezTo>
                    <a:pt x="1405" y="0"/>
                    <a:pt x="1408" y="4"/>
                    <a:pt x="1408" y="8"/>
                  </a:cubicBezTo>
                  <a:cubicBezTo>
                    <a:pt x="1408" y="13"/>
                    <a:pt x="1405" y="16"/>
                    <a:pt x="1400" y="16"/>
                  </a:cubicBezTo>
                  <a:close/>
                  <a:moveTo>
                    <a:pt x="1288" y="16"/>
                  </a:moveTo>
                  <a:lnTo>
                    <a:pt x="1240" y="16"/>
                  </a:lnTo>
                  <a:cubicBezTo>
                    <a:pt x="1236" y="16"/>
                    <a:pt x="1232" y="13"/>
                    <a:pt x="1232" y="8"/>
                  </a:cubicBezTo>
                  <a:cubicBezTo>
                    <a:pt x="1232" y="4"/>
                    <a:pt x="1236" y="0"/>
                    <a:pt x="1240" y="0"/>
                  </a:cubicBezTo>
                  <a:lnTo>
                    <a:pt x="1288" y="0"/>
                  </a:lnTo>
                  <a:cubicBezTo>
                    <a:pt x="1293" y="0"/>
                    <a:pt x="1296" y="4"/>
                    <a:pt x="1296" y="8"/>
                  </a:cubicBezTo>
                  <a:cubicBezTo>
                    <a:pt x="1296" y="13"/>
                    <a:pt x="1293" y="16"/>
                    <a:pt x="1288" y="16"/>
                  </a:cubicBezTo>
                  <a:close/>
                  <a:moveTo>
                    <a:pt x="1176" y="16"/>
                  </a:moveTo>
                  <a:lnTo>
                    <a:pt x="1128" y="16"/>
                  </a:lnTo>
                  <a:cubicBezTo>
                    <a:pt x="1124" y="16"/>
                    <a:pt x="1120" y="13"/>
                    <a:pt x="1120" y="8"/>
                  </a:cubicBezTo>
                  <a:cubicBezTo>
                    <a:pt x="1120" y="4"/>
                    <a:pt x="1124" y="0"/>
                    <a:pt x="1128" y="0"/>
                  </a:cubicBezTo>
                  <a:lnTo>
                    <a:pt x="1176" y="0"/>
                  </a:lnTo>
                  <a:cubicBezTo>
                    <a:pt x="1181" y="0"/>
                    <a:pt x="1184" y="4"/>
                    <a:pt x="1184" y="8"/>
                  </a:cubicBezTo>
                  <a:cubicBezTo>
                    <a:pt x="1184" y="13"/>
                    <a:pt x="1181" y="16"/>
                    <a:pt x="1176" y="16"/>
                  </a:cubicBezTo>
                  <a:close/>
                  <a:moveTo>
                    <a:pt x="1064" y="16"/>
                  </a:moveTo>
                  <a:lnTo>
                    <a:pt x="1016" y="16"/>
                  </a:lnTo>
                  <a:cubicBezTo>
                    <a:pt x="1012" y="16"/>
                    <a:pt x="1008" y="13"/>
                    <a:pt x="1008" y="8"/>
                  </a:cubicBezTo>
                  <a:cubicBezTo>
                    <a:pt x="1008" y="4"/>
                    <a:pt x="1012" y="0"/>
                    <a:pt x="1016" y="0"/>
                  </a:cubicBezTo>
                  <a:lnTo>
                    <a:pt x="1064" y="0"/>
                  </a:lnTo>
                  <a:cubicBezTo>
                    <a:pt x="1069" y="0"/>
                    <a:pt x="1072" y="4"/>
                    <a:pt x="1072" y="8"/>
                  </a:cubicBezTo>
                  <a:cubicBezTo>
                    <a:pt x="1072" y="13"/>
                    <a:pt x="1069" y="16"/>
                    <a:pt x="1064" y="16"/>
                  </a:cubicBezTo>
                  <a:close/>
                  <a:moveTo>
                    <a:pt x="952" y="16"/>
                  </a:moveTo>
                  <a:lnTo>
                    <a:pt x="904" y="16"/>
                  </a:lnTo>
                  <a:cubicBezTo>
                    <a:pt x="900" y="16"/>
                    <a:pt x="896" y="13"/>
                    <a:pt x="896" y="8"/>
                  </a:cubicBezTo>
                  <a:cubicBezTo>
                    <a:pt x="896" y="4"/>
                    <a:pt x="900" y="0"/>
                    <a:pt x="904" y="0"/>
                  </a:cubicBezTo>
                  <a:lnTo>
                    <a:pt x="952" y="0"/>
                  </a:lnTo>
                  <a:cubicBezTo>
                    <a:pt x="957" y="0"/>
                    <a:pt x="960" y="4"/>
                    <a:pt x="960" y="8"/>
                  </a:cubicBezTo>
                  <a:cubicBezTo>
                    <a:pt x="960" y="13"/>
                    <a:pt x="957" y="16"/>
                    <a:pt x="952" y="16"/>
                  </a:cubicBezTo>
                  <a:close/>
                  <a:moveTo>
                    <a:pt x="840" y="16"/>
                  </a:moveTo>
                  <a:lnTo>
                    <a:pt x="792" y="16"/>
                  </a:lnTo>
                  <a:cubicBezTo>
                    <a:pt x="788" y="16"/>
                    <a:pt x="784" y="13"/>
                    <a:pt x="784" y="8"/>
                  </a:cubicBezTo>
                  <a:cubicBezTo>
                    <a:pt x="784" y="4"/>
                    <a:pt x="788" y="0"/>
                    <a:pt x="792" y="0"/>
                  </a:cubicBezTo>
                  <a:lnTo>
                    <a:pt x="840" y="0"/>
                  </a:lnTo>
                  <a:cubicBezTo>
                    <a:pt x="845" y="0"/>
                    <a:pt x="848" y="4"/>
                    <a:pt x="848" y="8"/>
                  </a:cubicBezTo>
                  <a:cubicBezTo>
                    <a:pt x="848" y="13"/>
                    <a:pt x="845" y="16"/>
                    <a:pt x="840" y="16"/>
                  </a:cubicBezTo>
                  <a:close/>
                  <a:moveTo>
                    <a:pt x="728" y="16"/>
                  </a:moveTo>
                  <a:lnTo>
                    <a:pt x="680" y="16"/>
                  </a:lnTo>
                  <a:cubicBezTo>
                    <a:pt x="676" y="16"/>
                    <a:pt x="672" y="13"/>
                    <a:pt x="672" y="8"/>
                  </a:cubicBezTo>
                  <a:cubicBezTo>
                    <a:pt x="672" y="4"/>
                    <a:pt x="676" y="0"/>
                    <a:pt x="680" y="0"/>
                  </a:cubicBezTo>
                  <a:lnTo>
                    <a:pt x="728" y="0"/>
                  </a:lnTo>
                  <a:cubicBezTo>
                    <a:pt x="733" y="0"/>
                    <a:pt x="736" y="4"/>
                    <a:pt x="736" y="8"/>
                  </a:cubicBezTo>
                  <a:cubicBezTo>
                    <a:pt x="736" y="13"/>
                    <a:pt x="733" y="16"/>
                    <a:pt x="728" y="16"/>
                  </a:cubicBezTo>
                  <a:close/>
                  <a:moveTo>
                    <a:pt x="616" y="16"/>
                  </a:moveTo>
                  <a:lnTo>
                    <a:pt x="568" y="16"/>
                  </a:lnTo>
                  <a:cubicBezTo>
                    <a:pt x="564" y="16"/>
                    <a:pt x="560" y="13"/>
                    <a:pt x="560" y="8"/>
                  </a:cubicBezTo>
                  <a:cubicBezTo>
                    <a:pt x="560" y="4"/>
                    <a:pt x="564" y="0"/>
                    <a:pt x="568" y="0"/>
                  </a:cubicBezTo>
                  <a:lnTo>
                    <a:pt x="616" y="0"/>
                  </a:lnTo>
                  <a:cubicBezTo>
                    <a:pt x="621" y="0"/>
                    <a:pt x="624" y="4"/>
                    <a:pt x="624" y="8"/>
                  </a:cubicBezTo>
                  <a:cubicBezTo>
                    <a:pt x="624" y="13"/>
                    <a:pt x="621" y="16"/>
                    <a:pt x="616" y="16"/>
                  </a:cubicBezTo>
                  <a:close/>
                  <a:moveTo>
                    <a:pt x="504" y="16"/>
                  </a:moveTo>
                  <a:lnTo>
                    <a:pt x="456" y="16"/>
                  </a:lnTo>
                  <a:cubicBezTo>
                    <a:pt x="452" y="16"/>
                    <a:pt x="448" y="13"/>
                    <a:pt x="448" y="8"/>
                  </a:cubicBezTo>
                  <a:cubicBezTo>
                    <a:pt x="448" y="4"/>
                    <a:pt x="452" y="0"/>
                    <a:pt x="456" y="0"/>
                  </a:cubicBezTo>
                  <a:lnTo>
                    <a:pt x="504" y="0"/>
                  </a:lnTo>
                  <a:cubicBezTo>
                    <a:pt x="509" y="0"/>
                    <a:pt x="512" y="4"/>
                    <a:pt x="512" y="8"/>
                  </a:cubicBezTo>
                  <a:cubicBezTo>
                    <a:pt x="512" y="13"/>
                    <a:pt x="509" y="16"/>
                    <a:pt x="504" y="16"/>
                  </a:cubicBezTo>
                  <a:close/>
                  <a:moveTo>
                    <a:pt x="392" y="16"/>
                  </a:moveTo>
                  <a:lnTo>
                    <a:pt x="344" y="16"/>
                  </a:lnTo>
                  <a:cubicBezTo>
                    <a:pt x="340" y="16"/>
                    <a:pt x="336" y="13"/>
                    <a:pt x="336" y="8"/>
                  </a:cubicBezTo>
                  <a:cubicBezTo>
                    <a:pt x="336" y="4"/>
                    <a:pt x="340" y="0"/>
                    <a:pt x="344" y="0"/>
                  </a:cubicBezTo>
                  <a:lnTo>
                    <a:pt x="392" y="0"/>
                  </a:lnTo>
                  <a:cubicBezTo>
                    <a:pt x="397" y="0"/>
                    <a:pt x="400" y="4"/>
                    <a:pt x="400" y="8"/>
                  </a:cubicBezTo>
                  <a:cubicBezTo>
                    <a:pt x="400" y="13"/>
                    <a:pt x="397" y="16"/>
                    <a:pt x="392" y="16"/>
                  </a:cubicBezTo>
                  <a:close/>
                  <a:moveTo>
                    <a:pt x="280" y="16"/>
                  </a:moveTo>
                  <a:lnTo>
                    <a:pt x="232" y="16"/>
                  </a:lnTo>
                  <a:cubicBezTo>
                    <a:pt x="228" y="16"/>
                    <a:pt x="224" y="13"/>
                    <a:pt x="224" y="8"/>
                  </a:cubicBezTo>
                  <a:cubicBezTo>
                    <a:pt x="224" y="4"/>
                    <a:pt x="228" y="0"/>
                    <a:pt x="232" y="0"/>
                  </a:cubicBezTo>
                  <a:lnTo>
                    <a:pt x="280" y="0"/>
                  </a:lnTo>
                  <a:cubicBezTo>
                    <a:pt x="285" y="0"/>
                    <a:pt x="288" y="4"/>
                    <a:pt x="288" y="8"/>
                  </a:cubicBezTo>
                  <a:cubicBezTo>
                    <a:pt x="288" y="13"/>
                    <a:pt x="285" y="16"/>
                    <a:pt x="280" y="16"/>
                  </a:cubicBezTo>
                  <a:close/>
                  <a:moveTo>
                    <a:pt x="168" y="16"/>
                  </a:moveTo>
                  <a:lnTo>
                    <a:pt x="120" y="16"/>
                  </a:lnTo>
                  <a:cubicBezTo>
                    <a:pt x="116" y="16"/>
                    <a:pt x="112" y="13"/>
                    <a:pt x="112" y="8"/>
                  </a:cubicBezTo>
                  <a:cubicBezTo>
                    <a:pt x="112" y="4"/>
                    <a:pt x="116" y="0"/>
                    <a:pt x="120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cubicBezTo>
                    <a:pt x="176" y="13"/>
                    <a:pt x="173" y="16"/>
                    <a:pt x="168" y="16"/>
                  </a:cubicBezTo>
                  <a:close/>
                  <a:moveTo>
                    <a:pt x="56" y="16"/>
                  </a:move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lnTo>
                    <a:pt x="56" y="0"/>
                  </a:lnTo>
                  <a:cubicBezTo>
                    <a:pt x="61" y="0"/>
                    <a:pt x="64" y="4"/>
                    <a:pt x="64" y="8"/>
                  </a:cubicBezTo>
                  <a:cubicBezTo>
                    <a:pt x="64" y="13"/>
                    <a:pt x="61" y="16"/>
                    <a:pt x="56" y="16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971640" y="2204640"/>
              <a:ext cx="6696000" cy="331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of validity and practicability of ASEP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95280" y="2421000"/>
            <a:ext cx="8497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troductory rema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he present analysis is based on the R41WG database in its most recent form; future complementary test data and insights could affect conclusions reached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2" name="" descr=""/>
          <p:cNvPicPr/>
          <p:nvPr/>
        </p:nvPicPr>
        <p:blipFill>
          <a:blip r:embed="rId1"/>
          <a:stretch/>
        </p:blipFill>
        <p:spPr>
          <a:xfrm>
            <a:off x="8329680" y="4473720"/>
            <a:ext cx="718920" cy="706320"/>
          </a:xfrm>
          <a:prstGeom prst="rect">
            <a:avLst/>
          </a:prstGeom>
          <a:ln w="0">
            <a:noFill/>
          </a:ln>
        </p:spPr>
      </p:pic>
      <p:grpSp>
        <p:nvGrpSpPr>
          <p:cNvPr id="1923" name=""/>
          <p:cNvGrpSpPr/>
          <p:nvPr/>
        </p:nvGrpSpPr>
        <p:grpSpPr>
          <a:xfrm>
            <a:off x="3236760" y="3666960"/>
            <a:ext cx="4913640" cy="3079080"/>
            <a:chOff x="3236760" y="3666960"/>
            <a:chExt cx="4913640" cy="3079080"/>
          </a:xfrm>
        </p:grpSpPr>
        <p:sp>
          <p:nvSpPr>
            <p:cNvPr id="1924" name=""/>
            <p:cNvSpPr/>
            <p:nvPr/>
          </p:nvSpPr>
          <p:spPr>
            <a:xfrm>
              <a:off x="3727440" y="616572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727440" y="581328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727440" y="546084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727440" y="5106960"/>
              <a:ext cx="4408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27440" y="474804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727440" y="439416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727440" y="404172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727440" y="368928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27440" y="3689280"/>
              <a:ext cx="4408560" cy="28306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727440" y="3689280"/>
              <a:ext cx="1440" cy="283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727440" y="651996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727440" y="616572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727440" y="581328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727440" y="54608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727440" y="510696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727440" y="47480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727440" y="439416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727440" y="404172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727440" y="368928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727440" y="6519960"/>
              <a:ext cx="4408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372744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410040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446256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483552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519732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557064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593244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30540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666756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704052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740088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777564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813600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727440" y="4078440"/>
              <a:ext cx="4408560" cy="2030400"/>
            </a:xfrm>
            <a:custGeom>
              <a:avLst/>
              <a:gdLst/>
              <a:ahLst/>
              <a:rect l="l" t="t" r="r" b="b"/>
              <a:pathLst>
                <a:path w="342" h="282">
                  <a:moveTo>
                    <a:pt x="0" y="282"/>
                  </a:moveTo>
                  <a:lnTo>
                    <a:pt x="70" y="234"/>
                  </a:lnTo>
                  <a:lnTo>
                    <a:pt x="34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591080" y="585000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4" y="0"/>
                  </a:moveTo>
                  <a:lnTo>
                    <a:pt x="49" y="13"/>
                  </a:lnTo>
                  <a:lnTo>
                    <a:pt x="24" y="27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054760" y="581328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5" y="0"/>
                  </a:moveTo>
                  <a:lnTo>
                    <a:pt x="49" y="14"/>
                  </a:lnTo>
                  <a:lnTo>
                    <a:pt x="25" y="27"/>
                  </a:lnTo>
                  <a:lnTo>
                    <a:pt x="0" y="1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067360" y="581328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5" y="0"/>
                  </a:moveTo>
                  <a:lnTo>
                    <a:pt x="49" y="14"/>
                  </a:lnTo>
                  <a:lnTo>
                    <a:pt x="25" y="27"/>
                  </a:lnTo>
                  <a:lnTo>
                    <a:pt x="0" y="1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41800" y="581328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4" y="0"/>
                  </a:moveTo>
                  <a:lnTo>
                    <a:pt x="49" y="14"/>
                  </a:lnTo>
                  <a:lnTo>
                    <a:pt x="24" y="27"/>
                  </a:lnTo>
                  <a:lnTo>
                    <a:pt x="0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119560" y="5791320"/>
              <a:ext cx="77760" cy="4428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24" y="0"/>
                  </a:moveTo>
                  <a:lnTo>
                    <a:pt x="49" y="14"/>
                  </a:lnTo>
                  <a:lnTo>
                    <a:pt x="24" y="28"/>
                  </a:lnTo>
                  <a:lnTo>
                    <a:pt x="0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719600" y="580716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4" y="0"/>
                  </a:moveTo>
                  <a:lnTo>
                    <a:pt x="49" y="13"/>
                  </a:lnTo>
                  <a:lnTo>
                    <a:pt x="24" y="27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35520" y="585612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25" y="0"/>
                  </a:moveTo>
                  <a:lnTo>
                    <a:pt x="49" y="14"/>
                  </a:lnTo>
                  <a:lnTo>
                    <a:pt x="25" y="28"/>
                  </a:lnTo>
                  <a:lnTo>
                    <a:pt x="0" y="1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700440" y="6094440"/>
              <a:ext cx="39600" cy="223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603680" y="5748480"/>
              <a:ext cx="38160" cy="21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110440" y="4064040"/>
              <a:ext cx="39960" cy="205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629240" y="5827680"/>
              <a:ext cx="528480" cy="36720"/>
            </a:xfrm>
            <a:custGeom>
              <a:avLst/>
              <a:gdLst/>
              <a:ahLst/>
              <a:rect l="l" t="t" r="r" b="b"/>
              <a:pathLst>
                <a:path w="41" h="5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468600" y="6497640"/>
              <a:ext cx="10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68600" y="6145200"/>
              <a:ext cx="10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68600" y="5791320"/>
              <a:ext cx="10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68600" y="5438880"/>
              <a:ext cx="10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16400" y="508644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16400" y="472608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416400" y="437364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416400" y="401940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416400" y="366696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4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698640" y="6576840"/>
              <a:ext cx="2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98988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35168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72500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08680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5976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82192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9488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55668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93000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263360" y="6576840"/>
              <a:ext cx="14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637760" y="6576840"/>
              <a:ext cx="14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998120" y="6576840"/>
              <a:ext cx="14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08960" y="6684840"/>
              <a:ext cx="139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 rot="16200000">
              <a:off x="3204360" y="5061600"/>
              <a:ext cx="125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123840" y="385920"/>
            <a:ext cx="5564160" cy="3153240"/>
            <a:chOff x="123840" y="385920"/>
            <a:chExt cx="5564160" cy="3153240"/>
          </a:xfrm>
        </p:grpSpPr>
        <p:sp>
          <p:nvSpPr>
            <p:cNvPr id="1994" name=""/>
            <p:cNvSpPr/>
            <p:nvPr/>
          </p:nvSpPr>
          <p:spPr>
            <a:xfrm>
              <a:off x="581040" y="283860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81040" y="243828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81040" y="203688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81040" y="163656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81040" y="123660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81040" y="83520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81040" y="43344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81040" y="433440"/>
              <a:ext cx="4176720" cy="2806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81040" y="433440"/>
              <a:ext cx="1440" cy="28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55480" y="32400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5480" y="28386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5480" y="24382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55480" y="20368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55480" y="16365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55480" y="12366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5480" y="8352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5480" y="4334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81040" y="324000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8104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93024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127800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162576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197316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232092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267012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301788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336564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371304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406224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440856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475776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81040" y="911160"/>
              <a:ext cx="4176720" cy="2249640"/>
            </a:xfrm>
            <a:custGeom>
              <a:avLst/>
              <a:gdLst/>
              <a:ahLst/>
              <a:rect l="l" t="t" r="r" b="b"/>
              <a:pathLst>
                <a:path w="4292" h="2311">
                  <a:moveTo>
                    <a:pt x="0" y="2311"/>
                  </a:moveTo>
                  <a:lnTo>
                    <a:pt x="1389" y="1671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13040" y="263844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558880" y="2446200"/>
              <a:ext cx="3996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332080" y="251784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916280" y="262080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973160" y="259380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108160" y="25462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30240" y="267012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701720" y="270684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69880" y="3147840"/>
              <a:ext cx="237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920960" y="25257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745160" y="898560"/>
              <a:ext cx="2376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1722600" y="2457000"/>
              <a:ext cx="857160" cy="25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94480" y="31924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94480" y="2790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94480" y="23907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94480" y="19890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47320" y="15890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47320" y="11872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47320" y="7873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47320" y="3859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33160" y="330660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80568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15344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50264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85004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19780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54556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89476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24072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9028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912480" y="33066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260240" y="33066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607640" y="33066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546280" y="34322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 rot="16200000">
              <a:off x="66240" y="17812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040360" y="1066680"/>
              <a:ext cx="647640" cy="62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140440" y="11095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59960" y="107964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086440" y="1338120"/>
              <a:ext cx="145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146560" y="132552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242680" y="12873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086440" y="1539720"/>
              <a:ext cx="145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255640" y="149544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278320" y="158904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123840" y="380880"/>
            <a:ext cx="5494320" cy="3144960"/>
            <a:chOff x="123840" y="380880"/>
            <a:chExt cx="5494320" cy="3144960"/>
          </a:xfrm>
        </p:grpSpPr>
        <p:sp>
          <p:nvSpPr>
            <p:cNvPr id="2072" name=""/>
            <p:cNvSpPr/>
            <p:nvPr/>
          </p:nvSpPr>
          <p:spPr>
            <a:xfrm>
              <a:off x="574560" y="2801880"/>
              <a:ext cx="412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74560" y="2406600"/>
              <a:ext cx="412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74560" y="2009880"/>
              <a:ext cx="412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74560" y="1616040"/>
              <a:ext cx="412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74560" y="1219320"/>
              <a:ext cx="412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74560" y="824040"/>
              <a:ext cx="412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4560" y="428760"/>
              <a:ext cx="412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4560" y="428760"/>
              <a:ext cx="4124520" cy="27684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4560" y="428760"/>
              <a:ext cx="1800" cy="27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49360" y="319716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49360" y="28018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49360" y="24066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9360" y="200988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49360" y="16160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9360" y="12193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9360" y="8240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49360" y="42876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4560" y="3197160"/>
              <a:ext cx="412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57456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91908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126216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160488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194940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229248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263700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298116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332424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366696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401148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435456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469908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4560" y="857160"/>
              <a:ext cx="4124520" cy="2189160"/>
            </a:xfrm>
            <a:custGeom>
              <a:avLst/>
              <a:gdLst/>
              <a:ahLst/>
              <a:rect l="l" t="t" r="r" b="b"/>
              <a:pathLst>
                <a:path w="4292" h="2279">
                  <a:moveTo>
                    <a:pt x="0" y="2279"/>
                  </a:moveTo>
                  <a:lnTo>
                    <a:pt x="1663" y="1513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152800" y="24098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206800" y="237816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023920" y="240984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146320" y="240192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206800" y="237816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168640" y="24019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187720" y="24256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2"/>
                  </a:lnTo>
                  <a:lnTo>
                    <a:pt x="12" y="2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168640" y="242568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1960" y="303372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160720" y="229860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686480" y="844560"/>
              <a:ext cx="237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2044800" y="2417400"/>
              <a:ext cx="182520" cy="2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91240" y="3149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91240" y="27543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91240" y="23590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91240" y="19638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44080" y="15685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44080" y="1173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44080" y="7761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44080" y="3808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27040" y="32637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9596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13904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48356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82808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17080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51388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85840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20112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54564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864960" y="32637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207680" y="32637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550760" y="32637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514600" y="33861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16200000">
              <a:off x="66240" y="175752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78440" y="1054080"/>
              <a:ext cx="639720" cy="615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76720" y="1095480"/>
              <a:ext cx="3996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194800" y="106668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024520" y="1320840"/>
              <a:ext cx="14436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84640" y="130824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177520" y="12700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024520" y="1519200"/>
              <a:ext cx="144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190480" y="14763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213160" y="156852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564000" y="35244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3119400" y="3475080"/>
            <a:ext cx="5762520" cy="3262680"/>
            <a:chOff x="3119400" y="3475080"/>
            <a:chExt cx="5762520" cy="3262680"/>
          </a:xfrm>
        </p:grpSpPr>
        <p:sp>
          <p:nvSpPr>
            <p:cNvPr id="2150" name=""/>
            <p:cNvSpPr/>
            <p:nvPr/>
          </p:nvSpPr>
          <p:spPr>
            <a:xfrm>
              <a:off x="3591000" y="5948280"/>
              <a:ext cx="432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591000" y="54626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591000" y="49784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591000" y="44942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591000" y="40100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591000" y="352440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591000" y="3524400"/>
              <a:ext cx="4327560" cy="290664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591000" y="3524400"/>
              <a:ext cx="1440" cy="290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64000" y="64310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564000" y="594828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564000" y="54626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564000" y="49784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564000" y="44942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564000" y="40100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591000" y="64310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359100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395136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431172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467208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503388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539280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V="1">
              <a:off x="575460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611496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647532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683568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719784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755640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791856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591000" y="3675240"/>
              <a:ext cx="4327560" cy="2673000"/>
            </a:xfrm>
            <a:custGeom>
              <a:avLst/>
              <a:gdLst/>
              <a:ahLst/>
              <a:rect l="l" t="t" r="r" b="b"/>
              <a:pathLst>
                <a:path w="4292" h="2652">
                  <a:moveTo>
                    <a:pt x="0" y="2652"/>
                  </a:moveTo>
                  <a:lnTo>
                    <a:pt x="1716" y="1730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299200" y="55436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40240" y="55674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313240" y="55483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283360" y="55720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340240" y="55674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324400" y="557676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376960" y="54230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389560" y="53974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578400" y="6335640"/>
              <a:ext cx="237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307120" y="5405400"/>
              <a:ext cx="2520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904160" y="366228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303880" y="5452560"/>
              <a:ext cx="108000" cy="173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93280" y="6381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293280" y="58975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293280" y="54133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293280" y="49291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244320" y="44449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244320" y="39607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244320" y="34750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541680" y="650088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2356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8392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54428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90608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26500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2680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8716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34752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70788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043040" y="65008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403400" y="65008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763760" y="65008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627880" y="66308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 rot="16200000">
              <a:off x="3061800" y="49294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210520" y="4181400"/>
              <a:ext cx="671400" cy="647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313840" y="42260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8438040" y="419400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8259840" y="4460760"/>
              <a:ext cx="1508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8321760" y="4448160"/>
              <a:ext cx="2520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8420760" y="44085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259840" y="4670280"/>
              <a:ext cx="150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433720" y="46245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456400" y="472140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4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3" name=""/>
          <p:cNvGrpSpPr/>
          <p:nvPr/>
        </p:nvGrpSpPr>
        <p:grpSpPr>
          <a:xfrm>
            <a:off x="122400" y="376200"/>
            <a:ext cx="5427360" cy="3111480"/>
            <a:chOff x="122400" y="376200"/>
            <a:chExt cx="5427360" cy="3111480"/>
          </a:xfrm>
        </p:grpSpPr>
        <p:sp>
          <p:nvSpPr>
            <p:cNvPr id="2224" name=""/>
            <p:cNvSpPr/>
            <p:nvPr/>
          </p:nvSpPr>
          <p:spPr>
            <a:xfrm>
              <a:off x="568440" y="277020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68440" y="237816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68440" y="198756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68440" y="159696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68440" y="120636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8440" y="81432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8440" y="42372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68440" y="423720"/>
              <a:ext cx="4073400" cy="2737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8440" y="423720"/>
              <a:ext cx="1440" cy="27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41440" y="31608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41440" y="27702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41440" y="23781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41440" y="1987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41440" y="1596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41440" y="12063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41440" y="81432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41440" y="42372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68440" y="316080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5684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90792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124632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158580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19256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26548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60496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294480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328284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362268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396252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430200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46418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8440" y="803160"/>
              <a:ext cx="4073400" cy="2194200"/>
            </a:xfrm>
            <a:custGeom>
              <a:avLst/>
              <a:gdLst/>
              <a:ahLst/>
              <a:rect l="l" t="t" r="r" b="b"/>
              <a:pathLst>
                <a:path w="4292" h="2311">
                  <a:moveTo>
                    <a:pt x="0" y="2311"/>
                  </a:moveTo>
                  <a:lnTo>
                    <a:pt x="1388" y="1672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865160" y="24876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79680" y="23400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70320" y="23353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935000" y="242892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963800" y="24130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076480" y="24638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819440" y="24955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658880" y="25495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55480" y="298440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873080" y="237816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629240" y="7905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V="1">
              <a:off x="1677960" y="2352240"/>
              <a:ext cx="822240" cy="195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88000" y="3114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88000" y="27226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88000" y="23320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88000" y="19414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40840" y="15508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40840" y="11588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40840" y="768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40840" y="3762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20560" y="32259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866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12464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6448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80432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1438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48364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82348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16152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5028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81708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15548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49496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484360" y="334800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 rot="16200000">
              <a:off x="64800" y="173520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917960" y="1041480"/>
              <a:ext cx="631800" cy="609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014800" y="108252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131440" y="105408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64040" y="1305000"/>
              <a:ext cx="14148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022720" y="129384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14160" y="12556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64040" y="150192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127120" y="145908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149800" y="155088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5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498840" y="348624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3049560" y="3435480"/>
            <a:ext cx="5830920" cy="3299400"/>
            <a:chOff x="3049560" y="3435480"/>
            <a:chExt cx="5830920" cy="3299400"/>
          </a:xfrm>
        </p:grpSpPr>
        <p:sp>
          <p:nvSpPr>
            <p:cNvPr id="2302" name=""/>
            <p:cNvSpPr/>
            <p:nvPr/>
          </p:nvSpPr>
          <p:spPr>
            <a:xfrm>
              <a:off x="3525840" y="600552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525840" y="558648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525840" y="5165640"/>
              <a:ext cx="4378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525840" y="474660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525840" y="4325760"/>
              <a:ext cx="4378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525840" y="390528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525840" y="348624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525840" y="3486240"/>
              <a:ext cx="4378320" cy="294012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525840" y="3486240"/>
              <a:ext cx="1440" cy="294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498840" y="642636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498840" y="600552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498840" y="558648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498840" y="516564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498840" y="474660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498840" y="432576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498840" y="390528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525840" y="642636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352584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3890880" y="63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4255920" y="63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462132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498636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V="1">
              <a:off x="534996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571500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V="1">
              <a:off x="6080040" y="63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644364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V="1">
              <a:off x="6808680" y="63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717408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753912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790416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525840" y="3740040"/>
              <a:ext cx="4378320" cy="2373480"/>
            </a:xfrm>
            <a:custGeom>
              <a:avLst/>
              <a:gdLst/>
              <a:ahLst/>
              <a:rect l="l" t="t" r="r" b="b"/>
              <a:pathLst>
                <a:path w="4292" h="2326">
                  <a:moveTo>
                    <a:pt x="0" y="2326"/>
                  </a:moveTo>
                  <a:lnTo>
                    <a:pt x="1256" y="1748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786200" y="5627520"/>
              <a:ext cx="4284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029200" y="55609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116680" y="55180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602240" y="56530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645080" y="56358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622760" y="56610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489560" y="56991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452840" y="56451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513240" y="6100920"/>
              <a:ext cx="2520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794120" y="551016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889760" y="372744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4473720" y="5557320"/>
              <a:ext cx="6649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224880" y="63770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224880" y="59562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224880" y="5535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224880" y="51148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174480" y="46958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174480" y="42768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174480" y="38559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174480" y="34354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476520" y="649764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76164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2668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49172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85712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22036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58576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95080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440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67944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019280" y="64976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382880" y="64976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747920" y="64976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586480" y="66279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rot="16200000">
              <a:off x="2991960" y="490716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201160" y="4149720"/>
              <a:ext cx="679320" cy="65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304120" y="4194000"/>
              <a:ext cx="4284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430120" y="416232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248680" y="4433760"/>
              <a:ext cx="15408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312040" y="4419720"/>
              <a:ext cx="2556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412840" y="43797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248680" y="4645080"/>
              <a:ext cx="154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425800" y="459900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448480" y="469584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6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"/>
          <p:cNvGrpSpPr/>
          <p:nvPr/>
        </p:nvGrpSpPr>
        <p:grpSpPr>
          <a:xfrm>
            <a:off x="117360" y="368280"/>
            <a:ext cx="5294520" cy="3004200"/>
            <a:chOff x="117360" y="368280"/>
            <a:chExt cx="5294520" cy="3004200"/>
          </a:xfrm>
        </p:grpSpPr>
        <p:sp>
          <p:nvSpPr>
            <p:cNvPr id="2379" name=""/>
            <p:cNvSpPr/>
            <p:nvPr/>
          </p:nvSpPr>
          <p:spPr>
            <a:xfrm>
              <a:off x="554040" y="2701800"/>
              <a:ext cx="397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54040" y="232092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54040" y="1938240"/>
              <a:ext cx="397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54040" y="155736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54040" y="117648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54040" y="795240"/>
              <a:ext cx="397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54040" y="41292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54040" y="412920"/>
              <a:ext cx="3971880" cy="267012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54040" y="412920"/>
              <a:ext cx="1440" cy="267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8480" y="3083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28480" y="27018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8480" y="2320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28480" y="1938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28480" y="15573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28480" y="11764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28480" y="795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28480" y="412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54040" y="308304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55404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88416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121608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154620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187812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220824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254016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287172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320184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353232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386388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419400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452592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54040" y="782640"/>
              <a:ext cx="3971880" cy="2116080"/>
            </a:xfrm>
            <a:custGeom>
              <a:avLst/>
              <a:gdLst/>
              <a:ahLst/>
              <a:rect l="l" t="t" r="r" b="b"/>
              <a:pathLst>
                <a:path w="4292" h="2284">
                  <a:moveTo>
                    <a:pt x="0" y="2284"/>
                  </a:moveTo>
                  <a:lnTo>
                    <a:pt x="1631" y="1533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043000" y="22971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3" y="0"/>
                  </a:moveTo>
                  <a:lnTo>
                    <a:pt x="25" y="12"/>
                  </a:lnTo>
                  <a:lnTo>
                    <a:pt x="13" y="24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40000" y="22352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24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558880" y="21747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0"/>
                  </a:moveTo>
                  <a:lnTo>
                    <a:pt x="25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879560" y="23050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0"/>
                  </a:moveTo>
                  <a:lnTo>
                    <a:pt x="25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884240" y="23241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0"/>
                  </a:moveTo>
                  <a:lnTo>
                    <a:pt x="25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946160" y="23004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24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731960" y="2346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712880" y="235728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24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41440" y="288612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050920" y="2190600"/>
              <a:ext cx="24120" cy="223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513320" y="77004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V="1">
              <a:off x="1731960" y="2201400"/>
              <a:ext cx="846000" cy="171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80080" y="30384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80080" y="2655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80080" y="22748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80080" y="18939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34360" y="15127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34360" y="11304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34360" y="7491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34360" y="3682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07960" y="314784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6608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09620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42812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75968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08980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42172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75184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08376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41388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722040" y="31478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052160" y="31478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384080" y="31478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22440" y="32655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rot="16200000">
              <a:off x="59760" y="16894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795920" y="1015920"/>
              <a:ext cx="615960" cy="595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89520" y="10573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0"/>
                  </a:moveTo>
                  <a:lnTo>
                    <a:pt x="25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004360" y="102888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40200" y="1273320"/>
              <a:ext cx="1382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897440" y="1262160"/>
              <a:ext cx="22320" cy="219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987080" y="122544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40200" y="1465200"/>
              <a:ext cx="1382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000040" y="14241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022720" y="151272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7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3189240" y="3514680"/>
            <a:ext cx="5695920" cy="3224880"/>
            <a:chOff x="3189240" y="3514680"/>
            <a:chExt cx="5695920" cy="3224880"/>
          </a:xfrm>
        </p:grpSpPr>
        <p:sp>
          <p:nvSpPr>
            <p:cNvPr id="2456" name=""/>
            <p:cNvSpPr/>
            <p:nvPr/>
          </p:nvSpPr>
          <p:spPr>
            <a:xfrm>
              <a:off x="3654360" y="607860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654360" y="571824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654360" y="5359320"/>
              <a:ext cx="427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654360" y="500076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654360" y="464040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654360" y="4282920"/>
              <a:ext cx="427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654360" y="3922560"/>
              <a:ext cx="427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654360" y="356400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654360" y="3564000"/>
              <a:ext cx="4278240" cy="28731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654360" y="3564000"/>
              <a:ext cx="1800" cy="287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627360" y="643716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627360" y="60786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627360" y="57182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627360" y="535932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627360" y="50007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627360" y="46404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627360" y="428292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627360" y="392256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627360" y="35640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654360" y="6437160"/>
              <a:ext cx="427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65436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40114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436716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47242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5081760" y="641016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54370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V="1">
              <a:off x="5792760" y="641016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61498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6505560" y="641016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68626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V="1">
              <a:off x="721980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75754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793260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54360" y="3905280"/>
              <a:ext cx="4278240" cy="2058840"/>
            </a:xfrm>
            <a:custGeom>
              <a:avLst/>
              <a:gdLst/>
              <a:ahLst/>
              <a:rect l="l" t="t" r="r" b="b"/>
              <a:pathLst>
                <a:path w="4292" h="2066">
                  <a:moveTo>
                    <a:pt x="0" y="2066"/>
                  </a:moveTo>
                  <a:lnTo>
                    <a:pt x="961" y="1679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591080" y="566568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808520" y="562932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813200" y="561492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440240" y="57546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464000" y="574056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476600" y="57308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356000" y="579744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297320" y="58262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218120" y="588024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641760" y="5951520"/>
              <a:ext cx="2520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599000" y="556560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918560" y="3892680"/>
              <a:ext cx="2520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4238640" y="5626080"/>
              <a:ext cx="596880" cy="249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61320" y="63882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361320" y="60292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361320" y="56689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361320" y="53103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312720" y="49514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312720" y="45925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312720" y="42339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312720" y="38736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312720" y="35146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4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606840" y="65055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8854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4116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5982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5396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3110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66640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0238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7920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7366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066800" y="6505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422480" y="6505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779600" y="6505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667480" y="66326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 rot="16200000">
              <a:off x="3131640" y="495000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221680" y="4213080"/>
              <a:ext cx="663480" cy="640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323200" y="4255920"/>
              <a:ext cx="4284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445960" y="422604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8269200" y="4489560"/>
              <a:ext cx="1508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331120" y="447660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428680" y="443700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269200" y="4695840"/>
              <a:ext cx="150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441640" y="465120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464320" y="474660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8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122400" y="376200"/>
            <a:ext cx="5427360" cy="3078720"/>
            <a:chOff x="122400" y="376200"/>
            <a:chExt cx="5427360" cy="3078720"/>
          </a:xfrm>
        </p:grpSpPr>
        <p:sp>
          <p:nvSpPr>
            <p:cNvPr id="2538" name=""/>
            <p:cNvSpPr/>
            <p:nvPr/>
          </p:nvSpPr>
          <p:spPr>
            <a:xfrm>
              <a:off x="568440" y="285768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68440" y="255276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8440" y="224784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68440" y="194472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8440" y="163980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8440" y="133668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8440" y="103176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8440" y="72720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8440" y="42372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69880" y="423720"/>
              <a:ext cx="4073400" cy="2737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68440" y="423720"/>
              <a:ext cx="1440" cy="27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41440" y="31608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41440" y="285768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1440" y="25527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41440" y="22478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1440" y="19447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41440" y="163980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1440" y="133668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41440" y="10317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41440" y="7272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41440" y="42372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68440" y="316080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5684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90792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124632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158580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19256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226548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260496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294480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328284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362268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396252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430200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46418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1619280" y="2333160"/>
              <a:ext cx="1182600" cy="847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782800" y="24955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800440" y="244800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793960" y="25146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759040" y="25448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2"/>
                  </a:lnTo>
                  <a:lnTo>
                    <a:pt x="12" y="2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795760" y="2465280"/>
              <a:ext cx="4104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125880" y="225252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746440" y="259236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741760" y="25812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789280" y="232092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629240" y="67320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2760840" y="2259000"/>
              <a:ext cx="385560" cy="30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88000" y="3114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88000" y="28098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88000" y="25052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88000" y="22017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88000" y="1898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88000" y="1593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88000" y="12891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88000" y="9856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40840" y="6811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40840" y="3762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20560" y="32259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866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12464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46448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80432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438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48364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82348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16152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5028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81708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15548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49496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484360" y="334800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16200000">
              <a:off x="64800" y="173520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917960" y="1041480"/>
              <a:ext cx="631800" cy="609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014800" y="108252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131440" y="105408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964040" y="1305000"/>
              <a:ext cx="14148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22720" y="129384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114160" y="12556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964040" y="150192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127120" y="145908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149800" y="155088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9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2771640" y="691920"/>
              <a:ext cx="1871640" cy="1657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3328920" y="3594240"/>
            <a:ext cx="5560920" cy="3151440"/>
            <a:chOff x="3328920" y="3594240"/>
            <a:chExt cx="5560920" cy="3151440"/>
          </a:xfrm>
        </p:grpSpPr>
        <p:sp>
          <p:nvSpPr>
            <p:cNvPr id="2621" name=""/>
            <p:cNvSpPr/>
            <p:nvPr/>
          </p:nvSpPr>
          <p:spPr>
            <a:xfrm>
              <a:off x="3784680" y="597996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784680" y="551196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784680" y="504504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784680" y="457668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784680" y="411012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784680" y="364176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784680" y="3641760"/>
              <a:ext cx="4176720" cy="280512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84680" y="3641760"/>
              <a:ext cx="1440" cy="28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759120" y="64468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759120" y="59799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759120" y="55119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759120" y="50450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759120" y="45766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759120" y="411012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759120" y="36417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784680" y="644688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V="1">
              <a:off x="378468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413388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V="1">
              <a:off x="448164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V="1">
              <a:off x="482904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517680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V="1">
              <a:off x="552456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587376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622152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656892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V="1">
              <a:off x="691668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V="1">
              <a:off x="726588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V="1">
              <a:off x="761220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V="1">
              <a:off x="796140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4035600" y="5763960"/>
              <a:ext cx="1309680" cy="703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324400" y="58849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335560" y="58849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315040" y="589284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351400" y="588816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381640" y="586440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380200" y="58975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35640" y="571176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421240" y="572436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332320" y="5751360"/>
              <a:ext cx="237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948440" y="399564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5335560" y="5760720"/>
              <a:ext cx="12060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498120" y="63993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498120" y="59324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498120" y="54640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498120" y="49975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450960" y="45291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450960" y="4062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450960" y="3594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736800" y="651348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0932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35672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70628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05368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40144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74920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09840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44436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79356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116120" y="65134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463880" y="65134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811280" y="65134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749920" y="66387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16200000">
              <a:off x="3271320" y="498672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8242200" y="4275000"/>
              <a:ext cx="647640" cy="62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340840" y="431784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457120" y="4287960"/>
              <a:ext cx="12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8288280" y="4546440"/>
              <a:ext cx="14616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348760" y="4533840"/>
              <a:ext cx="2520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443080" y="44956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288280" y="4746600"/>
              <a:ext cx="1461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456040" y="47037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475840" y="479736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10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V="1">
              <a:off x="5292720" y="4005360"/>
              <a:ext cx="2693880" cy="18000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"/>
          <p:cNvSpPr/>
          <p:nvPr/>
        </p:nvSpPr>
        <p:spPr>
          <a:xfrm>
            <a:off x="5940360" y="18900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123840" y="385920"/>
            <a:ext cx="5564160" cy="3151440"/>
            <a:chOff x="123840" y="385920"/>
            <a:chExt cx="5564160" cy="3151440"/>
          </a:xfrm>
        </p:grpSpPr>
        <p:sp>
          <p:nvSpPr>
            <p:cNvPr id="2696" name=""/>
            <p:cNvSpPr/>
            <p:nvPr/>
          </p:nvSpPr>
          <p:spPr>
            <a:xfrm>
              <a:off x="581040" y="277164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81040" y="230364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81040" y="183672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81040" y="136836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81040" y="90180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81040" y="43344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81040" y="433440"/>
              <a:ext cx="4176720" cy="280512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81040" y="433440"/>
              <a:ext cx="1440" cy="28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55480" y="32385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55480" y="27716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55480" y="23036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55480" y="183672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55480" y="13683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55480" y="9018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55480" y="4334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81040" y="323856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58104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93024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V="1">
              <a:off x="127800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V="1">
              <a:off x="162576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97316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232092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267012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301788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336564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371304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406224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440856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475776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81040" y="641520"/>
              <a:ext cx="4176720" cy="2562120"/>
            </a:xfrm>
            <a:custGeom>
              <a:avLst/>
              <a:gdLst/>
              <a:ahLst/>
              <a:rect l="l" t="t" r="r" b="b"/>
              <a:pathLst>
                <a:path w="4292" h="2634">
                  <a:moveTo>
                    <a:pt x="0" y="2634"/>
                  </a:moveTo>
                  <a:lnTo>
                    <a:pt x="1855" y="1637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365200" y="235260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41600" y="227808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3" y="0"/>
                  </a:moveTo>
                  <a:lnTo>
                    <a:pt x="25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49680" y="221760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730520" y="25351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822320" y="249228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030400" y="245592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906560" y="245124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716120" y="263376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9880" y="319104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373480" y="2220840"/>
              <a:ext cx="2520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745160" y="6285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736640" y="2231640"/>
              <a:ext cx="103356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94480" y="31910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94480" y="27241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94480" y="22557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94480" y="17892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47320" y="13208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47320" y="8539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47320" y="3859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33160" y="33051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0568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15344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50264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5004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19780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54556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89476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324072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359028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912480" y="3305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260240" y="3305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607640" y="3305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546280" y="34304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 rot="16200000">
              <a:off x="66240" y="17812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040360" y="1066680"/>
              <a:ext cx="647640" cy="62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140440" y="11095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256720" y="1079640"/>
              <a:ext cx="12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086440" y="1338120"/>
              <a:ext cx="145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146560" y="132552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242680" y="12873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086440" y="1538280"/>
              <a:ext cx="145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255640" y="149544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275440" y="158904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1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559320" y="35244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3114720" y="3475080"/>
            <a:ext cx="5769000" cy="3264480"/>
            <a:chOff x="3114720" y="3475080"/>
            <a:chExt cx="5769000" cy="3264480"/>
          </a:xfrm>
        </p:grpSpPr>
        <p:sp>
          <p:nvSpPr>
            <p:cNvPr id="2771" name=""/>
            <p:cNvSpPr/>
            <p:nvPr/>
          </p:nvSpPr>
          <p:spPr>
            <a:xfrm>
              <a:off x="3586320" y="601992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3586320" y="560232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586320" y="518796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3586320" y="477216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3586320" y="4356000"/>
              <a:ext cx="4354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3586320" y="394020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586320" y="352440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586320" y="3524400"/>
              <a:ext cx="4354200" cy="29098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586320" y="3524400"/>
              <a:ext cx="1440" cy="290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559320" y="643428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3559320" y="60199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559320" y="56023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3559320" y="51879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559320" y="47721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559320" y="435600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559320" y="39402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586320" y="643428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35863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394956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31316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46753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V="1">
              <a:off x="503856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54007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57625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61261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64897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68515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72151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75787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79405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3586320" y="3767040"/>
              <a:ext cx="4354200" cy="2309760"/>
            </a:xfrm>
            <a:custGeom>
              <a:avLst/>
              <a:gdLst/>
              <a:ahLst/>
              <a:rect l="l" t="t" r="r" b="b"/>
              <a:pathLst>
                <a:path w="4319" h="2290">
                  <a:moveTo>
                    <a:pt x="0" y="2290"/>
                  </a:moveTo>
                  <a:lnTo>
                    <a:pt x="1602" y="1557"/>
                  </a:lnTo>
                  <a:lnTo>
                    <a:pt x="4319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180040" y="54403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745160" y="55324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516640" y="533700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105600" y="5170320"/>
              <a:ext cx="41040" cy="432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676920" y="51656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573360" y="606420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187960" y="532440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927920" y="375444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4765680" y="5138280"/>
              <a:ext cx="1932120" cy="39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288600" y="63849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288600" y="59691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288600" y="55530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288600" y="5138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239640" y="47228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239640" y="43070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239640" y="38908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3239640" y="34750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3560760" y="650412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8440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2076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712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9330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2966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6584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0220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38424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7474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84440" y="650412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447680" y="650412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809840" y="650412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635800" y="66326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 rot="16200000">
              <a:off x="3057120" y="493092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211960" y="4181400"/>
              <a:ext cx="671760" cy="647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315280" y="42260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408160" y="41940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CEM 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261280" y="4460760"/>
              <a:ext cx="1508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23200" y="444816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422200" y="44085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8261280" y="4670280"/>
              <a:ext cx="150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8435160" y="46245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8426520" y="472140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ACEM 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3" name=""/>
          <p:cNvGrpSpPr/>
          <p:nvPr/>
        </p:nvGrpSpPr>
        <p:grpSpPr>
          <a:xfrm>
            <a:off x="119160" y="371520"/>
            <a:ext cx="5365800" cy="3040560"/>
            <a:chOff x="119160" y="371520"/>
            <a:chExt cx="5365800" cy="3040560"/>
          </a:xfrm>
        </p:grpSpPr>
        <p:sp>
          <p:nvSpPr>
            <p:cNvPr id="2844" name=""/>
            <p:cNvSpPr/>
            <p:nvPr/>
          </p:nvSpPr>
          <p:spPr>
            <a:xfrm>
              <a:off x="560520" y="2782800"/>
              <a:ext cx="404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60520" y="244476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60520" y="210672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60520" y="177012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60520" y="1430280"/>
              <a:ext cx="404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60520" y="1093680"/>
              <a:ext cx="404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60520" y="75564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60520" y="41760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60520" y="417600"/>
              <a:ext cx="4044960" cy="27018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60520" y="417600"/>
              <a:ext cx="1440" cy="270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34960" y="31194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34960" y="27828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34960" y="244476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34960" y="21067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34960" y="17701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34960" y="1430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34960" y="10936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34960" y="7556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34960" y="4176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60520" y="3119400"/>
              <a:ext cx="404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56052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V="1">
              <a:off x="89856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123516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V="1">
              <a:off x="157176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908000" y="3093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V="1">
              <a:off x="224640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258444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 flipV="1">
              <a:off x="292104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V="1">
              <a:off x="325764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359424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393228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V="1">
              <a:off x="426888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460548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60520" y="758880"/>
              <a:ext cx="4044960" cy="1941480"/>
            </a:xfrm>
            <a:custGeom>
              <a:avLst/>
              <a:gdLst/>
              <a:ahLst/>
              <a:rect l="l" t="t" r="r" b="b"/>
              <a:pathLst>
                <a:path w="4315" h="2072">
                  <a:moveTo>
                    <a:pt x="0" y="2072"/>
                  </a:moveTo>
                  <a:lnTo>
                    <a:pt x="899" y="1712"/>
                  </a:lnTo>
                  <a:lnTo>
                    <a:pt x="4315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384200" y="24447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24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52680" y="2354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2"/>
                  </a:lnTo>
                  <a:lnTo>
                    <a:pt x="12" y="2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973160" y="22892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647800" y="213372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47560" y="268920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390680" y="23511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594320" y="747720"/>
              <a:ext cx="21960" cy="223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V="1">
              <a:off x="1403280" y="2150640"/>
              <a:ext cx="126360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83320" y="30733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83320" y="2736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83320" y="23986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83320" y="2060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37600" y="17240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37600" y="13860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37600" y="10476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237600" y="7095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237600" y="3715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4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36400" y="31845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9920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13580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47384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81044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214884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248508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282168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16008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49632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809160" y="3184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145760" y="3184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482360" y="3184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463840" y="33051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rot="16200000">
              <a:off x="61560" y="171144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861080" y="1028880"/>
              <a:ext cx="623880" cy="60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956120" y="1069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3" y="0"/>
                  </a:moveTo>
                  <a:lnTo>
                    <a:pt x="25" y="12"/>
                  </a:lnTo>
                  <a:lnTo>
                    <a:pt x="13" y="24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041080" y="103968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CEM 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905360" y="1289160"/>
              <a:ext cx="14148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964040" y="1276200"/>
              <a:ext cx="237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055120" y="123984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905360" y="1482840"/>
              <a:ext cx="141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068080" y="144000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059440" y="153036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ACEM 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3189240" y="3538440"/>
            <a:ext cx="5705640" cy="3228120"/>
            <a:chOff x="3189240" y="3538440"/>
            <a:chExt cx="5705640" cy="3228120"/>
          </a:xfrm>
        </p:grpSpPr>
        <p:sp>
          <p:nvSpPr>
            <p:cNvPr id="2920" name=""/>
            <p:cNvSpPr/>
            <p:nvPr/>
          </p:nvSpPr>
          <p:spPr>
            <a:xfrm>
              <a:off x="3656160" y="617544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656160" y="588816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656160" y="560088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656160" y="5313240"/>
              <a:ext cx="42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656160" y="5025960"/>
              <a:ext cx="42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656160" y="473724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656160" y="4449600"/>
              <a:ext cx="42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656160" y="4162320"/>
              <a:ext cx="42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656160" y="387360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656160" y="358632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656160" y="3586320"/>
              <a:ext cx="4282920" cy="28764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656160" y="3586320"/>
              <a:ext cx="1440" cy="287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629160" y="64627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629160" y="61754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629160" y="58881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629160" y="560088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629160" y="531324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629160" y="502596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629160" y="47372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629160" y="444960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629160" y="416232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629160" y="38736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629160" y="35863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656160" y="646272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365616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401328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V="1">
              <a:off x="436896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472608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V="1">
              <a:off x="508320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V="1">
              <a:off x="544032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579744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615456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651024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686736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722484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V="1">
              <a:off x="758196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793908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4435560" y="5388120"/>
              <a:ext cx="1700280" cy="10951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114960" y="55389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091200" y="564516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141960" y="561816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240600" y="55832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238800" y="55324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122880" y="537516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924680" y="392112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6111720" y="5578200"/>
              <a:ext cx="150840" cy="50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361320" y="64134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3361320" y="61261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3361320" y="58388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361320" y="55515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361320" y="52642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361320" y="4976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361320" y="46879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3361320" y="4400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312720" y="41133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312720" y="38257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312720" y="35384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606840" y="65325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88692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24260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59972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95684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31252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66964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02676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38424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74136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071480" y="6532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428960" y="6532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786080" y="6532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670720" y="66596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 rot="16200000">
              <a:off x="3131640" y="497376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229600" y="4235400"/>
              <a:ext cx="665280" cy="641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331120" y="42800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22560" y="42498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CEM 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277120" y="4513320"/>
              <a:ext cx="1508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339040" y="4500720"/>
              <a:ext cx="2556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36600" y="44607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277120" y="4719600"/>
              <a:ext cx="150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49560" y="467532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40920" y="477036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ACEM 5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6156360" y="3860280"/>
              <a:ext cx="1800360" cy="1513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"/>
          <p:cNvGrpSpPr/>
          <p:nvPr/>
        </p:nvGrpSpPr>
        <p:grpSpPr>
          <a:xfrm>
            <a:off x="117360" y="165240"/>
            <a:ext cx="5500800" cy="3115080"/>
            <a:chOff x="117360" y="165240"/>
            <a:chExt cx="5500800" cy="3115080"/>
          </a:xfrm>
        </p:grpSpPr>
        <p:sp>
          <p:nvSpPr>
            <p:cNvPr id="3003" name=""/>
            <p:cNvSpPr/>
            <p:nvPr/>
          </p:nvSpPr>
          <p:spPr>
            <a:xfrm>
              <a:off x="568440" y="267660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68440" y="236844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68440" y="206064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68440" y="175248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68440" y="144468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68440" y="113652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68440" y="82872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68440" y="52056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68440" y="21276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68440" y="212760"/>
              <a:ext cx="4130640" cy="277164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68440" y="212760"/>
              <a:ext cx="1440" cy="27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42880" y="29844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42880" y="26766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42880" y="23684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42880" y="20606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42880" y="17524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42880" y="14446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42880" y="113652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42880" y="82872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42880" y="5205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42880" y="2127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68440" y="298440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V="1">
              <a:off x="56844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V="1">
              <a:off x="91296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V="1">
              <a:off x="125748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1601640" y="2958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V="1">
              <a:off x="1946160" y="2958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228924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263376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297828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V="1">
              <a:off x="332280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366552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V="1">
              <a:off x="4011480" y="2958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435456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469908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68440" y="593640"/>
              <a:ext cx="1965240" cy="1578240"/>
            </a:xfrm>
            <a:custGeom>
              <a:avLst/>
              <a:gdLst/>
              <a:ahLst/>
              <a:rect l="l" t="t" r="r" b="b"/>
              <a:pathLst>
                <a:path w="2045" h="1642">
                  <a:moveTo>
                    <a:pt x="0" y="1642"/>
                  </a:moveTo>
                  <a:lnTo>
                    <a:pt x="846" y="1052"/>
                  </a:lnTo>
                  <a:lnTo>
                    <a:pt x="2045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362240" y="17683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508040" y="160344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841400" y="153504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282760" y="11779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55480" y="215892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370160" y="159228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521080" y="58104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1380960" y="1223640"/>
              <a:ext cx="920880" cy="5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84760" y="29368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84760" y="26290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4760" y="23209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84760" y="20131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4760" y="17049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84760" y="13971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84760" y="10890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84760" y="7812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37600" y="4730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37600" y="165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20560" y="305100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8984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13436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47888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82340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16756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51208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85516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19968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54420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3863160" y="30510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07680" y="30510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550760" y="30510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513160" y="317340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rot="16200000">
              <a:off x="59760" y="154332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978440" y="1055520"/>
              <a:ext cx="639720" cy="617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054760" y="10987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157360" y="1068480"/>
              <a:ext cx="19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US 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002200" y="1322280"/>
              <a:ext cx="14436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062680" y="1311120"/>
              <a:ext cx="237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155200" y="127332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002200" y="1522440"/>
              <a:ext cx="144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176440" y="147960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167800" y="157176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B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1" name=""/>
          <p:cNvGrpSpPr/>
          <p:nvPr/>
        </p:nvGrpSpPr>
        <p:grpSpPr>
          <a:xfrm>
            <a:off x="3322800" y="3513240"/>
            <a:ext cx="5572080" cy="3156120"/>
            <a:chOff x="3322800" y="3513240"/>
            <a:chExt cx="5572080" cy="3156120"/>
          </a:xfrm>
        </p:grpSpPr>
        <p:sp>
          <p:nvSpPr>
            <p:cNvPr id="3082" name=""/>
            <p:cNvSpPr/>
            <p:nvPr/>
          </p:nvSpPr>
          <p:spPr>
            <a:xfrm>
              <a:off x="3735360" y="5968800"/>
              <a:ext cx="4226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735360" y="556884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735360" y="5167080"/>
              <a:ext cx="4226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735360" y="476568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735360" y="436392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735360" y="3962160"/>
              <a:ext cx="4226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735360" y="356220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735360" y="3562200"/>
              <a:ext cx="4226040" cy="28080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735360" y="3562200"/>
              <a:ext cx="1440" cy="28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708360" y="637056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708360" y="59688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3708360" y="556884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708360" y="51670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3708360" y="476568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708360" y="436392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3708360" y="39621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708360" y="356220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735360" y="637056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373536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408636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443880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479124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V="1">
              <a:off x="514368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5495760" y="634356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5848200" y="634356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V="1">
              <a:off x="6200640" y="634356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655164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690408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V="1">
              <a:off x="725652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760896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796140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735360" y="3882960"/>
              <a:ext cx="2009880" cy="1972800"/>
            </a:xfrm>
            <a:custGeom>
              <a:avLst/>
              <a:gdLst/>
              <a:ahLst/>
              <a:rect l="l" t="t" r="r" b="b"/>
              <a:pathLst>
                <a:path w="2067" h="2027">
                  <a:moveTo>
                    <a:pt x="0" y="2027"/>
                  </a:moveTo>
                  <a:lnTo>
                    <a:pt x="1307" y="840"/>
                  </a:lnTo>
                  <a:lnTo>
                    <a:pt x="2067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986360" y="4921200"/>
              <a:ext cx="39600" cy="40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3" y="0"/>
                  </a:moveTo>
                  <a:lnTo>
                    <a:pt x="25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513400" y="429552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662440" y="4143240"/>
              <a:ext cx="39960" cy="39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11720" y="4464000"/>
              <a:ext cx="41400" cy="40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722760" y="5843520"/>
              <a:ext cx="23760" cy="23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4994280" y="46875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32640" y="3870000"/>
              <a:ext cx="2520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V="1">
              <a:off x="5006880" y="4135320"/>
              <a:ext cx="674640" cy="72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447360" y="63226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447360" y="59212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447360" y="55195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447360" y="51195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447360" y="47178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447360" y="43164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447360" y="3914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447360" y="35132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686040" y="64371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96324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31568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66812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02056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37120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72364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7608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42852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78096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106400" y="6437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458840" y="6437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811280" y="6437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724720" y="65624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rot="16200000">
              <a:off x="3265200" y="490680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247240" y="4416120"/>
              <a:ext cx="647640" cy="62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323200" y="445896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428680" y="442908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US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271000" y="4686120"/>
              <a:ext cx="145800" cy="1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331120" y="4674960"/>
              <a:ext cx="25560" cy="23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425440" y="463680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271000" y="4887720"/>
              <a:ext cx="1458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446680" y="4844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438760" y="4938480"/>
              <a:ext cx="83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24964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R41WG database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composition / co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4" name=""/>
          <p:cNvGrpSpPr/>
          <p:nvPr/>
        </p:nvGrpSpPr>
        <p:grpSpPr>
          <a:xfrm>
            <a:off x="122400" y="171360"/>
            <a:ext cx="5705280" cy="3226320"/>
            <a:chOff x="122400" y="171360"/>
            <a:chExt cx="5705280" cy="3226320"/>
          </a:xfrm>
        </p:grpSpPr>
        <p:sp>
          <p:nvSpPr>
            <p:cNvPr id="3155" name=""/>
            <p:cNvSpPr/>
            <p:nvPr/>
          </p:nvSpPr>
          <p:spPr>
            <a:xfrm>
              <a:off x="590400" y="277488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90400" y="2455920"/>
              <a:ext cx="428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90400" y="213660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90400" y="181764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90400" y="149688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90400" y="117936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90400" y="858960"/>
              <a:ext cx="428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90400" y="53964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90400" y="220680"/>
              <a:ext cx="428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90400" y="220680"/>
              <a:ext cx="4283280" cy="28749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90400" y="220680"/>
              <a:ext cx="1800" cy="28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63400" y="30956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63400" y="277488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63400" y="24559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63400" y="213660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63400" y="181764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63400" y="149688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63400" y="117936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63400" y="8589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63400" y="53964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63400" y="22068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90400" y="3095640"/>
              <a:ext cx="428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59040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94608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130320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166068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201780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V="1">
              <a:off x="237492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V="1">
              <a:off x="273204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V="1">
              <a:off x="308772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V="1">
              <a:off x="344484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380196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415908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V="1">
              <a:off x="451656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V="1">
              <a:off x="487368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90400" y="552600"/>
              <a:ext cx="2141640" cy="1744560"/>
            </a:xfrm>
            <a:custGeom>
              <a:avLst/>
              <a:gdLst/>
              <a:ahLst/>
              <a:rect l="l" t="t" r="r" b="b"/>
              <a:pathLst>
                <a:path w="2149" h="1751">
                  <a:moveTo>
                    <a:pt x="0" y="1751"/>
                  </a:moveTo>
                  <a:lnTo>
                    <a:pt x="966" y="1058"/>
                  </a:lnTo>
                  <a:lnTo>
                    <a:pt x="2149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531800" y="17780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503360" y="184788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822320" y="15350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941480" y="144468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492280" y="125424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76360" y="2284560"/>
              <a:ext cx="2520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539720" y="1593720"/>
              <a:ext cx="255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717640" y="53964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V="1">
              <a:off x="1523880" y="1222200"/>
              <a:ext cx="989280" cy="57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95920" y="30463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5920" y="27255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95920" y="24066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5920" y="2087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5920" y="17683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95920" y="14493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95920" y="11304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95920" y="809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47320" y="4906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47320" y="1713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1440" y="316404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2008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17720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53432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89144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24856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60424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96136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31848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67596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007880" y="31640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363200" y="31640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720680" y="31640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605320" y="32907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 rot="16200000">
              <a:off x="64800" y="16066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164200" y="1095480"/>
              <a:ext cx="663480" cy="63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243400" y="11383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350680" y="110808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US 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189400" y="1371600"/>
              <a:ext cx="1494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251320" y="1359000"/>
              <a:ext cx="2412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347440" y="132084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189400" y="1577880"/>
              <a:ext cx="149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368680" y="153360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360760" y="1628640"/>
              <a:ext cx="83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C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"/>
          <p:cNvSpPr/>
          <p:nvPr/>
        </p:nvSpPr>
        <p:spPr>
          <a:xfrm>
            <a:off x="108000" y="-15840"/>
            <a:ext cx="89647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Overall comments and conclusions (inter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consolidated noise database confirms tha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362-2 does not appear to be correlated to any vehicl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E R41 and ISO362-2 are not cor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standstill" limit(s) will require the noise output of certain vehicles to b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 reduction beyond the standstill values will have to consider cost impact and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ASEP test concept appears workable but requires further consideration of the following items, to ensure its practical appl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 of appropriate slope and tolerance (both should ideally be defined in relation to undesirable / irrational / atypical noise emissions behavio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gear dependance of slope requires further 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lusion of CVT scooters (engine speeds are already high regardless of test proced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ion of lower ASEP curve (or reformatting of ASEP curve) as not being necessary for motorc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ation of number of ASEP measurement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ASEP compliance is declared during typ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3946680"/>
            <a:ext cx="2592360" cy="2506680"/>
          </a:xfrm>
          <a:custGeom>
            <a:avLst/>
            <a:gdLst/>
            <a:ahLst/>
            <a:rect l="l" t="t" r="r" b="b"/>
            <a:pathLst>
              <a:path w="1633" h="1270">
                <a:moveTo>
                  <a:pt x="0" y="0"/>
                </a:moveTo>
                <a:lnTo>
                  <a:pt x="1633" y="0"/>
                </a:lnTo>
                <a:lnTo>
                  <a:pt x="1633" y="1270"/>
                </a:lnTo>
                <a:lnTo>
                  <a:pt x="227" y="1270"/>
                </a:lnTo>
                <a:lnTo>
                  <a:pt x="227" y="726"/>
                </a:lnTo>
                <a:lnTo>
                  <a:pt x="0" y="726"/>
                </a:lnTo>
                <a:lnTo>
                  <a:pt x="0" y="0"/>
                </a:lnTo>
                <a:close/>
              </a:path>
            </a:pathLst>
          </a:custGeom>
          <a:solidFill>
            <a:srgbClr val="99cc00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6600" y="5546880"/>
            <a:ext cx="647640" cy="817560"/>
          </a:xfrm>
          <a:custGeom>
            <a:avLst/>
            <a:gdLst/>
            <a:ahLst/>
            <a:rect l="l" t="t" r="r" b="b"/>
            <a:pathLst>
              <a:path w="363" h="453">
                <a:moveTo>
                  <a:pt x="0" y="0"/>
                </a:moveTo>
                <a:lnTo>
                  <a:pt x="363" y="0"/>
                </a:lnTo>
                <a:lnTo>
                  <a:pt x="363" y="453"/>
                </a:lnTo>
                <a:lnTo>
                  <a:pt x="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98760" y="287280"/>
            <a:ext cx="60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o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9120" y="3164040"/>
            <a:ext cx="199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engine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73640" y="3164040"/>
            <a:ext cx="179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engine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48400" y="6165720"/>
            <a:ext cx="14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ty / Comf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440" y="260280"/>
            <a:ext cx="25560" cy="62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0000" y="285840"/>
            <a:ext cx="25560" cy="620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59400" y="503280"/>
            <a:ext cx="25200" cy="575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68200"/>
            <a:ext cx="852156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371760"/>
            <a:ext cx="85215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469200"/>
            <a:ext cx="85215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3120" y="272520"/>
            <a:ext cx="8521920" cy="6208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547560" cy="3589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2060640"/>
            <a:ext cx="522360" cy="352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356000" y="1844640"/>
            <a:ext cx="432000" cy="333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443640" y="2852640"/>
            <a:ext cx="63360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grpSp>
        <p:nvGrpSpPr>
          <p:cNvPr id="64" name=""/>
          <p:cNvGrpSpPr/>
          <p:nvPr/>
        </p:nvGrpSpPr>
        <p:grpSpPr>
          <a:xfrm>
            <a:off x="5219640" y="3013200"/>
            <a:ext cx="550800" cy="315720"/>
            <a:chOff x="5219640" y="3013200"/>
            <a:chExt cx="550800" cy="3157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5219640" y="3013200"/>
              <a:ext cx="5508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5219640" y="3013200"/>
              <a:ext cx="550800" cy="31572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8028000" y="5229360"/>
            <a:ext cx="523800" cy="349200"/>
            <a:chOff x="8028000" y="5229360"/>
            <a:chExt cx="523800" cy="349200"/>
          </a:xfrm>
        </p:grpSpPr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69" name="" descr=""/>
            <p:cNvPicPr/>
            <p:nvPr/>
          </p:nvPicPr>
          <p:blipFill>
            <a:blip r:embed="rId8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7236000" y="5013360"/>
            <a:ext cx="634680" cy="385560"/>
            <a:chOff x="7236000" y="5013360"/>
            <a:chExt cx="634680" cy="385560"/>
          </a:xfrm>
        </p:grpSpPr>
        <p:pic>
          <p:nvPicPr>
            <p:cNvPr id="71" name="" descr=""/>
            <p:cNvPicPr/>
            <p:nvPr/>
          </p:nvPicPr>
          <p:blipFill>
            <a:blip r:embed="rId9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3851280" y="4076640"/>
            <a:ext cx="522360" cy="351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4643280" y="5013360"/>
            <a:ext cx="649440" cy="409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5003640" y="1989000"/>
            <a:ext cx="432000" cy="2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1569960" y="5437080"/>
            <a:ext cx="505080" cy="325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755640" y="5086440"/>
            <a:ext cx="504720" cy="318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4572000" y="4365720"/>
            <a:ext cx="747720" cy="390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468360" y="5668920"/>
            <a:ext cx="285840" cy="289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3924360" y="4724280"/>
            <a:ext cx="58104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5940360" y="333360"/>
            <a:ext cx="539640" cy="355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7954920" y="133992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7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17080" y="765000"/>
            <a:ext cx="51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52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2708280"/>
            <a:ext cx="88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ON/OFF 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7720" y="3348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6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8200" y="551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883640" y="907920"/>
            <a:ext cx="576000" cy="381240"/>
            <a:chOff x="7883640" y="907920"/>
            <a:chExt cx="576000" cy="381240"/>
          </a:xfrm>
        </p:grpSpPr>
        <p:pic>
          <p:nvPicPr>
            <p:cNvPr id="88" name="" descr=""/>
            <p:cNvPicPr/>
            <p:nvPr/>
          </p:nvPicPr>
          <p:blipFill>
            <a:blip r:embed="rId20"/>
            <a:stretch/>
          </p:blipFill>
          <p:spPr>
            <a:xfrm>
              <a:off x="7926840" y="907920"/>
              <a:ext cx="53280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1"/>
            <a:stretch/>
          </p:blipFill>
          <p:spPr>
            <a:xfrm>
              <a:off x="7926840" y="907920"/>
              <a:ext cx="53280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2"/>
            <a:stretch/>
          </p:blipFill>
          <p:spPr>
            <a:xfrm>
              <a:off x="7883640" y="954000"/>
              <a:ext cx="532800" cy="3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3"/>
            <a:stretch/>
          </p:blipFill>
          <p:spPr>
            <a:xfrm>
              <a:off x="7883640" y="954000"/>
              <a:ext cx="532800" cy="3351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92" name="" descr=""/>
          <p:cNvPicPr/>
          <p:nvPr/>
        </p:nvPicPr>
        <p:blipFill>
          <a:blip r:embed="rId24"/>
          <a:stretch/>
        </p:blipFill>
        <p:spPr>
          <a:xfrm>
            <a:off x="5653080" y="1413000"/>
            <a:ext cx="606600" cy="36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5"/>
          <a:stretch/>
        </p:blipFill>
        <p:spPr>
          <a:xfrm>
            <a:off x="8172360" y="1844640"/>
            <a:ext cx="600120" cy="378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8386920" y="22766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8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25653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97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183672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6200" y="76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7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6200" y="5157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7280" y="227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8560" y="321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6200" y="2421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8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3640" y="220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7800" y="357336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CRU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6920" y="4797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7280" y="5445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3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66100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8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8560" y="60213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8880" y="579744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 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0920" y="62294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0560" y="53751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101080" y="4384800"/>
            <a:ext cx="644400" cy="412560"/>
            <a:chOff x="8101080" y="4384800"/>
            <a:chExt cx="644400" cy="412560"/>
          </a:xfrm>
        </p:grpSpPr>
        <p:pic>
          <p:nvPicPr>
            <p:cNvPr id="112" name="" descr=""/>
            <p:cNvPicPr/>
            <p:nvPr/>
          </p:nvPicPr>
          <p:blipFill>
            <a:blip r:embed="rId26"/>
            <a:stretch/>
          </p:blipFill>
          <p:spPr>
            <a:xfrm>
              <a:off x="8101080" y="4384800"/>
              <a:ext cx="64440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113" name="" descr=""/>
            <p:cNvPicPr/>
            <p:nvPr/>
          </p:nvPicPr>
          <p:blipFill>
            <a:blip r:embed="rId27"/>
            <a:stretch/>
          </p:blipFill>
          <p:spPr>
            <a:xfrm>
              <a:off x="8101080" y="4384800"/>
              <a:ext cx="64440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14" name=""/>
          <p:cNvSpPr/>
          <p:nvPr/>
        </p:nvSpPr>
        <p:spPr>
          <a:xfrm>
            <a:off x="8244000" y="486900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8"/>
          <a:stretch/>
        </p:blipFill>
        <p:spPr>
          <a:xfrm>
            <a:off x="3492360" y="5300640"/>
            <a:ext cx="447840" cy="258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418200" y="5589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6160" y="313380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9"/>
          <a:stretch/>
        </p:blipFill>
        <p:spPr>
          <a:xfrm>
            <a:off x="4859280" y="836640"/>
            <a:ext cx="669960" cy="349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5026320" y="1260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99640" y="414972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52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3280" y="450864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99 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0"/>
          <a:stretch/>
        </p:blipFill>
        <p:spPr>
          <a:xfrm>
            <a:off x="7164360" y="961920"/>
            <a:ext cx="574560" cy="379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1"/>
          <a:stretch/>
        </p:blipFill>
        <p:spPr>
          <a:xfrm>
            <a:off x="1547640" y="5013360"/>
            <a:ext cx="503280" cy="2840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124" name=""/>
          <p:cNvGrpSpPr/>
          <p:nvPr/>
        </p:nvGrpSpPr>
        <p:grpSpPr>
          <a:xfrm>
            <a:off x="7956720" y="3716280"/>
            <a:ext cx="685800" cy="360360"/>
            <a:chOff x="7956720" y="3716280"/>
            <a:chExt cx="685800" cy="360360"/>
          </a:xfrm>
        </p:grpSpPr>
        <p:pic>
          <p:nvPicPr>
            <p:cNvPr id="125" name="" descr=""/>
            <p:cNvPicPr/>
            <p:nvPr/>
          </p:nvPicPr>
          <p:blipFill>
            <a:blip r:embed="rId32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3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sp>
        <p:nvSpPr>
          <p:cNvPr id="127" name=""/>
          <p:cNvSpPr/>
          <p:nvPr/>
        </p:nvSpPr>
        <p:spPr>
          <a:xfrm>
            <a:off x="6588000" y="119700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6200" y="529272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x 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33360"/>
            <a:ext cx="86364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844560"/>
            <a:ext cx="863640" cy="368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00720" y="2992320"/>
            <a:ext cx="576000" cy="320760"/>
            <a:chOff x="4500720" y="2992320"/>
            <a:chExt cx="576000" cy="320760"/>
          </a:xfrm>
        </p:grpSpPr>
        <p:pic>
          <p:nvPicPr>
            <p:cNvPr id="132" name="" descr=""/>
            <p:cNvPicPr/>
            <p:nvPr/>
          </p:nvPicPr>
          <p:blipFill>
            <a:blip r:embed="rId34"/>
            <a:stretch/>
          </p:blipFill>
          <p:spPr>
            <a:xfrm>
              <a:off x="4500720" y="2992320"/>
              <a:ext cx="5760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5"/>
            <a:stretch/>
          </p:blipFill>
          <p:spPr>
            <a:xfrm>
              <a:off x="4500720" y="2992320"/>
              <a:ext cx="576000" cy="3207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34" name=""/>
          <p:cNvSpPr/>
          <p:nvPr/>
        </p:nvSpPr>
        <p:spPr>
          <a:xfrm>
            <a:off x="4643280" y="3357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33360"/>
            <a:ext cx="792000" cy="3682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6"/>
          <a:stretch/>
        </p:blipFill>
        <p:spPr>
          <a:xfrm>
            <a:off x="6516720" y="765000"/>
            <a:ext cx="563400" cy="371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7236000" y="134136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836640"/>
            <a:ext cx="792000" cy="368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9080" y="549360"/>
            <a:ext cx="95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SUPERS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1700280"/>
            <a:ext cx="639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SPORT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TOUR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877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UTILITY &amp; SCOO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454880" y="2701800"/>
            <a:ext cx="576360" cy="381240"/>
            <a:chOff x="7454880" y="2701800"/>
            <a:chExt cx="576360" cy="381240"/>
          </a:xfrm>
        </p:grpSpPr>
        <p:pic>
          <p:nvPicPr>
            <p:cNvPr id="143" name="" descr=""/>
            <p:cNvPicPr/>
            <p:nvPr/>
          </p:nvPicPr>
          <p:blipFill>
            <a:blip r:embed="rId37"/>
            <a:stretch/>
          </p:blipFill>
          <p:spPr>
            <a:xfrm>
              <a:off x="7498080" y="2701800"/>
              <a:ext cx="533160" cy="33588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44" name="" descr=""/>
            <p:cNvPicPr/>
            <p:nvPr/>
          </p:nvPicPr>
          <p:blipFill>
            <a:blip r:embed="rId38"/>
            <a:stretch/>
          </p:blipFill>
          <p:spPr>
            <a:xfrm>
              <a:off x="7498080" y="2701800"/>
              <a:ext cx="533160" cy="33588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39"/>
            <a:stretch/>
          </p:blipFill>
          <p:spPr>
            <a:xfrm>
              <a:off x="7454880" y="2747880"/>
              <a:ext cx="533160" cy="33516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46" name="" descr=""/>
            <p:cNvPicPr/>
            <p:nvPr/>
          </p:nvPicPr>
          <p:blipFill>
            <a:blip r:embed="rId40"/>
            <a:stretch/>
          </p:blipFill>
          <p:spPr>
            <a:xfrm>
              <a:off x="7454880" y="2747880"/>
              <a:ext cx="533160" cy="33516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pic>
        <p:nvPicPr>
          <p:cNvPr id="147" name="" descr=""/>
          <p:cNvPicPr/>
          <p:nvPr/>
        </p:nvPicPr>
        <p:blipFill>
          <a:blip r:embed="rId41"/>
          <a:stretch/>
        </p:blipFill>
        <p:spPr>
          <a:xfrm>
            <a:off x="3348000" y="5805360"/>
            <a:ext cx="397080" cy="254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346920" y="609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3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49960" y="58071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2"/>
          <a:stretch/>
        </p:blipFill>
        <p:spPr>
          <a:xfrm>
            <a:off x="2124000" y="5661000"/>
            <a:ext cx="482760" cy="308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2218320" y="5950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3"/>
          <a:stretch/>
        </p:blipFill>
        <p:spPr>
          <a:xfrm>
            <a:off x="1763640" y="6021360"/>
            <a:ext cx="379440" cy="244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834200" y="63086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4"/>
          <a:stretch/>
        </p:blipFill>
        <p:spPr>
          <a:xfrm>
            <a:off x="1042920" y="5589720"/>
            <a:ext cx="285840" cy="28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042920" y="587700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39117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2880" y="61009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0920" y="278136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X5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5"/>
          <a:stretch/>
        </p:blipFill>
        <p:spPr>
          <a:xfrm>
            <a:off x="4500720" y="2448000"/>
            <a:ext cx="495000" cy="2826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grpSp>
        <p:nvGrpSpPr>
          <p:cNvPr id="160" name=""/>
          <p:cNvGrpSpPr/>
          <p:nvPr/>
        </p:nvGrpSpPr>
        <p:grpSpPr>
          <a:xfrm>
            <a:off x="1547640" y="4005360"/>
            <a:ext cx="576360" cy="360360"/>
            <a:chOff x="1547640" y="4005360"/>
            <a:chExt cx="576360" cy="360360"/>
          </a:xfrm>
        </p:grpSpPr>
        <p:sp>
          <p:nvSpPr>
            <p:cNvPr id="161" name=""/>
            <p:cNvSpPr/>
            <p:nvPr/>
          </p:nvSpPr>
          <p:spPr>
            <a:xfrm>
              <a:off x="1547640" y="4005360"/>
              <a:ext cx="576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46"/>
            <a:stretch/>
          </p:blipFill>
          <p:spPr>
            <a:xfrm>
              <a:off x="1606680" y="4040280"/>
              <a:ext cx="490320" cy="29844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sp>
        <p:nvSpPr>
          <p:cNvPr id="163" name=""/>
          <p:cNvSpPr/>
          <p:nvPr/>
        </p:nvSpPr>
        <p:spPr>
          <a:xfrm>
            <a:off x="1619280" y="4365720"/>
            <a:ext cx="4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7"/>
          <a:stretch/>
        </p:blipFill>
        <p:spPr>
          <a:xfrm>
            <a:off x="1531800" y="4573440"/>
            <a:ext cx="447840" cy="258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531800" y="486108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8"/>
          <a:stretch/>
        </p:blipFill>
        <p:spPr>
          <a:xfrm>
            <a:off x="3348000" y="4797360"/>
            <a:ext cx="447840" cy="258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348000" y="508464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9"/>
          <a:stretch/>
        </p:blipFill>
        <p:spPr>
          <a:xfrm>
            <a:off x="4932360" y="1476360"/>
            <a:ext cx="431640" cy="2491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002560" y="1773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0"/>
          <a:stretch/>
        </p:blipFill>
        <p:spPr>
          <a:xfrm>
            <a:off x="7499520" y="1641600"/>
            <a:ext cx="501480" cy="2905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7523280" y="196524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1"/>
          <a:stretch/>
        </p:blipFill>
        <p:spPr>
          <a:xfrm>
            <a:off x="5219640" y="2471760"/>
            <a:ext cx="432000" cy="333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5291280" y="28065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2"/>
          <a:stretch/>
        </p:blipFill>
        <p:spPr>
          <a:xfrm>
            <a:off x="6588000" y="2147760"/>
            <a:ext cx="505080" cy="3906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53"/>
          <a:stretch/>
        </p:blipFill>
        <p:spPr>
          <a:xfrm>
            <a:off x="1332000" y="6013440"/>
            <a:ext cx="360360" cy="203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54"/>
          <a:stretch/>
        </p:blipFill>
        <p:spPr>
          <a:xfrm>
            <a:off x="2627280" y="5457960"/>
            <a:ext cx="503280" cy="284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7524720" y="254304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451640" y="2133720"/>
            <a:ext cx="576360" cy="380520"/>
            <a:chOff x="7451640" y="2133720"/>
            <a:chExt cx="576360" cy="380520"/>
          </a:xfrm>
        </p:grpSpPr>
        <p:pic>
          <p:nvPicPr>
            <p:cNvPr id="179" name="" descr=""/>
            <p:cNvPicPr/>
            <p:nvPr/>
          </p:nvPicPr>
          <p:blipFill>
            <a:blip r:embed="rId55"/>
            <a:stretch/>
          </p:blipFill>
          <p:spPr>
            <a:xfrm>
              <a:off x="7494840" y="213372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56"/>
            <a:stretch/>
          </p:blipFill>
          <p:spPr>
            <a:xfrm>
              <a:off x="7494840" y="213372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57"/>
            <a:stretch/>
          </p:blipFill>
          <p:spPr>
            <a:xfrm>
              <a:off x="7451640" y="2179440"/>
              <a:ext cx="5331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8"/>
            <a:stretch/>
          </p:blipFill>
          <p:spPr>
            <a:xfrm>
              <a:off x="7451640" y="2179440"/>
              <a:ext cx="533160" cy="3348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83" name=""/>
          <p:cNvSpPr/>
          <p:nvPr/>
        </p:nvSpPr>
        <p:spPr>
          <a:xfrm>
            <a:off x="395280" y="1413000"/>
            <a:ext cx="2664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CE R41 Class I, II,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92720" y="59500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36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233960"/>
            <a:ext cx="553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3554280"/>
            <a:ext cx="553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860560"/>
            <a:ext cx="553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181240"/>
            <a:ext cx="553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501920"/>
            <a:ext cx="553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1501920"/>
            <a:ext cx="180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11680" y="1501920"/>
            <a:ext cx="144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24440" y="1501920"/>
            <a:ext cx="144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22800" y="1501920"/>
            <a:ext cx="180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37360" y="1501920"/>
            <a:ext cx="180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501920"/>
            <a:ext cx="5537160" cy="341316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1501920"/>
            <a:ext cx="144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9150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47847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46404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5100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43639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4233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40892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959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8149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3684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542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34099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279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31352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005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28605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730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6002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24559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2325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1812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0509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9065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7762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6318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15019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491508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423396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355428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286056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1812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150192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915080"/>
            <a:ext cx="553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60020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87488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14956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42424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71296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98764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6232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700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1168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08636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37508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4976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92444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9912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47380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4848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02280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31332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58800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6268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13736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600200" y="48560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12960" y="48560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811680" y="48560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924440" y="48560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022800" y="48560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137360" y="48560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86120" y="419112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30480" y="397368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0"/>
                </a:moveTo>
                <a:lnTo>
                  <a:pt x="55" y="28"/>
                </a:lnTo>
                <a:lnTo>
                  <a:pt x="28" y="55"/>
                </a:lnTo>
                <a:lnTo>
                  <a:pt x="0" y="28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66960" y="397368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28"/>
                </a:lnTo>
                <a:lnTo>
                  <a:pt x="27" y="55"/>
                </a:lnTo>
                <a:lnTo>
                  <a:pt x="0" y="28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54440" y="351144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94120" y="404640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0"/>
                </a:moveTo>
                <a:lnTo>
                  <a:pt x="55" y="27"/>
                </a:lnTo>
                <a:lnTo>
                  <a:pt x="28" y="55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89160" y="274464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36760" y="43210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02160" y="3944880"/>
            <a:ext cx="7164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59160" y="1731960"/>
            <a:ext cx="7308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99040" y="3511440"/>
            <a:ext cx="71280" cy="7164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11560" y="3279600"/>
            <a:ext cx="7164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75120" y="3973680"/>
            <a:ext cx="71280" cy="727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07160" y="3294000"/>
            <a:ext cx="7128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00400" y="3322800"/>
            <a:ext cx="73080" cy="727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89240" y="2701800"/>
            <a:ext cx="73080" cy="7164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19240" y="469728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17720" y="474012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46160" y="46972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48040" y="466884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54"/>
                </a:lnTo>
                <a:lnTo>
                  <a:pt x="0" y="54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89280" y="472608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32120" y="46972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79520" y="419112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78000" y="456732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95760" y="4032360"/>
            <a:ext cx="1299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09800" y="404604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54440" y="408924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709800" y="4089240"/>
            <a:ext cx="4428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754440" y="40460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54440" y="404604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54440" y="408924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30720" y="4032360"/>
            <a:ext cx="1303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244760" y="404604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89400" y="408924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44760" y="4089240"/>
            <a:ext cx="4428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89400" y="40460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289400" y="404604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89400" y="408924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83440" y="3005280"/>
            <a:ext cx="1299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6298920" y="301932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42120" y="30639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298920" y="30639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342120" y="301932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342120" y="301932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42120" y="306396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32000" y="3930480"/>
            <a:ext cx="130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146040" y="394488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89240" y="3989520"/>
            <a:ext cx="446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146040" y="398952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189240" y="3944880"/>
            <a:ext cx="446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189240" y="3944880"/>
            <a:ext cx="180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89240" y="398952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3106800"/>
            <a:ext cx="1285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4433400" y="31208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76600" y="316404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433400" y="316404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76600" y="31208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476600" y="312084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76600" y="3164040"/>
            <a:ext cx="180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64320" y="3279600"/>
            <a:ext cx="129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778000" y="329400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21200" y="3338640"/>
            <a:ext cx="432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778000" y="33386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821200" y="3294000"/>
            <a:ext cx="4320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821200" y="3294000"/>
            <a:ext cx="180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21200" y="333864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29120" y="3772080"/>
            <a:ext cx="1299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043160" y="37857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86360" y="382896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43160" y="382896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86360" y="37857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086360" y="378576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86360" y="382896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62080" y="4683240"/>
            <a:ext cx="1303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2076120" y="469692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19320" y="4740120"/>
            <a:ext cx="4428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076120" y="474012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119320" y="469692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119320" y="469692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19320" y="474012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8880" y="3497400"/>
            <a:ext cx="1303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4014360" y="351108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57560" y="355428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014360" y="355428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057560" y="351108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057560" y="351108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57560" y="3554280"/>
            <a:ext cx="180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57560" y="3279600"/>
            <a:ext cx="130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71600" y="329400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333864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071600" y="33386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114800" y="3294000"/>
            <a:ext cx="4428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114800" y="329400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333864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98800" y="3627360"/>
            <a:ext cx="130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912840" y="364140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56040" y="368460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12840" y="368460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956040" y="364140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956040" y="364140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56040" y="3684600"/>
            <a:ext cx="14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02040" y="3959280"/>
            <a:ext cx="1299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016080" y="3973320"/>
            <a:ext cx="4320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59280" y="401796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016080" y="4017960"/>
            <a:ext cx="432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059280" y="3973320"/>
            <a:ext cx="4428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059280" y="3973320"/>
            <a:ext cx="14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59280" y="401796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24120" y="3959280"/>
            <a:ext cx="1303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638160" y="397332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81360" y="40179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638160" y="40179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681360" y="397332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681360" y="3973320"/>
            <a:ext cx="180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81360" y="401796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24680" y="763560"/>
            <a:ext cx="409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S P????"/>
              </a:rPr>
              <a:t>M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46760" y="48276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29320" y="41482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0600" y="3468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20600" y="27734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20600" y="20937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20600" y="14144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2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19560" y="50878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1856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1692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2968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2840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4116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56480" y="5391000"/>
            <a:ext cx="48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P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-160200" y="2939400"/>
            <a:ext cx="20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Engine capacity(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97720" y="2600280"/>
            <a:ext cx="1041480" cy="1405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613640" y="274464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0"/>
                </a:moveTo>
                <a:lnTo>
                  <a:pt x="55" y="27"/>
                </a:lnTo>
                <a:lnTo>
                  <a:pt x="28" y="55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40000" y="2657520"/>
            <a:ext cx="66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13640" y="3048120"/>
            <a:ext cx="7308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97160" y="296244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I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13640" y="3352680"/>
            <a:ext cx="8748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28" y="0"/>
                </a:moveTo>
                <a:lnTo>
                  <a:pt x="55" y="54"/>
                </a:lnTo>
                <a:lnTo>
                  <a:pt x="0" y="54"/>
                </a:lnTo>
                <a:lnTo>
                  <a:pt x="28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52240" y="326556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9240" y="3641760"/>
            <a:ext cx="130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7613640" y="3655800"/>
            <a:ext cx="446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8280" y="369900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613640" y="3699000"/>
            <a:ext cx="446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658280" y="365580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658280" y="365580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58280" y="3699000"/>
            <a:ext cx="14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65200" y="3568680"/>
            <a:ext cx="50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B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219640" y="6021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11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4600" y="4444920"/>
            <a:ext cx="592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44600" y="383868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44600" y="324648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44600" y="265428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44600" y="2046240"/>
            <a:ext cx="592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44600" y="145584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32080" y="1455840"/>
            <a:ext cx="144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17760" y="1455840"/>
            <a:ext cx="180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05240" y="1455840"/>
            <a:ext cx="180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92720" y="1455840"/>
            <a:ext cx="144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80200" y="1455840"/>
            <a:ext cx="144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65880" y="1455840"/>
            <a:ext cx="180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44600" y="1455840"/>
            <a:ext cx="5921280" cy="35812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44600" y="1455840"/>
            <a:ext cx="144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44600" y="503712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44600" y="488484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44600" y="47340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44600" y="459756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44600" y="444492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44600" y="429408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44600" y="41418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44600" y="398952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44600" y="383868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44600" y="370188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44600" y="354960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44600" y="339732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44600" y="324648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44600" y="30942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44600" y="294336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44600" y="280656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44600" y="265428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44600" y="25020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44600" y="235116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44600" y="219852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44600" y="204624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44600" y="189540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44600" y="175896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44600" y="160668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44600" y="145584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44600" y="503712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44600" y="444492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44600" y="38386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44600" y="32464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44600" y="2654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44600" y="204624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44600" y="145584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44600" y="503712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3446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5876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84464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08764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33208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57508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3212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7512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31776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56076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8196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06224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30524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4824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80708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4972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29272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53572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79420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3720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2802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5232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78024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02324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26588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344600" y="49766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332080" y="49766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317760" y="497664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305240" y="497664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292720" y="49766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80200" y="49766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7265880" y="497664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201600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9" y="0"/>
                </a:moveTo>
                <a:lnTo>
                  <a:pt x="57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51560" y="260820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0"/>
                </a:moveTo>
                <a:lnTo>
                  <a:pt x="57" y="29"/>
                </a:lnTo>
                <a:lnTo>
                  <a:pt x="28" y="58"/>
                </a:lnTo>
                <a:lnTo>
                  <a:pt x="0" y="29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68520" y="470376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7" y="28"/>
                </a:lnTo>
                <a:lnTo>
                  <a:pt x="28" y="57"/>
                </a:lnTo>
                <a:lnTo>
                  <a:pt x="0" y="28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02160" y="35035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54560" y="4232160"/>
            <a:ext cx="137880" cy="136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3470400" y="424800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16480" y="4294080"/>
            <a:ext cx="44280" cy="44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470400" y="4294080"/>
            <a:ext cx="46080" cy="44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16480" y="4248000"/>
            <a:ext cx="442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52920" y="4232160"/>
            <a:ext cx="136440" cy="136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3666960" y="424800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13040" y="4294080"/>
            <a:ext cx="46080" cy="44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666960" y="4294080"/>
            <a:ext cx="46080" cy="44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713040" y="424800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17720" y="4430880"/>
            <a:ext cx="9072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7" y="57"/>
                </a:lnTo>
                <a:lnTo>
                  <a:pt x="0" y="57"/>
                </a:lnTo>
                <a:lnTo>
                  <a:pt x="28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87880" y="4005360"/>
            <a:ext cx="91800" cy="903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57"/>
                </a:lnTo>
                <a:lnTo>
                  <a:pt x="0" y="57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4460760"/>
            <a:ext cx="90360" cy="907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7" y="57"/>
                </a:lnTo>
                <a:lnTo>
                  <a:pt x="0" y="57"/>
                </a:lnTo>
                <a:lnTo>
                  <a:pt x="28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14920" y="3489480"/>
            <a:ext cx="1983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4730760" y="3503520"/>
            <a:ext cx="7632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07080" y="3579840"/>
            <a:ext cx="7596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730760" y="3579840"/>
            <a:ext cx="7632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807080" y="3503520"/>
            <a:ext cx="7596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807080" y="3503520"/>
            <a:ext cx="144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07080" y="3579840"/>
            <a:ext cx="144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03720" y="4202280"/>
            <a:ext cx="1965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3317760" y="4217760"/>
            <a:ext cx="76320" cy="7596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94080" y="4294080"/>
            <a:ext cx="76320" cy="7488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317760" y="4294080"/>
            <a:ext cx="76320" cy="7488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394080" y="4217760"/>
            <a:ext cx="76320" cy="7596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394080" y="4217760"/>
            <a:ext cx="1440" cy="7596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394080" y="4294080"/>
            <a:ext cx="1440" cy="7488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48360" y="681120"/>
            <a:ext cx="52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S P????"/>
                <a:ea typeface="MS P????"/>
              </a:rPr>
              <a:t>CV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77840" y="49467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49600" y="435456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49600" y="37465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2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49600" y="3154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3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49600" y="25639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4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49600" y="195588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5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49600" y="136368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6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60360" y="52196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78000" y="5219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65480" y="5219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52960" y="5219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6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0440" y="5219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73920" y="521964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61400" y="521964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986280" y="5538960"/>
            <a:ext cx="51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PM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-402840" y="2955240"/>
            <a:ext cx="214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Engine capacity(c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47120" y="2608200"/>
            <a:ext cx="1092240" cy="1468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767720" y="2760840"/>
            <a:ext cx="92160" cy="903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9"/>
                </a:lnTo>
                <a:lnTo>
                  <a:pt x="29" y="57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00200" y="2668680"/>
            <a:ext cx="703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JAP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753320" y="3063960"/>
            <a:ext cx="136440" cy="136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7767720" y="3079440"/>
            <a:ext cx="46080" cy="442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13800" y="312408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767720" y="312408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813800" y="3079440"/>
            <a:ext cx="46080" cy="442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55200" y="2987640"/>
            <a:ext cx="672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IM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67720" y="33973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58"/>
                </a:lnTo>
                <a:lnTo>
                  <a:pt x="0" y="58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913160" y="3306600"/>
            <a:ext cx="677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IND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1640" y="3672000"/>
            <a:ext cx="1983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7737480" y="3686040"/>
            <a:ext cx="7632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813800" y="3762360"/>
            <a:ext cx="7596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737480" y="3762360"/>
            <a:ext cx="7632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13800" y="3686040"/>
            <a:ext cx="7596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813800" y="3686040"/>
            <a:ext cx="144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813800" y="3762360"/>
            <a:ext cx="144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926120" y="3625920"/>
            <a:ext cx="53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BA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5960" y="232092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sis of noise level distribution for ISO362-2 vs ECE R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243080" y="490392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43080" y="453708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43080" y="418464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43080" y="381780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43080" y="346536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43080" y="311292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43080" y="274644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43080" y="239400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43080" y="202716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43080" y="167472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43080" y="130824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43080" y="95580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43080" y="955800"/>
            <a:ext cx="6383160" cy="430056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43080" y="955800"/>
            <a:ext cx="144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43080" y="525636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43080" y="49039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43080" y="4537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43080" y="418464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43080" y="38178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243080" y="346536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243080" y="311292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43080" y="274644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43080" y="23940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43080" y="202716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43080" y="167472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130824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43080" y="9558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43080" y="525636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243080" y="519588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513160" y="519588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798720" y="519588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070600" y="519588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356520" y="519588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626240" y="519588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27360" y="424656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11320" y="337356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30600" y="33433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38600" y="346536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32360" y="26845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57400" y="38638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100240" y="29908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621400" y="11700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305240" y="277668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84800" y="141444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92640" y="2976480"/>
            <a:ext cx="92160" cy="9072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9"/>
                </a:lnTo>
                <a:lnTo>
                  <a:pt x="29" y="57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957400" y="26082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095880" y="17971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37120" y="23940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79800" y="25621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33400" y="4276800"/>
            <a:ext cx="9072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0"/>
                </a:moveTo>
                <a:lnTo>
                  <a:pt x="57" y="29"/>
                </a:lnTo>
                <a:lnTo>
                  <a:pt x="28" y="58"/>
                </a:lnTo>
                <a:lnTo>
                  <a:pt x="0" y="29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09560" y="38782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641600" y="493560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63640" y="468936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579680" y="4322880"/>
            <a:ext cx="9180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625760" y="449100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23920" y="1139760"/>
            <a:ext cx="92160" cy="9072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9"/>
                </a:lnTo>
                <a:lnTo>
                  <a:pt x="29" y="57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16280" y="338940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76680" y="30988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05240" y="3022560"/>
            <a:ext cx="92160" cy="903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8"/>
                </a:lnTo>
                <a:lnTo>
                  <a:pt x="29" y="57"/>
                </a:lnTo>
                <a:lnTo>
                  <a:pt x="0" y="28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662880" y="202716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33720" y="3236760"/>
            <a:ext cx="92160" cy="9072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8"/>
                </a:lnTo>
                <a:lnTo>
                  <a:pt x="29" y="57"/>
                </a:lnTo>
                <a:lnTo>
                  <a:pt x="0" y="28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519440" y="3236760"/>
            <a:ext cx="92160" cy="9072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8"/>
                </a:lnTo>
                <a:lnTo>
                  <a:pt x="29" y="57"/>
                </a:lnTo>
                <a:lnTo>
                  <a:pt x="0" y="28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66000" y="165888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59360" y="1951200"/>
            <a:ext cx="91800" cy="903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9"/>
                </a:lnTo>
                <a:lnTo>
                  <a:pt x="29" y="57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93880" y="141444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029120" y="32050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91040" y="24559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06720" y="33433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881440" y="133812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4520" y="273060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2868480"/>
            <a:ext cx="7596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298600" y="3741840"/>
            <a:ext cx="77760" cy="759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03360" y="4659480"/>
            <a:ext cx="76320" cy="759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023920" y="4781520"/>
            <a:ext cx="76320" cy="777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63640" y="2808360"/>
            <a:ext cx="76320" cy="759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09720" y="3986280"/>
            <a:ext cx="76320" cy="759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95520" y="4062240"/>
            <a:ext cx="7596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17560" y="3267000"/>
            <a:ext cx="7632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73120" y="4444920"/>
            <a:ext cx="7632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00240" y="2593800"/>
            <a:ext cx="7632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3400" y="1658880"/>
            <a:ext cx="76320" cy="777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98480" y="516420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6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98480" y="481320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98480" y="444492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98480" y="40924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98480" y="372600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98480" y="337356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8480" y="302256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98480" y="26542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98480" y="23018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98480" y="193500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98480" y="158256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98480" y="12160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98480" y="863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8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158840" y="544032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0688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9280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2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86288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3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4880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4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42032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5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06880" y="5761080"/>
            <a:ext cx="51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PM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-106560" y="2917080"/>
            <a:ext cx="142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IS0362-2(dB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010360" y="2792520"/>
            <a:ext cx="765360" cy="780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16920" y="29304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247960" y="2852640"/>
            <a:ext cx="33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116920" y="3236760"/>
            <a:ext cx="7632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267760" y="3159000"/>
            <a:ext cx="40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C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6" name=""/>
          <p:cNvGraphicFramePr/>
          <p:nvPr/>
        </p:nvGraphicFramePr>
        <p:xfrm>
          <a:off x="457200" y="1560600"/>
          <a:ext cx="8229600" cy="359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mi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d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 of veh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9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684360" y="549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motor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580000" y="522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47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0:35:01Z</dcterms:created>
  <dc:creator/>
  <dc:description/>
  <dc:language>en-US</dc:language>
  <cp:lastModifiedBy>Enonler2</cp:lastModifiedBy>
  <dcterms:modified xsi:type="dcterms:W3CDTF">2007-02-14T08:57:55Z</dcterms:modified>
  <cp:revision>52</cp:revision>
  <dc:subject/>
  <dc:title>R41WG noise database analysis</dc:title>
</cp:coreProperties>
</file>